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7.png" ContentType="image/png"/>
  <Override PartName="/ppt/media/image32.png" ContentType="image/png"/>
  <Override PartName="/ppt/media/image9.png" ContentType="image/png"/>
  <Override PartName="/ppt/media/image22.jpeg" ContentType="image/jpeg"/>
  <Override PartName="/ppt/media/image14.jpeg" ContentType="image/jpeg"/>
  <Override PartName="/ppt/media/image8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1.jpeg" ContentType="image/jpeg"/>
  <Override PartName="/ppt/media/image35.jpeg" ContentType="image/jpeg"/>
  <Override PartName="/ppt/media/image30.png" ContentType="image/png"/>
  <Override PartName="/ppt/media/image10.jpeg" ContentType="image/jpeg"/>
  <Override PartName="/ppt/media/image29.jpeg" ContentType="image/jpeg"/>
  <Override PartName="/ppt/media/image11.jpeg" ContentType="image/jpeg"/>
  <Override PartName="/ppt/media/image31.jpeg" ContentType="image/jpeg"/>
  <Override PartName="/ppt/media/image4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E39E-4CB9-43BD-A66E-B2FD0EA61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C4FF-7CFE-41AE-AA86-2E662CE2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6F0E-91E8-4ED8-AD76-F6E81DC35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5CDB-1734-496A-94F8-1024E31F3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ED8B-3941-487B-B45D-508B1E8E9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7C2E-1237-4C98-9B08-F1CC604A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D737-57D3-4A43-9D8E-321F7C92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A92F-A2DD-43A5-8645-5B53F2B8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7CF0-77CF-484C-9B08-46D58FF1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84B6-3E9F-4FE1-84A6-A2C9F976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71CF-E02D-423F-A9A2-96685C3E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2E0B-6A4E-45A9-9396-C26B24AE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7778C-86E2-4CEA-B7AC-9387EAAA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6215-7CCC-4543-B59F-7E8B2710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DA8F-E775-4C69-AFC7-27A27001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A2B88-04B1-40B8-BF0A-8FCF2E4A1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518C-E72A-41DD-84D2-C6F75420A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D111-BF74-4F1C-9718-93B97E38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B585-8985-4896-8057-19AA5531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3B2E-867F-4489-85BB-BA48D6F0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02F7-5778-4AF7-96A0-63F995D0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A665-ED5F-4958-ACA7-70F2C582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DDE3-2E1F-41F2-9B4D-14BCC063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40C8-B6D0-4F1A-B026-E8ACA73E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ED91-C2E4-480C-8C43-AB0923A4C380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FE43-3AC9-4ED2-9D14-DA92C5039095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1262160" y="1725480"/>
            <a:ext cx="755784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 Коллективно Творческое Дело» (КТД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едующее направление – совместная внеурочная деятельность (КТД по Иванову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1434600"/>
            <a:ext cx="32144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ое планиров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ая подготов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едение де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ый анали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4211640" y="1773360"/>
            <a:ext cx="288144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Коллективные де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1628280"/>
            <a:ext cx="6400800" cy="40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3059280" y="1519200"/>
            <a:ext cx="2566800" cy="2851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"/>
          <p:cNvPicPr/>
          <p:nvPr/>
        </p:nvPicPr>
        <p:blipFill>
          <a:blip r:embed="rId3"/>
          <a:stretch/>
        </p:blipFill>
        <p:spPr>
          <a:xfrm>
            <a:off x="250920" y="386064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"/>
          <p:cNvPicPr/>
          <p:nvPr/>
        </p:nvPicPr>
        <p:blipFill>
          <a:blip r:embed="rId4"/>
          <a:stretch/>
        </p:blipFill>
        <p:spPr>
          <a:xfrm>
            <a:off x="5076720" y="4265640"/>
            <a:ext cx="3399120" cy="2549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5"/>
          <a:stretch/>
        </p:blipFill>
        <p:spPr>
          <a:xfrm>
            <a:off x="5807160" y="1454040"/>
            <a:ext cx="33019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7375e"/>
                </a:solidFill>
                <a:latin typeface="Calibri"/>
              </a:rPr>
              <a:t>Наши дости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755640" y="2276280"/>
            <a:ext cx="7704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Фото сертификатов и грам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дительские чт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18728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1612800" cy="1581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187200" y="2852640"/>
            <a:ext cx="2562480" cy="3657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3"/>
          <a:stretch/>
        </p:blipFill>
        <p:spPr>
          <a:xfrm>
            <a:off x="5533920" y="1773360"/>
            <a:ext cx="3286080" cy="2592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4"/>
          <a:stretch/>
        </p:blipFill>
        <p:spPr>
          <a:xfrm>
            <a:off x="2749680" y="4365720"/>
            <a:ext cx="319068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Times New Roman"/>
                <a:ea typeface="Calibri"/>
              </a:rPr>
              <a:t>Следующее направление – совместная проектная деятельность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55280" y="1988640"/>
            <a:ext cx="70167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Почему я решила взять – это направлени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о-первых, мне самой эта деятельность очень нрави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о-вторых, это ещё один из действенных путей к сотрудничеств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-третьих, это одна из возможностей научиться понимать мир детства и собственного ребёнка</a:t>
            </a:r>
            <a:r>
              <a:rPr b="0" lang="ru-RU" sz="3200" spc="-1" strike="noStrike">
                <a:solidFill>
                  <a:srgbClr val="e46c0a"/>
                </a:solidFill>
                <a:latin typeface="Times New Roman"/>
                <a:ea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0" y="333360"/>
            <a:ext cx="16891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ши проек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94920" y="1699920"/>
            <a:ext cx="799308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411280" y="1413000"/>
            <a:ext cx="3097440" cy="1741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5508720" y="1413000"/>
            <a:ext cx="3511440" cy="1741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3"/>
          <a:stretch/>
        </p:blipFill>
        <p:spPr>
          <a:xfrm>
            <a:off x="160200" y="777960"/>
            <a:ext cx="2251080" cy="3011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4"/>
          <a:stretch/>
        </p:blipFill>
        <p:spPr>
          <a:xfrm>
            <a:off x="5724360" y="3429000"/>
            <a:ext cx="3405240" cy="2554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5"/>
          <a:stretch/>
        </p:blipFill>
        <p:spPr>
          <a:xfrm>
            <a:off x="2657520" y="2997360"/>
            <a:ext cx="2860560" cy="2144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"/>
          <p:cNvPicPr/>
          <p:nvPr/>
        </p:nvPicPr>
        <p:blipFill>
          <a:blip r:embed="rId6"/>
          <a:stretch/>
        </p:blipFill>
        <p:spPr>
          <a:xfrm>
            <a:off x="-108000" y="3693960"/>
            <a:ext cx="3268800" cy="2451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"/>
          <p:cNvPicPr/>
          <p:nvPr/>
        </p:nvPicPr>
        <p:blipFill>
          <a:blip r:embed="rId7"/>
          <a:stretch/>
        </p:blipFill>
        <p:spPr>
          <a:xfrm>
            <a:off x="2987640" y="5229360"/>
            <a:ext cx="317016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39880" y="1085760"/>
            <a:ext cx="5689800" cy="41436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3"/>
          <p:cNvSpPr/>
          <p:nvPr/>
        </p:nvSpPr>
        <p:spPr>
          <a:xfrm>
            <a:off x="4288680" y="7488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  <a:ea typeface="Calibri"/>
              </a:rPr>
              <a:t>Классный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2"/>
          <p:cNvSpPr/>
          <p:nvPr/>
        </p:nvSpPr>
        <p:spPr>
          <a:xfrm>
            <a:off x="3936960" y="3706920"/>
            <a:ext cx="1295280" cy="704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00" spc="-1" strike="noStrike">
                <a:solidFill>
                  <a:srgbClr val="000000"/>
                </a:solidFill>
                <a:latin typeface="Calibri"/>
                <a:ea typeface="Calibri"/>
              </a:rPr>
              <a:t>Классный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00" spc="-1" strike="noStrike">
                <a:solidFill>
                  <a:srgbClr val="000000"/>
                </a:solidFill>
                <a:latin typeface="Calibri"/>
                <a:ea typeface="Calibri"/>
              </a:rPr>
              <a:t>руководител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4219560" y="30384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  <a:ea typeface="Calibri"/>
              </a:rPr>
              <a:t>руководител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7"/>
          <p:cNvSpPr/>
          <p:nvPr/>
        </p:nvSpPr>
        <p:spPr>
          <a:xfrm>
            <a:off x="684000" y="1949400"/>
            <a:ext cx="26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являют инициати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8"/>
          <p:cNvSpPr/>
          <p:nvPr/>
        </p:nvSpPr>
        <p:spPr>
          <a:xfrm>
            <a:off x="3556800" y="716040"/>
            <a:ext cx="16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ов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9"/>
          <p:cNvSpPr/>
          <p:nvPr/>
        </p:nvSpPr>
        <p:spPr>
          <a:xfrm>
            <a:off x="5947560" y="176364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0"/>
          <p:cNvSpPr/>
          <p:nvPr/>
        </p:nvSpPr>
        <p:spPr>
          <a:xfrm>
            <a:off x="6943680" y="331956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1"/>
          <p:cNvSpPr/>
          <p:nvPr/>
        </p:nvSpPr>
        <p:spPr>
          <a:xfrm>
            <a:off x="693000" y="422604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интересов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2"/>
          <p:cNvSpPr/>
          <p:nvPr/>
        </p:nvSpPr>
        <p:spPr>
          <a:xfrm>
            <a:off x="3714480" y="504504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знатель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547640" y="144360"/>
            <a:ext cx="5796000" cy="6053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2"/>
          <a:stretch/>
        </p:blipFill>
        <p:spPr>
          <a:xfrm>
            <a:off x="2805120" y="5730840"/>
            <a:ext cx="6121440" cy="933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3"/>
          <a:stretch/>
        </p:blipFill>
        <p:spPr>
          <a:xfrm>
            <a:off x="6735600" y="3170160"/>
            <a:ext cx="4816800" cy="959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4"/>
          <a:stretch/>
        </p:blipFill>
        <p:spPr>
          <a:xfrm>
            <a:off x="5865840" y="836640"/>
            <a:ext cx="44625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Calibri"/>
              </a:rPr>
              <a:t>Рецепт счастья: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50560" y="1600200"/>
            <a:ext cx="5257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«Возьмите чашу терпения, влейте в нее полное сердце любви, добавьте две горсти щедрости, посыпьте добротой, плесните немного юмора и добавьте как можно больше веры. Все это хорошо перемешайте. Намажьте на кусок отпущенной вам жизни и предложите каждому, кого встретите на своем пут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Объект 4" descr="http://content.foto.mail.ru/mail/sinkevich58/_blogs/i-3209.jpg"/>
          <p:cNvPicPr/>
          <p:nvPr/>
        </p:nvPicPr>
        <p:blipFill>
          <a:blip r:embed="rId1"/>
          <a:stretch/>
        </p:blipFill>
        <p:spPr>
          <a:xfrm>
            <a:off x="5435640" y="2060640"/>
            <a:ext cx="36003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08200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форизм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1349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мое сложное в работе с детьми – это работа с их родителями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ЭТО МОИ ДЕ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55640" y="2133720"/>
            <a:ext cx="77040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522360" y="2133720"/>
            <a:ext cx="46260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547640" y="144360"/>
            <a:ext cx="5796000" cy="6053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3022560" y="5729400"/>
            <a:ext cx="6121440" cy="936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7093080" y="2781360"/>
            <a:ext cx="4816440" cy="954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4"/>
          <a:stretch/>
        </p:blipFill>
        <p:spPr>
          <a:xfrm>
            <a:off x="6080040" y="692280"/>
            <a:ext cx="445788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СТЕМА ВЗАИМОДЕЙСТВИЯ С РОДИТЕЛЯ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1557000"/>
            <a:ext cx="64008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7" name="Рисунок 3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7343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425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Родительский комитет - это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86920" y="2276640"/>
            <a:ext cx="72723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прежде всего неравнодушные и ответственные люди, которые помогают классному руководителю сплотить класс и организовать внеклассную деятельность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260280"/>
            <a:ext cx="18795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9280" y="23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Следующее направление – просвещ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94920" y="1773000"/>
            <a:ext cx="7993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5000"/>
              </a:lnSpc>
              <a:spcBef>
                <a:spcPts val="9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Calibri"/>
              </a:rPr>
              <a:t>В этом направлении использую индивидуальные консультации, родительские собрания, на которых пусть небольшое количество времени, но рассматриваю вопросы психологии, педагогики, интерактивное общ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79280" y="74520"/>
            <a:ext cx="208908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Будь в безопасности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26920" y="2133720"/>
            <a:ext cx="78091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листов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Times New Roman"/>
                <a:ea typeface="Calibri"/>
              </a:rPr>
              <a:t>     </a:t>
            </a:r>
            <a:r>
              <a:rPr b="1" lang="ru-RU" sz="4400" spc="-1" strike="noStrike">
                <a:solidFill>
                  <a:srgbClr val="558ed5"/>
                </a:solidFill>
                <a:latin typeface="Times New Roman"/>
                <a:ea typeface="Calibri"/>
              </a:rPr>
              <a:t>Следующее направление – нестандартные родительские собр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899640" y="2060280"/>
            <a:ext cx="7488360" cy="37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Calibri"/>
              </a:rPr>
              <a:t>Вебинары, круглые столы, тренинги, деловые игры, решение жизненных ситуаций, где родители играют роль своих детей и стараются решить проблему с позиции своего ребёнк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232680" y="4917960"/>
            <a:ext cx="291132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2:15:48Z</dcterms:created>
  <dc:creator>Павел</dc:creator>
  <dc:description/>
  <dc:language>en-US</dc:language>
  <cp:lastModifiedBy>Пользователь Windows</cp:lastModifiedBy>
  <dcterms:modified xsi:type="dcterms:W3CDTF">2021-03-10T16:52:21Z</dcterms:modified>
  <cp:revision>49</cp:revision>
  <dc:subject/>
  <dc:title>Название  презентации</dc:title>
</cp:coreProperties>
</file>