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7.png" ContentType="image/png"/>
  <Override PartName="/ppt/media/image32.png" ContentType="image/png"/>
  <Override PartName="/ppt/media/image9.png" ContentType="image/png"/>
  <Override PartName="/ppt/media/image22.jpeg" ContentType="image/jpeg"/>
  <Override PartName="/ppt/media/image14.jpeg" ContentType="image/jpeg"/>
  <Override PartName="/ppt/media/image8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1.jpeg" ContentType="image/jpeg"/>
  <Override PartName="/ppt/media/image35.jpeg" ContentType="image/jpeg"/>
  <Override PartName="/ppt/media/image30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0859-15DD-4951-BBB1-2B9D61173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56F9-786F-4D31-9177-D13AC08C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72E3-A68C-40E9-86B1-3F6034BF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3EE9-65E3-457E-B5F9-1A95B69E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D7B4-5C24-4B60-BA06-FF937C79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36A1-3CE4-480C-8665-3BF06F12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1AAC-763B-4E63-96EF-A36C289F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C619-5DE9-4F9E-B1EF-63B227C6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97C0-D80A-45BE-BFBE-3194A690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CA35-620A-4954-A354-22096251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651B-6F3A-4E40-B359-E241CF48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1836-7D68-4D7E-A563-77AC67CB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32C3-EAF4-4DEA-8F6C-B805AA90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0539-7F07-4B6C-A1F2-BE1E5C7F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F595-5D17-48DA-BB5B-8FBDF9E6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ECF6-6DE0-48AD-98CD-0FD56E5D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0B8A-A9C6-4135-BEC1-DA06CA5A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5D6A-799A-4D8B-912F-F9396F3F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CCBB-863B-44D0-BA3E-7DC3F4E7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67EA-EBAF-47E8-9E5A-B204F710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9976-B8E1-4BA0-99A5-7764E8AF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12CC-08FE-48D5-BE25-002C9C6F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2EBA-A303-4311-82B7-2D7DF2E3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1CA3-EF23-421F-B10D-6F2826C7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EFA3-D30F-4F11-9C18-675245532DF6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CA23-AE88-4372-B2A9-9B113CCFD5DD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1262160" y="1725480"/>
            <a:ext cx="755784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 Коллективно Творческое Дело» (КТ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едующее направление – совместная внеурочная деятельность (КТД по Иванову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32144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ое планир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ая подготов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дение де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ый анали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211640" y="1773360"/>
            <a:ext cx="28814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Коллективные д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1628280"/>
            <a:ext cx="6400800" cy="40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3059280" y="1519200"/>
            <a:ext cx="2566800" cy="2851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3"/>
          <a:stretch/>
        </p:blipFill>
        <p:spPr>
          <a:xfrm>
            <a:off x="250920" y="38606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"/>
          <p:cNvPicPr/>
          <p:nvPr/>
        </p:nvPicPr>
        <p:blipFill>
          <a:blip r:embed="rId4"/>
          <a:stretch/>
        </p:blipFill>
        <p:spPr>
          <a:xfrm>
            <a:off x="5076720" y="4265640"/>
            <a:ext cx="3399120" cy="2549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5"/>
          <a:stretch/>
        </p:blipFill>
        <p:spPr>
          <a:xfrm>
            <a:off x="5807160" y="1454040"/>
            <a:ext cx="33019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Наши дост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55640" y="2276280"/>
            <a:ext cx="770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Фото сертификатов и грам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дительские чт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8728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1612800" cy="1581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187200" y="2852640"/>
            <a:ext cx="2562480" cy="36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5533920" y="1773360"/>
            <a:ext cx="3286080" cy="2592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4"/>
          <a:stretch/>
        </p:blipFill>
        <p:spPr>
          <a:xfrm>
            <a:off x="2749680" y="4365720"/>
            <a:ext cx="319068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Times New Roman"/>
                <a:ea typeface="Calibri"/>
              </a:rPr>
              <a:t>Следующее направление – совместная проектная деятельность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55280" y="1988640"/>
            <a:ext cx="70167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Почему я решила взять – это направле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о-первых, мне самой эта деятельность очень нрави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о-вторых, это ещё один из действенных путей к сотрудничеств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-третьих, это одна из возможностей научиться понимать мир детства и собственного ребёнка</a:t>
            </a: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333360"/>
            <a:ext cx="16891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ши прое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94920" y="1699920"/>
            <a:ext cx="799308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3097440" cy="1741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3511440" cy="1741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160200" y="777960"/>
            <a:ext cx="2251080" cy="3011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5724360" y="3429000"/>
            <a:ext cx="3405240" cy="2554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5"/>
          <a:stretch/>
        </p:blipFill>
        <p:spPr>
          <a:xfrm>
            <a:off x="2657520" y="2997360"/>
            <a:ext cx="2860560" cy="2144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6"/>
          <a:stretch/>
        </p:blipFill>
        <p:spPr>
          <a:xfrm>
            <a:off x="-108000" y="3693960"/>
            <a:ext cx="3268800" cy="2451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7"/>
          <a:stretch/>
        </p:blipFill>
        <p:spPr>
          <a:xfrm>
            <a:off x="2987640" y="5229360"/>
            <a:ext cx="317016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39880" y="1085760"/>
            <a:ext cx="5689800" cy="4143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3"/>
          <p:cNvSpPr/>
          <p:nvPr/>
        </p:nvSpPr>
        <p:spPr>
          <a:xfrm>
            <a:off x="4288680" y="7488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  <a:ea typeface="Calibri"/>
              </a:rPr>
              <a:t>Классны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2"/>
          <p:cNvSpPr/>
          <p:nvPr/>
        </p:nvSpPr>
        <p:spPr>
          <a:xfrm>
            <a:off x="3936960" y="3706920"/>
            <a:ext cx="1295280" cy="70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alibri"/>
                <a:ea typeface="Calibri"/>
              </a:rPr>
              <a:t>Классны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alibri"/>
                <a:ea typeface="Calibri"/>
              </a:rPr>
              <a:t>руководител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4219560" y="30384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  <a:ea typeface="Calibri"/>
              </a:rPr>
              <a:t>руководител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684000" y="194940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яют инициати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8"/>
          <p:cNvSpPr/>
          <p:nvPr/>
        </p:nvSpPr>
        <p:spPr>
          <a:xfrm>
            <a:off x="3556800" y="716040"/>
            <a:ext cx="16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5947560" y="176364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0"/>
          <p:cNvSpPr/>
          <p:nvPr/>
        </p:nvSpPr>
        <p:spPr>
          <a:xfrm>
            <a:off x="6943680" y="331956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1"/>
          <p:cNvSpPr/>
          <p:nvPr/>
        </p:nvSpPr>
        <p:spPr>
          <a:xfrm>
            <a:off x="693000" y="422604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интерес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2"/>
          <p:cNvSpPr/>
          <p:nvPr/>
        </p:nvSpPr>
        <p:spPr>
          <a:xfrm>
            <a:off x="3714480" y="504504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знатель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547640" y="144360"/>
            <a:ext cx="5796000" cy="6053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2805120" y="5730840"/>
            <a:ext cx="6121440" cy="933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3"/>
          <a:stretch/>
        </p:blipFill>
        <p:spPr>
          <a:xfrm>
            <a:off x="6735600" y="3170160"/>
            <a:ext cx="4816800" cy="95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4"/>
          <a:stretch/>
        </p:blipFill>
        <p:spPr>
          <a:xfrm>
            <a:off x="5865840" y="836640"/>
            <a:ext cx="44625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Рецепт счастья: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0560" y="1600200"/>
            <a:ext cx="5257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«Возьмите чашу терпения, влейте в нее полное сердце любви, добавьте две горсти щедрости, посыпьте добротой, плесните немного юмора и добавьте как можно больше веры. Все это хорошо перемешайте. Намажьте на кусок отпущенной вам жизни и предложите каждому, кого встретите на своем пут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Объект 4" descr="http://content.foto.mail.ru/mail/sinkevich58/_blogs/i-3209.jpg"/>
          <p:cNvPicPr/>
          <p:nvPr/>
        </p:nvPicPr>
        <p:blipFill>
          <a:blip r:embed="rId1"/>
          <a:stretch/>
        </p:blipFill>
        <p:spPr>
          <a:xfrm>
            <a:off x="5435640" y="2060640"/>
            <a:ext cx="3600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08200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фориз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1349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ое сложное в работе с детьми – это работа с их родителями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ЭТО МОИ ДЕ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55640" y="2133720"/>
            <a:ext cx="77040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522360" y="2133720"/>
            <a:ext cx="4626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547640" y="144360"/>
            <a:ext cx="5796000" cy="6053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3022560" y="5729400"/>
            <a:ext cx="6121440" cy="93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7093080" y="2781360"/>
            <a:ext cx="4816440" cy="954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6080040" y="692280"/>
            <a:ext cx="44578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ЕМА ВЗАИМОДЕЙСТВИЯ С РОД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1557000"/>
            <a:ext cx="64008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7" name="Рисунок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343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25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одительский комитет - эт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86920" y="2276640"/>
            <a:ext cx="7272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режде всего неравнодушные и ответственные люди, которые помогают классному руководителю сплотить класс и организовать внеклассную деятельност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18795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3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ледующее направление – просвещ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94920" y="1773000"/>
            <a:ext cx="7993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Bef>
                <a:spcPts val="9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В этом направлении использую индивидуальные консультации, родительские собрания, на которых пусть небольшое количество времени, но рассматриваю вопросы психологии, педагогики, интерактивное общ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79280" y="74520"/>
            <a:ext cx="20890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Будь в безопасност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26920" y="2133720"/>
            <a:ext cx="78091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листов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  <a:ea typeface="Calibri"/>
              </a:rPr>
              <a:t>     </a:t>
            </a:r>
            <a:r>
              <a:rPr b="1" lang="ru-RU" sz="4400" spc="-1" strike="noStrike">
                <a:solidFill>
                  <a:srgbClr val="558ed5"/>
                </a:solidFill>
                <a:latin typeface="Times New Roman"/>
                <a:ea typeface="Calibri"/>
              </a:rPr>
              <a:t>Следующее направление – нестандартные родительские собр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99640" y="2060280"/>
            <a:ext cx="7488360" cy="37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Calibri"/>
              </a:rPr>
              <a:t>Вебинары, круглые столы, тренинги, деловые игры, решение жизненных ситуаций, где родители играют роль своих детей и стараются решить проблему с позиции своего ребёнк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232680" y="4917960"/>
            <a:ext cx="291132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2:15:48Z</dcterms:created>
  <dc:creator>Павел</dc:creator>
  <dc:description/>
  <dc:language>en-US</dc:language>
  <cp:lastModifiedBy>Пользователь Windows</cp:lastModifiedBy>
  <dcterms:modified xsi:type="dcterms:W3CDTF">2021-03-10T16:52:21Z</dcterms:modified>
  <cp:revision>49</cp:revision>
  <dc:subject/>
  <dc:title>Название  презентации</dc:title>
</cp:coreProperties>
</file>