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EAC4-BF70-4DE9-8D50-EE1E55656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C3CF-9481-441E-9ED4-0DB6C2CB4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8AE6-C526-4624-9DC0-3938ECCEF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F6DC-6635-4FC2-8305-A89F16428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B71F1-41C1-4E1A-9825-C7128AFC8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185BA-BFE4-4014-A5C4-AA16E1DCE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73B53-B87C-463C-98D4-25DBE2B87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AA283-BB16-4F17-9FC6-A9011A51F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4917D-622B-49B2-B400-517CA294E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D0524-2DB1-4BD6-8748-F9FC7988E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6A557-A3CB-4870-8578-A7432D3F1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B8F4-5D70-41CA-BBB2-E86A8AE86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A6BC8-48B1-4458-8847-267F40765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A4729-B203-4873-8423-C9928B309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0B1F2-0339-4CED-B6FD-94CC029A4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3AA95-E653-44C7-A2A3-80F0A6ED0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03AAC-35F1-42FC-8C04-71FAD1D8D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07C8-476D-42DF-823B-6C7CB82AB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254F-6F65-4167-AC6D-9003FB94D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F396-375B-4F9E-9C34-A6F4E11A6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5349-333C-4F6F-B67C-DE189E711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A27D-A167-44BF-92B1-1458B4D81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8E25-D5AB-4A98-B7C6-B198CA120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5407-0C15-4EA9-A383-C417BE72C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08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Picture 4" descr="minispir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Line 5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2B896-6DA4-4C4A-817F-0767F3EBB486}" type="slidenum"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08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Picture 4" descr="minispir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6F410-C3D1-47DA-B4AA-88476BD18501}" type="slidenum"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1143000" y="2362320"/>
            <a:ext cx="74674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26920" y="1413000"/>
            <a:ext cx="777240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d3333"/>
                </a:solidFill>
                <a:latin typeface="Times New Roman"/>
              </a:rPr>
              <a:t>Особенености работы сельского учителя в малокомплектной, в малочисленной  школе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116000" y="4005360"/>
            <a:ext cx="763272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йбородова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Людмила Васильевна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.кафедрой педагогических технологий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рославского государственного педагогического университета им.К.Д.Ушинского,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тор педагогических наук, профессор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водитель научного центра РАО при ЯГПУ, 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водитель межрегиональной  научной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боратор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едагогика сельской школы»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a2d2d"/>
                </a:solidFill>
                <a:latin typeface="Times New Roman"/>
              </a:rPr>
              <a:t>Проблемы в организации  работы </a:t>
            </a:r>
            <a:br>
              <a:rPr sz="3200"/>
            </a:br>
            <a:r>
              <a:rPr b="0" lang="ru-RU" sz="3200" spc="-1" strike="noStrike">
                <a:solidFill>
                  <a:srgbClr val="ba2d2d"/>
                </a:solidFill>
                <a:latin typeface="Times New Roman"/>
              </a:rPr>
              <a:t>в малочисленной школе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жности в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рганизации психолого-педагогической и социальной поддержки разных категорий детей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-за отсутствия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рекционных учреждений на селе, психологов, социальных педагогов и других специалистов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раниченность, обедненность социальных контактов школьников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зкий  уровень соревновательности, ограниченность внешних стимулов для развития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жности в выборе педагогических средств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раниченный доступ учащихся и педагогов к некоторым информационным источникам, сложность посещения культурных и образовательных центров региона и др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Что учесть учителю малочисленной </a:t>
            </a:r>
            <a:br>
              <a:rPr sz="2800"/>
            </a:b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школы  в работе как положительный ресурс</a:t>
            </a:r>
            <a:br>
              <a:rPr sz="2800"/>
            </a:b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990360" y="1828800"/>
            <a:ext cx="7613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сные связи школы и социума, педагогов и семьи, всех участников образовательного процесса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тическое освоение обучающимися опыта практического сельскохозяйственного труда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осредственная близость детей к живой природе, тесное взаимодействие с окружающим миром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развития интеграционных процессов: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ств учебной и внеучебной деятельност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дополнительного образования детей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ияние на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оспитан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етей общественного мнения селян,  местных традици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spcBef>
                <a:spcPts val="45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87280" y="475920"/>
            <a:ext cx="777240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Положительные стороны малочисленности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индивидуализации образовательного процесса,  проектирования индивидуального образовательного маршрута, программы, плана;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нсивность межличностных и деловых контактов между педагогами и учащимис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ля взаимопознания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каждому  ребенку проявить себя в общем деле, объединиться, договориться о единстве действий;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агоприятные условия для сотрудничества, организации совместной деятельности и общения, творчества педагогов и детей, старших и младших;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spcBef>
                <a:spcPts val="4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Положительные стороны малочисленности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4800" indent="-26496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ние личностных особенностей, бытовых условий жизни друг друга, отношений в семьях способствует установлению доброжелательных и доверительных отношений между взрослыми и детьми, формируется атмосфера многодетной семьи;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ьность развития школьного и детского самоуправления; 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коллективной выработки решений, доступность каждому ребенку и родителю  принять участие в обсуждении школьных пробле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d3333"/>
                </a:solidFill>
                <a:latin typeface="Times New Roman"/>
              </a:rPr>
              <a:t>Задачи образовательной деятельности  сельских  педагогов  определяются с учетом особенностей детей  (сильных сторон, проблем воспитания  и дефицитов в социализированности школьников).</a:t>
            </a:r>
            <a:endParaRPr b="0" lang="en-US" sz="1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4800" indent="-26496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лемы и трудности сельских детей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зкий уровень организаторских и коммуникативных умений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уверенность в своих силах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ная тревожность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адекватная самооценка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формизм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зкий уровень мотивации учения, самостоятельности в принятии решений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дности в общении с новыми людьми и затруднения при адаптации в новых условиях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зкий уровень профессионального самоопределения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Западает» потребность в самовыражении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ниженные требования к своему развитию и образованию.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Особенности организации образовательной деятельности  учителя  малочисленной школы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900000" y="1557360"/>
            <a:ext cx="79200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разновозрастных групп для организации учебной и внеурочной деятельности детей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взаимодействия детей разного возраста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временное обучение детей по нескольким образовательным программам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амостоятельной деятельности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бучающихся на занятиях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видуализация образовательного процесса, обеспечивающая субъектность детей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коммуникативных форм и технологий (групповой и парной работы)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ильность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динамика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высокий уровень импровизации при организации образовательного процесса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окий уровень интеграции средств учебной и внеурочной деятельности детей и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олнительного образования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и для коллективного принятия решений, развития   школьного самоуправления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ширение  и обогащение социальных контактов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spcBef>
                <a:spcPts val="4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71640" y="4762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Пути и средства повышения эффективности</a:t>
            </a:r>
            <a:br>
              <a:rPr sz="2800"/>
            </a:b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деятельности учителя сельской школы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971640" y="1628640"/>
            <a:ext cx="77724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 algn="just">
              <a:lnSpc>
                <a:spcPct val="80000"/>
              </a:lnSpc>
              <a:spcBef>
                <a:spcPts val="1800"/>
              </a:spcBef>
              <a:buClr>
                <a:srgbClr val="402000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Усиление социальной направленности деятельности детей в объединениях и коллективах (решение практических задач, связанных с жизнью села).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177840" indent="-177840" algn="just">
              <a:lnSpc>
                <a:spcPct val="80000"/>
              </a:lnSpc>
              <a:spcBef>
                <a:spcPts val="1800"/>
              </a:spcBef>
              <a:buClr>
                <a:srgbClr val="402000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Разработка и реализация детьми и взрослыми социальных проектов, предусматривающих преобразование жизни на селе (очистка и восстановление водоемов,  поиск способов  повышения плодородия почв и т.п.).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177840" indent="-177840" algn="just">
              <a:lnSpc>
                <a:spcPct val="80000"/>
              </a:lnSpc>
              <a:spcBef>
                <a:spcPts val="1800"/>
              </a:spcBef>
              <a:buClr>
                <a:srgbClr val="402000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Изучение и выявление ресурсов для развития дополнительного образования детей силами местного населения, специалистов местных хозяйств и производств, умельцев, жителей, носителей народных традиций, их привлечение к организации  постоянных и временных объединений, проведению праздников, созданию  творческих  коллективов детей, детей и взрослых.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177840" indent="-177840" algn="just">
              <a:lnSpc>
                <a:spcPct val="80000"/>
              </a:lnSpc>
              <a:spcBef>
                <a:spcPts val="1800"/>
              </a:spcBef>
              <a:buClr>
                <a:srgbClr val="402000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Развитие сотрудничества взрослых и детей при проведении праздников села, школы; создание совместных творческих, спортивных, художественных и других коллективов, объединяющих детей и родителей, жителей села.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177840" indent="-177840">
              <a:lnSpc>
                <a:spcPct val="80000"/>
              </a:lnSpc>
              <a:spcBef>
                <a:spcPts val="1800"/>
              </a:spcBef>
              <a:buClr>
                <a:srgbClr val="40200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Пути и средства повышения эффективности</a:t>
            </a:r>
            <a:br>
              <a:rPr sz="2800"/>
            </a:b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деятельности учителя сельской школы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971640" y="1844640"/>
            <a:ext cx="77724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 algn="just">
              <a:lnSpc>
                <a:spcPct val="80000"/>
              </a:lnSpc>
              <a:spcBef>
                <a:spcPts val="2001"/>
              </a:spcBef>
              <a:buClr>
                <a:srgbClr val="402000"/>
              </a:buClr>
              <a:buSzPct val="90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Развитие сотрудничества взрослых и детей при проведении праздников села, школы; создание совместных творческих, спортивных, художественных и других коллективов, объединяющих детей и родителей, жителей села.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177840" indent="-177840" algn="just">
              <a:lnSpc>
                <a:spcPct val="80000"/>
              </a:lnSpc>
              <a:spcBef>
                <a:spcPts val="2001"/>
              </a:spcBef>
              <a:buClr>
                <a:srgbClr val="402000"/>
              </a:buClr>
              <a:buSzPct val="90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Оптимальное использование  кадровых и материальных ресурсов села, всех его учреждений для организации ОП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177840" indent="-177840" algn="just">
              <a:lnSpc>
                <a:spcPct val="80000"/>
              </a:lnSpc>
              <a:spcBef>
                <a:spcPts val="2001"/>
              </a:spcBef>
              <a:buClr>
                <a:srgbClr val="402000"/>
              </a:buClr>
              <a:buSzPct val="90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Создание детско-взрослых сообществ для организации дополнительного образования и развития населения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177840" indent="-177840" algn="just">
              <a:lnSpc>
                <a:spcPct val="80000"/>
              </a:lnSpc>
              <a:spcBef>
                <a:spcPts val="2001"/>
              </a:spcBef>
              <a:buClr>
                <a:srgbClr val="402000"/>
              </a:buClr>
              <a:buSzPct val="90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Привлечение  кадровых и материальных ресурсов ближайших поселений, обмен  специалистами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177840" indent="-177840" algn="just">
              <a:lnSpc>
                <a:spcPct val="80000"/>
              </a:lnSpc>
              <a:spcBef>
                <a:spcPts val="2001"/>
              </a:spcBef>
              <a:buClr>
                <a:srgbClr val="402000"/>
              </a:buClr>
              <a:buSzPct val="90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Использование Интернет-ресурсов для  организации совместного  и оперативного решения проблем, удовлетворения  образовательных потребностей  детей и родителей 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177840" indent="-177840">
              <a:lnSpc>
                <a:spcPct val="80000"/>
              </a:lnSpc>
              <a:spcBef>
                <a:spcPts val="2001"/>
              </a:spcBef>
              <a:buClr>
                <a:srgbClr val="40200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16000" y="23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0000"/>
                </a:solidFill>
                <a:latin typeface="Times New Roman"/>
              </a:rPr>
              <a:t>Спасибо за внимание !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08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71640" y="141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6633"/>
                </a:solidFill>
                <a:latin typeface="Times New Roman"/>
              </a:rPr>
              <a:t>Сельский учитель – лидер  села, энтузиаст, патриот школы, села, предан своему делу, заботлив и трудолюбив, скромен и бескорыстен, воспринимает   учеников как своих собственных детей.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619280" y="3573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51a00"/>
                </a:solidFill>
                <a:latin typeface="Times New Roman"/>
              </a:rPr>
              <a:t>В селе ты не просто порядочный житель,</a:t>
            </a:r>
            <a:br>
              <a:rPr sz="2400"/>
            </a:br>
            <a:r>
              <a:rPr b="0" lang="ru-RU" sz="2400" spc="-1" strike="noStrike">
                <a:solidFill>
                  <a:srgbClr val="351a00"/>
                </a:solidFill>
                <a:latin typeface="Times New Roman"/>
              </a:rPr>
              <a:t>У всех на виду,  твоё имя – Учитель!</a:t>
            </a:r>
            <a:br>
              <a:rPr sz="2400"/>
            </a:br>
            <a:r>
              <a:rPr b="0" lang="ru-RU" sz="2400" spc="-1" strike="noStrike">
                <a:solidFill>
                  <a:srgbClr val="351a00"/>
                </a:solidFill>
                <a:latin typeface="Times New Roman"/>
              </a:rPr>
              <a:t>И спрос с тебя строгий, и честь высока,</a:t>
            </a:r>
            <a:br>
              <a:rPr sz="2400"/>
            </a:br>
            <a:r>
              <a:rPr b="0" lang="ru-RU" sz="2400" spc="-1" strike="noStrike">
                <a:solidFill>
                  <a:srgbClr val="351a00"/>
                </a:solidFill>
                <a:latin typeface="Times New Roman"/>
              </a:rPr>
              <a:t>И ноша твоя на миру нелегка.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51a00"/>
                </a:solidFill>
                <a:latin typeface="Times New Roman"/>
              </a:rPr>
              <a:t>    </a:t>
            </a:r>
            <a:r>
              <a:rPr b="0" i="1" lang="ru-RU" sz="1600" spc="-1" strike="noStrike">
                <a:solidFill>
                  <a:srgbClr val="351a00"/>
                </a:solidFill>
                <a:latin typeface="Times New Roman"/>
              </a:rPr>
              <a:t>(Г.В.Попова, выпускница  сельской школы)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Факторы, влияющие на особенности работы учителя сельской малочисленной школы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971280" y="1628640"/>
            <a:ext cx="741204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Times New Roman"/>
              </a:rPr>
              <a:t>Социально-экономические</a:t>
            </a:r>
            <a:r>
              <a:rPr b="0" lang="ru-RU" sz="2000" spc="-1" strike="noStrike">
                <a:solidFill>
                  <a:srgbClr val="9933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- удаленность школы от районных и культурных центров;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- автономность, замкнутость сельских поселений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- связи школы и  сельского социума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--духовные и культурные традиции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-экологическая  и природная среда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- наличие организаций  дополнительного образования детей;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-  наличие специалистов (психологов, социальных педагогов и др.)  и педагогов ДОД;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-  материальная база.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7164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Факторы, определяющие особенности работы учителя сельской малочисленной школы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755640" y="162864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Times New Roman"/>
              </a:rPr>
              <a:t>Социально-психологические: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457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51a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351a00"/>
                </a:solidFill>
                <a:latin typeface="Times New Roman"/>
              </a:rPr>
              <a:t>трудности социализации сельских детей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457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51a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351a00"/>
                </a:solidFill>
                <a:latin typeface="Times New Roman"/>
              </a:rPr>
              <a:t>постоянный контроль за деятельностью и поведением учителя;</a:t>
            </a: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457200" algn="just">
              <a:spcBef>
                <a:spcPts val="499"/>
              </a:spcBef>
              <a:buClr>
                <a:srgbClr val="ce9964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устойчивое, более интенсивное, чем в городе,  взаимодействие детского и взрослого поселения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457200" algn="just">
              <a:spcBef>
                <a:spcPts val="499"/>
              </a:spcBef>
              <a:buClr>
                <a:srgbClr val="ce9964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51a00"/>
                </a:solidFill>
                <a:latin typeface="Times New Roman"/>
              </a:rPr>
              <a:t>- психологическая атмосфера в школьном и педагогическом коллективах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457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Times New Roman"/>
              </a:rPr>
              <a:t>Психолого-педагогические: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457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51a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351a00"/>
                </a:solidFill>
                <a:latin typeface="Times New Roman"/>
              </a:rPr>
              <a:t>более тесные повседневные взаимосвязи учителя с  детьми, родителями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457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51a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351a00"/>
                </a:solidFill>
                <a:latin typeface="Times New Roman"/>
              </a:rPr>
              <a:t>всесторонняя информированность о семьях и детях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457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51a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351a00"/>
                </a:solidFill>
                <a:latin typeface="Times New Roman"/>
              </a:rPr>
              <a:t>влияние сложившихся стереотипов  на оценку поведения и достижений детей</a:t>
            </a:r>
            <a:r>
              <a:rPr b="0" lang="en-US" sz="2000" spc="-1" strike="noStrike">
                <a:solidFill>
                  <a:srgbClr val="351a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Факторы, определяющие особенности работы учителя сельской малочисленной школы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75564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Times New Roman"/>
              </a:rPr>
              <a:t>Организационно-педагогические: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51a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351a00"/>
                </a:solidFill>
                <a:latin typeface="Times New Roman"/>
              </a:rPr>
              <a:t>выполнение  дополнительных  функций, кроме  педагогических (участие в решении проблем села,  защита ребенка и семьи,  просветительская работа среди населения, организация  культурных мероприятий на селе)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ce9964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51a00"/>
                </a:solidFill>
                <a:latin typeface="Times New Roman"/>
              </a:rPr>
              <a:t>ведение нескольких дисциплин,  реализация программ</a:t>
            </a:r>
            <a:r>
              <a:rPr b="0" lang="en-US" sz="2000" spc="-1" strike="noStrike">
                <a:solidFill>
                  <a:srgbClr val="351a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51a00"/>
                </a:solidFill>
                <a:latin typeface="Times New Roman"/>
              </a:rPr>
              <a:t>дополнительного образования,  ответственность за  работу на нескольких направлениях воспитательной работы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ce9964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51a00"/>
                </a:solidFill>
                <a:latin typeface="Times New Roman"/>
              </a:rPr>
              <a:t>- стиль управления и отношения в педагогическом коллективе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51a00"/>
                </a:solidFill>
                <a:latin typeface="Times New Roman"/>
              </a:rPr>
              <a:t>- ограниченность  профессионального общения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Факторы, определяющие особенности работы учителя сельской малочисленной школы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Педагогические: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- организация образовательного процесса в малочисленных классах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объединение  нескольких классов для проведения учебных занятий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организация  воспитательной работы, дополнительного образования в разновозрастных группах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ce9964"/>
              </a:buClr>
              <a:buSzPct val="9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необходимость интеграции средств учебной, внеучебной деятельности  и дополнительного образования детей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ce9964"/>
              </a:buClr>
              <a:buSzPct val="9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- возможности  использования методов и форм образовательной  деятельности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ce9964"/>
              </a:buClr>
              <a:buSzPct val="9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- подготовленность обучающихся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использование ресурсов социума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7164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Особенности социально-педагогических задач </a:t>
            </a:r>
            <a:br>
              <a:rPr sz="2800"/>
            </a:b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сельского учителя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990360" y="1828800"/>
            <a:ext cx="7613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1. Развитие экономики села:</a:t>
            </a: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609480" indent="-609480" algn="just">
              <a:spcBef>
                <a:spcPts val="2001"/>
              </a:spcBef>
              <a:buClr>
                <a:srgbClr val="402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воспитание труженика села через включение в различные объединения гражданского, экологического, краеведческого и  трудового направления;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609480" indent="-609480" algn="just">
              <a:spcBef>
                <a:spcPts val="2001"/>
              </a:spcBef>
              <a:buClr>
                <a:srgbClr val="402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использование ресурсов  образовательного процесса для подготовки к жизни на селе,  приобретения опыта ведения сельского хозяйства;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609480" indent="-609480" algn="just">
              <a:spcBef>
                <a:spcPts val="2001"/>
              </a:spcBef>
              <a:buClr>
                <a:srgbClr val="402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профориентационная работа, предпрофильная подготовка с привлечением авторитетных, состоявшихся, успешных жителей села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Особенности социально-педагогических задач</a:t>
            </a:r>
            <a:br>
              <a:rPr sz="2800"/>
            </a:b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и содержания деятельности сельского учителя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042560" y="1628640"/>
            <a:ext cx="74898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Times New Roman"/>
              </a:rPr>
              <a:t>2. Развитие духовно-нравственной сферы села: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1800"/>
              </a:spcBef>
              <a:buClr>
                <a:srgbClr val="402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сохранение, восстановление народных традиций через создание творческих и поисковых коллективов детей и взрослых, проведение праздников, использование местных обрядов;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1800"/>
              </a:spcBef>
              <a:buClr>
                <a:srgbClr val="402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духовно-нравственное оздоровление жителей села, привлечение их к досуговой деятельности через включение в детские творческие коллективы. </a:t>
            </a:r>
            <a:r>
              <a:rPr b="1" lang="ru-RU" sz="1800" spc="-1" strike="noStrike">
                <a:solidFill>
                  <a:srgbClr val="993300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Times New Roman"/>
              </a:rPr>
              <a:t>3. Укрепление и восстановление здоровья сельского населения: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1800"/>
              </a:spcBef>
              <a:buClr>
                <a:srgbClr val="402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организация системы оздоровительной работы  на селе специалистами школы и УДО, охватывающей всех жителей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1800"/>
              </a:spcBef>
              <a:buClr>
                <a:srgbClr val="402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создание семейных спортивных объединений, кружков, секций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Особенности социально-педагогических задач и содержания деятельности сельского учителя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990720" y="1828800"/>
            <a:ext cx="7542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4. Развитие образованности населения  </a:t>
            </a: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через  взаимодействие со школьниками и приобщение  жителей к организации образовательной и воспитательной деятельности, дополнительного образования детей (ведение кружков, секций, подготовка и проведение отдельных занятий и мероприятий с детьми).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5. Сохранение экологии села</a:t>
            </a: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 через создания школьных лесничеств, экологических отрядов, отрядов юннатов, организацию природоохранной деятельности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3T08:44:37Z</dcterms:created>
  <dc:creator>Гречин</dc:creator>
  <dc:description/>
  <dc:language>en-US</dc:language>
  <cp:lastModifiedBy>Dell</cp:lastModifiedBy>
  <dcterms:modified xsi:type="dcterms:W3CDTF">2021-12-08T14:36:53Z</dcterms:modified>
  <cp:revision>47</cp:revision>
  <dc:subject/>
  <dc:title>Заголовок слайда отсутствует</dc:title>
</cp:coreProperties>
</file>