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704-85B6-4077-ACCB-70EDB52E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A2E-AD52-4C45-939D-16FCAA42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B42-A213-4E78-8F87-6385D0B7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EBD-3F59-41B0-ABC0-37489320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EA14-62EC-4D17-8585-9D947E6B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9A82-306A-4407-AE68-A03757B8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F286-DDF2-45F8-BC94-9E68394E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F867-6A17-4378-8E7B-1B07402A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6CBF-B381-4CFC-A36B-00D6487D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3C4B-8D18-4355-97B5-7037A6BE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8C6E-81F3-4E75-8E74-C4038684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D9F-28A9-4915-B8BE-0AC6CF63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5305-05B5-4D61-B6FF-BA6D3C52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FA61-51B8-4EE2-9B8A-9158527A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D46C-C19A-47EA-88C9-E26DF3EF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AABA-8284-4763-B79B-370FFE3F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3F59-B30C-4101-ABD9-6C6E01E0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D57-31A9-4076-B77B-F3E80D10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50E-73D0-4313-A4EC-DFE06AF1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688-1CE6-4E34-9E6A-1E4269F8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F2B-533B-47DA-AC74-EB3EFAFC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412-A18B-4180-81FD-D9C7617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6DC-17A5-4DE9-8DEE-45EC2080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2C5-9BE7-4540-BEE2-7B4A4A3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5430-E763-4B1F-A69B-7B12EAAABDF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08C4-4673-4101-B953-45E3F2FDADA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43000" y="23623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собенености работы сельского учителя в малокомплектной, в малочисленной  школе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16000" y="4005360"/>
            <a:ext cx="7632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йбородо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мила Васильевна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кафедрой педагогических технологий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ославского государственного педагогического университета им.К.Д.Ушинског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педагогических наук, профессор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научного центра РАО при ЯГПУ,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межрегиональной  научной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ка сельской школы»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Проблемы в организации  работы </a:t>
            </a:r>
            <a:br>
              <a:rPr sz="3200"/>
            </a:br>
            <a:r>
              <a:rPr b="0" lang="ru-RU" sz="3200" spc="-1" strike="noStrike">
                <a:solidFill>
                  <a:srgbClr val="ba2d2d"/>
                </a:solidFill>
                <a:latin typeface="Times New Roman"/>
              </a:rPr>
              <a:t>в малочисленной школе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 психолого-педагогической и социальной поддержки разных категорий дете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отсутствия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онных учреждений на селе, психологов, социальных педагогов и других специалист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, обедненность социальных контактов школьников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 уровень соревновательности, ограниченность внешних стимулов для развит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и в выборе педагогических средств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й доступ учащихся и педагогов к некоторым информационным источникам, сложность посещения культурных и образовательных центров региона и д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Что учесть учителю малочисленной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школы  в работе как положительный ресурс</a:t>
            </a: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ые связи школы и социума, педагогов и семьи, всех участников образовательного процесс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ческое освоение обучающимися опыта практического сельскохозяйственного тру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близость детей к живой природе, тесное взаимодействие с окружающим миро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развития интеграционных процессов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 учебной и вне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полнительного образования дет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н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общественного мнения селян,  местных традиц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дивидуализации образовательного процесса,  проектирования индивидуального образовательного маршрута, программы, план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межличностных и деловых контактов между педагогами и учащими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взаимопознания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аждому  ребенку проявить себя в общем деле, объединиться, договориться о единстве действий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приятные условия для сотрудничества, организации совместной деятельности и общения, творчества педагогов и детей, старших и младших;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ложительные стороны малочисленности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личностных особенностей, бытовых условий жизни друг друга, отношений в семьях способствует установлению доброжелательных и доверительных отношений между взрослыми и детьми, формируется атмосфера многодетной семь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сть развития школьного и детского самоуправления;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коллективной выработки решений, доступность каждому ребенку и родителю  принять участие в обсуждении школьных пробл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d3333"/>
                </a:solidFill>
                <a:latin typeface="Times New Roman"/>
              </a:rPr>
              <a:t>Задачи образовательной деятельности  сельских  педагогов  определяются с учетом особенностей детей  (сильных сторон, проблем воспитания  и дефицитов в социализированности школьников).</a:t>
            </a:r>
            <a:endParaRPr b="0" lang="en-US" sz="1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и трудности сельских детей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организаторских и коммуникативных умений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веренность в своих сила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ревож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я самооценк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изм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мотивации учения, самостоятельности в принятии реш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бщении с новыми людьми и затруднения при адаптации в новых условиях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профессионального самоопределения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падает» потребность в самовыражен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женные требования к своему развитию и образованию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собенности организации образовательной деятельности  учителя 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557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новозрастных групп для организации учебной и внеурочной деятельности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действия детей разного возраст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е обучение детей по нескольким образовательным программам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ой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 на занятия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я образовательного процесса, обеспечивающая субъектность детей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ммуникативных форм и технологий (групповой и парной работы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намика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сокий уровень импровизации при организации образовательного процесса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интеграции средств учебной и внеурочной деятельности детей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го образова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для коллективного принятия решений, развития   школьного самоуправления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и обогащение социальных контактов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4800" indent="-264960">
              <a:spcBef>
                <a:spcPts val="4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640" y="162864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Усиление социальной направленности деятельности детей в объединениях и коллективах (решение практических задач, связанных с жизнью села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работка и реализация детьми и взрослыми социальных проектов, предусматривающих преобразование жизни на селе (очистка и восстановление водоемов,  поиск способов  повышения плодородия почв и т.п.)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Изучение и выявление ресурсов для развития дополнительного образования детей силами местного населения, специалистов местных хозяйств и производств, умельцев, жителей, носителей народных традиций, их привлечение к организации  постоянных и временных объединений, проведению праздников, созданию  творческих  коллективов детей, детей и взрослых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1800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Пути и средства повышения эффективности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деятельности учителя сельск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Развитие сотрудничества взрослых и детей при проведении праздников села, школы; создание совместных творческих, спортивных, художественных и других коллективов, объединяющих детей и родителей, жителей села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птимальное использование  кадровых и материальных ресурсов села, всех его учреждений для организации ОП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Создание детско-взрослых сообществ для организации дополнительного образования и развития населения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ивлечение  кадровых и материальных ресурсов ближайших поселений, обмен  специалистам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 algn="just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Интернет-ресурсов для  организации совместного  и оперативного решения проблем, удовлетворения  образовательных потребностей  детей и родителей 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2001"/>
              </a:spcBef>
              <a:buClr>
                <a:srgbClr val="402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6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Спасибо за внимание !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8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Сельский учитель – лидер  села, энтузиаст, патриот школы, села, предан своему делу, заботлив и трудолюбив, скромен и бескорыстен, воспринимает   учеников как своих собственных детей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В селе ты не просто порядочный житель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У всех на виду,  твоё имя – Учитель!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спрос с тебя строгий, и честь высока,</a:t>
            </a:r>
            <a:br>
              <a:rPr sz="2400"/>
            </a:b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И ноша твоя на миру нелегка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51a00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351a00"/>
                </a:solidFill>
                <a:latin typeface="Times New Roman"/>
              </a:rPr>
              <a:t>(Г.В.Попова, выпускница  сельской школы)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влияющие на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280" y="1628640"/>
            <a:ext cx="7412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экономические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удаленность школы от районных и культурных центр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автономность, замкнутость сельских поселени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связи школы и  сельского социум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-духовные и культурные традиции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экологическая  и природная среда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наличие организаций  дополнительного образования детей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наличие специалистов (психологов, социальных педагогов и др.)  и педагогов ДОД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-  материальная база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Социально-психол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трудности социализации сельских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постоянный контроль за деятельностью и поведением учителя;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устойчивое, более интенсивное, чем в городе,  взаимодействие детского и взрослого поселени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психологическая атмосфера в школьном и педагогическом коллективах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сихолог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более тесные повседневные взаимосвязи учителя с  детьми, родителям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сесторонняя информированность о семьях и детя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лияние сложившихся стереотипов  на оценку поведения и достижений детей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рганизационно-педагогические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ыполнение  дополнительных  функций, кроме  педагогических (участие в решении проблем села,  защита ребенка и семьи,  просветительская работа среди населения, организация  культурных мероприятий на селе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ведение нескольких дисциплин,  реализация программ</a:t>
            </a:r>
            <a:r>
              <a:rPr b="0" lang="en-US" sz="2000" spc="-1" strike="noStrike">
                <a:solidFill>
                  <a:srgbClr val="351a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дополнительного образования,  ответственность за  работу на нескольких направлениях воспитательной работы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ce996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стиль управления и отношения в педагогическом коллективе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1a00"/>
                </a:solidFill>
                <a:latin typeface="Times New Roman"/>
              </a:rPr>
              <a:t>- ограниченность  профессионального общения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Факторы, определяющие особенности работы учителя сельской малочисленной школы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едагогические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организация образовательного процесса в малочисленных класс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бъединение  нескольких классов для проведения учебных заняти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организация  воспитательной работы, дополнительного образования в разновозрастных группах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необходимость интеграции средств учебной, внеучебной деятельности  и дополнительного образования детей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возможности  использования методов и форм образовательной  деятельности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подготовленность обучающихся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социума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360" y="1828800"/>
            <a:ext cx="761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1. Развитие экономики села: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воспитание труженика села через включение в различные объединения гражданского, экологического, краеведческого и  трудового направления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использование ресурсов  образовательного процесса для подготовки к жизни на селе,  приобретения опыта ведения сельского хозяйства;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профориентационная работа, предпрофильная подготовка с привлечением авторитетных, состоявшихся, успешных жителей села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42560" y="1628640"/>
            <a:ext cx="7489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2. Развитие духовно-нравственной сферы села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хранение, восстановление народных традиций через создание творческих и поисковых коллективов детей и взрослых, проведение праздников, использование местных обрядов;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духовно-нравственное оздоровление жителей села, привлечение их к досуговой деятельности через включение в детские творческие коллективы.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3. Укрепление и восстановление здоровья сельского населения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организация системы оздоровительной работы  на селе специалистами школы и УДО, охватывающей всех жителей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buClr>
                <a:srgbClr val="402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создание семейных спортивных объединений, кружков, секций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imes New Roman"/>
              </a:rPr>
              <a:t>Особенности социально-педагогических задач и содержания деятельности сельского учителя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828800"/>
            <a:ext cx="754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Развитие образованности населения  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через  взаимодействие со школьниками и приобщение  жителей к организации образовательной и воспитательной деятельности, дополнительного образования детей (ведение кружков, секций, подготовка и проведение отдельных занятий и мероприятий с детьми)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Сохранение экологии села</a:t>
            </a: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через создания школьных лесничеств, экологических отрядов, отрядов юннатов, организацию природоохранной деятельности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8:44:37Z</dcterms:created>
  <dc:creator>Гречин</dc:creator>
  <dc:description/>
  <dc:language>en-US</dc:language>
  <cp:lastModifiedBy>Dell</cp:lastModifiedBy>
  <dcterms:modified xsi:type="dcterms:W3CDTF">2021-12-08T14:36:53Z</dcterms:modified>
  <cp:revision>47</cp:revision>
  <dc:subject/>
  <dc:title>Заголовок слайда отсутствует</dc:title>
</cp:coreProperties>
</file>