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0AD8-1B84-4009-8C85-F5DBBF39FC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396F-9531-4610-8868-3DEA01B54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2283-49B3-4557-8074-ADF1C19D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A8FB-AA91-4411-8B67-2A19531B9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20BE-1361-4CC9-8741-89ACF8BB3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0C341-AAF6-4D40-A5AB-FCAF4BB0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77A-9EC5-40D0-A648-45B570AEE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82C6-A32E-47D4-936D-81CC03871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EA53-B302-4E14-A82F-64030429F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F259-A7E2-4700-B93D-92DFFAB56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3BDD5-1DB6-4916-B588-44A8102BD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DADD-8932-4B0E-8FB6-751F9DA0D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83252-1EEF-4B0A-9F56-66446CD6C7C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image" Target="../media/image4.png"/><Relationship Id="rId5" Type="http://schemas.openxmlformats.org/officeDocument/2006/relationships/image" Target="../media/image7.pn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3"/>
          <p:cNvSpPr/>
          <p:nvPr/>
        </p:nvSpPr>
        <p:spPr>
          <a:xfrm>
            <a:off x="1447920" y="1900080"/>
            <a:ext cx="57150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Организационно-методическое сопровождение реализа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Arial"/>
                <a:ea typeface="Arial"/>
              </a:rPr>
              <a:t>Рабочей программы   воспитания образовательной организ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Прямоугольник 4"/>
          <p:cNvSpPr/>
          <p:nvPr/>
        </p:nvSpPr>
        <p:spPr>
          <a:xfrm>
            <a:off x="407880" y="632448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Октябрьский 20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066080" y="262080"/>
            <a:ext cx="1244520" cy="1619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45" name="Прямоугольник 4"/>
          <p:cNvSpPr/>
          <p:nvPr/>
        </p:nvSpPr>
        <p:spPr>
          <a:xfrm>
            <a:off x="5207760" y="5605560"/>
            <a:ext cx="371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Конькова И.В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директо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  <a:ea typeface="Arial"/>
              </a:rPr>
              <a:t>МБОУ «Октябрьская СОШ №2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https://img2.freepng.ru/20171202/434/team-picture-5a2264f1a924e7.0452620615122035056928.jpg"/>
          <p:cNvPicPr/>
          <p:nvPr/>
        </p:nvPicPr>
        <p:blipFill>
          <a:blip r:embed="rId5"/>
          <a:srcRect l="15969" t="0" r="18001" b="8661"/>
          <a:stretch/>
        </p:blipFill>
        <p:spPr>
          <a:xfrm>
            <a:off x="6507000" y="2514600"/>
            <a:ext cx="2138400" cy="2170080"/>
          </a:xfrm>
          <a:prstGeom prst="rect">
            <a:avLst/>
          </a:prstGeom>
          <a:ln w="0">
            <a:noFill/>
          </a:ln>
        </p:spPr>
      </p:pic>
      <p:sp>
        <p:nvSpPr>
          <p:cNvPr id="51" name="Прямоугольник 8"/>
          <p:cNvSpPr/>
          <p:nvPr/>
        </p:nvSpPr>
        <p:spPr>
          <a:xfrm>
            <a:off x="274680" y="1087560"/>
            <a:ext cx="580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Генри Форд: «Собраться вместе - есть начало. Держаться вместе - есть прогресс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Arial"/>
                <a:ea typeface="Arial"/>
              </a:rPr>
              <a:t>Работать вместе - есть успех!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1F67A-9EBD-48D8-A754-0743032A47D7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434880" y="2133720"/>
            <a:ext cx="6072120" cy="50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1.Организационно-координационная помощь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несение изменений в организационную структуру методического сопровожд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едметные ШМО, проблемные групп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зменения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рабочие группы по реализации модулей, отдельные кураторы модул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в состав групп входят педагоги, узкие специалисты, ученики, родители, привлекаемые соц.партне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2"/>
          <p:cNvSpPr/>
          <p:nvPr/>
        </p:nvSpPr>
        <p:spPr>
          <a:xfrm>
            <a:off x="274680" y="515880"/>
            <a:ext cx="767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Сопровождение = взаимодействие +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870680" y="2286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57" name="Объект 2"/>
          <p:cNvSpPr/>
          <p:nvPr/>
        </p:nvSpPr>
        <p:spPr>
          <a:xfrm>
            <a:off x="198360" y="865080"/>
            <a:ext cx="830592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Классное руководство»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– МО классных руководителей и зам.директора по В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Школьный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рок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- руководители предметных Ш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Работа с родителями» и «Линия жизни(система профилактики)» -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зкие специалисты, родители, отдельные педаг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Группа по реализации модуля «Самоуправление» и «Школьные медиа»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– зам.директора по ВР, педагог-организатор, ученики-активис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«Профориентация» – отдельный кур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3"/>
          <a:stretch/>
        </p:blipFill>
        <p:spPr>
          <a:xfrm>
            <a:off x="6477120" y="4267080"/>
            <a:ext cx="2216160" cy="2617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8"/>
          <p:cNvSpPr/>
          <p:nvPr/>
        </p:nvSpPr>
        <p:spPr>
          <a:xfrm>
            <a:off x="6510240" y="485316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Функционал группы описан в Программе, направления работы и мероприятия – в КТ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7EF3-5DA0-46B5-B34B-188DC6441D7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8"/>
          <p:cNvSpPr/>
          <p:nvPr/>
        </p:nvSpPr>
        <p:spPr>
          <a:xfrm>
            <a:off x="533520" y="228600"/>
            <a:ext cx="539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Примерный состав групп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304920" y="4829040"/>
            <a:ext cx="6629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ет четкого алгоритма действий, готового чек-листа работы группы по реализации модул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информационное сопровожд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1" descr=""/>
          <p:cNvPicPr/>
          <p:nvPr/>
        </p:nvPicPr>
        <p:blipFill>
          <a:blip r:embed="rId1"/>
          <a:srcRect l="4942" t="0" r="0" b="5240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Рисунок 1" descr=""/>
          <p:cNvPicPr/>
          <p:nvPr/>
        </p:nvPicPr>
        <p:blipFill>
          <a:blip r:embed="rId2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"/>
          <p:cNvPicPr/>
          <p:nvPr/>
        </p:nvPicPr>
        <p:blipFill>
          <a:blip r:embed="rId3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66" name="Рисунок 9" descr=""/>
          <p:cNvPicPr/>
          <p:nvPr/>
        </p:nvPicPr>
        <p:blipFill>
          <a:blip r:embed="rId4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67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2118-2147-447E-853D-7ABFFEB7ED58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"/>
          <p:cNvSpPr/>
          <p:nvPr/>
        </p:nvSpPr>
        <p:spPr>
          <a:xfrm>
            <a:off x="304920" y="609480"/>
            <a:ext cx="607212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2.Информационно-методическое  сопровождение и Обучающ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бор, обработка, накопление и использование информа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Было: </a:t>
            </a: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еминары, пед.советы, консульт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Использовать чащ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практические совещания, деловые игр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создание банка ид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+ анализ и трансформация имеющихся наработ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3" descr=""/>
          <p:cNvPicPr/>
          <p:nvPr/>
        </p:nvPicPr>
        <p:blipFill>
          <a:blip r:embed="rId5"/>
          <a:srcRect l="8062" t="19342" r="65126" b="8626"/>
          <a:stretch/>
        </p:blipFill>
        <p:spPr>
          <a:xfrm>
            <a:off x="6767640" y="2638440"/>
            <a:ext cx="1533240" cy="231444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6" descr=""/>
          <p:cNvPicPr/>
          <p:nvPr/>
        </p:nvPicPr>
        <p:blipFill>
          <a:blip r:embed="rId6"/>
          <a:stretch/>
        </p:blipFill>
        <p:spPr>
          <a:xfrm>
            <a:off x="349200" y="4484520"/>
            <a:ext cx="2600280" cy="19512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7" descr=""/>
          <p:cNvPicPr/>
          <p:nvPr/>
        </p:nvPicPr>
        <p:blipFill>
          <a:blip r:embed="rId7"/>
          <a:srcRect l="5441" t="17594" r="5139" b="2692"/>
          <a:stretch/>
        </p:blipFill>
        <p:spPr>
          <a:xfrm>
            <a:off x="6005520" y="4484520"/>
            <a:ext cx="2867040" cy="1911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11" descr=""/>
          <p:cNvPicPr/>
          <p:nvPr/>
        </p:nvPicPr>
        <p:blipFill>
          <a:blip r:embed="rId8"/>
          <a:srcRect l="12147" t="0" r="18098" b="32230"/>
          <a:stretch/>
        </p:blipFill>
        <p:spPr>
          <a:xfrm>
            <a:off x="3124080" y="4484520"/>
            <a:ext cx="2662200" cy="19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75" name="Рисунок 9" descr=""/>
          <p:cNvPicPr/>
          <p:nvPr/>
        </p:nvPicPr>
        <p:blipFill>
          <a:blip r:embed="rId3"/>
          <a:stretch/>
        </p:blipFill>
        <p:spPr>
          <a:xfrm>
            <a:off x="6149880" y="1981080"/>
            <a:ext cx="2722680" cy="2971800"/>
          </a:xfrm>
          <a:prstGeom prst="rect">
            <a:avLst/>
          </a:prstGeom>
          <a:ln w="0">
            <a:noFill/>
          </a:ln>
        </p:spPr>
      </p:pic>
      <p:sp>
        <p:nvSpPr>
          <p:cNvPr id="76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6BADF-B4D5-4B3B-8B2A-F92993D1C673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2"/>
          <p:cNvSpPr/>
          <p:nvPr/>
        </p:nvSpPr>
        <p:spPr>
          <a:xfrm>
            <a:off x="203040" y="1176480"/>
            <a:ext cx="6274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3. Психологическ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еализация Программы – совместная деятельность всего коллектив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ерегрузка дополнительной деятельностью            выгорание, апат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, взаимопомощь           успе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Директор 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– основной держатель курса Программы (скорая психологическая, мотивационная, координационная, контролирующая, аналитическая помощь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8"/>
          <p:cNvSpPr/>
          <p:nvPr/>
        </p:nvSpPr>
        <p:spPr>
          <a:xfrm>
            <a:off x="171360" y="3571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мотив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18"/>
          <p:cNvSpPr/>
          <p:nvPr/>
        </p:nvSpPr>
        <p:spPr>
          <a:xfrm>
            <a:off x="6553080" y="2784600"/>
            <a:ext cx="1994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Нельзя возлагать всю работу по реализации на заместителя директора по ВР и единичных педагог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" name="Прямая со стрелкой 2"/>
          <p:cNvCxnSpPr/>
          <p:nvPr/>
        </p:nvCxnSpPr>
        <p:spPr>
          <a:xfrm>
            <a:off x="2590920" y="3200040"/>
            <a:ext cx="76248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  <p:cxnSp>
        <p:nvCxnSpPr>
          <p:cNvPr id="81" name="Прямая со стрелкой 19"/>
          <p:cNvCxnSpPr/>
          <p:nvPr/>
        </p:nvCxnSpPr>
        <p:spPr>
          <a:xfrm>
            <a:off x="4289040" y="3951000"/>
            <a:ext cx="762840" cy="1080"/>
          </a:xfrm>
          <a:prstGeom prst="straightConnector1">
            <a:avLst/>
          </a:prstGeom>
          <a:ln w="25560">
            <a:solidFill>
              <a:srgbClr val="161645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4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771090-1674-4905-AB58-F38464DECFE5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"/>
          <p:cNvSpPr/>
          <p:nvPr/>
        </p:nvSpPr>
        <p:spPr>
          <a:xfrm>
            <a:off x="281160" y="414360"/>
            <a:ext cx="8862840" cy="620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4. Проектировочная помощ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Оформление необходимых 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Примерная документаци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Стратегические документы (Внесение изменений в образовательную программу организации, Программу развития образовательной организации и т.д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Программы и Положения отдельных модулей и технологии их реализ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Методические документы, обеспечивающие реализацию Программы, ее виды деятельности (планы, технологические карты, формы отчетов, и т.п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Технологии осуществления процедур аналитической деятельности (диагностический инструментари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Наиболее продуктивные методы и приемы обучения (накопительный банк разработок, презентаций, сценариев мероприятий по различным модулям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1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2"/>
          <a:srcRect l="25921" t="0" r="23469" b="0"/>
          <a:stretch/>
        </p:blipFill>
        <p:spPr>
          <a:xfrm>
            <a:off x="7577280" y="281160"/>
            <a:ext cx="1068120" cy="13921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88" name="Номер слайда 1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CB2A-EC9B-43C1-A7FC-0082BFE71D0F}" type="slidenum">
              <a:rPr b="0" lang="ru-RU" sz="1400" spc="-1" strike="noStrike">
                <a:solidFill>
                  <a:srgbClr val="00206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247680" y="1673280"/>
            <a:ext cx="8862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состояние организуемой в школе совместной деятельности детей и взросл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Уникальный инструментарий (разработки школы относительно анализируемых модулей и особенностей Программ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Направление анализа:  оценивания результатов воспитания, социализации и саморазвития школьник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???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 Нужны </a:t>
            </a:r>
            <a:r>
              <a:rPr b="1" lang="ru-RU" sz="2000" spc="-1" strike="noStrike" u="sng">
                <a:solidFill>
                  <a:srgbClr val="002060"/>
                </a:solidFill>
                <a:uFillTx/>
                <a:latin typeface="Arial"/>
                <a:ea typeface="Arial"/>
              </a:rPr>
              <a:t>единые критерии оценки </a:t>
            </a:r>
            <a:r>
              <a:rPr b="0" lang="ru-RU" sz="2000" spc="-1" strike="noStrike">
                <a:solidFill>
                  <a:srgbClr val="002060"/>
                </a:solidFill>
                <a:latin typeface="Arial"/>
                <a:ea typeface="Arial"/>
              </a:rPr>
              <a:t>воспитательной работы для всех образовательных организаций (по типу создания единой примерной программы), чтобы процедура анализа также была единой и прозрачной, а также это может предотвратить искажение данных об обучающихся при переходе из одной образовательной организации в другу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8"/>
          <p:cNvSpPr/>
          <p:nvPr/>
        </p:nvSpPr>
        <p:spPr>
          <a:xfrm>
            <a:off x="171360" y="26676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Проблема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разработка аналитического диагностического инструментар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Решение: </a:t>
            </a:r>
            <a:r>
              <a:rPr b="1" i="1" lang="ru-RU" sz="24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88CA-33C4-4A75-AA32-C8351747890D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1"/>
          <a:srcRect l="0" t="0" r="1310" b="2698"/>
          <a:stretch/>
        </p:blipFill>
        <p:spPr>
          <a:xfrm>
            <a:off x="0" y="22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Box 10"/>
          <p:cNvSpPr/>
          <p:nvPr/>
        </p:nvSpPr>
        <p:spPr>
          <a:xfrm>
            <a:off x="1676520" y="1617840"/>
            <a:ext cx="421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61645"/>
                </a:solidFill>
                <a:latin typeface="Arial"/>
              </a:rPr>
              <a:t>УСПЕШ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11"/>
          <p:cNvSpPr/>
          <p:nvPr/>
        </p:nvSpPr>
        <p:spPr>
          <a:xfrm>
            <a:off x="1371600" y="1042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Arial"/>
                <a:ea typeface="Arial"/>
              </a:rPr>
              <a:t>УВАЖ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Рисунок 16" descr=""/>
          <p:cNvPicPr/>
          <p:nvPr/>
        </p:nvPicPr>
        <p:blipFill>
          <a:blip r:embed="rId2"/>
          <a:stretch/>
        </p:blipFill>
        <p:spPr>
          <a:xfrm>
            <a:off x="6946920" y="2427120"/>
            <a:ext cx="1133280" cy="9414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12" descr="C:\Users\Int\Desktop\ФОТО 17-18 год\фотографии школы 16-17г\Фотографии 2016-2017 уч.год\старшее звено\День матери\PB240059.JPG"/>
          <p:cNvPicPr/>
          <p:nvPr/>
        </p:nvPicPr>
        <p:blipFill>
          <a:blip r:embed="rId3"/>
          <a:srcRect l="0" t="27611" r="0" b="0"/>
          <a:stretch/>
        </p:blipFill>
        <p:spPr>
          <a:xfrm rot="21141600">
            <a:off x="4635360" y="314280"/>
            <a:ext cx="2351160" cy="1349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4"/>
          <p:cNvSpPr/>
          <p:nvPr/>
        </p:nvSpPr>
        <p:spPr>
          <a:xfrm>
            <a:off x="228600" y="6245280"/>
            <a:ext cx="437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c00000"/>
                </a:solidFill>
                <a:uFillTx/>
                <a:latin typeface="Arial"/>
                <a:ea typeface="Arial"/>
              </a:rPr>
              <a:t>Вместе – мы сила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3" descr=""/>
          <p:cNvPicPr/>
          <p:nvPr/>
        </p:nvPicPr>
        <p:blipFill>
          <a:blip r:embed="rId4"/>
          <a:srcRect l="25921" t="0" r="23469" b="0"/>
          <a:stretch/>
        </p:blipFill>
        <p:spPr>
          <a:xfrm>
            <a:off x="7026120" y="324000"/>
            <a:ext cx="993960" cy="1293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sp>
        <p:nvSpPr>
          <p:cNvPr id="100" name="TextBox 9"/>
          <p:cNvSpPr/>
          <p:nvPr/>
        </p:nvSpPr>
        <p:spPr>
          <a:xfrm>
            <a:off x="457200" y="343080"/>
            <a:ext cx="524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  <a:ea typeface="Arial"/>
              </a:rPr>
              <a:t>СОТРУДНИЧ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C:\Users\fedor\OneDrive\Документы\Ирина_с августа 2019\фото_школа\районны правовой турнир.jpg"/>
          <p:cNvPicPr/>
          <p:nvPr/>
        </p:nvPicPr>
        <p:blipFill>
          <a:blip r:embed="rId5"/>
          <a:srcRect l="0" t="0" r="12524" b="0"/>
          <a:stretch/>
        </p:blipFill>
        <p:spPr>
          <a:xfrm>
            <a:off x="423720" y="4538520"/>
            <a:ext cx="2487600" cy="16002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C:\Users\fedor\OneDrive\Документы\Ирина_с августа 2019\фото_школа\Краевой форум Новое поколение.jpg"/>
          <p:cNvPicPr/>
          <p:nvPr/>
        </p:nvPicPr>
        <p:blipFill>
          <a:blip r:embed="rId6"/>
          <a:srcRect l="17231" t="0" r="9873" b="0"/>
          <a:stretch/>
        </p:blipFill>
        <p:spPr>
          <a:xfrm rot="382800">
            <a:off x="5934240" y="2700000"/>
            <a:ext cx="2852640" cy="2371680"/>
          </a:xfrm>
          <a:prstGeom prst="rect">
            <a:avLst/>
          </a:prstGeom>
          <a:ln w="0">
            <a:noFill/>
          </a:ln>
        </p:spPr>
      </p:pic>
      <p:sp>
        <p:nvSpPr>
          <p:cNvPr id="103" name="TextBox 8"/>
          <p:cNvSpPr/>
          <p:nvPr/>
        </p:nvSpPr>
        <p:spPr>
          <a:xfrm rot="5400000">
            <a:off x="5487840" y="3407400"/>
            <a:ext cx="58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"/>
                <a:ea typeface="Arial"/>
              </a:rPr>
              <a:t>ПЕРСПЕКТИВН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Рисунок 11" descr="C:\Users\Int\Desktop\ФОТО 17-18 год\Фото 01.12\PB300065.JPG"/>
          <p:cNvPicPr/>
          <p:nvPr/>
        </p:nvPicPr>
        <p:blipFill>
          <a:blip r:embed="rId7"/>
          <a:stretch/>
        </p:blipFill>
        <p:spPr>
          <a:xfrm>
            <a:off x="5897520" y="5086440"/>
            <a:ext cx="2336760" cy="1620720"/>
          </a:xfrm>
          <a:prstGeom prst="rect">
            <a:avLst/>
          </a:prstGeom>
          <a:ln w="0">
            <a:noFill/>
          </a:ln>
        </p:spPr>
      </p:pic>
      <p:pic>
        <p:nvPicPr>
          <p:cNvPr id="105" name="Рисунок 5" descr=""/>
          <p:cNvPicPr/>
          <p:nvPr/>
        </p:nvPicPr>
        <p:blipFill>
          <a:blip r:embed="rId8"/>
          <a:stretch/>
        </p:blipFill>
        <p:spPr>
          <a:xfrm>
            <a:off x="582480" y="2465280"/>
            <a:ext cx="2297160" cy="171936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4" descr=""/>
          <p:cNvPicPr/>
          <p:nvPr/>
        </p:nvPicPr>
        <p:blipFill>
          <a:blip r:embed="rId9"/>
          <a:srcRect l="0" t="5262" r="0" b="8069"/>
          <a:stretch/>
        </p:blipFill>
        <p:spPr>
          <a:xfrm>
            <a:off x="2489040" y="4035600"/>
            <a:ext cx="3759480" cy="22111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5"/>
          <p:cNvSpPr/>
          <p:nvPr/>
        </p:nvSpPr>
        <p:spPr>
          <a:xfrm>
            <a:off x="1600200" y="2743200"/>
            <a:ext cx="5943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Программа воспита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00000"/>
                </a:solidFill>
                <a:uFillTx/>
                <a:latin typeface="Calibri"/>
              </a:rPr>
              <a:t>МБОУ «Октябрьская СОШ №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5"/>
          <p:cNvSpPr/>
          <p:nvPr/>
        </p:nvSpPr>
        <p:spPr>
          <a:xfrm>
            <a:off x="1219320" y="2666880"/>
            <a:ext cx="6629400" cy="1219320"/>
          </a:xfrm>
          <a:prstGeom prst="ellipse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3"/>
          <p:cNvSpPr/>
          <p:nvPr/>
        </p:nvSpPr>
        <p:spPr>
          <a:xfrm>
            <a:off x="1986120" y="2158920"/>
            <a:ext cx="3738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Arial"/>
                <a:ea typeface="Arial"/>
              </a:rPr>
              <a:t>УНИКАЛЬНОС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7"/>
          <p:cNvSpPr/>
          <p:nvPr/>
        </p:nvSpPr>
        <p:spPr>
          <a:xfrm rot="16200000">
            <a:off x="-1515600" y="2504880"/>
            <a:ext cx="419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  <a:ea typeface="Arial"/>
              </a:rPr>
              <a:t>ТВОРЧЕСТВ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23T15:04:49Z</dcterms:created>
  <dc:creator>Федор KoFSar</dc:creator>
  <dc:description/>
  <dc:language>en-US</dc:language>
  <cp:lastModifiedBy>1</cp:lastModifiedBy>
  <dcterms:modified xsi:type="dcterms:W3CDTF">2021-09-29T07:13:07Z</dcterms:modified>
  <cp:revision>4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