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7.png" ContentType="image/png"/>
  <Override PartName="/ppt/media/image32.png" ContentType="image/png"/>
  <Override PartName="/ppt/media/image9.png" ContentType="image/png"/>
  <Override PartName="/ppt/media/image22.jpeg" ContentType="image/jpeg"/>
  <Override PartName="/ppt/media/image14.jpeg" ContentType="image/jpeg"/>
  <Override PartName="/ppt/media/image8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1.jpeg" ContentType="image/jpeg"/>
  <Override PartName="/ppt/media/image35.jpeg" ContentType="image/jpeg"/>
  <Override PartName="/ppt/media/image30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31.jpeg" ContentType="image/jpeg"/>
  <Override PartName="/ppt/media/image4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CB28-8BE5-4D20-B73C-2FD93CA25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39A2-3A0D-4D07-96B0-9335EA6D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FB1E-FC5E-4FA3-96DF-416FD4F0B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7FDD-5DF9-4C5A-865A-046EEDF0E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00A0-C1C9-42E6-A882-CD659FA6B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8E33-2881-4052-A3FF-20AF05E2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A860-D17C-42E7-B699-893550AA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4814-E340-4E85-927E-97FAF470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82DE-ECE8-43D9-944F-FEA313AD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A717-9825-443C-8CB4-D9D658BD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7267-AAE1-42D0-8904-31080E0B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F8A2-13AE-4893-8FD8-73166269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6F26-170E-422D-A7A8-F064AB97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DF51-70F3-4AF2-AB73-C4130D03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2AE7-9F4A-4DF5-A2D2-5ED5BBED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7E53-C710-494D-9123-D69851FDC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9D78-F203-4C8E-846D-1C73514A8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4DD5-003C-4EFF-BCE2-34C5746D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AC21-474C-4690-8BF8-0E5A519F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7B9B-11E0-4051-AC4F-923A926C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7F8C-1768-4528-833F-00C45BD4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87AA-14CC-4D7E-A10B-F7A3A94C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7CC9-2FA7-4182-AC5F-2BD051D5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7454-E241-462D-B730-7962632E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9888-9EAC-410F-BF65-A80170FDCEC7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5544-7CF4-4542-B4FB-8C23B1949F50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1262160" y="1725480"/>
            <a:ext cx="755784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 Коллективно Творческое Дело» (КТД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едующее направление – совместная внеурочная деятельность (КТД по Иванову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32144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ое планиров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ая подготов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дение де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ый анали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211640" y="1773360"/>
            <a:ext cx="28814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Коллективные де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1628280"/>
            <a:ext cx="6400800" cy="40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3059280" y="1519200"/>
            <a:ext cx="2566800" cy="2851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3"/>
          <a:stretch/>
        </p:blipFill>
        <p:spPr>
          <a:xfrm>
            <a:off x="250920" y="386064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"/>
          <p:cNvPicPr/>
          <p:nvPr/>
        </p:nvPicPr>
        <p:blipFill>
          <a:blip r:embed="rId4"/>
          <a:stretch/>
        </p:blipFill>
        <p:spPr>
          <a:xfrm>
            <a:off x="5076720" y="4265640"/>
            <a:ext cx="3399120" cy="2549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5"/>
          <a:stretch/>
        </p:blipFill>
        <p:spPr>
          <a:xfrm>
            <a:off x="5807160" y="1454040"/>
            <a:ext cx="33019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Наши дости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755640" y="2276280"/>
            <a:ext cx="770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Фото сертификатов и грам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дительские чт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8728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1612800" cy="1581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187200" y="2852640"/>
            <a:ext cx="2562480" cy="3657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5533920" y="1773360"/>
            <a:ext cx="3286080" cy="2592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4"/>
          <a:stretch/>
        </p:blipFill>
        <p:spPr>
          <a:xfrm>
            <a:off x="2749680" y="4365720"/>
            <a:ext cx="319068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Times New Roman"/>
                <a:ea typeface="Calibri"/>
              </a:rPr>
              <a:t>Следующее направление – совместная проектная деятельность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55280" y="1988640"/>
            <a:ext cx="70167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Почему я решила взять – это направлени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о-первых, мне самой эта деятельность очень нрави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о-вторых, это ещё один из действенных путей к сотрудничеств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-третьих, это одна из возможностей научиться понимать мир детства и собственного ребёнка</a:t>
            </a:r>
            <a:r>
              <a:rPr b="0" lang="ru-RU" sz="3200" spc="-1" strike="noStrike">
                <a:solidFill>
                  <a:srgbClr val="e46c0a"/>
                </a:solidFill>
                <a:latin typeface="Times New Roman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333360"/>
            <a:ext cx="16891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ши проек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94920" y="1699920"/>
            <a:ext cx="799308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411280" y="1413000"/>
            <a:ext cx="3097440" cy="1741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3511440" cy="1741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160200" y="777960"/>
            <a:ext cx="2251080" cy="3011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4"/>
          <a:stretch/>
        </p:blipFill>
        <p:spPr>
          <a:xfrm>
            <a:off x="5724360" y="3429000"/>
            <a:ext cx="3405240" cy="2554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5"/>
          <a:stretch/>
        </p:blipFill>
        <p:spPr>
          <a:xfrm>
            <a:off x="2657520" y="2997360"/>
            <a:ext cx="2860560" cy="2144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6"/>
          <a:stretch/>
        </p:blipFill>
        <p:spPr>
          <a:xfrm>
            <a:off x="-108000" y="3693960"/>
            <a:ext cx="3268800" cy="2451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7"/>
          <a:stretch/>
        </p:blipFill>
        <p:spPr>
          <a:xfrm>
            <a:off x="2987640" y="5229360"/>
            <a:ext cx="317016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39880" y="1085760"/>
            <a:ext cx="5689800" cy="41436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3"/>
          <p:cNvSpPr/>
          <p:nvPr/>
        </p:nvSpPr>
        <p:spPr>
          <a:xfrm>
            <a:off x="4288680" y="7488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  <a:ea typeface="Calibri"/>
              </a:rPr>
              <a:t>Классный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2"/>
          <p:cNvSpPr/>
          <p:nvPr/>
        </p:nvSpPr>
        <p:spPr>
          <a:xfrm>
            <a:off x="3936960" y="3706920"/>
            <a:ext cx="1295280" cy="704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000000"/>
                </a:solidFill>
                <a:latin typeface="Calibri"/>
                <a:ea typeface="Calibri"/>
              </a:rPr>
              <a:t>Классный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000000"/>
                </a:solidFill>
                <a:latin typeface="Calibri"/>
                <a:ea typeface="Calibri"/>
              </a:rPr>
              <a:t>руководител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4219560" y="30384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  <a:ea typeface="Calibri"/>
              </a:rPr>
              <a:t>руководител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7"/>
          <p:cNvSpPr/>
          <p:nvPr/>
        </p:nvSpPr>
        <p:spPr>
          <a:xfrm>
            <a:off x="684000" y="194940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яют инициати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8"/>
          <p:cNvSpPr/>
          <p:nvPr/>
        </p:nvSpPr>
        <p:spPr>
          <a:xfrm>
            <a:off x="3556800" y="716040"/>
            <a:ext cx="16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о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9"/>
          <p:cNvSpPr/>
          <p:nvPr/>
        </p:nvSpPr>
        <p:spPr>
          <a:xfrm>
            <a:off x="5947560" y="176364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0"/>
          <p:cNvSpPr/>
          <p:nvPr/>
        </p:nvSpPr>
        <p:spPr>
          <a:xfrm>
            <a:off x="6943680" y="331956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1"/>
          <p:cNvSpPr/>
          <p:nvPr/>
        </p:nvSpPr>
        <p:spPr>
          <a:xfrm>
            <a:off x="693000" y="422604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интересо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2"/>
          <p:cNvSpPr/>
          <p:nvPr/>
        </p:nvSpPr>
        <p:spPr>
          <a:xfrm>
            <a:off x="3714480" y="504504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знатель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547640" y="144360"/>
            <a:ext cx="5796000" cy="6053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2805120" y="5730840"/>
            <a:ext cx="6121440" cy="933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3"/>
          <a:stretch/>
        </p:blipFill>
        <p:spPr>
          <a:xfrm>
            <a:off x="6735600" y="3170160"/>
            <a:ext cx="4816800" cy="959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4"/>
          <a:stretch/>
        </p:blipFill>
        <p:spPr>
          <a:xfrm>
            <a:off x="5865840" y="836640"/>
            <a:ext cx="44625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Рецепт счастья: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0560" y="1600200"/>
            <a:ext cx="5257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«Возьмите чашу терпения, влейте в нее полное сердце любви, добавьте две горсти щедрости, посыпьте добротой, плесните немного юмора и добавьте как можно больше веры. Все это хорошо перемешайте. Намажьте на кусок отпущенной вам жизни и предложите каждому, кого встретите на своем пут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Объект 4" descr="http://content.foto.mail.ru/mail/sinkevich58/_blogs/i-3209.jpg"/>
          <p:cNvPicPr/>
          <p:nvPr/>
        </p:nvPicPr>
        <p:blipFill>
          <a:blip r:embed="rId1"/>
          <a:stretch/>
        </p:blipFill>
        <p:spPr>
          <a:xfrm>
            <a:off x="5435640" y="2060640"/>
            <a:ext cx="3600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08200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форизм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1349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мое сложное в работе с детьми – это работа с их родителями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ЭТО МОИ ДЕ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55640" y="2133720"/>
            <a:ext cx="77040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522360" y="2133720"/>
            <a:ext cx="4626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547640" y="144360"/>
            <a:ext cx="5796000" cy="6053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3022560" y="5729400"/>
            <a:ext cx="6121440" cy="936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7093080" y="2781360"/>
            <a:ext cx="4816440" cy="954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4"/>
          <a:stretch/>
        </p:blipFill>
        <p:spPr>
          <a:xfrm>
            <a:off x="6080040" y="692280"/>
            <a:ext cx="44578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ТЕМА ВЗАИМОДЕЙСТВИЯ С РОДИТЕЛ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1557000"/>
            <a:ext cx="64008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7" name="Рисунок 3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343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25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одительский комитет - эт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86920" y="2276640"/>
            <a:ext cx="72723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режде всего неравнодушные и ответственные люди, которые помогают классному руководителю сплотить класс и организовать внеклассную деятельность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18795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23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Следующее направление – просвещ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94920" y="1773000"/>
            <a:ext cx="7993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spcBef>
                <a:spcPts val="9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Calibri"/>
              </a:rPr>
              <a:t>В этом направлении использую индивидуальные консультации, родительские собрания, на которых пусть небольшое количество времени, но рассматриваю вопросы психологии, педагогики, интерактивное общ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79280" y="74520"/>
            <a:ext cx="20890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Будь в безопасност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26920" y="2133720"/>
            <a:ext cx="78091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листов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Times New Roman"/>
                <a:ea typeface="Calibri"/>
              </a:rPr>
              <a:t>     </a:t>
            </a:r>
            <a:r>
              <a:rPr b="1" lang="ru-RU" sz="4400" spc="-1" strike="noStrike">
                <a:solidFill>
                  <a:srgbClr val="558ed5"/>
                </a:solidFill>
                <a:latin typeface="Times New Roman"/>
                <a:ea typeface="Calibri"/>
              </a:rPr>
              <a:t>Следующее направление – нестандартные родительские собр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99640" y="2060280"/>
            <a:ext cx="7488360" cy="37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Calibri"/>
              </a:rPr>
              <a:t>Вебинары, круглые столы, тренинги, деловые игры, решение жизненных ситуаций, где родители играют роль своих детей и стараются решить проблему с позиции своего ребёнк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232680" y="4917960"/>
            <a:ext cx="291132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2:15:48Z</dcterms:created>
  <dc:creator>Павел</dc:creator>
  <dc:description/>
  <dc:language>en-US</dc:language>
  <cp:lastModifiedBy>Пользователь Windows</cp:lastModifiedBy>
  <dcterms:modified xsi:type="dcterms:W3CDTF">2021-03-10T16:52:21Z</dcterms:modified>
  <cp:revision>49</cp:revision>
  <dc:subject/>
  <dc:title>Название  презентации</dc:title>
</cp:coreProperties>
</file>