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2D2-E2A4-4F88-A6F3-EAF28F7D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191A-1B0F-4523-8693-748321C5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9A2E-854A-4D6F-8157-3C86506B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7EA-29E5-411A-8898-519ED20A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30FB-E7DD-4323-8A85-98D1AEE3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E126-A615-4714-8689-150B1D0E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8715-40FF-4D5D-B793-3DAC5B07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6B51-6354-4472-B604-46262BF0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B4ED-155D-423E-81C7-17E526DC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AC48-C4BE-470C-AA06-2AFC3596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A84A-FC6C-4634-9F0D-D52780EA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AA6-6D5B-4F04-8B04-988D11FD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ED48-CFB3-4090-BDE8-E88FE1E1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8E61-62D1-400F-86D2-6B8098E2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9226-0309-4170-8E47-E14F1E77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9EB9-A408-432A-B441-60E7A1BD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CEC4-ED07-4698-B61E-5E594394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948-0087-407D-8C6F-59B6EC33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21B-E21F-4DCF-88AC-80163114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02B-052C-420F-8ED2-CC9D7F35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9C8-E91C-4D41-9F6A-E94B25BC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D695-BA0C-4C0B-BE62-7C3F0764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528-76D6-4383-B85A-EAB2E274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B1B8-007D-4BB3-8920-C1BDB180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08D9-4AD6-4661-9FFA-B930185C5663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2DFD-47E6-4650-8A03-68E18B78C0DD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262160" y="1725480"/>
            <a:ext cx="7557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Коллективно Творческое Дело» (КТ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е направление – совместная внеурочная деятельность (КТД по Иванов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21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ая подгот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й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28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Коллективн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059280" y="1519200"/>
            <a:ext cx="2566800" cy="285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4"/>
          <a:stretch/>
        </p:blipFill>
        <p:spPr>
          <a:xfrm>
            <a:off x="5076720" y="4265640"/>
            <a:ext cx="3399120" cy="25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5807160" y="1454040"/>
            <a:ext cx="3301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Наш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ото сертификатов и гра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ьские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7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1612800" cy="158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87200" y="2852640"/>
            <a:ext cx="256248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33920" y="1773360"/>
            <a:ext cx="32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2749680" y="4365720"/>
            <a:ext cx="3190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Calibri"/>
              </a:rPr>
              <a:t>Следующее направление – совместная проектная деятельнос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01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чему я решила взять – это направл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первых, мне самой эта деятельность очень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вторых, это ещё один из действенных путей к сотрудни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-третьих, это одна из возможностей научиться понимать мир детства и собственного ребёнка</a:t>
            </a: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68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097440" cy="17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511440" cy="174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60200" y="777960"/>
            <a:ext cx="2251080" cy="301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2657520" y="299736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-108000" y="3693960"/>
            <a:ext cx="326880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3170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39880" y="1085760"/>
            <a:ext cx="568980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4288680" y="74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"/>
          <p:cNvSpPr/>
          <p:nvPr/>
        </p:nvSpPr>
        <p:spPr>
          <a:xfrm>
            <a:off x="3936960" y="3706920"/>
            <a:ext cx="1295280" cy="70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219560" y="303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84000" y="19494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ют инициат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56800" y="71604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947560" y="176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943680" y="33195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93000" y="42260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3714480" y="50450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знат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05120" y="5730840"/>
            <a:ext cx="612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35600" y="3170160"/>
            <a:ext cx="4816800" cy="9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865840" y="836640"/>
            <a:ext cx="4462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цепт счастья: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00200"/>
            <a:ext cx="525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Возьмите чашу терпения, влейте в нее полное сердце любви, добавьте две горсти щедрости, посыпьте добротой, плесните немного юмора и добавьте как можно больше веры. Все это хорошо перемешайте. Намажьте на кусок отпущенной вам жизни и предложите каждому, кого встретите на своем пут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4" descr="http://content.foto.mail.ru/mail/sinkevich58/_blogs/i-3209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8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сложное в работе с детьми –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ЭТО МОИ 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2360" y="2133720"/>
            <a:ext cx="462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022560" y="5729400"/>
            <a:ext cx="6121440" cy="93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481644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80040" y="692280"/>
            <a:ext cx="44578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ЕМА ВЗАИМОДЕЙСТВИЯ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2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ий комитет -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27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ежде всего неравнодушные и ответственные люди, которые помогают классному руководителю сплотить класс и организовать внеклассную деятель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1879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едующее направление – прос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В этом направлении использую индивидуальные консультации, родительские собрания, на которых пусть небольшое количество времени, но рассматриваю вопросы психологии, педагогики, интерактивное об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 в безопасност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809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ис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Следующее направление – нестандартные родительские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Вебинары, круглые столы, тренинги, деловые игры, решение жизненных ситуаций, где родители играют роль своих детей и стараются решить проблему с позиции своего ребё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232680" y="4917960"/>
            <a:ext cx="2911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Пользователь Windows</cp:lastModifiedBy>
  <dcterms:modified xsi:type="dcterms:W3CDTF">2021-03-10T16:52:21Z</dcterms:modified>
  <cp:revision>49</cp:revision>
  <dc:subject/>
  <dc:title>Название  презентации</dc:title>
</cp:coreProperties>
</file>