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570B-C54D-4641-A45E-5F0CD9206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4239-7F03-490A-B0E2-FFE66E2C2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4D59-0D87-4171-93C3-CFAF1FE2E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99D2-7157-4CB9-AE10-B6B9F018C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0831-3759-4A4A-AD97-C0573598E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9973-E0E1-429F-B898-663BD3BDF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8C17-FE1C-48C0-A7B2-45E02ED7D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3F0D-E3B2-4031-BA54-D230F6361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66AF-7E6A-4066-B902-E201D5754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B88D-D957-40C3-87DF-A5D31010A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26BE-55CA-4406-AF70-F2E3C8B2E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ADC7-0019-41B6-A538-2517031FE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63D76-ABBF-48C4-803A-4EC0422047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"/>
          <p:cNvPicPr/>
          <p:nvPr/>
        </p:nvPicPr>
        <p:blipFill>
          <a:blip r:embed="rId1"/>
          <a:srcRect l="4942" t="0" r="0" b="5240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1447920" y="1900080"/>
            <a:ext cx="5715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Организационно-методическое сопровождение реализа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Рабочей программы   воспитания образовательной орган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4"/>
          <p:cNvSpPr/>
          <p:nvPr/>
        </p:nvSpPr>
        <p:spPr>
          <a:xfrm>
            <a:off x="407880" y="63244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Октябрьский 20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2"/>
          <a:srcRect l="25921" t="0" r="23469" b="0"/>
          <a:stretch/>
        </p:blipFill>
        <p:spPr>
          <a:xfrm>
            <a:off x="7066080" y="262080"/>
            <a:ext cx="1244520" cy="161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5" name="Прямоугольник 4"/>
          <p:cNvSpPr/>
          <p:nvPr/>
        </p:nvSpPr>
        <p:spPr>
          <a:xfrm>
            <a:off x="5207760" y="5605560"/>
            <a:ext cx="371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Конькова И.В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директо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МБОУ «Октябрьская СОШ №2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"/>
          <p:cNvPicPr/>
          <p:nvPr/>
        </p:nvPicPr>
        <p:blipFill>
          <a:blip r:embed="rId1"/>
          <a:srcRect l="4942" t="0" r="0" b="5240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1" descr=""/>
          <p:cNvPicPr/>
          <p:nvPr/>
        </p:nvPicPr>
        <p:blipFill>
          <a:blip r:embed="rId2"/>
          <a:srcRect l="0" t="0" r="1310" b="2698"/>
          <a:stretch/>
        </p:blipFill>
        <p:spPr>
          <a:xfrm>
            <a:off x="0" y="223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3"/>
          <a:srcRect l="25921" t="0" r="23469" b="0"/>
          <a:stretch/>
        </p:blipFill>
        <p:spPr>
          <a:xfrm>
            <a:off x="7577280" y="281160"/>
            <a:ext cx="1068120" cy="13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9" name="Рисунок 9" descr=""/>
          <p:cNvPicPr/>
          <p:nvPr/>
        </p:nvPicPr>
        <p:blipFill>
          <a:blip r:embed="rId4"/>
          <a:stretch/>
        </p:blipFill>
        <p:spPr>
          <a:xfrm>
            <a:off x="6149880" y="1981080"/>
            <a:ext cx="2722680" cy="2971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https://img2.freepng.ru/20171202/434/team-picture-5a2264f1a924e7.0452620615122035056928.jpg"/>
          <p:cNvPicPr/>
          <p:nvPr/>
        </p:nvPicPr>
        <p:blipFill>
          <a:blip r:embed="rId5"/>
          <a:srcRect l="15969" t="0" r="18001" b="8661"/>
          <a:stretch/>
        </p:blipFill>
        <p:spPr>
          <a:xfrm>
            <a:off x="6507000" y="2514600"/>
            <a:ext cx="2138400" cy="217008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8"/>
          <p:cNvSpPr/>
          <p:nvPr/>
        </p:nvSpPr>
        <p:spPr>
          <a:xfrm>
            <a:off x="274680" y="1087560"/>
            <a:ext cx="580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Генри Форд: «Собраться вместе - есть начало. Держаться вместе - есть прогрес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Работать вместе - есть успех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726FC-176F-42B1-8D8F-8ABAA710F5C2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434880" y="2133720"/>
            <a:ext cx="6072120" cy="50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1.Организационно-координационная помощ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внесение изменений в организационную структуру методического сопровож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Было: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предметные ШМО, проблемные групп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Измене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+ рабочие группы по реализации модулей, отдельные кураторы моду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+ в состав групп входят педагоги, узкие специалисты, ученики, родители, привлекаемые соц.партне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"/>
          <p:cNvSpPr/>
          <p:nvPr/>
        </p:nvSpPr>
        <p:spPr>
          <a:xfrm>
            <a:off x="274680" y="515880"/>
            <a:ext cx="767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Сопровождение = взаимодействие + помо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" descr=""/>
          <p:cNvPicPr/>
          <p:nvPr/>
        </p:nvPicPr>
        <p:blipFill>
          <a:blip r:embed="rId1"/>
          <a:srcRect l="0" t="0" r="1310" b="2698"/>
          <a:stretch/>
        </p:blipFill>
        <p:spPr>
          <a:xfrm>
            <a:off x="0" y="223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rcRect l="25921" t="0" r="23469" b="0"/>
          <a:stretch/>
        </p:blipFill>
        <p:spPr>
          <a:xfrm>
            <a:off x="7870680" y="228600"/>
            <a:ext cx="993960" cy="1293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7" name="Объект 2"/>
          <p:cNvSpPr/>
          <p:nvPr/>
        </p:nvSpPr>
        <p:spPr>
          <a:xfrm>
            <a:off x="198360" y="865080"/>
            <a:ext cx="83059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Группа по реализации модуля «Классное руководство»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– МО классных руководителей и зам.директора по В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Группа по реализации модуля «Школьный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урок»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- руководители предметных ШМ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Группа по реализации модуля «Работа с родителями» и «Линия жизни(система профилактики)» -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узкие специалисты, родители, отдельные педагог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Группа по реализации модуля «Самоуправление» и «Школьные медиа»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– зам.директора по ВР, педагог-организатор, ученики-активис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«Профориентация» – отдельный кура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6" descr=""/>
          <p:cNvPicPr/>
          <p:nvPr/>
        </p:nvPicPr>
        <p:blipFill>
          <a:blip r:embed="rId3"/>
          <a:stretch/>
        </p:blipFill>
        <p:spPr>
          <a:xfrm>
            <a:off x="6477120" y="4267080"/>
            <a:ext cx="2216160" cy="26179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8"/>
          <p:cNvSpPr/>
          <p:nvPr/>
        </p:nvSpPr>
        <p:spPr>
          <a:xfrm>
            <a:off x="6510240" y="4853160"/>
            <a:ext cx="199404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Функционал группы описан в Программе, направления работы и мероприятия – в КТ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7E006-EE84-4838-B757-4D7875BDC8F3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8"/>
          <p:cNvSpPr/>
          <p:nvPr/>
        </p:nvSpPr>
        <p:spPr>
          <a:xfrm>
            <a:off x="533520" y="228600"/>
            <a:ext cx="53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Примерный состав групп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8"/>
          <p:cNvSpPr/>
          <p:nvPr/>
        </p:nvSpPr>
        <p:spPr>
          <a:xfrm>
            <a:off x="304920" y="4829040"/>
            <a:ext cx="6629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Проблема: </a:t>
            </a:r>
            <a:r>
              <a:rPr b="1" i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нет четкого алгоритма действий, готового чек-листа работы группы по реализации моду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Решение: </a:t>
            </a:r>
            <a:r>
              <a:rPr b="1" i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информационное сопрово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1" descr=""/>
          <p:cNvPicPr/>
          <p:nvPr/>
        </p:nvPicPr>
        <p:blipFill>
          <a:blip r:embed="rId1"/>
          <a:srcRect l="4942" t="0" r="0" b="5240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" descr=""/>
          <p:cNvPicPr/>
          <p:nvPr/>
        </p:nvPicPr>
        <p:blipFill>
          <a:blip r:embed="rId2"/>
          <a:srcRect l="0" t="0" r="1310" b="2698"/>
          <a:stretch/>
        </p:blipFill>
        <p:spPr>
          <a:xfrm>
            <a:off x="0" y="223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"/>
          <p:cNvPicPr/>
          <p:nvPr/>
        </p:nvPicPr>
        <p:blipFill>
          <a:blip r:embed="rId3"/>
          <a:srcRect l="25921" t="0" r="23469" b="0"/>
          <a:stretch/>
        </p:blipFill>
        <p:spPr>
          <a:xfrm>
            <a:off x="7577280" y="281160"/>
            <a:ext cx="1068120" cy="13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6" name="Рисунок 9" descr=""/>
          <p:cNvPicPr/>
          <p:nvPr/>
        </p:nvPicPr>
        <p:blipFill>
          <a:blip r:embed="rId4"/>
          <a:stretch/>
        </p:blipFill>
        <p:spPr>
          <a:xfrm>
            <a:off x="6149880" y="1981080"/>
            <a:ext cx="2722680" cy="2971800"/>
          </a:xfrm>
          <a:prstGeom prst="rect">
            <a:avLst/>
          </a:prstGeom>
          <a:ln w="0">
            <a:noFill/>
          </a:ln>
        </p:spPr>
      </p:pic>
      <p:sp>
        <p:nvSpPr>
          <p:cNvPr id="67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17238-5049-4BA7-9FA5-D5CBCFEF099A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"/>
          <p:cNvSpPr/>
          <p:nvPr/>
        </p:nvSpPr>
        <p:spPr>
          <a:xfrm>
            <a:off x="304920" y="609480"/>
            <a:ext cx="6072120" cy="44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2.Информационно-методическое  сопровождение и Обучающая помо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Сбор, обработка, накопление и использование информ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Было: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семинары, пед.советы, консульт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Использовать чащ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+ практические совещания, деловые иг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+ создание банка ид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+ анализ и трансформация имеющихся нарабо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5"/>
          <a:srcRect l="8062" t="19342" r="65126" b="8626"/>
          <a:stretch/>
        </p:blipFill>
        <p:spPr>
          <a:xfrm>
            <a:off x="6767640" y="2638440"/>
            <a:ext cx="1533240" cy="231444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6" descr=""/>
          <p:cNvPicPr/>
          <p:nvPr/>
        </p:nvPicPr>
        <p:blipFill>
          <a:blip r:embed="rId6"/>
          <a:stretch/>
        </p:blipFill>
        <p:spPr>
          <a:xfrm>
            <a:off x="349200" y="4484520"/>
            <a:ext cx="2600280" cy="195120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7" descr=""/>
          <p:cNvPicPr/>
          <p:nvPr/>
        </p:nvPicPr>
        <p:blipFill>
          <a:blip r:embed="rId7"/>
          <a:srcRect l="5441" t="17594" r="5139" b="2692"/>
          <a:stretch/>
        </p:blipFill>
        <p:spPr>
          <a:xfrm>
            <a:off x="6005520" y="4484520"/>
            <a:ext cx="2867040" cy="191160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11" descr=""/>
          <p:cNvPicPr/>
          <p:nvPr/>
        </p:nvPicPr>
        <p:blipFill>
          <a:blip r:embed="rId8"/>
          <a:srcRect l="12147" t="0" r="18098" b="32230"/>
          <a:stretch/>
        </p:blipFill>
        <p:spPr>
          <a:xfrm>
            <a:off x="3124080" y="4484520"/>
            <a:ext cx="266220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1" descr=""/>
          <p:cNvPicPr/>
          <p:nvPr/>
        </p:nvPicPr>
        <p:blipFill>
          <a:blip r:embed="rId1"/>
          <a:srcRect l="0" t="0" r="1310" b="269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rcRect l="25921" t="0" r="23469" b="0"/>
          <a:stretch/>
        </p:blipFill>
        <p:spPr>
          <a:xfrm>
            <a:off x="7577280" y="281160"/>
            <a:ext cx="1068120" cy="13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5" name="Рисунок 9" descr=""/>
          <p:cNvPicPr/>
          <p:nvPr/>
        </p:nvPicPr>
        <p:blipFill>
          <a:blip r:embed="rId3"/>
          <a:stretch/>
        </p:blipFill>
        <p:spPr>
          <a:xfrm>
            <a:off x="6149880" y="1981080"/>
            <a:ext cx="2722680" cy="2971800"/>
          </a:xfrm>
          <a:prstGeom prst="rect">
            <a:avLst/>
          </a:prstGeom>
          <a:ln w="0">
            <a:noFill/>
          </a:ln>
        </p:spPr>
      </p:pic>
      <p:sp>
        <p:nvSpPr>
          <p:cNvPr id="76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E4EA1-0E4A-45B4-A54E-294007914BCE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"/>
          <p:cNvSpPr/>
          <p:nvPr/>
        </p:nvSpPr>
        <p:spPr>
          <a:xfrm>
            <a:off x="203040" y="1176480"/>
            <a:ext cx="6274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3. Психологическая помо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Реализация Программы – совместная деятельность всего коллектив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Перегрузка дополнительной деятельностью            выгорание, апа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Поддержка, взаимопомощь           успе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Директор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– основной держатель курса Программы (скорая психологическая, мотивационная, координационная, контролирующая, аналитическая помощ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8"/>
          <p:cNvSpPr/>
          <p:nvPr/>
        </p:nvSpPr>
        <p:spPr>
          <a:xfrm>
            <a:off x="171360" y="35712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Проблема: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мотив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Решение: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8"/>
          <p:cNvSpPr/>
          <p:nvPr/>
        </p:nvSpPr>
        <p:spPr>
          <a:xfrm>
            <a:off x="6553080" y="2784600"/>
            <a:ext cx="199404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Нельзя возлагать всю работу по реализации на заместителя директора по ВР и единичных педагог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Прямая со стрелкой 2"/>
          <p:cNvCxnSpPr/>
          <p:nvPr/>
        </p:nvCxnSpPr>
        <p:spPr>
          <a:xfrm>
            <a:off x="2590920" y="3200040"/>
            <a:ext cx="762480" cy="1080"/>
          </a:xfrm>
          <a:prstGeom prst="straightConnector1">
            <a:avLst/>
          </a:prstGeom>
          <a:ln w="25560">
            <a:solidFill>
              <a:srgbClr val="161645"/>
            </a:solidFill>
            <a:miter/>
            <a:tailEnd len="med" type="arrow" w="med"/>
          </a:ln>
        </p:spPr>
      </p:cxnSp>
      <p:cxnSp>
        <p:nvCxnSpPr>
          <p:cNvPr id="81" name="Прямая со стрелкой 19"/>
          <p:cNvCxnSpPr/>
          <p:nvPr/>
        </p:nvCxnSpPr>
        <p:spPr>
          <a:xfrm>
            <a:off x="4289040" y="3951000"/>
            <a:ext cx="762840" cy="1080"/>
          </a:xfrm>
          <a:prstGeom prst="straightConnector1">
            <a:avLst/>
          </a:prstGeom>
          <a:ln w="25560">
            <a:solidFill>
              <a:srgbClr val="161645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1" descr=""/>
          <p:cNvPicPr/>
          <p:nvPr/>
        </p:nvPicPr>
        <p:blipFill>
          <a:blip r:embed="rId1"/>
          <a:srcRect l="0" t="0" r="1310" b="269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rcRect l="25921" t="0" r="23469" b="0"/>
          <a:stretch/>
        </p:blipFill>
        <p:spPr>
          <a:xfrm>
            <a:off x="7577280" y="281160"/>
            <a:ext cx="1068120" cy="13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4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321CA-B121-4E6B-AB9C-71DEBC91D4B6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281160" y="414360"/>
            <a:ext cx="8862840" cy="62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4. Проектировочная помо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Оформление необходимых Л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Примерная документац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Стратегические документы (Внесение изменений в образовательную программу организации, Программу развития образовательной организации и т.д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Программы и Положения отдельных модулей и технологии их реализ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Методические документы, обеспечивающие реализацию Программы, ее виды деятельности (планы, технологические карты, формы отчетов, и т.п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Технологии осуществления процедур аналитической деятельности (диагностический инструментари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Наиболее продуктивные методы и приемы обучения (накопительный банк разработок, презентаций, сценариев мероприятий по различным модуля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1" descr=""/>
          <p:cNvPicPr/>
          <p:nvPr/>
        </p:nvPicPr>
        <p:blipFill>
          <a:blip r:embed="rId1"/>
          <a:srcRect l="0" t="0" r="1310" b="269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rcRect l="25921" t="0" r="23469" b="0"/>
          <a:stretch/>
        </p:blipFill>
        <p:spPr>
          <a:xfrm>
            <a:off x="7577280" y="281160"/>
            <a:ext cx="1068120" cy="13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8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9F961-C1AD-44C2-9218-C935EBCBF38D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247680" y="1673280"/>
            <a:ext cx="88628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правление анализа: состояние организуемой в школе совместной деятельности детей и взрослы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Уникальный инструментарий (разработки школы относительно анализируемых модулей и особенностей Программ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правление анализа:  оценивания результатов воспитания, социализации и саморазвития школь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???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Нужны </a:t>
            </a: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единые критерии оценки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воспитательной работы для всех образовательных организаций (по типу создания единой примерной программы), чтобы процедура анализа также была единой и прозрачной, а также это может предотвратить искажение данных об обучающихся при переходе из одной образовательной организации в другу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8"/>
          <p:cNvSpPr/>
          <p:nvPr/>
        </p:nvSpPr>
        <p:spPr>
          <a:xfrm>
            <a:off x="171360" y="26676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Проблема: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разработка аналитического диагностического инструмента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Решение: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9F292-9BCE-4AA7-96A3-2B7D8FBC73B2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3" descr=""/>
          <p:cNvPicPr/>
          <p:nvPr/>
        </p:nvPicPr>
        <p:blipFill>
          <a:blip r:embed="rId1"/>
          <a:srcRect l="0" t="0" r="1310" b="2698"/>
          <a:stretch/>
        </p:blipFill>
        <p:spPr>
          <a:xfrm>
            <a:off x="0" y="22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Box 10"/>
          <p:cNvSpPr/>
          <p:nvPr/>
        </p:nvSpPr>
        <p:spPr>
          <a:xfrm>
            <a:off x="1676520" y="1617840"/>
            <a:ext cx="421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1645"/>
                </a:solidFill>
                <a:latin typeface="Arial"/>
              </a:rPr>
              <a:t>УСПЕШ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1"/>
          <p:cNvSpPr/>
          <p:nvPr/>
        </p:nvSpPr>
        <p:spPr>
          <a:xfrm>
            <a:off x="1371600" y="10429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  <a:ea typeface="Arial"/>
              </a:rPr>
              <a:t>УВА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16" descr=""/>
          <p:cNvPicPr/>
          <p:nvPr/>
        </p:nvPicPr>
        <p:blipFill>
          <a:blip r:embed="rId2"/>
          <a:stretch/>
        </p:blipFill>
        <p:spPr>
          <a:xfrm>
            <a:off x="6946920" y="2427120"/>
            <a:ext cx="1133280" cy="94140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2" descr="C:\Users\Int\Desktop\ФОТО 17-18 год\фотографии школы 16-17г\Фотографии 2016-2017 уч.год\старшее звено\День матери\PB240059.JPG"/>
          <p:cNvPicPr/>
          <p:nvPr/>
        </p:nvPicPr>
        <p:blipFill>
          <a:blip r:embed="rId3"/>
          <a:srcRect l="0" t="27611" r="0" b="0"/>
          <a:stretch/>
        </p:blipFill>
        <p:spPr>
          <a:xfrm rot="21141600">
            <a:off x="4635360" y="314280"/>
            <a:ext cx="2351160" cy="1349280"/>
          </a:xfrm>
          <a:prstGeom prst="rect">
            <a:avLst/>
          </a:prstGeom>
          <a:ln w="0">
            <a:noFill/>
          </a:ln>
        </p:spPr>
      </p:pic>
      <p:sp>
        <p:nvSpPr>
          <p:cNvPr id="98" name="TextBox 4"/>
          <p:cNvSpPr/>
          <p:nvPr/>
        </p:nvSpPr>
        <p:spPr>
          <a:xfrm>
            <a:off x="228600" y="6245280"/>
            <a:ext cx="437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Вместе – мы сил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4"/>
          <a:srcRect l="25921" t="0" r="23469" b="0"/>
          <a:stretch/>
        </p:blipFill>
        <p:spPr>
          <a:xfrm>
            <a:off x="7026120" y="324000"/>
            <a:ext cx="993960" cy="1293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0" name="TextBox 9"/>
          <p:cNvSpPr/>
          <p:nvPr/>
        </p:nvSpPr>
        <p:spPr>
          <a:xfrm>
            <a:off x="457200" y="343080"/>
            <a:ext cx="524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Arial"/>
                <a:ea typeface="Arial"/>
              </a:rPr>
              <a:t>СОТРУДНИЧЕ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C:\Users\fedor\OneDrive\Документы\Ирина_с августа 2019\фото_школа\районны правовой турнир.jpg"/>
          <p:cNvPicPr/>
          <p:nvPr/>
        </p:nvPicPr>
        <p:blipFill>
          <a:blip r:embed="rId5"/>
          <a:srcRect l="0" t="0" r="12524" b="0"/>
          <a:stretch/>
        </p:blipFill>
        <p:spPr>
          <a:xfrm>
            <a:off x="423720" y="4538520"/>
            <a:ext cx="2487600" cy="1600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C:\Users\fedor\OneDrive\Документы\Ирина_с августа 2019\фото_школа\Краевой форум Новое поколение.jpg"/>
          <p:cNvPicPr/>
          <p:nvPr/>
        </p:nvPicPr>
        <p:blipFill>
          <a:blip r:embed="rId6"/>
          <a:srcRect l="17231" t="0" r="9873" b="0"/>
          <a:stretch/>
        </p:blipFill>
        <p:spPr>
          <a:xfrm rot="382800">
            <a:off x="5934240" y="2700000"/>
            <a:ext cx="2852640" cy="2371680"/>
          </a:xfrm>
          <a:prstGeom prst="rect">
            <a:avLst/>
          </a:prstGeom>
          <a:ln w="0">
            <a:noFill/>
          </a:ln>
        </p:spPr>
      </p:pic>
      <p:sp>
        <p:nvSpPr>
          <p:cNvPr id="103" name="TextBox 8"/>
          <p:cNvSpPr/>
          <p:nvPr/>
        </p:nvSpPr>
        <p:spPr>
          <a:xfrm rot="5400000">
            <a:off x="5487840" y="3407400"/>
            <a:ext cx="58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  <a:ea typeface="Arial"/>
              </a:rPr>
              <a:t>ПЕРСПЕКТИВ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Рисунок 11" descr="C:\Users\Int\Desktop\ФОТО 17-18 год\Фото 01.12\PB300065.JPG"/>
          <p:cNvPicPr/>
          <p:nvPr/>
        </p:nvPicPr>
        <p:blipFill>
          <a:blip r:embed="rId7"/>
          <a:stretch/>
        </p:blipFill>
        <p:spPr>
          <a:xfrm>
            <a:off x="5897520" y="5086440"/>
            <a:ext cx="2336760" cy="162072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5" descr=""/>
          <p:cNvPicPr/>
          <p:nvPr/>
        </p:nvPicPr>
        <p:blipFill>
          <a:blip r:embed="rId8"/>
          <a:stretch/>
        </p:blipFill>
        <p:spPr>
          <a:xfrm>
            <a:off x="582480" y="2465280"/>
            <a:ext cx="2297160" cy="171936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4" descr=""/>
          <p:cNvPicPr/>
          <p:nvPr/>
        </p:nvPicPr>
        <p:blipFill>
          <a:blip r:embed="rId9"/>
          <a:srcRect l="0" t="5262" r="0" b="8069"/>
          <a:stretch/>
        </p:blipFill>
        <p:spPr>
          <a:xfrm>
            <a:off x="2489040" y="4035600"/>
            <a:ext cx="3759480" cy="2211120"/>
          </a:xfrm>
          <a:prstGeom prst="rect">
            <a:avLst/>
          </a:prstGeom>
          <a:ln w="0">
            <a:noFill/>
          </a:ln>
        </p:spPr>
      </p:pic>
      <p:sp>
        <p:nvSpPr>
          <p:cNvPr id="107" name="TextBox 5"/>
          <p:cNvSpPr/>
          <p:nvPr/>
        </p:nvSpPr>
        <p:spPr>
          <a:xfrm>
            <a:off x="1600200" y="2743200"/>
            <a:ext cx="594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Calibri"/>
              </a:rPr>
              <a:t>Программа воспита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Calibri"/>
              </a:rPr>
              <a:t>МБОУ «Октябрьская СОШ №2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5"/>
          <p:cNvSpPr/>
          <p:nvPr/>
        </p:nvSpPr>
        <p:spPr>
          <a:xfrm>
            <a:off x="1219320" y="2666880"/>
            <a:ext cx="6629400" cy="1219320"/>
          </a:xfrm>
          <a:prstGeom prst="ellipse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3"/>
          <p:cNvSpPr/>
          <p:nvPr/>
        </p:nvSpPr>
        <p:spPr>
          <a:xfrm>
            <a:off x="1986120" y="2158920"/>
            <a:ext cx="373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00"/>
                </a:solidFill>
                <a:latin typeface="Arial"/>
                <a:ea typeface="Arial"/>
              </a:rPr>
              <a:t>УНИКА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7"/>
          <p:cNvSpPr/>
          <p:nvPr/>
        </p:nvSpPr>
        <p:spPr>
          <a:xfrm rot="16200000">
            <a:off x="-1515600" y="2504880"/>
            <a:ext cx="419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Arial"/>
                <a:ea typeface="Arial"/>
              </a:rPr>
              <a:t>ТВОРЧЕ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3-23T15:04:49Z</dcterms:created>
  <dc:creator>Федор KoFSar</dc:creator>
  <dc:description/>
  <dc:language>en-US</dc:language>
  <cp:lastModifiedBy>1</cp:lastModifiedBy>
  <dcterms:modified xsi:type="dcterms:W3CDTF">2021-09-29T07:13:07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