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35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3.png" ContentType="image/png"/>
  <Override PartName="/ppt/media/image20.png" ContentType="image/png"/>
  <Override PartName="/ppt/media/image36.jpeg" ContentType="image/jpeg"/>
  <Override PartName="/ppt/media/image12.png" ContentType="image/png"/>
  <Override PartName="/ppt/media/image32.wmf" ContentType="image/x-wmf"/>
  <Override PartName="/ppt/media/image30.jpeg" ContentType="image/jpeg"/>
  <Override PartName="/ppt/media/image37.jpeg" ContentType="image/jpeg"/>
  <Override PartName="/ppt/media/image33.wmf" ContentType="image/x-wmf"/>
  <Override PartName="/ppt/media/image13.png" ContentType="image/png"/>
  <Override PartName="/ppt/media/image41.jpeg" ContentType="image/jpeg"/>
  <Override PartName="/ppt/media/image42.jpeg" ContentType="image/jpeg"/>
  <Override PartName="/ppt/media/image9.wmf" ContentType="image/x-wmf"/>
  <Override PartName="/ppt/media/image14.png" ContentType="image/png"/>
  <Override PartName="/ppt/media/image43.jpeg" ContentType="image/jpeg"/>
  <Override PartName="/ppt/media/image44.jpeg" ContentType="image/jpeg"/>
  <Override PartName="/ppt/media/image40.jpeg" ContentType="image/jpeg"/>
  <Override PartName="/ppt/media/image45.wmf" ContentType="image/x-wmf"/>
  <Override PartName="/ppt/media/image2.png" ContentType="image/png"/>
  <Override PartName="/ppt/media/image46.wmf" ContentType="image/x-wmf"/>
  <Override PartName="/ppt/media/image48.jpeg" ContentType="image/jpeg"/>
  <Override PartName="/ppt/media/image39.jpeg" ContentType="image/jpeg"/>
  <Override PartName="/ppt/media/image8.jpeg" ContentType="image/jpeg"/>
  <Override PartName="/ppt/media/image5.wmf" ContentType="image/x-wmf"/>
  <Override PartName="/ppt/media/image18.png" ContentType="image/png"/>
  <Override PartName="/ppt/media/image6.jpeg" ContentType="image/jpeg"/>
  <Override PartName="/ppt/media/image11.png" ContentType="image/png"/>
  <Override PartName="/ppt/media/image29.wmf" ContentType="image/x-wmf"/>
  <Override PartName="/ppt/media/image31.jpeg" ContentType="image/jpeg"/>
  <Override PartName="/ppt/media/image10.wmf" ContentType="image/x-wmf"/>
  <Override PartName="/ppt/media/image47.wmf" ContentType="image/x-wmf"/>
  <Override PartName="/ppt/media/image38.jpeg" ContentType="image/jpe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D227-6EC2-4ED3-8ADC-CF73621E0E2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750D-6F86-4703-9722-86E8847AF051}" type="slidenum">
              <a:rPr b="0" lang="ru-RU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6538-3080-45B2-858C-05D149B4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8858-421F-497D-B590-F3F76DA2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B869-6AE2-4CB4-9248-BFE230EF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F862-9C3A-4DD7-B641-6B6F1135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3298-6E62-468D-9526-DB897308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27F4-8064-4F3B-BCF8-F39206F4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B3EF-4F9D-4782-BEE0-BF815991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D9F4-A120-42BB-9324-C978CAD7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CC52-7D58-42A8-8AF4-4B1F37BA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A1B5-A867-4C99-8949-092CDDA7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3154-43F2-4F83-98C6-07A8FDF7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E6F4-28D3-4149-A999-83A8C9D2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2D1A-B36E-47BE-88E1-928CD189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5DE9-A89E-4565-B4F1-FA15EED6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5FBD-F2F0-48FB-940C-EAC8550D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0FEE-A83B-45B9-9B50-0DA93C66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9FDB-8434-4A54-8630-5DBF1E17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5B64-3D6F-4607-B854-EE98573F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66A0-46FF-4D6B-BFA3-7094DD0F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A779-1C5F-4AFF-BD42-5295C04A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D2A4-0ADD-4199-BDB4-DE9FC906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7D14-961E-402A-891B-58F16BFD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4205-EBF1-4465-85CB-CF7C251C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D3D8-3147-4005-A513-12265B06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3440" cy="1141200"/>
                  <a:chOff x="7833960" y="843120"/>
                  <a:chExt cx="106344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59800" y="1133640"/>
                    <a:ext cx="8866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8160" y="1604520"/>
                    <a:ext cx="4698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240"/>
                  <a:chOff x="7852320" y="657720"/>
                  <a:chExt cx="122364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9200"/>
                    <a:ext cx="42516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4240" cy="326880"/>
                  <a:chOff x="7845840" y="419760"/>
                  <a:chExt cx="98424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720"/>
                    <a:ext cx="6339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5840" y="456120"/>
                    <a:ext cx="338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6120"/>
                  <a:ext cx="1062360" cy="1142280"/>
                  <a:chOff x="6539040" y="906120"/>
                  <a:chExt cx="106236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360" y="1195200"/>
                    <a:ext cx="8802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000"/>
                    <a:ext cx="47160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480" y="930600"/>
                  <a:ext cx="915120" cy="1247400"/>
                  <a:chOff x="6711480" y="930600"/>
                  <a:chExt cx="915120" cy="12474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3320" y="1260360"/>
                    <a:ext cx="894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760"/>
                    <a:ext cx="47340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560"/>
                  <a:ext cx="618840" cy="1247760"/>
                  <a:chOff x="7014960" y="979560"/>
                  <a:chExt cx="618840" cy="124776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7240" y="1312200"/>
                    <a:ext cx="8276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240" cy="1217160"/>
                  <a:chOff x="7312320" y="1001160"/>
                  <a:chExt cx="363240" cy="121716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0760" y="187812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5160" y="1352880"/>
                    <a:ext cx="8240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9160" y="1404720"/>
                    <a:ext cx="74448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6560" y="1927080"/>
                    <a:ext cx="3988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5649-F369-471D-8B56-6150911AC0FE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4800"/>
            <a:ext cx="6895800" cy="5452200"/>
            <a:chOff x="2011320" y="24480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4800"/>
              <a:ext cx="6895800" cy="5452200"/>
              <a:chOff x="2011320" y="24480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4800"/>
                <a:ext cx="6890760" cy="5452200"/>
                <a:chOff x="2011320" y="24480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160"/>
                    <a:ext cx="71244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4800"/>
                  <a:ext cx="6890760" cy="5452200"/>
                  <a:chOff x="2011320" y="24480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58200" y="2323440"/>
                    <a:ext cx="2563200" cy="2739240"/>
                    <a:chOff x="5758200" y="2323440"/>
                    <a:chExt cx="2563200" cy="27392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0000" y="3022920"/>
                      <a:ext cx="21333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3040" y="4142520"/>
                      <a:ext cx="11426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8440" y="2148480"/>
                    <a:ext cx="3038400" cy="2529000"/>
                    <a:chOff x="5788440" y="2148480"/>
                    <a:chExt cx="3038400" cy="25290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840"/>
                      <a:ext cx="2235600" cy="42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23120"/>
                      <a:ext cx="1200960" cy="67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4240"/>
                    <a:ext cx="3097440" cy="1992600"/>
                    <a:chOff x="5774760" y="2064240"/>
                    <a:chExt cx="309744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840"/>
                      <a:ext cx="1149120" cy="58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4400"/>
                    <a:ext cx="2658960" cy="444960"/>
                    <a:chOff x="5851080" y="181440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500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800" y="1304640"/>
                    <a:ext cx="2364120" cy="785520"/>
                    <a:chOff x="5788800" y="1304640"/>
                    <a:chExt cx="236412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4200"/>
                      <a:ext cx="152028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9160"/>
                    <a:ext cx="3133800" cy="1607400"/>
                    <a:chOff x="2011320" y="2189160"/>
                    <a:chExt cx="3133800" cy="160740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3040"/>
                      <a:ext cx="111060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6960"/>
                    <a:ext cx="2323440" cy="1082160"/>
                    <a:chOff x="2887920" y="1236960"/>
                    <a:chExt cx="2323440" cy="10821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5600"/>
                      <a:ext cx="152028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70880"/>
                      <a:ext cx="816120" cy="41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600"/>
                    <a:ext cx="2169720" cy="1506960"/>
                    <a:chOff x="3161160" y="831600"/>
                    <a:chExt cx="2169720" cy="150696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4000"/>
                      <a:ext cx="1520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312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520" y="244800"/>
                    <a:ext cx="1123560" cy="1946880"/>
                    <a:chOff x="4448520" y="244800"/>
                    <a:chExt cx="1123560" cy="194688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160" y="1400400"/>
                      <a:ext cx="13100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9000" y="438120"/>
                      <a:ext cx="7009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240" y="1523880"/>
                      <a:ext cx="151992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1040" y="387720"/>
                    <a:ext cx="1889280" cy="1795320"/>
                    <a:chOff x="5351040" y="387720"/>
                    <a:chExt cx="1889280" cy="17953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1680" y="1386360"/>
                      <a:ext cx="1422360" cy="33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788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160" y="2650320"/>
                    <a:ext cx="1482480" cy="2999160"/>
                    <a:chOff x="3791160" y="2650320"/>
                    <a:chExt cx="1482480" cy="299916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240" y="3441240"/>
                      <a:ext cx="1967040" cy="38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4720" y="4742640"/>
                      <a:ext cx="1055160" cy="60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000" y="3485880"/>
                      <a:ext cx="1888200" cy="34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9120" y="2593440"/>
                    <a:ext cx="1753920" cy="3030480"/>
                    <a:chOff x="5649120" y="2593440"/>
                    <a:chExt cx="1753920" cy="30304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6800" y="3394800"/>
                      <a:ext cx="203256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20680"/>
                      <a:ext cx="1088640" cy="57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1160"/>
                    <a:ext cx="1227240" cy="2985840"/>
                    <a:chOff x="5576400" y="2711160"/>
                    <a:chExt cx="1227240" cy="298584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2760"/>
                      <a:ext cx="1971720" cy="30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600" y="4881960"/>
                      <a:ext cx="105912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680" y="2837520"/>
                    <a:ext cx="695880" cy="2780280"/>
                    <a:chOff x="5521680" y="2837520"/>
                    <a:chExt cx="695880" cy="27802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4320"/>
                      <a:ext cx="1812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6840"/>
                    <a:ext cx="666000" cy="2717280"/>
                    <a:chOff x="4961160" y="2886840"/>
                    <a:chExt cx="666000" cy="271728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920" y="3666240"/>
                      <a:ext cx="1773720" cy="2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3480" y="4933800"/>
                      <a:ext cx="950040" cy="35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4280"/>
                    <a:ext cx="3166560" cy="252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0320"/>
                    <a:ext cx="175824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1480"/>
                    <a:ext cx="228276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240"/>
                    <a:ext cx="94068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04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B3C5-C802-41E9-9403-E3CD3C22FAC0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5" descr="Изображение 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7" name="Объект 2" descr=""/>
          <p:cNvPicPr/>
          <p:nvPr/>
        </p:nvPicPr>
        <p:blipFill>
          <a:blip r:embed="rId1"/>
          <a:stretch/>
        </p:blipFill>
        <p:spPr>
          <a:xfrm>
            <a:off x="493560" y="865080"/>
            <a:ext cx="8156880" cy="52308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Resultado de imagen para cauldron clipart png"/>
          <p:cNvPicPr/>
          <p:nvPr/>
        </p:nvPicPr>
        <p:blipFill>
          <a:blip r:embed="rId2"/>
          <a:stretch/>
        </p:blipFill>
        <p:spPr>
          <a:xfrm>
            <a:off x="2670120" y="3687840"/>
            <a:ext cx="183528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0" name="Объект 2" descr=""/>
          <p:cNvPicPr/>
          <p:nvPr/>
        </p:nvPicPr>
        <p:blipFill>
          <a:blip r:embed="rId1"/>
          <a:stretch/>
        </p:blipFill>
        <p:spPr>
          <a:xfrm>
            <a:off x="493560" y="1011240"/>
            <a:ext cx="8156880" cy="5084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Resultado de imagen para witch hat clipart png"/>
          <p:cNvPicPr/>
          <p:nvPr/>
        </p:nvPicPr>
        <p:blipFill>
          <a:blip r:embed="rId2"/>
          <a:stretch/>
        </p:blipFill>
        <p:spPr>
          <a:xfrm>
            <a:off x="5979960" y="2962440"/>
            <a:ext cx="2268720" cy="22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3" name="Объект 2" descr=""/>
          <p:cNvPicPr/>
          <p:nvPr/>
        </p:nvPicPr>
        <p:blipFill>
          <a:blip r:embed="rId1"/>
          <a:stretch/>
        </p:blipFill>
        <p:spPr>
          <a:xfrm>
            <a:off x="493560" y="1079640"/>
            <a:ext cx="7967880" cy="5016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Resultado de imagen para candies halloween clipart png"/>
          <p:cNvPicPr/>
          <p:nvPr/>
        </p:nvPicPr>
        <p:blipFill>
          <a:blip r:embed="rId2"/>
          <a:stretch/>
        </p:blipFill>
        <p:spPr>
          <a:xfrm>
            <a:off x="5834160" y="3035160"/>
            <a:ext cx="2266920" cy="22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j0232601"/>
          <p:cNvPicPr/>
          <p:nvPr/>
        </p:nvPicPr>
        <p:blipFill>
          <a:blip r:embed="rId1"/>
          <a:stretch/>
        </p:blipFill>
        <p:spPr>
          <a:xfrm>
            <a:off x="250920" y="476280"/>
            <a:ext cx="2943000" cy="20732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j0232602"/>
          <p:cNvPicPr/>
          <p:nvPr/>
        </p:nvPicPr>
        <p:blipFill>
          <a:blip r:embed="rId2"/>
          <a:stretch/>
        </p:blipFill>
        <p:spPr>
          <a:xfrm>
            <a:off x="3203640" y="1730520"/>
            <a:ext cx="2663640" cy="22968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j0232603"/>
          <p:cNvPicPr/>
          <p:nvPr/>
        </p:nvPicPr>
        <p:blipFill>
          <a:blip r:embed="rId3"/>
          <a:stretch/>
        </p:blipFill>
        <p:spPr>
          <a:xfrm>
            <a:off x="6035760" y="3716280"/>
            <a:ext cx="2528640" cy="2665440"/>
          </a:xfrm>
          <a:prstGeom prst="rect">
            <a:avLst/>
          </a:prstGeom>
          <a:ln w="0">
            <a:noFill/>
          </a:ln>
        </p:spPr>
      </p:pic>
      <p:sp>
        <p:nvSpPr>
          <p:cNvPr id="398" name="WordArt 7"/>
          <p:cNvSpPr txBox="1"/>
          <p:nvPr/>
        </p:nvSpPr>
        <p:spPr>
          <a:xfrm>
            <a:off x="684360" y="4149720"/>
            <a:ext cx="4535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ack-o-Lantern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4544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ingle, dingle, dowsie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cat’s in the well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dog’s away to Berwick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o buy a new bell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0" name="Picture 5" descr="j0285596"/>
          <p:cNvPicPr/>
          <p:nvPr/>
        </p:nvPicPr>
        <p:blipFill>
          <a:blip r:embed="rId1"/>
          <a:stretch/>
        </p:blipFill>
        <p:spPr>
          <a:xfrm>
            <a:off x="5003640" y="3057480"/>
            <a:ext cx="345600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4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Halloween dishe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2" name="Picture 2" descr="D:\Users\Даниил\Desktop\Новая папка (3)\26.jpeg"/>
          <p:cNvPicPr/>
          <p:nvPr/>
        </p:nvPicPr>
        <p:blipFill>
          <a:blip r:embed="rId1"/>
          <a:stretch/>
        </p:blipFill>
        <p:spPr>
          <a:xfrm>
            <a:off x="395280" y="1844640"/>
            <a:ext cx="4248000" cy="41148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D:\Users\Даниил\Desktop\Новая папка (3)\28.jpeg"/>
          <p:cNvPicPr/>
          <p:nvPr/>
        </p:nvPicPr>
        <p:blipFill>
          <a:blip r:embed="rId2"/>
          <a:stretch/>
        </p:blipFill>
        <p:spPr>
          <a:xfrm>
            <a:off x="5003640" y="2205000"/>
            <a:ext cx="38894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503856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 Black"/>
              </a:rPr>
              <a:t>Halloween -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games and fu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fortune-tell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making mischie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6" name="Picture 4" descr="j0232605"/>
          <p:cNvPicPr/>
          <p:nvPr/>
        </p:nvPicPr>
        <p:blipFill>
          <a:blip r:embed="rId1"/>
          <a:stretch/>
        </p:blipFill>
        <p:spPr>
          <a:xfrm>
            <a:off x="6732720" y="3933720"/>
            <a:ext cx="1833480" cy="2590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j0240213"/>
          <p:cNvPicPr/>
          <p:nvPr/>
        </p:nvPicPr>
        <p:blipFill>
          <a:blip r:embed="rId2"/>
          <a:stretch/>
        </p:blipFill>
        <p:spPr>
          <a:xfrm>
            <a:off x="755640" y="3789360"/>
            <a:ext cx="2314440" cy="2376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j0279294"/>
          <p:cNvPicPr/>
          <p:nvPr/>
        </p:nvPicPr>
        <p:blipFill>
          <a:blip r:embed="rId3"/>
          <a:stretch/>
        </p:blipFill>
        <p:spPr>
          <a:xfrm>
            <a:off x="3924360" y="4005360"/>
            <a:ext cx="218592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5" descr="D:\Users\Даниил\Desktop\Новая папка (3)\12.jpg"/>
          <p:cNvPicPr/>
          <p:nvPr/>
        </p:nvPicPr>
        <p:blipFill>
          <a:blip r:embed="rId1"/>
          <a:stretch/>
        </p:blipFill>
        <p:spPr>
          <a:xfrm>
            <a:off x="4932360" y="1143000"/>
            <a:ext cx="4211640" cy="5715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D:\Users\Даниил\Desktop\Новая папка (3)\11.jpg"/>
          <p:cNvPicPr/>
          <p:nvPr/>
        </p:nvPicPr>
        <p:blipFill>
          <a:blip r:embed="rId2"/>
          <a:stretch/>
        </p:blipFill>
        <p:spPr>
          <a:xfrm>
            <a:off x="0" y="1143000"/>
            <a:ext cx="4643280" cy="5715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D:\Users\Даниил\Desktop\Новая папка (3)\15.jpg"/>
          <p:cNvPicPr/>
          <p:nvPr/>
        </p:nvPicPr>
        <p:blipFill>
          <a:blip r:embed="rId3"/>
          <a:stretch/>
        </p:blipFill>
        <p:spPr>
          <a:xfrm>
            <a:off x="2543040" y="581040"/>
            <a:ext cx="4057920" cy="56959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D:\Users\Даниил\Desktop\Новая папка (3)\10.jpg"/>
          <p:cNvPicPr/>
          <p:nvPr/>
        </p:nvPicPr>
        <p:blipFill>
          <a:blip r:embed="rId4"/>
          <a:stretch/>
        </p:blipFill>
        <p:spPr>
          <a:xfrm>
            <a:off x="3429000" y="0"/>
            <a:ext cx="5715000" cy="4221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D:\Users\Даниил\Desktop\Новая папка (3)\18.jpg"/>
          <p:cNvPicPr/>
          <p:nvPr/>
        </p:nvPicPr>
        <p:blipFill>
          <a:blip r:embed="rId5"/>
          <a:stretch/>
        </p:blipFill>
        <p:spPr>
          <a:xfrm>
            <a:off x="324000" y="476280"/>
            <a:ext cx="4295520" cy="5238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D:\Users\Даниил\Desktop\Новая папка (3)\14.jpg"/>
          <p:cNvPicPr/>
          <p:nvPr/>
        </p:nvPicPr>
        <p:blipFill>
          <a:blip r:embed="rId6"/>
          <a:stretch/>
        </p:blipFill>
        <p:spPr>
          <a:xfrm>
            <a:off x="1714680" y="1300320"/>
            <a:ext cx="5715000" cy="42573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D:\Users\Даниил\Desktop\Новая папка (3)\17.jpg"/>
          <p:cNvPicPr/>
          <p:nvPr/>
        </p:nvPicPr>
        <p:blipFill>
          <a:blip r:embed="rId7"/>
          <a:stretch/>
        </p:blipFill>
        <p:spPr>
          <a:xfrm>
            <a:off x="4067280" y="1413000"/>
            <a:ext cx="4419360" cy="5238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D:\Users\Даниил\Desktop\Новая папка (3)\13.jpg"/>
          <p:cNvPicPr/>
          <p:nvPr/>
        </p:nvPicPr>
        <p:blipFill>
          <a:blip r:embed="rId8"/>
          <a:stretch/>
        </p:blipFill>
        <p:spPr>
          <a:xfrm>
            <a:off x="2362320" y="571680"/>
            <a:ext cx="4419360" cy="5715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D:\Users\Даниил\Desktop\Новая папка (3)\9.jpg"/>
          <p:cNvPicPr/>
          <p:nvPr/>
        </p:nvPicPr>
        <p:blipFill>
          <a:blip r:embed="rId9"/>
          <a:stretch/>
        </p:blipFill>
        <p:spPr>
          <a:xfrm>
            <a:off x="324000" y="115920"/>
            <a:ext cx="5111640" cy="4114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D:\Users\Даниил\Desktop\Новая папка (3)\22.jpg"/>
          <p:cNvPicPr/>
          <p:nvPr/>
        </p:nvPicPr>
        <p:blipFill>
          <a:blip r:embed="rId10"/>
          <a:stretch/>
        </p:blipFill>
        <p:spPr>
          <a:xfrm>
            <a:off x="1000080" y="928800"/>
            <a:ext cx="676908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71640" y="3212640"/>
            <a:ext cx="7773840" cy="30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ick or treat,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ick or treat,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ive me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mething good to eat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0" name="Picture 3" descr="j0285600"/>
          <p:cNvPicPr/>
          <p:nvPr/>
        </p:nvPicPr>
        <p:blipFill>
          <a:blip r:embed="rId1"/>
          <a:stretch/>
        </p:blipFill>
        <p:spPr>
          <a:xfrm>
            <a:off x="755640" y="549360"/>
            <a:ext cx="2376360" cy="2249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j0292256"/>
          <p:cNvPicPr/>
          <p:nvPr/>
        </p:nvPicPr>
        <p:blipFill>
          <a:blip r:embed="rId2"/>
          <a:stretch/>
        </p:blipFill>
        <p:spPr>
          <a:xfrm>
            <a:off x="6084720" y="3176640"/>
            <a:ext cx="2590920" cy="2127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j0285602"/>
          <p:cNvPicPr/>
          <p:nvPr/>
        </p:nvPicPr>
        <p:blipFill>
          <a:blip r:embed="rId3"/>
          <a:stretch/>
        </p:blipFill>
        <p:spPr>
          <a:xfrm>
            <a:off x="3995640" y="765000"/>
            <a:ext cx="2019240" cy="25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0" fill="hold"/>
                                        <p:tgtEl>
                                          <p:spTgt spid="4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346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301320"/>
            <a:ext cx="84247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Good-bye, Halloween!!!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4" name="Picture 2" descr="D:\Users\Даниил\Desktop\Новая папка (3)\20.jpg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6920" y="2491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elcome, Halloween!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744720" cy="35546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3552840" cy="44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Organization Chart 6"/>
          <p:cNvGrpSpPr/>
          <p:nvPr/>
        </p:nvGrpSpPr>
        <p:grpSpPr>
          <a:xfrm>
            <a:off x="611280" y="1125360"/>
            <a:ext cx="7703280" cy="4102560"/>
            <a:chOff x="611280" y="1125360"/>
            <a:chExt cx="7703280" cy="4102560"/>
          </a:xfrm>
        </p:grpSpPr>
        <p:cxnSp>
          <p:nvCxnSpPr>
            <p:cNvPr id="362" name="_s1028"/>
            <p:cNvCxnSpPr>
              <a:stCxn id="363" idx="0"/>
              <a:endCxn id="364" idx="2"/>
            </p:cNvCxnSpPr>
            <p:nvPr/>
          </p:nvCxnSpPr>
          <p:spPr>
            <a:xfrm flipV="1" rot="16200000">
              <a:off x="5088600" y="2138400"/>
              <a:ext cx="821160" cy="20750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cc00"/>
              </a:solidFill>
              <a:miter/>
            </a:ln>
          </p:spPr>
        </p:cxnSp>
        <p:cxnSp>
          <p:nvCxnSpPr>
            <p:cNvPr id="365" name="_s1029"/>
            <p:cNvCxnSpPr>
              <a:stCxn id="366" idx="0"/>
              <a:endCxn id="364" idx="2"/>
            </p:cNvCxnSpPr>
            <p:nvPr/>
          </p:nvCxnSpPr>
          <p:spPr>
            <a:xfrm flipH="1" flipV="1" rot="5400000">
              <a:off x="3015000" y="2139120"/>
              <a:ext cx="821160" cy="20739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cc00"/>
              </a:solidFill>
              <a:miter/>
            </a:ln>
          </p:spPr>
        </p:cxnSp>
        <p:sp>
          <p:nvSpPr>
            <p:cNvPr id="364" name="_s1030"/>
            <p:cNvSpPr/>
            <p:nvPr/>
          </p:nvSpPr>
          <p:spPr>
            <a:xfrm>
              <a:off x="2684520" y="112536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31 October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6" name="_s1031"/>
            <p:cNvSpPr/>
            <p:nvPr/>
          </p:nvSpPr>
          <p:spPr>
            <a:xfrm>
              <a:off x="611280" y="358704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All Saints’ Day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3" name="_s1032"/>
            <p:cNvSpPr/>
            <p:nvPr/>
          </p:nvSpPr>
          <p:spPr>
            <a:xfrm>
              <a:off x="4759200" y="358704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Halloween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j0237799"/>
          <p:cNvPicPr/>
          <p:nvPr/>
        </p:nvPicPr>
        <p:blipFill>
          <a:blip r:embed="rId1"/>
          <a:stretch/>
        </p:blipFill>
        <p:spPr>
          <a:xfrm>
            <a:off x="4211640" y="2205000"/>
            <a:ext cx="1901880" cy="2041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j0285612"/>
          <p:cNvPicPr/>
          <p:nvPr/>
        </p:nvPicPr>
        <p:blipFill>
          <a:blip r:embed="rId2"/>
          <a:stretch/>
        </p:blipFill>
        <p:spPr>
          <a:xfrm>
            <a:off x="7093080" y="4292640"/>
            <a:ext cx="1698480" cy="2303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Изображение 039"/>
          <p:cNvPicPr/>
          <p:nvPr/>
        </p:nvPicPr>
        <p:blipFill>
          <a:blip r:embed="rId3"/>
          <a:stretch/>
        </p:blipFill>
        <p:spPr>
          <a:xfrm>
            <a:off x="611280" y="3789360"/>
            <a:ext cx="1730160" cy="2735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ТЫКВА"/>
          <p:cNvPicPr/>
          <p:nvPr/>
        </p:nvPicPr>
        <p:blipFill>
          <a:blip r:embed="rId4"/>
          <a:stretch/>
        </p:blipFill>
        <p:spPr>
          <a:xfrm>
            <a:off x="250920" y="1125360"/>
            <a:ext cx="2519280" cy="2036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Изображение 009"/>
          <p:cNvPicPr/>
          <p:nvPr/>
        </p:nvPicPr>
        <p:blipFill>
          <a:blip r:embed="rId5"/>
          <a:stretch/>
        </p:blipFill>
        <p:spPr>
          <a:xfrm>
            <a:off x="6372360" y="2060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j0078763"/>
          <p:cNvPicPr/>
          <p:nvPr/>
        </p:nvPicPr>
        <p:blipFill>
          <a:blip r:embed="rId6"/>
          <a:stretch/>
        </p:blipFill>
        <p:spPr>
          <a:xfrm>
            <a:off x="3203640" y="3789360"/>
            <a:ext cx="3073320" cy="29113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" descr="j0285616"/>
          <p:cNvPicPr/>
          <p:nvPr/>
        </p:nvPicPr>
        <p:blipFill>
          <a:blip r:embed="rId7"/>
          <a:stretch/>
        </p:blipFill>
        <p:spPr>
          <a:xfrm>
            <a:off x="3059280" y="0"/>
            <a:ext cx="2520720" cy="23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6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5" name="Объект 2" descr=""/>
          <p:cNvPicPr/>
          <p:nvPr/>
        </p:nvPicPr>
        <p:blipFill>
          <a:blip r:embed="rId1"/>
          <a:stretch/>
        </p:blipFill>
        <p:spPr>
          <a:xfrm>
            <a:off x="493560" y="749160"/>
            <a:ext cx="8156880" cy="5346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Resultado de imagen para black cat png"/>
          <p:cNvPicPr/>
          <p:nvPr/>
        </p:nvPicPr>
        <p:blipFill>
          <a:blip r:embed="rId2"/>
          <a:stretch/>
        </p:blipFill>
        <p:spPr>
          <a:xfrm>
            <a:off x="5840280" y="2975040"/>
            <a:ext cx="2035440" cy="26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8" name="Объект 2" descr=""/>
          <p:cNvPicPr/>
          <p:nvPr/>
        </p:nvPicPr>
        <p:blipFill>
          <a:blip r:embed="rId1"/>
          <a:stretch/>
        </p:blipFill>
        <p:spPr>
          <a:xfrm>
            <a:off x="493560" y="579600"/>
            <a:ext cx="8156880" cy="5516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Resultado de imagen para jack o lantern clipart png"/>
          <p:cNvPicPr/>
          <p:nvPr/>
        </p:nvPicPr>
        <p:blipFill>
          <a:blip r:embed="rId2"/>
          <a:stretch/>
        </p:blipFill>
        <p:spPr>
          <a:xfrm>
            <a:off x="5389560" y="3255840"/>
            <a:ext cx="2631960" cy="26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1" name="Объект 2" descr=""/>
          <p:cNvPicPr/>
          <p:nvPr/>
        </p:nvPicPr>
        <p:blipFill>
          <a:blip r:embed="rId1"/>
          <a:stretch/>
        </p:blipFill>
        <p:spPr>
          <a:xfrm>
            <a:off x="493560" y="719280"/>
            <a:ext cx="8156880" cy="5376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Resultado de imagen para spider clipart png"/>
          <p:cNvPicPr/>
          <p:nvPr/>
        </p:nvPicPr>
        <p:blipFill>
          <a:blip r:embed="rId2"/>
          <a:stretch/>
        </p:blipFill>
        <p:spPr>
          <a:xfrm>
            <a:off x="4827600" y="3468600"/>
            <a:ext cx="300528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4" name="Объект 2" descr=""/>
          <p:cNvPicPr/>
          <p:nvPr/>
        </p:nvPicPr>
        <p:blipFill>
          <a:blip r:embed="rId1"/>
          <a:stretch/>
        </p:blipFill>
        <p:spPr>
          <a:xfrm>
            <a:off x="493560" y="1011240"/>
            <a:ext cx="8156880" cy="5084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Imagen relacionada"/>
          <p:cNvPicPr/>
          <p:nvPr/>
        </p:nvPicPr>
        <p:blipFill>
          <a:blip r:embed="rId2"/>
          <a:stretch/>
        </p:blipFill>
        <p:spPr>
          <a:xfrm>
            <a:off x="1085760" y="2895480"/>
            <a:ext cx="1986120" cy="34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0:05:25Z</dcterms:created>
  <dc:creator>User</dc:creator>
  <dc:description/>
  <dc:language>en-US</dc:language>
  <cp:lastModifiedBy>Пользователь</cp:lastModifiedBy>
  <dcterms:modified xsi:type="dcterms:W3CDTF">2019-11-04T13:47:29Z</dcterms:modified>
  <cp:revision>35</cp:revision>
  <dc:subject/>
  <dc:title>Welcome, Halloween!</dc:title>
</cp:coreProperties>
</file>