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35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3.png" ContentType="image/png"/>
  <Override PartName="/ppt/media/image20.png" ContentType="image/png"/>
  <Override PartName="/ppt/media/image36.jpeg" ContentType="image/jpeg"/>
  <Override PartName="/ppt/media/image12.png" ContentType="image/png"/>
  <Override PartName="/ppt/media/image32.wmf" ContentType="image/x-wmf"/>
  <Override PartName="/ppt/media/image30.jpeg" ContentType="image/jpeg"/>
  <Override PartName="/ppt/media/image37.jpeg" ContentType="image/jpeg"/>
  <Override PartName="/ppt/media/image33.wmf" ContentType="image/x-wmf"/>
  <Override PartName="/ppt/media/image13.png" ContentType="image/png"/>
  <Override PartName="/ppt/media/image41.jpeg" ContentType="image/jpeg"/>
  <Override PartName="/ppt/media/image42.jpeg" ContentType="image/jpeg"/>
  <Override PartName="/ppt/media/image9.wmf" ContentType="image/x-wmf"/>
  <Override PartName="/ppt/media/image14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45.wmf" ContentType="image/x-wmf"/>
  <Override PartName="/ppt/media/image2.png" ContentType="image/png"/>
  <Override PartName="/ppt/media/image46.wmf" ContentType="image/x-wmf"/>
  <Override PartName="/ppt/media/image48.jpeg" ContentType="image/jpeg"/>
  <Override PartName="/ppt/media/image39.jpeg" ContentType="image/jpeg"/>
  <Override PartName="/ppt/media/image8.jpeg" ContentType="image/jpe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29.wmf" ContentType="image/x-wmf"/>
  <Override PartName="/ppt/media/image31.jpeg" ContentType="image/jpeg"/>
  <Override PartName="/ppt/media/image10.wmf" ContentType="image/x-wmf"/>
  <Override PartName="/ppt/media/image47.wmf" ContentType="image/x-wmf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DEF9-3A16-495A-82F2-0A50A83A25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A616-8BA2-47B1-BC2C-92E2671BC818}" type="slidenum">
              <a:rPr b="0" lang="ru-RU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35C-9C1A-473F-B92F-0F3A0146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46D-4864-46E8-B8E9-BD4E86EB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914A-B9A1-4766-89EA-5DEEEFD9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D50-91F2-4F90-8A1F-FAE76356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3440-5A10-4444-A25A-87A45922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4278-A508-436C-A777-37393757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3CB9-7295-4972-9033-3BFF4FFD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26E8-781D-4501-B221-F7D69E4A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211F-F62C-4091-BA7F-7B2382BD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E690-A9F8-4C46-AEDD-BA0AEEC3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FE26-8B50-455E-9150-24244F3C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3B1-9BC7-47C6-B639-CD30EC2A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D894-9D4A-4017-88C9-EA8EDED3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6CAF-90BC-4473-9C45-F5F79337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D175-307D-4686-A70B-F92AC57E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B3D1-46C7-44CD-922B-A7148182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5258-3C53-47A3-8034-0F5FB1A5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158-FFAF-42E5-8E73-0DE9C4EE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E61-B589-4E67-BD10-32BB6E85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C0B6-131A-41F4-919F-C5989602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181-6629-4F89-917B-515F2257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BCE-CC71-419F-83AD-F0E6902B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0C2-2639-4384-AEAC-7B340034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A12B-3A0C-423B-A9A4-69236676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3F49-534B-4B90-8CFC-86E87123FF4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4800"/>
            <a:ext cx="6895800" cy="5452200"/>
            <a:chOff x="2011320" y="24480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4800"/>
              <a:ext cx="6895800" cy="5452200"/>
              <a:chOff x="2011320" y="24480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4800"/>
                <a:ext cx="6890760" cy="5452200"/>
                <a:chOff x="2011320" y="24480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160"/>
                    <a:ext cx="71244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4800"/>
                  <a:ext cx="6890760" cy="5452200"/>
                  <a:chOff x="2011320" y="24480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8200" y="2323440"/>
                    <a:ext cx="2563200" cy="2739240"/>
                    <a:chOff x="5758200" y="2323440"/>
                    <a:chExt cx="2563200" cy="27392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0000" y="3022920"/>
                      <a:ext cx="21333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040" y="4142520"/>
                      <a:ext cx="1142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440" y="2148480"/>
                    <a:ext cx="3038400" cy="2529000"/>
                    <a:chOff x="5788440" y="2148480"/>
                    <a:chExt cx="303840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5600" cy="42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312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440" cy="1992600"/>
                    <a:chOff x="5774760" y="206424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840"/>
                      <a:ext cx="1149120" cy="58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800" y="1304640"/>
                    <a:ext cx="2364120" cy="785520"/>
                    <a:chOff x="5788800" y="130464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4200"/>
                      <a:ext cx="15202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9160"/>
                    <a:ext cx="3133800" cy="1607400"/>
                    <a:chOff x="2011320" y="2189160"/>
                    <a:chExt cx="3133800" cy="16074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3040"/>
                      <a:ext cx="111060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6960"/>
                    <a:ext cx="2323440" cy="1082160"/>
                    <a:chOff x="2887920" y="1236960"/>
                    <a:chExt cx="2323440" cy="10821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5600"/>
                      <a:ext cx="15202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0880"/>
                      <a:ext cx="81612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600"/>
                    <a:ext cx="2169720" cy="1506960"/>
                    <a:chOff x="3161160" y="831600"/>
                    <a:chExt cx="2169720" cy="150696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4000"/>
                      <a:ext cx="1520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4800"/>
                    <a:ext cx="1123560" cy="1946880"/>
                    <a:chOff x="4448520" y="24480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0400"/>
                      <a:ext cx="13100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9000" y="438120"/>
                      <a:ext cx="7009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3880"/>
                      <a:ext cx="15199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720"/>
                    <a:ext cx="1889280" cy="1795320"/>
                    <a:chOff x="5351040" y="387720"/>
                    <a:chExt cx="188928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1680" y="1386360"/>
                      <a:ext cx="142236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788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2480" cy="2999160"/>
                    <a:chOff x="3791160" y="2650320"/>
                    <a:chExt cx="148248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240" y="3441240"/>
                      <a:ext cx="1967040" cy="38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720" y="4742640"/>
                      <a:ext cx="1055160" cy="60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000" y="3485880"/>
                      <a:ext cx="1888200" cy="34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9120" y="2593440"/>
                    <a:ext cx="1753920" cy="3030480"/>
                    <a:chOff x="5649120" y="2593440"/>
                    <a:chExt cx="1753920" cy="30304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800" y="3394800"/>
                      <a:ext cx="20325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20680"/>
                      <a:ext cx="108864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1160"/>
                    <a:ext cx="1227240" cy="2985840"/>
                    <a:chOff x="5576400" y="2711160"/>
                    <a:chExt cx="122724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172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196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6000" cy="2717280"/>
                    <a:chOff x="4961160" y="2886840"/>
                    <a:chExt cx="66600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920" y="3666240"/>
                      <a:ext cx="17737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480" y="4933800"/>
                      <a:ext cx="950040" cy="35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4280"/>
                    <a:ext cx="3166560" cy="252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04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7EE1-2C71-411F-AF36-9D975E6F64AC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Объект 2" descr=""/>
          <p:cNvPicPr/>
          <p:nvPr/>
        </p:nvPicPr>
        <p:blipFill>
          <a:blip r:embed="rId1"/>
          <a:stretch/>
        </p:blipFill>
        <p:spPr>
          <a:xfrm>
            <a:off x="493560" y="865080"/>
            <a:ext cx="8156880" cy="5230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Resultado de imagen para cauldron clipart png"/>
          <p:cNvPicPr/>
          <p:nvPr/>
        </p:nvPicPr>
        <p:blipFill>
          <a:blip r:embed="rId2"/>
          <a:stretch/>
        </p:blipFill>
        <p:spPr>
          <a:xfrm>
            <a:off x="2670120" y="3687840"/>
            <a:ext cx="183528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Resultado de imagen para witch hat clipart png"/>
          <p:cNvPicPr/>
          <p:nvPr/>
        </p:nvPicPr>
        <p:blipFill>
          <a:blip r:embed="rId2"/>
          <a:stretch/>
        </p:blipFill>
        <p:spPr>
          <a:xfrm>
            <a:off x="5979960" y="2962440"/>
            <a:ext cx="226872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Объект 2" descr=""/>
          <p:cNvPicPr/>
          <p:nvPr/>
        </p:nvPicPr>
        <p:blipFill>
          <a:blip r:embed="rId1"/>
          <a:stretch/>
        </p:blipFill>
        <p:spPr>
          <a:xfrm>
            <a:off x="493560" y="1079640"/>
            <a:ext cx="7967880" cy="5016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Resultado de imagen para candies halloween clipart png"/>
          <p:cNvPicPr/>
          <p:nvPr/>
        </p:nvPicPr>
        <p:blipFill>
          <a:blip r:embed="rId2"/>
          <a:stretch/>
        </p:blipFill>
        <p:spPr>
          <a:xfrm>
            <a:off x="5834160" y="3035160"/>
            <a:ext cx="226692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j0232601"/>
          <p:cNvPicPr/>
          <p:nvPr/>
        </p:nvPicPr>
        <p:blipFill>
          <a:blip r:embed="rId1"/>
          <a:stretch/>
        </p:blipFill>
        <p:spPr>
          <a:xfrm>
            <a:off x="250920" y="476280"/>
            <a:ext cx="2943000" cy="2073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j0232602"/>
          <p:cNvPicPr/>
          <p:nvPr/>
        </p:nvPicPr>
        <p:blipFill>
          <a:blip r:embed="rId2"/>
          <a:stretch/>
        </p:blipFill>
        <p:spPr>
          <a:xfrm>
            <a:off x="3203640" y="1730520"/>
            <a:ext cx="2663640" cy="2296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j0232603"/>
          <p:cNvPicPr/>
          <p:nvPr/>
        </p:nvPicPr>
        <p:blipFill>
          <a:blip r:embed="rId3"/>
          <a:stretch/>
        </p:blipFill>
        <p:spPr>
          <a:xfrm>
            <a:off x="6035760" y="3716280"/>
            <a:ext cx="2528640" cy="2665440"/>
          </a:xfrm>
          <a:prstGeom prst="rect">
            <a:avLst/>
          </a:prstGeom>
          <a:ln w="0">
            <a:noFill/>
          </a:ln>
        </p:spPr>
      </p:pic>
      <p:sp>
        <p:nvSpPr>
          <p:cNvPr id="398" name="WordArt 7"/>
          <p:cNvSpPr txBox="1"/>
          <p:nvPr/>
        </p:nvSpPr>
        <p:spPr>
          <a:xfrm>
            <a:off x="684360" y="414972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ck-o-Lan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4544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ngle, dingle, dowsie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cat’s in the well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dog’s away to Berwick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o buy a new be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5" descr="j0285596"/>
          <p:cNvPicPr/>
          <p:nvPr/>
        </p:nvPicPr>
        <p:blipFill>
          <a:blip r:embed="rId1"/>
          <a:stretch/>
        </p:blipFill>
        <p:spPr>
          <a:xfrm>
            <a:off x="5003640" y="3057480"/>
            <a:ext cx="3456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4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Halloween dish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2" name="Picture 2" descr="D:\Users\Даниил\Desktop\Новая папка (3)\26.jpeg"/>
          <p:cNvPicPr/>
          <p:nvPr/>
        </p:nvPicPr>
        <p:blipFill>
          <a:blip r:embed="rId1"/>
          <a:stretch/>
        </p:blipFill>
        <p:spPr>
          <a:xfrm>
            <a:off x="395280" y="1844640"/>
            <a:ext cx="4248000" cy="41148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D:\Users\Даниил\Desktop\Новая папка (3)\28.jpeg"/>
          <p:cNvPicPr/>
          <p:nvPr/>
        </p:nvPicPr>
        <p:blipFill>
          <a:blip r:embed="rId2"/>
          <a:stretch/>
        </p:blipFill>
        <p:spPr>
          <a:xfrm>
            <a:off x="5003640" y="2205000"/>
            <a:ext cx="38894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50385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Halloween -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games and fu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fortune-tel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making mischie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Picture 4" descr="j0232605"/>
          <p:cNvPicPr/>
          <p:nvPr/>
        </p:nvPicPr>
        <p:blipFill>
          <a:blip r:embed="rId1"/>
          <a:stretch/>
        </p:blipFill>
        <p:spPr>
          <a:xfrm>
            <a:off x="6732720" y="3933720"/>
            <a:ext cx="1833480" cy="259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j0240213"/>
          <p:cNvPicPr/>
          <p:nvPr/>
        </p:nvPicPr>
        <p:blipFill>
          <a:blip r:embed="rId2"/>
          <a:stretch/>
        </p:blipFill>
        <p:spPr>
          <a:xfrm>
            <a:off x="755640" y="3789360"/>
            <a:ext cx="2314440" cy="23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j0279294"/>
          <p:cNvPicPr/>
          <p:nvPr/>
        </p:nvPicPr>
        <p:blipFill>
          <a:blip r:embed="rId3"/>
          <a:stretch/>
        </p:blipFill>
        <p:spPr>
          <a:xfrm>
            <a:off x="3924360" y="4005360"/>
            <a:ext cx="21859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D:\Users\Даниил\Desktop\Новая папка (3)\12.jpg"/>
          <p:cNvPicPr/>
          <p:nvPr/>
        </p:nvPicPr>
        <p:blipFill>
          <a:blip r:embed="rId1"/>
          <a:stretch/>
        </p:blipFill>
        <p:spPr>
          <a:xfrm>
            <a:off x="4932360" y="1143000"/>
            <a:ext cx="4211640" cy="571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:\Users\Даниил\Desktop\Новая папка (3)\11.jpg"/>
          <p:cNvPicPr/>
          <p:nvPr/>
        </p:nvPicPr>
        <p:blipFill>
          <a:blip r:embed="rId2"/>
          <a:stretch/>
        </p:blipFill>
        <p:spPr>
          <a:xfrm>
            <a:off x="0" y="114300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D:\Users\Даниил\Desktop\Новая папка (3)\15.jpg"/>
          <p:cNvPicPr/>
          <p:nvPr/>
        </p:nvPicPr>
        <p:blipFill>
          <a:blip r:embed="rId3"/>
          <a:stretch/>
        </p:blipFill>
        <p:spPr>
          <a:xfrm>
            <a:off x="2543040" y="581040"/>
            <a:ext cx="4057920" cy="5695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D:\Users\Даниил\Desktop\Новая папка (3)\10.jpg"/>
          <p:cNvPicPr/>
          <p:nvPr/>
        </p:nvPicPr>
        <p:blipFill>
          <a:blip r:embed="rId4"/>
          <a:stretch/>
        </p:blipFill>
        <p:spPr>
          <a:xfrm>
            <a:off x="3429000" y="0"/>
            <a:ext cx="5715000" cy="4221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D:\Users\Даниил\Desktop\Новая папка (3)\18.jpg"/>
          <p:cNvPicPr/>
          <p:nvPr/>
        </p:nvPicPr>
        <p:blipFill>
          <a:blip r:embed="rId5"/>
          <a:stretch/>
        </p:blipFill>
        <p:spPr>
          <a:xfrm>
            <a:off x="324000" y="476280"/>
            <a:ext cx="4295520" cy="5238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D:\Users\Даниил\Desktop\Новая папка (3)\14.jpg"/>
          <p:cNvPicPr/>
          <p:nvPr/>
        </p:nvPicPr>
        <p:blipFill>
          <a:blip r:embed="rId6"/>
          <a:stretch/>
        </p:blipFill>
        <p:spPr>
          <a:xfrm>
            <a:off x="1714680" y="1300320"/>
            <a:ext cx="5715000" cy="4257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D:\Users\Даниил\Desktop\Новая папка (3)\17.jpg"/>
          <p:cNvPicPr/>
          <p:nvPr/>
        </p:nvPicPr>
        <p:blipFill>
          <a:blip r:embed="rId7"/>
          <a:stretch/>
        </p:blipFill>
        <p:spPr>
          <a:xfrm>
            <a:off x="4067280" y="1413000"/>
            <a:ext cx="4419360" cy="5238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D:\Users\Даниил\Desktop\Новая папка (3)\13.jpg"/>
          <p:cNvPicPr/>
          <p:nvPr/>
        </p:nvPicPr>
        <p:blipFill>
          <a:blip r:embed="rId8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D:\Users\Даниил\Desktop\Новая папка (3)\9.jpg"/>
          <p:cNvPicPr/>
          <p:nvPr/>
        </p:nvPicPr>
        <p:blipFill>
          <a:blip r:embed="rId9"/>
          <a:stretch/>
        </p:blipFill>
        <p:spPr>
          <a:xfrm>
            <a:off x="324000" y="115920"/>
            <a:ext cx="5111640" cy="4114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D:\Users\Даниил\Desktop\Новая папка (3)\22.jpg"/>
          <p:cNvPicPr/>
          <p:nvPr/>
        </p:nvPicPr>
        <p:blipFill>
          <a:blip r:embed="rId10"/>
          <a:stretch/>
        </p:blipFill>
        <p:spPr>
          <a:xfrm>
            <a:off x="1000080" y="928800"/>
            <a:ext cx="676908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7773840" cy="30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ve m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mething good to eat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0" name="Picture 3" descr="j0285600"/>
          <p:cNvPicPr/>
          <p:nvPr/>
        </p:nvPicPr>
        <p:blipFill>
          <a:blip r:embed="rId1"/>
          <a:stretch/>
        </p:blipFill>
        <p:spPr>
          <a:xfrm>
            <a:off x="755640" y="549360"/>
            <a:ext cx="2376360" cy="2249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j0292256"/>
          <p:cNvPicPr/>
          <p:nvPr/>
        </p:nvPicPr>
        <p:blipFill>
          <a:blip r:embed="rId2"/>
          <a:stretch/>
        </p:blipFill>
        <p:spPr>
          <a:xfrm>
            <a:off x="6084720" y="3176640"/>
            <a:ext cx="2590920" cy="2127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j0285602"/>
          <p:cNvPicPr/>
          <p:nvPr/>
        </p:nvPicPr>
        <p:blipFill>
          <a:blip r:embed="rId3"/>
          <a:stretch/>
        </p:blipFill>
        <p:spPr>
          <a:xfrm>
            <a:off x="3995640" y="765000"/>
            <a:ext cx="201924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ood-bye, Halloween!!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Picture 2" descr="D:\Users\Даниил\Desktop\Новая папка (3)\20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elcome, Halloween!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3554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552840" cy="44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6"/>
          <p:cNvGrpSpPr/>
          <p:nvPr/>
        </p:nvGrpSpPr>
        <p:grpSpPr>
          <a:xfrm>
            <a:off x="611280" y="1125360"/>
            <a:ext cx="7703280" cy="4102560"/>
            <a:chOff x="611280" y="1125360"/>
            <a:chExt cx="7703280" cy="4102560"/>
          </a:xfrm>
        </p:grpSpPr>
        <p:cxnSp>
          <p:nvCxnSpPr>
            <p:cNvPr id="362" name="_s1028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088600" y="2138400"/>
              <a:ext cx="821160" cy="2075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65" name="_s1029"/>
            <p:cNvCxnSpPr>
              <a:stCxn id="366" idx="0"/>
              <a:endCxn id="364" idx="2"/>
            </p:cNvCxnSpPr>
            <p:nvPr/>
          </p:nvCxnSpPr>
          <p:spPr>
            <a:xfrm flipH="1" flipV="1" rot="5400000">
              <a:off x="3015000" y="2139120"/>
              <a:ext cx="821160" cy="20739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sp>
          <p:nvSpPr>
            <p:cNvPr id="364" name="_s1030"/>
            <p:cNvSpPr/>
            <p:nvPr/>
          </p:nvSpPr>
          <p:spPr>
            <a:xfrm>
              <a:off x="2684520" y="112536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31 October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61128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All Saints’ Day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3" name="_s1032"/>
            <p:cNvSpPr/>
            <p:nvPr/>
          </p:nvSpPr>
          <p:spPr>
            <a:xfrm>
              <a:off x="475920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Halloween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j0237799"/>
          <p:cNvPicPr/>
          <p:nvPr/>
        </p:nvPicPr>
        <p:blipFill>
          <a:blip r:embed="rId1"/>
          <a:stretch/>
        </p:blipFill>
        <p:spPr>
          <a:xfrm>
            <a:off x="4211640" y="2205000"/>
            <a:ext cx="1901880" cy="2041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j0285612"/>
          <p:cNvPicPr/>
          <p:nvPr/>
        </p:nvPicPr>
        <p:blipFill>
          <a:blip r:embed="rId2"/>
          <a:stretch/>
        </p:blipFill>
        <p:spPr>
          <a:xfrm>
            <a:off x="7093080" y="4292640"/>
            <a:ext cx="1698480" cy="2303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Изображение 039"/>
          <p:cNvPicPr/>
          <p:nvPr/>
        </p:nvPicPr>
        <p:blipFill>
          <a:blip r:embed="rId3"/>
          <a:stretch/>
        </p:blipFill>
        <p:spPr>
          <a:xfrm>
            <a:off x="611280" y="3789360"/>
            <a:ext cx="1730160" cy="2735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ТЫКВА"/>
          <p:cNvPicPr/>
          <p:nvPr/>
        </p:nvPicPr>
        <p:blipFill>
          <a:blip r:embed="rId4"/>
          <a:stretch/>
        </p:blipFill>
        <p:spPr>
          <a:xfrm>
            <a:off x="250920" y="1125360"/>
            <a:ext cx="2519280" cy="203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Изображение 009"/>
          <p:cNvPicPr/>
          <p:nvPr/>
        </p:nvPicPr>
        <p:blipFill>
          <a:blip r:embed="rId5"/>
          <a:stretch/>
        </p:blipFill>
        <p:spPr>
          <a:xfrm>
            <a:off x="6372360" y="206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j0078763"/>
          <p:cNvPicPr/>
          <p:nvPr/>
        </p:nvPicPr>
        <p:blipFill>
          <a:blip r:embed="rId6"/>
          <a:stretch/>
        </p:blipFill>
        <p:spPr>
          <a:xfrm>
            <a:off x="3203640" y="3789360"/>
            <a:ext cx="3073320" cy="2911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j0285616"/>
          <p:cNvPicPr/>
          <p:nvPr/>
        </p:nvPicPr>
        <p:blipFill>
          <a:blip r:embed="rId7"/>
          <a:stretch/>
        </p:blipFill>
        <p:spPr>
          <a:xfrm>
            <a:off x="3059280" y="0"/>
            <a:ext cx="252072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Объект 2" descr=""/>
          <p:cNvPicPr/>
          <p:nvPr/>
        </p:nvPicPr>
        <p:blipFill>
          <a:blip r:embed="rId1"/>
          <a:stretch/>
        </p:blipFill>
        <p:spPr>
          <a:xfrm>
            <a:off x="493560" y="749160"/>
            <a:ext cx="8156880" cy="5346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Resultado de imagen para black cat png"/>
          <p:cNvPicPr/>
          <p:nvPr/>
        </p:nvPicPr>
        <p:blipFill>
          <a:blip r:embed="rId2"/>
          <a:stretch/>
        </p:blipFill>
        <p:spPr>
          <a:xfrm>
            <a:off x="5840280" y="2975040"/>
            <a:ext cx="2035440" cy="26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Объект 2" descr=""/>
          <p:cNvPicPr/>
          <p:nvPr/>
        </p:nvPicPr>
        <p:blipFill>
          <a:blip r:embed="rId1"/>
          <a:stretch/>
        </p:blipFill>
        <p:spPr>
          <a:xfrm>
            <a:off x="493560" y="579600"/>
            <a:ext cx="8156880" cy="5516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Resultado de imagen para jack o lantern clipart png"/>
          <p:cNvPicPr/>
          <p:nvPr/>
        </p:nvPicPr>
        <p:blipFill>
          <a:blip r:embed="rId2"/>
          <a:stretch/>
        </p:blipFill>
        <p:spPr>
          <a:xfrm>
            <a:off x="5389560" y="3255840"/>
            <a:ext cx="2631960" cy="26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Объект 2" descr=""/>
          <p:cNvPicPr/>
          <p:nvPr/>
        </p:nvPicPr>
        <p:blipFill>
          <a:blip r:embed="rId1"/>
          <a:stretch/>
        </p:blipFill>
        <p:spPr>
          <a:xfrm>
            <a:off x="493560" y="719280"/>
            <a:ext cx="8156880" cy="5376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Resultado de imagen para spider clipart png"/>
          <p:cNvPicPr/>
          <p:nvPr/>
        </p:nvPicPr>
        <p:blipFill>
          <a:blip r:embed="rId2"/>
          <a:stretch/>
        </p:blipFill>
        <p:spPr>
          <a:xfrm>
            <a:off x="4827600" y="3468600"/>
            <a:ext cx="30052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Imagen relacionada"/>
          <p:cNvPicPr/>
          <p:nvPr/>
        </p:nvPicPr>
        <p:blipFill>
          <a:blip r:embed="rId2"/>
          <a:stretch/>
        </p:blipFill>
        <p:spPr>
          <a:xfrm>
            <a:off x="1085760" y="2895480"/>
            <a:ext cx="198612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0:05:25Z</dcterms:created>
  <dc:creator>User</dc:creator>
  <dc:description/>
  <dc:language>en-US</dc:language>
  <cp:lastModifiedBy>Пользователь</cp:lastModifiedBy>
  <dcterms:modified xsi:type="dcterms:W3CDTF">2019-11-04T13:47:29Z</dcterms:modified>
  <cp:revision>35</cp:revision>
  <dc:subject/>
  <dc:title>Welcome, Halloween!</dc:title>
</cp:coreProperties>
</file>