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CFB-DBA8-4B43-A779-D2C3A576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FDE-19CF-4D18-9E2C-8F84D784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997-72A6-4397-8F4C-7E6722BC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44E-6B5B-463C-B41C-F4ED7E6D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FFF2-B18B-4F46-96B8-5D20C64A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BA82-BC8F-4E9F-BAF7-10FA195F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35B9-6CE1-4977-9A74-B5875597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13C2-4169-4275-AFE7-3CF69458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4F27-2FBA-4FB2-9464-4ADE72BD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187C-2078-4000-8B86-C0DC87D1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B5A2-B7D7-44A7-8474-9EEB1C9D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259C-F82A-42C2-9FB6-BA30E6B9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8EDC-BEA9-4F8B-AF65-55E5E0D5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7490-A523-4256-8EAF-33D966E2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88D8-DD52-4CE1-8370-805AC4EE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D028-9D8A-4F85-88FE-671C3F4F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40C0-7211-4063-9820-AB1D9C70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EFE-709B-415F-BEEE-49D158EC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6F9-4D51-4079-89A2-B3FE24C5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725-D8E8-4C45-BE18-A6B6060E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960-3A1A-447E-AC59-2A3D102C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1D4-18E4-4D9A-BDE9-B9DDCCA8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F8B-A87A-482B-B374-6465447E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3019-B8EB-4201-80B4-30D15F1A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6B2C-58E4-4814-A8CA-2645B3F466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941D-8D1A-416B-BCA9-0CE95D3172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7138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Блочно-модульное построение учебного материала в рамках компетентностного подхода к образованию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компетенции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и представляют собой сочетание характеристик (относящихся к знанию и его при-менению, к позициям, навыкам и ответственности), которые описывают уровень или степень, до которой некоторое лицо способно эти компетенции реализ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«компетенция или компетентность, есть некоторое интегративное качество субъекта, включающее в себя когнитивные, мотивационные, ценностные и практические аспекты, которое проявляется в успешных действиях в какой-либо области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ение модульной системы обучения самым непосредственным образом связано с построением новых федеральных образовательных стандартов на основе введения компетентностного подхода к организации учебного процесса, когда освоение определенного модуля приводит к формированию соответствующего набора компетен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000" y="1699920"/>
            <a:ext cx="8675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онятие модуля в качестве необходимых компонентов значения входят законченность, самостоятельность и комплекснос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влечет за собой включение в понимание модуля таких смысловых составляющих, как: объединение содержательных, организационных, методических и технологических компонентов; единство теоретических и прикладных аспектов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уктурная связанность всего образовательного комплекса; совмещение в одной организационно-методической структуре дидактических целей, логически завершенной единицы учебного материала, методического руководства и системы контрол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м предметно-логического содержания, входящего в модуль, может быть: и раздел дисциплины, и отдельная дисциплина, и комплекс дисциплин одной направленности и единый комплекс, включающий в себя совокупность дисциплин и практик, ведущих к достижению определенных компетен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547640" y="335772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история вопро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ждение идей модульного обучения можно отнести к 60-м годам, когда С.Н.Постлезвайтт (США) предложил концепцию единиц содержания обучения, согласно которой малую порцию (единицу) учебного материала можно считать автономной темой и свободно интегрировать в программу занятий. С.Н.Постлезвaйтт называл эти единицы «микрокурсами», потом – «миникурсам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х содержание и объем определялись дидактическими задачами. Впервые миникypcы были внедрены и получили быстрое распространение в колледжах и университетах США.  Позднее эти понятия были обобщены в понятие "модуль" ("module") и, соответственно, "модульное обучение" ("modular instruction"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ще всего понятие «модуль» можно встретить в образовательных программах Германии. Модульный принцип здесь важен уже на этапе создания новой образовательной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тивно используется понятие «модуль» и в образовательных программах  университетов Великобритании. Многие из них переходят на принцип модульного обучения в последние годы. Эта структура обеспечивает высокую гибкость при выборе и комбинации учебных курсов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ули - это самостоятельные, независимые обучающие единицы, срок освоения которых, как правило, длится один семестр и оценивается в 10 зачетных единиц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оценивается индивидуально после его освоения. Методы оценки включают письменные и устные экзамены, курсовые работы, подготовку проектов, экзамены по практик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2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Модульно – компетентностный подход в российской системе образования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99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одимую систему обучения логично именовать модульно-компетентностной, т. к. ее основные элементы - модули и компетенции выступают как тесно взаимосвязанные и взаимодополняющие друг друга компоненты единого цел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может осваиваться независимо, а их совокупность позволяет достичь итоговой компетентности в профессиональной сфе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Преимущества модульного построения образовательны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ясно и четко формулировать цели и задач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видуализация учебного процесс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гибкост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ность формирования стандартных, объективных, независимых условий оценки качества освоения программ обуч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модуль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Отделяемая, относительно самостоятельная часть какой-либо системы, организации, устройства»» (Современный словарь иностранных слов. - М., 1993. - 389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Часть прибора или конструкция, собранная из типовых деталей и имеющая многоцелевое применение» (Словарь русского языка в 4-х томах. - Т.2. - М., 198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. 287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Вообще отделяемая, относительно самостоятельная часть какой-нибудь системы, организации» (Ожегов С.И. и Шведова Н.Ю. Толковый словарь русского языка. - М., 1999. - С.361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000" y="260280"/>
            <a:ext cx="8280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аким образом, модуль представляет собой относительно самостоятельную единицу образовательной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авленную на формирование определенной компетенции или группы компетенц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модуль - это законченная единица образовательной программы, формирующая одну или несколько определенных компетенций, сопровождаемая контролем знаний и умений обучаемых на выход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ответственно, модульная образовательная программа - это совокупность и последовательность модулей, направленная на овладение определенными компетенция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88640"/>
            <a:ext cx="8137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пециальной литературе выделяются следующие уровни применения модульной системы обуче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ший уровень - модульная система применяется лишь для контроля успеваем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ий уровень - по модульной системе связываются отдельные дисципли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ший уровень - модульная система обучения связывает все дисциплины учебного плана, т. е. обучение ведется по модульному учебному план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6:12Z</dcterms:modified>
  <cp:revision>16</cp:revision>
  <dc:subject/>
  <dc:title>«Деление ядер урана»</dc:title>
</cp:coreProperties>
</file>