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4539-8B9D-4825-A2A6-0B58CF0AEF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E615-BD85-46FA-957B-96D888C9FB5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8180-8A37-4D9C-9C36-ECF9941D7D1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505-EE97-4917-8984-7B77AB02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B33-44C2-4AFD-BFA1-43F17A80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F63-65D7-461E-9547-BE73483B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7EA-0308-4904-B88F-C9DE7E63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AF50-0E7B-4B19-B171-BAF1EDC1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DFFD-5200-48CD-88D9-36D271E1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5EF2-7323-4B18-8B01-C953AFFD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83B8-FF22-4BF1-9B93-91BA4CEB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6AE1-67D4-4D99-A3E0-6489B6B8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07AC-C71B-4ACA-BFCA-1FD64D92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B3A2-AB9A-4F95-AE6E-1FE9B76E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0C1-9EE0-4A4F-9CFF-3BE4A332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CE2A-A0A7-4712-A18E-AC4CC29D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EF38-E17F-47A0-BFCD-60A7E09B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D5C7-2FAB-4A44-B400-53260AEF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6E15-D2A0-4914-974A-E43B835B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2674-B863-4468-A835-63E77EA7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5824-EA76-4924-BF13-737EB581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E3E-2523-4C7E-9513-015525DE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B83-B6C4-4307-91A6-382BBBFB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319-0EA9-4781-A938-ABFF5807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87B8-C5F8-4024-A426-2E995B68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F9D-D3E0-49BF-B4C8-BB957DCD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A5D-48A0-40EC-ACA9-DEEE89D9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3B05-20C7-426E-8BFB-3FA6D9DFCA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93EF-B0AE-4305-A7A9-C8B34243C4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Разработка рабочих программ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учебных предметов и курсов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соответствии с требованиями ФГОС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Нормативные документы, лежащие в основе рабочих программ</a:t>
            </a: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ГОС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ОП образовательного учреждения, в том числе учебный план основного общего образования, программа развития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едеральный перечень учеб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следующие материа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Документы, лежащие в основе</a:t>
            </a:r>
            <a:br>
              <a:rPr sz="40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 рабочи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рабочие программы учебных предметов курсов являются компонентом основной общеобразовательной программы ступени, их разработка и утверждение относится к компетенции образовательного учреждения (п. 5 ст. 12 Федерального закона № 273 от 29.12.2012 «Об образовании в Российской Федерации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овательно, регламентировать структуру и содержание рабочей программы в образовательном учреждении может локальный акт, например, «Положение о рабочей программе учебного предмета, курса». Данный локальный акт определяет правила, нормы, объективно отражающие требования к рабочим программ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предмет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тульный л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ий поурочный пла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е образовательные результаты на конец обучения в данном кл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оценивания образовательных результатов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итульный лист отражает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е наименование образовательного учреждения в соответствии с Устав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у утверждения рабочей программы в соответствии с Положением о рабочей програм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с, для которого разработа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реализации рабочей программ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.И.О. учителя, составившего рабочую програм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год составления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Пояснительная записка рабочей    программы должна отражать сведени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еречне нормативных документов и материалов, на основе которых составле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бщем количестве часов на учебный год, в неделю, на которые рассчитано преподавание предмета в данном кла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целях и задачах преподавания предмета в данном классе. Определяются на основе примерной или  авторской программы для данного класса с учетом специфики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ведущих формах, методах и средствах обучения, технологиях и т.д., которые будут использоваться учителем для реализации рабочей программы. При переходе на новый стандарт актуальными с точки зрения достижения новых образовательных результатов становятся способы обучения, реализующие системно-деятельностный подхо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тличительных особенностях рабочей программы по сравнению с авторской 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чинах внесения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Причины для внесения изменений в авторскую программу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чин для внесения изменений в авторскую программу могут выступа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практической части авторской программы лабораторным оборудованием, другими средств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авторской программой в полной мере содержания образования по предмету в соответствии с требованиями ФГ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ематический поурочны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с учетом учебного плана образовательного учреждения для данной ступени образования. Он раскрывает последовательность изучения содержания программы, распределение количества учебных часов по разделам и темам, конкретизирует все дидактические единицы содержания в рамках каждого урока, определяет проведение контрольных, лабораторных, практических и других видов работ, планируемые результаты изучения разде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на учебный год и оформляется в виде таблицы и является обязательной частью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ланируемые образовательные результаты обучающихся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обязательный структурный компонент рабочей программы отражает перечень требований к личностным, метапредметным, предметным результатам, на достижение которых она направл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бразовательным результатам обучающихся, прописанные в рабочей программе не должны быть ниже, сформулированных в станда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писанию планируемых образовательных результатов: они должны быть реально опознаваемы с помощью диагностических инстр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Способы оценивания планируемых образовательных результатов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й структурный компонент рабочей программы требует фиксирования сведений о количестве контрольных мероприятий, форме промежуточной аттес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х, методах, средствах контроля и оценки планируемых образовательных результатов обучающихся при реализации данной рабочей программы, которые планирует реализовать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000" y="47592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ложения к рабочей программе педагогом могут представляться также и средства контроля и оценки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ение о необходимости предоставления учителем средств контроля может быть принято педагогическим советом образовательного учреждения и зафиксировано в «Положении о рабочей программ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Рабочая программа учебного предмета или к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азывает как с учетом конкретных условий, образовательных потребностей, возрастных и других особенностей обучающихся конкретного класса учитель планирует осуществлять образовательный процесс по предмету на основе ФГОС. По сути, рабочая программа – это индивидуальная педагогическая модель реализации образовательного процесса обучения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Учебно-методическое обеспечение образовательного процес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основную и дополнительную учебную литературу для обучающих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ики, учебные пособия, рабочие тетради, сборники задач и упражнений, тестов, контрольных и практических работ, практикумов, хрестомат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равочные пособия (словари, справочники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лядный материал (атласы, альбомы, карты, таблицы) и другие информационные источники, которые учитель планирует использовать для реализации рабочей програм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Материально-техническое обеспечение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перечень учебного оборудования и оборудования для лабораторных, практических работ, организации проектной и исследовательской деятельности обучающихся и т.д., которые учитель планирует использовать при реализации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Лист внесения изменений в рабочую программ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48392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атривает фиксацию возможных изменений в рабочей программе, необходимость в которых может возникнуть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имеет право вносить изменения в рабочую программу только на основании приказа руководителя образовательного учреждения или при условии согласования изменений с заместителем руководителя бразовательного учреждения по учебно-воспитательно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и содержание рабочей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ограммы учебного курс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учебного курса может составляться как на основе авторской (если таковая имеется), так и самим педагог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первом случае структурные компоненты рабочей программы учебного курса совпадают со структурными компонентами рабочей программы учебного предм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лучае, когда программа разрабатывается самим педагогом и, по сути, является авторской, структурные компоненты, должны быть дополнены еще учебно-тематическим планом и содержанием учебного кур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ой запис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тематическ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я учебного кур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ого поурочн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х образовательных результа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а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-тематически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бно-тематический план представляет собой разделение всего содержания учебного курса на дидактические единицы разделы, их нумерацию с указанием продолжительности их изучения. Он предваряет такой компонент рабочей программы как «Содержан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учебного курса представляет собой краткое содержание каждого раздела согласно нумерации в учебно-тематическом пл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брать авторскую программу и соответствующий к ней учебно-методический комплект (УМК) из Федерального перечня, рекомендованного Минобрнауки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равнить цели изучения учебного предмета в выбр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ской программе для данного класса с целями, зафиксированными в примерной программе. При необходимости выполнить корректировку целей авторской программы, отразить этот факт в тексте пояснительной записки РП, обосновав причину корректиро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Сравнить требования к планируемым образовательным результатам обучающихся на конец обучения в данном классе в выбранной авторской программе с такими же требованиями, прописанными в примерной программе по учебному предме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равнить содержание образования по предмету, представленное в авторской программе для всех классов данной ступени и примерной програм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Составить тематический поурочный пл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Определить состав УМ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формить текст рабочей программы в соответствии с требова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Выполнить самоэкспертизу качества составленной рабочей программы с учетом требований «Положения о рабочей программе», критериями качества, разработанными в О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овести внешнюю экспертизу рабочей программы. Результаты рассмотрения представить в виде выписки из протокола заседания методического объеди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редставить рабочую программу к утверждению в соответствии с принятой в образовательном учреждении процедур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1187280" y="357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Основные требования к рабочей программе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е программы должны быть направлены на достижение образовательных результатов. В связи с этим рабочие программы должны разрабатываться учителем на основе требований к планируемым образовательным результа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разработке рабочей программы учителю рекомендуется использовать и примерную и авторскую программы по учебному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имерны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ые программы учебных предметов для основной школы составлены на основе фундаментального ядра содержания общего образования и требований к результатам основного общего образования, представленных в ФГ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 определяет инвариантную (обязательную) часть учебного предмета, за пределами которой остается возможность авторского выбора вариативной составляющей содержания образования. Примерная программа не является нормативным докуме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Авторски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в совокупности с учебно-методическими материалами (учебниками, рабочими тетрадями, тетрадями для практических работ, сборниками заданий, контрольных работ, книгами для учителя, CD и т.д.составляет авторский УМ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наличии УМК учителю рациональнее обеспечивать достижение образовательных результатов средствами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еимущества использования авторск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ие программы конкретизируют содержание предметных тем, включенных в стандарт, определяют в рамках авторской концепции изучения предмета в каждом классе распределение учебных часов по разделам, темам, набор практических, лабораторных работ, выполняемых учащимися, опытов, демонстрируемых учителем в классе и т.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ая программа не является нормативным докумен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авторских программ в каждом классе, как правило, подкреплена учебно-методическими материал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ная программа – средство, помогающее учителю проанализировать авторскую программу с точки зрения обеспечения требований стандарта, т.е. получить ответы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ли авторская программа для данного класса в полной мере содержание, включенное в примерную програм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авторской программы является избыточным по сравнению с содержанием примерной программы? Это будет список тем, не входящих в станда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из примерной программы отсутствует в авторской? Это будет список тем из стандарта, изучение которых следует обеспечить, не смотря на то, что их нет в авторской програм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рабочей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на эти вопросы определят содержание будущей рабочей программы, а именно: будет ли она отличаться от авторской (если – да, то в какой части и почему?) или н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– нормативный документ, который иллюстрирует, как учитель планирует реализовывать авторскую программу с учетом особенностей ОУ (условий, образовательных потребностей обучающихся) и требований действующего станда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целом структура и содержание рабочей программы определяетс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ми ФГОС к образовательным результатам по предмет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лендарным учебным графиком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мом учебных часов на изучение предмета, курса согласно учебному плану для конкретного кла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ями и задачами, планируемыми образовательными результатами основной образовательной программы ступени общего образования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вательными интересами обучающихся конкретного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ом образовательным учреждением УМК для обеспечения реализации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7:00Z</dcterms:modified>
  <cp:revision>46</cp:revision>
  <dc:subject/>
  <dc:title>«Деление ядер урана»</dc:title>
</cp:coreProperties>
</file>