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B7DE3-0A93-445F-8530-DE84BD4A69E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CC8F6-1AEA-4EC1-AA53-1F22C00D67D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81BC0-BDC9-4360-8853-363D538F97F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B9B2-1800-42D3-9F0F-5CCDAB7B8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81B6-F646-4F1D-9323-E9FF18214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58EE-DFD8-4610-9116-DF75E877B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1C21-625A-42A7-81DE-286CF15BF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981DB-2BDA-4D7D-BCFC-394DF1288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75135-84D0-4B6B-ADED-2F0A0A069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22EF0-5F01-4842-A32D-7844DD0A3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216DE-D86A-4D75-BB16-06C4C13F4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21256-1F87-4C52-AD60-325D0A825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D1ED7-AFF1-4989-A701-648C339C8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D918F-1BD4-4175-B137-8108A6FE8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4DB3-0461-40A5-963C-09DD69C8D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EF310-63B9-4D3C-83E1-A982F935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D64FA-9F44-4C6A-B81C-4BD3F21D8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9B418-D5AE-462B-8755-FCAADCD97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533C0-452F-40CE-8F65-0E0EEF0C5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78E84-E96C-4F4E-8939-89CAE35A1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DC6E-BA9B-47A3-AD44-8A8213000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489F-C4CF-41DF-BDDF-51D5E12EE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757E-C6DB-409A-B7FE-54B6FC050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9C3B-7574-4CB7-AE0B-BB24FB951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8FCE-2551-48A6-B964-B29EBCD3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36F2-C477-4F7E-87D9-D3D260E26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C8B6-18D6-481A-B938-A853A0C68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9BC86-A31A-4632-88D3-ADADF6DF6EA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236FB-AD50-4098-909C-79FB2A17E04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3640" y="685440"/>
            <a:ext cx="856908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Разработка рабочих программ</a:t>
            </a:r>
            <a:br>
              <a:rPr sz="3600"/>
            </a:b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учебных предметов и курсов</a:t>
            </a:r>
            <a:br>
              <a:rPr sz="3600"/>
            </a:b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в соответствии с требованиями ФГОС.</a:t>
            </a:r>
            <a:endParaRPr b="0" lang="en-US" sz="36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Яковлева Н.Г., научный  сотрудник отдела сопровождения ФГОС ГАУ ДПО «ИРО ПК»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Нормативные документы, лежащие в основе рабочих программ</a:t>
            </a: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95280" y="1483920"/>
            <a:ext cx="8532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ГОС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ОП образовательного учреждения, в том числе учебный план основного общего образования, программа развития универсальных учебных действий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едеральный перечень учебник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 также следующие материалы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мерная программа учебного предмет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вторская программа учебного предмет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Документы, лежащие в основе</a:t>
            </a:r>
            <a:br>
              <a:rPr sz="4000"/>
            </a:b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 рабочих программ.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скольку рабочие программы учебных предметов курсов являются компонентом основной общеобразовательной программы ступени, их разработка и утверждение относится к компетенции образовательного учреждения (п. 5 ст. 12 Федерального закона № 273 от 29.12.2012 «Об образовании в Российской Федерации»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ледовательно, регламентировать структуру и содержание рабочей программы в образовательном учреждении может локальный акт, например, «Положение о рабочей программе учебного предмета, курса». Данный локальный акт определяет правила, нормы, объективно отражающие требования к рабочим программа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Структура рабочей программы</a:t>
            </a:r>
            <a:br>
              <a:rPr sz="4400"/>
            </a:b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учебного предмета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50560" y="1599840"/>
            <a:ext cx="889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итульный лист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яснительная записк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матический поурочный план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ланируемые образовательные результаты на конец обучения в данном классе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пособы оценивания образовательных результатов обучающихся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чебно-методическое обеспечение образовательного процесса по предмету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атериально-техническое обеспечение образовательного процесса по предмету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ист внесения изменений в рабочую программ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Титульный лист отражает: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6836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лное наименование образовательного учреждения в соответствии с Уставом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цедуру утверждения рабочей программы в соответствии с Положением о рабочей программе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именование учебного предмет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ласс, для которого разработан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рок реализации рабочей программы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.И.О. учителя, составившего рабочую программу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- год составления рабочей программ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77920"/>
            <a:ext cx="89280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Пояснительная записка рабочей    программы должна отражать сведения:</a:t>
            </a:r>
            <a:endParaRPr b="0" lang="en-US" sz="36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 перечне нормативных документов и материалов, на основе которых составлен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б общем количестве часов на учебный год, в неделю, на которые рассчитано преподавание предмета в данном классе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 целях и задачах преподавания предмета в данном классе. Определяются на основе примерной или  авторской программы для данного класса с учетом специфики образовательного учреждени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 ведущих формах, методах и средствах обучения, технологиях и т.д., которые будут использоваться учителем для реализации рабочей программы. При переходе на новый стандарт актуальными с точки зрения достижения новых образовательных результатов становятся способы обучения, реализующие системно-деятельностный подход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б отличительных особенностях рабочей программы по сравнению с авторской и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причинах внесения изменени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8200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Причины для внесения изменений в авторскую программу.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качестве причин для внесения изменений в авторскую программу могут выступать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обеспеченность практической части авторской программы лабораторным оборудованием, другими средствам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обеспеченность авторской программой в полной мере содержания образования по предмету в соответствии с требованиями ФГОС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Тематический поурочный план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матический поурочный план составляется с учетом учебного плана образовательного учреждения для данной ступени образования. Он раскрывает последовательность изучения содержания программы, распределение количества учебных часов по разделам и темам, конкретизирует все дидактические единицы содержания в рамках каждого урока, определяет проведение контрольных, лабораторных, практических и других видов работ, планируемые результаты изучения раздел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матический поурочный план составляется на учебный год и оформляется в виде таблицы и является обязательной частью рабочей программ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Планируемые образовательные результаты обучающихся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Этот обязательный структурный компонент рабочей программы отражает перечень требований к личностным, метапредметным, предметным результатам, на достижение которых она направлен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ребования к образовательным результатам обучающихся, прописанные в рабочей программе не должны быть ниже, сформулированных в стандарт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ребования к описанию планируемых образовательных результатов: они должны быть реально опознаваемы с помощью диагностических инструмент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280" y="277920"/>
            <a:ext cx="82090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Способы оценивания планируемых образовательных результатов.</a:t>
            </a:r>
            <a:endParaRPr b="0" lang="en-US" sz="36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нный структурный компонент рабочей программы требует фиксирования сведений о количестве контрольных мероприятий, форме промежуточной аттестаци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ормах, методах, средствах контроля и оценки планируемых образовательных результатов обучающихся при реализации данной рабочей программы, которые планирует реализовать учител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684000" y="475920"/>
            <a:ext cx="7545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качестве приложения к рабочей программе педагогом могут представляться также и средства контроля и оценки образовательных результат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шение о необходимости предоставления учителем средств контроля может быть принято педагогическим советом образовательного учреждения и зафиксировано в «Положении о рабочей программе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560" y="277920"/>
            <a:ext cx="78598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Рабочая программа учебного предмета или курса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казывает как с учетом конкретных условий, образовательных потребностей, возрастных и других особенностей обучающихся конкретного класса учитель планирует осуществлять образовательный процесс по предмету на основе ФГОС. По сути, рабочая программа – это индивидуальная педагогическая модель реализации образовательного процесса обучения предмет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Учебно-методическое обеспечение образовательного процесса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ражает основную и дополнительную учебную литературу для обучающихс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чебники, учебные пособия, рабочие тетради, сборники задач и упражнений, тестов, контрольных и практических работ, практикумов, хрестомати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правочные пособия (словари, справочники)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глядный материал (атласы, альбомы, карты, таблицы) и другие информационные источники, которые учитель планирует использовать для реализации рабочей программ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Материально-техническое обеспечение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ражает перечень учебного оборудования и оборудования для лабораторных, практических работ, организации проектной и исследовательской деятельности обучающихся и т.д., которые учитель планирует использовать при реализации рабочей программ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Лист внесения изменений в рабочую программу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50560" y="1483920"/>
            <a:ext cx="871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усматривает фиксацию возможных изменений в рабочей программе, необходимость в которых может возникнуть в течение учебного год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читель имеет право вносить изменения в рабочую программу только на основании приказа руководителя образовательного учреждения или при условии согласования изменений с заместителем руководителя бразовательного учреждения по учебно-воспитательной работ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Структура и содержание рабочей</a:t>
            </a:r>
            <a:br>
              <a:rPr sz="4400"/>
            </a:b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программы учебного курса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бочая программа учебного курса может составляться как на основе авторской (если таковая имеется), так и самим педагого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первом случае структурные компоненты рабочей программы учебного курса совпадают со структурными компонентами рабочей программы учебного предме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случае, когда программа разрабатывается самим педагогом и, по сути, является авторской, структурные компоненты, должны быть дополнены еще учебно-тематическим планом и содержанием учебного курс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Структура рабочей программы</a:t>
            </a:r>
            <a:br>
              <a:rPr sz="4400"/>
            </a:b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учебного курса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50560" y="1599840"/>
            <a:ext cx="889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яснительной записк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чебно-тематического план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держания учебного курс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матического поурочного план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ланируемых образовательных результатов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чебно-методического обеспечения образовательного процесс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атериально-технического обеспечения образовательного процесс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иста внесения изменений в рабочую программ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Учебно-тематический план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чебно-тематический план представляет собой разделение всего содержания учебного курса на дидактические единицы разделы, их нумерацию с указанием продолжительности их изучения. Он предваряет такой компонент рабочей программы как «Содержание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Содержание учебного курса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держание учебного курса представляет собой краткое содержание каждого раздела согласно нумерации в учебно-тематическом план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Этапы разработки и утверждения </a:t>
            </a:r>
            <a:br>
              <a:rPr sz="4400"/>
            </a:b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рабочих программ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. Выбрать авторскую программу и соответствующий к ней учебно-методический комплект (УМК) из Федерального перечня, рекомендованного Минобрнауки РФ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. Сравнить цели изучения учебного предмета в выбранно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вторской программе для данного класса с целями, зафиксированными в примерной программе. При необходимости выполнить корректировку целей авторской программы, отразить этот факт в тексте пояснительной записки РП, обосновав причину корректировк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. Сравнить требования к планируемым образовательным результатам обучающихся на конец обучения в данном классе в выбранной авторской программе с такими же требованиями, прописанными в примерной программе по учебному предмет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Этапы разработки и утверждения </a:t>
            </a:r>
            <a:br>
              <a:rPr sz="4400"/>
            </a:b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рабочих программ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4000" y="1557000"/>
            <a:ext cx="8640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4. Сравнить содержание образования по предмету, представленное в авторской программе для всех классов данной ступени и примерной программ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5. Составить тематический поурочный план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6. Определить состав УМК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7. Оформить текст рабочей программы в соответствии с требованиям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8. Выполнить самоэкспертизу качества составленной рабочей программы с учетом требований «Положения о рабочей программе», критериями качества, разработанными в О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9. Провести внешнюю экспертизу рабочей программы. Результаты рассмотрения представить в виде выписки из протокола заседания методического объединен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0. Представить рабочую программу к утверждению в соответствии с принятой в образовательном учреждении процедуро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800" spc="-1" strike="noStrike">
                <a:solidFill>
                  <a:srgbClr val="666699"/>
                </a:solidFill>
                <a:latin typeface="Garamond"/>
              </a:rPr>
              <a:t>Спасибо за внимание!</a:t>
            </a:r>
            <a:endParaRPr b="0" lang="en-US" sz="58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52" name="Прямоугольник 2"/>
          <p:cNvSpPr/>
          <p:nvPr/>
        </p:nvSpPr>
        <p:spPr>
          <a:xfrm>
            <a:off x="1187280" y="3573360"/>
            <a:ext cx="705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Яковлева Надежда Геннадьевна, научный сотрудник отде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провождения ФГОС «ИРО ПК» (р.т. 8-342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12-21-99; с.т. 8-909-731-01-80, e-mail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nni1909@yandex.r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Основные требования к рабочей программе.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79280" y="1483920"/>
            <a:ext cx="896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бочие программы должны быть направлены на достижение образовательных результатов. В связи с этим рабочие программы должны разрабатываться учителем на основе требований к планируемым образовательным результата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 разработке рабочей программы учителю рекомендуется использовать и примерную и авторскую программы по учебному предмет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Примерные программы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23640" y="1599840"/>
            <a:ext cx="8569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ные программы учебных предметов для основной школы составлены на основе фундаментального ядра содержания общего образования и требований к результатам основного общего образования, представленных в ФГОС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ная программа учебного предмета определяет инвариантную (обязательную) часть учебного предмета, за пределами которой остается возможность авторского выбора вариативной составляющей содержания образования. Примерная программа не является нормативным документо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Авторские программы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вторская программа в совокупности с учебно-методическими материалами (учебниками, рабочими тетрадями, тетрадями для практических работ, сборниками заданий, контрольных работ, книгами для учителя, CD и т.д.составляет авторский УМК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 наличии УМК учителю рациональнее обеспечивать достижение образовательных результатов средствами учебного предмет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Преимущества использования авторских программ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4000" y="1599840"/>
            <a:ext cx="8640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вторские программы конкретизируют содержание предметных тем, включенных в стандарт, определяют в рамках авторской концепции изучения предмета в каждом классе распределение учебных часов по разделам, темам, набор практических, лабораторных работ, выполняемых учащимися, опытов, демонстрируемых учителем в классе и т.д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вторская программа не является нормативным документо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ализация авторских программ в каждом классе, как правило, подкреплена учебно-методическими материала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9640" y="188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имерная программа – средство, помогающее учителю проанализировать авторскую программу с точки зрения обеспечения требований стандарта, т.е. получить ответы на следующие вопросы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ражает ли авторская программа для данного класса в полной мере содержание, включенное в примерную программу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ое содержание авторской программы является избыточным по сравнению с содержанием примерной программы? Это будет список тем, не входящих в стандар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ое содержание из примерной программы отсутствует в авторской? Это будет список тем из стандарта, изучение которых следует обеспечить, не смотря на то, что их нет в авторской программ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Содержание рабочей программы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веты на эти вопросы определят содержание будущей рабочей программы, а именно: будет ли она отличаться от авторской (если – да, то в какой части и почему?) или не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бочая программа – нормативный документ, который иллюстрирует, как учитель планирует реализовывать авторскую программу с учетом особенностей ОУ (условий, образовательных потребностей обучающихся) и требований действующего стандар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9152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В целом структура и содержание рабочей программы определяется:</a:t>
            </a:r>
            <a:endParaRPr b="0" lang="en-US" sz="36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ребованиями ФГОС к образовательным результатам по предмету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лендарным учебным графиком образовательного учреждени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ъемом учебных часов на изучение предмета, курса согласно учебному плану для конкретного класс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целями и задачами, планируемыми образовательными результатами основной образовательной программы ступени общего образования образовательного учреждени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знавательными интересами обучающихся конкретного образовательного учреждени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ыбором образовательным учреждением УМК для обеспечения реализации рабочей программ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7T15:21:54Z</dcterms:created>
  <dc:creator>Пользователь</dc:creator>
  <dc:description/>
  <dc:language>en-US</dc:language>
  <cp:lastModifiedBy>Jakovleva-NG</cp:lastModifiedBy>
  <dcterms:modified xsi:type="dcterms:W3CDTF">2019-05-16T05:57:00Z</dcterms:modified>
  <cp:revision>46</cp:revision>
  <dc:subject/>
  <dc:title>«Деление ядер урана»</dc:title>
</cp:coreProperties>
</file>