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917E-6EC0-425D-8D9D-7937A69E72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7CF4-050E-49C4-BBCF-5764CEF6132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9A00-C471-421B-AC59-3A0F8E7445E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53D8-FCB5-4DA5-9D32-53946341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ADA5-22EF-4173-BC3E-53950ED9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887B-4933-48BE-8C44-D02DB216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3B3-687E-4F8F-8F0F-ACB33534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BE86-87F1-4195-A26C-6896DDD0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1B48-0DE4-4A1F-AA26-D292905A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16DF-DFBD-4333-B963-903635D4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BCEE-5802-45AE-BD72-8F81FB18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1209-FF4D-4812-A871-6CF05B31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7214-8F11-4BA7-A220-40114889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AADA-11AB-4C54-94BA-5757EA2E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A547-F7F7-409D-BEF4-A2230E97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0A7F-7DDD-4194-A687-02048D8A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C527-F402-4F36-A48F-DB0F72A5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534B-26C5-46FB-B2E7-1181FC89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8B14-A34D-4DA3-B43E-D864E21D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7C2F-DA24-4104-9C48-6737C962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6C37-9411-41A1-87BE-70EB053C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F8C0-9666-4956-AE13-CE60AF33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3A16-60C2-4B07-8A31-4233FE08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9CB9-C249-4770-8E41-256CB60E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014-FBF2-47FE-BCF7-BA51B2C2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0A6C-3E2C-447F-9F85-48C25575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642D-CDE6-4368-B006-9F6EDD5F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4ACF-888E-495E-B3E7-0857ED2BAB3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F272-5430-40BA-A710-1A4A3E91271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Разработка рабочих программ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учебных предметов и курсов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соответствии с требованиями ФГОС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Нормативные документы, лежащие в основе рабочих программ</a:t>
            </a: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ГОС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ОП образовательного учреждения, в том числе учебный план основного общего образования, программа развития универсальных учебных действ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едеральный перечень учебн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следующие материа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Документы, лежащие в основе</a:t>
            </a:r>
            <a:br>
              <a:rPr sz="40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 рабочи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кольку рабочие программы учебных предметов курсов являются компонентом основной общеобразовательной программы ступени, их разработка и утверждение относится к компетенции образовательного учреждения (п. 5 ст. 12 Федерального закона № 273 от 29.12.2012 «Об образовании в Российской Федерации»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овательно, регламентировать структуру и содержание рабочей программы в образовательном учреждении может локальный акт, например, «Положение о рабочей программе учебного предмета, курса». Данный локальный акт определяет правила, нормы, объективно отражающие требования к рабочим программ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предмет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тульный лис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ая запис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ий поурочный план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е образовательные результаты на конец обучения в данном класс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собы оценивания образовательных результатов обучаю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итульный лист отражает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е наименование образовательного учреждения в соответствии с Устав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у утверждения рабочей программы в соответствии с Положением о рабочей программ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асс, для которого разработа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реализации рабочей программ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.И.О. учителя, составившего рабочую програм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год составления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928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Пояснительная записка рабочей    программы должна отражать сведени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перечне нормативных документов и материалов, на основе которых составлен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бщем количестве часов на учебный год, в неделю, на которые рассчитано преподавание предмета в данном класс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целях и задачах преподавания предмета в данном классе. Определяются на основе примерной или  авторской программы для данного класса с учетом специфики образовательного учрежд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ведущих формах, методах и средствах обучения, технологиях и т.д., которые будут использоваться учителем для реализации рабочей программы. При переходе на новый стандарт актуальными с точки зрения достижения новых образовательных результатов становятся способы обучения, реализующие системно-деятельностный подход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тличительных особенностях рабочей программы по сравнению с авторской и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чинах внесения измен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Причины для внесения изменений в авторскую программу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чин для внесения изменений в авторскую программу могут выступа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практической части авторской программы лабораторным оборудованием, другими средства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авторской программой в полной мере содержания образования по предмету в соответствии с требованиями ФГО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ематический поурочны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с учетом учебного плана образовательного учреждения для данной ступени образования. Он раскрывает последовательность изучения содержания программы, распределение количества учебных часов по разделам и темам, конкретизирует все дидактические единицы содержания в рамках каждого урока, определяет проведение контрольных, лабораторных, практических и других видов работ, планируемые результаты изучения раздел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на учебный год и оформляется в виде таблицы и является обязательной частью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ланируемые образовательные результаты обучающихся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т обязательный структурный компонент рабочей программы отражает перечень требований к личностным, метапредметным, предметным результатам, на достижение которых она направле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бразовательным результатам обучающихся, прописанные в рабочей программе не должны быть ниже, сформулированных в стандар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писанию планируемых образовательных результатов: они должны быть реально опознаваемы с помощью диагностических инстр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209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Способы оценивания планируемых образовательных результатов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й структурный компонент рабочей программы требует фиксирования сведений о количестве контрольных мероприятий, форме промежуточной аттест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х, методах, средствах контроля и оценки планируемых образовательных результатов обучающихся при реализации данной рабочей программы, которые планирует реализовать учит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4000" y="47592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ложения к рабочей программе педагогом могут представляться также и средства контроля и оценки образовательных результа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шение о необходимости предоставления учителем средств контроля может быть принято педагогическим советом образовательного учреждения и зафиксировано в «Положении о рабочей программ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Рабочая программа учебного предмета или кур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казывает как с учетом конкретных условий, образовательных потребностей, возрастных и других особенностей обучающихся конкретного класса учитель планирует осуществлять образовательный процесс по предмету на основе ФГОС. По сути, рабочая программа – это индивидуальная педагогическая модель реализации образовательного процесса обучения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Учебно-методическое обеспечение образовательного процес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основную и дополнительную учебную литературу для обучающих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ики, учебные пособия, рабочие тетради, сборники задач и упражнений, тестов, контрольных и практических работ, практикумов, хрестомат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равочные пособия (словари, справочники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глядный материал (атласы, альбомы, карты, таблицы) и другие информационные источники, которые учитель планирует использовать для реализации рабочей програм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Материально-техническое обеспечение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жает перечень учебного оборудования и оборудования для лабораторных, практических работ, организации проектной и исследовательской деятельности обучающихся и т.д., которые учитель планирует использовать при реализации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Лист внесения изменений в рабочую программу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560" y="148392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атривает фиксацию возможных изменений в рабочей программе, необходимость в которых может возникнуть в течение учебного го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итель имеет право вносить изменения в рабочую программу только на основании приказа руководителя образовательного учреждения или при условии согласования изменений с заместителем руководителя бразовательного учреждения по учебно-воспитательной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и содержание рабочей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ограммы учебного курса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учебного курса может составляться как на основе авторской (если таковая имеется), так и самим педагог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первом случае структурные компоненты рабочей программы учебного курса совпадают со структурными компонентами рабочей программы учебного предме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случае, когда программа разрабатывается самим педагогом и, по сути, является авторской, структурные компоненты, должны быть дополнены еще учебно-тематическим планом и содержанием учебного кур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ой запис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тематическ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ания учебного кур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ого поурочн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х образовательных результат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а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-тематически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бно-тематический план представляет собой разделение всего содержания учебного курса на дидактические единицы разделы, их нумерацию с указанием продолжительности их изучения. Он предваряет такой компонент рабочей программы как «Содержани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держание учебного курса представляет собой краткое содержание каждого раздела согласно нумерации в учебно-тематическом пла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ыбрать авторскую программу и соответствующий к ней учебно-методический комплект (УМК) из Федерального перечня, рекомендованного Минобрнауки РФ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Сравнить цели изучения учебного предмета в выбранн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рской программе для данного класса с целями, зафиксированными в примерной программе. При необходимости выполнить корректировку целей авторской программы, отразить этот факт в тексте пояснительной записки РП, обосновав причину корректиров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Сравнить требования к планируемым образовательным результатам обучающихся на конец обучения в данном классе в выбранной авторской программе с такими же требованиями, прописанными в примерной программе по учебному предме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155700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Сравнить содержание образования по предмету, представленное в авторской программе для всех классов данной ступени и примерной програм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Составить тематический поурочный пла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Определить состав УМ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Оформить текст рабочей программы в соответствии с требовани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Выполнить самоэкспертизу качества составленной рабочей программы с учетом требований «Положения о рабочей программе», критериями качества, разработанными в О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. Провести внешнюю экспертизу рабочей программы. Результаты рассмотрения представить в виде выписки из протокола заседания методического объедин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. Представить рабочую программу к утверждению в соответствии с принятой в образовательном учреждении процедур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1187280" y="357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Основные требования к рабочей программе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483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чие программы должны быть направлены на достижение образовательных результатов. В связи с этим рабочие программы должны разрабатываться учителем на основе требований к планируемым образовательным результат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разработке рабочей программы учителю рекомендуется использовать и примерную и авторскую программы по учебному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имерны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ые программы учебных предметов для основной школы составлены на основе фундаментального ядра содержания общего образования и требований к результатам основного общего образования, представленных в ФГО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 определяет инвариантную (обязательную) часть учебного предмета, за пределами которой остается возможность авторского выбора вариативной составляющей содержания образования. Примерная программа не является нормативным докумен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Авторски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в совокупности с учебно-методическими материалами (учебниками, рабочими тетрадями, тетрадями для практических работ, сборниками заданий, контрольных работ, книгами для учителя, CD и т.д.составляет авторский УМ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наличии УМК учителю рациональнее обеспечивать достижение образовательных результатов средствами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еимущества использования авторск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ие программы конкретизируют содержание предметных тем, включенных в стандарт, определяют в рамках авторской концепции изучения предмета в каждом классе распределение учебных часов по разделам, темам, набор практических, лабораторных работ, выполняемых учащимися, опытов, демонстрируемых учителем в классе и т.д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ая программа не является нормативным документ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лизация авторских программ в каждом классе, как правило, подкреплена учебно-методическими материал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964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мерная программа – средство, помогающее учителю проанализировать авторскую программу с точки зрения обеспечения требований стандарта, т.е. получить ответы на следующие вопрос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ли авторская программа для данного класса в полной мере содержание, включенное в примерную программ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авторской программы является избыточным по сравнению с содержанием примерной программы? Это будет список тем, не входящих в стандар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из примерной программы отсутствует в авторской? Это будет список тем из стандарта, изучение которых следует обеспечить, не смотря на то, что их нет в авторской програм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рабочей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на эти вопросы определят содержание будущей рабочей программы, а именно: будет ли она отличаться от авторской (если – да, то в какой части и почему?) или не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– нормативный документ, который иллюстрирует, как учитель планирует реализовывать авторскую программу с учетом особенностей ОУ (условий, образовательных потребностей обучающихся) и требований действующего стандар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целом структура и содержание рабочей программы определяетс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ованиями ФГОС к образовательным результатам по предмет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лендарным учебным графиком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емом учебных часов на изучение предмета, курса согласно учебному плану для конкретного клас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ями и задачами, планируемыми образовательными результатами основной образовательной программы ступени общего образования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знавательными интересами обучающихся конкретного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бором образовательным учреждением УМК для обеспечения реализации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7:00Z</dcterms:modified>
  <cp:revision>46</cp:revision>
  <dc:subject/>
  <dc:title>«Деление ядер урана»</dc:title>
</cp:coreProperties>
</file>