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9B6D-BD8A-493F-85AE-A2BC74776C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BC7A-687D-433A-B694-3C8CE1D8A1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1A35-1F4D-4EBD-91F6-2117517A6F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D561-2E81-4F42-855A-0B457237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CAB-E94E-47C3-891A-EA7427D6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D0C5-84D5-4C0F-8544-EBC714EF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DA07-AB58-45B1-912B-6FD60A13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9BD14-F819-4858-8312-F9DB08DE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86FA-FAB3-41E6-96C6-2A465D7F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9474-C333-49D3-BD6F-7F9E9811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4FC2-CD1B-4B0B-8D05-2BE8AC12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F097-3748-468E-9F2F-3EDC622E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0F8E-8DBB-4A5A-B46A-90CB7A27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C53D-4802-47AE-861A-AC70A1CA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1F96-DF71-400F-A0F4-CF7AD598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2ED6-0FD5-4D0E-ACB6-21F5587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65E5-F99B-4449-8B5F-8BD5A41B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78C7-D9CA-4688-85D4-ECD80F363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3F0E6-9F80-4878-AE99-65DAE3C0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F298-91BC-4A13-AA09-302C528F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17A4-0424-4CC9-86C8-1CCF9491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13B-57D8-4FFB-97A1-CA9C58EEE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FB6B-6770-49E9-A856-FF735012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0D8-2DD2-4444-8BD1-0D3D6B32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CCB-0714-4196-B270-10F1282E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D3C-FE6D-479E-805E-1A5C02FD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8767-D8DE-4575-B31D-3F7EB64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3D02-669C-437F-B7A8-0D3B3C7E60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7BE1-A23A-4AA2-A3E8-D035B2F463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685440"/>
            <a:ext cx="856908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Разработка рабочих программ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учебных предметов и курсов</a:t>
            </a:r>
            <a:br>
              <a:rPr sz="3600"/>
            </a:b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соответствии с требованиями ФГОС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Нормативные документы, лежащие в основе рабочих программ</a:t>
            </a: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1483920"/>
            <a:ext cx="853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ГОС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ОП образовательного учреждения, в том числе учебный план основного общего образования, программа развития универсальных учебных действий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едеральный перечень учебн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следующие материа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Документы, лежащие в основе</a:t>
            </a:r>
            <a:br>
              <a:rPr sz="4000"/>
            </a:b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 рабочи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кольку рабочие программы учебных предметов курсов являются компонентом основной общеобразовательной программы ступени, их разработка и утверждение относится к компетенции образовательного учреждения (п. 5 ст. 12 Федерального закона № 273 от 29.12.2012 «Об образовании в Российской Федерации»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овательно, регламентировать структуру и содержание рабочей программы в образовательном учреждении может локальный акт, например, «Положение о рабочей программе учебного предмета, курса». Данный локальный акт определяет правила, нормы, объективно отражающие требования к рабочим программ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предмет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тульный лис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ая запи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ий поурочный план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е образовательные результаты на конец обучения в данном класс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особы оценивания образовательных результатов обучающихс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е обеспечение образовательного процесса по предмету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итульный лист отражает: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е наименование образовательного учреждения в соответствии с Уставо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у утверждения рабочей программы в соответствии с Положением о рабочей программе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учебного предмет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ласс, для которого разработан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реализации рабочей программ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.И.О. учителя, составившего рабочую программ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 год составления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928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Пояснительная записка рабочей    программы должна отражать сведени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перечне нормативных документов и материалов, на основе которых составлен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бщем количестве часов на учебный год, в неделю, на которые рассчитано преподавание предмета в данном класс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целях и задачах преподавания предмета в данном классе. Определяются на основе примерной или  авторской программы для данного класса с учетом специфики образовательного учрежд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ведущих формах, методах и средствах обучения, технологиях и т.д., которые будут использоваться учителем для реализации рабочей программы. При переходе на новый стандарт актуальными с точки зрения достижения новых образовательных результатов становятся способы обучения, реализующие системно-деятельностный подхо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 отличительных особенностях рабочей программы по сравнению с авторской и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ричинах внесения измен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Причины для внесения изменений в авторскую программу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чин для внесения изменений в авторскую программу могут выступат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практической части авторской программы лабораторным оборудованием, другими средств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еспеченность авторской программой в полной мере содержания образования по предмету в соответствии с требованиями ФГОС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Тематический поурочны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с учетом учебного плана образовательного учреждения для данной ступени образования. Он раскрывает последовательность изучения содержания программы, распределение количества учебных часов по разделам и темам, конкретизирует все дидактические единицы содержания в рамках каждого урока, определяет проведение контрольных, лабораторных, практических и других видов работ, планируемые результаты изучения раздел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тический поурочный план составляется на учебный год и оформляется в виде таблицы и является обязательной частью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ланируемые образовательные результаты обучающихся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тот обязательный структурный компонент рабочей программы отражает перечень требований к личностным, метапредметным, предметным результатам, на достижение которых она направле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бразовательным результатам обучающихся, прописанные в рабочей программе не должны быть ниже, сформулированных в стандарт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ования к описанию планируемых образовательных результатов: они должны быть реально опознаваемы с помощью диагностических инструмент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209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Способы оценивания планируемых образовательных результатов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й структурный компонент рабочей программы требует фиксирования сведений о количестве контрольных мероприятий, форме промежуточной аттестаци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х, методах, средствах контроля и оценки планируемых образовательных результатов обучающихся при реализации данной рабочей программы, которые планирует реализовать учи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4000" y="47592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приложения к рабочей программе педагогом могут представляться также и средства контроля и оценки образовательных результат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шение о необходимости предоставления учителем средств контроля может быть принято педагогическим советом образовательного учреждения и зафиксировано в «Положении о рабочей программ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277920"/>
            <a:ext cx="7859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Рабочая программа учебного предмета или кур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казывает как с учетом конкретных условий, образовательных потребностей, возрастных и других особенностей обучающихся конкретного класса учитель планирует осуществлять образовательный процесс по предмету на основе ФГОС. По сути, рабочая программа – это индивидуальная педагогическая модель реализации образовательного процесса обучения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Учебно-методическое обеспечение образовательного процесса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основную и дополнительную учебную литературу для обучающихс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ики, учебные пособия, рабочие тетради, сборники задач и упражнений, тестов, контрольных и практических работ, практикумов, хрестомат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равочные пособия (словари, справочники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глядный материал (атласы, альбомы, карты, таблицы) и другие информационные источники, которые учитель планирует использовать для реализации рабочей програм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Материально-техническое обеспечение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ажает перечень учебного оборудования и оборудования для лабораторных, практических работ, организации проектной и исследовательской деятельности обучающихся и т.д., которые учитель планирует использовать при реализации рабочей программ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Лист внесения изменений в рабочую программу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1483920"/>
            <a:ext cx="871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атривает фиксацию возможных изменений в рабочей программе, необходимость в которых может возникнуть в течение учебного год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итель имеет право вносить изменения в рабочую программу только на основании приказа руководителя образовательного учреждения или при условии согласования изменений с заместителем руководителя бразовательного учреждения по учебно-воспитательной работ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и содержание рабочей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ограммы учебного курс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учебного курса может составляться как на основе авторской (если таковая имеется), так и самим педагог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первом случае структурные компоненты рабочей программы учебного курса совпадают со структурными компонентами рабочей программы учебного предм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случае, когда программа разрабатывается самим педагогом и, по сути, является авторской, структурные компоненты, должны быть дополнены еще учебно-тематическим планом и содержанием учебного курс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труктура рабочей программы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505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яснительной записк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тематическ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ания учебного кур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атического поурочного план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ируемых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ебно-метод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ьно-технического обеспечения образовательного процес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ста внесения изменений в рабочую программ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Учебно-тематический план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бно-тематический план представляет собой разделение всего содержания учебного курса на дидактические единицы разделы, их нумерацию с указанием продолжительности их изучения. Он предваряет такой компонент рабочей программы как «Содержание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учебного кур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учебного курса представляет собой краткое содержание каждого раздела согласно нумерации в учебно-тематическом план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Выбрать авторскую программу и соответствующий к ней учебно-методический комплект (УМК) из Федерального перечня, рекомендованного Минобрнауки РФ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Сравнить цели изучения учебного предмета в выбр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рской программе для данного класса с целями, зафиксированными в примерной программе. При необходимости выполнить корректировку целей авторской программы, отразить этот факт в тексте пояснительной записки РП, обосновав причину корректиров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 Сравнить требования к планируемым образовательным результатам обучающихся на конец обучения в данном классе в выбранной авторской программе с такими же требованиями, прописанными в примерной программе по учебному предме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Этапы разработки и утверждения </a:t>
            </a:r>
            <a:br>
              <a:rPr sz="4400"/>
            </a:b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рабоч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 Сравнить содержание образования по предмету, представленное в авторской программе для всех классов данной ступени и примерной программ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. Составить тематический поурочный пла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 Определить состав УМК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7. Оформить текст рабочей программы в соответствии с требования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8. Выполнить самоэкспертизу качества составленной рабочей программы с учетом требований «Положения о рабочей программе», критериями качества, разработанными в О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. Провести внешнюю экспертизу рабочей программы. Результаты рассмотрения представить в виде выписки из протокола заседания методического объедин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0. Представить рабочую программу к утверждению в соответствии с принятой в образовательном учреждении процедуро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1187280" y="3573360"/>
            <a:ext cx="70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99"/>
                </a:solidFill>
                <a:latin typeface="Garamond"/>
              </a:rPr>
              <a:t>Основные требования к рабочей программе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9280" y="1483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чие программы должны быть направлены на достижение образовательных результатов. В связи с этим рабочие программы должны разрабатываться учителем на основе требований к планируемым образовательным результата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разработке рабочей программы учителю рекомендуется использовать и примерную и авторскую программы по учебному предме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имерны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1599840"/>
            <a:ext cx="856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ые программы учебных предметов для основной школы составлены на основе фундаментального ядра содержания общего образования и требований к результатам основного общего образования, представленных в ФГО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ная программа учебного предмета определяет инвариантную (обязательную) часть учебного предмета, за пределами которой остается возможность авторского выбора вариативной составляющей содержания образования. Примерная программа не является нормативным документ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Авторские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торская программа в совокупности с учебно-методическими материалами (учебниками, рабочими тетрадями, тетрадями для практических работ, сборниками заданий, контрольных работ, книгами для учителя, CD и т.д.составляет авторский УМ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наличии УМК учителю рациональнее обеспечивать достижение образовательных результатов средствами учебного предмет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Преимущества использования авторских программ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ие программы конкретизируют содержание предметных тем, включенных в стандарт, определяют в рамках авторской концепции изучения предмета в каждом классе распределение учебных часов по разделам, темам, набор практических, лабораторных работ, выполняемых учащимися, опытов, демонстрируемых учителем в классе и т.д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торская программа не является нормативным документо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лизация авторских программ в каждом классе, как правило, подкреплена учебно-методическими материал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964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имерная программа – средство, помогающее учителю проанализировать авторскую программу с точки зрения обеспечения требований стандарта, т.е. получить ответы на следующие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ражает ли авторская программа для данного класса в полной мере содержание, включенное в примерную программ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авторской программы является избыточным по сравнению с содержанием примерной программы? Это будет список тем, не входящих в стандар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ое содержание из примерной программы отсутствует в авторской? Это будет список тем из стандарта, изучение которых следует обеспечить, не смотря на то, что их нет в авторской програм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99"/>
                </a:solidFill>
                <a:latin typeface="Garamond"/>
              </a:rPr>
              <a:t>Содержание рабочей программы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на эти вопросы определят содержание будущей рабочей программы, а именно: будет ли она отличаться от авторской (если – да, то в какой части и почему?) или не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ая программа – нормативный документ, который иллюстрирует, как учитель планирует реализовывать авторскую программу с учетом особенностей ОУ (условий, образовательных потребностей обучающихся) и требований действующего стандар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В целом структура и содержание рабочей программы определяется: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ованиями ФГОС к образовательным результатам по предмету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лендарным учебным графиком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емом учебных часов на изучение предмета, курса согласно учебному плану для конкретного класс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ями и задачами, планируемыми образовательными результатами основной образовательной программы ступени общего образования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знавательными интересами обучающихся конкретного образовательного учрежден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бором образовательным учреждением УМК для обеспечения реализации рабочей програм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7:00Z</dcterms:modified>
  <cp:revision>46</cp:revision>
  <dc:subject/>
  <dc:title>«Деление ядер урана»</dc:title>
</cp:coreProperties>
</file>