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9272-6FDB-4EDC-A2E9-2BCD3188BB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EDC1-8683-4C00-BEDC-56953779BB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B422-C7AA-4BA0-89C1-43CFB1A9FB5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171-1DFE-4C67-B61F-C0AE3624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9CE-4D3D-41A4-B9D7-98973950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BAC-2994-41BC-9D08-18FA830D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986C-EE55-4327-ADBB-CD2343BF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1EB1-6381-41D0-848F-0DADABD3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2F58-C06D-4B15-8FC6-506B4382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901F-9113-4262-829A-C8AFD34A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68EF-191F-4E19-A661-3D08FECD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AA2B-CC1B-4322-88EE-6DC0C45F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5EA6-08EA-4DA3-81A6-28E74A0A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8164-9FD1-434E-9614-6A9FE275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4E5-EE39-49A0-B8D2-1E05195F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74FF-5700-42D6-BA38-90C6B690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A685-ECA9-4E8E-B0D2-D5824BF5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DE0D-2338-4AC4-B0D0-5C4C2747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5828-29AC-41EA-8943-245DC37A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E40B-7E35-442E-860D-DA8D1318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D74-D5D8-4BDD-BA3E-E80B7436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627-48ED-456F-9F1D-A02D5A2F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D69-4AB1-4176-8FFC-39BEAC3B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DE6-223C-49DC-91D3-2EDD776D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E31-491C-45DB-8711-562A504F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C27-EE95-4E0A-81D8-5890CDBD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DBC-C554-40C5-B0AB-47FFF6E2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52A4-9FAA-440F-B95B-2B8BC9F005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E994-B722-4A20-AB22-444D918218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Разработка рабочих программ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учебных предметов и курсов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соответствии с требованиями ФГОС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Нормативные документы, лежащие в основе рабочих программ</a:t>
            </a: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ГОС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ОП образовательного учреждения, в том числе учебный план основного общего образования, программа развития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едеральный перечень учеб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следующие материа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Документы, лежащие в основе</a:t>
            </a:r>
            <a:br>
              <a:rPr sz="40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 рабочи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рабочие программы учебных предметов курсов являются компонентом основной общеобразовательной программы ступени, их разработка и утверждение относится к компетенции образовательного учреждения (п. 5 ст. 12 Федерального закона № 273 от 29.12.2012 «Об образовании в Российской Федерации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тельно, регламентировать структуру и содержание рабочей программы в образовательном учреждении может локальный акт, например, «Положение о рабочей программе учебного предмета, курса». Данный локальный акт определяет правила, нормы, объективно отражающие требования к рабочим программ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предмет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тульный л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ий поурочный пла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е образовательные результаты на конец обучения в данном кл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оценивания образовательных результатов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итульный лист отражает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е наименование образовательного учреждения в соответствии с Устав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у утверждения рабочей программы в соответствии с Положением о рабочей програм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, для которого разработ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реализации рабочей програм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.И.О. учителя, составившего рабочую програм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год составления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Пояснительная записка рабочей    программы должна отражать сведени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еречне нормативных документов и материалов, на основе которых составле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бщем количестве часов на учебный год, в неделю, на которые рассчитано преподавание предмета в данном кла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целях и задачах преподавания предмета в данном классе. Определяются на основе примерной или  авторской программы для данного класса с учетом специфики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ведущих формах, методах и средствах обучения, технологиях и т.д., которые будут использоваться учителем для реализации рабочей программы. При переходе на новый стандарт актуальными с точки зрения достижения новых образовательных результатов становятся способы обучения, реализующие системно-деятельностный подхо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тличительных особенностях рабочей программы по сравнению с авторской 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чинах внесения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Причины для внесения изменений в авторскую программу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чин для внесения изменений в авторскую программу могут выступа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практической части авторской программы лабораторным оборудованием, другими средств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авторской программой в полной мере содержания образования по предмету в соответствии с требованиями ФГ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ематический поурочны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с учетом учебного плана образовательного учреждения для данной ступени образования. Он раскрывает последовательность изучения содержания программы, распределение количества учебных часов по разделам и темам, конкретизирует все дидактические единицы содержания в рамках каждого урока, определяет проведение контрольных, лабораторных, практических и других видов работ, планируемые результаты изучения разде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на учебный год и оформляется в виде таблицы и является обязательной частью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ланируемые образовательные результаты обучающихся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обязательный структурный компонент рабочей программы отражает перечень требований к личностным, метапредметным, предметным результатам, на достижение которых она направл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бразовательным результатам обучающихся, прописанные в рабочей программе не должны быть ниже, сформулированных в станда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писанию планируемых образовательных результатов: они должны быть реально опознаваемы с помощью диагностических инстр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Способы оценивания планируемых образовательных результатов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й структурный компонент рабочей программы требует фиксирования сведений о количестве контрольных мероприятий, форме промежуточной аттес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х, методах, средствах контроля и оценки планируемых образовательных результатов обучающихся при реализации данной рабочей программы, которые планирует реализовать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000" y="47592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ложения к рабочей программе педагогом могут представляться также и средства контроля и оценки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ение о необходимости предоставления учителем средств контроля может быть принято педагогическим советом образовательного учреждения и зафиксировано в «Положении о рабочей программ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Рабочая программа учебного предмета или к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зывает как с учетом конкретных условий, образовательных потребностей, возрастных и других особенностей обучающихся конкретного класса учитель планирует осуществлять образовательный процесс по предмету на основе ФГОС. По сути, рабочая программа – это индивидуальная педагогическая модель реализации образовательного процесса обучения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Учебно-методическое обеспечение образовательного процес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основную и дополнительную учебную литературу для обучающих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и, учебные пособия, рабочие тетради, сборники задач и упражнений, тестов, контрольных и практических работ, практикумов, хрестомат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равочные пособия (словари, справочники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й материал (атласы, альбомы, карты, таблицы) и другие информационные источники, которые учитель планирует использовать для реализации рабочей програм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Материально-техническое обеспечение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перечень учебного оборудования и оборудования для лабораторных, практических работ, организации проектной и исследовательской деятельности обучающихся и т.д., которые учитель планирует использовать при реализации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Лист внесения изменений в рабочую программ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48392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атривает фиксацию возможных изменений в рабочей программе, необходимость в которых может возникнуть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имеет право вносить изменения в рабочую программу только на основании приказа руководителя образовательного учреждения или при условии согласования изменений с заместителем руководителя бразовательного учреждения по учебно-воспитательно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и содержание рабочей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ограммы учебного курс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учебного курса может составляться как на основе авторской (если таковая имеется), так и самим педагог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первом случае структурные компоненты рабочей программы учебного курса совпадают со структурными компонентами рабочей программы учебного предм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лучае, когда программа разрабатывается самим педагогом и, по сути, является авторской, структурные компоненты, должны быть дополнены еще учебно-тематическим планом и содержанием учеб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ой запис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тематическ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я учебного кур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ого поурочн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х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а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-тематически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бно-тематический план представляет собой разделение всего содержания учебного курса на дидактические единицы разделы, их нумерацию с указанием продолжительности их изучения. Он предваряет такой компонент рабочей программы как «Содержа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учебного курса представляет собой краткое содерж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брать авторскую программу и соответствующий к ней учебно-методический комплект (УМК) из Федерального перечня, рекомендованного Минобрнауки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равнить цели изучения учебного предмета в выбр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ской программе для данного класса с целями, зафиксированными в примерной программе. При необходимости выполнить корректировку целей авторской программы, отразить этот факт в тексте пояснительной записки РП, обосновав причину корректиро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Сравнить требования к планируемым образовательным результатам обучающихся на конец обучения в данном классе в выбранной авторской программе с такими же требованиями, прописанными в примерной программе по учебному предм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авнить содержание образования по предмету, представленное в авторской программе для всех классов данной ступени и примерной програм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Составить тематический поурочный пл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Определить состав УМ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формить текст рабочей программы в соответствии с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Выполнить самоэкспертизу качества составленной рабочей программы с учетом требований «Положения о рабочей программе», критериями качества, разработанными в О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овести внешнюю экспертизу рабочей программы. Результаты рассмотрения представить в виде выписки из протокола заседания методического объеди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ставить рабочую программу к утверждению в соответствии с принятой в образовательном учреждении процеду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187280" y="357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Основные требования к рабочей программе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программы должны быть направлены на достижение образовательных результатов. В связи с этим рабочие программы должны разрабатываться учителем на основе требований к планируемым образовательным результа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зработке рабочей программы учителю рекомендуется использовать и примерную и авторскую программы по учебно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имерны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е программы учебных предметов для основной школы составлены на основе фундаментального ядра содержания общего образования и требований к результатам основного общего образования, представленных в ФГ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 определяет инвариантную (обязательную) часть учебного предмета, за пределами которой остается возможность авторского выбора вариативной составляющей содержания образования. Примерная программа не является нормативным докуме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Авторски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в совокупности с учебно-методическими материалами (учебниками, рабочими тетрадями, тетрадями для практических работ, сборниками заданий, контрольных работ, книгами для учителя, CD и т.д.составляет авторский УМ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аличии УМК учителю рациональнее обеспечивать достижение образовательных результатов средствами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еимущества использования авторск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ие программы конкретизируют содержание предметных тем, включенных в стандарт, определяют в рамках авторской концепции изучения предмета в каждом классе распределение учебных часов по разделам, темам, набор практических, лабораторных работ, выполняемых учащимися, опытов, демонстрируемых учителем в классе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ая программа не является нормативным докумен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авторских программ в каждом классе, как правило, подкреплена учебно-метод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ная программа – средство, помогающее учителю проанализировать авторскую программу с точки зрения обеспечения требований стандарта, т.е. получить ответы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ли авторская программа для данного класса в полной мере содержание, включенное в примерную програм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авторской программы является избыточным по сравнению с содержанием примерной программы? Это будет список тем, не входящих в станда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из примерной программы отсутствует в авторской? Это будет список тем из стандарта, изучение которых следует обеспечить, не смотря на то, что их нет в авторской програм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рабочей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на эти вопросы определят содержание будущей рабочей программы, а именно: будет ли она отличаться от авторской (если – да, то в какой части и почему?) или 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– нормативный документ, который иллюстрирует, как учитель планирует реализовывать авторскую программу с учетом особенностей ОУ (условий, образовательных потребностей обучающихся) и требований действующего станда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целом структура и содержание рабочей программы определяетс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ми ФГОС к образовательным результатам по предме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ендарным учебным графиком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ом учебных часов на изучение предмета, курса согласно учебному плану для конкретного кла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ями и задачами, планируемыми образовательными результатами основной образовательной программы ступени общего образования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вательными интересами обучающихся конкретного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ом образовательным учреждением УМК для обеспечения реализации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7:00Z</dcterms:modified>
  <cp:revision>46</cp:revision>
  <dc:subject/>
  <dc:title>«Деление ядер урана»</dc:title>
</cp:coreProperties>
</file>