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F7D1-C2FD-407C-9F32-0E9B34DB6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3C05-DFE4-4AF7-8F01-D301E550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D733-A34D-4D3E-AC5B-CC5AB95CB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DC28-35DC-40CE-8CEA-7E019A6E9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194E-9E6F-408F-9164-7C17059AC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0EB7-A8BD-4954-B6B6-39ACD0E6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79EC-39B4-4E31-A914-C6575924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2E70-8AA2-41FB-8582-B1F39800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0A4D-1562-4B1E-9A50-3C5931AE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4D2B-8D45-4601-BFCC-379E7AEB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8D5C-2E16-4403-B165-01266E9F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A8C7-2B95-4D38-9680-48670CCD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2E7B-E06A-4B41-B231-BC79AF17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6543-E1CB-4331-B58C-2C75B9BE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DB11-26FB-47D3-87DE-69F8F09C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5456-5DB5-4F19-A73A-C76C1A72C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FC40-EC0D-401A-98E3-F510F267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FD9B-1D6B-457F-AB29-91DDF38E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9E49-CEB4-4AC9-AC9A-E995D47D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B8A5-ED59-4A70-B4FA-586D16F1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B150-5816-4D77-99B5-0378A87B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7B61-CDBE-4654-9B82-9165BD89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66C8-023C-40A3-8757-B5E1AEB1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0933-EDD4-473E-9D0F-1731243D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BBBB-7ECC-4559-8886-F590A85E8BA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25A3-FF0F-4853-9F2D-6B52AE61CBF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685440"/>
            <a:ext cx="87138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Блочно-модульное построение учебного материала в рамках компетентностного подхода к образованию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Яковлева Н.Г., научный  сотрудник отдела сопровождения ФГОС ГАУ ДПО «ИРО ПК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Что такое компетенции?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петенции представляют собой сочетание характеристик (относящихся к знанию и его при-менению, к позициям, навыкам и ответственности), которые описывают уровень или степень, до которой некоторое лицо способно эти компетенции реализова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ыми словами, «компетенция или компетентность, есть некоторое интегративное качество субъекта, включающее в себя когнитивные, мотивационные, ценностные и практические аспекты, которое проявляется в успешных действиях в какой-либо области»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Подводя итоги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ение модульной системы обучения самым непосредственным образом связано с построением новых федеральных образовательных стандартов на основе введения компетентностного подхода к организации учебного процесса, когда освоение определенного модуля приводит к формированию соответствующего набора компетенци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Подводя итоги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000" y="1699920"/>
            <a:ext cx="867564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понятие модуля в качестве необходимых компонентов значения входят законченность, самостоятельность и комплексность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влечет за собой включение в понимание модуля таких смысловых составляющих, как: объединение содержательных, организационных, методических и технологических компонентов; единство теоретических и прикладных аспектов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Подводя итоги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руктурная связанность всего образовательного комплекса; совмещение в одной организационно-методической структуре дидактических целей, логически завершенной единицы учебного материала, методического руководства и системы контрол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ем предметно-логического содержания, входящего в модуль, может быть: и раздел дисциплины, и отдельная дисциплина, и комплекс дисциплин одной направленности и единый комплекс, включающий в себя совокупность дисциплин и практик, ведущих к достижению определенных компетенци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800" spc="-1" strike="noStrike">
                <a:solidFill>
                  <a:srgbClr val="666699"/>
                </a:solidFill>
                <a:latin typeface="Garamond"/>
              </a:rPr>
              <a:t>Спасибо за внимание!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1547640" y="3357720"/>
            <a:ext cx="676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ковлева Надежда Геннадьевна, научный сотрудник отд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провождения ФГОС «ИРО ПК» (р.т. 8-342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12-21-99; с.т. 8-909-731-01-80, e-mail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nni1909@yandex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Модули в современном образовании: история вопроса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ождение идей модульного обучения можно отнести к 60-м годам, когда С.Н.Постлезвайтт (США) предложил концепцию единиц содержания обучения, согласно которой малую порцию (единицу) учебного материала можно считать автономной темой и свободно интегрировать в программу занятий. С.Н.Постлезвaйтт называл эти единицы «микрокурсами», потом – «миникурсами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х содержание и объем определялись дидактическими задачами. Впервые миникypcы были внедрены и получили быстрое распространение в колледжах и университетах США.  Позднее эти понятия были обобщены в понятие "модуль" ("module") и, соответственно, "модульное обучение" ("modular instruction"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Модули в современном образовании: зарубежный опыт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ще всего понятие «модуль» можно встретить в образовательных программах Германии. Модульный принцип здесь важен уже на этапе создания новой образовательной программ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ктивно используется понятие «модуль» и в образовательных программах  университетов Великобритании. Многие из них переходят на принцип модульного обучения в последние годы. Эта структура обеспечивает высокую гибкость при выборе и комбинации учебных курсов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Модули в современном образовании: зарубежный опыт.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дули - это самостоятельные, независимые обучающие единицы, срок освоения которых, как правило, длится один семестр и оценивается в 10 зачетных единиц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ждый модуль оценивается индивидуально после его освоения. Методы оценки включают письменные и устные экзамены, курсовые работы, подготовку проектов, экзамены по практик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569440" cy="120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Garamond"/>
              </a:rPr>
              <a:t>Модульно – компетентностный подход в российской системе образования.</a:t>
            </a:r>
            <a:endParaRPr b="0" lang="en-US" sz="3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699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водимую систему обучения логично именовать модульно-компетентностной, т. к. ее основные элементы - модули и компетенции выступают как тесно взаимосвязанные и взаимодополняющие друг друга компоненты единого целог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ждый модуль может осваиваться независимо, а их совокупность позволяет достичь итоговой компетентности в профессиональной сфер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49636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99"/>
                </a:solidFill>
                <a:latin typeface="Garamond"/>
              </a:rPr>
              <a:t>Преимущества модульного построения образовательных программ.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ь ясно и четко формулировать цели и задачи программ обучени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дивидуализация учебного процесса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ышение гибкости программ обучени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особность формирования стандартных, объективных, независимых условий оценки качества освоения программ обуче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99"/>
                </a:solidFill>
                <a:latin typeface="Garamond"/>
              </a:rPr>
              <a:t>Что такое модуль?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«Модуль - Отделяемая, относительно самостоятельная часть какой-либо системы, организации, устройства»» (Современный словарь иностранных слов. - М., 1993. - 389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«Модуль - Часть прибора или конструкция, собранная из типовых деталей и имеющая многоцелевое применение» (Словарь русского языка в 4-х томах. - Т.2. - М., 1982.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С. 287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«Модуль - Вообще отделяемая, относительно самостоятельная часть какой-нибудь системы, организации» (Ожегов С.И. и Шведова Н.Ю. Толковый словарь русского языка. - М., 1999. - С.361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68000" y="260280"/>
            <a:ext cx="8280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аким образом, модуль представляет собой относительно самостоятельную единицу образовательной программы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правленную на формирование определенной компетенции или группы компетенций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ыми словами, модуль - это законченная единица образовательной программы, формирующая одну или несколько определенных компетенций, сопровождаемая контролем знаний и умений обучаемых на выход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ответственно, модульная образовательная программа - это совокупность и последовательность модулей, направленная на овладение определенными компетенциям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11280" y="188640"/>
            <a:ext cx="81374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специальной литературе выделяются следующие уровни применения модульной системы обучения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изший уровень - модульная система применяется лишь для контроля успеваем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едний уровень - по модульной системе связываются отдельные дисциплин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сший уровень - модульная система обучения связывает все дисциплины учебного плана, т. е. обучение ведется по модульному учебному плану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7T15:21:54Z</dcterms:created>
  <dc:creator>Пользователь</dc:creator>
  <dc:description/>
  <dc:language>en-US</dc:language>
  <cp:lastModifiedBy>Jakovleva-NG</cp:lastModifiedBy>
  <dcterms:modified xsi:type="dcterms:W3CDTF">2019-05-16T05:56:12Z</dcterms:modified>
  <cp:revision>16</cp:revision>
  <dc:subject/>
  <dc:title>«Деление ядер урана»</dc:title>
</cp:coreProperties>
</file>