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6439-234A-4D45-882B-C3778BEC3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27B2-8903-4947-8511-A69F0B94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73DD-EAE5-4D44-8B39-554F3E3DD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2A5A-17A6-403F-9D31-9496D79B3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EFE9-33CA-4EA2-A2D0-518C0C2EF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FE04B-67D2-47A4-84CC-76BA145C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58E0B-829E-46C5-A897-1F2052FC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0B67-8F32-4392-8475-0DD2B254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C5F1-825B-4F69-9B83-A09B9827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C36F-0185-4DDA-B52F-59611C52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0224-C78C-4C71-A56F-9DF52C6D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F026-3E47-4BC8-9FEA-82B6395A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FA71-75E1-4CD3-A285-B6D27BCE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D858-BBD0-4A86-B0BD-36D346EC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12F9-CEAE-49AD-82CD-23FC1FBF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4542-3224-4D15-B6DE-D35C2229E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7369-CEF9-49F1-A306-B850C4DD8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0680-5D02-4818-A42B-33E83CD2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16B7-CD37-4196-BFC0-70688090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1265-21C1-45C4-BD70-506ABCA8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2B1F-8A2C-474F-96EE-4BF26C54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DB07-346A-45BB-BE6A-17C3942A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9997-0A49-4888-99EC-CA414416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9334-B24A-4F6B-A598-E082035F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2ED8-8EE4-467B-8F98-3EF4C8864786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FF9B-8482-4B72-B933-AD601A08F086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Тьюторское сопровождение  профессионального развития педагога</a:t>
            </a:r>
            <a:br>
              <a:rPr sz="48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343040" y="4351320"/>
            <a:ext cx="4095720" cy="18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Выполнил: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Тяпугина С.Н.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методист по сельским школам МОУ ДПО «ЦНМО»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г. Лысьва, 2009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Профессиональные умения тьютора</a:t>
            </a:r>
            <a:br>
              <a:rPr sz="3600"/>
            </a:b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Тьютор- человек творческий, обладающий педагогическим тактом, способностью к эмпатии, компетентным в своей специальности и имеющий высокий уровень общей культур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Личностные качества тьютора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 сообразительность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работоспособность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эмоциональная восприимчивость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чувство юмора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психологическая зорк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сосредоточенн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критичн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стойкость в преодолении консерватизма, отстаивании своей позиции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четкость, оригинальность, активн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чувство нового, стремление к его познанию, способность к преодолении инерции мышлени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Требования к профессиональной позиции тьютора</a:t>
            </a:r>
            <a:r>
              <a:rPr b="1" i="1" lang="ru-RU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Тьютор является педагогом, работающим в тех же нормативно-организационных и финансово-материальных условиях, что и обучаемый им учитель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Он должен обладать позитивным опытом ведения инновационной деятельности в образовании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Должен быть готов к профессионально-личностному саморазвитию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Ориентирован на профессиональное общение на основе равноправных партнерских отношений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Должен быть профессионально компетентен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Тьюторское сопровождение-</a:t>
            </a:r>
            <a:r>
              <a:rPr b="1" lang="ru-RU" sz="4000" spc="-1" strike="noStrike">
                <a:solidFill>
                  <a:srgbClr val="2a3d7a"/>
                </a:solidFill>
                <a:latin typeface="Times New Roman"/>
              </a:rPr>
              <a:t> это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особый тип педагогического сопровождение педагога, грамотное и заботливое сопровождение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Основные характеристики тьюторского сопровождения педагога: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b5249"/>
                </a:solidFill>
                <a:latin typeface="Times New Roman"/>
              </a:rPr>
              <a:t>субъектная активность, и тьютора, и подопечного.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Преимущества тьюторской технологии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в ходе профессионального общения вырабатываетс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продуктивное взаимодействие,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 проявляется инициатива и того, и другого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тьюторская технологи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активизирует обучаемых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, превращает из пассивных потребителей информации в творческих соучастников процесса обучения.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Этапы тьюторской технологии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диагностически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мотивационны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целеполагающи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проектировочны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оценочно- результативны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Эффективность тьюторской технологии для педагога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362320"/>
            <a:ext cx="777240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- удовлетворение профессионально- образовательные потребности педагог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активное развитие компетентности, креативно- аналитического мышления педагог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творческая самореализация и саморазвитие педагог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Эффективность тьюторской технологии для педагога- тьютора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деятельность дает огромные возможности для профессионального и личностного роста педагога - тьютор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8380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«Ученик будет знать, что существует, </a:t>
            </a:r>
            <a:br>
              <a:rPr sz="3200"/>
            </a:b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ребенок научится ходить сам по проторенному пути, </a:t>
            </a:r>
            <a:br>
              <a:rPr sz="3200"/>
            </a:b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а подопечный тьютора научится создавать путь.» </a:t>
            </a:r>
            <a:br>
              <a:rPr sz="3200"/>
            </a:b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(Рыбалкин Н.В. «Тьюторство: идеи и идеалогия»)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609480" y="2133360"/>
            <a:ext cx="81010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609480" y="1752480"/>
            <a:ext cx="792504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2a3d7a"/>
                </a:solidFill>
                <a:latin typeface="Times New Roman"/>
              </a:rPr>
              <a:t>Тьютор(</a:t>
            </a:r>
            <a:r>
              <a:rPr b="1" i="1" lang="en-US" sz="4800" spc="-1" strike="noStrike">
                <a:solidFill>
                  <a:srgbClr val="2a3d7a"/>
                </a:solidFill>
                <a:latin typeface="Times New Roman"/>
              </a:rPr>
              <a:t>Tutor</a:t>
            </a:r>
            <a:r>
              <a:rPr b="1" i="1" lang="ru-RU" sz="4800" spc="-1" strike="noStrike">
                <a:solidFill>
                  <a:srgbClr val="2a3d7a"/>
                </a:solidFill>
                <a:latin typeface="Times New Roman"/>
              </a:rPr>
              <a:t>) -</a:t>
            </a:r>
            <a:r>
              <a:rPr b="1" lang="ru-RU" sz="4400" spc="-1" strike="noStrike">
                <a:solidFill>
                  <a:srgbClr val="5b5249"/>
                </a:solidFill>
                <a:latin typeface="Times New Roman"/>
              </a:rPr>
              <a:t> это преподаватель, консультант(по карьере), наставник, куратор, партнер обучающихся взрослых.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Задачи тьютора: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-сопровождать учителя при овладении им учебной программой,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- изучать индивидуальность педагога, с которым работает, его затруднения, профессиональные интересы.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Особенности</a:t>
            </a:r>
            <a:br>
              <a:rPr sz="3600"/>
            </a:b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 педагогической деятельности тьютора: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3276720"/>
            <a:ext cx="7772400" cy="30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тьютор отдает приоритет процессу самообучения педагог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- тьютор отдает предпочтение практической направленности обучен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- цели обучения становятс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предметом согласования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 между тьютором и педагогом, обучение строитс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на гибкой основе 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и в соответствии с потребностями педагог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2a3d7a"/>
                </a:solidFill>
                <a:latin typeface="Times New Roman"/>
              </a:rPr>
              <a:t>Функции тьютора: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609480" y="2455200"/>
            <a:ext cx="7925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Arial"/>
              </a:rPr>
              <a:t>- осуществляет экспертизу педагогической деятельности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5b524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Arial"/>
              </a:rPr>
              <a:t>повышает мотивацию и вовлекает учителя в процесс самообразован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-определяет целеполагание, проектирует учебные модули заняти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проводит консультации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диагностирует состояние и ход обучен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корректирует деятельность педагог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a3d7a"/>
                </a:solidFill>
                <a:latin typeface="Times New Roman"/>
              </a:rPr>
              <a:t>Содержание деятельности тьютора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Информ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Информирование педагогов о дополнительной научной литературе, возможности повысить квалификацию, участвовать в профессиональных конкурсах и т.д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Консульт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Консультирование по методологическим составляющим проектов, современным образовательным технологиям, описанию ИТ опыта и т.д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бучающ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бучение описанию собственного инновационного опыта работы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a3d7a"/>
                </a:solidFill>
                <a:latin typeface="Times New Roman"/>
              </a:rPr>
              <a:t>Содержание деятельности тьютора</a:t>
            </a:r>
            <a:br>
              <a:rPr sz="3600"/>
            </a:b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Мотив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Создание у педагога внутренней установки к собственному развитию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рганиз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рганизация работы временного творческого коллектива, планирование и анализ его деятельности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Диагностическ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Проведение входящей, промежуточной и итоговой диагностики педагогов – инноваторов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2a3d7a"/>
                </a:solidFill>
                <a:latin typeface="Times New Roman"/>
              </a:rPr>
              <a:t>Тьютор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должен обладать системой интеллектуальных, волевых и эмоционально- оценочных отношений к миру, к педагогической действительности  и к новой для него деятельности, что становится источником его активност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юдмила Александровна Молош</cp:lastModifiedBy>
  <dcterms:modified xsi:type="dcterms:W3CDTF">2018-10-31T04:29:01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