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B51-8561-4FDB-9FAB-EFC567B9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9814-73E2-4ADD-BCCE-846472171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3765-AE03-4347-B91F-C700A4EAE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B32-7DA1-406B-ABF1-A9471F65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060-F52C-4AF3-9538-EF93E84C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7F3B-74DF-4EE8-A722-05952D90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46E6-6848-4A74-9B00-B76EEC12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377AA-836C-40C2-B5F6-17BC6EF2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26A6-C542-41DF-A5B2-357B196C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E5AE1-3227-475D-842D-CA462A12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E0A5-99C5-4F41-9CAA-8437BEF7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8146-BBF5-47A6-8B4E-B0F335D6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7F04-D2D5-4925-97F0-23E81F97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D4DDD-73D1-4953-8370-C123A4A5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27A2D-3978-4754-B403-AB483B2F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854E-BC78-4D5C-8271-6CADCC26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1FD2-2358-4984-869A-9D0AC0EC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42E-D665-4761-9298-34DA475C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B207-5CE8-4C3F-BE72-77608234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BD94-FBDA-4854-AAD7-694CC33F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798-FD09-4972-8AC5-D17F49ED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8AB-649E-45B9-92F3-39389398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AB8-46DA-40B5-977F-C3121CAB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7EF4-7C13-421E-84A0-93A5218A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4C34-0F3D-4DDB-BE7E-F74188E4D339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33004-3430-4C0D-9B66-63B7589B846C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  профессионального развития педагога</a:t>
            </a:r>
            <a:br>
              <a:rPr sz="48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43040" y="4351320"/>
            <a:ext cx="409572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Выполнил: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Тяпугина С.Н.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методист по сельским школам МОУ ДПО «ЦНМО»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a"/>
                </a:solidFill>
                <a:latin typeface="Times New Roman"/>
              </a:rPr>
              <a:t>г. Лысьва, 2009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офессиональные умения тьютора</a:t>
            </a:r>
            <a:br>
              <a:rPr sz="3600"/>
            </a:b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ьютор- человек творческий, обладающий педагогическим тактом, способностью к эмпатии, компетентным в своей специальности и имеющий высокий уровень общей культур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Личностные качества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 сообразитель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работоспособн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эмоциональная восприимчивость,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юмор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психологическая зорк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осредоточен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критич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стойкость в преодолении консерватизма, отстаивании своей позици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еткость, оригинальность, активность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- чувство нового, стремление к его познанию, способность к преодолении инерции мышле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ребования к профессиональной позиции тьютора</a:t>
            </a:r>
            <a:r>
              <a:rPr b="1" i="1" lang="ru-RU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Тьютор является педагогом, работающим в тех же нормативно-организационных и финансово-материальных условиях, что и обучаемый им учитель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н должен обладать позитивным опытом ведения инновационной деятельности в образовании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готов к профессионально-личностному саморазвитию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Ориентирован на профессиональное общение на основе равноправных партнерских отношений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566640" indent="-56664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Должен быть профессионально компетентен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Тьюторское сопровождение-</a:t>
            </a:r>
            <a:r>
              <a:rPr b="1" lang="ru-RU" sz="4000" spc="-1" strike="noStrike">
                <a:solidFill>
                  <a:srgbClr val="2a3d7a"/>
                </a:solidFill>
                <a:latin typeface="Times New Roman"/>
              </a:rPr>
              <a:t> это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собый тип педагогического сопровождение педагога, грамотное и заботливое сопровождени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Основные характеристики тьюторского сопровождения педагог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b5249"/>
                </a:solidFill>
                <a:latin typeface="Times New Roman"/>
              </a:rPr>
              <a:t>субъектная активность, и тьютора, и подопечного.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Преимущества тьюторской технологии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в ходе профессионального общения вырабатывае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одуктивное взаимодействие,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проявляется инициатива и того, и другого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ская технологи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активизирует обучаемых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, превращает из пассивных потребителей информации в творческих соучастников процесса обучения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Этапы тьюторской технологии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иагностическ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мотивацион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целеполагающи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проектировоч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оценочно- результативны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362320"/>
            <a:ext cx="77724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- удовлетворение профессионально- образовательные потребности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активное развитие компетентности, креативно- аналитического мышления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b5249"/>
                </a:solidFill>
                <a:latin typeface="Times New Roman"/>
              </a:rPr>
              <a:t>творческая самореализация и саморазвитие педагог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Эффективность тьюторской технологии для педагога- тьютор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деятельность дает огромные возможности для профессионального и личностного роста педагога - тьютор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«Ученик будет знать, что существует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ребенок научится ходить сам по проторенному пути,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а подопечный тьютора научится создавать путь.» </a:t>
            </a:r>
            <a:br>
              <a:rPr sz="3200"/>
            </a:b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(Рыбалкин Н.В. «Тьюторство: идеи и идеалогия»).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609480" y="2133360"/>
            <a:ext cx="81010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609480" y="1752480"/>
            <a:ext cx="792504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Тьютор(</a:t>
            </a:r>
            <a:r>
              <a:rPr b="1" i="1" lang="en-US" sz="4800" spc="-1" strike="noStrike">
                <a:solidFill>
                  <a:srgbClr val="2a3d7a"/>
                </a:solidFill>
                <a:latin typeface="Times New Roman"/>
              </a:rPr>
              <a:t>Tutor</a:t>
            </a: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) -</a:t>
            </a:r>
            <a:r>
              <a:rPr b="1" lang="ru-RU" sz="4400" spc="-1" strike="noStrike">
                <a:solidFill>
                  <a:srgbClr val="5b5249"/>
                </a:solidFill>
                <a:latin typeface="Times New Roman"/>
              </a:rPr>
              <a:t> это преподаватель, консультант(по карьере), наставник, куратор, партнер обучающихся взрослых. </a:t>
            </a:r>
            <a:endParaRPr b="0" lang="en-US" sz="4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685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2a3d7a"/>
                </a:solidFill>
                <a:latin typeface="Times New Roman"/>
              </a:rPr>
              <a:t>Задачи тьютора: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сопровождать учителя при овладении им учебной программой,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- изучать индивидуальность педагога, с которым работает, его затруднения, профессиональные интересы.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294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Особенности</a:t>
            </a:r>
            <a:br>
              <a:rPr sz="3600"/>
            </a:br>
            <a:r>
              <a:rPr b="1" i="1" lang="ru-RU" sz="3600" spc="-1" strike="noStrike">
                <a:solidFill>
                  <a:srgbClr val="2a3d7a"/>
                </a:solidFill>
                <a:latin typeface="Times New Roman"/>
              </a:rPr>
              <a:t> педагогической деятельности тьютора: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3276720"/>
            <a:ext cx="777240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b5249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тьютор отдает приоритет процессу самообучения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тьютор отдает предпочтение практической направленности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- цели обучения становя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предметом согласования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 между тьютором и педагогом, обучение строится </a:t>
            </a:r>
            <a:r>
              <a:rPr b="1" i="1" lang="ru-RU" sz="2800" spc="-1" strike="noStrike">
                <a:solidFill>
                  <a:srgbClr val="5b5249"/>
                </a:solidFill>
                <a:latin typeface="Times New Roman"/>
              </a:rPr>
              <a:t>на гибкой основе </a:t>
            </a:r>
            <a:r>
              <a:rPr b="1" lang="ru-RU" sz="2800" spc="-1" strike="noStrike">
                <a:solidFill>
                  <a:srgbClr val="5b5249"/>
                </a:solidFill>
                <a:latin typeface="Times New Roman"/>
              </a:rPr>
              <a:t>и в соответствии с потребностями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2a3d7a"/>
                </a:solidFill>
                <a:latin typeface="Times New Roman"/>
              </a:rPr>
              <a:t>Функции тьютора:</a:t>
            </a:r>
            <a:endParaRPr b="0" lang="en-US" sz="48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609480" y="2455200"/>
            <a:ext cx="7925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- осуществляет экспертизу педагогической деятельности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5b524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Arial"/>
              </a:rPr>
              <a:t>повышает мотивацию и вовлекает учителя в процесс самообразова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-определяет целеполагание, проектирует учебные модули заняти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проводит консультации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диагностирует состояние и ход обучени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корректирует деятельность педагога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buClr>
                <a:srgbClr val="5b524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Информирование педагогов о дополнительной научной литературе, возможности повысить квалификацию, участвовать в профессиональных конкурсах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Консультирование по методологическим составляющим проектов, современным образовательным технологиям, описанию ИТ опыта и т.д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ающ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бучение описанию собственного инновационного опыта работы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Содержание деятельности тьютора</a:t>
            </a:r>
            <a:br>
              <a:rPr sz="3600"/>
            </a:b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Мотив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Создание у педагога внутренней установки к собственному развитию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он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Организация работы временного творческого коллектива, планирование и анализ его деятельности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Диагностическ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Times New Roman"/>
              </a:rPr>
              <a:t>Проведение входящей, промежуточной и итоговой диагностики педагогов – инноваторов.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2a3d7a"/>
                </a:solidFill>
                <a:latin typeface="Times New Roman"/>
              </a:rPr>
              <a:t>Тьютор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5b5249"/>
                </a:solidFill>
                <a:latin typeface="Times New Roman"/>
              </a:rPr>
              <a:t>должен обладать системой интеллектуальных, волевых и эмоционально- оценочных отношений к миру, к педагогической действительности  и к новой для него деятельности, что становится источником его активност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юдмила Александровна Молош</cp:lastModifiedBy>
  <dcterms:modified xsi:type="dcterms:W3CDTF">2018-10-31T04:29:01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