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C115-450B-4EEA-89DD-F71BC378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FA89-54FB-4CBC-AC12-57FDE59E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EC16-E9B1-4D9D-B3BE-84D46541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920B-FA70-4A21-911C-1D48C17A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18D9-8571-472A-A2CD-BA3B9898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709B-D31A-4DCB-B8D3-662109FE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4546-258F-4AEE-82FB-3F9F94F7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C33E-BA19-4989-B6DF-8268BB70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2BBE-9622-4922-9076-CE6FAC14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B0D7-8F14-4B3F-8ACA-D3D0EE37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0D3B-6B96-4121-855E-411222F0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93AC-0EC5-4EB9-A35B-A2D29713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1467-04CD-4A06-A166-A86D698B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4E03-071D-49BF-B799-9F23A58D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E089-B5D2-4940-9F9A-03E2A6E1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88DC-C123-4BBE-A806-3B10B8C6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E434-5CCD-45EF-A976-AC390087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6614-998B-4C85-BFBA-57C19DEA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FEE0-6EF2-40C4-8154-DA5AD8BD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258B-BB95-4419-B71E-FF9F7D1E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895E-13D7-4C18-A29D-F7C2F27F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10EA-CEEF-4F9D-BA5B-2209B57A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FE02-A476-4AFA-BCB8-AB9D4457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2564-8434-46B2-A4E1-9BFD13BB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96E2-07B1-4E33-B279-E1F99887BC63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2BAD-F3E9-4AEE-9F17-36DD21F01E82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  профессионального развития педагога</a:t>
            </a:r>
            <a:br>
              <a:rPr sz="48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343040" y="4351320"/>
            <a:ext cx="409572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Выполнил: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Тяпугина С.Н.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методист по сельским школам МОУ ДПО «ЦНМО»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г. Лысьва, 2009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офессиональные умения тьютора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ьютор- человек творческий, обладающий педагогическим тактом, способностью к эмпатии, компетентным в своей специальности и имеющий высокий уровень общей культур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Личностные качества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 сообразитель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работоспособ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эмоциональная восприимчив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юмор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психологическая зорк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осредоточен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критич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тойкость в преодолении консерватизма, отстаивании своей позиц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еткость, оригинальность, актив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нового, стремление к его познанию, способность к преодолении инерции мышлен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ребования к профессиональной позиции тьютора</a:t>
            </a:r>
            <a:r>
              <a:rPr b="1" i="1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Тьютор является педагогом, работающим в тех же нормативно-организационных и финансово-материальных условиях, что и обучаемый им учител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н должен обладать позитивным опытом ведения инновационной деятельности в образовани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готов к профессионально-личностному саморазвитию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риентирован на профессиональное общение на основе равноправных партнерских отношений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профессионально компетентен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-</a:t>
            </a: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 это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собый тип педагогического сопровождение педагога, грамотное и заботливое сопровождени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Основные характеристики тьюторского сопровождения педагог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субъектная активность, и тьютора, и подопечного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еимущества тьюторской технологии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в ходе профессионального общения вырабатывае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одуктивное взаимодействие,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проявляется инициатива и того, и другого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ская технологи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активизирует обучаемых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, превращает из пассивных потребителей информации в творческих соучастников процесса обучения.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Этапы тьюторской технологии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иагностическ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мотивацион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целеполагающ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проектировоч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ценочно- результатив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- удовлетворение профессионально- образовательные потребности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активное развитие компетентности, креативно- аналитического мышления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ворческая самореализация и саморазвитие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-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еятельность дает огромные возможности для профессионального и личностного роста педагога - тьютор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«Ученик будет знать, что существует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ребенок научится ходить сам по проторенному пути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а подопечный тьютора научится создавать путь.»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(Рыбалкин Н.В. «Тьюторство: идеи и идеалогия»)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09480" y="2133360"/>
            <a:ext cx="81010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09480" y="1752480"/>
            <a:ext cx="79250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Тьютор(</a:t>
            </a:r>
            <a:r>
              <a:rPr b="1" i="1" lang="en-US" sz="4800" spc="-1" strike="noStrike">
                <a:solidFill>
                  <a:srgbClr val="2a3d7a"/>
                </a:solidFill>
                <a:latin typeface="Times New Roman"/>
              </a:rPr>
              <a:t>Tutor</a:t>
            </a: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) -</a:t>
            </a:r>
            <a:r>
              <a:rPr b="1" lang="ru-RU" sz="4400" spc="-1" strike="noStrike">
                <a:solidFill>
                  <a:srgbClr val="5b5249"/>
                </a:solidFill>
                <a:latin typeface="Times New Roman"/>
              </a:rPr>
              <a:t> это преподаватель, консультант(по карьере), наставник, куратор, партнер обучающихся взрослых.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Задачи тьютор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сопровождать учителя при овладении им учебной программой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 изучать индивидуальность педагога, с которым работает, его затруднения, профессиональные интересы.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Особенности</a:t>
            </a: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 педагогической деятельности тьютора: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3276720"/>
            <a:ext cx="777240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 отдает приоритет процессу самообучения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тьютор отдает предпочтение практической направленности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цели обучения становя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едметом согласования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между тьютором и педагогом, обучение строи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на гибкой основе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и в соответствии с потребностями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Функции тьютора: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609480" y="2455200"/>
            <a:ext cx="7925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- осуществляет экспертизу педагогической деятельности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b5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повышает мотивацию и вовлекает учителя в процесс самообразова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-определяет целеполагание, проектирует учебные модули заняти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роводит консультаци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диагностирует состояние и ход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корректирует деятельность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ирование педагогов о дополнительной научной литературе, возможности повысить квалификацию, участвовать в профессиональных конкурсах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ирование по методологическим составляющим проектов, современным образовательным технологиям, описанию ИТ опыта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ающ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ение описанию собственного инновационного опыта работы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br>
              <a:rPr sz="3600"/>
            </a:b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Мотив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Создание у педагога внутренней установки к собственному развитию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я работы временного творческого коллектива, планирование и анализ его деятельност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Диагностическ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Проведение входящей, промежуточной и итоговой диагностики педагогов – инноватор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Тьютор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олжен обладать системой интеллектуальных, волевых и эмоционально- оценочных отношений к миру, к педагогической действительности  и к новой для него деятельности, что становится источником его активност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 Александровна Молош</cp:lastModifiedBy>
  <dcterms:modified xsi:type="dcterms:W3CDTF">2018-10-31T04:29:0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