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8120-72A7-43BE-845A-177A13EB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AB1E-B2D8-4D46-AB3D-AACB9BE5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140A-E0B0-4FF0-A007-D084DBEB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6BB-D679-489B-AB70-52B94718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8B7B-9C54-4BCC-84F8-CCCC058A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B0D1-0F15-453C-AFBD-7473D805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8CF-98ED-4F92-A25C-4C8F1E59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67B1-5F32-4C9A-9849-7CC68319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6EBB-A0F5-44FC-9E42-27B21577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4CFD-4E90-4C95-A375-252E9DC0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C95-8E9C-4C52-9E6B-F574CBAE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7323-7CAC-4763-A780-2E03E9FB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24A4-B681-4000-94A8-90B921EFF4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7607cca5970t"/>
          <p:cNvPicPr/>
          <p:nvPr/>
        </p:nvPicPr>
        <p:blipFill>
          <a:blip r:embed="rId1"/>
          <a:stretch/>
        </p:blipFill>
        <p:spPr>
          <a:xfrm>
            <a:off x="0" y="-171360"/>
            <a:ext cx="9448920" cy="7539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Как вы думаете, почему химические волокна получили такое название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Почему возникла необходимость в получении химических волокон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1402264575-oboi-1920h1080"/>
          <p:cNvPicPr/>
          <p:nvPr/>
        </p:nvPicPr>
        <p:blipFill>
          <a:blip r:embed="rId1"/>
          <a:stretch/>
        </p:blipFill>
        <p:spPr>
          <a:xfrm>
            <a:off x="-812880" y="-304920"/>
            <a:ext cx="10765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374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нашего по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7640" y="268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ать представление о видах химически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скрыть классификацию химических волоко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знакомится  с технологией производства искусственны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учится определять вид волокна по внешним призна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914400" y="743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ма урока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«Виды и свойства химических волокон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2880" y="0"/>
            <a:ext cx="835344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химических воло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160" y="1049400"/>
            <a:ext cx="8871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motto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" y="246240"/>
            <a:ext cx="97851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дная табли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всем исследованным тканя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4680" y="1390680"/>
          <a:ext cx="9753480" cy="6405480"/>
        </p:xfrm>
        <a:graphic>
          <a:graphicData uri="http://schemas.openxmlformats.org/drawingml/2006/table">
            <a:tbl>
              <a:tblPr/>
              <a:tblGrid>
                <a:gridCol w="474480"/>
                <a:gridCol w="2586240"/>
                <a:gridCol w="1577880"/>
                <a:gridCol w="152280"/>
                <a:gridCol w="1403640"/>
                <a:gridCol w="1779480"/>
                <a:gridCol w="1779480"/>
              </a:tblGrid>
              <a:tr h="7002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Характерные признаки определения тка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Показатели признаков ткан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коз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6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поверх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ып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 в мокром состоя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4"/>
          <p:cNvSpPr/>
          <p:nvPr/>
        </p:nvSpPr>
        <p:spPr>
          <a:xfrm>
            <a:off x="11160" y="623520"/>
            <a:ext cx="14735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знаки определения искусственных и синтетических ткане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900000" y="1197000"/>
            <a:ext cx="77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в гардеробе современного человека очень трудно найти вещь, изготовленную из натурального волок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60865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kartinkija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539640" y="2276640"/>
            <a:ext cx="815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исовать эскиз модели швейного изделия из химических тка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14:50:12Z</dcterms:created>
  <dc:creator>Пользователь</dc:creator>
  <dc:description/>
  <dc:language>en-US</dc:language>
  <cp:lastModifiedBy>Пользователь</cp:lastModifiedBy>
  <dcterms:modified xsi:type="dcterms:W3CDTF">2018-09-28T07:15:26Z</dcterms:modified>
  <cp:revision>6</cp:revision>
  <dc:subject/>
  <dc:title>Слайд 1</dc:title>
</cp:coreProperties>
</file>