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6D3-9E1C-4AFD-80BE-EA6F8CF8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C941-968B-488B-95CC-751770EF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9FD2-FA86-4E49-A5EA-FA83FAD9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FFF-1096-4E88-AD63-FE64ACF2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276-EA8F-4A44-82C9-FEF03EE8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E94-8FF7-4F2A-91CA-4F620772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3A7E-7A4D-433C-BDF4-6D0CB5A8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8B12-A68B-4224-AB0B-E705A5AE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31E-4EB5-4DB5-972C-5A6394C8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543-F221-42CD-9695-09EB8FFA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3E9-67E7-460A-8A8B-C8DC059D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604-16EC-43A9-AA16-6F2765B5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815-BD71-462B-85A5-1F3D57D3B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7607cca5970t"/>
          <p:cNvPicPr/>
          <p:nvPr/>
        </p:nvPicPr>
        <p:blipFill>
          <a:blip r:embed="rId1"/>
          <a:stretch/>
        </p:blipFill>
        <p:spPr>
          <a:xfrm>
            <a:off x="0" y="-171360"/>
            <a:ext cx="9448920" cy="7539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 думаете, почему химические волокна получили такое название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Почему возникла необходимость в получении химических волокон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1402264575-oboi-1920h1080"/>
          <p:cNvPicPr/>
          <p:nvPr/>
        </p:nvPicPr>
        <p:blipFill>
          <a:blip r:embed="rId1"/>
          <a:stretch/>
        </p:blipFill>
        <p:spPr>
          <a:xfrm>
            <a:off x="-812880" y="-304920"/>
            <a:ext cx="107650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374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нашего пох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47640" y="2689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Дать представление о видах химически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Раскрыть классификацию химических волокон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Познакомится  с технологией производства искусственных волок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Научится определять вид волокна по внешни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914400" y="743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5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Arial"/>
              </a:rPr>
              <a:t>тема урока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«Виды и свойства химических волоко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72880" y="0"/>
            <a:ext cx="835344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химических воло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160" y="1049400"/>
            <a:ext cx="8871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motto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" y="246240"/>
            <a:ext cx="97851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дная таблиц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всем исследованным тканя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-4680" y="1390680"/>
          <a:ext cx="9753480" cy="6405480"/>
        </p:xfrm>
        <a:graphic>
          <a:graphicData uri="http://schemas.openxmlformats.org/drawingml/2006/table">
            <a:tbl>
              <a:tblPr/>
              <a:tblGrid>
                <a:gridCol w="474480"/>
                <a:gridCol w="2586240"/>
                <a:gridCol w="1577880"/>
                <a:gridCol w="152280"/>
                <a:gridCol w="1403640"/>
                <a:gridCol w="1779480"/>
                <a:gridCol w="1779480"/>
              </a:tblGrid>
              <a:tr h="7002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Характерные признаки определения ткан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Показатели признаков ткан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коз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цет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п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60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ле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ов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9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ость поверх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д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ероховат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ст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г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9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ин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0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ыпаемост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чень 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ность в мокром состоян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52" name="Rectangle 4"/>
          <p:cNvSpPr/>
          <p:nvPr/>
        </p:nvSpPr>
        <p:spPr>
          <a:xfrm>
            <a:off x="11160" y="623520"/>
            <a:ext cx="14735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ки определения искусственных и синтетических ткане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900000" y="1197000"/>
            <a:ext cx="7786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чему в гардеробе современного человека очень трудно найти вещь, изготовленную из натурального волок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539640" y="60865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kartinkija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"/>
          <p:cNvSpPr/>
          <p:nvPr/>
        </p:nvSpPr>
        <p:spPr>
          <a:xfrm>
            <a:off x="539640" y="2276640"/>
            <a:ext cx="8158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исовать эскиз модели швейного изделия из химических ткан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4:50:12Z</dcterms:created>
  <dc:creator>Пользователь</dc:creator>
  <dc:description/>
  <dc:language>en-US</dc:language>
  <cp:lastModifiedBy>Пользователь</cp:lastModifiedBy>
  <dcterms:modified xsi:type="dcterms:W3CDTF">2018-09-28T07:15:26Z</dcterms:modified>
  <cp:revision>6</cp:revision>
  <dc:subject/>
  <dc:title>Слайд 1</dc:title>
</cp:coreProperties>
</file>