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E218-EB3C-462F-B859-D7A7E938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F358-A4A8-491F-B913-92E752D2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E38B-CA66-426D-BF82-81255D29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B634-1FF2-44B4-B278-ADCAF86F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7A84-B46A-4D4F-947E-C707D0D6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5CDC-4CE0-4E57-B0DC-984EEA24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B90B-CDF4-45FC-BBBB-26782E49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6438-26F0-4711-9866-2D799179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5272-346A-4EA3-A05A-EED72C2C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2959-4EBD-46C3-8324-B12965CC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0884-4ABF-45BE-8552-AFC45BE1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9B2C-074C-4688-951D-C15B81C9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D793-1AD3-4E1A-B6F0-20A3855D87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17607cca5970t"/>
          <p:cNvPicPr/>
          <p:nvPr/>
        </p:nvPicPr>
        <p:blipFill>
          <a:blip r:embed="rId1"/>
          <a:stretch/>
        </p:blipFill>
        <p:spPr>
          <a:xfrm>
            <a:off x="0" y="-171360"/>
            <a:ext cx="9448920" cy="7539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Как вы думаете, почему химические волокна получили такое название?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Почему возникла необходимость в получении химических волокон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1402264575-oboi-1920h1080"/>
          <p:cNvPicPr/>
          <p:nvPr/>
        </p:nvPicPr>
        <p:blipFill>
          <a:blip r:embed="rId1"/>
          <a:stretch/>
        </p:blipFill>
        <p:spPr>
          <a:xfrm>
            <a:off x="-812880" y="-304920"/>
            <a:ext cx="10765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374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нашего пох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47640" y="268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Дать представление о видах химических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Раскрыть классификацию химических волокон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ознакомится  с технологией производства искусственных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аучится определять вид волокна по внешним призна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914400" y="743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тема урока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«Виды и свойства химических волокон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2880" y="0"/>
            <a:ext cx="835344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фикация химических воло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160" y="1049400"/>
            <a:ext cx="88711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motto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" y="246240"/>
            <a:ext cx="97851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дная таблиц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всем исследованным тканя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-4680" y="1390680"/>
          <a:ext cx="9753480" cy="6405480"/>
        </p:xfrm>
        <a:graphic>
          <a:graphicData uri="http://schemas.openxmlformats.org/drawingml/2006/table">
            <a:tbl>
              <a:tblPr/>
              <a:tblGrid>
                <a:gridCol w="474480"/>
                <a:gridCol w="2586240"/>
                <a:gridCol w="1577880"/>
                <a:gridCol w="152280"/>
                <a:gridCol w="1403640"/>
                <a:gridCol w="1779480"/>
                <a:gridCol w="1779480"/>
              </a:tblGrid>
              <a:tr h="7002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Характерные признаки определения ткан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Показатели признаков ткан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коз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т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60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е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9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ость поверх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роховат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ст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9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ин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ып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6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ность в мокром состоян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2" name="Rectangle 4"/>
          <p:cNvSpPr/>
          <p:nvPr/>
        </p:nvSpPr>
        <p:spPr>
          <a:xfrm>
            <a:off x="11160" y="623520"/>
            <a:ext cx="14735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знаки определения искусственных и синтетических ткане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900000" y="1197000"/>
            <a:ext cx="7786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му в гардеробе современного человека очень трудно найти вещь, изготовленную из натурального волок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539640" y="608652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kartinkija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539640" y="2276640"/>
            <a:ext cx="8158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рисовать эскиз модели швейного изделия из химических ткан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1T14:50:12Z</dcterms:created>
  <dc:creator>Пользователь</dc:creator>
  <dc:description/>
  <dc:language>en-US</dc:language>
  <cp:lastModifiedBy>Пользователь</cp:lastModifiedBy>
  <dcterms:modified xsi:type="dcterms:W3CDTF">2018-09-28T07:15:26Z</dcterms:modified>
  <cp:revision>6</cp:revision>
  <dc:subject/>
  <dc:title>Слайд 1</dc:title>
</cp:coreProperties>
</file>