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32D5-414E-4F0F-AEA1-A93A03A4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121E-D084-4C85-9E32-6122621C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45AB-9F81-47B4-A739-CC5AC7C4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CC3F-48A8-410E-A47E-2F597C0B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D8DC-700B-4D16-A783-E1AB42A7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DE01-0626-4289-B4B2-290AAD2E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84E2-42D2-4F14-9E04-688C5BA0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13DD-BAC5-48EB-B160-0251A0DA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3E2B-5A03-4623-9E85-8D6767D1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AF38-DEEB-4703-A7D0-4308D7FD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033F-F99F-4175-9C90-FFA2C072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0EAA-9B34-4305-9F1B-EEA815C6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D712-77DF-44DE-8159-6DD1A646DE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7607cca5970t"/>
          <p:cNvPicPr/>
          <p:nvPr/>
        </p:nvPicPr>
        <p:blipFill>
          <a:blip r:embed="rId1"/>
          <a:stretch/>
        </p:blipFill>
        <p:spPr>
          <a:xfrm>
            <a:off x="0" y="-171360"/>
            <a:ext cx="9448920" cy="7539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Как вы думаете, почему химические волокна получили такое название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Почему возникла необходимость в получении химических волокон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1402264575-oboi-1920h1080"/>
          <p:cNvPicPr/>
          <p:nvPr/>
        </p:nvPicPr>
        <p:blipFill>
          <a:blip r:embed="rId1"/>
          <a:stretch/>
        </p:blipFill>
        <p:spPr>
          <a:xfrm>
            <a:off x="-812880" y="-304920"/>
            <a:ext cx="10765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374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нашего пох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47640" y="268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Дать представление о видах химически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аскрыть классификацию химических волоко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знакомится  с технологией производства искусственны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учится определять вид волокна по внешним призна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914400" y="743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ма урока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«Виды и свойства химических волокон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2880" y="0"/>
            <a:ext cx="835344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химических воло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160" y="1049400"/>
            <a:ext cx="8871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motto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" y="246240"/>
            <a:ext cx="97851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дная таблиц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всем исследованным тканя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-4680" y="1390680"/>
          <a:ext cx="9753480" cy="6405480"/>
        </p:xfrm>
        <a:graphic>
          <a:graphicData uri="http://schemas.openxmlformats.org/drawingml/2006/table">
            <a:tbl>
              <a:tblPr/>
              <a:tblGrid>
                <a:gridCol w="474480"/>
                <a:gridCol w="2586240"/>
                <a:gridCol w="1577880"/>
                <a:gridCol w="152280"/>
                <a:gridCol w="1403640"/>
                <a:gridCol w="1779480"/>
                <a:gridCol w="1779480"/>
              </a:tblGrid>
              <a:tr h="7002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Характерные признаки определения ткан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Показатели признаков ткан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коз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60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е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9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 поверх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роховат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ин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ып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ость в мокром состоян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" name="Rectangle 4"/>
          <p:cNvSpPr/>
          <p:nvPr/>
        </p:nvSpPr>
        <p:spPr>
          <a:xfrm>
            <a:off x="11160" y="623520"/>
            <a:ext cx="14735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знаки определения искусственных и синтетических ткане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900000" y="1197000"/>
            <a:ext cx="77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в гардеробе современного человека очень трудно найти вещь, изготовленную из натурального волок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39640" y="608652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kartinkija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539640" y="2276640"/>
            <a:ext cx="815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исовать эскиз модели швейного изделия из химических тка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1T14:50:12Z</dcterms:created>
  <dc:creator>Пользователь</dc:creator>
  <dc:description/>
  <dc:language>en-US</dc:language>
  <cp:lastModifiedBy>Пользователь</cp:lastModifiedBy>
  <dcterms:modified xsi:type="dcterms:W3CDTF">2018-09-28T07:15:26Z</dcterms:modified>
  <cp:revision>6</cp:revision>
  <dc:subject/>
  <dc:title>Слайд 1</dc:title>
</cp:coreProperties>
</file>