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6CCB-62F7-4AEA-A6E6-A5761C34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2033-529C-4389-B57E-DDDD141F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6358-267B-4C21-B513-60DE23D5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094-E34A-4097-B10D-16BC263C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C8C8-807E-429D-A075-1373ED40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B741-4D84-410F-A078-2BA2ED10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E778-8A6A-4048-9F1D-6064F1AF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FFAC-C9D6-423A-9471-F81AA7D8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2FAD-429D-42F0-A673-A488577C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420D-872E-4630-97CB-9964C233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33A-91BB-4884-8004-6229E672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6CC-19D7-4766-BC97-F49BD8AF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54C5-3C48-4A2C-99F6-A51696967AA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индивидуальных образовательных маршрутов при подготовке обучающихс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ИА по хим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Михайловна Сырчиков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Чёрмозская СОШ им. В. Ерш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0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отка тематических зад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4575240" y="1197000"/>
            <a:ext cx="411480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10868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групповых дополнительных занят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4716360" y="1792440"/>
            <a:ext cx="4191120" cy="47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Объект 5" descr=""/>
          <p:cNvPicPr/>
          <p:nvPr/>
        </p:nvPicPr>
        <p:blipFill>
          <a:blip r:embed="rId2"/>
          <a:stretch/>
        </p:blipFill>
        <p:spPr>
          <a:xfrm>
            <a:off x="179280" y="1792440"/>
            <a:ext cx="4211640" cy="47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Объект 5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3565800" cy="5646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620880" cy="564660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индивидуальных дополнительных за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индивидуальных домашних раб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10" descr=""/>
          <p:cNvPicPr/>
          <p:nvPr/>
        </p:nvPicPr>
        <p:blipFill>
          <a:blip r:embed="rId1"/>
          <a:stretch/>
        </p:blipFill>
        <p:spPr>
          <a:xfrm>
            <a:off x="4575240" y="1409760"/>
            <a:ext cx="4111560" cy="544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12" descr=""/>
          <p:cNvPicPr/>
          <p:nvPr/>
        </p:nvPicPr>
        <p:blipFill>
          <a:blip r:embed="rId2"/>
          <a:stretch/>
        </p:blipFill>
        <p:spPr>
          <a:xfrm>
            <a:off x="457200" y="1417680"/>
            <a:ext cx="3765600" cy="544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нк вопрос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E:\Сканы для презентации\img131.jpg"/>
          <p:cNvPicPr/>
          <p:nvPr/>
        </p:nvPicPr>
        <p:blipFill>
          <a:blip r:embed="rId1"/>
          <a:stretch/>
        </p:blipFill>
        <p:spPr>
          <a:xfrm>
            <a:off x="4694400" y="1089000"/>
            <a:ext cx="4087800" cy="573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Рисунок 1" descr=""/>
          <p:cNvPicPr/>
          <p:nvPr/>
        </p:nvPicPr>
        <p:blipFill>
          <a:blip r:embed="rId2"/>
          <a:stretch/>
        </p:blipFill>
        <p:spPr>
          <a:xfrm>
            <a:off x="220680" y="1071720"/>
            <a:ext cx="4233960" cy="57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ÐÐ°ÑÑÐ¸Ð½ÐºÐ¸ Ð¿Ð¾ Ð·Ð°Ð¿ÑÐ¾ÑÑ ÐºÐ°ÑÑÐ¸Ð½ÐºÐ° Ð²ÑÐµ Ð² Ð²Ð°ÑÐ¸Ñ ÑÑÐºÐ°Ñ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Михайловна Сырчиков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МБОУ «Чёрмозская СОШ им. В. Ерш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900000" y="907920"/>
            <a:ext cx="727416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 образование ни одному человеку не могут быть даны или сообщены. Всякий, кто желает к ним приобщиться, должен достигнуть этого собственной деятельностью, собственными силами, собственным напряжением“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ольф Дистерв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1125360"/>
            <a:ext cx="8496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 списка желающих сдавать экзамен по химии и их анкетирова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ние обучающихся и их родителей о порядке проведения ГИА в 9 и 11 класс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демоверсией, кодификатором и спецификацией ГИА по химии – 2019 год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банка заданий, тренажёров, опорных схем и т.д. по темам;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трёх тренировочных экзаменов, информирование родителей о их результата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бщих и частных проблем курса и составление индивидуальных образовательных траектор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вопросами, вызвавшими затруднения у большинства обучающих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10-12 заданий для получения необходимого минимума баллов для учеников группы «риска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заданиями высокого уровня сложности для учеников группы «сильные»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курса по выбору «Окислительно-восстановительные реакции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и анализ тестов из сборника для подготовки и с сайтов «Решу ОГЭ, ЕГЭ», ФИПИ и др.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1699920"/>
            <a:ext cx="84960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лись 3 группы обучающихся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льные» - претенденты на получение высоких баллов – 2 челове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 -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, которые при добросовестной подготовке могут набрать среднее количество баллов – 5 челове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иска» - могут не набрать минимальное количество баллов – 2 челове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ыбора химии в качестве ГИА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читаю, что химию сдам лучше, чем другие возможные экзамены в формате ГИА - 4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ланирую изучать химию на профильном уровне в старшей школе (10-11 классы) -3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интересен предмет химия –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анкетирования обучающихся 9 кла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764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на настоящий момент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о средним количеством баллов – 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 минимальным (или чуть больше) количеством баллов – 4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на будущее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 высоким количеством баллов - 3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о средним количеством баллов – 6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611280" y="414972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ызывают задания связанные со знанием химических свойств веществ, решением задач и ОВ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все собираются заниматься самостоятельно и на дополнительных консультациях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ажёр по классам неорганических соеди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692280"/>
          <a:ext cx="8229600" cy="47527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409760"/>
                <a:gridCol w="1295280"/>
                <a:gridCol w="1224000"/>
                <a:gridCol w="1214640"/>
                <a:gridCol w="1028520"/>
              </a:tblGrid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риа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(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539640" y="5589720"/>
            <a:ext cx="8209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заданий:</a:t>
            </a: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пределить  вещества по классам, назвать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вещества варианта могут попарно взаимодействовать, написать уравнения    реакций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ие вещества варианта будут взаимодействовать с соляной кислотой, гидроксидом натрия и т. д., написать уравнения возможных реак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ажёр по химическим реакц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765000"/>
          <a:ext cx="7920000" cy="4608720"/>
        </p:xfrm>
        <a:graphic>
          <a:graphicData uri="http://schemas.openxmlformats.org/drawingml/2006/table">
            <a:tbl>
              <a:tblPr/>
              <a:tblGrid>
                <a:gridCol w="1584000"/>
                <a:gridCol w="1584360"/>
                <a:gridCol w="1582920"/>
                <a:gridCol w="1584360"/>
                <a:gridCol w="1584360"/>
              </a:tblGrid>
              <a:tr h="64944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ариа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 + HC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OH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g(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Cl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Cu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O + HC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Cu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Cl + N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g + HCl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 +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g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(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ц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g + H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g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(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ц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a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Ni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6" name="Rectangle 1"/>
          <p:cNvSpPr/>
          <p:nvPr/>
        </p:nvSpPr>
        <p:spPr>
          <a:xfrm>
            <a:off x="755640" y="5458320"/>
            <a:ext cx="77040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меры зада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. Закончить уравнения возможных реа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. Определить тип реа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. Для реакций ионного обмена написать уравнения в ионном виде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образовательные маршру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2" descr=""/>
          <p:cNvPicPr/>
          <p:nvPr/>
        </p:nvPicPr>
        <p:blipFill>
          <a:blip r:embed="rId1"/>
          <a:stretch/>
        </p:blipFill>
        <p:spPr>
          <a:xfrm>
            <a:off x="449280" y="1557360"/>
            <a:ext cx="38512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4516560" y="1557360"/>
            <a:ext cx="4259160" cy="453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Прямоугольник 1"/>
          <p:cNvSpPr/>
          <p:nvPr/>
        </p:nvSpPr>
        <p:spPr>
          <a:xfrm>
            <a:off x="2340000" y="5589720"/>
            <a:ext cx="453564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ы индивидуальные «зачетные книжки» для подготовки к экзаме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иагностических рабо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1116000" y="1143000"/>
            <a:ext cx="3095640" cy="549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Объект 3" descr=""/>
          <p:cNvPicPr/>
          <p:nvPr/>
        </p:nvPicPr>
        <p:blipFill>
          <a:blip r:embed="rId2"/>
          <a:stretch/>
        </p:blipFill>
        <p:spPr>
          <a:xfrm>
            <a:off x="5076720" y="1150920"/>
            <a:ext cx="3125880" cy="549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6T16:21:20Z</dcterms:created>
  <dc:creator>Зоя Михайловна</dc:creator>
  <dc:description/>
  <dc:language>en-US</dc:language>
  <cp:lastModifiedBy>Клинова Мария Николаевна</cp:lastModifiedBy>
  <dcterms:modified xsi:type="dcterms:W3CDTF">2018-11-13T07:58:25Z</dcterms:modified>
  <cp:revision>43</cp:revision>
  <dc:subject/>
  <dc:title>Слайд 1</dc:title>
</cp:coreProperties>
</file>