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32320" cy="39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0" y="1015632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32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A90E32-8F79-413C-A8FA-5338911B2D9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3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2D46CD-E970-450D-928D-CDB3813C698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99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3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3C393-DF42-4FAF-9370-B99C6663716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96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202F-140D-4A4D-B68D-65B40C6AB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180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CF6F-CCB5-4737-BEAF-5FF5B33F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12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0F03-6E2D-4767-BA52-5EA95389E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580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832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580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832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364F-8C55-4624-9643-F829EEF14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D1A3-5D37-40F2-81E2-5CD58EA4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9312-D39D-44CE-9940-3416AB03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897A-8A01-44D4-AAFE-9125E42C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57E8-1ADB-457B-9D01-0A298DCE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58320" cy="57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0136-B723-46A4-A2FD-090A43F3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977C-25ED-4FC8-8648-14AA9C96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12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C37C-06B8-4D6A-8496-639E382E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11A6-08B2-4B15-8F33-357FC0F4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276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7E4F2AF-2517-46E1-A5F1-D4976AE86203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03280" y="1767960"/>
            <a:ext cx="905832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7" descr=""/>
          <p:cNvPicPr/>
          <p:nvPr/>
        </p:nvPicPr>
        <p:blipFill>
          <a:blip r:embed="rId1"/>
          <a:stretch/>
        </p:blipFill>
        <p:spPr>
          <a:xfrm>
            <a:off x="1254240" y="2422440"/>
            <a:ext cx="5500440" cy="29973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77904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ой схеме придумайте текст задачи (устно) и запишите решение в тетрад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30 граммов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6969240" y="4494240"/>
            <a:ext cx="289224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5652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иготовления раствора необходимо смешать 2 части воды и 1 часть концентрата. Масса раствора 330 г. Сколько воды потребуется его приготовления?</a:t>
            </a:r>
            <a:br>
              <a:rPr sz="32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2200" y="3493800"/>
            <a:ext cx="89154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2+1=3(ч.) – количество ча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330:3=110(г) – одна ча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110*2=220(г) – количество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22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6969240" y="4851360"/>
            <a:ext cx="26812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5897520" y="3994200"/>
            <a:ext cx="3527640" cy="3249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6720" y="70812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Варенье из огурцов и крыжовника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039680" y="2279520"/>
            <a:ext cx="8415360" cy="1857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50000"/>
          </a:bodyPr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этого варенья берут 2 части огурцов,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 крыжовника и 4 части сахара. Сколь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собрать крыжовника, если у нас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лограмма сахара? Составить схему к задач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ещё в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 можно было бы задать 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832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считать количество продукт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02920" y="1279080"/>
            <a:ext cx="445284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85000"/>
          </a:bodyPr>
          <a:p>
            <a:pPr marL="291600" indent="-2916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Кофе-брей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нан                      8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фе                       2 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325840" y="1279440"/>
            <a:ext cx="445284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84000"/>
          </a:bodyPr>
          <a:p>
            <a:pPr marL="288000" indent="-2880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Фруктовы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укты                   1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роп                      1 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чет количества продукт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39640" y="1279080"/>
            <a:ext cx="445320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77000"/>
          </a:bodyPr>
          <a:p>
            <a:pPr marL="263880" indent="-2638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Кофе-брей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2ч 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нан                      8ч 2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 7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фе                       2 ч 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25840" y="1279080"/>
            <a:ext cx="44528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78000"/>
          </a:bodyPr>
          <a:p>
            <a:pPr marL="267480" indent="-2674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Фруктовы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укты                  12ч 3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 7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роп                      1 ч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576360" y="1152360"/>
            <a:ext cx="9288360" cy="35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Домашнее задание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идумать или найти интересный рецепт, составить задачу, схему, красочно оформить ее условие и реш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5826240" y="4280040"/>
            <a:ext cx="3409920" cy="2519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576360" y="3298680"/>
            <a:ext cx="9359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120" bIns="0" anchor="t">
            <a:noAutofit/>
          </a:bodyPr>
          <a:p>
            <a:pPr marL="343080" indent="-333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3612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венный диктан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25480" y="2208240"/>
            <a:ext cx="905832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ор для определения време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ий бассейн для ры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о передвижения Бабы Яг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 килограмм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няя буква в слове «ночь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968400" y="493560"/>
            <a:ext cx="8064360" cy="21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Задачи на части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968400" y="3422520"/>
            <a:ext cx="3338640" cy="30038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5327640" y="4751280"/>
            <a:ext cx="4535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5440" y="56520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урока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25480" y="2708280"/>
            <a:ext cx="957744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омнить алгорит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ровка решения задач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знаний на практик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3840" y="422280"/>
            <a:ext cx="9057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53840" y="1636200"/>
            <a:ext cx="905796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важное условие должно выполняться в задачах на част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ервым делом необходимо найти при     решении задачи на ча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алгоритм решения задачи на ч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решения задач на ча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2560" y="213624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ение одной ча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числение тех частей, о               которых спрашивается в задаче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27900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найка разделил 12 орехов на 2 равные части - для себя и Знайк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3280" y="1279080"/>
            <a:ext cx="9577440" cy="5565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в этом случае пришлось орехов на одну ча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На сколько равных частей нужно разделить 12 орех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на одну часть приходилось 2 орех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 В одной части 3 ореха. Сколько частей приход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2 орех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Сколько орехов будет приходиться на 1 часть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12 орехов Незнайка поделит на 3  равные част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2 равных част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5254560" y="3708360"/>
            <a:ext cx="4183200" cy="32083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70812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</a:t>
            </a:r>
            <a:br>
              <a:rPr sz="72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3800" y="1422000"/>
            <a:ext cx="9057960" cy="5708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ля приготовления рисовой каши надо взять 2 части риса, 3 части молока и 5 частей воды. Сколько молока и сколько воды понадобится, если взять 220 г рис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25120" y="1779120"/>
            <a:ext cx="898668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Какова масса одной част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20 : 2 = 110 (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Сколько граммов молока понадоби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0 ∙ 3 = 330 (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Сколько граммов воды понадобитс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0 ∙ 5 = 550 (г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: 330 г, 55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4T11:02:32Z</dcterms:created>
  <dc:creator>user</dc:creator>
  <dc:description/>
  <dc:language>en-US</dc:language>
  <cp:lastModifiedBy>user</cp:lastModifiedBy>
  <dcterms:modified xsi:type="dcterms:W3CDTF">2017-12-20T23:46:10Z</dcterms:modified>
  <cp:revision>29</cp:revision>
  <dc:subject/>
  <dc:title>Слайд 1</dc:title>
</cp:coreProperties>
</file>