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C735-F59B-4C9F-876F-5BCC8A8B3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C227-1852-4568-AD2C-8AEE831B8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3848-4BEF-418C-AA0F-B4F55B076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969A-41A9-4ADA-8ECB-D47E1488C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069CD-3102-41E9-92D8-6543EBD0D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EDA67-6F66-46D9-B911-808294204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CF230-B5FD-403A-A31B-7738DC5C7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6E37C-1571-4FAD-979C-C0432113B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5AD2A-93FD-4853-97D4-FF1BD92EA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D4D02-D65E-468D-A63C-B066C1A25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3EF03-BDEF-4636-BA27-BEC54781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668D-04BF-4314-A163-1E17D8987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E06FC-A67D-436A-ACE9-0E6E3027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5BD9C-9BAC-4E4D-B9CD-D0005040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004F6-7D93-493C-BEE0-CC482D185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339D2-161E-419F-9651-6C8366D8E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E904D-8B6C-4877-863C-1D0D79D24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F469FB-F306-454A-8896-86AB9E12B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2FD830-C38D-4128-8D9A-4C740EB73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B04800-E316-441C-9954-B07561CCF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78AD6B-9AC7-4DAB-81AE-BF0281754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9DB5A3-E098-4A08-A42D-88B00B63B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14EB-E087-4485-9FC2-126779723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DCBA73-EEC4-4880-92F6-86B5AAA9D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F23784-0396-4099-908C-D26E32E0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2F86E8-2172-45BD-BBC8-C7A8F468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E850B9-8406-4194-AD84-F469F836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1B8704-7C03-407A-BCED-4F4EB19A4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E0D3AD-D089-469A-ADCA-F50E13160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D03CE9-3BC8-4A86-B0E0-74E483095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13FEE-0034-453E-8045-5B0D59923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9FE90-A35C-4EE7-B542-97F47A019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F3E6B-B3A0-422A-9CDB-876C3D379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BE36-EAA3-46B9-ABBF-FF6A33A9B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D2E6D-F86A-4664-AAE0-26A48946C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CFAC8-AA65-4AF9-AFFA-50120A1F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36419-8550-47AA-8E3C-9702BC63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1B65F-FB63-4911-993C-6EF6F258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13386-821B-444E-87DB-CA9F9961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B8B51-1D26-40B8-A4BB-69BC812A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1AE21-916A-4CC3-BBBC-A67F5260F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0B083-FE76-4BC5-B243-82C82D276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18E43-4EB4-4588-9ECE-C70925904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F09D-95A6-4180-BD8B-0AFADF4CC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8CAD-A432-4DCF-9103-78D7A2271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14D7-3E67-44A8-827F-85E55EB1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B621-AACC-4318-A6F9-4D58B100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8B35-3F7F-4FF3-B08C-669D7062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7C543-9792-4478-A22A-2BE04E73A834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F14ED-B88D-493B-B765-7E23CC2EFD54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8E911-5144-486B-B56B-105B90221A81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C4118-2D93-4205-A087-2410ADCDAE3E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22160" y="1213920"/>
            <a:ext cx="7772400" cy="243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Управление качеством иноязычного образования в школе с углублённым изучением английского язык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28560" y="4500720"/>
            <a:ext cx="600084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Учитель  английского языка МАОУ «СОШ № 65 с углублённым изучением английского языка г. Перм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24456"/>
                </a:solidFill>
                <a:latin typeface="Georgia"/>
              </a:rPr>
              <a:t>Четина Любовь Николаевн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9 лет в школе работает летний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городской американский лагерь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CHALLENG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4" name="Picture 2" descr="IMG_1764"/>
          <p:cNvPicPr/>
          <p:nvPr/>
        </p:nvPicPr>
        <p:blipFill>
          <a:blip r:embed="rId1"/>
          <a:stretch/>
        </p:blipFill>
        <p:spPr>
          <a:xfrm rot="20619000">
            <a:off x="534600" y="2158560"/>
            <a:ext cx="4303800" cy="3915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IMG_1930"/>
          <p:cNvPicPr/>
          <p:nvPr/>
        </p:nvPicPr>
        <p:blipFill>
          <a:blip r:embed="rId2"/>
          <a:stretch/>
        </p:blipFill>
        <p:spPr>
          <a:xfrm rot="1148400">
            <a:off x="4870440" y="2109600"/>
            <a:ext cx="380196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010"/>
          <p:cNvPicPr/>
          <p:nvPr/>
        </p:nvPicPr>
        <p:blipFill>
          <a:blip r:embed="rId1"/>
          <a:stretch/>
        </p:blipFill>
        <p:spPr>
          <a:xfrm rot="21016800">
            <a:off x="210960" y="1038240"/>
            <a:ext cx="4807080" cy="33861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014"/>
          <p:cNvPicPr/>
          <p:nvPr/>
        </p:nvPicPr>
        <p:blipFill>
          <a:blip r:embed="rId2"/>
          <a:stretch/>
        </p:blipFill>
        <p:spPr>
          <a:xfrm rot="1472400">
            <a:off x="4800600" y="3170160"/>
            <a:ext cx="370836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Мониторинг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систем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роцесс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сбор сущностной и разносторонней информации о качестве образования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её обработк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систематизация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глубокий анализ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рогноз дальнейшего развития 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выработка мер по коррекции образовательного процесса и созданных для него условий   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Мониторинг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инструмент  управления учебно-воспитательным процессом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Главная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цель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-помощь, выяснение неуспехов с целью дальнейшей коррекции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, а не только оценить и выявить недостатки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Мониторинг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диагностика, для наблюдения за развитием мотивации учен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Ценность мониторинга-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даже небольшой успех обучаемого не остаётся незамеченным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Мониторинг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результаты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внутренней и внешней оценк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защита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проектов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ценка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портфолио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динамика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индивидуальных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достижений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ученика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аша школа стремится обеспечить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ормально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функционирование образовательного процесс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ачественно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достижение результатов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бразовани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еобходимый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уровень мотивации, здоровья и развития обучающихс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ерейт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из режима функционирования в режим развития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, целенаправленно занимаясь инновационной работой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Школьная модель мониторинга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, который направлен на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аналитическое отслеживание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оцессов, определяющих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количественно-качественные изменения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образовательной среды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образовательных технологи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результатов образовательного процесса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эффективности стратегического и оперативного управления образовательным учреждением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то современное средство контроля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позволяет по-другому взглянуть на весь учебно-воспитательный процесс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0" y="6429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Результаты, которых нам удалось достичь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рейтинговая оценка системы знаний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технология портфолио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безотметочный мониторинг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сформированность положительной мотивации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осознание своей роли и предназначения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умение выбирать целевые и смысловые установки для своих действий и поступков, принимать решения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владение эффективными способами организации своего досуга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умение самостоятельно добывать, анализировать и отбирать информацию,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6429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осведомлённость в области социально-трудовой сферы, сферы семейных отношений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сформированность навыков работы в группе, выполнение различных социальных ролей в коллективе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готовность к поликультурному общению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овладение креативными навыками продуктивной деятельност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офессионально-педагогическая поисковая и исследовательская активность коллектива учителей школы постоянно растёт. Коллектив учителей иностранных языков участвует в работе в рамках сетевого взаимодействия с инновационными школам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60% учителей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английского и немецкого языков прошли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зарубежную стажировку в школах и колледжах США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о программе обмена «Образование. Культура. Бизнес»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60% учителей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имеют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высшую квалификационную категорию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Учителя ИЯ нашей школы постоянно проводят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семинары, дискуссионные площадки, мастер классы, демонстрации открытых уроков, круглые столы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и другие мероприятия на базе ОУ на краевом и городском уровнях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0" y="6429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а уроках активно используютс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ингапурские технологи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развития критического мышлени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едметно-языково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интегрированное обучени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технологи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билингвального обучения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IT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 технологии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 межкультурной сред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дистанционные образовательные технологи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электронное обучени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аша школа реализует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ногоплановое и рациональное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использование носителей языка как средство повышения мотивации и эффективности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неурочной деятельности по английскому языку. Это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встречи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 носителями языка,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он-лайн переписка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зарубежные поездки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для учащихся,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профпробы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в ВУЗах,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TED talk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дискуссии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04T17:26:15Z</dcterms:created>
  <dc:creator>lybov</dc:creator>
  <dc:description/>
  <dc:language>en-US</dc:language>
  <cp:lastModifiedBy>1</cp:lastModifiedBy>
  <dcterms:modified xsi:type="dcterms:W3CDTF">2019-02-07T03:17:59Z</dcterms:modified>
  <cp:revision>32</cp:revision>
  <dc:subject/>
  <dc:title>Слайд 1</dc:title>
</cp:coreProperties>
</file>