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3D96-8BC7-4C65-9314-7ED5557FAD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818F-FADA-403A-904A-4096F6E3864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1B3D-B3AE-4646-906E-C5735672F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7B24-3726-49EA-9B43-D05813E0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2D41-13A7-419F-8E12-65213316D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E533-588D-489A-B152-CCFD114F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B849-0E83-4C5D-A7CF-1AA58B02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42F8-5037-4626-85CC-423D887D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B65F-8DDE-4671-AE3C-EFCE9175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5B7F-38B6-4215-BE84-17F46E99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6C44-84D4-48C2-8E35-F6B6B3AE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C39B-B822-407C-B442-EE137872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15EB-6AC8-47EC-A58A-4F61F1B3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44F6-5591-4DCE-9752-95BF207D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6996-B5ED-4227-97E1-80B312F8AB1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792000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333300"/>
                </a:solidFill>
                <a:latin typeface="Lucida Handwriting"/>
              </a:rPr>
              <a:t> </a:t>
            </a: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Роль мониторинговых обследований по иностранному языку в повышении образовательных результатов обучающихся</a:t>
            </a:r>
            <a:br>
              <a:rPr sz="2800"/>
            </a:br>
            <a:br>
              <a:rPr sz="2800"/>
            </a:br>
            <a:br>
              <a:rPr sz="4000"/>
            </a:br>
            <a:r>
              <a:rPr b="0" lang="ru-RU" sz="1600" spc="-1" strike="noStrike">
                <a:solidFill>
                  <a:srgbClr val="374c81"/>
                </a:solidFill>
                <a:latin typeface="Century Gothic"/>
              </a:rPr>
              <a:t>Краевая научно-практическая конференция работников </a:t>
            </a:r>
            <a:br>
              <a:rPr sz="1600"/>
            </a:br>
            <a:r>
              <a:rPr b="0" lang="ru-RU" sz="1600" spc="-1" strike="noStrike">
                <a:solidFill>
                  <a:srgbClr val="374c81"/>
                </a:solidFill>
                <a:latin typeface="Century Gothic"/>
              </a:rPr>
              <a:t>системы общего образования Пермского края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 «Использование результатов независимых оценок подготовки 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обучающихся в повышении качества образования 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и совершенствовании основных образовательных программ»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07.02.2019</a:t>
            </a:r>
            <a:br>
              <a:rPr sz="1600"/>
            </a:br>
            <a:br>
              <a:rPr sz="1200"/>
            </a:br>
            <a:r>
              <a:rPr b="0" lang="ru-RU" sz="1200" spc="-1" strike="noStrike">
                <a:solidFill>
                  <a:srgbClr val="374c81"/>
                </a:solidFill>
                <a:latin typeface="Century Gothic"/>
              </a:rPr>
              <a:t>Тихомирова О.А.,</a:t>
            </a:r>
            <a:br>
              <a:rPr sz="1200"/>
            </a:br>
            <a:r>
              <a:rPr b="0" lang="ru-RU" sz="1200" spc="-1" strike="noStrike">
                <a:solidFill>
                  <a:srgbClr val="374c81"/>
                </a:solidFill>
                <a:latin typeface="Century Gothic"/>
              </a:rPr>
              <a:t> старший научный сотрудник </a:t>
            </a:r>
            <a:br>
              <a:rPr sz="1200"/>
            </a:br>
            <a:r>
              <a:rPr b="0" lang="ru-RU" sz="1200" spc="-1" strike="noStrike">
                <a:solidFill>
                  <a:srgbClr val="374c81"/>
                </a:solidFill>
                <a:latin typeface="Century Gothic"/>
              </a:rPr>
              <a:t>отдела сопровождения ФГОС ГАУ ДПО ИРО П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Пермский край. Распределение первичных баллов</a:t>
            </a: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 ВПР 11 класс. Максимальный балл-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D:\РабочийСтол\Screenshot_2.png"/>
          <p:cNvPicPr/>
          <p:nvPr/>
        </p:nvPicPr>
        <p:blipFill>
          <a:blip r:embed="rId1"/>
          <a:stretch/>
        </p:blipFill>
        <p:spPr>
          <a:xfrm>
            <a:off x="179280" y="1197000"/>
            <a:ext cx="87138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Статистика по отметкам в сравнении с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050840" y="1849320"/>
          <a:ext cx="7042320" cy="4027680"/>
        </p:xfrm>
        <a:graphic>
          <a:graphicData uri="http://schemas.openxmlformats.org/drawingml/2006/table">
            <a:tbl>
              <a:tblPr/>
              <a:tblGrid>
                <a:gridCol w="289080"/>
                <a:gridCol w="2997000"/>
                <a:gridCol w="433440"/>
                <a:gridCol w="289080"/>
                <a:gridCol w="288720"/>
                <a:gridCol w="290520"/>
                <a:gridCol w="289080"/>
                <a:gridCol w="2165400"/>
              </a:tblGrid>
              <a:tr h="382680">
                <a:tc gridSpan="2" rowSpan="2"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ги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-во уч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пределение групп баллов в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6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7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080">
                <a:tc gridSpan="7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9520">
                <a:tc gridSpan="2">
                  <a:txBody>
                    <a:bodyPr lIns="9360" rIns="9360" tIns="0" bIns="0" anchor="ctr">
                      <a:noAutofit/>
                    </a:bodyPr>
                    <a:p>
                      <a:pPr marL="9360">
                        <a:lnSpc>
                          <a:spcPts val="1273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я выбор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4680">
                        <a:lnSpc>
                          <a:spcPts val="899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 rowSpan="2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1273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мский кр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>
                        <a:lnSpc>
                          <a:spcPts val="1185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600">
                <a:tc gridSpan="8">
                  <a:txBody>
                    <a:bodyPr lIns="9360" rIns="9360" tIns="0" bIns="0" anchor="t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ая гистограмма отмет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06600">
                <a:tc gridSpan="8">
                  <a:txBody>
                    <a:bodyPr lIns="9360" rIns="93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2087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Гистограмма соответствия отметок за выполненную работу и отметок по журна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D:\РабочийСтол\Screenshot_3.png"/>
          <p:cNvPicPr/>
          <p:nvPr/>
        </p:nvPicPr>
        <p:blipFill>
          <a:blip r:embed="rId1"/>
          <a:stretch/>
        </p:blipFill>
        <p:spPr>
          <a:xfrm>
            <a:off x="324000" y="1125360"/>
            <a:ext cx="85690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Модели использования результатов мониторинговых обследован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На региональном и муниципальном уровне – для разработки методических рекомендаций по совершенствованию преподавания учебных предметов, для совершенствования программ повышения квалификации учи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бразовательными организациями – для совершенствования преподавания учебных предметов на основе методических рекомендаций, для повышения квалификации учителей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принятия решений в отношении конкретных учащихся (например: диагностика проблем в обучении , корректировка образовательного процес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Родителями и детьми – для повышения информированности, принятия обоснованных решений о выборе образовательной траектории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Выявление необъективности результатов В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В 2018 выявлено свыше 3 тысяч школ с необъективными результат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Почти 850 образовательных организаций показывают необъективные результаты ВПР на протяжении двух лет – в 2017 и в 2018 го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тмечены образовательные организации, в которых результат выполнения ВПР оказался заметно выше среднего результата по региону. При этом школа не является лицеем или гимназией с углубленным изучением данных предметов, и полученные результаты не подтверждаются высокими баллами ЕГЭ у выпускников. Также анализировались средние проценты выполнения каждого задания учащимися: если в школе простые задания делают хуже, чем в среднем по региону, а сложные лучше, то это может свидетельствовать, что школьникам помогали справиться с более сложными зада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6920" y="4005360"/>
            <a:ext cx="609156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Century Gothic"/>
              </a:rPr>
              <a:t>Сергей Кравцов-руководитель Рособр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4508280"/>
            <a:ext cx="79200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4c81"/>
                </a:solidFill>
                <a:latin typeface="Century Gothic"/>
              </a:rPr>
              <a:t>«Объективность результатов крайне важна во всех оценочных процедурах в системе образования. Это необходимо не для того, чтобы наказать директоров школ и учителей, если учащиеся показали слабые результаты. Это нужно, чтобы оказать таким школам </a:t>
            </a:r>
            <a:r>
              <a:rPr b="1" lang="ru-RU" sz="1400" spc="-1" strike="noStrike">
                <a:solidFill>
                  <a:srgbClr val="374c81"/>
                </a:solidFill>
                <a:latin typeface="Century Gothic"/>
              </a:rPr>
              <a:t>методическую поддержку и повысить качество образования</a:t>
            </a:r>
            <a:r>
              <a:rPr b="0" lang="ru-RU" sz="1400" spc="-1" strike="noStrike">
                <a:solidFill>
                  <a:srgbClr val="374c81"/>
                </a:solidFill>
                <a:latin typeface="Century Gothic"/>
              </a:rPr>
              <a:t>. Мы очень рассчитываем, что опыт этого года будет учтен школами и регионами в следующем учебном году, и по итогам проведения ВПР мы увидим более объективную картину без попыток искусственно завысить результат» 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D:\РабочийСтол\3_f5ee4dff.jpg"/>
          <p:cNvPicPr/>
          <p:nvPr/>
        </p:nvPicPr>
        <p:blipFill>
          <a:blip r:embed="rId1"/>
          <a:srcRect l="5533" t="0" r="5533" b="0"/>
          <a:stretch/>
        </p:blipFill>
        <p:spPr>
          <a:xfrm>
            <a:off x="1979640" y="404640"/>
            <a:ext cx="4896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Закон РФ «Об образовании»  ст. 97 п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i="1" lang="ru-RU" sz="2400" spc="-1" strike="noStrike" u="sng">
                <a:solidFill>
                  <a:srgbClr val="374c81"/>
                </a:solidFill>
                <a:uFillTx/>
                <a:latin typeface="Century Gothic"/>
              </a:rPr>
              <a:t>Мониторинг системы образования </a:t>
            </a:r>
            <a:r>
              <a:rPr b="0" lang="ru-RU" sz="2400" spc="-1" strike="noStrike">
                <a:solidFill>
                  <a:srgbClr val="374c81"/>
                </a:solidFill>
                <a:latin typeface="Century Gothic"/>
              </a:rPr>
              <a:t>представляет собой систематическое стандартизированное наблюдение за состоянием образования и динамикой изменений его результатов, условиями осуществления образовательной деятельности, контингентом обучающихся, учебными и внеучебными достижениями обучающихся, профессиональными достижениями выпускников организаций, осуществляющих образовательную деятельность, состоянием сети организаций, осуществляющих образовательную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Обновление нормативно- правовой ба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5 год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. Выделение предмета «Иностранный язык» в отдельную образовательную область ( ПР. МО РФ № 1576,1577,1578 от 31.12.2015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6 год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. Приказ Минобрнауки РФ от 15.12. 2016 г.№ 1598 «Об утверждении комплекса мер, направленных на систематическое обновление содержания общего образования на </a:t>
            </a: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основе результатов  мониторинговых исследований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и с учетом современных достижений науки и технологий, изменений запросов учащихся и общества, ориентированности  на применении знаний, умений и навыков  в реальных жизненных условия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7 год</a:t>
            </a:r>
            <a:r>
              <a:rPr b="0" lang="ru-RU" sz="2000" spc="-1" strike="noStrike">
                <a:solidFill>
                  <a:srgbClr val="ff0000"/>
                </a:solidFill>
                <a:latin typeface="Century Gothic"/>
              </a:rPr>
              <a:t>.  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Выход в свет и  общественное обсуждение научно-обоснованной концепция модернизации содержания и технологий преподавания предметной области «Иностранные языки».  Учебные предметы «Иностранный язык» и «Второй иностранный язык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Обновление нормативно- правовой ба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8-2019 гг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. Обновление требований к предметным результатам обучения иностранному языку по годам обучения на уровнях начального и основного общего образования (обсужд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8 г.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Выход в свет нового Федерального перечня учебников (Приказ Министерства Просвещения РФ № 345 от 28.12.2018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9 г.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Разработка КИМ ОГЭ по иностранным языкам в соответствии с требованиями ФГ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   </a:t>
            </a:r>
            <a:r>
              <a:rPr b="0" i="1" lang="ru-RU" sz="2000" spc="-1" strike="noStrike">
                <a:solidFill>
                  <a:srgbClr val="374c81"/>
                </a:solidFill>
                <a:latin typeface="Century Gothic"/>
              </a:rPr>
              <a:t>Реализация требований ФГОС ООО в части введения </a:t>
            </a:r>
            <a:r>
              <a:rPr b="0" i="1" lang="ru-RU" sz="2000" spc="-1" strike="noStrike" u="sng">
                <a:solidFill>
                  <a:srgbClr val="374c81"/>
                </a:solidFill>
                <a:uFillTx/>
                <a:latin typeface="Century Gothic"/>
              </a:rPr>
              <a:t>второго иностранного языка в </a:t>
            </a:r>
            <a:r>
              <a:rPr b="0" i="1" lang="ru-RU" sz="2000" spc="-1" strike="noStrike">
                <a:solidFill>
                  <a:srgbClr val="374c81"/>
                </a:solidFill>
                <a:latin typeface="Century Gothic"/>
              </a:rPr>
              <a:t>образовательную программу общеобразовательной шко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Цель проведения Всероссийских проверочных раб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4000" y="1267920"/>
            <a:ext cx="8362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беспечение </a:t>
            </a:r>
            <a:r>
              <a:rPr b="1" lang="ru-RU" sz="2000" spc="-1" strike="noStrike">
                <a:solidFill>
                  <a:srgbClr val="374c81"/>
                </a:solidFill>
                <a:latin typeface="Century Gothic"/>
              </a:rPr>
              <a:t>единства образовательного пространства 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Российской Федерации и поддержки введения ФГОС за счет предоставления образовательным организациям единых проверочных материалов и единых критериев оценивания учебных достижений школьни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собенность Всероссийских проверочных работ – </a:t>
            </a:r>
            <a:r>
              <a:rPr b="1" lang="ru-RU" sz="2000" spc="-1" strike="noStrike">
                <a:solidFill>
                  <a:srgbClr val="374c81"/>
                </a:solidFill>
                <a:latin typeface="Century Gothic"/>
              </a:rPr>
              <a:t>единство подходов к составлению вариантов, проведению самих работ и их оцениванию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, а также использование современных технологий, позволяющих обеспечить практически одновременное выполнение работ школьниками всей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Кроме того, ВПР позволят осуществлять мониторинг результатов введения ФГОС и послужат развитию единого образовательного пространства в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Назначение ВПР – оценить уровень общеобразовательной подготовки учащихся в соответствии с требованиями ФГ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Иностранный язык введен в перечень обязательных предметов ЕГЭ (2022 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ВПР —  первый этап на пути к введению обязательного ЕГЭ по иностранному языку. Проверочная работа не только выявляет уровень знаний учеников, изучающих иностранный язык, но и дает возможность школе заранее подготовиться к проведению государственного экзамена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Структура ВПР(20.03.2018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Письменная и устная ча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Устная часть в компьютеризированной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 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фор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Образовательное учреждение в 2018 г.   имеет право выбора – выполнять 2 части работы или только письменн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Письменная часть – 60 мину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Устная часть – 15 минут на одного отвечающе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Оптимизация подготовки к ВПР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Ознакомление с форматом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Овладение стратегиями разного рода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  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аудирования и чт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Выполнение продуктивных 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Совершенствование лексико –    грамматических навыков в коммуникативно-значимом контекс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Результаты ВПР- 2018 по английскому языку в 11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Century Gothic"/>
              </a:rPr>
              <a:t>Результаты ВПР показали готовность школ к введению обязательного ЕГЭ по иностранному язы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Century Gothic"/>
              </a:rPr>
              <a:t>Необходимо начать работу по организационно технологическому обеспечению проведения обязательного ЕГЭ по иностранным языкам в компьютерной фор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D:\РабочийСтол\Screenshot_9.png"/>
          <p:cNvPicPr/>
          <p:nvPr/>
        </p:nvPicPr>
        <p:blipFill>
          <a:blip r:embed="rId1"/>
          <a:stretch/>
        </p:blipFill>
        <p:spPr>
          <a:xfrm>
            <a:off x="539640" y="1052640"/>
            <a:ext cx="824400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1</cp:lastModifiedBy>
  <dcterms:modified xsi:type="dcterms:W3CDTF">2019-02-08T16:45:55Z</dcterms:modified>
  <cp:revision>602</cp:revision>
  <dc:subject/>
  <dc:title>Diapositiva 1</dc:title>
</cp:coreProperties>
</file>