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2DE-9C33-4365-B03B-9A0EE818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BAF-4AAE-47F9-A266-E22DD4A9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C83-0A83-4355-A6AF-AC6AE76A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478-F12A-4661-9F52-ACD74B92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DBEB-DAEB-4DCA-9332-B84FFA1E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463E-FADC-419C-B09E-6A75EE4D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4550-CE75-410A-8983-A7B26580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CFF8-95A0-4C63-BDA7-7E4340A6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36C3-1260-4168-A7FD-19168778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0CFC-123D-4999-B5AB-80281798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E80B-E322-4954-B438-E3BAE7D4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09D-4ED6-4800-9334-1A5C79B8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16B5-2653-4A17-9F79-F978550A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F03B-14B2-4DD1-8924-CBEC5126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D23A-B3EB-48FF-B52D-3D7AE0EE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049C-0C04-45EA-9233-B62F5733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42C8-45C4-4A7E-9C2A-307D1B68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32074-DE30-4E44-867F-62D3760A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DE014-F69A-40A4-8EF2-4B21B658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2E8D0-437E-41A2-B9AB-D1E2208D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2D589-4FAB-43AD-8CDF-09788F91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84094-1C9A-452D-B580-13CBC1E7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542-ED89-4AAD-8903-DC55AF9A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94AEC-FC10-4D28-9A54-C184F651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C5B78-5249-4052-9403-20EE9024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B294C-D00D-4ADF-B88F-18952B69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D99E7-ECD5-4F5E-9A9F-6FF943C3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CB77F-03C1-4CAD-88B6-284E80A8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09C2A-4A7B-4E40-BB91-A0B08B27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42198-EC69-4FCE-8C6D-8C2F71CA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E0E6C-F561-494B-B08E-00433944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2B6DA-2BB3-45A1-9E39-4A22A6BF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CB0B-74C5-4F20-A59D-AEDC84EC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855-AB95-438D-92C8-6202AF35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4F0CA-64FD-4F62-AAE2-6DD2AF80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20A43-CD19-4B25-853B-3C1AC519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3F4CF-7A3D-4BB4-833C-AE05BF35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ABEC3-F163-417C-B7B1-1F89773B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B6243-C854-4CC4-84A0-6737A5F3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E9131-BDB9-44CB-8E2B-30F46C87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BDEC7-2651-4D1C-98FD-18219F83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3E669-1A87-43E7-998C-7239B57E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460D2-E507-4684-A150-90C5E757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C7A-8703-4047-B1FC-FCE982A6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409-AF23-4C7A-A51A-94B87B6D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6D2-4BFD-4D73-8B02-F705548B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9BF-C447-497E-A519-E21635BB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D25-89CE-48A7-8866-90E24EB1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6E4E-A1FE-466B-922B-8DAA065A4B9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6562-1305-4B31-BC7A-9240105C714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BDB2-8C19-4664-99E2-5B58534A40C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C4ED-EE56-4526-AA3F-EB0641EE342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1213920"/>
            <a:ext cx="777240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Управление качеством иноязычного образования в школе с углублённым изучением английского язы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28560" y="4500720"/>
            <a:ext cx="60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итель  английского языка МАОУ «СОШ № 65 с углублённым изучением английского языка г. Пер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Четина Любовь Никола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 лет в школе работает летний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одской американский лагерь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IMG_1764"/>
          <p:cNvPicPr/>
          <p:nvPr/>
        </p:nvPicPr>
        <p:blipFill>
          <a:blip r:embed="rId1"/>
          <a:stretch/>
        </p:blipFill>
        <p:spPr>
          <a:xfrm rot="20619000">
            <a:off x="534600" y="2158560"/>
            <a:ext cx="4303800" cy="3915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IMG_1930"/>
          <p:cNvPicPr/>
          <p:nvPr/>
        </p:nvPicPr>
        <p:blipFill>
          <a:blip r:embed="rId2"/>
          <a:stretch/>
        </p:blipFill>
        <p:spPr>
          <a:xfrm rot="1148400">
            <a:off x="4870440" y="2109600"/>
            <a:ext cx="3801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10"/>
          <p:cNvPicPr/>
          <p:nvPr/>
        </p:nvPicPr>
        <p:blipFill>
          <a:blip r:embed="rId1"/>
          <a:stretch/>
        </p:blipFill>
        <p:spPr>
          <a:xfrm rot="21016800">
            <a:off x="210960" y="1038240"/>
            <a:ext cx="4807080" cy="338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014"/>
          <p:cNvPicPr/>
          <p:nvPr/>
        </p:nvPicPr>
        <p:blipFill>
          <a:blip r:embed="rId2"/>
          <a:stretch/>
        </p:blipFill>
        <p:spPr>
          <a:xfrm rot="1472400">
            <a:off x="4800600" y="3170160"/>
            <a:ext cx="3708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цес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бор сущностной и разносторонней информации о качестве образова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её обработ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тиз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убокий анали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гноз дальнейшего развития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работка мер по коррекции образовательного процесса и созданных для него условий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  управления учебно-воспитательным процессо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авн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-помощь, выяснение неуспехов с целью дальнейшей коррек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не только оценить и выявить недостатк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иагностика, для наблюдения за развитием мотивации уч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ь мониторинга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аже небольшой успех обучаемого не остаётся незамеченны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нутренней и внешней оц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щи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ек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нам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ндивидуальных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еник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стремится обеспечи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рмаль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функционировани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чествен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е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обходим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уровень мотивации, здоровья и развития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йт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з режима функционирования в режим развит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целенаправленно занимаясь инновационной работо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кольная модель мониторинг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который направлен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налитическое отслеживание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ов, определяю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оличественно-качественные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ой среды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зультатов образовательного процесс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ффективности стратегического и оперативного управления образовательным учреждени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ременное средство контро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зволяет по-другому взглянуть на весь учебно-воспитательный процес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зультаты, которых нам удалось достич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йтинговая оценка системы зна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ехнология портфолио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езотметочный мониторинг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положительной мотивац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ознание своей роли и предназнач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выбирать целевые и смысловые установки для своих действий и поступков, принимать реш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ладение эффективными способами организации своего досуг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самостоятельно добывать, анализировать и отбирать информацию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ведомлённость в области социально-трудовой сферы, сферы семейных отноше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навыков работы в группе, выполнение различных социальных ролей в коллектив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отовность к поликультурному общению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владение креативными навыками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ьно-педагогическая поисковая и исследовательская активность коллектива учителей школы постоянно растёт. Коллектив учителей иностранных языков участвует в работе в рамках сетевого взаимодействия с инновационными школ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глийского и немецкого языков прош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зарубежную стажировку в школах и колледжах СШ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 программе обмена «Образование. Культура. Бизнес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ме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ысшую квалификационную категорию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чителя ИЯ нашей школы постоянно проводят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минары, дискуссионные площадки, мастер классы, демонстрации открытых уроков, круглые столы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другие мероприятия на базе ОУ на краевом и городском уровнях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активно использую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гапурские 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метно-языков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нтегрирова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илингвального обучени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T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ежкультурной сред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станционны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электро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реализует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ногоплановое и рационально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ние носителей языка как средство повышения мотивации и эффе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урочной деятельности по английскому языку. Это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треч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носителями языка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-лайн перепис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рубежные поездк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учащихся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фпроб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ВУЗах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ED talk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скусс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17:26:15Z</dcterms:created>
  <dc:creator>lybov</dc:creator>
  <dc:description/>
  <dc:language>en-US</dc:language>
  <cp:lastModifiedBy>1</cp:lastModifiedBy>
  <dcterms:modified xsi:type="dcterms:W3CDTF">2019-02-07T03:17:59Z</dcterms:modified>
  <cp:revision>32</cp:revision>
  <dc:subject/>
  <dc:title>Слайд 1</dc:title>
</cp:coreProperties>
</file>