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720360" y="900000"/>
            <a:ext cx="6110280" cy="34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50505"/>
                </a:solidFill>
                <a:latin typeface="Times New Roman"/>
              </a:rPr>
              <a:t>Click to move the slide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028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1C8BF-272E-49B3-A9E5-14BA257728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08140-920D-4519-AEF1-487FD892AD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9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5C39D-1574-4C2F-980F-01789ADADB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723960" y="900000"/>
            <a:ext cx="6105600" cy="34340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17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AE40A-7F1C-4099-AA24-9A00EDB07E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723960" y="900000"/>
            <a:ext cx="6105600" cy="34340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17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7ECE6-0ECA-4F34-B55E-2BC88D67C3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723960" y="900000"/>
            <a:ext cx="6105600" cy="34340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17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84494-AF66-4418-B984-56B0398618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9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1795A-4472-4C28-BB68-A3632A4F18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B8897-D5C3-4A79-AB59-20F124C9AD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3A942A-8479-4664-BC3D-E6A7EC5D73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3174A-59DA-422D-B653-D447CAD0F5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411C0-5E00-4711-B640-3054BED6F5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70EA7-7197-4DBB-B81B-36E0F5C8D1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0E275-A60D-43E1-98A9-178069A204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95C9-D85D-444F-94EA-2AC3A981A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D8E8-4026-4C80-A9C4-9140EDF4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0C2D-1D94-4BA8-B6A2-BE92EEE75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5456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8984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1928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5456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8984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AA8C-99C8-4202-BAD7-22D285FF1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0058-9933-4E30-8312-4093FE8A6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E969-AF14-49E5-BAB9-0D1AE9DA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B775-7009-409C-88C7-4511C0CF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6144-3D0A-4B56-A92E-24472B8D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7CA9-1839-44F3-B4F3-493500F7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19280" y="215640"/>
            <a:ext cx="80899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40DB-8B77-4D6A-9ED2-992FD310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E924-8CD4-49C0-AC56-1A50A530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D153-AB9B-4976-8DD3-D15089D3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B24B-3F1F-46A7-89DF-31FA8A7B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C288-CDAE-4AC9-88DE-CC9A3D68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0F96-3C19-4400-BE76-76408C5A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5604-534C-4899-AB9F-D6D75C3E1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5456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08984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61928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5456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08984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ABA0-29E0-4E83-84BD-1F456CC4F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D5EF-7D08-428E-9813-445BCFBA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107C-9054-4074-AD20-DD2FFCD3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5AE3-DB59-464B-8165-1520F9E7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19280" y="215640"/>
            <a:ext cx="80899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57B6-3BDF-455B-A32E-CC568BA0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2611-FC81-43D1-9636-740E4658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EC0F-986B-4019-B0BA-65230E5F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764B-D1FD-4FEF-AF41-F8B16C7A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5400" cy="567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50505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84000" y="5164200"/>
            <a:ext cx="2338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86280" y="5164200"/>
            <a:ext cx="3186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9319F-28A0-413B-9ECD-61054962A4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225000"/>
            <a:ext cx="906444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4440" cy="328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3280" y="5165280"/>
            <a:ext cx="23414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7720" y="5165280"/>
            <a:ext cx="31892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7360" y="5165280"/>
            <a:ext cx="2341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CBB62-06D1-4BD6-A430-47E8B07F58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4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E64F7-21E7-47C4-AB71-362D7195A1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8920" y="216000"/>
            <a:ext cx="7956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0d1f63"/>
                </a:solidFill>
                <a:latin typeface="Arial Black"/>
              </a:rPr>
              <a:t>Институциональная модель управления деятельностью педагогов по повышению образовательных результатов по английскому языку 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887640" y="3606840"/>
            <a:ext cx="6191280" cy="17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Домнина Т.В.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Заместитель директора 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о УР, 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учитель английского языка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высшей квалификационной категории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МАОУ «Гимназия №10» г. Перми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6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2B31E-F0D6-413B-9AEE-6DE8D1A6E3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136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d73"/>
                </a:solidFill>
                <a:latin typeface="Arial Black"/>
              </a:rPr>
              <a:t>Работа с кадрами,</a:t>
            </a:r>
            <a:br>
              <a:rPr sz="2800"/>
            </a:br>
            <a:r>
              <a:rPr b="0" lang="ru-RU" sz="2800" spc="-1" strike="noStrike">
                <a:solidFill>
                  <a:srgbClr val="003d73"/>
                </a:solidFill>
                <a:latin typeface="Arial Black"/>
              </a:rPr>
              <a:t> родительской общественностью</a:t>
            </a:r>
            <a:endParaRPr b="0" lang="en-US" sz="28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18920" y="1368000"/>
            <a:ext cx="39481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63000"/>
          </a:bodyPr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50505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планы профессионального развития педагогов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систематическое повышение квалификации учителей английского языка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ежегодное участие в международном проекте ПРОФИ-КРАЙ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 саморазвитие учителей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профилактика профессионального выгорания педагогов через поощрения и создание ситуации успеха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765400" y="1368000"/>
            <a:ext cx="39481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психологическое сопровождение образовательного процесс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индивидуальная работа с учащимися и их родителями по выбору базового и углубленного изучения язык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проведение открытых уроков для родителей, 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индивидуальные консультации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67AF5-D4E6-49DA-8C59-9FF1ABF217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19280" y="169560"/>
            <a:ext cx="809136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Показатели повышения образовательных результатов по английскому языку</a:t>
            </a:r>
            <a:br>
              <a:rPr sz="2400"/>
            </a:b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 МАОУ «Гимназия №10»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619280" y="1368360"/>
          <a:ext cx="8091360" cy="4218120"/>
        </p:xfrm>
        <a:graphic>
          <a:graphicData uri="http://schemas.openxmlformats.org/drawingml/2006/table">
            <a:tbl>
              <a:tblPr/>
              <a:tblGrid>
                <a:gridCol w="4046400"/>
                <a:gridCol w="4044960"/>
              </a:tblGrid>
              <a:tr h="422280">
                <a:tc gridSpan="2">
                  <a:txBody>
                    <a:bodyPr lIns="90000" rIns="90000" tIns="83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3d73"/>
                          </a:solidFill>
                          <a:latin typeface="Arial"/>
                        </a:rPr>
                        <a:t>Качество образовательных достижений учащихс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4800"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3d73"/>
                          </a:solidFill>
                          <a:latin typeface="Arial"/>
                          <a:ea typeface="Microsoft YaHei"/>
                        </a:rPr>
                        <a:t>Критерий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3d73"/>
                          </a:solidFill>
                          <a:latin typeface="Arial"/>
                          <a:ea typeface="Microsoft YaHei"/>
                        </a:rPr>
                        <a:t>Показател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251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ровень обученности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0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552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Качество знаний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9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365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езультаты ОГЭ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лучшение результатов на 3 балл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365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езультаты ЕГЭ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лучшение результатов на 2 балл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04760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езультаты мониторинга предметных результатов учащихся 8 класс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0 балл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6E720-50FE-44F5-88CA-8462108793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19280" y="169560"/>
            <a:ext cx="809136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Показатели повышения образовательных результатов по английскому языку </a:t>
            </a:r>
            <a:br>
              <a:rPr sz="2400"/>
            </a:b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 МАОУ «Гимназия №10»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19280" y="1368000"/>
            <a:ext cx="809136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19280" y="1368360"/>
          <a:ext cx="8094600" cy="4335480"/>
        </p:xfrm>
        <a:graphic>
          <a:graphicData uri="http://schemas.openxmlformats.org/drawingml/2006/table">
            <a:tbl>
              <a:tblPr/>
              <a:tblGrid>
                <a:gridCol w="4048200"/>
                <a:gridCol w="4046400"/>
              </a:tblGrid>
              <a:tr h="368280">
                <a:tc gridSpan="2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71136"/>
                          </a:solidFill>
                          <a:latin typeface="Arial"/>
                          <a:ea typeface="Microsoft YaHei"/>
                        </a:rPr>
                        <a:t>Качество препода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71136"/>
                          </a:solidFill>
                          <a:latin typeface="Arial"/>
                          <a:ea typeface="Microsoft YaHei"/>
                        </a:rPr>
                        <a:t>Критери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71136"/>
                          </a:solidFill>
                          <a:latin typeface="Arial"/>
                          <a:ea typeface="Microsoft YaHei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206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бразование педагог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00% педагогов с высшим педагогическим  образование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8748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Квалификация педагог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величение за три года учителей с высшей квалификационной категори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192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Знание предм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лучшение результатов тестирования учител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206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Методика препода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Владение цифровыми образовательными технология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863640">
                <a:tc>
                  <a:txBody>
                    <a:bodyPr lIns="90000" rIns="90000" tIns="766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766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47C62-EC16-46EC-9FCD-6D1CF971FB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928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300" spc="-1" strike="noStrike">
                <a:solidFill>
                  <a:srgbClr val="003d73"/>
                </a:solidFill>
                <a:latin typeface="Arial Black"/>
              </a:rPr>
              <a:t>Качество образования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49440" y="1368000"/>
            <a:ext cx="809928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1160" y="2438280"/>
            <a:ext cx="100886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440000" y="1728720"/>
            <a:ext cx="2592360" cy="2087640"/>
          </a:xfrm>
          <a:prstGeom prst="wedgeEllipseCallout">
            <a:avLst>
              <a:gd name="adj1" fmla="val -27013"/>
              <a:gd name="adj2" fmla="val 128518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овлетвор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у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4103640" y="1511280"/>
            <a:ext cx="2735280" cy="2519280"/>
          </a:xfrm>
          <a:prstGeom prst="wedgeEllipseCallout">
            <a:avLst>
              <a:gd name="adj1" fmla="val -4523"/>
              <a:gd name="adj2" fmla="val 112800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рантия каче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ординирова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мини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мназ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6983280" y="1008000"/>
            <a:ext cx="3168720" cy="2879640"/>
          </a:xfrm>
          <a:prstGeom prst="wedgeEllipseCallout">
            <a:avLst>
              <a:gd name="adj1" fmla="val 6069"/>
              <a:gd name="adj2" fmla="val 79421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зате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независим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ов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Э, ЕГЭ, НИКО, ВПР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697A0-FC25-4B21-B7F5-6D064407FB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19280" y="129960"/>
            <a:ext cx="80978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3d73"/>
                </a:solidFill>
                <a:latin typeface="Arial Black"/>
              </a:rPr>
              <a:t>Этапы декомпозиции деятельности администрации в целях повышения качества образовательных услуг</a:t>
            </a:r>
            <a:endParaRPr b="0" lang="en-US" sz="26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70000"/>
          </a:bodyPr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планирование качества — формирование стратегии деятельности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 управление качеством — методы и виды деятельности организации оперативного характера, используемые для выполнения требований к качеству образования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обеспечение качества — методы и виды деятельности организации, направленные на создание уверенности в том, что требования к качеству будут выполнены: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улучшение качества — виды деятельности, направленные на улучшение способности выполнить требования к качеству образования (результативность, эффективность…)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оценка качества — доказательство того, что заданные требования к качеству образования выполнены. 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44F3B-3CF7-4E8F-BB80-5EE294E9C3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93800" y="70920"/>
            <a:ext cx="8097840" cy="17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d73"/>
                </a:solidFill>
                <a:latin typeface="Arial Black"/>
              </a:rPr>
              <a:t>Институциональная модель управления деятельностью педагогов МАОУ «Гимназия №10» по повышению качества образовательных результатов по английскому языку</a:t>
            </a:r>
            <a:endParaRPr b="0" lang="en-US" sz="20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8920" y="1368000"/>
            <a:ext cx="81010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11" name="Oval 3"/>
          <p:cNvSpPr/>
          <p:nvPr/>
        </p:nvSpPr>
        <p:spPr>
          <a:xfrm>
            <a:off x="1224000" y="-360360"/>
            <a:ext cx="71280" cy="144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4608360" y="3095640"/>
            <a:ext cx="3095640" cy="2592360"/>
          </a:xfrm>
          <a:prstGeom prst="diamond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5616720" y="3959280"/>
            <a:ext cx="144360" cy="144360"/>
          </a:xfrm>
          <a:prstGeom prst="diamond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ОЯ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863640" y="3527280"/>
            <a:ext cx="2160720" cy="1800360"/>
          </a:xfrm>
          <a:prstGeom prst="flowChartProcess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БО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ЮЩ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ЕЙСТВ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584360" y="1584360"/>
            <a:ext cx="1871640" cy="122400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4608360" y="1511280"/>
            <a:ext cx="1656000" cy="13683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Н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7056360" y="1008000"/>
            <a:ext cx="3168720" cy="1079640"/>
          </a:xfrm>
          <a:prstGeom prst="cloudCallout">
            <a:avLst>
              <a:gd name="adj1" fmla="val -20777"/>
              <a:gd name="adj2" fmla="val 35699"/>
            </a:avLst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КИ, ПРОБЛЕ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8064360" y="3527280"/>
            <a:ext cx="1656000" cy="1944720"/>
          </a:xfrm>
          <a:custGeom>
            <a:avLst/>
            <a:gdLst>
              <a:gd name="textAreaLeft" fmla="*/ 80640 w 1656000"/>
              <a:gd name="textAreaRight" fmla="*/ 1575360 w 1656000"/>
              <a:gd name="textAreaTop" fmla="*/ 80640 h 1944720"/>
              <a:gd name="textAreaBottom" fmla="*/ 1864080 h 1944720"/>
            </a:gdLst>
            <a:ahLst/>
            <a:rect l="textAreaLeft" t="textAreaTop" r="textAreaRight" b="textAreaBottom"/>
            <a:pathLst>
              <a:path w="21600" h="25365">
                <a:moveTo>
                  <a:pt x="3600" y="0"/>
                </a:moveTo>
                <a:arcTo wR="3600" hR="3600" stAng="16200000" swAng="-5400000"/>
                <a:lnTo>
                  <a:pt x="0" y="21765"/>
                </a:lnTo>
                <a:arcTo wR="3600" hR="3600" stAng="10800000" swAng="-5400000"/>
                <a:lnTo>
                  <a:pt x="18000" y="25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1" descr=""/>
          <p:cNvPicPr/>
          <p:nvPr/>
        </p:nvPicPr>
        <p:blipFill>
          <a:blip r:embed="rId1"/>
          <a:stretch/>
        </p:blipFill>
        <p:spPr>
          <a:xfrm>
            <a:off x="3154320" y="3925800"/>
            <a:ext cx="1238400" cy="466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"/>
          <p:cNvPicPr/>
          <p:nvPr/>
        </p:nvPicPr>
        <p:blipFill>
          <a:blip r:embed="rId2"/>
          <a:stretch/>
        </p:blipFill>
        <p:spPr>
          <a:xfrm>
            <a:off x="2041560" y="2808360"/>
            <a:ext cx="622440" cy="720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"/>
          <p:cNvPicPr/>
          <p:nvPr/>
        </p:nvPicPr>
        <p:blipFill>
          <a:blip r:embed="rId3"/>
          <a:stretch/>
        </p:blipFill>
        <p:spPr>
          <a:xfrm>
            <a:off x="3456000" y="1838160"/>
            <a:ext cx="1238400" cy="466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"/>
          <p:cNvPicPr/>
          <p:nvPr/>
        </p:nvPicPr>
        <p:blipFill>
          <a:blip r:embed="rId4"/>
          <a:stretch/>
        </p:blipFill>
        <p:spPr>
          <a:xfrm>
            <a:off x="6121440" y="1511280"/>
            <a:ext cx="338292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6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05053-D93D-4D83-8FCA-4EE98E64CD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84360" y="144360"/>
            <a:ext cx="809784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3d73"/>
                </a:solidFill>
                <a:latin typeface="Arial Black"/>
              </a:rPr>
              <a:t>Этапы по управлению качеством обучения английскому языку в гимназии</a:t>
            </a:r>
            <a:endParaRPr b="0" lang="en-US" sz="26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513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0000"/>
          </a:bodyPr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1. Диагностически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2. Организационны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3. Практически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4. Аналитически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4896000" y="1150920"/>
            <a:ext cx="720720" cy="3889440"/>
          </a:xfrm>
          <a:custGeom>
            <a:avLst/>
            <a:gdLst>
              <a:gd name="textAreaLeft" fmla="*/ 0 w 720720"/>
              <a:gd name="textAreaRight" fmla="*/ 260280 w 720720"/>
              <a:gd name="textAreaTop" fmla="*/ 101160 h 3889440"/>
              <a:gd name="textAreaBottom" fmla="*/ 3788280 h 388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5985000" y="1440000"/>
            <a:ext cx="395100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343080" indent="-335160"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342"/>
                </a:solidFill>
                <a:latin typeface="Arial"/>
              </a:rPr>
              <a:t>Работа с педагогическим коллективом, учащимися, родительской общественност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7DBE0-0C07-48F7-9E1C-090DCD4399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3d73"/>
                </a:solidFill>
                <a:latin typeface="Arial Black"/>
              </a:rPr>
              <a:t>Диагностический этап деятельности гимназии по повышению образовательных результатов по английскому языку</a:t>
            </a:r>
            <a:endParaRPr b="0" lang="en-US" sz="22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4000"/>
          </a:bodyPr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Стартовый педагогический совет по результатам внешней независимой оценки качества образования (ОГЭ, ЕГЭ, НИКО, ВПР) - выход на «проблемные» зоны.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Входная диагностика — выход на «проблемные» зоны.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Создание проблемной группы по актуальным проблемам (Например: «Разработка разноуровневых заданий на уроках английского языка»)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Выбор методической темы каждым педагогом на учебный год в соответсвии с выявленными проблемами (Например: «Цифровые образовательные ресурсы в обучении грамматике»)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89E83-6C0D-48B4-9176-1B9917FCFE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3d73"/>
                </a:solidFill>
                <a:latin typeface="Arial Black"/>
              </a:rPr>
              <a:t>Организационный этап деятельности гимназии по повышению образовательных результатов по английскому языку</a:t>
            </a:r>
            <a:endParaRPr b="0" lang="en-US" sz="22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871640" y="136836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4680000" y="3456000"/>
            <a:ext cx="2076480" cy="2025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кадр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7564320" y="4176720"/>
            <a:ext cx="2152800" cy="1362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уроч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1800360" y="3365640"/>
            <a:ext cx="2447640" cy="21063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он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124760" y="1420920"/>
            <a:ext cx="2592360" cy="19638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родительск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ственность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1871640" y="1511280"/>
            <a:ext cx="216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тив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                  материаль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9" descr=""/>
          <p:cNvPicPr/>
          <p:nvPr/>
        </p:nvPicPr>
        <p:blipFill>
          <a:blip r:embed="rId6"/>
          <a:stretch/>
        </p:blipFill>
        <p:spPr>
          <a:xfrm>
            <a:off x="3672000" y="1413000"/>
            <a:ext cx="3666960" cy="26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27509-F623-4101-B55E-8B6ADC5A78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d73"/>
                </a:solidFill>
                <a:latin typeface="Arial Black"/>
              </a:rPr>
              <a:t>Нормативно-правовая база, материально-техническое обеспечение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8000"/>
          </a:bodyPr>
          <a:p>
            <a:pPr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1. Нормативно-правовая база (изменение в локальном акте «Положение о текущей и промежуточной аттестации)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2. Материально-техническая база (100% кабинетов оснащены компьютерами, проекторами, в наличие смарт-доски, лингафонный кабинет)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6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1E349-E6C5-4CED-A296-4E52108F04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136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Организационно-методическая работа, внеурочная деятельность 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18920" y="1368000"/>
            <a:ext cx="39481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9000"/>
          </a:bodyPr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50505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50505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коррекция содержания тематического планирования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мониторинговые карты учащихся по видам деятельности, по подготовке к ГИ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системный анализ контрольных работ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разработка индивидуальных карт по подготовке к ГИ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проведение  внутренних мониторингов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учительский «аудит»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765760" y="1368360"/>
            <a:ext cx="394992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765760" y="1368360"/>
            <a:ext cx="3948120" cy="32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ежегодные декады английского язы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школьный конкурс песен о любви на английском язык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Конкурс Спикеров «</a:t>
            </a: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We discover the world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олимпиадное движе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система факультатив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2T11:40:59Z</dcterms:created>
  <dc:creator>User</dc:creator>
  <dc:description/>
  <dc:language>en-US</dc:language>
  <cp:lastModifiedBy>1</cp:lastModifiedBy>
  <dcterms:modified xsi:type="dcterms:W3CDTF">2019-02-07T03:20:46Z</dcterms:modified>
  <cp:revision>8</cp:revision>
  <dc:subject/>
  <dc:title>DNA</dc:title>
</cp:coreProperties>
</file>