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9BC3-FBCC-419E-8D5F-4E39F0FA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CCE8-7654-439D-9579-97008DD3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50F-FD76-4667-9F77-5259CE27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427C-6BF6-47E2-BBAD-1C3E50DF2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6117-6265-48FA-ABB3-578C4C69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CA5-4DD4-4EAC-B329-983B1D7E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171-FC26-4153-AB19-2B536F12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1873-545D-4C6F-BF4A-E2FCA588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599-0AB3-494B-AAC7-19FC6D55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9D5C-EDCC-4FAC-A6B5-67FFEC42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D2DC-B033-44B0-BA4D-5EA0218C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446-9AEE-4BB8-B0A4-F65E8547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F646-DFBC-459E-9476-EF0CDEE81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2.xml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&quot;Арктическая пустыня&quot;&#13;&#13;&#10;В Арктике и Антарктике образуется особый ландшафт, который называется арктическая, или полярная пустыня. Она отличается крайне скудной растительностью, способной существовать среди снегов и ледников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верный ол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9480" y="1600200"/>
            <a:ext cx="684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95640" y="679320"/>
            <a:ext cx="15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с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809880" cy="378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51560" y="13381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й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76920" y="552924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опор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724200" cy="464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98560" y="5273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65560" y="2057400"/>
            <a:ext cx="3544920" cy="4038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80040" y="70164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вцеб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722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юл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62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ый 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4000" y="1600200"/>
            <a:ext cx="6696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ения тунд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876760" cy="3305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2914560" cy="191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04000" y="1628640"/>
            <a:ext cx="2114640" cy="3029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492360" y="4581360"/>
            <a:ext cx="307656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08360" y="38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м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61657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лишай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5" action="ppaction://hlinksldjump"/>
          </p:cNvPr>
          <p:cNvSpPr/>
          <p:nvPr/>
        </p:nvSpPr>
        <p:spPr>
          <a:xfrm>
            <a:off x="8459640" y="404640"/>
            <a:ext cx="289080" cy="4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2000"/>
              <a:gd name="textAreaBottom" fmla="*/ 413280 h 432000"/>
            </a:gdLst>
            <a:ahLst/>
            <a:rect l="textAreaLeft" t="textAreaTop" r="textAreaRight" b="textAreaBottom"/>
            <a:pathLst>
              <a:path w="21600" h="32266">
                <a:moveTo>
                  <a:pt x="0" y="0"/>
                </a:moveTo>
                <a:lnTo>
                  <a:pt x="21600" y="0"/>
                </a:lnTo>
                <a:lnTo>
                  <a:pt x="21600" y="32266"/>
                </a:lnTo>
                <a:lnTo>
                  <a:pt x="0" y="32266"/>
                </a:lnTo>
                <a:close/>
              </a:path>
              <a:path fill="lightenLess" w="21600" h="322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66">
                <a:moveTo>
                  <a:pt x="21600" y="0"/>
                </a:moveTo>
                <a:lnTo>
                  <a:pt x="21600" y="32266"/>
                </a:lnTo>
                <a:lnTo>
                  <a:pt x="20200" y="30866"/>
                </a:lnTo>
                <a:lnTo>
                  <a:pt x="20200" y="1400"/>
                </a:lnTo>
                <a:close/>
              </a:path>
              <a:path fill="darkenLess" w="21600" h="32266">
                <a:moveTo>
                  <a:pt x="21600" y="32266"/>
                </a:moveTo>
                <a:lnTo>
                  <a:pt x="0" y="32266"/>
                </a:lnTo>
                <a:lnTo>
                  <a:pt x="1400" y="30866"/>
                </a:lnTo>
                <a:lnTo>
                  <a:pt x="20200" y="30866"/>
                </a:lnTo>
                <a:close/>
              </a:path>
              <a:path fill="lighten" w="21600" h="32266">
                <a:moveTo>
                  <a:pt x="0" y="322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66"/>
                </a:lnTo>
                <a:close/>
              </a:path>
              <a:path fill="darken" w="21600" h="32266">
                <a:moveTo>
                  <a:pt x="3794" y="16133"/>
                </a:moveTo>
                <a:lnTo>
                  <a:pt x="17806" y="9126"/>
                </a:lnTo>
                <a:lnTo>
                  <a:pt x="17806" y="2313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3962520" cy="303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5320" y="334152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ярный м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4038480" cy="307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67440" y="326556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4011480" cy="261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911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шай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0" y="3809880"/>
            <a:ext cx="403848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015520" y="6284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мнело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ая с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1-05-12T15:51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