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9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5.jpeg" ContentType="image/jpeg"/>
  <Override PartName="/ppt/media/image24.png" ContentType="image/png"/>
  <Override PartName="/ppt/media/image18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2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796E-C36C-48D7-A36B-CCFBDA5B7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8094-38D9-4192-8D46-1C3460D68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DC3D-037F-401C-9A76-697B52E56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DE4A-8745-4BFC-8F08-22850F043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7759-7313-41F0-BE42-F01C39AE7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F7BD-22C1-46AF-AA81-17221E57F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DC5A-19EF-4BC4-97FF-7BDEFADE0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DBB8-B2C8-4493-AF2F-B3284AF08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33FE-36A5-4047-8766-FFE9FDE1E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FE38-D768-4896-9C20-99E445355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BB9C-6ED4-4E25-931B-4EF305BF0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0D79-DD61-47C0-A6BF-F540DCFA3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215DB-545B-4D8C-BC25-02C7F08CF8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" Target="slide12.xml"/><Relationship Id="rId6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&quot;Арктическая пустыня&quot;&#13;&#13;&#10;В Арктике и Антарктике образуется особый ландшафт, который называется арктическая, или полярная пустыня. Она отличается крайне скудной растительностью, способной существовать среди снегов и ледников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057400" y="0"/>
            <a:ext cx="5486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еверный олен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149480" y="1600200"/>
            <a:ext cx="68450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195640" y="679320"/>
            <a:ext cx="156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есе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304920" y="2209680"/>
            <a:ext cx="3809880" cy="37814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051560" y="1338120"/>
            <a:ext cx="140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кай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5257800" y="609480"/>
            <a:ext cx="3048120" cy="48006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5776920" y="5529240"/>
            <a:ext cx="185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топор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3724200" cy="46483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898560" y="5273640"/>
            <a:ext cx="205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уропат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5065560" y="2057400"/>
            <a:ext cx="3544920" cy="40384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6080040" y="701640"/>
            <a:ext cx="94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у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вцебы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447920" y="1905120"/>
            <a:ext cx="6172200" cy="44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юлен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260360" y="1600200"/>
            <a:ext cx="66232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олярный вол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224000" y="1600200"/>
            <a:ext cx="66960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астения тунд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79280" y="1557360"/>
            <a:ext cx="2876760" cy="33051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419640" y="1844640"/>
            <a:ext cx="2914560" cy="19144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6804000" y="1628640"/>
            <a:ext cx="2114640" cy="30290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3492360" y="4581360"/>
            <a:ext cx="3076560" cy="15242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708360" y="386064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Times New Roman"/>
              </a:rPr>
              <a:t>мх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16360" y="6165720"/>
            <a:ext cx="47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Times New Roman"/>
              </a:rPr>
              <a:t>лишай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>
            <a:hlinkClick r:id="rId5" action="ppaction://hlinksldjump"/>
          </p:cNvPr>
          <p:cNvSpPr/>
          <p:nvPr/>
        </p:nvSpPr>
        <p:spPr>
          <a:xfrm>
            <a:off x="8459640" y="404640"/>
            <a:ext cx="289080" cy="432000"/>
          </a:xfrm>
          <a:custGeom>
            <a:avLst/>
            <a:gdLst>
              <a:gd name="textAreaLeft" fmla="*/ 18720 w 289080"/>
              <a:gd name="textAreaRight" fmla="*/ 270360 w 289080"/>
              <a:gd name="textAreaTop" fmla="*/ 18720 h 432000"/>
              <a:gd name="textAreaBottom" fmla="*/ 413280 h 432000"/>
            </a:gdLst>
            <a:ahLst/>
            <a:rect l="textAreaLeft" t="textAreaTop" r="textAreaRight" b="textAreaBottom"/>
            <a:pathLst>
              <a:path w="21600" h="32266">
                <a:moveTo>
                  <a:pt x="0" y="0"/>
                </a:moveTo>
                <a:lnTo>
                  <a:pt x="21600" y="0"/>
                </a:lnTo>
                <a:lnTo>
                  <a:pt x="21600" y="32266"/>
                </a:lnTo>
                <a:lnTo>
                  <a:pt x="0" y="32266"/>
                </a:lnTo>
                <a:close/>
              </a:path>
              <a:path fill="lightenLess" w="21600" h="3226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266">
                <a:moveTo>
                  <a:pt x="21600" y="0"/>
                </a:moveTo>
                <a:lnTo>
                  <a:pt x="21600" y="32266"/>
                </a:lnTo>
                <a:lnTo>
                  <a:pt x="20200" y="30866"/>
                </a:lnTo>
                <a:lnTo>
                  <a:pt x="20200" y="1400"/>
                </a:lnTo>
                <a:close/>
              </a:path>
              <a:path fill="darkenLess" w="21600" h="32266">
                <a:moveTo>
                  <a:pt x="21600" y="32266"/>
                </a:moveTo>
                <a:lnTo>
                  <a:pt x="0" y="32266"/>
                </a:lnTo>
                <a:lnTo>
                  <a:pt x="1400" y="30866"/>
                </a:lnTo>
                <a:lnTo>
                  <a:pt x="20200" y="30866"/>
                </a:lnTo>
                <a:close/>
              </a:path>
              <a:path fill="lighten" w="21600" h="32266">
                <a:moveTo>
                  <a:pt x="0" y="32266"/>
                </a:moveTo>
                <a:lnTo>
                  <a:pt x="0" y="0"/>
                </a:lnTo>
                <a:lnTo>
                  <a:pt x="1400" y="1400"/>
                </a:lnTo>
                <a:lnTo>
                  <a:pt x="1400" y="30866"/>
                </a:lnTo>
                <a:close/>
              </a:path>
              <a:path fill="darken" w="21600" h="32266">
                <a:moveTo>
                  <a:pt x="3794" y="16133"/>
                </a:moveTo>
                <a:lnTo>
                  <a:pt x="17806" y="9126"/>
                </a:lnTo>
                <a:lnTo>
                  <a:pt x="17806" y="2313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3962520" cy="30337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45320" y="3341520"/>
            <a:ext cx="25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лярный ма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648320" y="380880"/>
            <a:ext cx="4038480" cy="30765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5167440" y="3265560"/>
            <a:ext cx="8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х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228600" y="3809880"/>
            <a:ext cx="4011480" cy="26146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143000" y="6491160"/>
            <a:ext cx="136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ишайн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4572000" y="3809880"/>
            <a:ext cx="4038480" cy="25909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5015520" y="6284880"/>
            <a:ext cx="14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мнелом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олярная с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oner-XP</cp:lastModifiedBy>
  <dcterms:modified xsi:type="dcterms:W3CDTF">2011-05-12T15:51:0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