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2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F574-57FD-4D8D-94C6-424E0F49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D036-AE6B-4340-8DE6-B51B98BF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DF40-6DBE-48F0-B1D7-1BC054DA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F15F-2E65-4676-89AC-DAF1C837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4B06-D98E-4840-9680-C747693E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06DC-F175-4484-BFB6-645097EF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953A-76C9-4954-BC97-A0317BE0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016-26F1-43E6-A507-2A855A9A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4F58-1B22-4260-82DE-50B59568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174E-813B-4987-9926-34C5D3EE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4799-33CF-47D2-BFCE-9E392458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A3C0-F17F-4F3D-AB75-ACC65A03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514E-E294-47DF-9BA3-ED0F081DB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12.xml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&quot;Арктическая пустыня&quot;&#13;&#13;&#10;В Арктике и Антарктике образуется особый ландшафт, который называется арктическая, или полярная пустыня. Она отличается крайне скудной растительностью, способной существовать среди снегов и ледников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верный ол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49480" y="1600200"/>
            <a:ext cx="6845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95640" y="679320"/>
            <a:ext cx="156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с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3809880" cy="3781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51560" y="133812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й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3048120" cy="4800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776920" y="552924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опор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3724200" cy="464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98560" y="527364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роп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65560" y="2057400"/>
            <a:ext cx="3544920" cy="4038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80040" y="70164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вцеб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17220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юл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6623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ярный 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24000" y="1600200"/>
            <a:ext cx="6696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тения тунд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2876760" cy="3305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19640" y="1844640"/>
            <a:ext cx="2914560" cy="1914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04000" y="1628640"/>
            <a:ext cx="2114640" cy="3029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492360" y="4581360"/>
            <a:ext cx="3076560" cy="152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708360" y="386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м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616572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лишай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5" action="ppaction://hlinksldjump"/>
          </p:cNvPr>
          <p:cNvSpPr/>
          <p:nvPr/>
        </p:nvSpPr>
        <p:spPr>
          <a:xfrm>
            <a:off x="8459640" y="404640"/>
            <a:ext cx="289080" cy="43200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432000"/>
              <a:gd name="textAreaBottom" fmla="*/ 413280 h 432000"/>
            </a:gdLst>
            <a:ahLst/>
            <a:rect l="textAreaLeft" t="textAreaTop" r="textAreaRight" b="textAreaBottom"/>
            <a:pathLst>
              <a:path w="21600" h="32266">
                <a:moveTo>
                  <a:pt x="0" y="0"/>
                </a:moveTo>
                <a:lnTo>
                  <a:pt x="21600" y="0"/>
                </a:lnTo>
                <a:lnTo>
                  <a:pt x="21600" y="32266"/>
                </a:lnTo>
                <a:lnTo>
                  <a:pt x="0" y="32266"/>
                </a:lnTo>
                <a:close/>
              </a:path>
              <a:path fill="lightenLess" w="21600" h="322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66">
                <a:moveTo>
                  <a:pt x="21600" y="0"/>
                </a:moveTo>
                <a:lnTo>
                  <a:pt x="21600" y="32266"/>
                </a:lnTo>
                <a:lnTo>
                  <a:pt x="20200" y="30866"/>
                </a:lnTo>
                <a:lnTo>
                  <a:pt x="20200" y="1400"/>
                </a:lnTo>
                <a:close/>
              </a:path>
              <a:path fill="darkenLess" w="21600" h="32266">
                <a:moveTo>
                  <a:pt x="21600" y="32266"/>
                </a:moveTo>
                <a:lnTo>
                  <a:pt x="0" y="32266"/>
                </a:lnTo>
                <a:lnTo>
                  <a:pt x="1400" y="30866"/>
                </a:lnTo>
                <a:lnTo>
                  <a:pt x="20200" y="30866"/>
                </a:lnTo>
                <a:close/>
              </a:path>
              <a:path fill="lighten" w="21600" h="32266">
                <a:moveTo>
                  <a:pt x="0" y="322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66"/>
                </a:lnTo>
                <a:close/>
              </a:path>
              <a:path fill="darken" w="21600" h="32266">
                <a:moveTo>
                  <a:pt x="3794" y="16133"/>
                </a:moveTo>
                <a:lnTo>
                  <a:pt x="17806" y="9126"/>
                </a:lnTo>
                <a:lnTo>
                  <a:pt x="17806" y="2313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3962520" cy="303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45320" y="3341520"/>
            <a:ext cx="25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ярный м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8320" y="380880"/>
            <a:ext cx="4038480" cy="3076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167440" y="326556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4011480" cy="2614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649116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шай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0" y="3809880"/>
            <a:ext cx="403848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015520" y="6284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мнело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ярная с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1-05-12T15:51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