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4.png" ContentType="image/png"/>
  <Override PartName="/ppt/media/image18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2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5F38-B6F8-4C03-8F62-B4C172D29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9260-5C44-4761-BF0D-A9A4ADCD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3EE-03E8-4964-8FB5-2F994F00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B83D-7896-45DA-BA9C-A1C23CE48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C0AA8-D59F-42BD-B436-6F43D8C84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A8A4-5892-46B0-9A16-1B7AE321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AB2-1479-4FAD-AB3E-34E66FF0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020F-FF02-4B58-8339-8EB1948C3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8F2D-B892-4A3B-B78C-B32366C38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0C75-3FC7-49ED-BA9E-A79E60B7C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6384-3144-43E3-B989-922458D0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E253-16E9-4608-B001-DA5978E8F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81679-4483-443F-A3D1-477CA5502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12.xml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&quot;Арктическая пустыня&quot;&#13;&#13;&#10;В Арктике и Антарктике образуется особый ландшафт, который называется арктическая, или полярная пустыня. Она отличается крайне скудной растительностью, способной существовать среди снегов и ледников.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5740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Северный олен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49480" y="1600200"/>
            <a:ext cx="68450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2195640" y="679320"/>
            <a:ext cx="1564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ес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648320" y="3938760"/>
            <a:ext cx="4038480" cy="21873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3809880" cy="3781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51560" y="133812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й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257800" y="609480"/>
            <a:ext cx="3048120" cy="48006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5776920" y="5529240"/>
            <a:ext cx="18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топор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3724200" cy="46483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98560" y="5273640"/>
            <a:ext cx="20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уропа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65560" y="2057400"/>
            <a:ext cx="3544920" cy="40384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6080040" y="701640"/>
            <a:ext cx="9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ус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вцеб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905120"/>
            <a:ext cx="6172200" cy="44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юлен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260360" y="1600200"/>
            <a:ext cx="66232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ый 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24000" y="1600200"/>
            <a:ext cx="66960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стения тундр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79280" y="1557360"/>
            <a:ext cx="2876760" cy="3305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419640" y="1844640"/>
            <a:ext cx="2914560" cy="191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6804000" y="1628640"/>
            <a:ext cx="2114640" cy="30290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4"/>
          <a:stretch/>
        </p:blipFill>
        <p:spPr>
          <a:xfrm>
            <a:off x="3492360" y="4581360"/>
            <a:ext cx="3076560" cy="152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708360" y="386064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мх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916360" y="616572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Times New Roman"/>
              </a:rPr>
              <a:t>лишайн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5" action="ppaction://hlinksldjump"/>
          </p:cNvPr>
          <p:cNvSpPr/>
          <p:nvPr/>
        </p:nvSpPr>
        <p:spPr>
          <a:xfrm>
            <a:off x="8459640" y="404640"/>
            <a:ext cx="289080" cy="432000"/>
          </a:xfrm>
          <a:custGeom>
            <a:avLst/>
            <a:gdLst>
              <a:gd name="textAreaLeft" fmla="*/ 18720 w 289080"/>
              <a:gd name="textAreaRight" fmla="*/ 270360 w 289080"/>
              <a:gd name="textAreaTop" fmla="*/ 18720 h 432000"/>
              <a:gd name="textAreaBottom" fmla="*/ 413280 h 432000"/>
            </a:gdLst>
            <a:ahLst/>
            <a:rect l="textAreaLeft" t="textAreaTop" r="textAreaRight" b="textAreaBottom"/>
            <a:pathLst>
              <a:path w="21600" h="32266">
                <a:moveTo>
                  <a:pt x="0" y="0"/>
                </a:moveTo>
                <a:lnTo>
                  <a:pt x="21600" y="0"/>
                </a:lnTo>
                <a:lnTo>
                  <a:pt x="21600" y="32266"/>
                </a:lnTo>
                <a:lnTo>
                  <a:pt x="0" y="32266"/>
                </a:lnTo>
                <a:close/>
              </a:path>
              <a:path fill="lightenLess" w="21600" h="3226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266">
                <a:moveTo>
                  <a:pt x="21600" y="0"/>
                </a:moveTo>
                <a:lnTo>
                  <a:pt x="21600" y="32266"/>
                </a:lnTo>
                <a:lnTo>
                  <a:pt x="20200" y="30866"/>
                </a:lnTo>
                <a:lnTo>
                  <a:pt x="20200" y="1400"/>
                </a:lnTo>
                <a:close/>
              </a:path>
              <a:path fill="darkenLess" w="21600" h="32266">
                <a:moveTo>
                  <a:pt x="21600" y="32266"/>
                </a:moveTo>
                <a:lnTo>
                  <a:pt x="0" y="32266"/>
                </a:lnTo>
                <a:lnTo>
                  <a:pt x="1400" y="30866"/>
                </a:lnTo>
                <a:lnTo>
                  <a:pt x="20200" y="30866"/>
                </a:lnTo>
                <a:close/>
              </a:path>
              <a:path fill="lighten" w="21600" h="32266">
                <a:moveTo>
                  <a:pt x="0" y="32266"/>
                </a:moveTo>
                <a:lnTo>
                  <a:pt x="0" y="0"/>
                </a:lnTo>
                <a:lnTo>
                  <a:pt x="1400" y="1400"/>
                </a:lnTo>
                <a:lnTo>
                  <a:pt x="1400" y="30866"/>
                </a:lnTo>
                <a:close/>
              </a:path>
              <a:path fill="darken" w="21600" h="32266">
                <a:moveTo>
                  <a:pt x="3794" y="16133"/>
                </a:moveTo>
                <a:lnTo>
                  <a:pt x="17806" y="9126"/>
                </a:lnTo>
                <a:lnTo>
                  <a:pt x="17806" y="2313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3962520" cy="30337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45320" y="3341520"/>
            <a:ext cx="25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лярный м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648320" y="380880"/>
            <a:ext cx="4038480" cy="3076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5167440" y="3265560"/>
            <a:ext cx="8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мх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228600" y="3809880"/>
            <a:ext cx="4011480" cy="2614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3000" y="649116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шай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4572000" y="3809880"/>
            <a:ext cx="4038480" cy="2590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015520" y="62848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мнелом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лярная с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oner-XP</cp:lastModifiedBy>
  <dcterms:modified xsi:type="dcterms:W3CDTF">2011-05-12T15:51:0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