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3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D423B-9A68-49F6-A648-1EEA988E8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A812-A8AC-42FC-A19C-D6E16D83E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A4A8-1E78-49E9-A307-736F8EB7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46F5-CE10-4E33-A4D8-DD53AE6E0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74A952-6F15-440D-92DD-58848E7B5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5EEBCF-5A5D-4E7D-A0E2-1C78B2F8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24C5AA-5DA0-4DC8-AFEB-02EC1ECAF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AA4DF-EAF3-43F6-A9A4-73923289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DADA0-8CEB-4853-9A6F-68842E1E7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4C0791-7EF5-4D3F-AF4E-4C2A3F53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9D18A1-EE46-4349-A963-683384AC4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3EAD-EBED-4245-B789-128C3E78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86B6B0-C2BC-4BA1-AF54-B55659CD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36D604-98A7-4E9A-8098-70813DA20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5DA6A1-C1B4-42F9-BF62-F8CF516F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458F41-6ED2-454B-A9AA-C4EBABEA2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FEB400-E4C7-41AC-80DB-5E7AF3485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90BF-035F-407F-A688-ECE650F5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D148-965E-47B1-9C4E-BD4B831D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C28-D4DD-4E51-9284-E0F3AD84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5924-1FF0-4444-8674-98AFC144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D608-F82F-4943-9BC4-325AA943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92BB-F368-4198-948D-CCAADAF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E753-BA42-4FAB-BDDC-BD250A0C1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0B5D-FB79-4024-89AA-A64D4A76BA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265"/>
            </a:gs>
            <a:gs pos="100000">
              <a:srgbClr val="0049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49db"/>
                </a:gs>
                <a:gs pos="100000">
                  <a:srgbClr val="c4d8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2265"/>
                </a:gs>
                <a:gs pos="100000">
                  <a:srgbClr val="0049d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49db"/>
              </a:gs>
              <a:gs pos="100000">
                <a:srgbClr val="00267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d2f5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d2f5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d8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d2f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d2f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d2f5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d2f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F6BE-F5FA-4654-83FE-2C34F842A93C}" type="slidenum">
              <a:rPr b="0" lang="ru-RU" sz="1200" spc="-1" strike="noStrike">
                <a:solidFill>
                  <a:srgbClr val="ffd2f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60;&#1072;&#1081;&#1083;:Chukchi_boats.jpg" TargetMode="External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УКОТСКИ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А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ТОНОМНЫЙ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РУГ РФ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3" name="Рисунок 2" descr="ЧАО.gif"/>
          <p:cNvPicPr/>
          <p:nvPr/>
        </p:nvPicPr>
        <p:blipFill>
          <a:blip r:embed="rId1"/>
          <a:stretch/>
        </p:blipFill>
        <p:spPr>
          <a:xfrm>
            <a:off x="0" y="1643040"/>
            <a:ext cx="9144000" cy="52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Содержимое 3" descr="чукчи мо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004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Песни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музыка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танцы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56760" y="5714640"/>
            <a:ext cx="83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4d8ff"/>
                </a:solidFill>
                <a:latin typeface="Arial"/>
              </a:rPr>
              <a:t>Чукотская резная кость</a:t>
            </a:r>
            <a:r>
              <a:rPr b="0" lang="ru-RU" sz="4400" spc="-1" strike="noStrike">
                <a:solidFill>
                  <a:srgbClr val="c4d8ff"/>
                </a:solidFill>
                <a:latin typeface="Arial"/>
              </a:rPr>
              <a:t>  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52" name="Picture 6" descr=""/>
          <p:cNvPicPr/>
          <p:nvPr/>
        </p:nvPicPr>
        <p:blipFill>
          <a:blip r:embed="rId1"/>
          <a:stretch/>
        </p:blipFill>
        <p:spPr>
          <a:xfrm>
            <a:off x="1403280" y="3500280"/>
            <a:ext cx="2333520" cy="2168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7" descr=""/>
          <p:cNvPicPr/>
          <p:nvPr/>
        </p:nvPicPr>
        <p:blipFill>
          <a:blip r:embed="rId2"/>
          <a:stretch/>
        </p:blipFill>
        <p:spPr>
          <a:xfrm>
            <a:off x="5292720" y="3068640"/>
            <a:ext cx="2444760" cy="27860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7" descr="image00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57120" y="6048000"/>
            <a:ext cx="840096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Ремесло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резьба по кости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Содержимое 3" descr="gallery_20018_163_243685.jpg"/>
          <p:cNvPicPr/>
          <p:nvPr/>
        </p:nvPicPr>
        <p:blipFill>
          <a:blip r:embed="rId1"/>
          <a:stretch/>
        </p:blipFill>
        <p:spPr>
          <a:xfrm>
            <a:off x="0" y="0"/>
            <a:ext cx="916632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ЧУДО Чукотской природы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4400"/>
            </a:br>
            <a:r>
              <a:rPr b="0" i="1" lang="ru-RU" sz="4400" spc="-1" strike="noStrike">
                <a:solidFill>
                  <a:srgbClr val="ffffff"/>
                </a:solidFill>
                <a:latin typeface="Arial"/>
              </a:rPr>
              <a:t>северное сияние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00040" y="25718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Arial"/>
              </a:rPr>
              <a:t>ЧАО</a:t>
            </a:r>
            <a:r>
              <a:rPr b="1" lang="ru-RU" sz="9600" spc="-1" strike="noStrike">
                <a:solidFill>
                  <a:srgbClr val="ffd2f5"/>
                </a:solidFill>
                <a:latin typeface="Arial"/>
              </a:rPr>
              <a:t>!!!</a:t>
            </a:r>
            <a:endParaRPr b="0" lang="en-US" sz="96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29120" y="856800"/>
            <a:ext cx="36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&lt;&lt;&lt; 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Флаг ЧА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5" name="Рисунок 2" descr="19204.jpg"/>
          <p:cNvPicPr/>
          <p:nvPr/>
        </p:nvPicPr>
        <p:blipFill>
          <a:blip r:embed="rId1"/>
          <a:stretch/>
        </p:blipFill>
        <p:spPr>
          <a:xfrm>
            <a:off x="0" y="0"/>
            <a:ext cx="4572000" cy="3049560"/>
          </a:xfrm>
          <a:prstGeom prst="rect">
            <a:avLst/>
          </a:prstGeom>
          <a:ln w="0">
            <a:noFill/>
          </a:ln>
        </p:spPr>
      </p:pic>
      <p:sp>
        <p:nvSpPr>
          <p:cNvPr id="126" name="Заголовок 1"/>
          <p:cNvSpPr/>
          <p:nvPr/>
        </p:nvSpPr>
        <p:spPr>
          <a:xfrm>
            <a:off x="785880" y="4214880"/>
            <a:ext cx="3686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Герб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&gt;&gt;&gt;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ЧАО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27" name="Рисунок 4" descr="19203.jpg"/>
          <p:cNvPicPr/>
          <p:nvPr/>
        </p:nvPicPr>
        <p:blipFill>
          <a:blip r:embed="rId2"/>
          <a:stretch/>
        </p:blipFill>
        <p:spPr>
          <a:xfrm>
            <a:off x="6215040" y="3240000"/>
            <a:ext cx="2928960" cy="361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0040" y="213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Коренное население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 чукчи (12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772 чел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29" name="Рисунок 5" descr="1381890734_voiny.jpg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Рисунок 2" descr="яранга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00240" y="856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яранг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2" name="Заголовок 1"/>
          <p:cNvSpPr/>
          <p:nvPr/>
        </p:nvSpPr>
        <p:spPr>
          <a:xfrm>
            <a:off x="-2214720" y="9288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Жилище</a:t>
            </a:r>
            <a:r>
              <a:rPr b="0" lang="en-US" sz="4400" spc="-1" strike="noStrike" u="sng">
                <a:solidFill>
                  <a:srgbClr val="0049db"/>
                </a:solidFill>
                <a:uFillTx/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5" descr="олени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28760" y="5586480"/>
            <a:ext cx="8229600" cy="127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49db"/>
                </a:solidFill>
                <a:latin typeface="Arial"/>
              </a:rPr>
              <a:t>оленеводство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2500200" y="0"/>
            <a:ext cx="8229600" cy="12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1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http://upload.wikimedia.org/wikipedia/commons/thumb/7/76/Chukchi_boats.jpg/300px-Chukchi_boat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19280" y="2610000"/>
            <a:ext cx="5689440" cy="32810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5" descr="1_Моржи, ЗФИ. Фото - А. Каменев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49db"/>
                </a:solidFill>
                <a:uFillTx/>
                <a:latin typeface="Arial"/>
              </a:rPr>
              <a:t>Промысел</a:t>
            </a:r>
            <a:r>
              <a:rPr b="0" lang="en-US" sz="4400" spc="-1" strike="noStrike">
                <a:solidFill>
                  <a:srgbClr val="0049db"/>
                </a:solidFill>
                <a:latin typeface="Arial"/>
              </a:rPr>
              <a:t>:</a:t>
            </a:r>
            <a:r>
              <a:rPr b="0" lang="ru-RU" sz="4400" spc="-1" strike="noStrike">
                <a:solidFill>
                  <a:srgbClr val="0049db"/>
                </a:solidFill>
                <a:latin typeface="Arial"/>
              </a:rPr>
              <a:t> морская охота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0" y="1600200"/>
            <a:ext cx="4859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4d8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Чукотская одежда </a:t>
            </a:r>
            <a:r>
              <a:rPr b="1" lang="ru-RU" sz="2800" spc="-1" strike="noStrike">
                <a:solidFill>
                  <a:srgbClr val="ffd2f5"/>
                </a:solidFill>
                <a:latin typeface="Arial"/>
              </a:rPr>
              <a:t>«кухлянка»</a:t>
            </a:r>
            <a:r>
              <a:rPr b="0" lang="ru-RU" sz="2400" spc="-1" strike="noStrike">
                <a:solidFill>
                  <a:srgbClr val="ffd2f5"/>
                </a:solidFill>
                <a:latin typeface="Arial"/>
              </a:rPr>
              <a:t> - двойная меховая рубаха  длиной до колен или короче; нижняя рубаха надевалась мехом внутрь, верхняя—мехом наружу. Кухлянка подпоясывалась ремнем, так что образовывался напуск. К ремню привешивался нож, кисет и другие предметы. </a:t>
            </a:r>
            <a:endParaRPr b="0" lang="en-US" sz="2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5003640" y="1484280"/>
            <a:ext cx="3713400" cy="460872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7" descr="22253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55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Национальная одежда чукчей</a:t>
            </a:r>
            <a:br>
              <a:rPr sz="4400"/>
            </a:br>
            <a:r>
              <a:rPr b="0" lang="ru-RU" sz="4400" spc="-1" strike="noStrike">
                <a:solidFill>
                  <a:srgbClr val="ff0000"/>
                </a:solidFill>
                <a:latin typeface="Arial"/>
              </a:rPr>
              <a:t>(кухлянка и торбаса)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285880" y="1071360"/>
            <a:ext cx="4000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ffffff"/>
                </a:solidFill>
                <a:uFillTx/>
                <a:latin typeface="Arial"/>
              </a:rPr>
              <a:t>Средства передвижения</a:t>
            </a:r>
            <a:endParaRPr b="0" lang="en-US" sz="4400" spc="-1" strike="noStrike">
              <a:solidFill>
                <a:srgbClr val="c4d8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2357280" y="4500720"/>
            <a:ext cx="8424720" cy="78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ты</a:t>
            </a:r>
            <a:endParaRPr b="0" lang="en-US" sz="4400" spc="-1" strike="noStrike">
              <a:solidFill>
                <a:srgbClr val="ffd2f5"/>
              </a:solidFill>
              <a:latin typeface="Arial"/>
            </a:endParaRPr>
          </a:p>
        </p:txBody>
      </p:sp>
      <p:pic>
        <p:nvPicPr>
          <p:cNvPr id="145" name="Picture 7" descr=""/>
          <p:cNvPicPr/>
          <p:nvPr/>
        </p:nvPicPr>
        <p:blipFill>
          <a:blip r:embed="rId1"/>
          <a:stretch/>
        </p:blipFill>
        <p:spPr>
          <a:xfrm>
            <a:off x="3786120" y="3436920"/>
            <a:ext cx="5357880" cy="34210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53323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360" y="1571760"/>
            <a:ext cx="400068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Чукотский</a:t>
            </a:r>
            <a:br>
              <a:rPr sz="4000"/>
            </a:br>
            <a:r>
              <a:rPr b="0" lang="ru-RU" sz="4000" spc="-1" strike="noStrike" u="sng">
                <a:solidFill>
                  <a:srgbClr val="ffffff"/>
                </a:solidFill>
                <a:uFillTx/>
                <a:latin typeface="Arial"/>
              </a:rPr>
              <a:t>шаман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лечи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предсказывает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колдует</a:t>
            </a:r>
            <a:endParaRPr b="0" lang="en-US" sz="4000" spc="-1" strike="noStrike">
              <a:solidFill>
                <a:srgbClr val="c4d8ff"/>
              </a:solidFill>
              <a:latin typeface="Arial"/>
            </a:endParaRPr>
          </a:p>
        </p:txBody>
      </p:sp>
      <p:pic>
        <p:nvPicPr>
          <p:cNvPr id="148" name="Содержимое 3" descr="шаман.JPG"/>
          <p:cNvPicPr/>
          <p:nvPr/>
        </p:nvPicPr>
        <p:blipFill>
          <a:blip r:embed="rId1"/>
          <a:stretch/>
        </p:blipFill>
        <p:spPr>
          <a:xfrm>
            <a:off x="4000680" y="0"/>
            <a:ext cx="5143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9T18:31:41Z</dcterms:created>
  <dc:creator>Артём</dc:creator>
  <dc:description/>
  <dc:language>en-US</dc:language>
  <cp:lastModifiedBy>Лена</cp:lastModifiedBy>
  <dcterms:modified xsi:type="dcterms:W3CDTF">2016-01-28T13:24:55Z</dcterms:modified>
  <cp:revision>36</cp:revision>
  <dc:subject/>
  <dc:title>Чукчи</dc:title>
</cp:coreProperties>
</file>