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2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2956-F0CC-421C-822B-88F07ED1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F7F6-511B-41C1-9BF0-372CB368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C820-7ABA-43CE-AE38-1C758565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E3B7-E03C-425C-B9C9-46F23483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E55A-3F02-4AB3-A32B-5579BA51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056B-2EE0-4987-A64F-ADBF1EDD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8F73-6A60-40FF-99FA-680018B4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09F2-9B88-4383-97CB-F3F01484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7315-04DF-4AE7-A242-47F65667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456E-BFFC-4456-A4C2-32DA81AE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70B6-FFF2-4FDB-BFE9-566B39F7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F1D0-6FC3-4ED4-9217-1F5C6286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C98D-3733-4326-AB8E-1D5347B59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12.xml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&quot;Арктическая пустыня&quot;&#13;&#13;&#10;В Арктике и Антарктике образуется особый ландшафт, который называется арктическая, или полярная пустыня. Она отличается крайне скудной растительностью, способной существовать среди снегов и ледников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верный ол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49480" y="1600200"/>
            <a:ext cx="6845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95640" y="679320"/>
            <a:ext cx="156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с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3809880" cy="3781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51560" y="133812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й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3048120" cy="4800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776920" y="552924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опор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3724200" cy="464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98560" y="527364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роп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65560" y="2057400"/>
            <a:ext cx="3544920" cy="4038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80040" y="70164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вцеб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17220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юл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6623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ярный 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24000" y="1600200"/>
            <a:ext cx="6696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тения тунд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2876760" cy="3305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19640" y="1844640"/>
            <a:ext cx="2914560" cy="1914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04000" y="1628640"/>
            <a:ext cx="2114640" cy="3029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492360" y="4581360"/>
            <a:ext cx="3076560" cy="152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708360" y="386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м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616572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лишай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5" action="ppaction://hlinksldjump"/>
          </p:cNvPr>
          <p:cNvSpPr/>
          <p:nvPr/>
        </p:nvSpPr>
        <p:spPr>
          <a:xfrm>
            <a:off x="8459640" y="404640"/>
            <a:ext cx="289080" cy="43200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432000"/>
              <a:gd name="textAreaBottom" fmla="*/ 413280 h 432000"/>
            </a:gdLst>
            <a:ahLst/>
            <a:rect l="textAreaLeft" t="textAreaTop" r="textAreaRight" b="textAreaBottom"/>
            <a:pathLst>
              <a:path w="21600" h="32266">
                <a:moveTo>
                  <a:pt x="0" y="0"/>
                </a:moveTo>
                <a:lnTo>
                  <a:pt x="21600" y="0"/>
                </a:lnTo>
                <a:lnTo>
                  <a:pt x="21600" y="32266"/>
                </a:lnTo>
                <a:lnTo>
                  <a:pt x="0" y="32266"/>
                </a:lnTo>
                <a:close/>
              </a:path>
              <a:path fill="lightenLess" w="21600" h="322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66">
                <a:moveTo>
                  <a:pt x="21600" y="0"/>
                </a:moveTo>
                <a:lnTo>
                  <a:pt x="21600" y="32266"/>
                </a:lnTo>
                <a:lnTo>
                  <a:pt x="20200" y="30866"/>
                </a:lnTo>
                <a:lnTo>
                  <a:pt x="20200" y="1400"/>
                </a:lnTo>
                <a:close/>
              </a:path>
              <a:path fill="darkenLess" w="21600" h="32266">
                <a:moveTo>
                  <a:pt x="21600" y="32266"/>
                </a:moveTo>
                <a:lnTo>
                  <a:pt x="0" y="32266"/>
                </a:lnTo>
                <a:lnTo>
                  <a:pt x="1400" y="30866"/>
                </a:lnTo>
                <a:lnTo>
                  <a:pt x="20200" y="30866"/>
                </a:lnTo>
                <a:close/>
              </a:path>
              <a:path fill="lighten" w="21600" h="32266">
                <a:moveTo>
                  <a:pt x="0" y="322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66"/>
                </a:lnTo>
                <a:close/>
              </a:path>
              <a:path fill="darken" w="21600" h="32266">
                <a:moveTo>
                  <a:pt x="3794" y="16133"/>
                </a:moveTo>
                <a:lnTo>
                  <a:pt x="17806" y="9126"/>
                </a:lnTo>
                <a:lnTo>
                  <a:pt x="17806" y="2313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3962520" cy="303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45320" y="3341520"/>
            <a:ext cx="25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ярный м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8320" y="380880"/>
            <a:ext cx="4038480" cy="3076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167440" y="326556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4011480" cy="2614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649116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шай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0" y="3809880"/>
            <a:ext cx="403848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015520" y="6284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мнело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ярная с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1-05-12T15:51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