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606-DD6A-4AD2-8744-6C1AE4E9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2868-8720-4D89-A8F6-4F3E0EE1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4EB0-8DF5-44C4-A12A-4677D1B4E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D906-68E8-4060-BF63-B5220CA74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EBC8-10BB-41DA-851E-5B1B9538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EAD2-A9A2-44DB-9BAD-7D5A2CF6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0FBA-D3D1-4688-8228-3FB1379E4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2C3D-93D4-4CD5-B5C1-BECD4CEE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F69B-0DAA-482E-A46B-FEE25806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33D8-BE83-4C9C-83AE-4F5D351E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B250-61B0-4B9C-A2F3-86298BEA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D4B0-077E-4839-8AF4-50ACBD16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DA08-35AE-401E-B651-CEDF5F604D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502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00"/>
                </a:solidFill>
                <a:latin typeface="Monotype Corsiva"/>
              </a:rPr>
              <a:t>Декорирование в технике </a:t>
            </a:r>
            <a:r>
              <a:rPr b="1" i="1" lang="ru-RU" sz="115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1738"/>
          <p:cNvPicPr/>
          <p:nvPr/>
        </p:nvPicPr>
        <p:blipFill>
          <a:blip r:embed="rId1"/>
          <a:stretch/>
        </p:blipFill>
        <p:spPr>
          <a:xfrm>
            <a:off x="468360" y="2421000"/>
            <a:ext cx="230328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6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670120" cy="2668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rcRect l="4529" t="3971" r="3363" b="3971"/>
          <a:stretch/>
        </p:blipFill>
        <p:spPr>
          <a:xfrm>
            <a:off x="3132000" y="3933720"/>
            <a:ext cx="2703600" cy="2668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6084720" y="3914640"/>
            <a:ext cx="28083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624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cou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французск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ответственно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декупаж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ехника украшения, декорирования с помощью вырезанных бумажных мотив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952720" cy="1960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rcRect l="7816" t="5463" r="6070" b="6063"/>
          <a:stretch/>
        </p:blipFill>
        <p:spPr>
          <a:xfrm>
            <a:off x="6588000" y="260280"/>
            <a:ext cx="1729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4195696_dek_2 (600x450, 209Kb)"/>
          <p:cNvPicPr/>
          <p:nvPr/>
        </p:nvPicPr>
        <p:blipFill>
          <a:blip r:embed="rId1"/>
          <a:stretch/>
        </p:blipFill>
        <p:spPr>
          <a:xfrm>
            <a:off x="6203880" y="4653000"/>
            <a:ext cx="294012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ownloads\97595143_large_a.jpg"/>
          <p:cNvPicPr/>
          <p:nvPr/>
        </p:nvPicPr>
        <p:blipFill>
          <a:blip r:embed="rId2"/>
          <a:stretch/>
        </p:blipFill>
        <p:spPr>
          <a:xfrm>
            <a:off x="324000" y="189000"/>
            <a:ext cx="364788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ownloads\33224296c52b405ee662fba35bd64c7b_thumb_23ad431827e0504d.jpeg"/>
          <p:cNvPicPr/>
          <p:nvPr/>
        </p:nvPicPr>
        <p:blipFill>
          <a:blip r:embed="rId3"/>
          <a:stretch/>
        </p:blipFill>
        <p:spPr>
          <a:xfrm>
            <a:off x="4643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ownloads\laolkimatte_150.jpg"/>
          <p:cNvPicPr/>
          <p:nvPr/>
        </p:nvPicPr>
        <p:blipFill>
          <a:blip r:embed="rId4"/>
          <a:stretch/>
        </p:blipFill>
        <p:spPr>
          <a:xfrm>
            <a:off x="755640" y="3141720"/>
            <a:ext cx="2160720" cy="33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Downloads\327.300x300.jpg"/>
          <p:cNvPicPr/>
          <p:nvPr/>
        </p:nvPicPr>
        <p:blipFill>
          <a:blip r:embed="rId5"/>
          <a:stretch/>
        </p:blipFill>
        <p:spPr>
          <a:xfrm>
            <a:off x="3276720" y="3500280"/>
            <a:ext cx="2479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Monotype Corsiva"/>
              </a:rPr>
              <a:t>Последовательность выполнения техники декупаж с бумажными салфетк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ать салфетку с сюжетной карт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тонким слоем клей на поверхность  кан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осторожно отделить два слоя салфетки, оставив декоратив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на канву сюжетную картинку и очень осторожно  с помощью сухой кисти ее разгладить от середины к кра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оверхность сюжетной картинки с помощью кисти нанести л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1816200" cy="1815840"/>
          </a:xfrm>
          <a:prstGeom prst="rect">
            <a:avLst/>
          </a:prstGeom>
          <a:ln w="0">
            <a:noFill/>
          </a:ln>
        </p:spPr>
      </p:pic>
      <p:pic>
        <p:nvPicPr>
          <p:cNvPr id="58" name="04 Andantino C con variazioni K App.mp3" descr=""/>
          <p:cNvPicPr/>
          <p:nvPr/>
        </p:nvPicPr>
        <p:blipFill>
          <a:blip r:embed="rId2"/>
          <a:stretch/>
        </p:blipFill>
        <p:spPr>
          <a:xfrm>
            <a:off x="684360" y="57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810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7:33:05Z</dcterms:created>
  <dc:creator>User007</dc:creator>
  <dc:description/>
  <dc:language>en-US</dc:language>
  <cp:lastModifiedBy>Учитель</cp:lastModifiedBy>
  <dcterms:modified xsi:type="dcterms:W3CDTF">2014-02-10T03:24:24Z</dcterms:modified>
  <cp:revision>32</cp:revision>
  <dc:subject/>
  <dc:title>Декорирование в технике декупаж</dc:title>
</cp:coreProperties>
</file>