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828F-C1F8-40A9-9BD9-94E4C773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1DFB-10EE-4EDA-BD92-4DF44D61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14D3-A29F-494C-B2B1-3837735A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9A8E-39E4-4445-B08E-7D34F82B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A97C-C070-4FFD-B3F3-F751F43E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57A1-B0E7-4F6D-BB3D-1863CFDB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4D27-5827-42A0-94B9-6F3E6220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64B8-402E-4095-A4B9-D3E638DA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9F92-342F-4594-B525-A8326129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C362-3968-44A4-993B-1DD80CEF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590A-8D88-430B-98B1-0A796B37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AE1-F150-4D33-8DEE-408A0734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2C7C-95C7-4387-96F9-6762456A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E0FA-4B9B-4DC3-98F7-AD623264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4801-F8B7-4E3D-A3C2-EF430DFB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8C04-102C-434B-ABB8-88483831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454A-9767-4191-8EEC-93CF353E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24DFE-89B3-4807-B080-F6E86EDF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BBCE9-A580-4959-B2E0-9BD330F6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7E954-7124-4F0D-AFCA-9668B1A6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DB032-6669-421C-992C-70C232B0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8BBE5-1DA0-4464-8884-BCD14C87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8685-D1DA-4118-A566-51CC3519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92D5E-E629-4BFF-9394-E895CD02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D1E84-8ABE-40EB-B8A7-353B7FEC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A5F99-CA80-4009-A0FB-DA68B157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015F0-38C5-4BD3-8D34-298ECE22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C9EBD-20B9-4360-B486-DF6A440B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65FC2-5A27-405D-AAC9-2BB06548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AB3C5-9706-4E87-A708-3D74EFB6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ADB55-A2BC-4425-8895-6FC4A692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66F98-DAD0-4B39-8BAC-7580973A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3E8C0-86FB-4819-8581-AA1E3757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2108-6511-4C31-98C8-0D0D345C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7A1C2-81A6-463A-852F-D8F8CBB7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38988-94D3-4F60-9AFC-F0259314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9094A-FC0A-478E-AE59-3B020DA9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05EDD-C9C1-45C1-8F81-8631BCA3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0FCD2-D8AD-4711-9E4B-6DB84192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48748-F149-41F8-8E28-7A44A3B3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7E4FD-7268-4F2A-8D40-110F7DDD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0851E-101D-4796-BEFA-E7D8835E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1DA4E-8855-4216-88E2-13906445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E60D1-AD5A-4BCC-BF10-239EB74E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DD2-9451-4189-900C-EAC82E9A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84DF5-2664-4CB9-B3BE-F55BE3B5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FD09A-74A0-4783-8F6A-33111B4B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12F61-D8B0-40D8-866C-C0C66CB3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43496-86F4-49EE-BC34-1F02751F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3F7FE-B9FA-4D45-9920-785D3F54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91BCD-A3D7-4896-99FF-3D668B4F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3EC39-7542-4B6F-B2C4-2252C216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D7567-976C-4BCF-B71A-A77537EC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FF232-0F81-4969-9027-A7C5E9B1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1E2C4-E0A5-4A4D-8089-A570773E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6B1-B877-464A-A7C9-D55BD5E2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95E63-8C16-4DD9-9111-DE202D00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B1CBE-32EB-4A33-BF52-8BBEC9AE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C84E8-328E-4D10-A90A-E273FA55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A9BA8-89D3-4659-B949-6B7DF89D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91C99-92A3-46D4-AABB-8D53AC91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9B212-DB86-4B96-94B9-93CE9AA9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E11F3-3E6B-43FC-B08C-75277CCF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07BD1-EA26-4DFE-BB2E-7969DDEB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1026F-9995-47E7-ACA0-4EEAB742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E6093-3B6A-42DA-AA35-F21A5C18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9FD9-9795-48F6-A4A3-0B3D8907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85BDA-A335-4560-BDD4-FDB0AD45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F8F84-DC7D-40C7-9FA0-96C2C171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A944B-F553-40F1-AC7D-8118ECFA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5963C-4CA7-424F-AC86-AE4A91E2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DA9BC-8633-45E4-8BC9-E5AAB025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7366F-58E3-45E7-9648-D236238C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F7005-0F79-4FDB-969E-DD4202C9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4D261-4782-48D5-B9B5-36D1FEDE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EE75B-D56A-4AAD-85EE-5B9BEBAD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5812C-9338-41C0-B7D7-16A0564B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A3A-62EE-4798-AF24-57B52A85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8ACCC-B3C6-45D7-BCCF-A4DF496B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DBF3C-D7EE-43F2-BFFF-70193498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D3357-E19B-4C0A-9D84-DBC0E4B7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19F08-23A6-4E26-BDC7-4054FF95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B234C-BB70-4D38-8C03-3659A55B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3FC8D-94FD-44A0-A030-708200AD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84504-ACFC-4709-BE84-80F05276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0206E-FB6F-49A9-9507-E898F033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449A0-115A-425F-93D2-E3CE5A88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AE7B8-6B70-4340-A801-485DC363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CFE0-574E-46CA-97E5-9C2893D4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C57E0-531E-4002-8364-E36A6EB1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50BF8-7236-4FE7-ACC2-56B8FEC6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762AF-8028-4146-9E16-2A8B2259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10B5A-9A09-4BA2-AA6E-8779FD3E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2C584-7594-4A13-87BA-9CE7DAA3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7CF7C-0E74-4418-A47E-E3478A97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2E6CA-A4E1-463C-8441-C1C96E77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7275-AD06-49C6-ABA8-389B2867FF6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2363-A993-4F77-B542-73C05944EDD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1CCE-F538-42AB-8141-77C81C4C38C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FC6A-34FE-433F-9E55-CC1EEEDDC37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5461-FCE6-44AE-8B19-4C0004CE920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F89F-A287-443F-B19C-D7FE653AFBF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5C13-815C-4FA5-8997-D5DE59DD754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33A5-0DBC-4CB5-8971-BADF723B637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9217080" cy="2114640"/>
          </a:xfrm>
          <a:prstGeom prst="rect">
            <a:avLst/>
          </a:prstGeom>
          <a:ln w="0">
            <a:noFill/>
          </a:ln>
        </p:spPr>
      </p:pic>
      <p:sp>
        <p:nvSpPr>
          <p:cNvPr id="371" name="Подзаголовок 2"/>
          <p:cNvSpPr/>
          <p:nvPr/>
        </p:nvSpPr>
        <p:spPr>
          <a:xfrm>
            <a:off x="4929120" y="3286080"/>
            <a:ext cx="42148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арпова Окса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Быкова Ларис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пкова Юлия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Шаманаева Любовь Хали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одзаголовок 2"/>
          <p:cNvSpPr/>
          <p:nvPr/>
        </p:nvSpPr>
        <p:spPr>
          <a:xfrm>
            <a:off x="2357280" y="6286680"/>
            <a:ext cx="4214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5 ноябр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928800" y="14292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ая научно-практическая 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ффективные механизмы повышения образовательных результатов обучающих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6"/>
          <p:cNvSpPr/>
          <p:nvPr/>
        </p:nvSpPr>
        <p:spPr>
          <a:xfrm>
            <a:off x="5000760" y="4714920"/>
            <a:ext cx="3214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Школа №2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Губаха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9968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сороконожки 40 ножек. К зиме она прикупила 6 пар сапожек. Все равно 10 ножек остались без сапожек. Сколько у сороконожки было пар старых сапожек до того, как она купила новы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рифметический способ реш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 • 2 = 12 ног в нов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0 — 12 = 28 ног босые и в старых сапог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8 — 10 = 18 ног в стар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8 : 2 = 9 пар старых сапог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20-(6+5)=9 (пар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9 пар старых сапожек было у сороконож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о того, как она купила новы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грамма краткосрочного кур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о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теллектуальному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 направл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шение нестандартных задач по математике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»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 клас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0 часов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428760" y="11430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4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5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1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4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7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85480" y="164304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Задачи курса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ирование общеинтеллектуальных умени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углубление и расширение знаний учащихся по математик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создание условий для повышения эффективности подготовки выпускников начальной школы к ВП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и развитие логического мышлен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развитие внимание, памят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положительной мотивации к учен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умение работать в групп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298440" y="85680"/>
            <a:ext cx="83948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0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2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7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3571920" y="600084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олилиния 45"/>
          <p:cNvSpPr/>
          <p:nvPr/>
        </p:nvSpPr>
        <p:spPr>
          <a:xfrm>
            <a:off x="1297080" y="1859040"/>
            <a:ext cx="6159240" cy="3836880"/>
          </a:xfrm>
          <a:prstGeom prst="pie">
            <a:avLst/>
          </a:prstGeom>
          <a:solidFill>
            <a:srgbClr val="ffffff"/>
          </a:solidFill>
          <a:ln w="5508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6"/>
          <p:cNvSpPr/>
          <p:nvPr/>
        </p:nvSpPr>
        <p:spPr>
          <a:xfrm>
            <a:off x="5143680" y="1214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ороконожки 40 н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Прямая со стрелкой 48"/>
          <p:cNvCxnSpPr/>
          <p:nvPr/>
        </p:nvCxnSpPr>
        <p:spPr>
          <a:xfrm flipH="1">
            <a:off x="5928840" y="1714320"/>
            <a:ext cx="85824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8"/>
          <p:cNvSpPr/>
          <p:nvPr/>
        </p:nvSpPr>
        <p:spPr>
          <a:xfrm>
            <a:off x="357120" y="135720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зиме она прикупила 6 пар сап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6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0"/>
          <p:cNvSpPr/>
          <p:nvPr/>
        </p:nvSpPr>
        <p:spPr>
          <a:xfrm>
            <a:off x="357120" y="1285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7" name="Группа 68"/>
          <p:cNvGrpSpPr/>
          <p:nvPr/>
        </p:nvGrpSpPr>
        <p:grpSpPr>
          <a:xfrm>
            <a:off x="4357800" y="1214280"/>
            <a:ext cx="4786200" cy="1500840"/>
            <a:chOff x="4357800" y="1214280"/>
            <a:chExt cx="4786200" cy="1500840"/>
          </a:xfrm>
        </p:grpSpPr>
        <p:sp>
          <p:nvSpPr>
            <p:cNvPr id="668" name="TextBox 55"/>
            <p:cNvSpPr/>
            <p:nvPr/>
          </p:nvSpPr>
          <p:spPr>
            <a:xfrm>
              <a:off x="4357800" y="121428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 ножек остались без сапож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Прямая со стрелкой 56"/>
            <p:cNvCxnSpPr/>
            <p:nvPr/>
          </p:nvCxnSpPr>
          <p:spPr>
            <a:xfrm flipH="1">
              <a:off x="6572160" y="1785960"/>
              <a:ext cx="643320" cy="9295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2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Прямая со стрелкой 56"/>
          <p:cNvCxnSpPr>
            <a:stCxn id="722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78552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000000"/>
                </a:solidFill>
                <a:latin typeface="Lucida Sans Unicode"/>
              </a:rPr>
              <a:t>Методы обучения и формы заняти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ловесны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глядные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рактически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сследовательск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дущим методом является исследовательский. Организаторами исследований могут, кроме учителя, становиться де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2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Прямая со стрелкой 56"/>
          <p:cNvCxnSpPr>
            <a:stCxn id="776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TextBox 59"/>
          <p:cNvSpPr/>
          <p:nvPr/>
        </p:nvSpPr>
        <p:spPr>
          <a:xfrm>
            <a:off x="3357720" y="592920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шиеся ножки в старых сапож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3" name="Прямая со стрелкой 56"/>
          <p:cNvCxnSpPr>
            <a:stCxn id="832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TextBox 59"/>
          <p:cNvSpPr/>
          <p:nvPr/>
        </p:nvSpPr>
        <p:spPr>
          <a:xfrm>
            <a:off x="1500120" y="58579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у сороконожки бы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арых сапож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6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84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7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8" name="Прямая со стрелкой 56"/>
          <p:cNvCxnSpPr>
            <a:stCxn id="897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9" name="TextBox 59"/>
          <p:cNvSpPr/>
          <p:nvPr/>
        </p:nvSpPr>
        <p:spPr>
          <a:xfrm>
            <a:off x="5143680" y="5786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пар старых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0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67"/>
          <p:cNvSpPr/>
          <p:nvPr/>
        </p:nvSpPr>
        <p:spPr>
          <a:xfrm>
            <a:off x="3714840" y="62118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. 5 класс (по программе 4 клас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9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96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. 4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3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82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6" name=""/>
          <p:cNvGraphicFramePr/>
          <p:nvPr/>
        </p:nvGraphicFramePr>
        <p:xfrm>
          <a:off x="457200" y="1481040"/>
          <a:ext cx="8258040" cy="3233880"/>
        </p:xfrm>
        <a:graphic>
          <a:graphicData uri="http://schemas.openxmlformats.org/drawingml/2006/table">
            <a:tbl>
              <a:tblPr/>
              <a:tblGrid>
                <a:gridCol w="2328840"/>
                <a:gridCol w="1976400"/>
                <a:gridCol w="1976400"/>
                <a:gridCol w="1976400"/>
              </a:tblGrid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,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480680"/>
            <a:ext cx="8543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Личност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удут сформированы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ебно­познавательный интерес к новому учебному материалу и способам решения новой задач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ация на понимание причин успеха в учебной деятельности, в том числе на самоанализ и самоконтроль результата, на анализ соответствия результатов требованиям конкретной задачи, на понимание оценок учителе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пособность к оценке своей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егуля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инимать и сохранять учебную задачу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итывать выделенные учителем ориентиры действия в новом учебном материале в сотрудничестве с учителем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ланировать свои действия в соответствии с поставленной задачей и условиями её реализации, в том числе во внутреннем план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итоговый и пошаговый контроль по результат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наватель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ироваться на разнообразие способов решения задач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новам смыслового восприятия текстов, выделять существенную информацию из сообщений разных видов (в первую очередь текстов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анализ объектов с выделением существенных и несущественных признак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ладеть рядом общих приёмов решения задач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оммуника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улировать собственное мнение и позиц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давать вопрос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457200" y="1719360"/>
          <a:ext cx="8258040" cy="3520800"/>
        </p:xfrm>
        <a:graphic>
          <a:graphicData uri="http://schemas.openxmlformats.org/drawingml/2006/table">
            <a:tbl>
              <a:tblPr/>
              <a:tblGrid>
                <a:gridCol w="473040"/>
                <a:gridCol w="6927840"/>
                <a:gridCol w="85716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разде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я курса. Решение простейши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 метод решения задач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афический метод решения 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упорядоченного пере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тичный мет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бличный спосо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гра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ое занятие. 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6374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7T09:06:39Z</dcterms:created>
  <dc:creator>Buch-02</dc:creator>
  <dc:description/>
  <dc:language>en-US</dc:language>
  <cp:lastModifiedBy>Buch-02</cp:lastModifiedBy>
  <dcterms:modified xsi:type="dcterms:W3CDTF">2021-11-18T10:53:26Z</dcterms:modified>
  <cp:revision>46</cp:revision>
  <dc:subject/>
  <dc:title>Тема выступления</dc:title>
</cp:coreProperties>
</file>