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124-3DB6-4FE7-85AB-52039462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D66-C91E-43B0-BAF4-FC175374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EF23-75ED-498A-B9AE-0B622540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6C1-78DD-4846-9E0B-A92CFEAC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F110-F1F8-4724-A707-0CFD6E58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ED98-4942-4EC2-807C-13BBC625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98DE-B971-4580-9F91-45CE70C1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F1F2-58A6-4E3E-B9C0-C3EBE384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A1C8-FB99-4422-A4E5-37D31AE9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C825-CD83-4C4B-9222-D196BCFF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A28E-9307-4216-A67E-3F254A66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9A04-D526-4581-A276-068DF0FF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A365-A14C-4CA0-9CF3-5386D14F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E681-13A7-432B-A342-BB895061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7B5A-5699-4AE5-BE11-9AD0AEED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0528-5737-4323-9FD0-AD6A9FD6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956B-EED2-4FB3-8C52-A246096C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8F901-80AA-432A-B778-616BE351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66C8F-05B4-45B0-9A75-4C1424F2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61504-24B0-4247-9708-E3E0C08F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5C1A1-2C56-4369-A681-30848482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F171A-EAC2-43D4-A0B7-D77BCD7C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A44-39FD-43B1-B1FA-14503158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47383-07A4-42FC-A127-54CEBBCE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72880-D3FF-41CA-87C3-D364064E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5982B-32B4-4939-918D-E729CF44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FE3E0-D8A4-4F6B-BCAE-4856FA64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A9D12-BC8C-439F-8CC2-374D6BF0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8D136-59E0-4989-BFC4-13A00CEB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0B97E-C9B8-443C-9C03-D8D92E2F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70273-FC32-456F-B5AA-2F79361B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5A1A7-C782-4D0D-A367-59D6ECE8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D1D11-366D-49C9-8994-53B6E125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194-539A-4B95-8BA6-02E70529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76E0E-4146-4CC8-BC84-74BE5B6A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699DB-ED9D-4075-B8D0-3D70A9E7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BBBF3-8B25-416D-A51E-468B1DE1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1DA6E-DFB1-4410-BEF1-9C209668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1B6E7-AA13-4D21-BCD0-A25A49D4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A34F5-656F-45E3-A828-5C880CDA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B6AD7-0A2F-4C25-A616-889F7D79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E18A5-A81C-4997-919E-12B3C3A3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30B4F-03CF-46C7-BBC6-49D50AD2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A551E-3506-45B3-9382-E3C71480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5DB-0174-47DC-9BF9-FC1F6DA7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F5E78-56CB-4B52-881E-C20C918C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FF69C-DC08-42E9-80F4-80CE19FF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36C38-17E8-4919-8E1C-C3862B87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3E3D6-FC7B-462F-8340-7CBD1CA0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B6375-6702-42D5-ACBD-B7DA2F2F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D4393-7D43-4573-B7EC-1F2C8D46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223FB-44D1-496A-9270-09206789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55E12-A988-4A6D-86DB-0C02AB65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66719-7F74-4082-8EC2-8FBBB2DF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9096E-29AF-4372-A1EC-0ED888F1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CC8C-D563-4CB3-9B4C-7014A657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B7E66-A030-46FC-86D3-95665E88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6F974-B1B2-459C-8258-A6B98B24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7C287-7C53-48C2-A071-CE51DAE6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E72C9-8B9F-4482-9990-860E435F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A438B-3C3B-4FD4-A14E-B227F1A7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3505B-BCCD-4556-B8F4-789E5C57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7A16F-395A-44FE-8F1E-F5B17D61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1B47A-69A9-49DA-91C2-958F5B61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95502-EDD2-4553-A71E-AC13A1F6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DE03B-4670-4199-9B1C-01B68DAA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6DF-34A7-4BE7-8E1E-3F12499C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A2F93-2D0A-4218-AB3C-F9B80BB6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AB0CF-6F4B-4F42-A2A6-FA1AD178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B90F9-1940-4DE2-8095-A5AD79F6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0A1F5-BF57-4860-BB11-4D3FA4EF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E8C58-9A8E-43CF-B47C-665ABCEC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B2535-8C19-4FAF-B0ED-2708A674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F932B-8CFF-4BA8-AE3A-05113017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908B5-AE9E-4603-A85B-65E60D88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8643E-6DA8-4FAC-84E5-6592FE1F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76563-075A-436E-BC5C-FC4529C4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2C98-235D-4B3E-9FE7-32D8CA5B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FABB5-DF89-415A-B323-C397A18B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469AE-E815-40D0-8999-F191B92F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5821D-80CB-487E-82F7-D8BB3A13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BD88A-E394-4D4F-A0D7-BCB875EC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5070C-0F1A-4EFE-8442-E3A372F3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D9B72-DC4B-4B99-9302-142E82FD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55AAA-B22C-4D0D-A764-7F0F4B2D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5A15E-819C-48D8-96C9-3338B7B1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0D38F-A445-4D65-9658-BF7C8886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EA9FC-09A4-4C8F-B21D-BC906736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DB5C-9469-481F-9ED8-CA70570C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4896F-3270-4402-90D0-CE6D6CCC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3C6DE-E3F4-4649-A155-356E7D08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96D39-4344-4CD6-9C60-A401AF8C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DCAEA-73E8-4260-AB1B-83FE504A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E6195-5F2D-4011-A3F5-9B7DC739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24167-98B8-4FF9-ADE7-256AE57F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B7828-B2F6-4DE2-B02B-D6D92399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3EAE-DCAB-475E-9B21-1C974DCB0D9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C857-9AFB-4AF2-9F79-3B98AE232B0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D488-E998-4E2F-A7D9-2EA3E5B560E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ACE9-BFF3-4CB5-A8F5-EC7CF5973B1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C958-F25E-491A-8546-3DC8C47E685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4BD6-C6AC-49A6-8A21-8C013D33D07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674B-E1D3-405D-8197-E7D9401D265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7A99-DE30-4585-8FD9-8BB32C7FB3D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9217080" cy="2114640"/>
          </a:xfrm>
          <a:prstGeom prst="rect">
            <a:avLst/>
          </a:prstGeom>
          <a:ln w="0">
            <a:noFill/>
          </a:ln>
        </p:spPr>
      </p:pic>
      <p:sp>
        <p:nvSpPr>
          <p:cNvPr id="371" name="Подзаголовок 2"/>
          <p:cNvSpPr/>
          <p:nvPr/>
        </p:nvSpPr>
        <p:spPr>
          <a:xfrm>
            <a:off x="4929120" y="3286080"/>
            <a:ext cx="4214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рпова Окса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ыкова Ларис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пкова Юлия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Шаманаева Любовь Хали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2357280" y="6286680"/>
            <a:ext cx="4214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5 ноябр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928800" y="1429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ая научно-практическая 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ффективные механизмы повышения образовательных результатов обучающих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5000760" y="4714920"/>
            <a:ext cx="3214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Школа №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Губах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9968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сороконожки 40 ножек. К зиме она прикупила 6 пар сапожек. Все равно 10 ножек остались без сапожек. Сколько у сороконожки было пар старых сапожек до того, как она купила новы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рифметический способ реш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 • 2 = 12 ног в нов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0 — 12 = 28 ног босые и в старых сапог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8 — 10 = 18 ног в стар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8 : 2 = 9 пар старых сапог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0-(6+5)=9 (пар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9 пар старых сапожек было у сороконож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 того, как она купила нов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грамма краткосрочного кур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о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теллектуальному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 направл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ение нестандартных задач по математике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0 часов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428760" y="11430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7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адачи курс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ирование общеинтеллектуальных уме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углубление и расширение знаний учащихся по математик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создание условий для повышения эффективности подготовки выпускников начальной школы к ВП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и развитие логического мышл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развитие внимание, памя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положительной мотивации к учен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умение работать в групп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298440" y="85680"/>
            <a:ext cx="83948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7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571920" y="600084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олилиния 45"/>
          <p:cNvSpPr/>
          <p:nvPr/>
        </p:nvSpPr>
        <p:spPr>
          <a:xfrm>
            <a:off x="1297080" y="1859040"/>
            <a:ext cx="6159240" cy="3836880"/>
          </a:xfrm>
          <a:prstGeom prst="pie">
            <a:avLst/>
          </a:prstGeom>
          <a:solidFill>
            <a:srgbClr val="ffffff"/>
          </a:solidFill>
          <a:ln w="5508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6"/>
          <p:cNvSpPr/>
          <p:nvPr/>
        </p:nvSpPr>
        <p:spPr>
          <a:xfrm>
            <a:off x="5143680" y="1214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ороконожки 40 н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Прямая со стрелкой 48"/>
          <p:cNvCxnSpPr/>
          <p:nvPr/>
        </p:nvCxnSpPr>
        <p:spPr>
          <a:xfrm flipH="1">
            <a:off x="5928840" y="1714320"/>
            <a:ext cx="8582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8"/>
          <p:cNvSpPr/>
          <p:nvPr/>
        </p:nvSpPr>
        <p:spPr>
          <a:xfrm>
            <a:off x="357120" y="135720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зиме она прикупила 6 пар сап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6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0"/>
          <p:cNvSpPr/>
          <p:nvPr/>
        </p:nvSpPr>
        <p:spPr>
          <a:xfrm>
            <a:off x="357120" y="1285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7" name="Группа 68"/>
          <p:cNvGrpSpPr/>
          <p:nvPr/>
        </p:nvGrpSpPr>
        <p:grpSpPr>
          <a:xfrm>
            <a:off x="4357800" y="1214280"/>
            <a:ext cx="4786200" cy="1500840"/>
            <a:chOff x="4357800" y="1214280"/>
            <a:chExt cx="4786200" cy="1500840"/>
          </a:xfrm>
        </p:grpSpPr>
        <p:sp>
          <p:nvSpPr>
            <p:cNvPr id="668" name="TextBox 55"/>
            <p:cNvSpPr/>
            <p:nvPr/>
          </p:nvSpPr>
          <p:spPr>
            <a:xfrm>
              <a:off x="4357800" y="121428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 ножек остались без сапож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Прямая со стрелкой 56"/>
            <p:cNvCxnSpPr/>
            <p:nvPr/>
          </p:nvCxnSpPr>
          <p:spPr>
            <a:xfrm flipH="1">
              <a:off x="6572160" y="1785960"/>
              <a:ext cx="643320" cy="929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Прямая со стрелкой 56"/>
          <p:cNvCxnSpPr>
            <a:stCxn id="722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Lucida Sans Unicode"/>
              </a:rPr>
              <a:t>Методы обучения и формы занят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ловесны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глядны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рактически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сследовательск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 методом является исследовательский. Организаторами исследований могут, кроме учителя, становиться д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2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Прямая со стрелкой 56"/>
          <p:cNvCxnSpPr>
            <a:stCxn id="776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TextBox 59"/>
          <p:cNvSpPr/>
          <p:nvPr/>
        </p:nvSpPr>
        <p:spPr>
          <a:xfrm>
            <a:off x="3357720" y="59292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шиеся ножки в старых сапож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Прямая со стрелкой 56"/>
          <p:cNvCxnSpPr>
            <a:stCxn id="832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TextBox 59"/>
          <p:cNvSpPr/>
          <p:nvPr/>
        </p:nvSpPr>
        <p:spPr>
          <a:xfrm>
            <a:off x="1500120" y="58579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у сороконожки бы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арых сапож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4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7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Прямая со стрелкой 56"/>
          <p:cNvCxnSpPr>
            <a:stCxn id="897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9" name="TextBox 59"/>
          <p:cNvSpPr/>
          <p:nvPr/>
        </p:nvSpPr>
        <p:spPr>
          <a:xfrm>
            <a:off x="5143680" y="5786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пар старых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67"/>
          <p:cNvSpPr/>
          <p:nvPr/>
        </p:nvSpPr>
        <p:spPr>
          <a:xfrm>
            <a:off x="3714840" y="62118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. 5 класс (по программе 4 клас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9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96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. 4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3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82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6" name=""/>
          <p:cNvGraphicFramePr/>
          <p:nvPr/>
        </p:nvGraphicFramePr>
        <p:xfrm>
          <a:off x="457200" y="1481040"/>
          <a:ext cx="8258040" cy="3233880"/>
        </p:xfrm>
        <a:graphic>
          <a:graphicData uri="http://schemas.openxmlformats.org/drawingml/2006/table">
            <a:tbl>
              <a:tblPr/>
              <a:tblGrid>
                <a:gridCol w="2328840"/>
                <a:gridCol w="1976400"/>
                <a:gridCol w="1976400"/>
                <a:gridCol w="197640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,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480680"/>
            <a:ext cx="85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Личност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удут сформирован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ебно­познавательный интерес к новому учебному материалу и способам решения новой задач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ация на понимание причин успеха в учебной деятельности, в том числе на самоанализ и самоконтроль результата, на анализ соответствия результатов требованиям конкретной задачи, на понимание оценок учителе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пособность к оценке свое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гуля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инимать и сохранять учебную задач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ланировать свои действия в соответствии с поставленной задачей и условиями её реализации, в том числе во внутреннем план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итоговый и пошаговый контроль по результат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наватель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ироваться на разнообразие способов решения задач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новам смыслового восприятия текстов, выделять существенную информацию из сообщений разных видов (в первую очередь текстов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анализ объектов с выделением существенных и несущественных признак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ладеть рядом общих приёмов решения задач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оммуника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улировать собственное мнение и позиц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вать вопрос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457200" y="1719360"/>
          <a:ext cx="8258040" cy="3520800"/>
        </p:xfrm>
        <a:graphic>
          <a:graphicData uri="http://schemas.openxmlformats.org/drawingml/2006/table">
            <a:tbl>
              <a:tblPr/>
              <a:tblGrid>
                <a:gridCol w="473040"/>
                <a:gridCol w="6927840"/>
                <a:gridCol w="85716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разде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курса. Решение простейш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 метод решения задач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фический метод решения 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упорядоченного пере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тичный мет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бличный спосо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гра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 занятие.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374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7T09:06:39Z</dcterms:created>
  <dc:creator>Buch-02</dc:creator>
  <dc:description/>
  <dc:language>en-US</dc:language>
  <cp:lastModifiedBy>Buch-02</cp:lastModifiedBy>
  <dcterms:modified xsi:type="dcterms:W3CDTF">2021-11-18T10:53:26Z</dcterms:modified>
  <cp:revision>46</cp:revision>
  <dc:subject/>
  <dc:title>Тема выступления</dc:title>
</cp:coreProperties>
</file>