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629-730C-4B86-BC3D-BFF68C90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E3B-A379-412B-8A42-342A484D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8087-D860-4B9F-B072-3B1A2DE0A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45F-3AA4-473C-A20E-D53348F8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4A3E-C686-44F8-884C-0A0271A4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622FA-DD0C-43B1-8684-0CFD2103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E100D-E863-4C0C-AFD4-DA7CB40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B46E-38F9-4C86-B525-8A1BFB8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C012-AAD6-4A88-9106-116AB73AA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C516F-29E9-4E1C-9B4D-4D5F935E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D4A0-5840-4DC8-9D35-3773FB50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5D0-673E-4F4D-9663-9D1D8106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E11A-87FE-4D88-9DC9-1BB769DE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F7BB-0DD1-45BD-BECE-0114BBEC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AE0D7-2524-4555-AAD2-2988914FE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4A8A-DA3F-485A-BB0F-4DADB5E81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8BD2-560D-4173-ACC4-440F5CDF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97A82-EC77-405C-84CC-7D9BF1D6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F688F-2718-4A3E-865A-4FAED66D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5CFDC-177D-4A46-AD51-A7A7566F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BE84C-4CFE-481A-8F29-5DEFFED8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ECEB1-DB4D-4906-BD44-5A5625CC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D9F9-0979-4243-95ED-775A2EF5F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430E3-EC8E-4C9A-8318-59C627616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DC3A-983E-4273-AE7B-A0290375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ECD77-ECCC-4DA5-81DB-832BD172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EA3C7-7E57-480D-8AA3-8AFA3624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78B5A0-9471-4F43-86B2-DF693CD4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28622-DBBC-4666-8641-42EDF9DD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C19D-7680-4617-BB57-D94954B3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EFD78-13E2-4A73-8097-6509D55D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B3F1B-CA0E-453E-9873-A72AE1BAF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F4FEC-4157-4B7F-AD12-DC61F88E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AF5D-E28E-41A2-9D4D-B71CCDFB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414A4-5B2E-4982-AB46-9EB3E5A1B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CA3B7-9905-445E-B058-00AB79C0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CD2D-3B0A-4CAA-A2FF-CF7ACB8CF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1C566-643A-4E73-99A5-9C3FB557A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AE812-C323-4429-B79F-79C9F358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255F3-5C81-4BFE-A522-8A941F1E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1119B-507F-4373-AD6A-6E71EC9C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2F388-56FB-4A52-B3D5-EEAC9171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A872D-C7B5-47C7-88FF-E952F1091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7E138-805C-425C-BB2D-CFB8D2956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8782-35FA-4889-846B-77E3F4C7F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0EE6F-F5A1-48BD-B4FD-957A81D4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200E3-5723-43FB-B27C-BB5EED12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2534F-A998-4D0A-932D-91756DD0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B77EE-E6B3-4E0A-9F2D-1D33F2EC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7B821-E7C2-4A62-B02A-23556055E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1B49-55E3-43E5-8B2C-914EB3AF0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DD902-0DDD-4F0F-BBDF-730C7BB3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EE1C6-9F00-4866-A871-8580CBE6C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BBF20-C1EB-4CF3-B3A7-159CE52E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C6FF4-87CD-4144-9991-319BF1260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DC02-C8AD-4B96-8A1B-1861C589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10513-9165-41D0-A86E-DDF74BD8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4A81D-812E-4463-B475-045C43BFE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0E4F5-9974-44BD-A7D5-3CB6AFF9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DE621-11B1-4C1D-80DE-7AC6A76E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AA595-2114-444E-808A-C617FAD9C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5800A-7538-4FEA-8226-21972084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D7389-3B0B-484D-8595-1C1E3000A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4E46C-DDFE-437B-BFC0-DF452182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91D56-4E04-4EA1-AB1D-EC5DE859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7F3FB-102F-4124-9FD2-53CC2D78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1D02-F94B-4F8F-9A04-16FC7D1A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F785A-00CD-46B1-97ED-82E089D6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98CF3-F9AC-4E75-A65D-2BF7DDF3D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FD05F-234B-4528-852F-F0847FA17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5BFEB-2D18-48A0-B32F-2320741AC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02264-C210-4875-9B3E-9705FE4D9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D17A6-907D-4EC0-A822-6CDBB47C5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4153F1-FC2C-4DEB-9B4E-69C236E7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F621B5-ECA6-4DB2-90BB-562C61A6C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D4238-DDDC-4ABA-8BFE-E1DFCF10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CC286-E392-429C-888D-CB6238F98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2CC3-69B6-45DA-87CD-B7675503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02DA59-1DCD-4C8A-B3B0-F14C9149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E4B3E-E14B-4361-98C6-9D364497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7EA11-6D84-46AE-818E-66CF5852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F3045-97C3-44B1-88B8-DF5D6E378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2C855-E6C9-4F4D-BE65-C6BF11430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26E69-151A-42A1-AE0F-83EDDD891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BC418-38E9-4B2D-9456-E1B07F88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0950B-FAA4-431D-9FCC-5E0E9D5D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2A223-EDE0-44E8-9182-B60BA9BC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DC48D-AE34-419D-9666-8AB6002CA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3856-3EDD-43C4-B729-7DBAB795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6A081-6813-4C45-A4E4-2DCDFA5E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D949D-236E-4E8D-8324-539139BF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75685-B25C-4F8D-A7EF-6482A976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15E38-B34D-48FB-BC80-9703A304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D4CDA-EE3E-4CC8-907E-B11D16BB4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3D2B1-C772-4400-BCA6-5994B7932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85121-0E8F-4850-89C8-7DABD50F5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476F-16F1-47E2-9375-F64E8484C89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5EB4-46A5-4A0A-B47B-5A56FE1A3222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9B34-3B5B-4173-897C-4110617FCB47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2909-BFFD-4D51-BC5E-46EE58160B0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39CD-57E5-4D97-B4C0-31DCAAE800C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65EC-0125-4469-A9FC-454094026D13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36E2-8ADD-4661-9CFA-9D9CCE0283A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F31A-BBF8-4300-9809-D3D4E491F11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1066680"/>
            <a:ext cx="9217080" cy="2114640"/>
          </a:xfrm>
          <a:prstGeom prst="rect">
            <a:avLst/>
          </a:prstGeom>
          <a:ln w="0">
            <a:noFill/>
          </a:ln>
        </p:spPr>
      </p:pic>
      <p:sp>
        <p:nvSpPr>
          <p:cNvPr id="371" name="Подзаголовок 2"/>
          <p:cNvSpPr/>
          <p:nvPr/>
        </p:nvSpPr>
        <p:spPr>
          <a:xfrm>
            <a:off x="4929120" y="3286080"/>
            <a:ext cx="42148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Карпова Оксана Леонид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Быкова Лариса Вале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Чепкова Юлия Юр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Шаманаева Любовь Халил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одзаголовок 2"/>
          <p:cNvSpPr/>
          <p:nvPr/>
        </p:nvSpPr>
        <p:spPr>
          <a:xfrm>
            <a:off x="2357280" y="6286680"/>
            <a:ext cx="4214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25 ноябр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928800" y="14292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ая научно-практическая конферен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Эффективные механизмы повышения образовательных результатов обучающихс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оугольник 6"/>
          <p:cNvSpPr/>
          <p:nvPr/>
        </p:nvSpPr>
        <p:spPr>
          <a:xfrm>
            <a:off x="5000760" y="4714920"/>
            <a:ext cx="3214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ОУ «Школа №2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 Губаха Пермский кр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499680"/>
            <a:ext cx="8229600" cy="55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 сороконожки 40 ножек. К зиме она прикупила 6 пар сапожек. Все равно 10 ножек остались без сапожек. Сколько у сороконожки было пар старых сапожек до того, как она купила новые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Арифметический способ решения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 • 2 = 12 ног в нов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0 — 12 = 28 ног босые и в старых сапог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8 — 10 = 18 ног в старых сапожках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8 : 2 = 9 пар старых сапог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0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7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1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2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1) 40 : 2 = 20 (пар) – ног  у сороконож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) 10 : 2 = 5 (пар) – ножек осталось без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апоже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6 пар           5 пар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Lucida Sans Unicode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                              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20 пар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20-(6+5)=9 (пар)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твет: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9 пар старых сапожек было у сороконожк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до того, как она купила новые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5" name="Прямая соединительная линия 19"/>
          <p:cNvSpPr/>
          <p:nvPr/>
        </p:nvSpPr>
        <p:spPr>
          <a:xfrm>
            <a:off x="642960" y="3929040"/>
            <a:ext cx="7929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Левая фигурная скобка 20"/>
          <p:cNvSpPr/>
          <p:nvPr/>
        </p:nvSpPr>
        <p:spPr>
          <a:xfrm rot="16200000">
            <a:off x="4326840" y="244800"/>
            <a:ext cx="561960" cy="7929720"/>
          </a:xfrm>
          <a:custGeom>
            <a:avLst/>
            <a:gdLst>
              <a:gd name="textAreaLeft" fmla="*/ 358920 w 561960"/>
              <a:gd name="textAreaRight" fmla="*/ 562320 w 561960"/>
              <a:gd name="textAreaTop" fmla="*/ 14400 h 7929720"/>
              <a:gd name="textAreaBottom" fmla="*/ 7915320 h 792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4"/>
                  <a:pt x="10800" y="128"/>
                </a:cubicBezTo>
                <a:lnTo>
                  <a:pt x="10800" y="10713"/>
                </a:lnTo>
                <a:cubicBezTo>
                  <a:pt x="10800" y="10777"/>
                  <a:pt x="5400" y="10841"/>
                  <a:pt x="0" y="10841"/>
                </a:cubicBezTo>
                <a:cubicBezTo>
                  <a:pt x="5400" y="10841"/>
                  <a:pt x="10800" y="10905"/>
                  <a:pt x="10800" y="10969"/>
                </a:cubicBezTo>
                <a:lnTo>
                  <a:pt x="10800" y="21472"/>
                </a:lnTo>
                <a:cubicBezTo>
                  <a:pt x="10800" y="215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Левая фигурная скобка 5"/>
          <p:cNvSpPr/>
          <p:nvPr/>
        </p:nvSpPr>
        <p:spPr>
          <a:xfrm rot="5400000">
            <a:off x="1535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Левая фигурная скобка 6"/>
          <p:cNvSpPr/>
          <p:nvPr/>
        </p:nvSpPr>
        <p:spPr>
          <a:xfrm rot="5400000">
            <a:off x="3821760" y="2464560"/>
            <a:ext cx="500040" cy="228600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286000"/>
              <a:gd name="textAreaBottom" fmla="*/ 227304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7"/>
                  <a:pt x="10800" y="394"/>
                </a:cubicBezTo>
                <a:lnTo>
                  <a:pt x="10800" y="10406"/>
                </a:lnTo>
                <a:cubicBezTo>
                  <a:pt x="10800" y="10603"/>
                  <a:pt x="5400" y="10800"/>
                  <a:pt x="0" y="10800"/>
                </a:cubicBezTo>
                <a:cubicBezTo>
                  <a:pt x="5400" y="10800"/>
                  <a:pt x="10800" y="10997"/>
                  <a:pt x="10800" y="11194"/>
                </a:cubicBezTo>
                <a:lnTo>
                  <a:pt x="10800" y="21206"/>
                </a:lnTo>
                <a:cubicBezTo>
                  <a:pt x="10800" y="21403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Левая фигурная скобка 7"/>
          <p:cNvSpPr/>
          <p:nvPr/>
        </p:nvSpPr>
        <p:spPr>
          <a:xfrm rot="5400000">
            <a:off x="6643440" y="1928520"/>
            <a:ext cx="500040" cy="335772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357720"/>
              <a:gd name="textAreaBottom" fmla="*/ 3344760 h 3357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ограмма краткосрочного курса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о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интеллектуальному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  направлению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«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шение нестандартных задач по математике</a:t>
            </a:r>
            <a:r>
              <a:rPr b="0" lang="el-GR" sz="2700" spc="-1" strike="noStrike">
                <a:solidFill>
                  <a:srgbClr val="000000"/>
                </a:solidFill>
                <a:latin typeface="Lucida Sans Unicode"/>
              </a:rPr>
              <a:t>»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4 класс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0 часов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1" name="TextBox 5"/>
          <p:cNvSpPr/>
          <p:nvPr/>
        </p:nvSpPr>
        <p:spPr>
          <a:xfrm>
            <a:off x="428760" y="1143000"/>
            <a:ext cx="828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3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"/>
          <p:cNvGraphicFramePr/>
          <p:nvPr/>
        </p:nvGraphicFramePr>
        <p:xfrm>
          <a:off x="285840" y="2000160"/>
          <a:ext cx="8429400" cy="38260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4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5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7" name=""/>
          <p:cNvGraphicFramePr/>
          <p:nvPr/>
        </p:nvGraphicFramePr>
        <p:xfrm>
          <a:off x="285840" y="2000160"/>
          <a:ext cx="8429400" cy="386424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2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3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1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48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0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1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3" name=""/>
          <p:cNvGraphicFramePr/>
          <p:nvPr/>
        </p:nvGraphicFramePr>
        <p:xfrm>
          <a:off x="285840" y="2000160"/>
          <a:ext cx="8429400" cy="390060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4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57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85480" y="1643040"/>
            <a:ext cx="8715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Задачи курса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обуч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ирование общеинтеллектуальных умени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углубление и расширение знаний учащихся по математик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создание условий для повышения эффективности подготовки выпускников начальной школы к ВПР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развивающи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и развитие логического мышления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развитие внимание, памят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Lucida Sans Unicode"/>
              </a:rPr>
              <a:t>воспитательные: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положительной мотивации к учен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-формирование умение работать в групп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298440" y="85680"/>
            <a:ext cx="8394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"/>
          <p:cNvGraphicFramePr/>
          <p:nvPr/>
        </p:nvGraphicFramePr>
        <p:xfrm>
          <a:off x="285840" y="2000160"/>
          <a:ext cx="8429400" cy="393876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1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0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0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2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3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5" name=""/>
          <p:cNvGraphicFramePr/>
          <p:nvPr/>
        </p:nvGraphicFramePr>
        <p:xfrm>
          <a:off x="285840" y="2000160"/>
          <a:ext cx="8429400" cy="397512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7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597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8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69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Заголовок 2" descr=""/>
          <p:cNvPicPr/>
          <p:nvPr/>
        </p:nvPicPr>
        <p:blipFill>
          <a:blip r:embed="rId1"/>
          <a:stretch/>
        </p:blipFill>
        <p:spPr>
          <a:xfrm>
            <a:off x="-182520" y="268200"/>
            <a:ext cx="950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"/>
          <p:cNvGraphicFramePr/>
          <p:nvPr/>
        </p:nvGraphicFramePr>
        <p:xfrm>
          <a:off x="285840" y="2000160"/>
          <a:ext cx="8429400" cy="4013280"/>
        </p:xfrm>
        <a:graphic>
          <a:graphicData uri="http://schemas.openxmlformats.org/drawingml/2006/table">
            <a:tbl>
              <a:tblPr/>
              <a:tblGrid>
                <a:gridCol w="1685880"/>
                <a:gridCol w="1685880"/>
                <a:gridCol w="1685880"/>
                <a:gridCol w="1685880"/>
                <a:gridCol w="1685880"/>
              </a:tblGrid>
              <a:tr h="80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Купи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Без сапо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Старые пар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Провер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=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&g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7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8&lt;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ef5f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6+5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9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=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Lucida Sans Unicode"/>
                        </a:rPr>
                        <a:t>20=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8d6ea"/>
                    </a:solidFill>
                  </a:tcPr>
                </a:tc>
              </a:tr>
            </a:tbl>
          </a:graphicData>
        </a:graphic>
      </p:graphicFrame>
      <p:sp>
        <p:nvSpPr>
          <p:cNvPr id="472" name="TextBox 5"/>
          <p:cNvSpPr/>
          <p:nvPr/>
        </p:nvSpPr>
        <p:spPr>
          <a:xfrm>
            <a:off x="428760" y="11430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40 : 2 = 20 (пар) – ног  у сорокон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10 : 2 = 5 (пар) – ножек осталось без сапоже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4"/>
          <p:cNvSpPr/>
          <p:nvPr/>
        </p:nvSpPr>
        <p:spPr>
          <a:xfrm>
            <a:off x="3571920" y="6000840"/>
            <a:ext cx="557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олилиния 45"/>
          <p:cNvSpPr/>
          <p:nvPr/>
        </p:nvSpPr>
        <p:spPr>
          <a:xfrm>
            <a:off x="1297080" y="1859040"/>
            <a:ext cx="6159240" cy="3836880"/>
          </a:xfrm>
          <a:prstGeom prst="pie">
            <a:avLst/>
          </a:prstGeom>
          <a:solidFill>
            <a:srgbClr val="ffffff"/>
          </a:solidFill>
          <a:ln w="55080">
            <a:solidFill>
              <a:srgbClr val="1fae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6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46"/>
          <p:cNvSpPr/>
          <p:nvPr/>
        </p:nvSpPr>
        <p:spPr>
          <a:xfrm>
            <a:off x="5143680" y="1214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сороконожки 40 н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7" name="Прямая со стрелкой 48"/>
          <p:cNvCxnSpPr/>
          <p:nvPr/>
        </p:nvCxnSpPr>
        <p:spPr>
          <a:xfrm flipH="1">
            <a:off x="5928840" y="1714320"/>
            <a:ext cx="858240" cy="857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58"/>
          <p:cNvSpPr/>
          <p:nvPr/>
        </p:nvSpPr>
        <p:spPr>
          <a:xfrm>
            <a:off x="357120" y="1357200"/>
            <a:ext cx="59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зиме она прикупила 6 пар сапож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56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Box 50"/>
          <p:cNvSpPr/>
          <p:nvPr/>
        </p:nvSpPr>
        <p:spPr>
          <a:xfrm>
            <a:off x="357120" y="128592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1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667" name="Группа 68"/>
          <p:cNvGrpSpPr/>
          <p:nvPr/>
        </p:nvGrpSpPr>
        <p:grpSpPr>
          <a:xfrm>
            <a:off x="4357800" y="1214280"/>
            <a:ext cx="4786200" cy="1500840"/>
            <a:chOff x="4357800" y="1214280"/>
            <a:chExt cx="4786200" cy="1500840"/>
          </a:xfrm>
        </p:grpSpPr>
        <p:sp>
          <p:nvSpPr>
            <p:cNvPr id="668" name="TextBox 55"/>
            <p:cNvSpPr/>
            <p:nvPr/>
          </p:nvSpPr>
          <p:spPr>
            <a:xfrm>
              <a:off x="4357800" y="1214280"/>
              <a:ext cx="478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0 ножек остались без сапожек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9" name="Прямая со стрелкой 56"/>
            <p:cNvCxnSpPr/>
            <p:nvPr/>
          </p:nvCxnSpPr>
          <p:spPr>
            <a:xfrm flipH="1">
              <a:off x="6572160" y="1785960"/>
              <a:ext cx="643320" cy="92952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67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22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3" name="Прямая со стрелкой 56"/>
          <p:cNvCxnSpPr>
            <a:stCxn id="722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785520"/>
            <a:ext cx="822960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000000"/>
                </a:solidFill>
                <a:latin typeface="Lucida Sans Unicode"/>
              </a:rPr>
              <a:t>Методы обучения и формы занятий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ловесны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наглядные,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практические,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исследовательски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Ведущим методом является исследовательский. Организаторами исследований могут, кроме учителя, становиться дет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28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5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6" name="TextBox 55"/>
          <p:cNvSpPr/>
          <p:nvPr/>
        </p:nvSpPr>
        <p:spPr>
          <a:xfrm>
            <a:off x="5929200" y="114300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7" name="Прямая со стрелкой 56"/>
          <p:cNvCxnSpPr>
            <a:stCxn id="776" idx="2"/>
          </p:cNvCxnSpPr>
          <p:nvPr/>
        </p:nvCxnSpPr>
        <p:spPr>
          <a:xfrm flipH="1">
            <a:off x="6571440" y="1604880"/>
            <a:ext cx="96588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8" name="TextBox 59"/>
          <p:cNvSpPr/>
          <p:nvPr/>
        </p:nvSpPr>
        <p:spPr>
          <a:xfrm>
            <a:off x="3357720" y="5929200"/>
            <a:ext cx="564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тавшиеся ножки в старых сапож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9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784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3" name="Прямая со стрелкой 56"/>
          <p:cNvCxnSpPr>
            <a:stCxn id="832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4" name="TextBox 59"/>
          <p:cNvSpPr/>
          <p:nvPr/>
        </p:nvSpPr>
        <p:spPr>
          <a:xfrm>
            <a:off x="1500120" y="585792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колько у сороконожки был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а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тарых сапоже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6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Полилиния 58"/>
          <p:cNvSpPr/>
          <p:nvPr/>
        </p:nvSpPr>
        <p:spPr>
          <a:xfrm>
            <a:off x="3073320" y="2884320"/>
            <a:ext cx="3894120" cy="2613240"/>
          </a:xfrm>
          <a:prstGeom prst="pie">
            <a:avLst/>
          </a:prstGeom>
          <a:solidFill>
            <a:srgbClr val="fffff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Полилиния 52"/>
          <p:cNvSpPr/>
          <p:nvPr/>
        </p:nvSpPr>
        <p:spPr>
          <a:xfrm>
            <a:off x="3664080" y="1876320"/>
            <a:ext cx="3717720" cy="2090880"/>
          </a:xfrm>
          <a:prstGeom prst="pie">
            <a:avLst/>
          </a:prstGeom>
          <a:solidFill>
            <a:srgbClr val="ffffff"/>
          </a:solidFill>
          <a:ln w="55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Полилиния 48"/>
          <p:cNvSpPr/>
          <p:nvPr/>
        </p:nvSpPr>
        <p:spPr>
          <a:xfrm>
            <a:off x="1341360" y="1812960"/>
            <a:ext cx="2435400" cy="3655800"/>
          </a:xfrm>
          <a:prstGeom prst="pie">
            <a:avLst/>
          </a:prstGeom>
          <a:solidFill>
            <a:srgbClr val="ffffff"/>
          </a:solidFill>
          <a:ln w="55080">
            <a:solidFill>
              <a:srgbClr val="da1f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849" name="Овал 4"/>
          <p:cNvSpPr/>
          <p:nvPr/>
        </p:nvSpPr>
        <p:spPr>
          <a:xfrm>
            <a:off x="2286000" y="4786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Овал 5"/>
          <p:cNvSpPr/>
          <p:nvPr/>
        </p:nvSpPr>
        <p:spPr>
          <a:xfrm>
            <a:off x="200016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Овал 6"/>
          <p:cNvSpPr/>
          <p:nvPr/>
        </p:nvSpPr>
        <p:spPr>
          <a:xfrm>
            <a:off x="3286080" y="264312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Овал 7"/>
          <p:cNvSpPr/>
          <p:nvPr/>
        </p:nvSpPr>
        <p:spPr>
          <a:xfrm>
            <a:off x="2500200" y="3714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Овал 8"/>
          <p:cNvSpPr/>
          <p:nvPr/>
        </p:nvSpPr>
        <p:spPr>
          <a:xfrm>
            <a:off x="2928960" y="3143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Овал 9"/>
          <p:cNvSpPr/>
          <p:nvPr/>
        </p:nvSpPr>
        <p:spPr>
          <a:xfrm>
            <a:off x="371484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Овал 10"/>
          <p:cNvSpPr/>
          <p:nvPr/>
        </p:nvSpPr>
        <p:spPr>
          <a:xfrm>
            <a:off x="2857680" y="41432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Овал 11"/>
          <p:cNvSpPr/>
          <p:nvPr/>
        </p:nvSpPr>
        <p:spPr>
          <a:xfrm>
            <a:off x="3429000" y="3929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Овал 12"/>
          <p:cNvSpPr/>
          <p:nvPr/>
        </p:nvSpPr>
        <p:spPr>
          <a:xfrm>
            <a:off x="285768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Овал 13"/>
          <p:cNvSpPr/>
          <p:nvPr/>
        </p:nvSpPr>
        <p:spPr>
          <a:xfrm>
            <a:off x="3286080" y="4643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Овал 14"/>
          <p:cNvSpPr/>
          <p:nvPr/>
        </p:nvSpPr>
        <p:spPr>
          <a:xfrm>
            <a:off x="40719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Овал 15"/>
          <p:cNvSpPr/>
          <p:nvPr/>
        </p:nvSpPr>
        <p:spPr>
          <a:xfrm>
            <a:off x="4000680" y="500076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Овал 16"/>
          <p:cNvSpPr/>
          <p:nvPr/>
        </p:nvSpPr>
        <p:spPr>
          <a:xfrm>
            <a:off x="3857760" y="4429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Овал 17"/>
          <p:cNvSpPr/>
          <p:nvPr/>
        </p:nvSpPr>
        <p:spPr>
          <a:xfrm>
            <a:off x="4572000" y="41432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Овал 18"/>
          <p:cNvSpPr/>
          <p:nvPr/>
        </p:nvSpPr>
        <p:spPr>
          <a:xfrm>
            <a:off x="4500720" y="485784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Овал 19"/>
          <p:cNvSpPr/>
          <p:nvPr/>
        </p:nvSpPr>
        <p:spPr>
          <a:xfrm>
            <a:off x="4572000" y="2500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Овал 20"/>
          <p:cNvSpPr/>
          <p:nvPr/>
        </p:nvSpPr>
        <p:spPr>
          <a:xfrm>
            <a:off x="5214960" y="450072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Овал 21"/>
          <p:cNvSpPr/>
          <p:nvPr/>
        </p:nvSpPr>
        <p:spPr>
          <a:xfrm>
            <a:off x="2571840" y="2786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Овал 22"/>
          <p:cNvSpPr/>
          <p:nvPr/>
        </p:nvSpPr>
        <p:spPr>
          <a:xfrm>
            <a:off x="5214960" y="5143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Овал 23"/>
          <p:cNvSpPr/>
          <p:nvPr/>
        </p:nvSpPr>
        <p:spPr>
          <a:xfrm>
            <a:off x="6000840" y="485784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Овал 24"/>
          <p:cNvSpPr/>
          <p:nvPr/>
        </p:nvSpPr>
        <p:spPr>
          <a:xfrm>
            <a:off x="20718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Овал 25"/>
          <p:cNvSpPr/>
          <p:nvPr/>
        </p:nvSpPr>
        <p:spPr>
          <a:xfrm>
            <a:off x="2928960" y="2286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Овал 26"/>
          <p:cNvSpPr/>
          <p:nvPr/>
        </p:nvSpPr>
        <p:spPr>
          <a:xfrm>
            <a:off x="3429000" y="50720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Овал 27"/>
          <p:cNvSpPr/>
          <p:nvPr/>
        </p:nvSpPr>
        <p:spPr>
          <a:xfrm>
            <a:off x="3824280" y="239544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Овал 28"/>
          <p:cNvSpPr/>
          <p:nvPr/>
        </p:nvSpPr>
        <p:spPr>
          <a:xfrm>
            <a:off x="178596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Овал 29"/>
          <p:cNvSpPr/>
          <p:nvPr/>
        </p:nvSpPr>
        <p:spPr>
          <a:xfrm>
            <a:off x="428616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Овал 30"/>
          <p:cNvSpPr/>
          <p:nvPr/>
        </p:nvSpPr>
        <p:spPr>
          <a:xfrm>
            <a:off x="42861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Овал 31"/>
          <p:cNvSpPr/>
          <p:nvPr/>
        </p:nvSpPr>
        <p:spPr>
          <a:xfrm>
            <a:off x="4714920" y="3286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Овал 32"/>
          <p:cNvSpPr/>
          <p:nvPr/>
        </p:nvSpPr>
        <p:spPr>
          <a:xfrm>
            <a:off x="5143680" y="392904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Овал 33"/>
          <p:cNvSpPr/>
          <p:nvPr/>
        </p:nvSpPr>
        <p:spPr>
          <a:xfrm>
            <a:off x="5286240" y="292896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Овал 34"/>
          <p:cNvSpPr/>
          <p:nvPr/>
        </p:nvSpPr>
        <p:spPr>
          <a:xfrm>
            <a:off x="5643720" y="3500280"/>
            <a:ext cx="4572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Овал 35"/>
          <p:cNvSpPr/>
          <p:nvPr/>
        </p:nvSpPr>
        <p:spPr>
          <a:xfrm>
            <a:off x="5572080" y="23572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Овал 36"/>
          <p:cNvSpPr/>
          <p:nvPr/>
        </p:nvSpPr>
        <p:spPr>
          <a:xfrm>
            <a:off x="5000760" y="214308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Овал 37"/>
          <p:cNvSpPr/>
          <p:nvPr/>
        </p:nvSpPr>
        <p:spPr>
          <a:xfrm>
            <a:off x="6572160" y="2857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Овал 38"/>
          <p:cNvSpPr/>
          <p:nvPr/>
        </p:nvSpPr>
        <p:spPr>
          <a:xfrm>
            <a:off x="5857920" y="428616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Овал 39"/>
          <p:cNvSpPr/>
          <p:nvPr/>
        </p:nvSpPr>
        <p:spPr>
          <a:xfrm>
            <a:off x="6143760" y="3643200"/>
            <a:ext cx="46080" cy="7164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Овал 40"/>
          <p:cNvSpPr/>
          <p:nvPr/>
        </p:nvSpPr>
        <p:spPr>
          <a:xfrm>
            <a:off x="6643800" y="40006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Овал 41"/>
          <p:cNvSpPr/>
          <p:nvPr/>
        </p:nvSpPr>
        <p:spPr>
          <a:xfrm>
            <a:off x="6000840" y="307188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Овал 42"/>
          <p:cNvSpPr/>
          <p:nvPr/>
        </p:nvSpPr>
        <p:spPr>
          <a:xfrm>
            <a:off x="6858000" y="3429000"/>
            <a:ext cx="4608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Овал 43"/>
          <p:cNvSpPr/>
          <p:nvPr/>
        </p:nvSpPr>
        <p:spPr>
          <a:xfrm>
            <a:off x="6286680" y="2428920"/>
            <a:ext cx="45720" cy="71280"/>
          </a:xfrm>
          <a:prstGeom prst="ellipse">
            <a:avLst/>
          </a:prstGeom>
          <a:solidFill>
            <a:srgbClr val="00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Прямая соединительная линия 45"/>
          <p:cNvSpPr/>
          <p:nvPr/>
        </p:nvSpPr>
        <p:spPr>
          <a:xfrm>
            <a:off x="1792440" y="2989440"/>
            <a:ext cx="318960" cy="5000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Прямая соединительная линия 47"/>
          <p:cNvSpPr/>
          <p:nvPr/>
        </p:nvSpPr>
        <p:spPr>
          <a:xfrm>
            <a:off x="2577240" y="2797200"/>
            <a:ext cx="397080" cy="3808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Прямая соединительная линия 49"/>
          <p:cNvSpPr/>
          <p:nvPr/>
        </p:nvSpPr>
        <p:spPr>
          <a:xfrm flipH="1">
            <a:off x="2006280" y="3725280"/>
            <a:ext cx="500040" cy="5713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Прямая соединительная линия 51"/>
          <p:cNvSpPr/>
          <p:nvPr/>
        </p:nvSpPr>
        <p:spPr>
          <a:xfrm>
            <a:off x="2935440" y="2346480"/>
            <a:ext cx="396720" cy="33156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Прямая соединительная линия 54"/>
          <p:cNvSpPr/>
          <p:nvPr/>
        </p:nvSpPr>
        <p:spPr>
          <a:xfrm>
            <a:off x="2292480" y="4797360"/>
            <a:ext cx="604800" cy="120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Прямая соединительная линия 57"/>
          <p:cNvSpPr/>
          <p:nvPr/>
        </p:nvSpPr>
        <p:spPr>
          <a:xfrm flipV="1">
            <a:off x="2896560" y="3965040"/>
            <a:ext cx="57780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Box 50"/>
          <p:cNvSpPr/>
          <p:nvPr/>
        </p:nvSpPr>
        <p:spPr>
          <a:xfrm>
            <a:off x="357120" y="128592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 новых п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6" name="Прямая со стрелкой 53"/>
          <p:cNvCxnSpPr/>
          <p:nvPr/>
        </p:nvCxnSpPr>
        <p:spPr>
          <a:xfrm>
            <a:off x="1641960" y="1714320"/>
            <a:ext cx="500760" cy="9291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7" name="TextBox 55"/>
          <p:cNvSpPr/>
          <p:nvPr/>
        </p:nvSpPr>
        <p:spPr>
          <a:xfrm>
            <a:off x="5929200" y="1143000"/>
            <a:ext cx="28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 ног без сапо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8" name="Прямая со стрелкой 56"/>
          <p:cNvCxnSpPr>
            <a:stCxn id="897" idx="2"/>
          </p:cNvCxnSpPr>
          <p:nvPr/>
        </p:nvCxnSpPr>
        <p:spPr>
          <a:xfrm flipH="1">
            <a:off x="6571440" y="1604880"/>
            <a:ext cx="786600" cy="103860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9" name="TextBox 59"/>
          <p:cNvSpPr/>
          <p:nvPr/>
        </p:nvSpPr>
        <p:spPr>
          <a:xfrm>
            <a:off x="5143680" y="5786280"/>
            <a:ext cx="37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 пар старых сапож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0" name="Прямая со стрелкой 60"/>
          <p:cNvCxnSpPr/>
          <p:nvPr/>
        </p:nvCxnSpPr>
        <p:spPr>
          <a:xfrm flipH="1" flipV="1">
            <a:off x="5714640" y="5109480"/>
            <a:ext cx="572400" cy="81972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Прямая соединительная линия 62"/>
          <p:cNvSpPr/>
          <p:nvPr/>
        </p:nvSpPr>
        <p:spPr>
          <a:xfrm>
            <a:off x="3291840" y="4654440"/>
            <a:ext cx="158760" cy="4892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Прямая соединительная линия 64"/>
          <p:cNvSpPr/>
          <p:nvPr/>
        </p:nvSpPr>
        <p:spPr>
          <a:xfrm>
            <a:off x="3897360" y="4440240"/>
            <a:ext cx="109440" cy="620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Прямая соединительная линия 66"/>
          <p:cNvSpPr/>
          <p:nvPr/>
        </p:nvSpPr>
        <p:spPr>
          <a:xfrm>
            <a:off x="3786120" y="3357720"/>
            <a:ext cx="325440" cy="29664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Прямая соединительная линия 68"/>
          <p:cNvSpPr/>
          <p:nvPr/>
        </p:nvSpPr>
        <p:spPr>
          <a:xfrm>
            <a:off x="4291920" y="3132000"/>
            <a:ext cx="422280" cy="1890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Прямая соединительная линия 70"/>
          <p:cNvSpPr/>
          <p:nvPr/>
        </p:nvSpPr>
        <p:spPr>
          <a:xfrm flipH="1">
            <a:off x="4506480" y="4203720"/>
            <a:ext cx="104760" cy="66528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Прямая соединительная линия 73"/>
          <p:cNvSpPr/>
          <p:nvPr/>
        </p:nvSpPr>
        <p:spPr>
          <a:xfrm flipV="1">
            <a:off x="5149800" y="3571920"/>
            <a:ext cx="493920" cy="4176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Прямая соединительная линия 75"/>
          <p:cNvSpPr/>
          <p:nvPr/>
        </p:nvSpPr>
        <p:spPr>
          <a:xfrm flipH="1">
            <a:off x="5214960" y="4560840"/>
            <a:ext cx="6480" cy="65412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Прямая соединительная линия 77"/>
          <p:cNvSpPr/>
          <p:nvPr/>
        </p:nvSpPr>
        <p:spPr>
          <a:xfrm>
            <a:off x="5863680" y="4346640"/>
            <a:ext cx="136440" cy="5112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Прямая соединительная линия 79"/>
          <p:cNvSpPr/>
          <p:nvPr/>
        </p:nvSpPr>
        <p:spPr>
          <a:xfrm>
            <a:off x="6183360" y="3703680"/>
            <a:ext cx="466560" cy="307800"/>
          </a:xfrm>
          <a:prstGeom prst="line">
            <a:avLst/>
          </a:prstGeom>
          <a:ln w="93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Прямоугольник 67"/>
          <p:cNvSpPr/>
          <p:nvPr/>
        </p:nvSpPr>
        <p:spPr>
          <a:xfrm>
            <a:off x="3714840" y="62118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 пар старых сапожек было у сороконо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го, как она купила нов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1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. 5 класс (по программе 4 класса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09.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696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,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5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,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,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2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3" name=""/>
          <p:cNvGraphicFramePr/>
          <p:nvPr/>
        </p:nvGraphicFramePr>
        <p:xfrm>
          <a:off x="428760" y="1428840"/>
          <a:ext cx="8429400" cy="3794040"/>
        </p:xfrm>
        <a:graphic>
          <a:graphicData uri="http://schemas.openxmlformats.org/drawingml/2006/table">
            <a:tbl>
              <a:tblPr/>
              <a:tblGrid>
                <a:gridCol w="2681280"/>
                <a:gridCol w="676080"/>
                <a:gridCol w="1214640"/>
                <a:gridCol w="714240"/>
                <a:gridCol w="1047600"/>
                <a:gridCol w="1047960"/>
                <a:gridCol w="1047600"/>
              </a:tblGrid>
              <a:tr h="5792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. 4 клас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дмет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тема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имальный первичный балл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а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.03.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руппы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О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-во уча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 бал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я выбор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4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282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207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рмский кр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2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18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 Губах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5d9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af1d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5e0ec"/>
                    </a:solidFill>
                  </a:tcPr>
                </a:tc>
              </a:tr>
              <a:tr h="336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ОУ " Школа №2 "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4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5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6" name=""/>
          <p:cNvGraphicFramePr/>
          <p:nvPr/>
        </p:nvGraphicFramePr>
        <p:xfrm>
          <a:off x="457200" y="1481040"/>
          <a:ext cx="8258040" cy="3233880"/>
        </p:xfrm>
        <a:graphic>
          <a:graphicData uri="http://schemas.openxmlformats.org/drawingml/2006/table">
            <a:tbl>
              <a:tblPr/>
              <a:tblGrid>
                <a:gridCol w="2328840"/>
                <a:gridCol w="1976400"/>
                <a:gridCol w="1976400"/>
                <a:gridCol w="1976400"/>
              </a:tblGrid>
              <a:tr h="147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дание 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0, 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9,7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,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ПР 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61,6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90,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b050"/>
                          </a:solidFill>
                          <a:latin typeface="Calibri"/>
                        </a:rPr>
                        <a:t>18,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Lucida Sans Unicode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6840" y="1480680"/>
            <a:ext cx="854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Личност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Будут сформированы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ебно­познавательный интерес к новому учебному материалу и способам решения новой задачи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ация на понимание причин успеха в учебной деятельности, в том числе на самоанализ и самоконтроль результата, на анализ соответствия результатов требованиям конкретной задачи, на понимание оценок учителей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способность к оценке своей учебной деятельности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Регуля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ринимать и сохранять учебную задачу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учитывать выделенные учителем ориентиры действия в новом учебном материале в сотрудничестве с учителем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планировать свои действия в соответствии с поставленной задачей и условиями её реализации, в том числе во внутреннем плане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итоговый и пошаговый контроль по результату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Познаватель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риентироваться на разнообразие способов решения задач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новам смыслового восприятия текстов, выделять существенную информацию из сообщений разных видов (в первую очередь текстов)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осуществлять анализ объектов с выделением существенных и несущественных признаков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владеть рядом общих приёмов решения задач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6840" y="1481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Коммуникативные УУД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Lucida Sans Unicode"/>
              </a:rPr>
              <a:t>Учащиеся научатся: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формулировать собственное мнение и позицию;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задавать вопрос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8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90583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9" name=""/>
          <p:cNvGraphicFramePr/>
          <p:nvPr/>
        </p:nvGraphicFramePr>
        <p:xfrm>
          <a:off x="457200" y="1719360"/>
          <a:ext cx="8258040" cy="3520800"/>
        </p:xfrm>
        <a:graphic>
          <a:graphicData uri="http://schemas.openxmlformats.org/drawingml/2006/table">
            <a:tbl>
              <a:tblPr/>
              <a:tblGrid>
                <a:gridCol w="473040"/>
                <a:gridCol w="6927840"/>
                <a:gridCol w="85716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именование разде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л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r>
                        <a:rPr b="1" i="1" lang="el-GR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о ча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езентация курса. Решение простейших зада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актический метод решения задач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7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афический метод решения задач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упорядоченного переб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хематичный мет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абличный спосо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етод граф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3661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ое занятие. Рефлекс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390" name="Заголовок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63748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7T09:06:39Z</dcterms:created>
  <dc:creator>Buch-02</dc:creator>
  <dc:description/>
  <dc:language>en-US</dc:language>
  <cp:lastModifiedBy>Buch-02</cp:lastModifiedBy>
  <dcterms:modified xsi:type="dcterms:W3CDTF">2021-11-18T10:53:26Z</dcterms:modified>
  <cp:revision>46</cp:revision>
  <dc:subject/>
  <dc:title>Тема выступления</dc:title>
</cp:coreProperties>
</file>