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D0E-FD48-4B42-AF30-621A125D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D396-E48B-44E7-85A9-9E571619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A8BC-382D-4B22-B141-0F2CDEE2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E023-99E2-4398-84B5-55C45BFD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1825-E9FD-4D82-AADE-C864F056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E9CD-12C6-4061-92FB-1413CB3B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D3BF-779F-4381-89D2-4A5DE878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B12E-138C-46E8-80DA-DF16F644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C8B7-C1B0-4B14-85C8-5C6866A7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E402-0A90-4220-AEAD-2397F1F2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D607-A25C-4180-B4A7-B4ABF4BB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2AB2-B8FE-4477-8613-2BA8D206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7C81-B874-4A22-93B2-9B17685A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AFDF-0DFA-4B64-AD32-3FB671F9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2A89-7AEF-4080-B051-031B7FDC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5ABA-1469-4335-A4A4-87E02826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F7FE-7DA5-44A4-B036-7B3198B8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A037-E80F-46F3-AE62-00419943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0FEC-4015-4487-963E-115B96D0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2C2B-094D-4F16-9769-092DBD6F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C8CF-9901-4E44-85CE-A94F7B47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3850-49EF-4FEA-BE6C-18341202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D54A-CEED-4D4A-BE55-24900AAA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48BF-B46D-43FF-83E6-BA8C12DD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55D2-9CEC-46DF-9E53-6BF3B08AD2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"/>
          <p:cNvPicPr/>
          <p:nvPr/>
        </p:nvPicPr>
        <p:blipFill>
          <a:blip r:embed="rId3"/>
          <a:stretch/>
        </p:blipFill>
        <p:spPr>
          <a:xfrm>
            <a:off x="6558120" y="2532240"/>
            <a:ext cx="5634000" cy="4344840"/>
          </a:xfrm>
          <a:prstGeom prst="rect">
            <a:avLst/>
          </a:prstGeom>
          <a:ln w="0">
            <a:noFill/>
          </a:ln>
        </p:spPr>
      </p:pic>
      <p:sp>
        <p:nvSpPr>
          <p:cNvPr id="44" name="Блок-схема: подготовка 8"/>
          <p:cNvSpPr/>
          <p:nvPr/>
        </p:nvSpPr>
        <p:spPr>
          <a:xfrm rot="2913600">
            <a:off x="-528120" y="4389840"/>
            <a:ext cx="4257720" cy="374796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Блок-схема: подготовка 8"/>
          <p:cNvSpPr/>
          <p:nvPr/>
        </p:nvSpPr>
        <p:spPr>
          <a:xfrm rot="2913600">
            <a:off x="124200" y="-770400"/>
            <a:ext cx="2170080" cy="253368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85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подготовка 8"/>
          <p:cNvSpPr/>
          <p:nvPr/>
        </p:nvSpPr>
        <p:spPr>
          <a:xfrm rot="2913600">
            <a:off x="-414360" y="4390560"/>
            <a:ext cx="4195800" cy="41576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126" name="Блок-схема: подготовка 8"/>
          <p:cNvSpPr/>
          <p:nvPr/>
        </p:nvSpPr>
        <p:spPr>
          <a:xfrm rot="2913600">
            <a:off x="970560" y="1677240"/>
            <a:ext cx="9359640" cy="98852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-469800" y="4179960"/>
            <a:ext cx="6565680" cy="2678040"/>
          </a:xfrm>
          <a:prstGeom prst="rect">
            <a:avLst/>
          </a:prstGeom>
          <a:ln w="0">
            <a:noFill/>
          </a:ln>
        </p:spPr>
      </p:pic>
      <p:sp>
        <p:nvSpPr>
          <p:cNvPr id="167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7B41-8366-4A4A-B5C0-92230FB482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5373720" y="4076640"/>
            <a:ext cx="6818400" cy="27813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111320"/>
            <a:ext cx="738504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Уровневый подход в создании объективных условий реализации Региональной программы воспит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0" y="5685120"/>
            <a:ext cx="37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тева Любовь Валерье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ректор МБУ ДО «ЦДО» с. Коче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Муниципальный уровень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292400" y="1386000"/>
            <a:ext cx="2885760" cy="3179520"/>
          </a:xfrm>
          <a:prstGeom prst="rect">
            <a:avLst/>
          </a:prstGeom>
          <a:solidFill>
            <a:srgbClr val="a5a5a5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4"/>
          <p:cNvSpPr/>
          <p:nvPr/>
        </p:nvSpPr>
        <p:spPr>
          <a:xfrm>
            <a:off x="2324160" y="111456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2195640" y="1528920"/>
            <a:ext cx="733320" cy="707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4503600" y="1373040"/>
            <a:ext cx="3251160" cy="3179880"/>
          </a:xfrm>
          <a:prstGeom prst="rect">
            <a:avLst/>
          </a:prstGeom>
          <a:solidFill>
            <a:srgbClr val="f4b183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здание методических площадок по обобщению результативного опыта образовательных организаций в реализации рабочих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бъект 2"/>
          <p:cNvSpPr/>
          <p:nvPr/>
        </p:nvSpPr>
        <p:spPr>
          <a:xfrm>
            <a:off x="449280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6138720" y="1055520"/>
            <a:ext cx="733680" cy="733680"/>
          </a:xfrm>
          <a:prstGeom prst="ellipse">
            <a:avLst/>
          </a:prstGeom>
          <a:solidFill>
            <a:srgbClr val="fbe5d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8102520" y="1420920"/>
            <a:ext cx="3229200" cy="3179520"/>
          </a:xfrm>
          <a:prstGeom prst="rect">
            <a:avLst/>
          </a:prstGeom>
          <a:solidFill>
            <a:srgbClr val="4472c4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еспечение объективного и своевременного предъявления результатов мониторинга качества реализации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бъект 2"/>
          <p:cNvSpPr/>
          <p:nvPr/>
        </p:nvSpPr>
        <p:spPr>
          <a:xfrm>
            <a:off x="791676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12"/>
          <p:cNvSpPr/>
          <p:nvPr/>
        </p:nvSpPr>
        <p:spPr>
          <a:xfrm>
            <a:off x="9412200" y="1125360"/>
            <a:ext cx="733680" cy="733680"/>
          </a:xfrm>
          <a:prstGeom prst="ellipse">
            <a:avLst/>
          </a:prstGeom>
          <a:solidFill>
            <a:srgbClr val="dae3f3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72c4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бъект 2"/>
          <p:cNvSpPr/>
          <p:nvPr/>
        </p:nvSpPr>
        <p:spPr>
          <a:xfrm>
            <a:off x="1343160" y="2117880"/>
            <a:ext cx="2813040" cy="28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55a11"/>
                </a:solidFill>
                <a:latin typeface="Calibri"/>
              </a:rPr>
              <a:t>Разработка и реализация муниципальных программ воспитания и каникулярного отды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5"/>
          <p:cNvSpPr/>
          <p:nvPr/>
        </p:nvSpPr>
        <p:spPr>
          <a:xfrm>
            <a:off x="0" y="3527280"/>
            <a:ext cx="3252960" cy="31813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рганизация и проведение конкурсов, слетов, фестивалей и мероприятий детских ,молодежных общественных объединений,  органов ученического самоуправления, волонтерских отрядов, имеющих воспитательный потенц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7"/>
          <p:cNvSpPr/>
          <p:nvPr/>
        </p:nvSpPr>
        <p:spPr>
          <a:xfrm>
            <a:off x="3522600" y="3898800"/>
            <a:ext cx="2886120" cy="3179880"/>
          </a:xfrm>
          <a:prstGeom prst="rect">
            <a:avLst/>
          </a:prstGeom>
          <a:solidFill>
            <a:srgbClr val="ed7d31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уществления мониторинга профилактики безнадзорности и правонарушений несовершеннолетних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8"/>
          <p:cNvSpPr/>
          <p:nvPr/>
        </p:nvSpPr>
        <p:spPr>
          <a:xfrm>
            <a:off x="6637320" y="3817800"/>
            <a:ext cx="2886120" cy="3179880"/>
          </a:xfrm>
          <a:prstGeom prst="rect">
            <a:avLst/>
          </a:prstGeom>
          <a:solidFill>
            <a:srgbClr val="dbdbdb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Координация взаимодействия субъектов воспитания на территории муницип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20"/>
          <p:cNvSpPr/>
          <p:nvPr/>
        </p:nvSpPr>
        <p:spPr>
          <a:xfrm>
            <a:off x="973080" y="3267000"/>
            <a:ext cx="733320" cy="73368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72c4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21"/>
          <p:cNvSpPr/>
          <p:nvPr/>
        </p:nvSpPr>
        <p:spPr>
          <a:xfrm>
            <a:off x="4562640" y="371952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22"/>
          <p:cNvSpPr/>
          <p:nvPr/>
        </p:nvSpPr>
        <p:spPr>
          <a:xfrm>
            <a:off x="7710480" y="352260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3838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Важно отмети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Полилиния: фигура 4"/>
          <p:cNvSpPr/>
          <p:nvPr/>
        </p:nvSpPr>
        <p:spPr>
          <a:xfrm>
            <a:off x="984240" y="1579680"/>
            <a:ext cx="2279520" cy="3571920"/>
          </a:xfrm>
          <a:prstGeom prst="pie">
            <a:avLst/>
          </a:prstGeom>
          <a:gradFill rotWithShape="0">
            <a:gsLst>
              <a:gs pos="0">
                <a:srgbClr val="8faadc"/>
              </a:gs>
              <a:gs pos="100000">
                <a:srgbClr val="4472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олилиния: фигура 6"/>
          <p:cNvSpPr/>
          <p:nvPr/>
        </p:nvSpPr>
        <p:spPr>
          <a:xfrm rot="10800000">
            <a:off x="3908160" y="1579320"/>
            <a:ext cx="2354040" cy="3733560"/>
          </a:xfrm>
          <a:prstGeom prst="pie">
            <a:avLst/>
          </a:prstGeom>
          <a:gradFill rotWithShape="0">
            <a:gsLst>
              <a:gs pos="0">
                <a:srgbClr val="f4b183"/>
              </a:gs>
              <a:gs pos="100000">
                <a:srgbClr val="ed7d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олилиния: фигура 8"/>
          <p:cNvSpPr/>
          <p:nvPr/>
        </p:nvSpPr>
        <p:spPr>
          <a:xfrm>
            <a:off x="6805440" y="1579680"/>
            <a:ext cx="2581560" cy="3768480"/>
          </a:xfrm>
          <a:prstGeom prst="pie">
            <a:avLst/>
          </a:prstGeom>
          <a:gradFill rotWithShape="0">
            <a:gsLst>
              <a:gs pos="0">
                <a:srgbClr val="c9c9c9"/>
              </a:gs>
              <a:gs pos="100000">
                <a:srgbClr val="a5a5a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олилиния: фигура 10"/>
          <p:cNvSpPr/>
          <p:nvPr/>
        </p:nvSpPr>
        <p:spPr>
          <a:xfrm>
            <a:off x="9704520" y="1584360"/>
            <a:ext cx="2263680" cy="3289320"/>
          </a:xfrm>
          <a:prstGeom prst="pie">
            <a:avLst/>
          </a:prstGeom>
          <a:gradFill rotWithShape="0">
            <a:gsLst>
              <a:gs pos="0">
                <a:srgbClr val="ffd966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1" descr=""/>
          <p:cNvPicPr/>
          <p:nvPr/>
        </p:nvPicPr>
        <p:blipFill>
          <a:blip r:embed="rId1"/>
          <a:stretch/>
        </p:blipFill>
        <p:spPr>
          <a:xfrm>
            <a:off x="1746360" y="181620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2" descr=""/>
          <p:cNvPicPr/>
          <p:nvPr/>
        </p:nvPicPr>
        <p:blipFill>
          <a:blip r:embed="rId2"/>
          <a:stretch/>
        </p:blipFill>
        <p:spPr>
          <a:xfrm>
            <a:off x="4672080" y="1816200"/>
            <a:ext cx="560160" cy="56016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3" descr=""/>
          <p:cNvPicPr/>
          <p:nvPr/>
        </p:nvPicPr>
        <p:blipFill>
          <a:blip r:embed="rId3"/>
          <a:stretch/>
        </p:blipFill>
        <p:spPr>
          <a:xfrm>
            <a:off x="7569360" y="1816200"/>
            <a:ext cx="671400" cy="6714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4" descr=""/>
          <p:cNvPicPr/>
          <p:nvPr/>
        </p:nvPicPr>
        <p:blipFill>
          <a:blip r:embed="rId4"/>
          <a:stretch/>
        </p:blipFill>
        <p:spPr>
          <a:xfrm>
            <a:off x="10468080" y="1816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071720" y="2400480"/>
            <a:ext cx="148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терная модель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1108080" y="3368520"/>
            <a:ext cx="191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тивность и решение разноплановых зад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4091040" y="2400480"/>
            <a:ext cx="180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казатели и индикаторы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4305240" y="3587760"/>
            <a:ext cx="156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товые показатели для каждой О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6988320" y="2390760"/>
            <a:ext cx="2282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сурс своб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ие имеющихся ресурсов и поиск новых в практической реализации муниципальной программы воспит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1"/>
          <p:cNvSpPr/>
          <p:nvPr/>
        </p:nvSpPr>
        <p:spPr>
          <a:xfrm>
            <a:off x="9710640" y="2400480"/>
            <a:ext cx="214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ретиз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а роль муниципалитета и поставлены конкретные задачи в региональной системе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2"/>
          <p:cNvSpPr/>
          <p:nvPr/>
        </p:nvSpPr>
        <p:spPr>
          <a:xfrm>
            <a:off x="9977400" y="2789280"/>
            <a:ext cx="1484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0480" y="365040"/>
            <a:ext cx="11202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Обновление системы дополнительного образов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85760" y="1793520"/>
            <a:ext cx="8507520" cy="30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472c4"/>
                </a:solidFill>
                <a:latin typeface="Calibri"/>
              </a:rPr>
              <a:t>Задачи направлени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увеличение охвата дополнительным образованием детей (в том числе детей, проживающих в сельской местности, находящихся в трудной жизненной ситуации, детей с ограниченными возможностями здоровья (далее – ОВЗ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механизмов преемственности образовательных траекторий общего, профессионального, высшего образования с в дополнительным образование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обновление содержания, технологий и форматов дополнительного образования детей для удовлетворения индивидуальных запросов и решения задач социального и технологического развития регио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эффективной межведомственной системы управления развитием дополнительного образования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Рисунок 4" descr=""/>
          <p:cNvPicPr/>
          <p:nvPr/>
        </p:nvPicPr>
        <p:blipFill>
          <a:blip r:embed="rId1"/>
          <a:stretch/>
        </p:blipFill>
        <p:spPr>
          <a:xfrm>
            <a:off x="7743960" y="3100320"/>
            <a:ext cx="3757320" cy="37576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2f5597">
                <a:alpha val="40000"/>
              </a:srgbClr>
            </a:outerShdw>
          </a:effectLst>
        </p:spPr>
      </p:pic>
      <p:sp>
        <p:nvSpPr>
          <p:cNvPr id="289" name="Прямоугольник 5"/>
          <p:cNvSpPr/>
          <p:nvPr/>
        </p:nvSpPr>
        <p:spPr>
          <a:xfrm>
            <a:off x="10002960" y="5475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Средства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спользование потенциала неформального и информального образования (образовательный туризм, музейная и театральная педагогика, а также социальные медиа, блогинг и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нтеграция и сетевое взаимодействие общего и дополнительного образ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геймификация (образовательных игр)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Возможные проекты в развитии дополнительного образова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43000" y="1378080"/>
            <a:ext cx="1179504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включение в содержание дополнительных общеобразовательных программ всех направленностей модуля или воспитательного компонента, направленного на формирование у детей и молодежи общероссийской гражданской идентичности, патриотизма, гражданской ответственности, чувства гордости за историю России, воспитание культуры межнационального общения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азработка и внедрение организациями дополнительного образования детей программ воспит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еализация образовательных моделей, обеспечивающих применение получаемых знаний для решения актуальных проблем сообщества (хакатоны, практики, профориентационные каникулы, социально-значимые проекты, например, «Я – гражданин», Менторские КРУГ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07T08:34:05Z</dcterms:created>
  <dc:creator>User Obstinate</dc:creator>
  <dc:description/>
  <dc:language>en-US</dc:language>
  <cp:lastModifiedBy>user</cp:lastModifiedBy>
  <dcterms:modified xsi:type="dcterms:W3CDTF">2021-08-16T12:19:10Z</dcterms:modified>
  <cp:revision>21</cp:revision>
  <dc:subject/>
  <dc:title>Презентация PowerPoint</dc:title>
</cp:coreProperties>
</file>