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C6CB-16C0-45DC-8571-D7D1FB51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AFAD-2C11-439D-9BE2-3DAAFF71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1788-13D3-4920-9954-67713B22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7849-BA2D-4297-A2E5-A8A92DBE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6DF8-13A6-44A0-8187-995B96A6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9E6E-5640-486F-B09A-2671A878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0EF2-A059-4BF5-A09A-8DD8DD60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9523-271A-46B7-A1C0-E1FC666B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BBE7-4326-4325-8459-77824C45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27C9-239C-414E-9C17-A8A307B8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5A67-2DA2-479B-953F-CF7092D5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8CAF-0032-4ED5-B1D3-3EA8CB54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1F36-F84E-4396-85B4-C183A4005C8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nglishdom.com/" TargetMode="External"/><Relationship Id="rId2" Type="http://schemas.openxmlformats.org/officeDocument/2006/relationships/hyperlink" Target="https://www.englishdom.com/blog/25-interesnyx-zhurnalov-na-anglijskom-yazyke/" TargetMode="External"/><Relationship Id="rId3" Type="http://schemas.openxmlformats.org/officeDocument/2006/relationships/hyperlink" Target="https://www.englishdom.com/blog/podborka-sajtov-dlya-chteniya-na-anglijskom/" TargetMode="External"/><Relationship Id="rId4" Type="http://schemas.openxmlformats.org/officeDocument/2006/relationships/hyperlink" Target="https://www.englishdom.com/blog/rekomendacii-kak-ispolzovat-socialnye-seti-dlya-izucheniya-anglijskogo/" TargetMode="External"/><Relationship Id="rId5" Type="http://schemas.openxmlformats.org/officeDocument/2006/relationships/hyperlink" Target="https://www.englishdom.com/blog/podborka-memov-na-anglijskom/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uzzle-english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2 апреля 2021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</a:t>
            </a: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ебинар- консультация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«Предметная компетенция учителя английского языка: анализ результатов выполнения задания №1</a:t>
            </a: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егиональный проект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«Образовательный лифт: ШНОР»-2021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Предметная группа : учителя английского языка общеобразовательных учреждений Пермского края</a:t>
            </a: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.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(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Группа </a:t>
            </a:r>
            <a:r>
              <a:rPr b="1" lang="en-US" sz="1800" spc="-1" strike="noStrike">
                <a:solidFill>
                  <a:srgbClr val="c00000"/>
                </a:solidFill>
                <a:latin typeface="Arial Narrow"/>
              </a:rPr>
              <a:t>B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2-С2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)</a:t>
            </a: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уководитель группы: Тихомирова О.А., снс  отдела научно-методического сопровождения обще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ГАУ ДПО ИРО ПК 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oat_poipkro@mail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навыков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е чтение (15-20 минут в день) поможет расширить словарный запас, усвоить грамматические структуры, развить умение догадываться о значении слова из контекста. Читать нужно в особенности тем, кто лучше воспринимает информацию зрит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englishdom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П 10 сайтов для тренировки навыков чтения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3d464a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логе выходили стать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ТОП журналов на англий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ТОП сайтов для чтения книг разного уровня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Как учить английский в социальных се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Английский по мем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лексико- грамматических 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уемся на кодификатор  ЕГЭ-2021- раздел «Грамматическая сторона  речи », пункты 3.3.1.-3.3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 современные пособия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11280" y="1919160"/>
            <a:ext cx="8064360" cy="208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6300720" y="4113360"/>
            <a:ext cx="2374920" cy="241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3502080" y="4113360"/>
            <a:ext cx="2556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Типология заданий для самостоятельной работы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редметн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: Выполнение заданий по аудированию, чтению, переводу, письменной и устной(?)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.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Метод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Выполнение заданий по методике проектирования уроков/занятий, использовании  оптимальных приемов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сихолого- педагог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Анализ педагогических ситуаций  в образовательном проце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Задание №2. Методическая компетен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ы получите  на электронную почту записи двух уро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глийского языка, участников регионального конкурса «Учител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а- 2021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1 представлен учителем английского языка МБОУ №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Чайков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Чирковой Елизаветой Игоре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2 представлен учителем английского языка  МА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Ш № 87 г. Перм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Щипициным Александром Александрович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аша задача - посмотреть оба урока и их краткий анализ, затем выбрать один урок из двух предложенных и  ответить на вопросы по методическому сопровождению урока, которые также будут отправлены вам на почту вместе с записями уро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рок выполнения задания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0 ма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Региональный семинар для участников проекта «Образовательный лифт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: «Формирование у обучающихся мотивации к изучению иностранного языка: проблемы и реш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проведения: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9 апреля 202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ведения: МАОУ «СОШ № 65 с углубленным изучением английско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: г. Пермь, ул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овоградская, д.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ончание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роприятие проводится с соблюдением масочного режи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План мероприятий проекта ОЛ- ШН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268280"/>
          <a:ext cx="8229600" cy="5329440"/>
        </p:xfrm>
        <a:graphic>
          <a:graphicData uri="http://schemas.openxmlformats.org/drawingml/2006/table">
            <a:tbl>
              <a:tblPr/>
              <a:tblGrid>
                <a:gridCol w="3251160"/>
                <a:gridCol w="295128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очный семинар/ вебин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ы 1,2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3.202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ебинар-консультация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4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5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межуточн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ая конференция по проек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 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имерный формат итоговых работ участников </a:t>
            </a:r>
            <a:br>
              <a:rPr sz="2400"/>
            </a:b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оекта «Образовательный лифт:ШНОР-2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12536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1. Разработать систему разноуровневых заданий к блокам КИМ ВПР, ГИА, вызывающим наибольшие затруднения у обучаю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2. Разработать программу для самостоятельного повторения  материала и самоконтроля по предмету с использованием возможностей сети Интернет: образовательных платформ, сайтов, сообществ, отдельных ЦОР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3. Разработать программу внеурочной деятельности/ спецкурса/кружка/ др, направленную на повышение образовательного результата на уровне начального/ основного/ средне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4.  Описать обобщение  своего педагогического опыта по подготовке учащихся к  различным  внешним оценочным процедур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5.  Представить систему обучения учащихся с низким уровнем языковой подготовки и мотивации к изучению английского язы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6.  Представить систему удаленного обучения(на примере собственного опы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7.Друг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Задание: определиться с темой своей выпускной работы и сообщить название работы до 20 мая 2021 г.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СОСТАВ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ГРУППЫ (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B2-C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9280" y="44280"/>
          <a:ext cx="8785440" cy="6796080"/>
        </p:xfrm>
        <a:graphic>
          <a:graphicData uri="http://schemas.openxmlformats.org/drawingml/2006/table">
            <a:tbl>
              <a:tblPr/>
              <a:tblGrid>
                <a:gridCol w="360360"/>
                <a:gridCol w="1871640"/>
                <a:gridCol w="1873440"/>
                <a:gridCol w="431640"/>
                <a:gridCol w="2303640"/>
                <a:gridCol w="1944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ександрова Татья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3 Горнозавод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анисева Елена Александ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Ашапская СОШ Ордин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рецкая  Мари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оржавин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Орд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бурова Ин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Крупнова Софья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Серебрякова Анна Евген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СОШ 18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Белозерова Людмила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лых Анастасия Пав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5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Политова Татьяна Андр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еремных Ольг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ДООШ №1 КШ г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бря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Тимошенко Наталья Вита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2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Некрас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МАОУ СОШ №60 г. Перм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Шафранова Диана Викто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С.П. Кипринская школа-детский сад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Опишнян Еле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МАОУ Рябининская СОШ Чердынский  р-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0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Габдукаева Алина Рами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ерезниковская СОШ им. М.Г. Имашева Барды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антелеев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№16 г. Соли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Джумалиева Евгения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Заварыкина Татьяна Вале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МАОУ Юго-Камская СОШ Пер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Фахртдинова Динара Вахит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Штернберг Арина Ильинич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МАОУ Са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Жужгина Елена Анато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Первакова Екате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ускова Ма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2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Селиверстова Любовь Римов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ихсиева Лариса Ислам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дил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СОШ №11 г. Красно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Users\Tihomirova-OA\Downloads\b335b97551f9f797b1e88637e8323ec4.jpeg"/>
          <p:cNvPicPr/>
          <p:nvPr/>
        </p:nvPicPr>
        <p:blipFill>
          <a:blip r:embed="rId1"/>
          <a:stretch/>
        </p:blipFill>
        <p:spPr>
          <a:xfrm>
            <a:off x="0" y="412920"/>
            <a:ext cx="9144000" cy="64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В2 (Пороговый продвинутый уров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83628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доклады и лекции и содержащуюся в них даже сложную аргументацию, если тематика этих выступлений мне достаточно знакома. Я понимаю почти все новости и репортажи о текущих событиях. Я понимаю содержание большинства фильмов, если их герои говорят на литературном язы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статьи и сообщения по современной проблематике, авторы которых занимают особую позицию или высказывают особую точку зрения. Я понимаю современную художественную проз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з подготовки довольно свободно участвовать в диалогах с носителями изучаемого языка. Я умею принимать активное участие в дискуссии по знакомой мне проблеме, обосновывать и отстаивать свою точку зр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понятно и обстоятельно высказываться по широкому кругу интересующих меня вопросов. Я могу объяснить свою точку зрения по актуальной проблеме, высказывая все аргументы «за» и «проти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исать понятные подробные сообщения по широкому кругу интересующих меня вопросов. Я умею писать эссе или доклады, освещая вопросы или аргументируя точку зрения «за» или «против». Я умею писать письма, выделяя те события и впечатления, которые являются для меня особо важ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С1(Уровень профессионального владения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907560"/>
            <a:ext cx="8712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сообщения, даже если они имеют нечеткую логическую структуру и недостаточно выраженные смысловые связи. Я почти свободно понимаю все телевизионные программы и филь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большие сложные нехудожественные и художественные тексты, их стилистические особенности. Я понимаю также специальные статьи и технические инструкции большого объема, даже если они не касаются сферы мое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спонтанно и бегло, не испытывая трудностей в подборе слов, выражать свои мысли. Моя речь отличается разнообразием языковых средств и точностью их употребления в ситуациях профессионального и повседневного общения. Я умею точно формулировать свои мысли и выражать свое мнение, а также активно поддерживать любую бесе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онятно и обстоятельно излагать сложные темы, объединять в единое целое составные части, развивать отдельные положения и делать соответствующие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четко и логично выражать свои мысли в письменной форме и подробно .освещать свои взгляды. Я умею подробно излагать в письмах, сочинениях, докладах сложные проблемы, выделяя то, что мне представляется наиболее важным. Я умею использовать языковой стиль, соответствующий предполагаемому адреса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C2 (Уровень владения в совершенстве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любую разговорную речь при непосредственно или опосредованном общении. Я свободно понимаю речь носителя языка, говорящего в быстром темпе, если у меня есть возможность привыкнуть к индивидуальным особенностям его произно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все типы текстов, включая тексты абстрактного характера, сложные в композиционном или языковом отношении: инструкции, специальные статьи и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свободно участвовать в любом разговоре или дискуссии, владею разнообразными идиоматическими и разговорными выражениями. Я бегло высказываюсь и умею выражать любые оттенки значения. Если у меня возникают трудности в использовании языковых средств, я умею быстро и незаметно для окружающих перефразировать свое высказы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л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гло свободно и аргументированно высказываться, используя соответствующие языковые средства в зависимости от ситуации. Я умею логически построить свое сообщение таким образом, чтобы привлечь внимание слушателей и помочь им отметить и запомнить наиболее важные поло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логично и последовательно выражать свои мысли в письменной форме, используя при этом необходимые языковые средства. Я умею писать сложные письма, отчеты, доклады или статьи, которые имеют четкую логическую структуру, помогающую адресату отметить и запомнить наиболее важные моменты. Я умею писать резюме и рецензии как на работы профессионального характера, так и на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Спецификация задания №1 ( Предметная компетент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341360"/>
          <a:ext cx="8229600" cy="4824360"/>
        </p:xfrm>
        <a:graphic>
          <a:graphicData uri="http://schemas.openxmlformats.org/drawingml/2006/table">
            <a:tbl>
              <a:tblPr/>
              <a:tblGrid>
                <a:gridCol w="935280"/>
                <a:gridCol w="2736720"/>
                <a:gridCol w="1440000"/>
                <a:gridCol w="1295280"/>
                <a:gridCol w="1822320"/>
              </a:tblGrid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здел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ол-во зада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ах.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ип зад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р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и письм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, 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ка и лекс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зультаты выполнения задания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В составе группы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2-C1)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27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о  27 работ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100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правились со всеми заданиями 24 педагога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(89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Аудирование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00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ителей, выполнявших работу, справились с заданиями в разделах «Чтение» и «Грамматика и лекс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Письмо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Основные рекомендации для тренировки навыков ауд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8000" y="836640"/>
            <a:ext cx="885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 слушать  различные аудиоматериалы: аудиоуроки, подкасты, песни, фильмы и сериалы на английском языке (ориентируйтесь на свой уровень знаний). Главное — подобрать увлекательный для себя материал. Попробуйте пробудить в себе интере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егулярным занятиям, тогда заниматься им будет намного проще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puzzle-english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6-02T09:15:01Z</dcterms:modified>
  <cp:revision>884</cp:revision>
  <dc:subject/>
  <dc:title>Diapositiva 1</dc:title>
</cp:coreProperties>
</file>