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F86-4214-4616-A412-BAEDD802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3730-2B60-4EF4-8648-19AA8BE1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B01-73E2-4B1F-8765-6830EE70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7D1-BD33-40AB-9AAC-CBD6EB1B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809-2D71-4E78-B647-60A6DE28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4F35-838C-4400-9A57-C5960B7A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E7C-BB63-4CB3-A9F6-12D75649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DD3-E8C6-408E-A61B-D2DBE3D8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C389-7523-4F5C-AC40-41724151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3DF-97A8-48D0-A67D-10331831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031-5DF6-4BA8-BD04-6A27C55A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790-34CD-48C0-8011-1C524485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66EE-B4D9-4CD5-9665-5EB17FACDD5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nglishdom.com/" TargetMode="External"/><Relationship Id="rId2" Type="http://schemas.openxmlformats.org/officeDocument/2006/relationships/hyperlink" Target="https://www.englishdom.com/blog/25-interesnyx-zhurnalov-na-anglijskom-yazyke/" TargetMode="External"/><Relationship Id="rId3" Type="http://schemas.openxmlformats.org/officeDocument/2006/relationships/hyperlink" Target="https://www.englishdom.com/blog/podborka-sajtov-dlya-chteniya-na-anglijskom/" TargetMode="External"/><Relationship Id="rId4" Type="http://schemas.openxmlformats.org/officeDocument/2006/relationships/hyperlink" Target="https://www.englishdom.com/blog/rekomendacii-kak-ispolzovat-socialnye-seti-dlya-izucheniya-anglijskogo/" TargetMode="External"/><Relationship Id="rId5" Type="http://schemas.openxmlformats.org/officeDocument/2006/relationships/hyperlink" Target="https://www.englishdom.com/blog/podborka-memov-na-anglijskom/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uzzle-english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2 апреля 2021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</a:t>
            </a: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ебинар- консультация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«Предметная компетенция учителя английского языка: анализ результатов выполнения задания №1</a:t>
            </a: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Группа </a:t>
            </a:r>
            <a:r>
              <a:rPr b="1" lang="en-US" sz="1800" spc="-1" strike="noStrike">
                <a:solidFill>
                  <a:srgbClr val="c00000"/>
                </a:solidFill>
                <a:latin typeface="Arial Narrow"/>
              </a:rPr>
              <a:t>B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2-С2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)</a:t>
            </a: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навыков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чтение (15-20 минут в день) поможет расширить словарный запас, усвоить грамматические структуры, развить умение догадываться о значении слова из контекста. Читать нужно в особенности тем, кто лучше воспринимает информацию зр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englishdo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П 10 сайтов для тренировки навыков чтения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3d464a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оге выходили стать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ТОП журналов на англий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ТОП сайтов для чтения книг разного уровня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Как учить английский в социальных се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Английский по ме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лексико- грамматических 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уемся на кодификатор  ЕГЭ-2021- раздел «Грамматическая сторона  речи », пункты 3.3.1.-3.3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современные пособия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11280" y="1919160"/>
            <a:ext cx="806436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300720" y="4113360"/>
            <a:ext cx="2374920" cy="241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02080" y="4113360"/>
            <a:ext cx="2556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Типология заданий для самостоятельной работы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редметн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: Выполнение заданий по аудированию, чтению, переводу, письменной и устной(?)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.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Метод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Выполнение заданий по методике проектирования уроков/занятий, использовании  оптимальных прием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сихолого- педагог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Анализ педагогических ситуаций  в образовательн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Задание №2. Методическая компетен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 получите  на электронную почту записи двух ур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йского языка, участников регионального конкурса «Учи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- 2021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1 представлен учителем английского языка МБОУ №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Чайков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ирковой Елизаветой Игоре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2 представлен учителем английского языка  МА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Ш № 87 г. Перм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Щипициным Александром Александрови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аша задача - посмотреть оба урока и их краткий анализ, затем выбрать один урок из двух предложенных и  ответить на вопросы по методическому сопровождению урока, которые также будут отправлены вам на почту вместе с записями уро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рок выполнения задани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0 ма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Региональный семинар для участников проекта «Образовательный лиф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«Формирование у обучающихся мотивации к изучению иностранного языка: проблемы и реш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проведения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 апреля 202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ведения: МАОУ «СОШ № 65 с углубленным изучением англий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: г. Пермь, ул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оградская, д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нчание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оприятие проводится с соблюдением масочного режи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5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имерный формат итоговых работ участников </a:t>
            </a:r>
            <a:br>
              <a:rPr sz="2400"/>
            </a:b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оекта «Образовательный лифт:ШНОР-2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12536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Разработать систему разноуровневых заданий к блокам КИМ ВПР, ГИА, вызывающим наибольшие затруднения у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Разработать программу для самостоятельного повторения  материала и самоконтроля по предмету с использованием возможностей сети Интернет: образовательных платформ, сайтов, сообществ, отдельных ЦОР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3. Разработать программу внеурочной деятельности/ спецкурса/кружка/ др, направленную на повышение образовательного результата на уровне начального/ основного/ средн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4.  Описать обобщение  своего педагогического опыта по подготовке учащихся к  различным  внешним оценочным процеду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5.  Представить систему обучения учащихся с низким уровнем языковой подготовки и мотивации к изучению англий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6.  Представить систему удаленного обучения(на примере собственного опы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7.Друг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Задание: определиться с темой своей выпускной работы и сообщить название работы до 20 мая 2021 г.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СОСТАВ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ГРУППЫ (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B2-C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44280"/>
          <a:ext cx="8785440" cy="6796080"/>
        </p:xfrm>
        <a:graphic>
          <a:graphicData uri="http://schemas.openxmlformats.org/drawingml/2006/table">
            <a:tbl>
              <a:tblPr/>
              <a:tblGrid>
                <a:gridCol w="360360"/>
                <a:gridCol w="1871640"/>
                <a:gridCol w="1873440"/>
                <a:gridCol w="431640"/>
                <a:gridCol w="2303640"/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ександрова Татья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3 Горнозавод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анисева Елена Александ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Ашапская СОШ Ор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ецкая  Мари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оржавин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Орд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бурова Ин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Крупнова Софья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Серебрякова Анна Евген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СОШ 18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Белозерова Людмила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лых Анастасия Пав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5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олитова Татьяна Андр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ремных Ольг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ДООШ №1 КШ г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бря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Тимошенко Наталья Вита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2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Некрас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АОУ СОШ №60 г. Перм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Шафранова Диана Викто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С.П. Кипринская школа-детский сад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Опишнян Еле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МАОУ Рябининская СОШ Чердынский 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Габдукаева Алина Рами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ерезниковская СОШ им. М.Г. Имашева Барды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нтелеев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№16 г. Соли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Джумалиева Евгения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Заварыкина Татьяна Вале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МАОУ Юго-Камская СОШ Пер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Фахртдинова Динара Вахит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Штернберг Арина Ильини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МАОУ Са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Жужгина Елена Анато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Первакова Екате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ускова Ма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2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Селиверстова Любовь Римов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ихсиева Лариса Ислам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дил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СОШ №11 г. Красно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Users\Tihomirova-OA\Downloads\b335b97551f9f797b1e88637e8323ec4.jpeg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В2 (Пороговый продвинут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83628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доклады и лекции и содержащуюся в них даже сложную аргументацию, если тематика этих выступлений мне достаточно знакома. Я понимаю почти все новости и репортажи о текущих событиях. Я понимаю содержание большинства фильмов, если их герои говорят на литературном язы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статьи и сообщения по современной проблематике, авторы которых занимают особую позицию или высказывают особую точку зрения. Я понимаю современную художественную проз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з подготовки довольно свободно участвовать в диалогах с носителями изучаемого языка. Я умею принимать активное участие в дискуссии по знакомой мне проблеме, обосновывать и отстаивать свою точку з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понятно и обстоятельно высказываться по широкому кругу интересующих меня вопросов. Я могу объяснить свою точку зрения по актуальной проблеме, высказывая все аргументы «за» и «проти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исать понятные подробные сообщения по широкому кругу интересующих меня вопросов. Я умею писать эссе или доклады, освещая вопросы или аргументируя точку зрения «за» или «против». Я умею писать письма, выделяя те события и впечатления, которые являются для меня особо важ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С1(Уровень профессионального владения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907560"/>
            <a:ext cx="87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сообщения, даже если они имеют нечеткую логическую структуру и недостаточно выраженные смысловые связи. Я почти свободно понимаю все телевизионные программы и филь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большие сложные нехудожественные и художественные тексты, их стилистические особенности. Я понимаю также специальные статьи и технические инструкции большого объема, даже если они не касаются сферы мое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спонтанно и бегло, не испытывая трудностей в подборе слов, выражать свои мысли. Моя речь отличается разнообразием языковых средств и точностью их употребления в ситуациях профессионального и повседневного общения. Я умею точно формулировать свои мысли и выражать свое мнение, а также активно поддерживать любую бесе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онятно и обстоятельно излагать сложные темы, объединять в единое целое составные части, развивать отдельные положения и делать соответствующи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четко и логично выражать свои мысли в письменной форме и подробно .освещать свои взгляды. Я умею подробно излагать в письмах, сочинениях, докладах сложные проблемы, выделяя то, что мне представляется наиболее важным. Я умею использовать языковой стиль, соответствующий предполагаемому адреса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C2 (Уровень владения в совершенстве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любую разговорную речь при непосредственно или опосредованном общении. Я свободно понимаю речь носителя языка, говорящего в быстром темпе, если у меня есть возможность привыкнуть к индивидуальным особенностям его произ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все типы текстов, включая тексты абстрактного характера, сложные в композиционном или языковом отношении: инструкции, специальные статьи и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свободно участвовать в любом разговоре или дискуссии, владею разнообразными идиоматическими и разговорными выражениями. Я бегло высказываюсь и умею выражать любые оттенки значения. Если у меня возникают трудности в использовании языковых средств, я умею быстро и незаметно для окружающих перефразировать свое высказы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гло свободно и аргументированно высказываться, используя соответствующие языковые средства в зависимости от ситуации. Я умею логически построить свое сообщение таким образом, чтобы привлечь внимание слушателей и помочь им отметить и запомнить наиболее важные по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логично и последовательно выражать свои мысли в письменной форме, используя при этом необходимые языковые средства. Я умею писать сложные письма, отчеты, доклады или статьи, которые имеют четкую логическую структуру, помогающую адресату отметить и запомнить наиболее важные моменты. Я умею писать резюме и рецензии как на работы профессионального характера, так и на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пецификация задания №1 ( Предметная компетент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341360"/>
          <a:ext cx="8229600" cy="4824360"/>
        </p:xfrm>
        <a:graphic>
          <a:graphicData uri="http://schemas.openxmlformats.org/drawingml/2006/table">
            <a:tbl>
              <a:tblPr/>
              <a:tblGrid>
                <a:gridCol w="935280"/>
                <a:gridCol w="2736720"/>
                <a:gridCol w="1440000"/>
                <a:gridCol w="1295280"/>
                <a:gridCol w="182232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дел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-во зад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х.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р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пись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, 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и лекс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зультаты выполнения задания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В составе групп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-C1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7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о  27 работ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10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правились со всеми заданиями 24 педагога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(89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Аудирование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0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ителей, выполнявших работу, справились с заданиями в разделах «Чтение» и «Грамматика и лек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Письмо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сновные рекомендации для тренировки навыков ауд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83664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слушать  различные аудиоматериалы: аудиоуроки, подкасты, песни, фильмы и сериалы на английском языке (ориентируйтесь на свой уровень знаний). Главное — подобрать увлекательный для себя материал. Попробуйте пробудить в себе интере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гулярным занятиям, тогда заниматься им будет намного проще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puzzle-englis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6-02T09:15:01Z</dcterms:modified>
  <cp:revision>884</cp:revision>
  <dc:subject/>
  <dc:title>Diapositiva 1</dc:title>
</cp:coreProperties>
</file>