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3A92-EE60-4AED-973F-EA10534B5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E3F2-2903-4520-8DBD-5E4320AC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56B1-9999-4F4A-9425-B63F0352F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E8A2-1BAB-49E1-98D3-CDB4044E8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31FB-2AA1-4CE7-8035-9DCFC9BB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DC92-DD4C-4510-987C-DC7F03FEA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535-E21F-4EE2-AEE3-382F1164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EDFA-D2BF-4AA5-AB67-4F2F5E773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55B-07E6-4505-8B66-F51CD57E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CA83-A96D-4705-B302-EBB60FCF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AD43-10BB-4364-9FC1-16F8B93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4416-B4E9-4DBB-824E-887C960E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A6A93-89CB-4EAD-A4A7-411502F667F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nglishdom.com/" TargetMode="External"/><Relationship Id="rId2" Type="http://schemas.openxmlformats.org/officeDocument/2006/relationships/hyperlink" Target="https://www.englishdom.com/blog/25-interesnyx-zhurnalov-na-anglijskom-yazyke/" TargetMode="External"/><Relationship Id="rId3" Type="http://schemas.openxmlformats.org/officeDocument/2006/relationships/hyperlink" Target="https://www.englishdom.com/blog/podborka-sajtov-dlya-chteniya-na-anglijskom/" TargetMode="External"/><Relationship Id="rId4" Type="http://schemas.openxmlformats.org/officeDocument/2006/relationships/hyperlink" Target="https://www.englishdom.com/blog/rekomendacii-kak-ispolzovat-socialnye-seti-dlya-izucheniya-anglijskogo/" TargetMode="External"/><Relationship Id="rId5" Type="http://schemas.openxmlformats.org/officeDocument/2006/relationships/hyperlink" Target="https://www.englishdom.com/blog/podborka-memov-na-anglijskom/" TargetMode="Externa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puzzle-english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08720" cy="597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Arial Narrow"/>
              </a:rPr>
              <a:t>22 апреля 2021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</a:t>
            </a: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ебинар- консультация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374c81"/>
                </a:solidFill>
                <a:latin typeface="Arial"/>
              </a:rPr>
              <a:t>«Предметная компетенция учителя английского языка: анализ результатов выполнения задания №1</a:t>
            </a:r>
            <a:br>
              <a:rPr sz="2800"/>
            </a:b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егиональный проект </a:t>
            </a:r>
            <a:br>
              <a:rPr sz="1800"/>
            </a:b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«Образовательный лифт: ШНОР»-2021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 Предметная группа : учителя английского языка общеобразовательных учреждений Пермского края</a:t>
            </a:r>
            <a:r>
              <a:rPr b="1" lang="ru-RU" sz="2800" spc="-1" strike="noStrike">
                <a:solidFill>
                  <a:srgbClr val="374c81"/>
                </a:solidFill>
                <a:latin typeface="Arial Narrow"/>
              </a:rPr>
              <a:t>. 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(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Группа </a:t>
            </a:r>
            <a:r>
              <a:rPr b="1" lang="en-US" sz="1800" spc="-1" strike="noStrike">
                <a:solidFill>
                  <a:srgbClr val="c00000"/>
                </a:solidFill>
                <a:latin typeface="Arial Narrow"/>
              </a:rPr>
              <a:t>B</a:t>
            </a:r>
            <a:r>
              <a:rPr b="1" lang="ru-RU" sz="1800" spc="-1" strike="noStrike">
                <a:solidFill>
                  <a:srgbClr val="c00000"/>
                </a:solidFill>
                <a:latin typeface="Arial Narrow"/>
              </a:rPr>
              <a:t>2-С2</a:t>
            </a:r>
            <a:r>
              <a:rPr b="1" lang="ru-RU" sz="2800" spc="-1" strike="noStrike">
                <a:solidFill>
                  <a:srgbClr val="c00000"/>
                </a:solidFill>
                <a:latin typeface="Arial Narrow"/>
              </a:rPr>
              <a:t>)</a:t>
            </a:r>
            <a:br>
              <a:rPr sz="2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Руководитель группы: Тихомирова О.А., снс  отдела научно-методического сопровождения общего образования </a:t>
            </a:r>
            <a:br>
              <a:rPr sz="1800"/>
            </a:b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ГАУ ДПО ИРО ПК 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e-mail</a:t>
            </a:r>
            <a:r>
              <a:rPr b="1" lang="ru-RU" sz="1800" spc="-1" strike="noStrike">
                <a:solidFill>
                  <a:srgbClr val="374c81"/>
                </a:solidFill>
                <a:latin typeface="Arial Narrow"/>
              </a:rPr>
              <a:t>:</a:t>
            </a:r>
            <a:r>
              <a:rPr b="1" lang="en-US" sz="1800" spc="-1" strike="noStrike">
                <a:solidFill>
                  <a:srgbClr val="374c81"/>
                </a:solidFill>
                <a:latin typeface="Arial Narrow"/>
              </a:rPr>
              <a:t>oat_poipkro@mail.ru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навыков чт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е чтение (15-20 минут в день) поможет расширить словарный запас, усвоить грамматические структуры, развить умение догадываться о значении слова из контекста. Читать нужно в особенности тем, кто лучше воспринимает информацию зритель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englishdom.co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ОП 10 сайтов для тренировки навыков чтения</a:t>
            </a: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3d464a"/>
                </a:solidFill>
                <a:latin typeface="Times New Roman"/>
                <a:ea typeface="Times New Roman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логе выходили стать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ТОП журналов на английс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ТОП сайтов для чтения книг разного уровня слож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Как учить английский в социальных сет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44ad6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Английский по мем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комендации для тренировки </a:t>
            </a:r>
            <a:br>
              <a:rPr sz="2400"/>
            </a:b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лексико- грамматических  навы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уемся на кодификатор  ЕГЭ-2021- раздел «Грамматическая сторона  речи », пункты 3.3.1.-3.3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м современные пособия, в том чис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611280" y="1919160"/>
            <a:ext cx="8064360" cy="2087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6300720" y="4113360"/>
            <a:ext cx="2374920" cy="2411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3"/>
          <a:stretch/>
        </p:blipFill>
        <p:spPr>
          <a:xfrm>
            <a:off x="3502080" y="4113360"/>
            <a:ext cx="255600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Типология заданий для самостоятельной работы педаго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редметн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: Выполнение заданий по аудированию, чтению, переводу, письменной и устной(?)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.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Метод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Выполнение заданий по методике проектирования уроков/занятий, использовании  оптимальных приемов обу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III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</a:t>
            </a:r>
            <a:r>
              <a:rPr b="1" lang="ru-RU" sz="2400" spc="-1" strike="noStrike" u="sng">
                <a:solidFill>
                  <a:srgbClr val="025198"/>
                </a:solidFill>
                <a:uFillTx/>
                <a:latin typeface="Arial"/>
                <a:ea typeface="Times New Roman"/>
              </a:rPr>
              <a:t>Психолого- педагогическая компетентность</a:t>
            </a: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. Анализ педагогических ситуаций  в образовательном процесс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2519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Задание №2. Методическая компетент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50920" y="981000"/>
            <a:ext cx="86421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Вы получите  на электронную почту записи двух урок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глийского языка, участников регионального конкурса «Учитель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да- 2021»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1 представлен учителем английского языка МБОУ № 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Чайковск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Чирковой Елизаветой Игорев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ок №2 представлен учителем английского языка  МАО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Ш № 87 г. Перм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Щипициным Александром Александрович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аша задача - посмотреть оба урока и их краткий анализ, затем выбрать один урок из двух предложенных и  ответить на вопросы по методическому сопровождению урока, которые также будут отправлены вам на почту вместе с записями уро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рок выполнения задания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</a:rPr>
              <a:t>20 мая 202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Региональный семинар для участников проекта «Образовательный лиф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ма: «Формирование у обучающихся мотивации к изучению иностранного языка: проблемы и реш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а проведения: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9 апреля 202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 проведения: МАОУ «СОШ № 65 с углубленным изучением английского язы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: г. Пермь, ул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ровоградская, д. 5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0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кончание мероприятия: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.0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роприятие проводится с соблюдением масочного режим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25198"/>
                </a:solidFill>
                <a:latin typeface="Arial"/>
                <a:ea typeface="Times New Roman"/>
              </a:rPr>
              <a:t>План мероприятий проекта ОЛ- ШН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268280"/>
          <a:ext cx="8229600" cy="5329440"/>
        </p:xfrm>
        <a:graphic>
          <a:graphicData uri="http://schemas.openxmlformats.org/drawingml/2006/table">
            <a:tbl>
              <a:tblPr/>
              <a:tblGrid>
                <a:gridCol w="3251160"/>
                <a:gridCol w="2951280"/>
                <a:gridCol w="2027160"/>
              </a:tblGrid>
              <a:tr h="547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Мероприят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Врем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Calibri"/>
                        </a:rPr>
                        <a:t>Д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становочный семинар/ вебина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ы 1,2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5.03.2021г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№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4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Вебинар-консультация №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4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c00000"/>
                          </a:solidFill>
                          <a:latin typeface="Times New Roman"/>
                          <a:ea typeface="Calibri"/>
                        </a:rPr>
                        <a:t>25.06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ромежуточн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6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7.08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25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Вебинар-консультация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7.00-18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3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4.09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ый семинар/вебинар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1: 12.00-13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Группа 2: 13.00-14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1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2.10.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0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тоговая конференция по проекту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оябрь 20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имерный формат итоговых работ участников </a:t>
            </a:r>
            <a:br>
              <a:rPr sz="2400"/>
            </a:br>
            <a:r>
              <a:rPr b="1" lang="ru-RU" sz="2400" spc="-1" strike="noStrike">
                <a:solidFill>
                  <a:srgbClr val="025198"/>
                </a:solidFill>
                <a:latin typeface="Arial"/>
                <a:ea typeface="Times New Roman"/>
              </a:rPr>
              <a:t>проекта «Образовательный лифт:ШНОР-2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68360" y="1125360"/>
            <a:ext cx="8229600" cy="507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1. Разработать систему разноуровневых заданий к блокам КИМ ВПР, ГИА, вызывающим наибольшие затруднения у обучающихс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2. Разработать программу для самостоятельного повторения  материала и самоконтроля по предмету с использованием возможностей сети Интернет: образовательных платформ, сайтов, сообществ, отдельных ЦОР и др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3. Разработать программу внеурочной деятельности/ спецкурса/кружка/ др, направленную на повышение образовательного результата на уровне начального/ основного/ среднего обра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4.  Описать обобщение  своего педагогического опыта по подготовке учащихся к  различным  внешним оценочным процед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5.  Представить систему обучения учащихся с низким уровнем языковой подготовки и мотивации к изучению английского язы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6.  Представить систему удаленного обучения(на примере собственного опыт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7.Друг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  <a:ea typeface="Calibri"/>
              </a:rPr>
              <a:t>Задание: определиться с темой своей выпускной работы и сообщить название работы до 20 мая 2021 г.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СОСТАВ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74c81"/>
                </a:solidFill>
                <a:latin typeface="Arial"/>
              </a:rPr>
              <a:t>ГРУППЫ ( </a:t>
            </a:r>
            <a:r>
              <a:rPr b="1" lang="en-US" sz="2400" spc="-1" strike="noStrike">
                <a:solidFill>
                  <a:srgbClr val="374c81"/>
                </a:solidFill>
                <a:latin typeface="Arial"/>
              </a:rPr>
              <a:t>B2-C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44280"/>
          <a:ext cx="8785440" cy="6796080"/>
        </p:xfrm>
        <a:graphic>
          <a:graphicData uri="http://schemas.openxmlformats.org/drawingml/2006/table">
            <a:tbl>
              <a:tblPr/>
              <a:tblGrid>
                <a:gridCol w="360360"/>
                <a:gridCol w="1871640"/>
                <a:gridCol w="1873440"/>
                <a:gridCol w="431640"/>
                <a:gridCol w="2303640"/>
                <a:gridCol w="1944720"/>
              </a:tblGrid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Александрова Татья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3 Горнозавод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анисева Елена Александ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Ашапская СОШ Ордин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Урецкая  Мари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Коржавин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c788e"/>
                          </a:solidFill>
                          <a:latin typeface="Arial"/>
                        </a:rPr>
                        <a:t>МБОУ Орд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3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бурова Инн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р.п.Паш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Крупнова Софья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Серебрякова Анна Евген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СОШ 18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Белозерова Людмила Ю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лых Анастасия Пав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575d1"/>
                          </a:solidFill>
                          <a:latin typeface="Arial"/>
                        </a:rPr>
                        <a:t>МАОУ СОШ №1 г. Кунгу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5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Политова Татьяна Андр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1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Черемных Ольг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ДООШ №1 КШ г.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Добря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Тимошенко Наталья Вита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22268"/>
                          </a:solidFill>
                          <a:latin typeface="Arial"/>
                        </a:rPr>
                        <a:t>МБОУ ОСОШ №2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Некрас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МАОУ СОШ №60 г. Перм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Шафранова Диана Виктор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222268"/>
                          </a:solidFill>
                          <a:uFillTx/>
                          <a:latin typeface="Arial"/>
                        </a:rPr>
                        <a:t>С.П. Кипринская школа-детский сад г. Оче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Опишнян Елена Геннад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b6bcf"/>
                          </a:solidFill>
                          <a:latin typeface="Arial"/>
                        </a:rPr>
                        <a:t>МАОУ Рябининская СОШ Чердынский  р-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50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Габдукаева Алина Рамил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Березниковская СОШ им. М.Г. Имашева Барды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Пантелеева Наталья Игор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АОУ СОШ №16 г. Соли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65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Джумалиева Евгения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Заварыкина Татьяна Валер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 u="sng">
                          <a:solidFill>
                            <a:srgbClr val="1e4649"/>
                          </a:solidFill>
                          <a:uFillTx/>
                          <a:latin typeface="Arial"/>
                        </a:rPr>
                        <a:t>МАОУ Юго-Камская СОШ Пермский райо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Фахртдинова Динара Вахит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БОУ СОШ №16 с уиоп г. Лысь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Штернберг Арина Ильинич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МАОУ Са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4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Жужгина Елена Анатоль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b0f0"/>
                          </a:solidFill>
                          <a:latin typeface="Arial"/>
                        </a:rPr>
                        <a:t>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Первакова Екате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47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Кускова Марина Серге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2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Селиверстова Любовь Римов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262673"/>
                          </a:solidFill>
                          <a:latin typeface="Arial"/>
                        </a:rPr>
                        <a:t>МБОУ Сивинская СО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4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1e4649"/>
                          </a:solidFill>
                          <a:latin typeface="Arial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Рихсиева Лариса Исламо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МАОУ СОШ №15 г. Губах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Садилова Людмила Николаев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МБОУ СОШ №11 г. Краснокамс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D:\Users\Tihomirova-OA\Downloads\b335b97551f9f797b1e88637e8323ec4.jpeg"/>
          <p:cNvPicPr/>
          <p:nvPr/>
        </p:nvPicPr>
        <p:blipFill>
          <a:blip r:embed="rId1"/>
          <a:stretch/>
        </p:blipFill>
        <p:spPr>
          <a:xfrm>
            <a:off x="0" y="412920"/>
            <a:ext cx="9144000" cy="64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В2 (Пороговый продвинутый уровен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836280"/>
            <a:ext cx="864072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доклады и лекции и содержащуюся в них даже сложную аргументацию, если тематика этих выступлений мне достаточно знакома. Я понимаю почти все новости и репортажи о текущих событиях. Я понимаю содержание большинства фильмов, если их герои говорят на литературном язы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статьи и сообщения по современной проблематике, авторы которых занимают особую позицию или высказывают особую точку зрения. Я понимаю современную художественную проз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з подготовки довольно свободно участвовать в диалогах с носителями изучаемого языка. Я умею принимать активное участие в дискуссии по знакомой мне проблеме, обосновывать и отстаивать свою точку з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понятно и обстоятельно высказываться по широкому кругу интересующих меня вопросов. Я могу объяснить свою точку зрения по актуальной проблеме, высказывая все аргументы «за» и «против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исать понятные подробные сообщения по широкому кругу интересующих меня вопросов. Я умею писать эссе или доклады, освещая вопросы или аргументируя точку зрения «за» или «против». Я умею писать письма, выделяя те события и впечатления, которые являются для меня особо важны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Уровень С1(Уровень профессионального владения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24000" y="907560"/>
            <a:ext cx="87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развернутые сообщения, даже если они имеют нечеткую логическую структуру и недостаточно выраженные смысловые связи. Я почти свободно понимаю все телевизионные программы и филь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понимаю большие сложные нехудожественные и художественные тексты, их стилистические особенности. Я понимаю также специальные статьи и технические инструкции большого объема, даже если они не касаются сферы моей деятельност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спонтанно и бегло, не испытывая трудностей в подборе слов, выражать свои мысли. Моя речь отличается разнообразием языковых средств и точностью их употребления в ситуациях профессионального и повседневного общения. Я умею точно формулировать свои мысли и выражать свое мнение, а также активно поддерживать любую бесед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понятно и обстоятельно излагать сложные темы, объединять в единое целое составные части, развивать отдельные положения и делать соответствующие выво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четко и логично выражать свои мысли в письменной форме и подробно .освещать свои взгляды. Я умею подробно излагать в письмах, сочинениях, докладах сложные проблемы, выделяя то, что мне представляется наиболее важным. Я умею использовать языковой стиль, соответствующий предполагаемому адресат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C2 (Уровень владения в совершенстве) в видах речев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764640"/>
            <a:ext cx="822960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уд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любую разговорную речь при непосредственно или опосредованном общении. Я свободно понимаю речь носителя языка, говорящего в быстром темпе, если у меня есть возможность привыкнуть к индивидуальным особенностям его произнош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Чт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свободно понимаю все типы текстов, включая тексты абстрактного характера, сложные в композиционном или языковом отношении: инструкции, специальные статьи и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овор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ло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могу свободно участвовать в любом разговоре или дискуссии, владею разнообразными идиоматическими и разговорными выражениями. Я бегло высказываюсь и умею выражать любые оттенки значения. Если у меня возникают трудности в использовании языковых средств, я умею быстро и незаметно для окружающих перефразировать свое высказывани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ло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бегло свободно и аргументированно высказываться, используя соответствующие языковые средства в зависимости от ситуации. Я умею логически построить свое сообщение таким образом, чтобы привлечь внимание слушателей и помочь им отметить и запомнить наиболее важные полож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349"/>
              </a:spcBef>
              <a:buClr>
                <a:srgbClr val="c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исьм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умею логично и последовательно выражать свои мысли в письменной форме, используя при этом необходимые языковые средства. Я умею писать сложные письма, отчеты, доклады или статьи, которые имеют четкую логическую структуру, помогающую адресату отметить и запомнить наиболее важные моменты. Я умею писать резюме и рецензии как на работы профессионального характера, так и на художественные произвед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99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Спецификация задания №1 ( Предметная компетентност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539640" y="1341360"/>
          <a:ext cx="8229600" cy="4824360"/>
        </p:xfrm>
        <a:graphic>
          <a:graphicData uri="http://schemas.openxmlformats.org/drawingml/2006/table">
            <a:tbl>
              <a:tblPr/>
              <a:tblGrid>
                <a:gridCol w="935280"/>
                <a:gridCol w="2736720"/>
                <a:gridCol w="1440000"/>
                <a:gridCol w="1295280"/>
                <a:gridCol w="1822320"/>
              </a:tblGrid>
              <a:tr h="95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аздел работ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Кол-во заданий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Мах. бал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Тип задан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удир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тение и письм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, Р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амматика и лекс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98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en-US" sz="28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Times New Roman"/>
                <a:ea typeface="Times New Roman"/>
              </a:rPr>
              <a:t>Основные результаты выполнения задания №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 В составе группы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2-C1) </a:t>
            </a: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27 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педаг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лено  27 работ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(100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Справились со всеми заданиями 24 педагога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(89%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Аудирование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00%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чителей, выполнявших работу, справились с заданиями в разделах «Чтение» и «Грамматика и лек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 92%</a:t>
            </a:r>
            <a:r>
              <a:rPr b="0" lang="ru-RU" sz="24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телей справились с заданиями раздела «Письмо» ( 25 из 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4704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74c81"/>
                </a:solidFill>
                <a:latin typeface="Arial Narrow"/>
              </a:rPr>
              <a:t>Основные рекомендации для тренировки навыков ауд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8000" y="836640"/>
            <a:ext cx="885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улярно слушать  различные аудиоматериалы: аудиоуроки, подкасты, песни, фильмы и сериалы на английском языке (ориентируйтесь на свой уровень знаний). Главное — подобрать увлекательный для себя материал. Попробуйте пробудить в себе интере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регулярным занятиям, тогда заниматься им будет намного проще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www.puzzle-english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Tihomirova-OA</cp:lastModifiedBy>
  <dcterms:modified xsi:type="dcterms:W3CDTF">2021-06-02T09:15:01Z</dcterms:modified>
  <cp:revision>884</cp:revision>
  <dc:subject/>
  <dc:title>Diapositiva 1</dc:title>
</cp:coreProperties>
</file>