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156B-E527-489C-AF18-5AB85B1D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CBC2-DAF9-442B-8AA7-1D20F419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E9C38-2051-4E95-809E-F843643C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C1E59-7E19-452D-8A7E-12CFE68A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4DA69-979D-464F-8690-BE5A961A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6F572-B890-4976-AAFC-6993683F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56836-60E4-4316-9A11-EB3C1B4B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E1CE0-2B92-4289-B3F7-2FDFECF1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5E020-5691-4D0D-9F8C-DB443513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33D1F-B9AB-4745-92BD-7B1654D3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F50E9-6E95-44C9-A876-F2D330B2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F9F29-580A-4720-855A-4AF4C5DB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1B5A-D5A0-4D35-B461-EB45ADE0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791F6-FED3-4B54-8071-15164744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5BF8F-00C7-4AC2-9A46-5AE70B1B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E8357-7E1B-45FC-842B-9A5F73CC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25599-6363-4281-8F21-3AE3279A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099E9-C24A-4565-88D4-4BE2A3EC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67D20-0B1D-4778-B6F6-D596127B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67A9C-F676-45FA-99BC-9B9417FD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00E56-0D72-4C4F-B582-1334B0A7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FDD00-8F3A-496D-9963-AE32759A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AA04A-5648-4298-8E03-F9E96AF9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4415-64CF-44E3-BCFA-8BEDFCDF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5A13D-90EB-4C28-AAC3-ABF89366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F37B0-9527-49FB-84AF-2E4F1350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5E4D9-6187-4852-A806-EA1817B5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F7E1E-486C-4981-B2E1-BA8D5B23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31C48-0AE3-4EC2-91F4-4EF92A27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D0A05-3A5B-4D3B-A132-9811FEB0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E62E7-A952-4E96-899C-76D3CAA7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5F7CB-6272-46BB-97B4-C4596A85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5605E-BFCA-4623-94C7-0991AFE1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0F595-AA76-4391-A35D-3A311484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48FE-01B8-433B-9BEC-927E1B27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F6CFB-AC21-4B1F-9B56-C810F574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AEA87-0A18-4D4C-BD77-865674292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124BF-E48C-49CA-AA0B-3BB77DB4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36216-1501-464B-BAB3-451D05D7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E8083-6865-4460-952D-8BACCDFB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268F1-56C7-4959-B6E5-14A2F962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71478-B107-4750-ABA0-BDB41D37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19B28-D39D-440B-9A03-78A37674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E0DB0-85FC-4EED-9309-DFE6D0C2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34ED3-EA7A-4C59-B6A3-D7A578A4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3607-936D-4A5D-85C5-AF85A53C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D12D8-AB3F-4F4D-9DD6-02F7C3F2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8F6AD-9F70-46C6-BD87-F7F560D2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F2068-C215-4B45-B247-59E2A746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3A860-BBCF-433B-B005-ADF861AD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AE249-E90C-4249-B303-8065660F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1F9536-C6FC-4379-A7F8-BA63C3B6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002E9A-11D2-4255-A90E-15FEE0DB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539EA2-8908-4FCC-8DC7-1DFC7588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AC1B0E-E41A-4A02-898A-41659A8A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CDB7F6-5BBC-4D71-AC78-D0E4AEC1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0D93-21FB-44D3-99C8-B7DDD18C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DA2C52-8BE5-45AA-AF34-6A5A5D2B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67260F-2855-45C9-8FB9-96D25E1B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1E216C-6770-4506-AAB5-F19441DF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BE8F68-D919-43F2-88A4-5FCF8252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00541D-E72C-440F-979D-8BD652AE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D2B397-091A-449B-9D91-FA58A98F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8E01F-BAE9-473B-8353-572F081C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14AAB5-87DC-41E7-9E08-6E1D7952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F979A0-0219-4860-BC35-786FFEDC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D9EE1A-4C99-4501-B153-B28EA967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8104-56F9-4C71-88C9-9D515CE5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6677C0-85A5-47B1-9D6D-A7945FB2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A24B49-1577-4EA7-9784-CCC683DD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3AD3E2-84F4-4EBF-AEC5-30160606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A43370-FA38-4907-A706-FF341F03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66A901-6AA4-4E64-823E-368D1807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9ECAF0-3E8D-4D8B-A832-4DC806DE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828F46-E3B5-42F9-AB48-1BAED13E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F3F246-26C3-4DBC-A03D-3697939E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3B428E-715E-413D-89EE-667691E2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107AB9-D390-4E08-B49E-A6FEB82D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3E9E-D6FC-4848-B80E-1849C268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E651AB-6FFD-458D-8D15-903E5E20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BDECBC-0F43-48A7-B581-D813DC91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AEBF4F-13FB-424B-8C12-09836E5A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A1BD2E-A6A9-4726-A64C-7C36E0F8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FB4FA4-17ED-4671-B497-2A70804C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0CBC21-9794-4B1D-A7B4-397AB9A9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271166-12F0-42F3-BB9B-B014E2EC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AC9C2E-484D-4DDA-A876-8D4D9007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021ACD-59B5-4FF5-8F58-876520B0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0C4A1B-5048-4DB6-9656-D5A2218A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0074-0AEC-4675-9190-D7E9E798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BAF7B5-B9F7-4418-AB1B-553011E3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3FF02C-7985-44C9-A459-5248C25D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4410C7-5359-4B08-8BAD-048AE9BA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DDB5A5-DA3D-4D97-837B-C5639662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94ADEA-0BA3-42DF-9C3D-008AA4B5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93C00E-F705-4D5E-ABF1-141C631B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CB6177-30EB-4672-A51E-E7D4C538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72CA55-E469-456D-A5BE-A239D165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8FAF37-B18A-4C7E-9304-F9B71BAF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7D7E0C-80FC-4876-8018-A1BB0E34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A4D2-7DA3-42D4-955E-9D7C4C62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18C138-89FE-4649-A0B2-E257CABC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D5DD32-3380-46D2-B5DA-F390B69D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B01A94-DD4D-46D6-A7EE-B7E2D4C4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4D1164-FD90-4B1A-8A07-8D4A11B3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0E3DC3-3E0A-4D83-B9AC-B42F59E2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B80019-9E04-4EEA-A282-34A43904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0646AE-35E2-46F2-BF75-1BDE2198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D9D6E6-83CD-4686-ACCA-FB9E7D83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D30093-CC80-4BC4-8117-DE40FD29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9FD3EE-D0FA-4249-AE95-2607F849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3F84-1777-4AD8-A6D1-96A0EA0C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4764-C94B-4DDC-808E-79895A79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9E0BA2-091B-43D3-B9B2-D1DFF2F3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6906DE-5D61-4852-BD4E-94702AD5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9B99A2-0479-4E09-9C14-5F5B4129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B7411B-2EC0-4037-B69B-E2161CFC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FAF59B-3599-45CD-8C34-64896788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A8C04E-DBEC-4702-A55C-6864D433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550754-A406-43EF-8519-98197727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BE53E6-C1D0-4ECF-9717-A1405F68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CBDA89-6631-4E3A-AE9C-98E9E874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296FD8-9AD8-48E1-8E71-9C53927D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DBD6-0049-4B0F-AC45-875872A5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F988D4-4B43-407E-95D5-B47C8298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A82928-50D0-45A7-BF8C-66C8EAEF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E66D7A-7435-4AA2-8614-F08C0160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4DB2FC-DEBD-4541-8DA7-7C08F3F8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9F6491-A7F6-4491-A5DC-70A834E2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4C4A56-C7F3-4D47-A621-09F62066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DB9B59-7356-46C4-A809-7DC8416F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85CF-5632-4D14-82F4-7786EBCE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68B5-5CB0-464E-AB23-EF03DBD0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1D09-A477-46EB-A278-243F362E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DE5ED-1EDB-4F77-A0DB-D07A507F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D3029-481B-4D65-BACB-0B4E3C6B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1D8E7-C009-4A9A-9BEE-C95BC808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7EC83-5305-4064-96CC-3BA39C3B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ED452-3547-4C51-9284-05621E3F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9C7C-E0AC-4395-B4F8-5E61C71D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CB8A8-2A67-4086-AF74-46E5BFED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32CF6-F507-47AC-8CAD-ACFD6425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5ABBF-0EC2-4715-8BD5-0BC409FE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E2C83-BBB8-4500-AF69-5CD7A74B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A26A0-A929-40A6-BBD4-5045E456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B9C89-0BCB-4B02-BAC9-1520239C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315B5-5599-455F-B299-9D5BE14C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DBF1C-121C-43CE-9AE2-0300F5DB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0C5A7-0324-411A-AC63-918026D1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CE2A2-D247-4CAC-9F2F-09333E6E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9620-0C7C-4782-9F8C-861E0316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55D71-66C8-4FB7-BBC6-21CDEACD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BF953-A8A7-4E51-87A9-B6D29EE3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7D9B4-0D05-48E0-8DFE-439F401C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20156-8456-42A7-AA21-2F13F293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24CF5-BAFB-42B5-B480-DE6588D1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C664B-F2B4-42ED-BB43-0FB7EF10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E74A8-1FAB-4DE4-B3FB-05E04C3B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DC6E8-7835-44BC-87BE-F3249195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C64CA-D7A5-4654-8B64-B9A4EBB5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BD62F-DB58-45F1-8704-55DEE655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6EB-09C5-4D15-99E5-F62BD7C4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15CAF-DBA6-452D-B0CA-F7697171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E3153-717D-4875-B989-A72B8AFA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42597-7D37-415C-88DF-FDC38AE7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B13CD-4202-4318-91DB-5D4D9F44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512C9-8E09-483A-97F7-18CDA4EF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A12F5-02EF-4712-8502-763324B3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3D93D-2836-47EC-9101-03C2781D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0AD8B-F0FD-48CF-9C87-4C6C66F4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F3A64-2CCA-4C67-A781-C99C5BEF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F0F1A-6190-4FB8-98A1-4879785D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04F4-1941-41C2-8D19-E0449F62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F9FF2-E4BC-49C6-A0F5-7DC57E3D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39BD0-589B-451F-B1C2-9B39C8D37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E30D2-0F98-4D19-A0B6-F4F3EC20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4654F-E5E2-4099-B793-6D6726C4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CDFE9-088E-4D1A-A57B-A512D8CD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683E9-338C-456F-90B8-AF261090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2E8C5-8AD8-4DC7-9378-C048BB83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334AE-112A-4F5A-B939-973AAAA3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92B54-6DC7-49C7-A780-1045A5C8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D0E4C-DD7E-46E1-8841-C2FC8772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BBA3-496D-4C5B-B495-CF47969C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E2285-D604-48CA-82AA-32704764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8C7B2-3C95-4226-BB6F-A64457AD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AAD36-3E21-4EA8-8421-2D8F763B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D13DA-B4CB-45E9-83CF-53E9B000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9764C-2D86-48A6-A660-2FD1D43C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7E85F-84AF-4E47-BCDE-4E2D464B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15DC5-03A9-4965-BEC1-A98F44A2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93346-373C-44D5-9582-1C885E9D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E5CC2-C810-4D57-963C-083F38D6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9BFD2-7449-46E3-8C01-88EA4C6D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08AA-42B0-493E-BA46-281F95EB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8309D-DB37-4FCA-94BF-821D85DD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35ACD-9234-4021-9E6E-F38D1F52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283DE-BF9C-463A-8B63-54596F19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ABD32-E813-467D-8232-A9257AC0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A24E5-4BEF-4389-B4FD-0C5B51AA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166F4-D782-4856-ACC3-A8610267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8641D-C02A-4915-8250-A7D83E86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4208C-B2F0-4959-8C1F-9EA50316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AD455-2C8C-4223-8E0D-26D7ED72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E3276-59C2-4B84-9835-7C70DF91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9E9B-2165-450A-B539-8477FD26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18C7D-1422-4F25-9483-1F637BCF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0EB4B-DC3E-46E5-A5BB-FC0B313D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C1B1C-0A3D-4CE1-AC0E-50296CCC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48F25-4510-4E5A-AE96-614C59C6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B2868-771E-489F-A733-5E30C694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104BD-429B-4419-93F4-2BC65834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20405-47CC-4861-86A8-49FBDA6D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07CEC-0015-43D3-9DE7-47107952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1EB75-DE0B-46F7-BCF4-EADAE282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DA02F-80A7-4E56-853B-BAE7E59B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Скругленный прямоугольник 8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1E55-9392-4391-8C38-6ECDC4FD9170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38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F018-FAFC-4805-BB93-10653F5B3D1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3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1FCB-EE98-49FC-9C01-898A339D0E2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7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AE1E-01E4-41E3-A650-1F360C22859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2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3B53-17D5-48BE-8C87-E13FD09A521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6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76B4-2924-438A-B729-D83D092432A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1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CD0B-114A-421F-9FCE-7F016EAD059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5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1B0F-15E4-4934-9FC6-FBD3D339FF3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0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EBB3-DE36-41C9-A013-BAF0DD190E2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4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A075-39AB-41B2-8D14-5D955C06AC2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0272-73A8-400B-93E4-912DE0E478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999A-000A-4A81-A2FC-FE9A7FB1200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129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29F0-5523-4FF6-B718-C0DEC7843EB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3110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A6EE-7F8F-46ED-A38B-604C10EC3D0F}" type="slidenum">
              <a:rPr b="0" lang="ru-RU" sz="18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Скругленный прямоугольник 10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434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2558-40DC-4303-BE9D-B6B97FAF6B9A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2739-AA4C-4DCF-BAF9-C205940E6C47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3" y="0"/>
                </a:lnTo>
                <a:cubicBezTo>
                  <a:pt x="2295505" y="0"/>
                  <a:pt x="2324099" y="28594"/>
                  <a:pt x="2324099" y="63866"/>
                </a:cubicBezTo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8708-B34B-4BD1-8B36-98899580E359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0094-7085-4E20-9DCD-A39DB1D5FB6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ro.perm.ru/" TargetMode="External"/><Relationship Id="rId2" Type="http://schemas.openxmlformats.org/officeDocument/2006/relationships/hyperlink" Target="http://www.iro.perm.ru/" TargetMode="External"/><Relationship Id="rId3" Type="http://schemas.openxmlformats.org/officeDocument/2006/relationships/hyperlink" Target="http://www.iro.perm.ru/" TargetMode="External"/><Relationship Id="rId4" Type="http://schemas.openxmlformats.org/officeDocument/2006/relationships/hyperlink" Target="http://www.iro.perm.ru/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mailto:ozdip@list.ru" TargetMode="External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ocs.cntd.ru/document/zakon-rf-ob-obrazovanii-v-rossijskoj-federacii" TargetMode="External"/><Relationship Id="rId2" Type="http://schemas.openxmlformats.org/officeDocument/2006/relationships/hyperlink" Target="http://zakon-ob-obrazovanii.ru/" TargetMode="External"/><Relationship Id="rId3" Type="http://schemas.openxmlformats.org/officeDocument/2006/relationships/hyperlink" Target="http://zakon-ob-obrazovanii.ru/" TargetMode="External"/><Relationship Id="rId4" Type="http://schemas.openxmlformats.org/officeDocument/2006/relationships/hyperlink" Target="http://si-sv.com/publ/1/zdorovesberezhenie_na_uroke/14-1-0-74" TargetMode="External"/><Relationship Id="rId5" Type="http://schemas.openxmlformats.org/officeDocument/2006/relationships/hyperlink" Target="http://si-sv.com/publ/1/zdorovesberezhenie_na_uroke/14-1-0-74" TargetMode="External"/><Relationship Id="rId6" Type="http://schemas.openxmlformats.org/officeDocument/2006/relationships/hyperlink" Target="http://si-sv.com/publ/1/zdorovesberezhenie_na_uroke/14-1-0-74" TargetMode="External"/><Relationship Id="rId7" Type="http://schemas.openxmlformats.org/officeDocument/2006/relationships/hyperlink" Target="http://si-sv.com/publ/1/zdorovesberezhenie_na_uroke/14-1-0-74" TargetMode="External"/><Relationship Id="rId8" Type="http://schemas.openxmlformats.org/officeDocument/2006/relationships/hyperlink" Target="http://si-sv.com/publ/1/zdorovesberezhenie_na_uroke/14-1-0-74" TargetMode="External"/><Relationship Id="rId9" Type="http://schemas.openxmlformats.org/officeDocument/2006/relationships/hyperlink" Target="http://si-sv.com/publ/1/zdorovesberezhenie_na_uroke/14-1-0-74" TargetMode="External"/><Relationship Id="rId10" Type="http://schemas.openxmlformats.org/officeDocument/2006/relationships/hyperlink" Target="http://si-sv.com/publ/1/zdorovesberezhenie_na_uroke/14-1-0-74" TargetMode="External"/><Relationship Id="rId11" Type="http://schemas.openxmlformats.org/officeDocument/2006/relationships/hyperlink" Target="http://si-sv.com/publ/1/zdorovesberezhenie_na_uroke/14-1-0-74" TargetMode="External"/><Relationship Id="rId12" Type="http://schemas.openxmlformats.org/officeDocument/2006/relationships/hyperlink" Target="http://vopk.ru/view.php?event=levelxx_view&amp;a=5%7C72" TargetMode="External"/><Relationship Id="rId13" Type="http://schemas.openxmlformats.org/officeDocument/2006/relationships/hyperlink" Target="http://vopk.ru/view.php?event=levelxx_view&amp;a=5%7C72" TargetMode="External"/><Relationship Id="rId14" Type="http://schemas.openxmlformats.org/officeDocument/2006/relationships/hyperlink" Target="http://vopk.ru/view.php?event=levelxx_view&amp;a=5%7C72" TargetMode="External"/><Relationship Id="rId15" Type="http://schemas.openxmlformats.org/officeDocument/2006/relationships/hyperlink" Target="http://vopk.ru/view.php?event=levelxx_view&amp;a=5%7C72" TargetMode="External"/><Relationship Id="rId16" Type="http://schemas.openxmlformats.org/officeDocument/2006/relationships/hyperlink" Target="http://si-sv.com/publ/1/zdorovesberezhenie_na_uroke/14-1-0-74" TargetMode="External"/><Relationship Id="rId17" Type="http://schemas.openxmlformats.org/officeDocument/2006/relationships/hyperlink" Target="http://si-sv.com/publ/1/zdorovesberezhenie_na_uroke/14-1-0-74" TargetMode="External"/><Relationship Id="rId18" Type="http://schemas.openxmlformats.org/officeDocument/2006/relationships/hyperlink" Target="http://si-sv.com/publ/1/zdorovesberezhenie_na_uroke/14-1-0-74" TargetMode="External"/><Relationship Id="rId19" Type="http://schemas.openxmlformats.org/officeDocument/2006/relationships/hyperlink" Target="http://si-sv.com/publ/1/zdorovesberezhenie_na_uroke/14-1-0-74" TargetMode="External"/><Relationship Id="rId20" Type="http://schemas.openxmlformats.org/officeDocument/2006/relationships/hyperlink" Target="http://si-sv.com/publ/1/zdorovesberezhenie_na_uroke/14-1-0-74" TargetMode="External"/><Relationship Id="rId21" Type="http://schemas.openxmlformats.org/officeDocument/2006/relationships/hyperlink" Target="http://si-sv.com/publ/1/zdorovesberezhenie_na_uroke/14-1-0-74" TargetMode="External"/><Relationship Id="rId22" Type="http://schemas.openxmlformats.org/officeDocument/2006/relationships/hyperlink" Target="http://si-sv.com/publ/1/zdorovesberezhenie_na_uroke/14-1-0-74" TargetMode="External"/><Relationship Id="rId23" Type="http://schemas.openxmlformats.org/officeDocument/2006/relationships/hyperlink" Target="http://si-sv.com/publ/1/zdorovesberezhenie_na_uroke/14-1-0-74" TargetMode="External"/><Relationship Id="rId24" Type="http://schemas.openxmlformats.org/officeDocument/2006/relationships/hyperlink" Target="http://festival.1september.ru/articles/627448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health.iro.perm.ru/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-181080" y="765000"/>
            <a:ext cx="8637840" cy="288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Роль конкурса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«Учитель здоровья России»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в формировании культуры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здоровья педагогов и обучающихся: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пыт проведения в Пермском крае, 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роблемы и перспективы</a:t>
            </a:r>
            <a:br>
              <a:rPr sz="2800"/>
            </a:br>
            <a:endParaRPr b="1" lang="en-US" sz="24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108000" y="4122720"/>
            <a:ext cx="5400720" cy="2735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Лядова Наталья Владимир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к.мед.наук, вед. научн.сотруд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ГАУ ДПО «Институт развития образования Пермского кра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iro.perm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Пермь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4" descr="F:\USERS\МАМА\Files - МАМА\А 2014\Конференция в Новосибирске\permskkrai-1.jpg"/>
          <p:cNvPicPr/>
          <p:nvPr/>
        </p:nvPicPr>
        <p:blipFill>
          <a:blip r:embed="rId5"/>
          <a:stretch/>
        </p:blipFill>
        <p:spPr>
          <a:xfrm>
            <a:off x="6948360" y="0"/>
            <a:ext cx="2195640" cy="2179800"/>
          </a:xfrm>
          <a:prstGeom prst="rect">
            <a:avLst/>
          </a:prstGeom>
          <a:ln w="0">
            <a:noFill/>
          </a:ln>
        </p:spPr>
      </p:pic>
      <p:pic>
        <p:nvPicPr>
          <p:cNvPr id="791" name="Рисунок 5" descr="набережная.jpg"/>
          <p:cNvPicPr/>
          <p:nvPr/>
        </p:nvPicPr>
        <p:blipFill>
          <a:blip r:embed="rId6"/>
          <a:stretch/>
        </p:blipFill>
        <p:spPr>
          <a:xfrm>
            <a:off x="5580000" y="3716280"/>
            <a:ext cx="3341880" cy="2808360"/>
          </a:xfrm>
          <a:prstGeom prst="rect">
            <a:avLst/>
          </a:prstGeom>
          <a:ln w="0">
            <a:noFill/>
          </a:ln>
        </p:spPr>
      </p:pic>
      <p:pic>
        <p:nvPicPr>
          <p:cNvPr id="792" name="Рисунок 1" descr=""/>
          <p:cNvPicPr/>
          <p:nvPr/>
        </p:nvPicPr>
        <p:blipFill>
          <a:blip r:embed="rId7"/>
          <a:stretch/>
        </p:blipFill>
        <p:spPr>
          <a:xfrm>
            <a:off x="0" y="0"/>
            <a:ext cx="18860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конкурса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0" y="112536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Затруднения конкурса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цели и задачи, которых в конспектах порой очень много, являются общими, не конкретными к представляемому урок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цель не соответствует ожидаемым результат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жидаемые результаты представлены общими словами, которые можно отнести к изучению предмета в целом, а не к конкретному уро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достаточно представлены здоровьесберегающие образовательные технологии, есть лишь некоторые приемы снятия позостатического напря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имеет место неправильное отнесение метапредметных, предметных и личностных результатов к соответствующей группе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писываемая деятельность учеников является исполнительской, а не учебн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в работах отсутствует оценивание достигнутых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в ряде работ тренеров-преподавателей, учителей физической культуры вообще нет акцента на здоровьесбережение во время урока и воспитательного компонента в плане повышения мотивации детей следовать правилам ЗОЖ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правильно оформленный список литературы, порой старой, небольшой перечень или его отсу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06560" y="0"/>
            <a:ext cx="8137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в организации, проведении Конкур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ники: вмес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учителя общеобразовательных организаций, тренеры, преподаватели дополнительного, общего и профессионального образования»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писать: 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«учителя и педагоги общеобразовательных организаций, педагоги дополнительного образования, преподаватели среднего профессионального образова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Лучшему пониманию педагогом того, каким должен быть его План-конспект урока/занятия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 правильнее –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Технологическая карта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, представляемых на конкурс, будут способствовать четкие критерии и их показат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едставление-характеристика с  описываемой в ней здоровьесберегающей деятельностью педагога, сведения о конкурсанте в Информационной карте тоже должны войти в список критери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831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едлагаем такой вариант критериев: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08000" y="980640"/>
            <a:ext cx="903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оформления и содержания технологической карты или плана-конспекта урока/занятия (Максим. 17 баллов). Заочный т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Дидактическое оформление технологической карты/плана-конспекта урока/занятия  (0-3 бал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. обоснованность темы и выбора содержания в контексте заявленной пробл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. грамотное дидактическое оформление плана конспек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. вариативность методического инструментария в достижении планируемых результатов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2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держание соответствует теме, включает воспитательный компонент по формированию культуры ЗОЖ, здоровьесберегающие технологии (0-3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1. глубина и оригинальность раскрытия 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2. инновационные организационные формы и здоровьесберегающие образовательные технологии на уро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3. здоровьесберегающий режим урока, воспитательный компонен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84000" y="115920"/>
            <a:ext cx="84596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Оригинальность используемых приемов, форм в достижении и оценивании результатов (0-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1. достижение заявленных личностных/ метапредметных/предметных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2. оценивание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3. рефлекс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Использованная литература (0- 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1. правильность оформления списк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2. широт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3. новизна источ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Характеристика (0-5 баллов)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Систематичность проведения пропаганды ЗОЖ среди обучающихся в урочной и внеурочной деятельности; удовлетворенность родителей; публикации, разработка и издание методических рекомендаций, пособий; участие педагога в конкурсах, посвященных сохранению и укреплению здоровья и ЗОЖ,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ВСЕГО бал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имеч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конкурсных мероприятий. Очный ту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0" y="981000"/>
            <a:ext cx="9036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Фрагмент урока, внеклассного занятия. Регламент 25 минут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 Максимальное количество баллов – 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лубина содержания и оригинальность форм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армоничная интеграция вопросов здоровья и предметного содержания, воспитательный компонент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спользование здоровьесберегающих образовательных технологий, деятельностной основы учебной работ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Здоровьесберегающий режим урока, занятия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Результативность урока, занятия (соответствие достигнутых результатов заявленной цели, оценивание результатов, рефлексия)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6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Коммуникативная культура педагога, способность к импровизации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того за фрагмент уро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9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Прямоугольник 1"/>
          <p:cNvSpPr/>
          <p:nvPr/>
        </p:nvSpPr>
        <p:spPr>
          <a:xfrm>
            <a:off x="0" y="1890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SimSun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SimSun"/>
              </a:rPr>
              <a:t>Таким образом, участие в конкурсе «Учитель здоровья России» помогает учител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амому быть примером ведения здорового образа жизни, «заражает» других коллег стать участником Конкурса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троить свои уроки по-новому, создавая условия для эффективной учебной работы учеников без раннего и выраженного утомления, стрессирования, сохраняя на протяжении всего урока и учебного дня интерес и понимание детей, их высокую умственную работоспособность и хорошее настро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А это и есть здоров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Рисунок 3" descr="jat2uj15ohk_Preview.jpg"/>
          <p:cNvPicPr/>
          <p:nvPr/>
        </p:nvPicPr>
        <p:blipFill>
          <a:blip r:embed="rId1"/>
          <a:stretch/>
        </p:blipFill>
        <p:spPr>
          <a:xfrm>
            <a:off x="755640" y="4437000"/>
            <a:ext cx="3600360" cy="2702160"/>
          </a:xfrm>
          <a:prstGeom prst="rect">
            <a:avLst/>
          </a:prstGeom>
          <a:ln w="0">
            <a:noFill/>
          </a:ln>
        </p:spPr>
      </p:pic>
      <p:pic>
        <p:nvPicPr>
          <p:cNvPr id="842" name="Рисунок 5" descr="Рисунок1.jpg"/>
          <p:cNvPicPr/>
          <p:nvPr/>
        </p:nvPicPr>
        <p:blipFill>
          <a:blip r:embed="rId2"/>
          <a:stretch/>
        </p:blipFill>
        <p:spPr>
          <a:xfrm>
            <a:off x="5003640" y="4367160"/>
            <a:ext cx="3594240" cy="2490840"/>
          </a:xfrm>
          <a:prstGeom prst="rect">
            <a:avLst/>
          </a:prstGeom>
          <a:ln w="0">
            <a:noFill/>
          </a:ln>
        </p:spPr>
      </p:pic>
      <p:pic>
        <p:nvPicPr>
          <p:cNvPr id="843" name="Рисунок 1" descr=""/>
          <p:cNvPicPr/>
          <p:nvPr/>
        </p:nvPicPr>
        <p:blipFill>
          <a:blip r:embed="rId3"/>
          <a:stretch/>
        </p:blipFill>
        <p:spPr>
          <a:xfrm>
            <a:off x="-228600" y="1764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Перспективы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0" y="907920"/>
            <a:ext cx="914400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Конкурсу бы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на всех уровн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от институциального до всероссийског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одумать соотнесение двух конкурсов «Учитель здоровья России» и «Школа – территория здоровь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идать более современное звучание Положению о Конкур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6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17480" cy="1439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6" descr="D:\USERS\Бабуся\Pictures\ПОИПКРО, ПКИПКРО, ЦРО, ИРО ПК\Учитель здоровья 2013\IMG_3376 - копия.JPG"/>
          <p:cNvPicPr/>
          <p:nvPr/>
        </p:nvPicPr>
        <p:blipFill>
          <a:blip r:embed="rId2"/>
          <a:stretch/>
        </p:blipFill>
        <p:spPr>
          <a:xfrm>
            <a:off x="3419640" y="4765680"/>
            <a:ext cx="2790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Здоровье обучающихся – э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3927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одна из целей педагогического процесс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редство повышения качества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критерий эффективности деятельности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Рисунок 7" descr="sm.jpg"/>
          <p:cNvPicPr/>
          <p:nvPr/>
        </p:nvPicPr>
        <p:blipFill>
          <a:blip r:embed="rId1"/>
          <a:stretch/>
        </p:blipFill>
        <p:spPr>
          <a:xfrm>
            <a:off x="4643280" y="1125360"/>
            <a:ext cx="3345120" cy="22291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5" descr="lechebnay-fizkultura-krasnoyarsk-bubnovskiy"/>
          <p:cNvPicPr/>
          <p:nvPr/>
        </p:nvPicPr>
        <p:blipFill>
          <a:blip r:embed="rId2"/>
          <a:stretch/>
        </p:blipFill>
        <p:spPr>
          <a:xfrm>
            <a:off x="4356000" y="3429000"/>
            <a:ext cx="2251080" cy="29415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" descr="Территория здоровья"/>
          <p:cNvPicPr/>
          <p:nvPr/>
        </p:nvPicPr>
        <p:blipFill>
          <a:blip r:embed="rId3"/>
          <a:stretch/>
        </p:blipFill>
        <p:spPr>
          <a:xfrm>
            <a:off x="6877080" y="4489560"/>
            <a:ext cx="2266920" cy="180324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1" descr=""/>
          <p:cNvPicPr/>
          <p:nvPr/>
        </p:nvPicPr>
        <p:blipFill>
          <a:blip r:embed="rId4"/>
          <a:stretch/>
        </p:blipFill>
        <p:spPr>
          <a:xfrm>
            <a:off x="-181080" y="104760"/>
            <a:ext cx="172872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0" y="1267920"/>
            <a:ext cx="90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Министерство образования и нау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Пермского кра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obr.permkrai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ГАУ ДПО «Институт развития образования Пермского края», Отдел сопровождения ФГОС. Тел. 8(342)212 21 99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ozdip@list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Лядова Наталья Владимиров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ый закон «Об образовании в Российской Федерации» (с изменениями 2018 года)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zakon-ob-obrazovanii.r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нПиН 2.4.2.2821-10 «Санитарно-эпидемиологические требования к условиям и организации обучения в общеобразовательных организациях. Санитарно-эпидемиологические правила и нормативы» с изменениями от 24 ноября 2015 год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http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://xn--80abucjiibhv9a.xn--p1ai/%D0%B4%D0%BE%D0%BA%D1%83%D0%BC%D0%B5%D0%BD%D1%82%D1%8B/1136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из проведения урока с позиции здоровьесбережения [Электронный ресурс] – Режим доступа:  http:// school6nojabrsk.narod. ru (дата обращения: 11.04.2012). Источник: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si-sv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ubl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1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zdorovesberezhenie_na_uroke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рхин В. Учитесь на здоровье: Здоровьеориентированный образовательный процесс на уроке / Владимир Ирхин, Ирина Ирхина. – М.: Чистые пруды, 2008. – 32 с. – (Библиотечка «Первого сентября», серия «Здоровье детей». Вып. 2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.М.Безруких «Методические рекомендации по оценке состояния здоровья, учебной и внеучебной нагрузки, организации учебного процесса в 1, 10 классах при проведении широкомасштабного эксперимента (блок физиологического и психо-физиологического сопровождения эксперимента)», 200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Пастухова О.М., Гарсиа Э.Н. Мониторинг здоровья учащихся: Методическое пособие. – Пермь: ПОИПКРО, 2007 – 4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 Оценка деятельности общеобразовательного учреждения по сохранению и укреплению здоровья учащихся методическое пособие. – Пермь: ОТ и ДО, 2010. – 2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Кокшаров В.Л. Результаты мониторинговых исследований состояния здоровьесберегающей среды в общеобразовательных организациях Пермского края. Электронный журнал «Вестник образования Пермского края». Вып. №.5.1.1 от 07.05.2015. Р.6.1.1., 22 с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vopk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/view.php?event=levelxx_view&amp;a=5|7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Здоровьесберегающие образовательные технологии в работе учителя и школы. – М.: АРКТИ, 2003. – 271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Руководство по здоровьесберегающей педагогике. Технологии здоровьесберегающего образования.  М.: АРКТИ, 2008.  288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ы здоровья России : принципы и организация работы. Мониторинг развития и эффективность / В.Р.Кучма, Л.М Сухарева, И.К.Рапопорт и др.; под ред. В.Р.Кучмы. – М. : Просвещение, 2012. – 235 с. – (Работаем по новым стандартам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а здоровья [Электронный ресурс] – Режим доступа: http://Schools.Keldysh.ru (дата обращения: 11.04.2012)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Источник: 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:/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si-sv.com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publ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/1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zdorovesberezhenie_na_uroke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годкина Е.Б. Приемы здоровьесбережения на уроках.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http://festival.1september.ru/articles/627448/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2800" y="15840"/>
            <a:ext cx="82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«Чтобы сделать ребенка умным и рассудительным – сделайте ег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крепким и здоровым» </a:t>
            </a: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/Жан Жак Руссо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5" name="Рисунок 3" descr="john-jacques-rousseau-i4.jpg"/>
          <p:cNvPicPr/>
          <p:nvPr/>
        </p:nvPicPr>
        <p:blipFill>
          <a:blip r:embed="rId1"/>
          <a:stretch/>
        </p:blipFill>
        <p:spPr>
          <a:xfrm>
            <a:off x="3995640" y="476280"/>
            <a:ext cx="1728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Calibri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9" name="Содержимое 5" descr="Счастье 3.jpg"/>
          <p:cNvPicPr/>
          <p:nvPr/>
        </p:nvPicPr>
        <p:blipFill>
          <a:blip r:embed="rId1"/>
          <a:stretch/>
        </p:blipFill>
        <p:spPr>
          <a:xfrm>
            <a:off x="1238400" y="1849320"/>
            <a:ext cx="66672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Пермском крае накоплен большой опыт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решении вопросов здоровьесбережения школьник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9067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здана сеть школ, содействующих здоровь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одятся краевые этапы всероссийских конкурсов «Школа – территория здоровья» (2005-2011, 2018), «Учитель здоровья России» (2011-2014, 2018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едено 15 краевых НПК  «Здоровье и образовани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пробирована единая система мониторинга здоровьесберегающей среды в ОО Пермского края с использованием разработанного в ИРО ПК Web-ресурса – сайт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duhealth.iro.perm.ru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 «Школьное здоровье», 2014 г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Рисунок 6" descr="IMG_3362.JPG"/>
          <p:cNvPicPr/>
          <p:nvPr/>
        </p:nvPicPr>
        <p:blipFill>
          <a:blip r:embed="rId2"/>
          <a:stretch/>
        </p:blipFill>
        <p:spPr>
          <a:xfrm>
            <a:off x="6659640" y="1052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2016360" cy="1511640"/>
          </a:xfrm>
          <a:prstGeom prst="rect">
            <a:avLst/>
          </a:prstGeom>
          <a:ln w="0">
            <a:noFill/>
          </a:ln>
        </p:spPr>
      </p:pic>
      <p:pic>
        <p:nvPicPr>
          <p:cNvPr id="80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25200" y="333360"/>
            <a:ext cx="8218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В рамках проекта Министерства просвещения РФ «Внедрение в общеобразовательных организациях системы мониторинга здоровья обучающихся на основе отечественной технологической платформ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0" y="112536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создан Региональный центр мониторинга здоровья обучающихся с ОВЗ, октябрь 2017 г.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10 школ, осуществляющих образовательную деятельность по адаптированным основным общеобразовательным программам, участвующих в реализации этого проекта в рамках подпрограммы Российской Федерации «Развитие фармацевтической и медицинской промышленности» на 2013-2020 годы» в 2017 году получили современное оборудование для мониторинга здоровья обучающихся с особыми образовательными потребностями, и сотрудники прошли повышение квалификации по вопросам внедрения системы мониторинга здоровья обучаю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Прямоугольник 1"/>
          <p:cNvSpPr/>
          <p:nvPr/>
        </p:nvSpPr>
        <p:spPr>
          <a:xfrm>
            <a:off x="826920" y="333360"/>
            <a:ext cx="83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реализуются мероприятия по формированию здорового образа жизни обучающихся и педагогов образовательных организаций Пермского края, утвержденные Минобром ПК на 2017-2018 учебный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Для комплексного решения проблем здоровья школьников в Пермском крае разрабатывается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региональная модель здоровьесберегающего общ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2"/>
          <p:cNvSpPr/>
          <p:nvPr/>
        </p:nvSpPr>
        <p:spPr>
          <a:xfrm>
            <a:off x="179280" y="3357720"/>
            <a:ext cx="896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0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–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модернизация образователь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бщеобразовательных организаций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снове создания и развития здоровьесберегающей среды, направленной на содействие здоровью в контексте требований ФГОС и в условиях внедрения ВФСК Г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Рисунок 3" descr="cel.jpg"/>
          <p:cNvPicPr/>
          <p:nvPr/>
        </p:nvPicPr>
        <p:blipFill>
          <a:blip r:embed="rId1"/>
          <a:stretch/>
        </p:blipFill>
        <p:spPr>
          <a:xfrm>
            <a:off x="108000" y="3860640"/>
            <a:ext cx="1944720" cy="110988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Роль Конкурса «Учитель здоровья России-2018» в приобщении педагогов к делу воспитания культуры здоровья педагогов и обучающихся видится в следующ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0" y="119664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едагоги не остались равнодушными к вопросам формирования культуры здоровья школьников и поучаствовали в этом Конкур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е, кто поучаствовал, показали свое желание и умение гармонично включать в содержание учебного материала по своему предмету вопросы формирования культуры здорового образа жизни и применять здоровьесберегающие подходы в ходе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очном этапе Конкурса педагог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системно-деятельност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дход к обучению, ставили и достиг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цели по развитию личностных, метапредмет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ных УУД и предметных умен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хорошую коммуникативную культу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Picture 6" descr="Рисунок11"/>
          <p:cNvPicPr/>
          <p:nvPr/>
        </p:nvPicPr>
        <p:blipFill>
          <a:blip r:embed="rId1"/>
          <a:stretch/>
        </p:blipFill>
        <p:spPr>
          <a:xfrm>
            <a:off x="6300720" y="3716280"/>
            <a:ext cx="2843280" cy="2127240"/>
          </a:xfrm>
          <a:prstGeom prst="rect">
            <a:avLst/>
          </a:prstGeom>
          <a:ln w="0">
            <a:noFill/>
          </a:ln>
        </p:spPr>
      </p:pic>
      <p:pic>
        <p:nvPicPr>
          <p:cNvPr id="811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0" y="95256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«Самоанализе мероприятия» конкурсанты показали умение видеть свои недостатки, ошибки и их причины, не бояться сказать о 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творческой презентации «Я – учитель здоровья» представили положительный опыт своей продолжительной и системной работы по формированию культуры здоровья обучающихся, наличие результатов по сохранению и улучшению здоровья детей, по формированию мотивации у детей следовать правилам ЗОЖ, показали свою приверженность ЗОЖ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акие учителя по праву достойны называться учителями здоровья и быть примером для коллег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55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Общим положительным результатом Конкурса-2018 для участвовавших в нём педагогов является то, ч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0" y="764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каждый участник  заочного тура повысил свою компетентность и получил опыт представления результатов педагогической деятельности, в том числе, в направлении формирования здорового образа жизни обучаю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ники очного тура получили бесценный опыт проведения здоровьесберегающих уроков с учетом требований Положения о Конкурс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условиях профессионального соперни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ие педагогов в Конкурсе дает бонусы к их аттестации через портфолио учителя (дипломы, сертификат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бедитель и лауреаты Конкурса получили денежное вознаграждение. Все участники получили моральное вознаграждение в виде размещения информации в сети интернет на сайте ИРО Пермского кр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Picture 4" descr="IMG_20180928_131629"/>
          <p:cNvPicPr/>
          <p:nvPr/>
        </p:nvPicPr>
        <p:blipFill>
          <a:blip r:embed="rId1"/>
          <a:stretch/>
        </p:blipFill>
        <p:spPr>
          <a:xfrm>
            <a:off x="539640" y="5229360"/>
            <a:ext cx="2178000" cy="16286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5" descr="IMG_20181002_133137"/>
          <p:cNvPicPr/>
          <p:nvPr/>
        </p:nvPicPr>
        <p:blipFill>
          <a:blip r:embed="rId2"/>
          <a:stretch/>
        </p:blipFill>
        <p:spPr>
          <a:xfrm>
            <a:off x="3348000" y="5214960"/>
            <a:ext cx="2197080" cy="16430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6" descr="IMG_20180928_123823"/>
          <p:cNvPicPr/>
          <p:nvPr/>
        </p:nvPicPr>
        <p:blipFill>
          <a:blip r:embed="rId3"/>
          <a:stretch/>
        </p:blipFill>
        <p:spPr>
          <a:xfrm>
            <a:off x="6084720" y="5160960"/>
            <a:ext cx="2259360" cy="1697040"/>
          </a:xfrm>
          <a:prstGeom prst="rect">
            <a:avLst/>
          </a:prstGeom>
          <a:ln w="0">
            <a:noFill/>
          </a:ln>
        </p:spPr>
      </p:pic>
      <p:pic>
        <p:nvPicPr>
          <p:cNvPr id="82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5640" y="102960"/>
            <a:ext cx="79423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ие Министерства образования и науки Пермского края в качестве учредителя Конкурса придало статусность, весомость и значимость Конкурсу, и соответственно -  вопросам здоровьесбережения, формирования культуры здоровья - в глазах руководителей общеобразовательных организаций;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актуализируются тема «здоровье школьника», проблемы формирования культуры здоровья в образовательном пространств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создать и развить региональную сеть школ здоровья, создать банк таких школ и педагогов – учителей здоровь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трансля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распространения лучшего педагогическ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опыта по формированию культуры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у обучающихся и педагогов.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9" descr="Копия IMG_20171102_125237"/>
          <p:cNvPicPr/>
          <p:nvPr/>
        </p:nvPicPr>
        <p:blipFill>
          <a:blip r:embed="rId1"/>
          <a:stretch/>
        </p:blipFill>
        <p:spPr>
          <a:xfrm>
            <a:off x="6335640" y="4751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824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8:26:38Z</dcterms:created>
  <dc:creator>Лядова Н.В.</dc:creator>
  <dc:description/>
  <dc:language>en-US</dc:language>
  <cp:lastModifiedBy>Ljadova-NV</cp:lastModifiedBy>
  <dcterms:modified xsi:type="dcterms:W3CDTF">2019-05-14T10:54:42Z</dcterms:modified>
  <cp:revision>405</cp:revision>
  <dc:subject/>
  <dc:title>Оразование и здоровье. Школа, содействующая укреплению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516</vt:lpwstr>
  </property>
</Properties>
</file>