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0.png" ContentType="image/png"/>
  <Override PartName="/ppt/media/image6.jpeg" ContentType="image/jpeg"/>
  <Override PartName="/ppt/media/image7.png" ContentType="image/png"/>
  <Override PartName="/ppt/media/image22.jpeg" ContentType="image/jpeg"/>
  <Override PartName="/ppt/media/image11.jpeg" ContentType="image/jpeg"/>
  <Override PartName="/ppt/media/image9.jpeg" ContentType="image/jpeg"/>
  <Override PartName="/ppt/media/image5.jpeg" ContentType="image/jpeg"/>
  <Override PartName="/ppt/media/image13.jpeg" ContentType="image/jpeg"/>
  <Override PartName="/ppt/media/image8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  <p:sldId id="274" r:id="rId38"/>
    <p:sldId id="275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slide" Target="slides/slide19.xml"/><Relationship Id="rId39" Type="http://schemas.openxmlformats.org/officeDocument/2006/relationships/slide" Target="slides/slide20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3CC9-E85C-47C7-954F-45F9C5B48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5346-D3F7-476E-B4BE-A442B039D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7F202C-737D-4189-9ACA-8269BC3E7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3B221C-C87E-42B3-8F6E-40C5E3506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9EB91B-12D7-436E-AE34-E0C1F6E2B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1A3DA1-490B-44E5-897E-5BE7024FA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AFCF85-A626-4472-9A1D-E419DE559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1A1253-1A29-470D-8052-4B9BB459D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DD0EA9-3262-4601-8BFD-AA83C1545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E096D2-DE51-4CFC-9790-6078F8C68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D10054-E0B7-4274-B52C-9C36393EC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E7B3EE-8C72-4130-858C-79DF9AF7E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9488-2C11-4FC7-B472-D3CD18B1D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3D36E4-42AB-44A8-ABAA-069D52C8D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803854-1450-45A3-BA48-30F832119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7F07E8-D641-4ED1-B80A-7242935E7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F06B02-837C-416F-A107-973EC73B6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D9EBB0-A1E6-4328-A365-9C7558A77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F8947B-2CBE-4C84-9805-BB7C61CCE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40F7D5-9039-4F51-AF81-44AA0706D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F72AA6-36A7-4F66-9D95-FCF8BFD0B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55614A-BBB4-43A5-AEAB-97E91911F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2C7EDE-2241-406D-BEC9-D2B7B5A5E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8183-4F29-4CEF-8283-8F1CA54B0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265D9B-4E9D-4725-AA33-6A58B0A9B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83259A-01EE-4D8D-9AE7-7EDE9A419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6989FC-FD5B-481B-A32C-790F281EE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DDF01E-B7E4-4FDE-8307-5BDCC3E55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3631CD-9631-45EE-8748-AADBBDD64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010F8A-93F7-43F6-80E3-45F66F842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7D8409-801B-44BD-A3E0-5E45A51AE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32E6B6-F85D-4BB0-8740-72BAF9F3E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DAA2BB-31B3-40A3-94F8-2D8F212FF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49A4CC-57C9-4030-8029-96FDFE032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AA430-1F8A-4E59-BC5F-448BF94BE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D6EAF0-BAFA-4747-BCAE-01DEBDB17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757B0A-EC0F-40E7-BD9D-6B5301E55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853166-04B1-4BB3-B248-2275ADF35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18959D-E0FA-4842-978B-B7959CA5F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B970D5-020E-4640-AD8B-A17933F68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243A25-EB8C-4EB4-A273-3C007D474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D12BCA-A7A3-4AA4-8B38-6CB23ED8A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E4E86D-184F-4285-8DF9-8003E34B7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E853EC-F40F-4C31-A64C-DF480DB86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58C169-1F38-4DEC-98F2-30CFB611C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1BDD7-CCA5-4DDF-A3AB-8BA138D12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AA2C2F-69A5-4D90-87BE-A247253A4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525A09-A889-457F-A9DF-3136BFF57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ABA177-C5F8-4CD4-B1CB-88AFF5A7E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1122D4-4F58-43D9-8204-178CBD878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8260E5-62F9-4D2B-B1A3-8DA4364A3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D3E6F6-E969-4D1A-9CBE-EE27C8859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832FCA-A06A-44AF-A613-3888D1F7A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B554B8-85F1-4AB7-BED7-15266DD5C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0A2A04-867F-4732-A0B6-256C1DF00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D54B6B-70AF-4CB7-B519-1449EF081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C31E9-8D38-4815-8D03-6CEADDBBC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E648AD-A85C-437F-9DD4-4D8740961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6BBEEA-FAB2-4E8C-BBEB-209D32326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91DA71-A894-4C70-B965-2F4D1DBF8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4E2B63-589C-473D-ADE2-D3C1DC6D6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6F8EA2-7815-40F9-B267-AF17CC563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92F5A7-CE20-4FC3-8DA2-E5683D17D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8BD166-F384-4B12-8504-5C55B989B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673A8D-2400-4A37-B582-283B82297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31BF45-B747-4981-9F68-AD2FF5B42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784373-6482-4E7A-B801-A7D3DA0FB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F008F-BC76-4580-B5CA-C5F9B101F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E7A16D2-FEE9-4090-806A-DBF0645E6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573FCE-0B05-4C08-852F-2D107D0B7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8ADC84-45A5-4361-AC54-4EB937431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228840-42AC-4889-8368-84D154B95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BD3AFF-1C20-436A-B15E-276BFD1AE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5785CE-D0DE-4861-9A23-F76048E1B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655DFB-EAB0-43F4-8894-7EE047874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E1F0A6-8A15-4475-B385-652D5E1BF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567B3E4-C46C-4647-BC56-AD19CF757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225D57B-BAEA-4926-BB52-39B71B553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7D5C8-3877-4B1B-9F49-1E7ED12FC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234CD3E-C5F3-4B51-9999-C52963FC9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382945F-5D60-43D5-92F6-B9EBAA6D9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C817ABF-7553-4808-B184-DE85AA531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F23E3A1-204A-4015-B7B9-8108B75F9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B12212-2E83-4A98-A55D-8DEA4F2DD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5E976E0-7C31-4F77-9BB5-75BAF1676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B2B3044-3998-49B6-8578-F06E36BCD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D3336AC-B9D8-40C6-B849-C9F97A4B8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060014D-B798-48FA-AF00-5CE8B1BCF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1454BBE-B56B-4BD3-91B1-B1707FF98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0D3ED-5445-45E8-B5E8-7D0DE5698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B8ED23D-B56E-41CB-9F11-28A70BA38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23BE886-F219-43E1-BC82-48D38AAF0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00B3DE5-1522-4D75-955F-59BB47AB6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F191C3B-FF3B-4C37-9CCE-FE100AD71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C0AE2AC-BE36-4327-B3AF-52EC11036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A61EFF5-863C-4ED1-8DA5-160FBCD03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9B63321-AB6C-48E9-82B6-B30DDAA1B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911E466-EFF6-48C5-93A5-E503496CB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2E013EF-281E-4131-AECB-E9F56D314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0C488B9-14E9-4A67-86BF-C864EB1F0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1CAE8-8FE9-4167-97C3-E4CD1DACA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01AA6F2-7682-4FDD-95CF-01227E281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CC9D607-1B88-4576-A8F2-E85932816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7099CCF-EB03-434B-A1AB-25FDB1F7B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F187277-61C7-46B9-9844-1A766FB8A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F5A954C-7991-45AA-80B4-3502FF903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7ACECCC-85A3-4922-B076-0B454A3ED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E7E595B-7505-463F-B4B2-A7EACBDFC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3582D4F-17F2-496F-987A-366994974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DD9ACBA-8C94-49DD-9809-D9D22B609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C885FF1-4C38-41EC-BA45-9A5C4D51D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64EB-97B8-4464-8FF4-867F95171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6D1CE-C332-41E0-B67D-21319097A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5B8FC2F-1119-47E1-B72D-9607F0FBF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BD8D900-CCA4-4E5D-B054-B045926BB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2FF1B4E-0FC9-4523-AD40-09783573C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B4130FA-ABA9-44A9-B803-AB6D8D87F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4D14324-50CD-4DFA-8F10-34567F537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5817720-FFD4-40DA-8F5A-684806EA1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71EE33A-DBDE-4B9E-B1D8-6F12C2931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C8116E1-15B9-4D9D-A6DA-184392969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5FB68AB-A455-48FB-8F35-1393DD644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4402E57-0E94-4270-B172-7B31AD73D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EADE2-2A04-4971-B069-17B4862D7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C2E6C26-FAD8-4CA9-925F-04303F87A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98A329C-BEAC-46F9-B20F-53E3D768D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434C8C1-A025-4DB1-9198-DEBB13291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D77A73C-3F8D-4486-9C47-518097516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AE6F6C6-ED1A-44D6-86BC-7F038ED82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0643506-A8BA-40E0-9AFD-C52D26428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E725E29-2932-4751-B269-D85309BD5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7EC95-BD9B-4BF5-93DE-8E0666E86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567EF-9B2B-42D0-8ECD-37E07EBA4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6127F-EE97-4848-B161-AFC6EA791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5630E4-6A01-425A-BAF7-67C8766E2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B05E4C-A182-41A0-B89D-F2F95F5F1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6DA581-4772-454A-9293-6EE01BCF7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1AAF7A-96C1-4E60-9E30-76BE2481A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82D216-44AC-4AC4-AD6D-233B182A7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9977-FD4C-4968-942F-F536697AB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980E64-003E-4C4A-ADEB-D5D270A21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30C689-06AA-4A50-85EE-7BB510D54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4DD409-FE28-4187-A7C7-6D5FF2845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33607A-2DC4-47A5-ABB5-D42B130A7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7E4B4E-7EE2-4322-A753-9A5F2799C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487879-0304-48A7-8D8D-9063FC594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698903-5AED-42FE-912A-043CB17BA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637624-6877-407A-82EF-6980EC108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006635-8144-455C-ABB5-98F5412D6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2FAF06-A2CC-40D0-8556-86EFC27A3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4709-3D3A-4DA4-B77A-0073507C4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E439CA-FAA8-41FC-AF5E-FBE324F08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046F13-6617-4D62-A524-7D5CF88FE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54F1F3-FB0E-4E77-B735-7237164D4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7B81C7-8866-4FE6-BF83-876F7AAF1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67116E-3EF4-4706-A00A-5837733A6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4776C3-106E-4697-92A2-234E73C10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30E7C3-ADE5-4F2E-9B4C-83DCC9C1B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ACB94E-7644-4C54-B27F-D1D2C34EA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907F76-AAC2-4396-AAC3-74C957035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CFE344-BA8C-4E6E-99B9-E7413B979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C650-C0D3-4F97-80D0-6E093E860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065B40-8B8E-4D3A-9984-2B9DA2328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1A8163-B35D-4084-89E5-8B34EBDE8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E2A3FF-8C6F-460C-BF92-8C0D8564F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7323B4-3BA6-4B95-BB8F-419D9768C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C16DD8-F7E9-4BE9-9427-2560EFE5C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84AA17-620C-437A-A134-D54B90D0C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738A50-58A6-40AA-BEA2-CA8ED15B2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CB67ED-DF72-4DBB-B22C-CE51D2FF2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15994C-FF82-4684-BEBE-0CED9C868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62A34A-618A-4148-A7BC-C4FDD8CA1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AE67-DDF3-4126-A1FF-D23604BEC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DE78EC-EFC8-4181-BACF-97A2775AC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14FBDE-92A7-4C86-A5D9-EE273B0B4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6B456D-5DCC-442B-B2B5-3A609528C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BAB6AE-1DC2-4D6D-B09D-C6D321364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7EC60E-298D-4771-8E67-EC02E90B8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37815D-BD60-4A6C-B8BC-DDF77341A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9272FB-3430-4E38-880D-B5E379710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D73442-B937-4D40-AD2F-17014C8A6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FA35FC-D444-4D19-84B4-245CD9FC6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531882-3C10-4C15-90AE-658BF69EF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E912-3703-420F-AFFB-5C734D2C5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914D65-ACB6-4E1F-93AE-23406DF64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5C297B-2002-458B-BFDC-427793B48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7194A4-CD64-45DE-A432-F15F916DE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92A7D6-A8A2-467A-A62D-1C336D839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1C40C0-EDD6-4730-B662-4E982B13E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7CAE48-2922-4F64-BE3A-43A841C06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9B0D1C-C53D-427F-B0D3-69366A7B1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940F1D-500E-44D8-B835-211D1703C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860FB6-5179-4666-8F09-E2432B63F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0FEFC4-7C54-4032-B996-016EF0B18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4C7E-FF80-4144-A365-72700E3AB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4702BB-7648-461C-A363-041C6D734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A93DD0-96A6-4692-9FF0-A22D581B4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899BEB-4CF9-4296-AB15-740E907BB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4CA97A-275E-44CC-AC64-18EFEEE82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3E77A6-27A3-467D-90BC-1C3D36A10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D88D77-1AEF-4460-993D-710D55FB7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2C1496-32DD-4157-AAD4-614873937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D191B8-C563-47A3-AE44-213B9FCC8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399164-E367-446C-87EF-20D338A02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90DE36-A105-42B6-A74D-16F7B745F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7E15-39F4-441A-B943-C98E9F5A9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8DB08D-D6F7-4456-86D8-797DDC286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122EDD-101C-41CF-8A32-D5F223085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72AB89-11CC-4797-AAF4-55540839E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737EF7-72DE-4E58-866C-53D195C2A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C857C1-EA38-416C-9552-D871F0B2E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3959E3-6FDA-4E52-A288-4E8489AA8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B54523-7211-4CF2-943A-1BA28D8DF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8D4155-33D2-44FC-B585-F52B23D58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F97EF8-45BB-4E34-A51D-431845C21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D40671-06D0-4774-ABFE-096D0EF4A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Скругленный прямоугольник 8" descr=""/>
          <p:cNvPicPr/>
          <p:nvPr/>
        </p:nvPicPr>
        <p:blipFill>
          <a:blip r:embed="rId2"/>
          <a:stretch/>
        </p:blipFill>
        <p:spPr>
          <a:xfrm>
            <a:off x="419040" y="433440"/>
            <a:ext cx="8305920" cy="548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995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004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0041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eb31b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afada5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D88C0-A019-4DA7-88A3-61CCB04BEF94}" type="slidenum">
              <a:rPr b="0" lang="ru-RU" sz="2400" spc="-1" strike="noStrike">
                <a:solidFill>
                  <a:srgbClr val="afada5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609480" y="6171840"/>
            <a:ext cx="7925040" cy="360"/>
            <a:chOff x="609480" y="6171840"/>
            <a:chExt cx="7925040" cy="360"/>
          </a:xfrm>
        </p:grpSpPr>
        <p:sp>
          <p:nvSpPr>
            <p:cNvPr id="385" name="Line 5"/>
            <p:cNvSpPr/>
            <p:nvPr/>
          </p:nvSpPr>
          <p:spPr>
            <a:xfrm>
              <a:off x="609480" y="6172200"/>
              <a:ext cx="7925040" cy="0"/>
            </a:xfrm>
            <a:prstGeom prst="line">
              <a:avLst/>
            </a:prstGeom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 txBox="1"/>
            <p:nvPr/>
          </p:nvSpPr>
          <p:spPr>
            <a:xfrm rot="10800000">
              <a:off x="609480" y="6171840"/>
              <a:ext cx="7925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dt" idx="28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FED52-670A-44CA-BE8F-F8FAC1E7FD9F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609480" y="6171840"/>
            <a:ext cx="7925040" cy="360"/>
            <a:chOff x="609480" y="6171840"/>
            <a:chExt cx="7925040" cy="360"/>
          </a:xfrm>
        </p:grpSpPr>
        <p:sp>
          <p:nvSpPr>
            <p:cNvPr id="430" name="Line 5"/>
            <p:cNvSpPr/>
            <p:nvPr/>
          </p:nvSpPr>
          <p:spPr>
            <a:xfrm>
              <a:off x="609480" y="6172200"/>
              <a:ext cx="7925040" cy="0"/>
            </a:xfrm>
            <a:prstGeom prst="line">
              <a:avLst/>
            </a:prstGeom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 txBox="1"/>
            <p:nvPr/>
          </p:nvSpPr>
          <p:spPr>
            <a:xfrm rot="10800000">
              <a:off x="609480" y="6171840"/>
              <a:ext cx="7925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3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16F23-1A1E-4984-9E8C-485F8C5E58B4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4" name=""/>
          <p:cNvGrpSpPr/>
          <p:nvPr/>
        </p:nvGrpSpPr>
        <p:grpSpPr>
          <a:xfrm>
            <a:off x="609480" y="6171840"/>
            <a:ext cx="7925040" cy="360"/>
            <a:chOff x="609480" y="6171840"/>
            <a:chExt cx="7925040" cy="360"/>
          </a:xfrm>
        </p:grpSpPr>
        <p:sp>
          <p:nvSpPr>
            <p:cNvPr id="475" name="Line 5"/>
            <p:cNvSpPr/>
            <p:nvPr/>
          </p:nvSpPr>
          <p:spPr>
            <a:xfrm>
              <a:off x="609480" y="6172200"/>
              <a:ext cx="7925040" cy="0"/>
            </a:xfrm>
            <a:prstGeom prst="line">
              <a:avLst/>
            </a:prstGeom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 txBox="1"/>
            <p:nvPr/>
          </p:nvSpPr>
          <p:spPr>
            <a:xfrm rot="10800000">
              <a:off x="609480" y="6171840"/>
              <a:ext cx="7925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dt" idx="34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CACE2-EC69-4F6E-B6D5-59B373709BBE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9" name=""/>
          <p:cNvGrpSpPr/>
          <p:nvPr/>
        </p:nvGrpSpPr>
        <p:grpSpPr>
          <a:xfrm>
            <a:off x="609480" y="6171840"/>
            <a:ext cx="7925040" cy="360"/>
            <a:chOff x="609480" y="6171840"/>
            <a:chExt cx="7925040" cy="360"/>
          </a:xfrm>
        </p:grpSpPr>
        <p:sp>
          <p:nvSpPr>
            <p:cNvPr id="520" name="Line 5"/>
            <p:cNvSpPr/>
            <p:nvPr/>
          </p:nvSpPr>
          <p:spPr>
            <a:xfrm>
              <a:off x="609480" y="6172200"/>
              <a:ext cx="7925040" cy="0"/>
            </a:xfrm>
            <a:prstGeom prst="line">
              <a:avLst/>
            </a:prstGeom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 txBox="1"/>
            <p:nvPr/>
          </p:nvSpPr>
          <p:spPr>
            <a:xfrm rot="10800000">
              <a:off x="609480" y="6171840"/>
              <a:ext cx="7925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dt" idx="37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73856-FFFF-48C6-9076-4B55644BC4E9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4" name=""/>
          <p:cNvGrpSpPr/>
          <p:nvPr/>
        </p:nvGrpSpPr>
        <p:grpSpPr>
          <a:xfrm>
            <a:off x="609480" y="6171840"/>
            <a:ext cx="7925040" cy="360"/>
            <a:chOff x="609480" y="6171840"/>
            <a:chExt cx="7925040" cy="360"/>
          </a:xfrm>
        </p:grpSpPr>
        <p:sp>
          <p:nvSpPr>
            <p:cNvPr id="565" name="Line 5"/>
            <p:cNvSpPr/>
            <p:nvPr/>
          </p:nvSpPr>
          <p:spPr>
            <a:xfrm>
              <a:off x="609480" y="6172200"/>
              <a:ext cx="7925040" cy="0"/>
            </a:xfrm>
            <a:prstGeom prst="line">
              <a:avLst/>
            </a:prstGeom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 txBox="1"/>
            <p:nvPr/>
          </p:nvSpPr>
          <p:spPr>
            <a:xfrm rot="10800000">
              <a:off x="609480" y="6171840"/>
              <a:ext cx="7925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626E0-C5D2-4D7B-9089-34B77F390E1F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9" name=""/>
          <p:cNvGrpSpPr/>
          <p:nvPr/>
        </p:nvGrpSpPr>
        <p:grpSpPr>
          <a:xfrm>
            <a:off x="609480" y="6171840"/>
            <a:ext cx="7925040" cy="360"/>
            <a:chOff x="609480" y="6171840"/>
            <a:chExt cx="7925040" cy="360"/>
          </a:xfrm>
        </p:grpSpPr>
        <p:sp>
          <p:nvSpPr>
            <p:cNvPr id="610" name="Line 5"/>
            <p:cNvSpPr/>
            <p:nvPr/>
          </p:nvSpPr>
          <p:spPr>
            <a:xfrm>
              <a:off x="609480" y="6172200"/>
              <a:ext cx="7925040" cy="0"/>
            </a:xfrm>
            <a:prstGeom prst="line">
              <a:avLst/>
            </a:prstGeom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 txBox="1"/>
            <p:nvPr/>
          </p:nvSpPr>
          <p:spPr>
            <a:xfrm rot="10800000">
              <a:off x="609480" y="6171840"/>
              <a:ext cx="7925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 type="dt" idx="43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 type="sldNum" idx="45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ABB74-79D8-42F7-A06F-DC78C4206880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4" name=""/>
          <p:cNvGrpSpPr/>
          <p:nvPr/>
        </p:nvGrpSpPr>
        <p:grpSpPr>
          <a:xfrm>
            <a:off x="609480" y="6171840"/>
            <a:ext cx="7925040" cy="360"/>
            <a:chOff x="609480" y="6171840"/>
            <a:chExt cx="7925040" cy="360"/>
          </a:xfrm>
        </p:grpSpPr>
        <p:sp>
          <p:nvSpPr>
            <p:cNvPr id="655" name="Line 5"/>
            <p:cNvSpPr/>
            <p:nvPr/>
          </p:nvSpPr>
          <p:spPr>
            <a:xfrm>
              <a:off x="609480" y="6172200"/>
              <a:ext cx="7925040" cy="0"/>
            </a:xfrm>
            <a:prstGeom prst="line">
              <a:avLst/>
            </a:prstGeom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 txBox="1"/>
            <p:nvPr/>
          </p:nvSpPr>
          <p:spPr>
            <a:xfrm rot="10800000">
              <a:off x="609480" y="6171840"/>
              <a:ext cx="7925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 type="dt" idx="46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 type="sldNum" idx="48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D89B4-9EEC-42BC-9392-2E0165003839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09480" y="6171840"/>
            <a:ext cx="7925040" cy="360"/>
            <a:chOff x="609480" y="6171840"/>
            <a:chExt cx="7925040" cy="360"/>
          </a:xfrm>
        </p:grpSpPr>
        <p:sp>
          <p:nvSpPr>
            <p:cNvPr id="700" name="Line 5"/>
            <p:cNvSpPr/>
            <p:nvPr/>
          </p:nvSpPr>
          <p:spPr>
            <a:xfrm>
              <a:off x="609480" y="6172200"/>
              <a:ext cx="7925040" cy="0"/>
            </a:xfrm>
            <a:prstGeom prst="line">
              <a:avLst/>
            </a:prstGeom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 txBox="1"/>
            <p:nvPr/>
          </p:nvSpPr>
          <p:spPr>
            <a:xfrm rot="10800000">
              <a:off x="609480" y="6171840"/>
              <a:ext cx="7925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 type="dt" idx="49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 type="sldNum" idx="51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FFEEF-4FF3-4582-9DF1-0C949D0E4EE9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4" name=""/>
          <p:cNvGrpSpPr/>
          <p:nvPr/>
        </p:nvGrpSpPr>
        <p:grpSpPr>
          <a:xfrm>
            <a:off x="609480" y="6171840"/>
            <a:ext cx="7925040" cy="360"/>
            <a:chOff x="609480" y="6171840"/>
            <a:chExt cx="7925040" cy="360"/>
          </a:xfrm>
        </p:grpSpPr>
        <p:sp>
          <p:nvSpPr>
            <p:cNvPr id="745" name="Line 5"/>
            <p:cNvSpPr/>
            <p:nvPr/>
          </p:nvSpPr>
          <p:spPr>
            <a:xfrm>
              <a:off x="609480" y="6172200"/>
              <a:ext cx="7925040" cy="0"/>
            </a:xfrm>
            <a:prstGeom prst="line">
              <a:avLst/>
            </a:prstGeom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 txBox="1"/>
            <p:nvPr/>
          </p:nvSpPr>
          <p:spPr>
            <a:xfrm rot="10800000">
              <a:off x="609480" y="6171840"/>
              <a:ext cx="7925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 type="dt" idx="52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5"/>
          <p:cNvSpPr>
            <a:spLocks noGrp="1"/>
          </p:cNvSpPr>
          <p:nvPr>
            <p:ph type="sldNum" idx="54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81BB6-9931-4853-B2E7-392B07EE8356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92365-0993-48F7-B817-CBCB1547DD6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E9BCD-6F3C-4BA5-9E1F-D3990ADB304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609480" y="6171840"/>
            <a:ext cx="7925040" cy="360"/>
            <a:chOff x="609480" y="6171840"/>
            <a:chExt cx="7925040" cy="360"/>
          </a:xfrm>
        </p:grpSpPr>
        <p:sp>
          <p:nvSpPr>
            <p:cNvPr id="129" name="Line 5"/>
            <p:cNvSpPr/>
            <p:nvPr/>
          </p:nvSpPr>
          <p:spPr>
            <a:xfrm>
              <a:off x="609480" y="6172200"/>
              <a:ext cx="7925040" cy="0"/>
            </a:xfrm>
            <a:prstGeom prst="line">
              <a:avLst/>
            </a:prstGeom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 txBox="1"/>
            <p:nvPr/>
          </p:nvSpPr>
          <p:spPr>
            <a:xfrm rot="10800000">
              <a:off x="609480" y="6171840"/>
              <a:ext cx="7925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8370A-6483-41AE-86B9-1C2448FF4FD8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Скругленный прямоугольник 7" descr=""/>
          <p:cNvPicPr/>
          <p:nvPr/>
        </p:nvPicPr>
        <p:blipFill>
          <a:blip r:embed="rId2"/>
          <a:stretch/>
        </p:blipFill>
        <p:spPr>
          <a:xfrm>
            <a:off x="419040" y="433440"/>
            <a:ext cx="8305920" cy="311004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995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4995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199800">
              <a:spcBef>
                <a:spcPts val="249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85880" indent="-182520">
              <a:spcBef>
                <a:spcPts val="249"/>
              </a:spcBef>
              <a:buClr>
                <a:srgbClr val="ff004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23840" indent="-182520">
              <a:spcBef>
                <a:spcPts val="249"/>
              </a:spcBef>
              <a:buClr>
                <a:srgbClr val="ff0041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249"/>
              </a:spcBef>
              <a:buClr>
                <a:srgbClr val="eb31b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7957F-0B3C-46D6-9319-F8FCE7913F37}" type="slidenum">
              <a:rPr b="0" lang="ru-RU" sz="1800" spc="-1" strike="noStrike">
                <a:solidFill>
                  <a:srgbClr val="afada5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Скругленный прямоугольник 10" descr=""/>
          <p:cNvPicPr/>
          <p:nvPr/>
        </p:nvPicPr>
        <p:blipFill>
          <a:blip r:embed="rId2"/>
          <a:stretch/>
        </p:blipFill>
        <p:spPr>
          <a:xfrm>
            <a:off x="419040" y="433440"/>
            <a:ext cx="8305920" cy="43416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995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004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0041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eb31b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6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7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8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afada5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0DBF2-6857-4132-9F37-D39D262A1ABE}" type="slidenum">
              <a:rPr b="0" lang="ru-RU" sz="2400" spc="-1" strike="noStrike">
                <a:solidFill>
                  <a:srgbClr val="afada5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995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004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0041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eb31b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9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20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21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afada5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ADB4C-CBB2-4E97-B395-5A3FF1DABBF2}" type="slidenum">
              <a:rPr b="0" lang="ru-RU" sz="2400" spc="-1" strike="noStrike">
                <a:solidFill>
                  <a:srgbClr val="afada5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3" y="0"/>
                </a:lnTo>
                <a:cubicBezTo>
                  <a:pt x="2295505" y="0"/>
                  <a:pt x="2324099" y="28594"/>
                  <a:pt x="2324099" y="63866"/>
                </a:cubicBezTo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995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004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0041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eb31b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dt" idx="22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ftr" idx="23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 type="sldNum" idx="24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afada5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39DE9-FDAB-4DC3-A6A0-B7093D77A1C3}" type="slidenum">
              <a:rPr b="0" lang="ru-RU" sz="2400" spc="-1" strike="noStrike">
                <a:solidFill>
                  <a:srgbClr val="afada5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A39F6-3940-496E-8ACF-DD48CC8E366F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iro.perm.ru/" TargetMode="External"/><Relationship Id="rId2" Type="http://schemas.openxmlformats.org/officeDocument/2006/relationships/hyperlink" Target="http://www.iro.perm.ru/" TargetMode="External"/><Relationship Id="rId3" Type="http://schemas.openxmlformats.org/officeDocument/2006/relationships/hyperlink" Target="http://www.iro.perm.ru/" TargetMode="External"/><Relationship Id="rId4" Type="http://schemas.openxmlformats.org/officeDocument/2006/relationships/hyperlink" Target="http://www.iro.perm.ru/" TargetMode="External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iro.perm.ru/" TargetMode="External"/><Relationship Id="rId2" Type="http://schemas.openxmlformats.org/officeDocument/2006/relationships/hyperlink" Target="http://iro.perm.ru/" TargetMode="External"/><Relationship Id="rId3" Type="http://schemas.openxmlformats.org/officeDocument/2006/relationships/hyperlink" Target="http://iro.perm.ru/" TargetMode="External"/><Relationship Id="rId4" Type="http://schemas.openxmlformats.org/officeDocument/2006/relationships/hyperlink" Target="mailto:ozdip@list.ru" TargetMode="External"/><Relationship Id="rId5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docs.cntd.ru/document/zakon-rf-ob-obrazovanii-v-rossijskoj-federacii" TargetMode="External"/><Relationship Id="rId2" Type="http://schemas.openxmlformats.org/officeDocument/2006/relationships/hyperlink" Target="http://zakon-ob-obrazovanii.ru/" TargetMode="External"/><Relationship Id="rId3" Type="http://schemas.openxmlformats.org/officeDocument/2006/relationships/hyperlink" Target="http://zakon-ob-obrazovanii.ru/" TargetMode="External"/><Relationship Id="rId4" Type="http://schemas.openxmlformats.org/officeDocument/2006/relationships/hyperlink" Target="http://si-sv.com/publ/1/zdorovesberezhenie_na_uroke/14-1-0-74" TargetMode="External"/><Relationship Id="rId5" Type="http://schemas.openxmlformats.org/officeDocument/2006/relationships/hyperlink" Target="http://si-sv.com/publ/1/zdorovesberezhenie_na_uroke/14-1-0-74" TargetMode="External"/><Relationship Id="rId6" Type="http://schemas.openxmlformats.org/officeDocument/2006/relationships/hyperlink" Target="http://si-sv.com/publ/1/zdorovesberezhenie_na_uroke/14-1-0-74" TargetMode="External"/><Relationship Id="rId7" Type="http://schemas.openxmlformats.org/officeDocument/2006/relationships/hyperlink" Target="http://si-sv.com/publ/1/zdorovesberezhenie_na_uroke/14-1-0-74" TargetMode="External"/><Relationship Id="rId8" Type="http://schemas.openxmlformats.org/officeDocument/2006/relationships/hyperlink" Target="http://si-sv.com/publ/1/zdorovesberezhenie_na_uroke/14-1-0-74" TargetMode="External"/><Relationship Id="rId9" Type="http://schemas.openxmlformats.org/officeDocument/2006/relationships/hyperlink" Target="http://si-sv.com/publ/1/zdorovesberezhenie_na_uroke/14-1-0-74" TargetMode="External"/><Relationship Id="rId10" Type="http://schemas.openxmlformats.org/officeDocument/2006/relationships/hyperlink" Target="http://si-sv.com/publ/1/zdorovesberezhenie_na_uroke/14-1-0-74" TargetMode="External"/><Relationship Id="rId11" Type="http://schemas.openxmlformats.org/officeDocument/2006/relationships/hyperlink" Target="http://si-sv.com/publ/1/zdorovesberezhenie_na_uroke/14-1-0-74" TargetMode="External"/><Relationship Id="rId12" Type="http://schemas.openxmlformats.org/officeDocument/2006/relationships/hyperlink" Target="http://vopk.ru/view.php?event=levelxx_view&amp;a=5%7C72" TargetMode="External"/><Relationship Id="rId13" Type="http://schemas.openxmlformats.org/officeDocument/2006/relationships/hyperlink" Target="http://vopk.ru/view.php?event=levelxx_view&amp;a=5%7C72" TargetMode="External"/><Relationship Id="rId14" Type="http://schemas.openxmlformats.org/officeDocument/2006/relationships/hyperlink" Target="http://vopk.ru/view.php?event=levelxx_view&amp;a=5%7C72" TargetMode="External"/><Relationship Id="rId15" Type="http://schemas.openxmlformats.org/officeDocument/2006/relationships/hyperlink" Target="http://vopk.ru/view.php?event=levelxx_view&amp;a=5%7C72" TargetMode="External"/><Relationship Id="rId16" Type="http://schemas.openxmlformats.org/officeDocument/2006/relationships/hyperlink" Target="http://si-sv.com/publ/1/zdorovesberezhenie_na_uroke/14-1-0-74" TargetMode="External"/><Relationship Id="rId17" Type="http://schemas.openxmlformats.org/officeDocument/2006/relationships/hyperlink" Target="http://si-sv.com/publ/1/zdorovesberezhenie_na_uroke/14-1-0-74" TargetMode="External"/><Relationship Id="rId18" Type="http://schemas.openxmlformats.org/officeDocument/2006/relationships/hyperlink" Target="http://si-sv.com/publ/1/zdorovesberezhenie_na_uroke/14-1-0-74" TargetMode="External"/><Relationship Id="rId19" Type="http://schemas.openxmlformats.org/officeDocument/2006/relationships/hyperlink" Target="http://si-sv.com/publ/1/zdorovesberezhenie_na_uroke/14-1-0-74" TargetMode="External"/><Relationship Id="rId20" Type="http://schemas.openxmlformats.org/officeDocument/2006/relationships/hyperlink" Target="http://si-sv.com/publ/1/zdorovesberezhenie_na_uroke/14-1-0-74" TargetMode="External"/><Relationship Id="rId21" Type="http://schemas.openxmlformats.org/officeDocument/2006/relationships/hyperlink" Target="http://si-sv.com/publ/1/zdorovesberezhenie_na_uroke/14-1-0-74" TargetMode="External"/><Relationship Id="rId22" Type="http://schemas.openxmlformats.org/officeDocument/2006/relationships/hyperlink" Target="http://si-sv.com/publ/1/zdorovesberezhenie_na_uroke/14-1-0-74" TargetMode="External"/><Relationship Id="rId23" Type="http://schemas.openxmlformats.org/officeDocument/2006/relationships/hyperlink" Target="http://si-sv.com/publ/1/zdorovesberezhenie_na_uroke/14-1-0-74" TargetMode="External"/><Relationship Id="rId24" Type="http://schemas.openxmlformats.org/officeDocument/2006/relationships/hyperlink" Target="http://festival.1september.ru/articles/627448/" TargetMode="External"/><Relationship Id="rId2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duhealth.iro.perm.ru/" TargetMode="External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-181080" y="765000"/>
            <a:ext cx="8637840" cy="2880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Роль конкурса </a:t>
            </a:r>
            <a:br>
              <a:rPr sz="2400"/>
            </a:b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«Учитель здоровья России» </a:t>
            </a:r>
            <a:br>
              <a:rPr sz="2400"/>
            </a:b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в формировании культуры </a:t>
            </a:r>
            <a:br>
              <a:rPr sz="2400"/>
            </a:b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здоровья педагогов и обучающихся: </a:t>
            </a:r>
            <a:br>
              <a:rPr sz="2400"/>
            </a:b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опыт проведения в Пермском крае,  </a:t>
            </a:r>
            <a:br>
              <a:rPr sz="2400"/>
            </a:b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проблемы и перспективы</a:t>
            </a:r>
            <a:br>
              <a:rPr sz="2800"/>
            </a:br>
            <a:endParaRPr b="1" lang="en-US" sz="2400" spc="-1" strike="noStrike">
              <a:solidFill>
                <a:srgbClr val="ff4995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subTitle"/>
          </p:nvPr>
        </p:nvSpPr>
        <p:spPr>
          <a:xfrm>
            <a:off x="108000" y="4122720"/>
            <a:ext cx="5400720" cy="273528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15968"/>
                </a:solidFill>
                <a:latin typeface="Arial"/>
              </a:rPr>
              <a:t>Лядова Наталья Владимировн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15968"/>
                </a:solidFill>
                <a:latin typeface="Arial"/>
              </a:rPr>
              <a:t>к.мед.наук, вед. научн.сотрудни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15968"/>
                </a:solidFill>
                <a:latin typeface="Arial"/>
              </a:rPr>
              <a:t>ГАУ ДПО «Институт развития образования Пермского края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://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www.iro.perm.ru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15968"/>
                </a:solidFill>
                <a:latin typeface="Arial"/>
              </a:rPr>
              <a:t>Пермь 20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0" name="Picture 4" descr="F:\USERS\МАМА\Files - МАМА\А 2014\Конференция в Новосибирске\permskkrai-1.jpg"/>
          <p:cNvPicPr/>
          <p:nvPr/>
        </p:nvPicPr>
        <p:blipFill>
          <a:blip r:embed="rId5"/>
          <a:stretch/>
        </p:blipFill>
        <p:spPr>
          <a:xfrm>
            <a:off x="6948360" y="0"/>
            <a:ext cx="2195640" cy="2179800"/>
          </a:xfrm>
          <a:prstGeom prst="rect">
            <a:avLst/>
          </a:prstGeom>
          <a:ln w="0">
            <a:noFill/>
          </a:ln>
        </p:spPr>
      </p:pic>
      <p:pic>
        <p:nvPicPr>
          <p:cNvPr id="791" name="Рисунок 5" descr="набережная.jpg"/>
          <p:cNvPicPr/>
          <p:nvPr/>
        </p:nvPicPr>
        <p:blipFill>
          <a:blip r:embed="rId6"/>
          <a:stretch/>
        </p:blipFill>
        <p:spPr>
          <a:xfrm>
            <a:off x="5580000" y="3716280"/>
            <a:ext cx="3341880" cy="2808360"/>
          </a:xfrm>
          <a:prstGeom prst="rect">
            <a:avLst/>
          </a:prstGeom>
          <a:ln w="0">
            <a:noFill/>
          </a:ln>
        </p:spPr>
      </p:pic>
      <p:pic>
        <p:nvPicPr>
          <p:cNvPr id="792" name="Рисунок 1" descr=""/>
          <p:cNvPicPr/>
          <p:nvPr/>
        </p:nvPicPr>
        <p:blipFill>
          <a:blip r:embed="rId7"/>
          <a:stretch/>
        </p:blipFill>
        <p:spPr>
          <a:xfrm>
            <a:off x="0" y="0"/>
            <a:ext cx="188604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914400" y="260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Calibri"/>
              </a:rPr>
              <a:t>Проблемы конкурсант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"/>
          <p:cNvSpPr txBox="1"/>
          <p:nvPr/>
        </p:nvSpPr>
        <p:spPr>
          <a:xfrm>
            <a:off x="0" y="1125360"/>
            <a:ext cx="9144000" cy="616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cc"/>
                </a:solidFill>
                <a:latin typeface="Calibri"/>
              </a:rPr>
              <a:t>Затруднения конкурсантов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f0179"/>
                </a:solidFill>
                <a:latin typeface="Calibri"/>
              </a:rPr>
              <a:t>- цели и задачи, которых в конспектах порой очень много, являются общими, не конкретными к представляемому уроку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f0179"/>
                </a:solidFill>
                <a:latin typeface="Calibri"/>
              </a:rPr>
              <a:t>- часто цель не соответствует ожидаемым результатам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f0179"/>
                </a:solidFill>
                <a:latin typeface="Calibri"/>
              </a:rPr>
              <a:t>- ожидаемые результаты представлены общими словами, которые можно отнести к изучению предмета в целом, а не к конкретному уроку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f0179"/>
                </a:solidFill>
                <a:latin typeface="Calibri"/>
              </a:rPr>
              <a:t>- недостаточно представлены здоровьесберегающие образовательные технологии, есть лишь некоторые приемы снятия позостатического напряжения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f0179"/>
                </a:solidFill>
                <a:latin typeface="Calibri"/>
              </a:rPr>
              <a:t>- имеет место неправильное отнесение метапредметных, предметных и личностных результатов к соответствующей группе результатов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f0179"/>
                </a:solidFill>
                <a:latin typeface="Calibri"/>
              </a:rPr>
              <a:t>- описываемая деятельность учеников является исполнительской, а не учебной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f0179"/>
                </a:solidFill>
                <a:latin typeface="Calibri"/>
              </a:rPr>
              <a:t>- часто в работах отсутствует оценивание достигнутых результатов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f0179"/>
                </a:solidFill>
                <a:latin typeface="Calibri"/>
              </a:rPr>
              <a:t>- в ряде работ тренеров-преподавателей, учителей физической культуры вообще нет акцента на здоровьесбережение во время урока и воспитательного компонента в плане повышения мотивации детей следовать правилам ЗОЖ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f0179"/>
                </a:solidFill>
                <a:latin typeface="Calibri"/>
              </a:rPr>
              <a:t>- неправильно оформленный список литературы, порой старой, небольшой перечень или его отсутстви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7" name="Рисунок 1" descr=""/>
          <p:cNvPicPr/>
          <p:nvPr/>
        </p:nvPicPr>
        <p:blipFill>
          <a:blip r:embed="rId1"/>
          <a:stretch/>
        </p:blipFill>
        <p:spPr>
          <a:xfrm>
            <a:off x="-108000" y="0"/>
            <a:ext cx="1150920" cy="10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1006560" y="0"/>
            <a:ext cx="813744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Calibri"/>
              </a:rPr>
              <a:t>Проблемы в организации, проведении Конкурс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"/>
          <p:cNvSpPr txBox="1"/>
          <p:nvPr/>
        </p:nvSpPr>
        <p:spPr>
          <a:xfrm>
            <a:off x="108000" y="1052640"/>
            <a:ext cx="885672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Участники: вместо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учителя общеобразовательных организаций, тренеры, преподаватели дополнительного, общего и профессионального образования» 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прописать: 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«учителя и педагоги общеобразовательных организаций, педагоги дополнительного образования, преподаватели среднего профессионального образования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Лучшему пониманию педагогом того, каким должен быть его План-конспект урока/занятия</a:t>
            </a:r>
            <a:r>
              <a:rPr b="1" lang="ru-RU" sz="2400" spc="-1" strike="noStrike">
                <a:solidFill>
                  <a:srgbClr val="0000cc"/>
                </a:solidFill>
                <a:latin typeface="Calibri"/>
              </a:rPr>
              <a:t>, 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а правильнее – </a:t>
            </a: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Технологическая карта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, представляемых на конкурс, будут способствовать четкие критерии и их показател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Представление-характеристика с  описываемой в ней здоровьесберегающей деятельностью педагога, сведения о конкурсанте в Информационной карте тоже должны войти в список критерие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0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150920" cy="10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971640" y="259920"/>
            <a:ext cx="831672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Calibri"/>
              </a:rPr>
              <a:t>Предлагаем такой вариант критериев:</a:t>
            </a:r>
            <a:r>
              <a:rPr b="0" lang="ru-RU" sz="2400" spc="-1" strike="noStrike">
                <a:solidFill>
                  <a:srgbClr val="0000cc"/>
                </a:solidFill>
                <a:latin typeface="Calibri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"/>
          <p:cNvSpPr txBox="1"/>
          <p:nvPr/>
        </p:nvSpPr>
        <p:spPr>
          <a:xfrm>
            <a:off x="108000" y="980640"/>
            <a:ext cx="9036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cc"/>
                </a:solidFill>
                <a:latin typeface="Calibri"/>
              </a:rPr>
              <a:t>Критерии оценки оформления и содержания технологической карты или плана-конспекта урока/занятия (Максим. 17 баллов). Заочный ту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1.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Дидактическое оформление технологической карты/плана-конспекта урока/занятия  (0-3 балл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1.1. обоснованность темы и выбора содержания в контексте заявленной проблемы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1.2. грамотное дидактическое оформление плана конспект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1.3. вариативность методического инструментария в достижении планируемых результатов обуч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2.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Содержание соответствует теме, включает воспитательный компонент по формированию культуры ЗОЖ, здоровьесберегающие технологии (0-3 баллов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2.1. глубина и оригинальность раскрытия темы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2.2. инновационные организационные формы и здоровьесберегающие образовательные технологии на урок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2.3. здоровьесберегающий режим урока, воспитательный компонен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3" name="Рисунок 1" descr=""/>
          <p:cNvPicPr/>
          <p:nvPr/>
        </p:nvPicPr>
        <p:blipFill>
          <a:blip r:embed="rId1"/>
          <a:stretch/>
        </p:blipFill>
        <p:spPr>
          <a:xfrm>
            <a:off x="-108000" y="0"/>
            <a:ext cx="1150920" cy="10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"/>
          <p:cNvSpPr txBox="1"/>
          <p:nvPr/>
        </p:nvSpPr>
        <p:spPr>
          <a:xfrm>
            <a:off x="684000" y="115920"/>
            <a:ext cx="8459640" cy="67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3.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Оригинальность используемых приемов, форм в достижении и оценивании результатов (0-3 баллов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3.1. достижение заявленных личностных/ метапредметных/предметных результатов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3.2. оценивание результатов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3.3. рефлекс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4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Использованная литература (0- 3 баллов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4.1. правильность оформления списка использованной литературы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4.2. широта использованной литературы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4.3. новизна источник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5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Характеристика (0-5 баллов)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Систематичность проведения пропаганды ЗОЖ среди обучающихся в урочной и внеурочной деятельности; удовлетворенность родителей; публикации, разработка и издание методических рекомендаций, пособий; участие педагога в конкурсах, посвященных сохранению и укреплению здоровья и ЗОЖ, др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ВСЕГО баллов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Примеча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6" name="Рисунок 1" descr=""/>
          <p:cNvPicPr/>
          <p:nvPr/>
        </p:nvPicPr>
        <p:blipFill>
          <a:blip r:embed="rId1"/>
          <a:stretch/>
        </p:blipFill>
        <p:spPr>
          <a:xfrm>
            <a:off x="-108000" y="0"/>
            <a:ext cx="1150920" cy="10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1042560" y="0"/>
            <a:ext cx="810108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Calibri"/>
              </a:rPr>
              <a:t>Критерии оценки конкурсных мероприятий. Очный тур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"/>
          <p:cNvSpPr txBox="1"/>
          <p:nvPr/>
        </p:nvSpPr>
        <p:spPr>
          <a:xfrm>
            <a:off x="0" y="981000"/>
            <a:ext cx="9036000" cy="645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1.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Фрагмент урока, внеклассного занятия. Регламент 25 минут.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 Максимальное количество баллов – 4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1.1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Глубина содержания и оригинальность формы (0-8 баллов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1.2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гармоничная интеграция вопросов здоровья и предметного содержания, воспитательный компонент (0-8 баллов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1.3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Использование здоровьесберегающих образовательных технологий, деятельностной основы учебной работы (0-8 баллов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1.4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Здоровьесберегающий режим урока, занятия (0-8 баллов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1.5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Результативность урока, занятия (соответствие достигнутых результатов заявленной цели, оценивание результатов, рефлексия) (0-8 баллов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1.6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Коммуникативная культура педагога, способность к импровизации (0-8 баллов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Итого за фрагмент урок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9" name="Рисунок 1" descr=""/>
          <p:cNvPicPr/>
          <p:nvPr/>
        </p:nvPicPr>
        <p:blipFill>
          <a:blip r:embed="rId1"/>
          <a:stretch/>
        </p:blipFill>
        <p:spPr>
          <a:xfrm>
            <a:off x="-108000" y="0"/>
            <a:ext cx="107964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Прямоугольник 1"/>
          <p:cNvSpPr/>
          <p:nvPr/>
        </p:nvSpPr>
        <p:spPr>
          <a:xfrm>
            <a:off x="0" y="189000"/>
            <a:ext cx="914400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Arial"/>
                <a:ea typeface="SimSun"/>
              </a:rPr>
              <a:t>     </a:t>
            </a:r>
            <a:r>
              <a:rPr b="1" lang="ru-RU" sz="2800" spc="-1" strike="noStrike">
                <a:solidFill>
                  <a:srgbClr val="0000cc"/>
                </a:solidFill>
                <a:latin typeface="Arial"/>
                <a:ea typeface="SimSun"/>
              </a:rPr>
              <a:t>Таким образом, участие в конкурсе «Учитель здоровья России» помогает учителю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0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Arial"/>
                <a:ea typeface="SimSun"/>
              </a:rPr>
              <a:t>самому быть примером ведения здорового образа жизни, «заражает» других коллег стать участником Конкурса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0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Arial"/>
                <a:ea typeface="SimSun"/>
              </a:rPr>
              <a:t>строить свои уроки по-новому, создавая условия для эффективной учебной работы учеников без раннего и выраженного утомления, стрессирования, сохраняя на протяжении всего урока и учебного дня интерес и понимание детей, их высокую умственную работоспособность и хорошее настро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Arial"/>
                <a:ea typeface="SimSun"/>
              </a:rPr>
              <a:t>	</a:t>
            </a:r>
            <a:r>
              <a:rPr b="1" lang="ru-RU" sz="2400" spc="-1" strike="noStrike">
                <a:solidFill>
                  <a:srgbClr val="800080"/>
                </a:solidFill>
                <a:latin typeface="Arial"/>
                <a:ea typeface="SimSun"/>
              </a:rPr>
              <a:t>	</a:t>
            </a:r>
            <a:r>
              <a:rPr b="1" lang="ru-RU" sz="2400" spc="-1" strike="noStrike">
                <a:solidFill>
                  <a:srgbClr val="800080"/>
                </a:solidFill>
                <a:latin typeface="Arial"/>
                <a:ea typeface="SimSun"/>
              </a:rPr>
              <a:t>А это и есть здоровь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1" name="Рисунок 3" descr="jat2uj15ohk_Preview.jpg"/>
          <p:cNvPicPr/>
          <p:nvPr/>
        </p:nvPicPr>
        <p:blipFill>
          <a:blip r:embed="rId1"/>
          <a:stretch/>
        </p:blipFill>
        <p:spPr>
          <a:xfrm>
            <a:off x="755640" y="4437000"/>
            <a:ext cx="3600360" cy="2702160"/>
          </a:xfrm>
          <a:prstGeom prst="rect">
            <a:avLst/>
          </a:prstGeom>
          <a:ln w="0">
            <a:noFill/>
          </a:ln>
        </p:spPr>
      </p:pic>
      <p:pic>
        <p:nvPicPr>
          <p:cNvPr id="842" name="Рисунок 5" descr="Рисунок1.jpg"/>
          <p:cNvPicPr/>
          <p:nvPr/>
        </p:nvPicPr>
        <p:blipFill>
          <a:blip r:embed="rId2"/>
          <a:stretch/>
        </p:blipFill>
        <p:spPr>
          <a:xfrm>
            <a:off x="5003640" y="4367160"/>
            <a:ext cx="3594240" cy="2490840"/>
          </a:xfrm>
          <a:prstGeom prst="rect">
            <a:avLst/>
          </a:prstGeom>
          <a:ln w="0">
            <a:noFill/>
          </a:ln>
        </p:spPr>
      </p:pic>
      <p:pic>
        <p:nvPicPr>
          <p:cNvPr id="843" name="Рисунок 1" descr=""/>
          <p:cNvPicPr/>
          <p:nvPr/>
        </p:nvPicPr>
        <p:blipFill>
          <a:blip r:embed="rId3"/>
          <a:stretch/>
        </p:blipFill>
        <p:spPr>
          <a:xfrm>
            <a:off x="-228600" y="17640"/>
            <a:ext cx="107964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Calibri"/>
              </a:rPr>
              <a:t>Перспективы конкурс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"/>
          <p:cNvSpPr txBox="1"/>
          <p:nvPr/>
        </p:nvSpPr>
        <p:spPr>
          <a:xfrm>
            <a:off x="0" y="907920"/>
            <a:ext cx="9144000" cy="633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7f0179"/>
                </a:solidFill>
                <a:latin typeface="Calibri"/>
              </a:rPr>
              <a:t>Конкурсу быть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f0179"/>
                </a:solidFill>
                <a:latin typeface="Calibri"/>
              </a:rPr>
              <a:t>на всех уровня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f0179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7f0179"/>
                </a:solidFill>
                <a:latin typeface="Calibri"/>
              </a:rPr>
              <a:t>от институциального до всероссийского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f0179"/>
                </a:solidFill>
                <a:latin typeface="Calibri"/>
              </a:rPr>
              <a:t>Продумать соотнесение двух конкурсов «Учитель здоровья России» и «Школа – территория здоровья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f0179"/>
                </a:solidFill>
                <a:latin typeface="Calibri"/>
              </a:rPr>
              <a:t>Придать более современное звучание Положению о Конкурс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6" name="Рисунок 1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1617480" cy="1439640"/>
          </a:xfrm>
          <a:prstGeom prst="rect">
            <a:avLst/>
          </a:prstGeom>
          <a:ln w="0">
            <a:noFill/>
          </a:ln>
        </p:spPr>
      </p:pic>
      <p:pic>
        <p:nvPicPr>
          <p:cNvPr id="847" name="Picture 6" descr="D:\USERS\Бабуся\Pictures\ПОИПКРО, ПКИПКРО, ЦРО, ИРО ПК\Учитель здоровья 2013\IMG_3376 - копия.JPG"/>
          <p:cNvPicPr/>
          <p:nvPr/>
        </p:nvPicPr>
        <p:blipFill>
          <a:blip r:embed="rId2"/>
          <a:stretch/>
        </p:blipFill>
        <p:spPr>
          <a:xfrm>
            <a:off x="3419640" y="4765680"/>
            <a:ext cx="2790720" cy="20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cc"/>
                </a:solidFill>
                <a:latin typeface="Calibri"/>
              </a:rPr>
              <a:t>	</a:t>
            </a:r>
            <a:r>
              <a:rPr b="0" lang="ru-RU" sz="4400" spc="-1" strike="noStrike">
                <a:solidFill>
                  <a:srgbClr val="0066cc"/>
                </a:solidFill>
                <a:latin typeface="Calibri"/>
              </a:rPr>
              <a:t>Здоровье обучающихся – это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838080" y="1484280"/>
            <a:ext cx="392760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Calibri"/>
              </a:rPr>
              <a:t>одна из целей педагогического процесс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Calibri"/>
              </a:rPr>
              <a:t>средство повышения качества обучени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Calibri"/>
              </a:rPr>
              <a:t>критерий эффективности деятельности образовательной организац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0" name="Рисунок 7" descr="sm.jpg"/>
          <p:cNvPicPr/>
          <p:nvPr/>
        </p:nvPicPr>
        <p:blipFill>
          <a:blip r:embed="rId1"/>
          <a:stretch/>
        </p:blipFill>
        <p:spPr>
          <a:xfrm>
            <a:off x="4643280" y="1125360"/>
            <a:ext cx="3345120" cy="2229120"/>
          </a:xfrm>
          <a:prstGeom prst="rect">
            <a:avLst/>
          </a:prstGeom>
          <a:ln w="0">
            <a:noFill/>
          </a:ln>
        </p:spPr>
      </p:pic>
      <p:pic>
        <p:nvPicPr>
          <p:cNvPr id="851" name="Picture 5" descr="lechebnay-fizkultura-krasnoyarsk-bubnovskiy"/>
          <p:cNvPicPr/>
          <p:nvPr/>
        </p:nvPicPr>
        <p:blipFill>
          <a:blip r:embed="rId2"/>
          <a:stretch/>
        </p:blipFill>
        <p:spPr>
          <a:xfrm>
            <a:off x="4356000" y="3429000"/>
            <a:ext cx="2251080" cy="2941560"/>
          </a:xfrm>
          <a:prstGeom prst="rect">
            <a:avLst/>
          </a:prstGeom>
          <a:ln w="0">
            <a:noFill/>
          </a:ln>
        </p:spPr>
      </p:pic>
      <p:pic>
        <p:nvPicPr>
          <p:cNvPr id="852" name="Picture 6" descr="Территория здоровья"/>
          <p:cNvPicPr/>
          <p:nvPr/>
        </p:nvPicPr>
        <p:blipFill>
          <a:blip r:embed="rId3"/>
          <a:stretch/>
        </p:blipFill>
        <p:spPr>
          <a:xfrm>
            <a:off x="6877080" y="4489560"/>
            <a:ext cx="2266920" cy="1803240"/>
          </a:xfrm>
          <a:prstGeom prst="rect">
            <a:avLst/>
          </a:prstGeom>
          <a:ln w="0">
            <a:noFill/>
          </a:ln>
        </p:spPr>
      </p:pic>
      <p:pic>
        <p:nvPicPr>
          <p:cNvPr id="853" name="Рисунок 1" descr=""/>
          <p:cNvPicPr/>
          <p:nvPr/>
        </p:nvPicPr>
        <p:blipFill>
          <a:blip r:embed="rId4"/>
          <a:stretch/>
        </p:blipFill>
        <p:spPr>
          <a:xfrm>
            <a:off x="-181080" y="104760"/>
            <a:ext cx="1728720" cy="156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Наши контакт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"/>
          <p:cNvSpPr txBox="1"/>
          <p:nvPr/>
        </p:nvSpPr>
        <p:spPr>
          <a:xfrm>
            <a:off x="0" y="1267920"/>
            <a:ext cx="90360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SimSun"/>
              </a:rPr>
              <a:t>Министерство образования и науки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SimSun"/>
              </a:rPr>
              <a:t>Пермского края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nobr.permkrai.ru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SimSu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SimSu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iro.perm.ru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/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ГАУ ДПО «Институт развития образования Пермского края», Отдел сопровождения ФГОС. Тел. 8(342)212 21 99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-mail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ozdip@list.ru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Лядова Наталья Владимировн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Литератур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0" y="549360"/>
            <a:ext cx="9144000" cy="63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Федеральный закон «Об образовании в Российской Федерации» (с изменениями 2018 года)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zakon-ob-obrazovanii.ru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/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анПиН 2.4.2.2821-10 «Санитарно-эпидемиологические требования к условиям и организации обучения в общеобразовательных организациях. Санитарно-эпидемиологические правила и нормативы» с изменениями от 24 ноября 2015 года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</a:rPr>
              <a:t>https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</a:rPr>
              <a:t>://xn--80abucjiibhv9a.xn--p1ai/%D0%B4%D0%BE%D0%BA%D1%83%D0%BC%D0%B5%D0%BD%D1%82%D1%8B/11361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Анализ проведения урока с позиции здоровьесбережения [Электронный ресурс] – Режим доступа:  http:// school6nojabrsk.narod. ru (дата обращения: 11.04.2012). Источник: 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://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si-sv.com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/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publ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/1/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zdorovesberezhenie_na_uroke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/14-1-0-7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Ирхин В. Учитесь на здоровье: Здоровьеориентированный образовательный процесс на уроке / Владимир Ирхин, Ирина Ирхина. – М.: Чистые пруды, 2008. – 32 с. – (Библиотечка «Первого сентября», серия «Здоровье детей». Вып. 22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М.М.Безруких «Методические рекомендации по оценке состояния здоровья, учебной и внеучебной нагрузки, организации учебного процесса в 1, 10 классах при проведении широкомасштабного эксперимента (блок физиологического и психо-физиологического сопровождения эксперимента)», 2001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Лядова Н.В., Пастухова О.М., Гарсиа Э.Н. Мониторинг здоровья учащихся: Методическое пособие. – Пермь: ПОИПКРО, 2007 – 48 с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Лядова Н.В. Оценка деятельности общеобразовательного учреждения по сохранению и укреплению здоровья учащихся методическое пособие. – Пермь: ОТ и ДО, 2010. – 28 с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Лядова Н.В., Кокшаров В.Л. Результаты мониторинговых исследований состояния здоровьесберегающей среды в общеобразовательных организациях Пермского края. Электронный журнал «Вестник образования Пермского края». Вып. №.5.1.1 от 07.05.2015. Р.6.1.1., 22 с.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http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://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vopk.ru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/view.php?event=levelxx_view&amp;a=5|72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мирнов Н.К. Здоровьесберегающие образовательные технологии в работе учителя и школы. – М.: АРКТИ, 2003. – 271 с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мирнов Н.К. Руководство по здоровьесберегающей педагогике. Технологии здоровьесберегающего образования.  М.: АРКТИ, 2008.  288 с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Школы здоровья России : принципы и организация работы. Мониторинг развития и эффективность / В.Р.Кучма, Л.М Сухарева, И.К.Рапопорт и др.; под ред. В.Р.Кучмы. – М. : Просвещение, 2012. – 235 с. – (Работаем по новым стандартам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Школа здоровья [Электронный ресурс] – Режим доступа: http://Schools.Keldysh.ru (дата обращения: 11.04.2012) </a:t>
            </a: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Источник: </a:t>
            </a:r>
            <a:r>
              <a:rPr b="0" i="1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http</a:t>
            </a:r>
            <a:r>
              <a:rPr b="0" i="1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://</a:t>
            </a:r>
            <a:r>
              <a:rPr b="0" i="1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si-sv.com</a:t>
            </a:r>
            <a:r>
              <a:rPr b="0" i="1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/</a:t>
            </a:r>
            <a:r>
              <a:rPr b="0" i="1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publ</a:t>
            </a:r>
            <a:r>
              <a:rPr b="0" i="1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/1/</a:t>
            </a:r>
            <a:r>
              <a:rPr b="0" i="1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zdorovesberezhenie_na_uroke</a:t>
            </a:r>
            <a:r>
              <a:rPr b="0" i="1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23"/>
              </a:rPr>
              <a:t>/14-1-0-7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Ягодкина Е.Б. Приемы здоровьесбережения на уроках.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24"/>
              </a:rPr>
              <a:t>http://festival.1september.ru/articles/627448/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42800" y="15840"/>
            <a:ext cx="82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"/>
          <p:cNvSpPr txBox="1"/>
          <p:nvPr/>
        </p:nvSpPr>
        <p:spPr>
          <a:xfrm>
            <a:off x="0" y="115920"/>
            <a:ext cx="9144000" cy="67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ru-RU" sz="32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1" i="1" lang="ru-RU" sz="3200" spc="-1" strike="noStrike">
                <a:solidFill>
                  <a:srgbClr val="008000"/>
                </a:solidFill>
                <a:latin typeface="Calibri"/>
              </a:rPr>
              <a:t>	</a:t>
            </a:r>
            <a:r>
              <a:rPr b="1" i="1" lang="ru-RU" sz="3200" spc="-1" strike="noStrike">
                <a:solidFill>
                  <a:srgbClr val="008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8000"/>
                </a:solidFill>
                <a:latin typeface="Calibri"/>
              </a:rPr>
              <a:t>«Чтобы сделать ребенка умным и рассудительным – сделайте его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8000"/>
                </a:solidFill>
                <a:latin typeface="Calibri"/>
              </a:rPr>
              <a:t>крепким и здоровым» </a:t>
            </a:r>
            <a:r>
              <a:rPr b="1" i="1" lang="ru-RU" sz="3600" spc="-1" strike="noStrike">
                <a:solidFill>
                  <a:srgbClr val="008000"/>
                </a:solidFill>
                <a:latin typeface="Calibri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8000"/>
                </a:solidFill>
                <a:latin typeface="Calibri"/>
              </a:rPr>
              <a:t>/Жан Жак Руссо/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5" name="Рисунок 3" descr="john-jacques-rousseau-i4.jpg"/>
          <p:cNvPicPr/>
          <p:nvPr/>
        </p:nvPicPr>
        <p:blipFill>
          <a:blip r:embed="rId1"/>
          <a:stretch/>
        </p:blipFill>
        <p:spPr>
          <a:xfrm>
            <a:off x="3995640" y="476280"/>
            <a:ext cx="1728720" cy="20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990099"/>
                </a:solidFill>
                <a:latin typeface="Calibri"/>
              </a:rPr>
              <a:t>Благодарю за внимание!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9" name="Содержимое 5" descr="Счастье 3.jpg"/>
          <p:cNvPicPr/>
          <p:nvPr/>
        </p:nvPicPr>
        <p:blipFill>
          <a:blip r:embed="rId1"/>
          <a:stretch/>
        </p:blipFill>
        <p:spPr>
          <a:xfrm>
            <a:off x="1238400" y="1849320"/>
            <a:ext cx="6667200" cy="402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Calibri"/>
              </a:rPr>
              <a:t>В Пермском крае накоплен большой опыт </a:t>
            </a:r>
            <a:br>
              <a:rPr sz="2800"/>
            </a:br>
            <a:r>
              <a:rPr b="1" lang="ru-RU" sz="2800" spc="-1" strike="noStrike">
                <a:solidFill>
                  <a:srgbClr val="000099"/>
                </a:solidFill>
                <a:latin typeface="Calibri"/>
              </a:rPr>
              <a:t>в решении вопросов здоровьесбережения школьников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0" y="2565000"/>
            <a:ext cx="90676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создана сеть школ, содействующих здоровью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проводятся краевые этапы всероссийских конкурсов «Школа – территория здоровья» (2005-2011, 2018), «Учитель здоровья России» (2011-2014, 2018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проведено 15 краевых НПК  «Здоровье и образование»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апробирована единая система мониторинга здоровьесберегающей среды в ОО Пермского края с использованием разработанного в ИРО ПК Web-ресурса – сайта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eduhealth.iro.perm.ru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  «Школьное здоровье», 2014 г.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8" name="Рисунок 6" descr="IMG_3362.JPG"/>
          <p:cNvPicPr/>
          <p:nvPr/>
        </p:nvPicPr>
        <p:blipFill>
          <a:blip r:embed="rId2"/>
          <a:stretch/>
        </p:blipFill>
        <p:spPr>
          <a:xfrm>
            <a:off x="6659640" y="1052640"/>
            <a:ext cx="2305080" cy="1728720"/>
          </a:xfrm>
          <a:prstGeom prst="rect">
            <a:avLst/>
          </a:prstGeom>
          <a:ln w="0">
            <a:noFill/>
          </a:ln>
        </p:spPr>
      </p:pic>
      <p:pic>
        <p:nvPicPr>
          <p:cNvPr id="799" name="Picture 5" descr=""/>
          <p:cNvPicPr/>
          <p:nvPr/>
        </p:nvPicPr>
        <p:blipFill>
          <a:blip r:embed="rId3"/>
          <a:stretch/>
        </p:blipFill>
        <p:spPr>
          <a:xfrm>
            <a:off x="539640" y="1125360"/>
            <a:ext cx="2016360" cy="1511640"/>
          </a:xfrm>
          <a:prstGeom prst="rect">
            <a:avLst/>
          </a:prstGeom>
          <a:ln w="0">
            <a:noFill/>
          </a:ln>
        </p:spPr>
      </p:pic>
      <p:pic>
        <p:nvPicPr>
          <p:cNvPr id="800" name="Рисунок 1" descr=""/>
          <p:cNvPicPr/>
          <p:nvPr/>
        </p:nvPicPr>
        <p:blipFill>
          <a:blip r:embed="rId4"/>
          <a:stretch/>
        </p:blipFill>
        <p:spPr>
          <a:xfrm>
            <a:off x="-108000" y="0"/>
            <a:ext cx="1150920" cy="102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925200" y="333360"/>
            <a:ext cx="821844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Calibri"/>
              </a:rPr>
              <a:t>В рамках проекта Министерства просвещения РФ «Внедрение в общеобразовательных организациях системы мониторинга здоровья обучающихся на основе отечественной технологической платформы»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"/>
          <p:cNvSpPr txBox="1"/>
          <p:nvPr/>
        </p:nvSpPr>
        <p:spPr>
          <a:xfrm>
            <a:off x="0" y="1125360"/>
            <a:ext cx="91440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f0179"/>
                </a:solidFill>
                <a:latin typeface="Calibri"/>
              </a:rPr>
              <a:t>создан Региональный центр мониторинга здоровья обучающихся с ОВЗ, октябрь 2017 г.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f0179"/>
                </a:solidFill>
                <a:latin typeface="Calibri"/>
              </a:rPr>
              <a:t>10 школ, осуществляющих образовательную деятельность по адаптированным основным общеобразовательным программам, участвующих в реализации этого проекта в рамках подпрограммы Российской Федерации «Развитие фармацевтической и медицинской промышленности» на 2013-2020 годы» в 2017 году получили современное оборудование для мониторинга здоровья обучающихся с особыми образовательными потребностями, и сотрудники прошли повышение квалификации по вопросам внедрения системы мониторинга здоровья обучающихс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3" name="Рисунок 1" descr=""/>
          <p:cNvPicPr/>
          <p:nvPr/>
        </p:nvPicPr>
        <p:blipFill>
          <a:blip r:embed="rId1"/>
          <a:stretch/>
        </p:blipFill>
        <p:spPr>
          <a:xfrm>
            <a:off x="-108000" y="0"/>
            <a:ext cx="1150920" cy="10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Прямоугольник 1"/>
          <p:cNvSpPr/>
          <p:nvPr/>
        </p:nvSpPr>
        <p:spPr>
          <a:xfrm>
            <a:off x="826920" y="333360"/>
            <a:ext cx="8317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7f0179"/>
                </a:solidFill>
                <a:latin typeface="Arial"/>
              </a:rPr>
              <a:t>реализуются мероприятия по формированию здорового образа жизни обучающихся и педагогов образовательных организаций Пермского края, утвержденные Минобром ПК на 2017-2018 учебный го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SimSun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SimSun"/>
              </a:rPr>
              <a:t>Для комплексного решения проблем здоровья школьников в Пермском крае разрабатывается </a:t>
            </a:r>
            <a:r>
              <a:rPr b="1" lang="ru-RU" sz="2400" spc="-1" strike="noStrike">
                <a:solidFill>
                  <a:srgbClr val="800080"/>
                </a:solidFill>
                <a:latin typeface="Arial"/>
                <a:ea typeface="SimSun"/>
              </a:rPr>
              <a:t>региональная модель здоровьесберегающего общего образ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Прямоугольник 2"/>
          <p:cNvSpPr/>
          <p:nvPr/>
        </p:nvSpPr>
        <p:spPr>
          <a:xfrm>
            <a:off x="179280" y="3357720"/>
            <a:ext cx="896472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99"/>
                </a:solidFill>
                <a:latin typeface="Arial"/>
                <a:ea typeface="SimSun"/>
              </a:rPr>
              <a:t>	</a:t>
            </a:r>
            <a:r>
              <a:rPr b="0" i="1" lang="ru-RU" sz="2800" spc="-1" strike="noStrike">
                <a:solidFill>
                  <a:srgbClr val="000099"/>
                </a:solidFill>
                <a:latin typeface="Arial"/>
                <a:ea typeface="SimSun"/>
              </a:rPr>
              <a:t>	</a:t>
            </a:r>
            <a:r>
              <a:rPr b="0" i="1" lang="ru-RU" sz="2800" spc="-1" strike="noStrike">
                <a:solidFill>
                  <a:srgbClr val="000099"/>
                </a:solidFill>
                <a:latin typeface="Arial"/>
                <a:ea typeface="SimSun"/>
              </a:rPr>
              <a:t>	</a:t>
            </a:r>
            <a:r>
              <a:rPr b="0" i="1" lang="ru-RU" sz="2800" spc="-1" strike="noStrike">
                <a:solidFill>
                  <a:srgbClr val="000099"/>
                </a:solidFill>
                <a:latin typeface="Arial"/>
                <a:ea typeface="SimSu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Arial"/>
                <a:ea typeface="SimSun"/>
              </a:rPr>
              <a:t>	</a:t>
            </a:r>
            <a:r>
              <a:rPr b="1" i="1" lang="ru-RU" sz="2800" spc="-1" strike="noStrike">
                <a:solidFill>
                  <a:srgbClr val="000099"/>
                </a:solidFill>
                <a:latin typeface="Arial"/>
                <a:ea typeface="SimSun"/>
              </a:rPr>
              <a:t>	</a:t>
            </a:r>
            <a:r>
              <a:rPr b="0" i="1" lang="ru-RU" sz="2800" spc="-1" strike="noStrike">
                <a:solidFill>
                  <a:srgbClr val="000099"/>
                </a:solidFill>
                <a:latin typeface="Arial"/>
                <a:ea typeface="SimSun"/>
              </a:rPr>
              <a:t> </a:t>
            </a:r>
            <a:r>
              <a:rPr b="0" lang="ru-RU" sz="2400" spc="-1" strike="noStrike">
                <a:solidFill>
                  <a:srgbClr val="7f0179"/>
                </a:solidFill>
                <a:latin typeface="Arial"/>
                <a:ea typeface="SimSun"/>
              </a:rPr>
              <a:t>– </a:t>
            </a:r>
            <a:r>
              <a:rPr b="1" lang="ru-RU" sz="2400" spc="-1" strike="noStrike">
                <a:solidFill>
                  <a:srgbClr val="7f0179"/>
                </a:solidFill>
                <a:latin typeface="Arial"/>
                <a:ea typeface="SimSun"/>
              </a:rPr>
              <a:t>модернизация образовательной сист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Arial"/>
                <a:ea typeface="SimSun"/>
              </a:rPr>
              <a:t>	</a:t>
            </a:r>
            <a:r>
              <a:rPr b="1" lang="ru-RU" sz="2400" spc="-1" strike="noStrike">
                <a:solidFill>
                  <a:srgbClr val="7f0179"/>
                </a:solidFill>
                <a:latin typeface="Arial"/>
                <a:ea typeface="SimSun"/>
              </a:rPr>
              <a:t>	</a:t>
            </a:r>
            <a:r>
              <a:rPr b="1" lang="ru-RU" sz="2400" spc="-1" strike="noStrike">
                <a:solidFill>
                  <a:srgbClr val="7f0179"/>
                </a:solidFill>
                <a:latin typeface="Arial"/>
                <a:ea typeface="SimSun"/>
              </a:rPr>
              <a:t> </a:t>
            </a:r>
            <a:r>
              <a:rPr b="1" lang="ru-RU" sz="2400" spc="-1" strike="noStrike">
                <a:solidFill>
                  <a:srgbClr val="7f0179"/>
                </a:solidFill>
                <a:latin typeface="Arial"/>
                <a:ea typeface="SimSun"/>
              </a:rPr>
              <a:t>общеобразовательных организаций 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Arial"/>
                <a:ea typeface="SimSun"/>
              </a:rPr>
              <a:t>	</a:t>
            </a:r>
            <a:r>
              <a:rPr b="1" lang="ru-RU" sz="2400" spc="-1" strike="noStrike">
                <a:solidFill>
                  <a:srgbClr val="7f0179"/>
                </a:solidFill>
                <a:latin typeface="Arial"/>
                <a:ea typeface="SimSun"/>
              </a:rPr>
              <a:t>	</a:t>
            </a:r>
            <a:r>
              <a:rPr b="1" lang="ru-RU" sz="2400" spc="-1" strike="noStrike">
                <a:solidFill>
                  <a:srgbClr val="7f0179"/>
                </a:solidFill>
                <a:latin typeface="Arial"/>
                <a:ea typeface="SimSun"/>
              </a:rPr>
              <a:t> </a:t>
            </a:r>
            <a:r>
              <a:rPr b="1" lang="ru-RU" sz="2400" spc="-1" strike="noStrike">
                <a:solidFill>
                  <a:srgbClr val="7f0179"/>
                </a:solidFill>
                <a:latin typeface="Arial"/>
                <a:ea typeface="SimSun"/>
              </a:rPr>
              <a:t>основе создания и развития здоровьесберегающей среды, направленной на содействие здоровью в контексте требований ФГОС и в условиях внедрения ВФСК ГТ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6" name="Рисунок 3" descr="cel.jpg"/>
          <p:cNvPicPr/>
          <p:nvPr/>
        </p:nvPicPr>
        <p:blipFill>
          <a:blip r:embed="rId1"/>
          <a:stretch/>
        </p:blipFill>
        <p:spPr>
          <a:xfrm>
            <a:off x="108000" y="3860640"/>
            <a:ext cx="1944720" cy="1109880"/>
          </a:xfrm>
          <a:prstGeom prst="rect">
            <a:avLst/>
          </a:prstGeom>
          <a:ln w="0">
            <a:noFill/>
          </a:ln>
        </p:spPr>
      </p:pic>
      <p:pic>
        <p:nvPicPr>
          <p:cNvPr id="807" name="Рисунок 1" descr=""/>
          <p:cNvPicPr/>
          <p:nvPr/>
        </p:nvPicPr>
        <p:blipFill>
          <a:blip r:embed="rId2"/>
          <a:stretch/>
        </p:blipFill>
        <p:spPr>
          <a:xfrm>
            <a:off x="-108000" y="0"/>
            <a:ext cx="1008000" cy="8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8101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Calibri"/>
              </a:rPr>
              <a:t>Роль Конкурса «Учитель здоровья России-2018» в приобщении педагогов к делу воспитания культуры здоровья педагогов и обучающихся видится в следующем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"/>
          <p:cNvSpPr txBox="1"/>
          <p:nvPr/>
        </p:nvSpPr>
        <p:spPr>
          <a:xfrm>
            <a:off x="0" y="1196640"/>
            <a:ext cx="91440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Педагоги не остались равнодушными к вопросам формирования культуры здоровья школьников и поучаствовали в этом Конкурс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Те, кто поучаствовал, показали свое желание и умение гармонично включать в содержание учебного материала по своему предмету вопросы формирования культуры здорового образа жизни и применять здоровьесберегающие подходы в ходе уро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В очном этапе Конкурса педагог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демонстрировали системно-деятельностный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подход к обучению, ставили и достигал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цели по развитию личностных, метапредмет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ных УУД и предметных умений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демонстрировали хорошую коммуникативную культур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0" name="Picture 6" descr="Рисунок11"/>
          <p:cNvPicPr/>
          <p:nvPr/>
        </p:nvPicPr>
        <p:blipFill>
          <a:blip r:embed="rId1"/>
          <a:stretch/>
        </p:blipFill>
        <p:spPr>
          <a:xfrm>
            <a:off x="6300720" y="3716280"/>
            <a:ext cx="2843280" cy="2127240"/>
          </a:xfrm>
          <a:prstGeom prst="rect">
            <a:avLst/>
          </a:prstGeom>
          <a:ln w="0">
            <a:noFill/>
          </a:ln>
        </p:spPr>
      </p:pic>
      <p:pic>
        <p:nvPicPr>
          <p:cNvPr id="811" name="Рисунок 1" descr=""/>
          <p:cNvPicPr/>
          <p:nvPr/>
        </p:nvPicPr>
        <p:blipFill>
          <a:blip r:embed="rId2"/>
          <a:stretch/>
        </p:blipFill>
        <p:spPr>
          <a:xfrm>
            <a:off x="-108000" y="0"/>
            <a:ext cx="1150920" cy="10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"/>
          <p:cNvSpPr txBox="1"/>
          <p:nvPr/>
        </p:nvSpPr>
        <p:spPr>
          <a:xfrm>
            <a:off x="0" y="952560"/>
            <a:ext cx="91440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В «Самоанализе мероприятия» конкурсанты показали умение видеть свои недостатки, ошибки и их причины, не бояться сказать о ни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В творческой презентации «Я – учитель здоровья» представили положительный опыт своей продолжительной и системной работы по формированию культуры здоровья обучающихся, наличие результатов по сохранению и улучшению здоровья детей, по формированию мотивации у детей следовать правилам ЗОЖ, показали свою приверженность ЗОЖ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Такие учителя по праву достойны называться учителями здоровья и быть примером для коллег.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4" name="Рисунок 1" descr=""/>
          <p:cNvPicPr/>
          <p:nvPr/>
        </p:nvPicPr>
        <p:blipFill>
          <a:blip r:embed="rId1"/>
          <a:stretch/>
        </p:blipFill>
        <p:spPr>
          <a:xfrm>
            <a:off x="-108000" y="0"/>
            <a:ext cx="1150920" cy="10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1042920" y="-360"/>
            <a:ext cx="76550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Calibri"/>
              </a:rPr>
              <a:t>Общим положительным результатом Конкурса-2018 для участвовавших в нём педагогов является то, чт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"/>
          <p:cNvSpPr txBox="1"/>
          <p:nvPr/>
        </p:nvSpPr>
        <p:spPr>
          <a:xfrm>
            <a:off x="0" y="764640"/>
            <a:ext cx="9144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Calibri"/>
              </a:rPr>
              <a:t>   </a:t>
            </a: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каждый участник  заочного тура повысил свою компетентность и получил опыт представления результатов педагогической деятельности, в том числе, в направлении формирования здорового образа жизни обучающихс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   </a:t>
            </a: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участники очного тура получили бесценный опыт проведения здоровьесберегающих уроков с учетом требований Положения о Конкурсе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и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в условиях профессионального соперничеств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   </a:t>
            </a: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участие педагогов в Конкурсе дает бонусы к их аттестации через портфолио учителя (дипломы, сертификаты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   </a:t>
            </a: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победитель и лауреаты Конкурса получили денежное вознаграждение. Все участники получили моральное вознаграждение в виде размещения информации в сети интернет на сайте ИРО Пермского кра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7" name="Picture 4" descr="IMG_20180928_131629"/>
          <p:cNvPicPr/>
          <p:nvPr/>
        </p:nvPicPr>
        <p:blipFill>
          <a:blip r:embed="rId1"/>
          <a:stretch/>
        </p:blipFill>
        <p:spPr>
          <a:xfrm>
            <a:off x="539640" y="5229360"/>
            <a:ext cx="2178000" cy="1628640"/>
          </a:xfrm>
          <a:prstGeom prst="rect">
            <a:avLst/>
          </a:prstGeom>
          <a:ln w="0">
            <a:noFill/>
          </a:ln>
        </p:spPr>
      </p:pic>
      <p:pic>
        <p:nvPicPr>
          <p:cNvPr id="818" name="Picture 5" descr="IMG_20181002_133137"/>
          <p:cNvPicPr/>
          <p:nvPr/>
        </p:nvPicPr>
        <p:blipFill>
          <a:blip r:embed="rId2"/>
          <a:stretch/>
        </p:blipFill>
        <p:spPr>
          <a:xfrm>
            <a:off x="3348000" y="5214960"/>
            <a:ext cx="2197080" cy="1643040"/>
          </a:xfrm>
          <a:prstGeom prst="rect">
            <a:avLst/>
          </a:prstGeom>
          <a:ln w="0">
            <a:noFill/>
          </a:ln>
        </p:spPr>
      </p:pic>
      <p:pic>
        <p:nvPicPr>
          <p:cNvPr id="819" name="Picture 6" descr="IMG_20180928_123823"/>
          <p:cNvPicPr/>
          <p:nvPr/>
        </p:nvPicPr>
        <p:blipFill>
          <a:blip r:embed="rId3"/>
          <a:stretch/>
        </p:blipFill>
        <p:spPr>
          <a:xfrm>
            <a:off x="6084720" y="5160960"/>
            <a:ext cx="2259360" cy="1697040"/>
          </a:xfrm>
          <a:prstGeom prst="rect">
            <a:avLst/>
          </a:prstGeom>
          <a:ln w="0">
            <a:noFill/>
          </a:ln>
        </p:spPr>
      </p:pic>
      <p:pic>
        <p:nvPicPr>
          <p:cNvPr id="820" name="Рисунок 1" descr=""/>
          <p:cNvPicPr/>
          <p:nvPr/>
        </p:nvPicPr>
        <p:blipFill>
          <a:blip r:embed="rId4"/>
          <a:stretch/>
        </p:blipFill>
        <p:spPr>
          <a:xfrm>
            <a:off x="-108000" y="0"/>
            <a:ext cx="1008000" cy="8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755640" y="102960"/>
            <a:ext cx="79423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cc"/>
              </a:solidFill>
              <a:latin typeface="Calibri"/>
            </a:endParaRPr>
          </a:p>
        </p:txBody>
      </p:sp>
      <p:sp>
        <p:nvSpPr>
          <p:cNvPr id="822" name=""/>
          <p:cNvSpPr txBox="1"/>
          <p:nvPr/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участие Министерства образования и науки Пермского края в качестве учредителя Конкурса придало статусность, весомость и значимость Конкурсу, и соответственно -  вопросам здоровьесбережения, формирования культуры здоровья - в глазах руководителей общеобразовательных организаций;</a:t>
            </a: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  <a:ea typeface="SimSun"/>
              </a:rPr>
              <a:t>актуализируются тема «здоровье школьника», проблемы формирования культуры здоровья в образовательном пространств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  <a:ea typeface="SimSun"/>
              </a:rPr>
              <a:t>появляется возможность создать и развить региональную сеть школ здоровья, создать банк таких школ и педагогов – учителей здоровья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  <a:ea typeface="SimSun"/>
              </a:rPr>
              <a:t>появляется возможность трансляции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  <a:ea typeface="SimSun"/>
              </a:rPr>
              <a:t>распространения лучшего педагогического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  <a:ea typeface="SimSun"/>
              </a:rPr>
              <a:t>опыта по формированию культуры здоровь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  <a:ea typeface="SimSun"/>
              </a:rPr>
              <a:t>у обучающихся и педагогов.</a:t>
            </a:r>
            <a:r>
              <a:rPr b="1" lang="ru-RU" sz="3200" spc="-1" strike="noStrike">
                <a:solidFill>
                  <a:srgbClr val="7f0179"/>
                </a:solidFill>
                <a:latin typeface="Calibri"/>
                <a:ea typeface="SimSu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3" name="Picture 9" descr="Копия IMG_20171102_125237"/>
          <p:cNvPicPr/>
          <p:nvPr/>
        </p:nvPicPr>
        <p:blipFill>
          <a:blip r:embed="rId1"/>
          <a:stretch/>
        </p:blipFill>
        <p:spPr>
          <a:xfrm>
            <a:off x="6335640" y="4751280"/>
            <a:ext cx="2808360" cy="2106720"/>
          </a:xfrm>
          <a:prstGeom prst="rect">
            <a:avLst/>
          </a:prstGeom>
          <a:ln w="0">
            <a:noFill/>
          </a:ln>
        </p:spPr>
      </p:pic>
      <p:pic>
        <p:nvPicPr>
          <p:cNvPr id="824" name="Рисунок 1" descr=""/>
          <p:cNvPicPr/>
          <p:nvPr/>
        </p:nvPicPr>
        <p:blipFill>
          <a:blip r:embed="rId2"/>
          <a:stretch/>
        </p:blipFill>
        <p:spPr>
          <a:xfrm>
            <a:off x="-108000" y="0"/>
            <a:ext cx="1150920" cy="10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6T08:26:38Z</dcterms:created>
  <dc:creator>Лядова Н.В.</dc:creator>
  <dc:description/>
  <dc:language>en-US</dc:language>
  <cp:lastModifiedBy>Ljadova-NV</cp:lastModifiedBy>
  <dcterms:modified xsi:type="dcterms:W3CDTF">2019-05-14T10:54:42Z</dcterms:modified>
  <cp:revision>405</cp:revision>
  <dc:subject/>
  <dc:title>Оразование и здоровье. Школа, содействующая укреплению здоровь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49-10.2.0.7516</vt:lpwstr>
  </property>
</Properties>
</file>