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FD108-81BE-4DF1-85D7-231F75B37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65E6C-8F81-41FB-8167-78604ED83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1D4E5-9A6E-47A9-918B-66D5A47CF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A295D-408D-4BA3-BC03-99DE5830A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F0C71-DFB8-439B-9CEB-7987F6333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3AC43-DC6F-4B02-B782-5AAFA6C28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181BF-671C-4034-9672-CB2B86F79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90C5C-6B15-476C-B570-A81DD0CBC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CD02B-9B9D-4F10-AA32-4C343AF00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206AC-BB21-4B9A-897D-BB58EA669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47EDF-5D47-4F49-86ED-929398B6B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A2AAB-3227-4860-A06C-B9172C655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079D2-0401-4911-9FFB-B475AEDB262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zdorobr.org/" TargetMode="External"/><Relationship Id="rId2" Type="http://schemas.openxmlformats.org/officeDocument/2006/relationships/hyperlink" Target="mailto:zdorovie.2014@yandex.ru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ro.perm.ru/" TargetMode="External"/><Relationship Id="rId2" Type="http://schemas.openxmlformats.org/officeDocument/2006/relationships/hyperlink" Target="http://iro.perm.ru/" TargetMode="External"/><Relationship Id="rId3" Type="http://schemas.openxmlformats.org/officeDocument/2006/relationships/hyperlink" Target="http://iro.perm.ru/" TargetMode="External"/><Relationship Id="rId4" Type="http://schemas.openxmlformats.org/officeDocument/2006/relationships/hyperlink" Target="http://www.iro.perm.ru/uchitel_zdorovia_rossii_2015.html" TargetMode="External"/><Relationship Id="rId5" Type="http://schemas.openxmlformats.org/officeDocument/2006/relationships/hyperlink" Target="http://iro.perm.ru/catalog.html?cid=9" TargetMode="External"/><Relationship Id="rId6" Type="http://schemas.openxmlformats.org/officeDocument/2006/relationships/hyperlink" Target="http://iro.perm.ru/catalog.html?cid=9" TargetMode="External"/><Relationship Id="rId7" Type="http://schemas.openxmlformats.org/officeDocument/2006/relationships/hyperlink" Target="http://iro.perm.ru/catalog.html?cid=9" TargetMode="External"/><Relationship Id="rId8" Type="http://schemas.openxmlformats.org/officeDocument/2006/relationships/hyperlink" Target="http://iro.perm.ru/catalog.html?cid=9" TargetMode="External"/><Relationship Id="rId9" Type="http://schemas.openxmlformats.org/officeDocument/2006/relationships/hyperlink" Target="mailto:ozdip@list.ru" TargetMode="External"/><Relationship Id="rId10" Type="http://schemas.openxmlformats.org/officeDocument/2006/relationships/image" Target="../media/image2.png"/><Relationship Id="rId11" Type="http://schemas.openxmlformats.org/officeDocument/2006/relationships/image" Target="../media/image1.png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mailto:ozdip@list.ru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160720" y="620640"/>
            <a:ext cx="687528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33"/>
                </a:solidFill>
                <a:latin typeface="Calibri"/>
              </a:rPr>
              <a:t>Краевой этап </a:t>
            </a:r>
            <a:br>
              <a:rPr sz="3600"/>
            </a:br>
            <a:r>
              <a:rPr b="1" lang="en-US" sz="3600" spc="-1" strike="noStrike">
                <a:solidFill>
                  <a:srgbClr val="339933"/>
                </a:solidFill>
                <a:latin typeface="Calibri"/>
              </a:rPr>
              <a:t>X </a:t>
            </a:r>
            <a:r>
              <a:rPr b="1" lang="ru-RU" sz="3600" spc="-1" strike="noStrike">
                <a:solidFill>
                  <a:srgbClr val="339933"/>
                </a:solidFill>
                <a:latin typeface="Calibri"/>
              </a:rPr>
              <a:t>Всероссийского конкурса </a:t>
            </a:r>
            <a:br>
              <a:rPr sz="3600"/>
            </a:br>
            <a:r>
              <a:rPr b="1" lang="ru-RU" sz="3600" spc="-1" strike="noStrike">
                <a:solidFill>
                  <a:srgbClr val="339933"/>
                </a:solidFill>
                <a:latin typeface="Calibri"/>
              </a:rPr>
              <a:t>«Учитель здоровья России - 2019»: условия участия, требования, критерии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547560" y="4457520"/>
            <a:ext cx="8229600" cy="28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ru-RU" sz="2400" spc="-1" strike="noStrike">
                <a:solidFill>
                  <a:srgbClr val="339933"/>
                </a:solidFill>
                <a:latin typeface="Calibri"/>
              </a:rPr>
              <a:t>Лядова Наталья Владимировна</a:t>
            </a:r>
            <a:r>
              <a:rPr b="1" lang="ru-RU" sz="2400" spc="-1" strike="noStrike">
                <a:solidFill>
                  <a:srgbClr val="339933"/>
                </a:solidFill>
                <a:latin typeface="Calibri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9933"/>
                </a:solidFill>
                <a:latin typeface="Calibri"/>
              </a:rPr>
              <a:t>ответственная за проведение краевого конкурса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9933"/>
                </a:solidFill>
                <a:latin typeface="Calibri"/>
              </a:rPr>
              <a:t>ведущий научный сотрудник отдела сопровождения ФГОС ИРО ПК, кандидат медицинских наук, доцент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5" descr=""/>
          <p:cNvPicPr/>
          <p:nvPr/>
        </p:nvPicPr>
        <p:blipFill>
          <a:blip r:embed="rId1"/>
          <a:stretch/>
        </p:blipFill>
        <p:spPr>
          <a:xfrm>
            <a:off x="6480" y="285840"/>
            <a:ext cx="2155680" cy="23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9933"/>
                </a:solidFill>
                <a:latin typeface="Calibri"/>
              </a:rPr>
              <a:t>Поощрение победителя и лауреатов Конкурс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0" y="1073160"/>
            <a:ext cx="9144000" cy="567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бедитель, призеры и лауреаты Конкурса поощряются денежными вознаграждениям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се участники 1-го заочного тура Конкурса награждаются дипломам участников, победитель, призеры и лауреаты (участники 2 тура) – дипломам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бедитель Конкурса будет направлен для очного участия во всероссийском (финальном) этапе X Всероссийского конкурса «Учитель здоровья России – 2019», который будет проводиться 27-29 ноября 2019 года в городе Челябинск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ием документов победителя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– д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о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1 ноября. Сайт 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zdorobr.org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дрес Оргкомитета: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zdorovie.2014@yandex.ru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5" descr=""/>
          <p:cNvPicPr/>
          <p:nvPr/>
        </p:nvPicPr>
        <p:blipFill>
          <a:blip r:embed="rId3"/>
          <a:stretch/>
        </p:blipFill>
        <p:spPr>
          <a:xfrm>
            <a:off x="8028000" y="0"/>
            <a:ext cx="124452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Успехов участникам!!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5" descr=""/>
          <p:cNvPicPr/>
          <p:nvPr/>
        </p:nvPicPr>
        <p:blipFill>
          <a:blip r:embed="rId1"/>
          <a:stretch/>
        </p:blipFill>
        <p:spPr>
          <a:xfrm>
            <a:off x="3276720" y="2781360"/>
            <a:ext cx="2155680" cy="23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Поиск информации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о конкурсе на сайте ИРО ПК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0" y="1483920"/>
            <a:ext cx="90360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ГАУ ДПО «Институт развития образования Пермского края» 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iro.perm.ru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/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Мероприятия/«Учитель здоровья России»/ </a:t>
            </a: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http://www.iro.perm.ru/uchitel_zdorovia_rossii_2015.html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тдел сопровождения ФГОС ИРО ПК </a:t>
            </a: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http</a:t>
            </a: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://</a:t>
            </a: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iro.perm.ru</a:t>
            </a: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/catalog.html?cid=9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ел. 8(342)212 21 99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Лядов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Наталья Владимировна, 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ozdip@list.ru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8 922 64 79 308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5" descr="logo2"/>
          <p:cNvPicPr/>
          <p:nvPr/>
        </p:nvPicPr>
        <p:blipFill>
          <a:blip r:embed="rId10"/>
          <a:stretch/>
        </p:blipFill>
        <p:spPr>
          <a:xfrm>
            <a:off x="539640" y="333360"/>
            <a:ext cx="1828800" cy="11257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" descr=""/>
          <p:cNvPicPr/>
          <p:nvPr/>
        </p:nvPicPr>
        <p:blipFill>
          <a:blip r:embed="rId11"/>
          <a:stretch/>
        </p:blipFill>
        <p:spPr>
          <a:xfrm>
            <a:off x="7667640" y="189000"/>
            <a:ext cx="124452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33"/>
                </a:solidFill>
                <a:latin typeface="Calibri"/>
              </a:rPr>
              <a:t>К участию в Конкурсе</a:t>
            </a:r>
            <a:br>
              <a:rPr sz="3600"/>
            </a:br>
            <a:r>
              <a:rPr b="1" lang="en-US" sz="3600" spc="-1" strike="noStrike">
                <a:solidFill>
                  <a:srgbClr val="339933"/>
                </a:solidFill>
                <a:latin typeface="Calibri"/>
              </a:rPr>
              <a:t>приглашаютс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179280" y="1600200"/>
            <a:ext cx="89647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учителя и педагоги общеобразовательных организаций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педагоги дополнительного образования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преподаватели среднего профессионального образования Пермского кра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5" descr=""/>
          <p:cNvPicPr/>
          <p:nvPr/>
        </p:nvPicPr>
        <p:blipFill>
          <a:blip r:embed="rId1"/>
          <a:stretch/>
        </p:blipFill>
        <p:spPr>
          <a:xfrm>
            <a:off x="7445520" y="0"/>
            <a:ext cx="1376280" cy="14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Цели Конкурса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3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ыявление лучших учителей, осуществляющих обучение на уроках, занятиях на основе использования современных здоровьесберегающих образовательных технологий, и определение кандидата для участия в финальном этапе X Всероссийского конкурса «Учитель здоровья России – 2019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Задачи Конкурса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ктуализация проблемы формирования культуры здоровья в системе образования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ыявление инновационных подходов педагогов к формированию культуры здорового и безопасного образа жизни у обучающихся, воспитанников, использования педагогами здоровьесберегающих образовательных технологий, методик в процессе обучения и воспита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Туры конкурса и конкурсные мероприят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1-й – заочный ту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Конкурсное мероприятие: «Технологическая карта или Конспект урока или занятия»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2-й – очный тур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Конкурсные мероприятия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Фрагмент урока или внеклассного занятия с детьм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Самоанализ мероприятия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Творческая презентация педагогического опыта «Я – учитель здоровья»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9933"/>
                </a:solidFill>
                <a:latin typeface="Calibri"/>
              </a:rPr>
              <a:t>Сроки проведен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0" y="1052640"/>
            <a:ext cx="914400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Туры Конкурса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9933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9933"/>
                </a:solidFill>
                <a:latin typeface="Calibri"/>
              </a:rPr>
              <a:t>1-й – заочный – с 20 мая по 9 сентября 2019 г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9933"/>
                </a:solidFill>
                <a:latin typeface="Calibri"/>
              </a:rPr>
              <a:t>Место проведения - ГАУ ДПО «ИРО ПК»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9933"/>
                </a:solidFill>
                <a:latin typeface="Calibri"/>
              </a:rPr>
              <a:t>2) 2-й – очный – 25-26 сентября 2019 г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9933"/>
                </a:solidFill>
                <a:latin typeface="Calibri"/>
              </a:rPr>
              <a:t>Место его проведения будет размещено на сайте ГАУ ДПО «ИРО ПК» http://iro.perm.ru/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9933"/>
                </a:solidFill>
                <a:latin typeface="Calibri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фициальной эмблемой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Конкурса </a:t>
            </a:r>
            <a:r>
              <a:rPr b="1" lang="ru-RU" sz="2800" spc="-1" strike="noStrike">
                <a:solidFill>
                  <a:srgbClr val="339933"/>
                </a:solidFill>
                <a:latin typeface="Calibri"/>
              </a:rPr>
              <a:t>является развернутая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9933"/>
                </a:solidFill>
                <a:latin typeface="Calibri"/>
              </a:rPr>
              <a:t>книга с дубовым листом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9933"/>
                </a:solidFill>
                <a:latin typeface="Calibri"/>
              </a:rPr>
              <a:t>	</a:t>
            </a:r>
            <a:r>
              <a:rPr b="1" lang="ru-RU" sz="2800" spc="-1" strike="noStrike">
                <a:solidFill>
                  <a:srgbClr val="339933"/>
                </a:solidFill>
                <a:latin typeface="Calibri"/>
              </a:rPr>
              <a:t>Использование официальной эмблемы Конкурса обязательно на краевом этапе X Всероссийского конкурс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5" descr=""/>
          <p:cNvPicPr/>
          <p:nvPr/>
        </p:nvPicPr>
        <p:blipFill>
          <a:blip r:embed="rId1"/>
          <a:stretch/>
        </p:blipFill>
        <p:spPr>
          <a:xfrm>
            <a:off x="7445520" y="0"/>
            <a:ext cx="1376280" cy="14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5840" y="274680"/>
            <a:ext cx="858060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9933"/>
                </a:solidFill>
                <a:latin typeface="Calibri"/>
              </a:rPr>
              <a:t>Условия участия. </a:t>
            </a:r>
            <a:br>
              <a:rPr sz="3200"/>
            </a:br>
            <a:r>
              <a:rPr b="1" lang="ru-RU" sz="3200" spc="-1" strike="noStrike">
                <a:solidFill>
                  <a:srgbClr val="339933"/>
                </a:solidFill>
                <a:latin typeface="Calibri"/>
              </a:rPr>
              <a:t>Перечень направляемых материал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106200" y="1248840"/>
            <a:ext cx="8885520" cy="53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4507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заявление участника Конкурса по образцу (Приложение 1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4507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заявка на урок или  внеклассное занятие (Приложение 2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4507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редставление заявителя (скан) о Конкурсанте (официальное письмо органа управления образованием муниципального района, городского округа с подписью начальника и печатью) (Приложение 3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4507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информационная карта участника Конкурса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в формате Word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и скан)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(Приложение 4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4507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технологическая карта (план-конспект урока) или внеклассного занятия в электронном виде (Приложение 5)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в формате Word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(Приложение 5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4507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цветная фотография участника (портрет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450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450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Участники в срок до 9 сентября 2019 года включительно направляют комплект конкурсных документов в Оргкомитет Лядовой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Наталье Владимировне по электронной почте на адрес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ozdip@list.ru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5" descr=""/>
          <p:cNvPicPr/>
          <p:nvPr/>
        </p:nvPicPr>
        <p:blipFill>
          <a:blip r:embed="rId2"/>
          <a:stretch/>
        </p:blipFill>
        <p:spPr>
          <a:xfrm>
            <a:off x="7967520" y="0"/>
            <a:ext cx="1176480" cy="126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8000" y="274320"/>
            <a:ext cx="903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9933"/>
                </a:solidFill>
                <a:latin typeface="Calibri"/>
              </a:rPr>
              <a:t>Критерии оценки конкурсных материалов </a:t>
            </a:r>
            <a:br>
              <a:rPr sz="2800"/>
            </a:br>
            <a:r>
              <a:rPr b="1" lang="ru-RU" sz="2800" spc="-1" strike="noStrike">
                <a:solidFill>
                  <a:srgbClr val="339933"/>
                </a:solidFill>
                <a:latin typeface="Calibri"/>
              </a:rPr>
              <a:t>заочного тура</a:t>
            </a:r>
            <a:br>
              <a:rPr sz="28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 заочном туре жюри оценивают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ехнологическую карту/Конспект урока или занят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179280" y="1746360"/>
          <a:ext cx="8785440" cy="5111640"/>
        </p:xfrm>
        <a:graphic>
          <a:graphicData uri="http://schemas.openxmlformats.org/drawingml/2006/table">
            <a:tbl>
              <a:tblPr/>
              <a:tblGrid>
                <a:gridCol w="360360"/>
                <a:gridCol w="6337440"/>
                <a:gridCol w="2087640"/>
              </a:tblGrid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итерии оцен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ксим. количество баллов (17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идактическое оформление технологической карты/плана-конспект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-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держание соответствует теме, включает воспитательный компонент по формированию культуры ЗОЖ, здоровьесберегающие технологи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-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ригинальность используемых приемов, форм достижения и оценивания результатов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-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пользованная литератур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-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арактеристи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-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3" name="Picture 5" descr=""/>
          <p:cNvPicPr/>
          <p:nvPr/>
        </p:nvPicPr>
        <p:blipFill>
          <a:blip r:embed="rId1"/>
          <a:stretch/>
        </p:blipFill>
        <p:spPr>
          <a:xfrm>
            <a:off x="8034480" y="189000"/>
            <a:ext cx="1109520" cy="11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9933"/>
                </a:solidFill>
                <a:latin typeface="Calibri"/>
              </a:rPr>
              <a:t>Очный ту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6840" y="1074600"/>
            <a:ext cx="8534520" cy="50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о 2-й очный тур выходят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девять участников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, набравших в 1-м туре наибольшее количество баллов.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339933"/>
                </a:solidFill>
                <a:latin typeface="Calibri"/>
              </a:rPr>
              <a:t>Конкурсные мероприятия очного тура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Фрагмент урока или внеклассного занятия с детьми – регламент 25 мину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амоанализ мероприятия – регламент 5 мин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ворческая презентация педагогического опыта участника Конкурса «Я – учитель здоровья» – регламент 7 мин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5" descr=""/>
          <p:cNvPicPr/>
          <p:nvPr/>
        </p:nvPicPr>
        <p:blipFill>
          <a:blip r:embed="rId1"/>
          <a:stretch/>
        </p:blipFill>
        <p:spPr>
          <a:xfrm>
            <a:off x="7445520" y="0"/>
            <a:ext cx="1376280" cy="14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23T09:47:00Z</dcterms:created>
  <dc:creator>Ljadova-NV</dc:creator>
  <dc:description/>
  <dc:language>en-US</dc:language>
  <cp:lastModifiedBy>Ljadova-NV</cp:lastModifiedBy>
  <dcterms:modified xsi:type="dcterms:W3CDTF">2019-05-14T09:24:35Z</dcterms:modified>
  <cp:revision>12</cp:revision>
  <dc:subject/>
  <dc:title>Краевой этап  II Всероссийского конкурса  «Школа – территория здоровья - 2018»: условия участия, требования, критерии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49-10.2.0.7635</vt:lpwstr>
  </property>
  <property fmtid="{D5CDD505-2E9C-101B-9397-08002B2CF9AE}" pid="3" name="Version">
    <vt:r8>4</vt:r8>
  </property>
</Properties>
</file>