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png" ContentType="image/png"/>
  <Override PartName="/ppt/media/image6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D5F4-327F-4319-B5BD-D703946EC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8907-A01C-4F08-A29A-A84E7643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948DD-A959-4E0E-AFCE-D7B23A5A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B4FD78-7872-445F-A990-D865F378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E4EF1-1E4F-4488-BBD3-483119EE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C6DA0-64AE-4834-B754-852B62B7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A62DF-5A60-4757-9767-5CF11E0C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5FBE92-60D3-4603-925C-1FCD650F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02098-2692-4375-92A7-9991DDBC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AFAF40-AC25-4BE2-A822-98E2D4852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10A0E5-C735-4A4A-995A-E3AF07E39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C088E6-F6F6-4C5E-8CDD-9DFAE5CFC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6A3D-3AA3-49E4-A958-B78744AA0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36BD6E-5144-4E34-AB36-BEEDE867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1A2871-3360-4CBF-804F-1901607F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FB80B2-B06F-4CE8-AC56-60625EB9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9AF7B8-1DFE-401F-977A-ACADB6D0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FD6DDB-88B9-4F76-859E-1FF18994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6E6529-481C-4D83-AD86-261E5F1A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7AB30D-9D18-439D-9A03-8F7C13C0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CD2E82-776C-4286-BCA1-4C94079C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E4351B-8112-4F12-8077-B5BCA073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03E4B4-4B2C-4657-A3DD-1EC45583B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0557-A6C1-4417-A889-F5701DCD0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F8B6D3-5018-4AA6-B33C-B467DFA4A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5DF5A-922D-4CA1-9446-30E9CB37C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8300E-215E-4CEA-8455-B390349E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7F21A-AE9D-42E5-ABF6-BBA3DBAE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804920-F46E-4C95-8D52-B7BDA5F8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DED042-CB19-4F15-AD95-79B7FA6B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6AC8F-8EC7-4521-B981-CB306D4D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86558-821E-49BB-B129-ACBFFEF5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341DB6-66E6-49FC-9449-DCACB0D8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470AD-6612-4E49-BF19-431F1496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6E7E-FC90-499B-A99A-1529ED3BE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CCAA1-C76C-45A7-8DB8-7D32FF8F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B61F4-8DC3-4F0B-9285-989D6E422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0477A-87EF-4E40-8BA1-2F0EE7990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DF3530-5406-4BD5-8D83-23C4477F7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E386B6-B2B9-44EF-A8C1-14161978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EAB49A-0E42-4386-B36D-0C7B29FD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2CC292-AFDF-451F-8450-64C1B20E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8630E8-9E59-43E6-8AF4-01C61672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FF6164-A0C0-4F67-BEB5-9FAB311B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2E688F-15A4-43D6-BA87-7A6AC705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5826-006A-49FF-9CCF-F2BEC05D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4546DB-4E43-41FA-ABDC-657FEEDB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4CBB92-BE35-4143-9E72-C338F24A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55DFB2-AF99-4888-ABAE-B876F327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3A5546-00E6-4BAF-97BF-0AB59DD3F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5A5644-2052-4196-8F56-0BABC37E2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921E66-D97E-487A-9F0A-418B50D9C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6CB8DC-1924-46FA-9D61-1F56299A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8B98D4-A7CC-42A5-8DC7-00B0D1FE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4A1E20-C04C-43A3-A2A4-5071792D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8F8775-F150-4E26-9AB3-F300020F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160E-6CCA-4FEE-AE10-0A74FAF0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AC429B-E3E6-42C5-8D1D-D3F19749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B2D748-70CE-41C9-AFB8-09D63074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0713CA-3643-4D6D-9CE8-5C14CA36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5D2639-D8F3-4C7A-9AA6-3ECB378D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220819-5DBC-4001-8A9B-6DA3ABD2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91B461-29B2-4A68-9627-C1342C562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594F1E-99CB-4BA0-9672-4070F2A71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AFF9E7-13EF-4DA5-8793-B23FDD389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B8D438-A8D2-4DE6-B690-7E9B3805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EDC469-6492-4990-B9FB-8E858713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1F68-C2DD-4024-BF9F-0B6BD64D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218680-3286-4D86-AE94-AFB7FD3A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45B6B2-7F99-4DED-B595-A58E986F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B44CDB-0AE3-4749-ADBC-DBC5B537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C37EB7-442E-44E2-8EB6-ACB35870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D43C96-595E-4CA6-949A-9408D24B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8BE27C-40C8-46E6-98CE-AFAB6BB5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E714B1-58C1-4E07-9539-1804D901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22A363-B8C4-4BD2-AF88-02BF851C6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9D76E5-8844-4AC8-8970-4A75E63F8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00B5F8-98D0-4DDB-96EC-7B168613F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5E57-A297-4593-B314-2BA579CB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415A53-A7A7-4D0E-B143-A455C1C2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BDB0B0-B5A3-4B26-A2F0-F2699593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099A99-FBEF-4A7A-8273-4284BA82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4B48AA-5CC5-4EDB-96FB-CFA7992A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FE179D-B618-4DB3-9651-D4063F60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FC8D15-0A65-4ECE-8AAA-8C7DF836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A29146-2669-47EF-925B-74320D81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C32DEE-A9F5-4920-829A-AE37611A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E05E7C-BB71-4408-91D3-F7836827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B68542-A406-4883-9256-CEFA8C625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E977-E972-43DA-9752-70570CEB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9A7ECC-4DDE-487D-8A00-9E0328A78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C72159-C9D5-47F2-BDEC-FDEB6B3A6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E719FC-A11A-4442-9780-1C6B62DF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428F5D-FDA0-4C6D-AB57-9DA1FD5A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7FA474-E0D6-448F-8F43-B0045D93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6BFABE-6FBC-4987-8B8B-C55CC982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52BB12-1FA5-4160-84E4-48B69EB6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506961-95D2-49AB-837C-F5CA4245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0003DC-2C18-47C0-8176-556EEB7E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EDE452-740F-4B66-8FCA-46D9350C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ABAB-6F95-46C9-A631-AAC261B9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2268CF-45FF-482D-8588-2F1778CF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2753EC-95FE-47FC-9C8F-3D10529CA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5A8212-E77A-4933-9780-3454BCC24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FE226D-E1D3-4028-9AFE-E0960D402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93F8D1-7C67-4245-81AE-551B6BAA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42DF02-38E5-4AF1-B100-350954EA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947352-AF1E-48C8-80CB-79AE1337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3FD397-4FDE-4816-B7A2-822D0541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867434-908A-4B17-B875-43605077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146178-8BC2-466C-9B92-9B291862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E643-517A-43EF-BB3A-D151995F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D24A-AF63-4441-806D-63302C58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D27694-532B-4223-ACF9-E52CB306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AEC88B-F1F3-415F-94EA-EC80BFAA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FAC38E-D0A0-4ECB-9EE4-8076B050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D3B4CC-C0EC-45A7-B7E6-35A8CC4C0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BFBAAF-D617-4114-991B-3AB8A3A05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ABBC92-16CB-43AA-9A52-D081D13E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37A365-7F81-41C1-9F9C-E9096F91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95D548-F7E1-4A5B-9017-00394F78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CA92D9-D16B-4056-89EA-C22E92EF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AC143E-CDE8-4DF0-AF3D-14B7001E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C47D-BD17-4703-9073-990D3961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5CABB9-7CC2-41FA-B2D5-D841DE22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077F2C-540C-47BF-AE2F-4AD24B1E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396BBC-3F2B-4F83-B121-475F5D53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294759-6446-4F86-928E-EFD7B1BF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ABA469-DC40-4106-AEC6-8E96B9B3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72FD3E-EF13-4D80-8457-2256C2B3F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395C9C-5BAB-4FD6-97D3-A8B4D1FAF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C4A9-D5F8-4075-90DF-CF3B0EEC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BD97-7BE1-4D9B-8AEF-8DC519AFC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3C40-56EA-47CC-94B8-E5848CC52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BDE56-5524-4F0E-9506-55691C440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56B64-191C-4C9F-B8A2-0AE9844B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A115F-7B92-43F3-BDF7-954DF449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0E8FF-1624-4DA6-8163-0C26480D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3F328-B8B6-4F68-A40E-80E918A5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445C-AF15-46EA-9D92-2C0752A5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8288A-5C36-4976-AD9C-F0F983B1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90926-8750-4CEB-9620-CF20749B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4B18C-FB63-4301-92F2-02F5F4AF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2CFA9-08C3-4C02-B5E6-AC129498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19D13-E5E3-4DED-9D80-6D8975E9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0B5D8-6DB8-44E3-894C-D03C07C49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DBCCC-1C14-4633-A293-E11E9C9B0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D0C0A-070F-4042-8772-8B5692045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65145-F195-4811-9173-E0B9E29D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619C3-68CE-4B16-841A-BB506DD1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A4A0-61D3-4C29-BF31-6B0DB9C0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83A1D-8D65-4A36-ADCB-5027C582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6EEF9-06E1-420D-80CA-6C8660B7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72876-F79C-4C6E-ACE9-1B940BBA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BABD6-CED4-4D3E-9A69-61103867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F43BA-6D6B-4362-AE8E-F4C0F56B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1F8FC-5D47-4647-AAD6-D458CD62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B8D40-8CAD-40B8-A9F5-39B2CDEE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2FD7D-3495-40C7-8224-BD89FDECA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87AA4-DDA2-46C3-A05A-610383B7D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4FDB4-A399-4325-925D-F17A9BA4B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B270-B406-493A-95B5-FB117A7C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2F963-773C-47E0-9107-0A0A3DDD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0A408-BCA9-4E53-848B-0C3FD1AF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5E33E-FEE4-49B9-8AC8-CB8D0311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AC3B6-0E5E-4365-B40D-0E4651D7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F2E0B-6C73-4748-A05A-368B4089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16D7B-E9B9-4B22-A6C5-7E7DE4AE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6C8E0-D15A-4F73-8A75-9149DB51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D32A9-6AE5-459C-BF7C-DF02D093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4E4DB-A00F-470E-B396-F28D98B1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B119E-4616-4215-B594-024E6BC2A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1C76-03B6-4D9A-9330-43110202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2C493-994F-408C-BC38-F970967D3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55B8A-38FE-4584-8853-0F8515A94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79338-9AE4-45E7-8307-4EAFE346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23A20-5DBF-4969-998C-9C331B47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D3FF7-E932-4566-9161-AEEE351F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1BF6A-4CC0-4280-9DF8-03BFA996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D4CA9-23BE-4B0A-99FF-219178B5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FAB98-6F57-4FA7-BB6B-285EE446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774D1-741D-484C-97E2-AB82D9A3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FC5E1-C2E2-4BF1-B940-6758D250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09C6-6903-41FD-954F-4226825F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C808E-5483-40B1-9BD6-D27D7607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C9AB0-84CF-4320-8003-13DD0571C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10E2F-B9E0-4D82-84F1-FAF8C5736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84669-2D0A-41AB-AF37-3E2E68391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DBEC2-FAE4-4BB7-8468-11CAADB6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32E33-E873-43A6-9A6C-E853827E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D2930-C6A6-4565-8426-BB43EE5A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6C6B8-5E59-46FF-8A25-182D87D3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EEC31-D9CA-4279-9DCA-BECCFEEA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4D94B-4BE0-439A-B7CD-88960B55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E85F-744D-440E-BB45-CC9BAEDA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C7E16-281F-4753-ACBA-7DAC1517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68AD6-9801-4F74-BF21-69015A41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9A35C-164B-4D33-95F1-54FE0B1E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A05D0-1B96-4930-9DB7-0DBBEA783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50F33-5812-465D-9F10-3511DF886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30C1F-2C91-4729-A9FA-930250A3F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98A05-3AFF-4EA2-85A7-7F516F5A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1CE8E-5943-4A3C-95CD-76B13ED0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A7EC6-AF6C-41B1-9AAA-DBA105B8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D791B-7A0A-48AA-BD98-E0BCD0E0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C75F-5862-4FD2-9001-5C920D52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93803-3722-43DE-A5D4-628FDF82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FE34D-5336-4E1E-81E0-C9718278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3488B-37A3-40BC-ABA9-B462CF52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109FE-8AC5-44F7-9D98-7C8E5676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F424F-97C4-4AC1-AABF-B3A162C4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E9ABE-FF0E-487C-9874-D8AE8197E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0A304-889C-4FF6-B905-0578762C1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5A2F47-F0CD-4CF6-928D-246486319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03065-2DA9-4D9C-8C15-90E25BBE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4A1711-AFE4-4782-9B98-4F585B04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Скругленный прямоугольник 8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9440-70DD-4CC3-9D1C-3CFF04064736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38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9358-C0EA-43DC-AAF7-A2EF038FE2D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43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417B-A528-4B74-A48D-3F7DAAE69F7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47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B6EC-DB72-4AB7-9468-CAC44344431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52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F9BF-87AF-449E-AC3A-AA8D5BAF218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56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7E35-FD2F-43C0-8F57-D636DB381ED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61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4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75A0-0731-4F7B-84C5-D95B43F8AAC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65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762E-175C-4010-B843-6710813B230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70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4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41D6-69FA-4635-9B79-C06C3E11457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74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5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54F9-B167-4D23-B1EF-B65D1872E7C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1EDC-1FE7-432B-BB60-208C7CB75F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540B-1D64-42D9-833B-54E80A44AFB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129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B48E-E4D2-4DF7-974A-A7C486ECEBF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Скругленный прямоугольник 7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31100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6F46-ADDD-490D-AE10-8FF4C2BD3B67}" type="slidenum">
              <a:rPr b="0" lang="ru-RU" sz="18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Скругленный прямоугольник 10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43416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EB29-E506-4BD3-87E3-53E303EFB3FF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61E0-FDC1-429E-9818-F4FD21B25E78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3" y="0"/>
                </a:lnTo>
                <a:cubicBezTo>
                  <a:pt x="2295505" y="0"/>
                  <a:pt x="2324099" y="28594"/>
                  <a:pt x="2324099" y="63866"/>
                </a:cubicBezTo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52D9-9217-4027-95D7-637CD2AE4A1D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2246-8EC0-428C-9AD2-2889D0CB3D9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ro.perm.ru/" TargetMode="External"/><Relationship Id="rId2" Type="http://schemas.openxmlformats.org/officeDocument/2006/relationships/hyperlink" Target="http://www.iro.perm.ru/" TargetMode="External"/><Relationship Id="rId3" Type="http://schemas.openxmlformats.org/officeDocument/2006/relationships/hyperlink" Target="http://www.iro.perm.ru/" TargetMode="External"/><Relationship Id="rId4" Type="http://schemas.openxmlformats.org/officeDocument/2006/relationships/hyperlink" Target="http://www.iro.perm.ru/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mailto:ozdip@list.ru" TargetMode="External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docs.cntd.ru/document/zakon-rf-ob-obrazovanii-v-rossijskoj-federacii" TargetMode="External"/><Relationship Id="rId2" Type="http://schemas.openxmlformats.org/officeDocument/2006/relationships/hyperlink" Target="http://zakon-ob-obrazovanii.ru/" TargetMode="External"/><Relationship Id="rId3" Type="http://schemas.openxmlformats.org/officeDocument/2006/relationships/hyperlink" Target="http://zakon-ob-obrazovanii.ru/" TargetMode="External"/><Relationship Id="rId4" Type="http://schemas.openxmlformats.org/officeDocument/2006/relationships/hyperlink" Target="http://si-sv.com/publ/1/zdorovesberezhenie_na_uroke/14-1-0-74" TargetMode="External"/><Relationship Id="rId5" Type="http://schemas.openxmlformats.org/officeDocument/2006/relationships/hyperlink" Target="http://si-sv.com/publ/1/zdorovesberezhenie_na_uroke/14-1-0-74" TargetMode="External"/><Relationship Id="rId6" Type="http://schemas.openxmlformats.org/officeDocument/2006/relationships/hyperlink" Target="http://si-sv.com/publ/1/zdorovesberezhenie_na_uroke/14-1-0-74" TargetMode="External"/><Relationship Id="rId7" Type="http://schemas.openxmlformats.org/officeDocument/2006/relationships/hyperlink" Target="http://si-sv.com/publ/1/zdorovesberezhenie_na_uroke/14-1-0-74" TargetMode="External"/><Relationship Id="rId8" Type="http://schemas.openxmlformats.org/officeDocument/2006/relationships/hyperlink" Target="http://si-sv.com/publ/1/zdorovesberezhenie_na_uroke/14-1-0-74" TargetMode="External"/><Relationship Id="rId9" Type="http://schemas.openxmlformats.org/officeDocument/2006/relationships/hyperlink" Target="http://si-sv.com/publ/1/zdorovesberezhenie_na_uroke/14-1-0-74" TargetMode="External"/><Relationship Id="rId10" Type="http://schemas.openxmlformats.org/officeDocument/2006/relationships/hyperlink" Target="http://si-sv.com/publ/1/zdorovesberezhenie_na_uroke/14-1-0-74" TargetMode="External"/><Relationship Id="rId11" Type="http://schemas.openxmlformats.org/officeDocument/2006/relationships/hyperlink" Target="http://si-sv.com/publ/1/zdorovesberezhenie_na_uroke/14-1-0-74" TargetMode="External"/><Relationship Id="rId12" Type="http://schemas.openxmlformats.org/officeDocument/2006/relationships/hyperlink" Target="http://vopk.ru/view.php?event=levelxx_view&amp;a=5%7C72" TargetMode="External"/><Relationship Id="rId13" Type="http://schemas.openxmlformats.org/officeDocument/2006/relationships/hyperlink" Target="http://vopk.ru/view.php?event=levelxx_view&amp;a=5%7C72" TargetMode="External"/><Relationship Id="rId14" Type="http://schemas.openxmlformats.org/officeDocument/2006/relationships/hyperlink" Target="http://vopk.ru/view.php?event=levelxx_view&amp;a=5%7C72" TargetMode="External"/><Relationship Id="rId15" Type="http://schemas.openxmlformats.org/officeDocument/2006/relationships/hyperlink" Target="http://vopk.ru/view.php?event=levelxx_view&amp;a=5%7C72" TargetMode="External"/><Relationship Id="rId16" Type="http://schemas.openxmlformats.org/officeDocument/2006/relationships/hyperlink" Target="http://si-sv.com/publ/1/zdorovesberezhenie_na_uroke/14-1-0-74" TargetMode="External"/><Relationship Id="rId17" Type="http://schemas.openxmlformats.org/officeDocument/2006/relationships/hyperlink" Target="http://si-sv.com/publ/1/zdorovesberezhenie_na_uroke/14-1-0-74" TargetMode="External"/><Relationship Id="rId18" Type="http://schemas.openxmlformats.org/officeDocument/2006/relationships/hyperlink" Target="http://si-sv.com/publ/1/zdorovesberezhenie_na_uroke/14-1-0-74" TargetMode="External"/><Relationship Id="rId19" Type="http://schemas.openxmlformats.org/officeDocument/2006/relationships/hyperlink" Target="http://si-sv.com/publ/1/zdorovesberezhenie_na_uroke/14-1-0-74" TargetMode="External"/><Relationship Id="rId20" Type="http://schemas.openxmlformats.org/officeDocument/2006/relationships/hyperlink" Target="http://si-sv.com/publ/1/zdorovesberezhenie_na_uroke/14-1-0-74" TargetMode="External"/><Relationship Id="rId21" Type="http://schemas.openxmlformats.org/officeDocument/2006/relationships/hyperlink" Target="http://si-sv.com/publ/1/zdorovesberezhenie_na_uroke/14-1-0-74" TargetMode="External"/><Relationship Id="rId22" Type="http://schemas.openxmlformats.org/officeDocument/2006/relationships/hyperlink" Target="http://si-sv.com/publ/1/zdorovesberezhenie_na_uroke/14-1-0-74" TargetMode="External"/><Relationship Id="rId23" Type="http://schemas.openxmlformats.org/officeDocument/2006/relationships/hyperlink" Target="http://si-sv.com/publ/1/zdorovesberezhenie_na_uroke/14-1-0-74" TargetMode="External"/><Relationship Id="rId24" Type="http://schemas.openxmlformats.org/officeDocument/2006/relationships/hyperlink" Target="http://festival.1september.ru/articles/627448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uhealth.iro.perm.ru/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-181080" y="765000"/>
            <a:ext cx="8637840" cy="2880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Роль конкурса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«Учитель здоровья России»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в формировании культуры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здоровья педагогов и обучающихся: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опыт проведения в Пермском крае, 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проблемы и перспективы</a:t>
            </a:r>
            <a:br>
              <a:rPr sz="2800"/>
            </a:br>
            <a:endParaRPr b="1" lang="en-US" sz="2400" spc="-1" strike="noStrike">
              <a:solidFill>
                <a:srgbClr val="ff4995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108000" y="4122720"/>
            <a:ext cx="5400720" cy="27352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Лядова Наталья Владимиров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к.мед.наук, вед. научн.сотруд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ГАУ ДПО «Институт развития образования Пермского кра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iro.perm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Пермь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4" descr="F:\USERS\МАМА\Files - МАМА\А 2014\Конференция в Новосибирске\permskkrai-1.jpg"/>
          <p:cNvPicPr/>
          <p:nvPr/>
        </p:nvPicPr>
        <p:blipFill>
          <a:blip r:embed="rId5"/>
          <a:stretch/>
        </p:blipFill>
        <p:spPr>
          <a:xfrm>
            <a:off x="6948360" y="0"/>
            <a:ext cx="2195640" cy="2179800"/>
          </a:xfrm>
          <a:prstGeom prst="rect">
            <a:avLst/>
          </a:prstGeom>
          <a:ln w="0">
            <a:noFill/>
          </a:ln>
        </p:spPr>
      </p:pic>
      <p:pic>
        <p:nvPicPr>
          <p:cNvPr id="791" name="Рисунок 5" descr="набережная.jpg"/>
          <p:cNvPicPr/>
          <p:nvPr/>
        </p:nvPicPr>
        <p:blipFill>
          <a:blip r:embed="rId6"/>
          <a:stretch/>
        </p:blipFill>
        <p:spPr>
          <a:xfrm>
            <a:off x="5580000" y="3716280"/>
            <a:ext cx="3341880" cy="2808360"/>
          </a:xfrm>
          <a:prstGeom prst="rect">
            <a:avLst/>
          </a:prstGeom>
          <a:ln w="0">
            <a:noFill/>
          </a:ln>
        </p:spPr>
      </p:pic>
      <p:pic>
        <p:nvPicPr>
          <p:cNvPr id="792" name="Рисунок 1" descr=""/>
          <p:cNvPicPr/>
          <p:nvPr/>
        </p:nvPicPr>
        <p:blipFill>
          <a:blip r:embed="rId7"/>
          <a:stretch/>
        </p:blipFill>
        <p:spPr>
          <a:xfrm>
            <a:off x="0" y="0"/>
            <a:ext cx="18860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облемы конкурсан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0" y="1125360"/>
            <a:ext cx="914400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Затруднения конкурсант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цели и задачи, которых в конспектах порой очень много, являются общими, не конкретными к представляемому уроку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часто цель не соответствует ожидаемым результата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ожидаемые результаты представлены общими словами, которые можно отнести к изучению предмета в целом, а не к конкретному урок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недостаточно представлены здоровьесберегающие образовательные технологии, есть лишь некоторые приемы снятия позостатического напряж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имеет место неправильное отнесение метапредметных, предметных и личностных результатов к соответствующей группе результат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описываемая деятельность учеников является исполнительской, а не учебно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часто в работах отсутствует оценивание достигнутых результат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в ряде работ тренеров-преподавателей, учителей физической культуры вообще нет акцента на здоровьесбережение во время урока и воспитательного компонента в плане повышения мотивации детей следовать правилам ЗОЖ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неправильно оформленный список литературы, порой старой, небольшой перечень или его отсутств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7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006560" y="0"/>
            <a:ext cx="81374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облемы в организации, проведении Конкурс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108000" y="1052640"/>
            <a:ext cx="8856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Участники: вмест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учителя общеобразовательных организаций, тренеры, преподаватели дополнительного, общего и профессионального образования»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писать: 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«учителя и педагоги общеобразовательных организаций, педагоги дополнительного образования, преподаватели среднего профессионального образования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Лучшему пониманию педагогом того, каким должен быть его План-конспект урока/занятия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,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а правильнее –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Технологическая карта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, представляемых на конкурс, будут способствовать четкие критерии и их показат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едставление-характеристика с  описываемой в ней здоровьесберегающей деятельностью педагога, сведения о конкурсанте в Информационной карте тоже должны войти в список критерие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150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8316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едлагаем такой вариант критериев:</a:t>
            </a: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108000" y="980640"/>
            <a:ext cx="903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Критерии оценки оформления и содержания технологической карты или плана-конспекта урока/занятия (Максим. 17 баллов). Заочный ту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1.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Дидактическое оформление технологической карты/плана-конспекта урока/занятия  (0-3 балл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1. обоснованность темы и выбора содержания в контексте заявленной пробл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2. грамотное дидактическое оформление плана конспек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3. вариативность методического инструментария в достижении планируемых результатов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2.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Содержание соответствует теме, включает воспитательный компонент по формированию культуры ЗОЖ, здоровьесберегающие технологии (0-3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1. глубина и оригинальность раскрытия т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2. инновационные организационные формы и здоровьесберегающие образовательные технологии на урок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3. здоровьесберегающий режим урока, воспитательный компонен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3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684000" y="115920"/>
            <a:ext cx="845964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Оригинальность используемых приемов, форм в достижении и оценивании результатов (0-3 балл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1. достижение заявленных личностных/ метапредметных/предметных результа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2. оценивание результа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3. рефлекс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Использованная литература (0- 3 балл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1. правильность оформления списка использованной литерат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2. широта использованной литерат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3. новизна источ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5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Характеристика (0-5 баллов)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Систематичность проведения пропаганды ЗОЖ среди обучающихся в урочной и внеурочной деятельности; удовлетворенность родителей; публикации, разработка и издание методических рекомендаций, пособий; участие педагога в конкурсах, посвященных сохранению и укреплению здоровья и ЗОЖ,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ВСЕГО балл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имеч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6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810108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Критерии оценки конкурсных мероприятий. Очный тур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0" y="981000"/>
            <a:ext cx="9036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Фрагмент урока, внеклассного занятия. Регламент 25 минут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 Максимальное количество баллов – 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1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Глубина содержания и оригинальность формы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2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гармоничная интеграция вопросов здоровья и предметного содержания, воспитательный компонент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3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Использование здоровьесберегающих образовательных технологий, деятельностной основы учебной работы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4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Здоровьесберегающий режим урока, занятия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5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Результативность урока, занятия (соответствие достигнутых результатов заявленной цели, оценивание результатов, рефлексия)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6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Коммуникативная культура педагога, способность к импровизации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Итого за фрагмент уро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9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0796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Прямоугольник 1"/>
          <p:cNvSpPr/>
          <p:nvPr/>
        </p:nvSpPr>
        <p:spPr>
          <a:xfrm>
            <a:off x="0" y="189000"/>
            <a:ext cx="9144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  <a:ea typeface="SimSun"/>
              </a:rPr>
              <a:t>    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SimSun"/>
              </a:rPr>
              <a:t>Таким образом, участие в конкурсе «Учитель здоровья России» помогает учител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самому быть примером ведения здорового образа жизни, «заражает» других коллег стать участником Конкурса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строить свои уроки по-новому, создавая условия для эффективной учебной работы учеников без раннего и выраженного утомления, стрессирования, сохраняя на протяжении всего урока и учебного дня интерес и понимание детей, их высокую умственную работоспособность и хорошее настро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А это и есть здоров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Рисунок 3" descr="jat2uj15ohk_Preview.jpg"/>
          <p:cNvPicPr/>
          <p:nvPr/>
        </p:nvPicPr>
        <p:blipFill>
          <a:blip r:embed="rId1"/>
          <a:stretch/>
        </p:blipFill>
        <p:spPr>
          <a:xfrm>
            <a:off x="755640" y="4437000"/>
            <a:ext cx="3600360" cy="2702160"/>
          </a:xfrm>
          <a:prstGeom prst="rect">
            <a:avLst/>
          </a:prstGeom>
          <a:ln w="0">
            <a:noFill/>
          </a:ln>
        </p:spPr>
      </p:pic>
      <p:pic>
        <p:nvPicPr>
          <p:cNvPr id="842" name="Рисунок 5" descr="Рисунок1.jpg"/>
          <p:cNvPicPr/>
          <p:nvPr/>
        </p:nvPicPr>
        <p:blipFill>
          <a:blip r:embed="rId2"/>
          <a:stretch/>
        </p:blipFill>
        <p:spPr>
          <a:xfrm>
            <a:off x="5003640" y="4367160"/>
            <a:ext cx="3594240" cy="2490840"/>
          </a:xfrm>
          <a:prstGeom prst="rect">
            <a:avLst/>
          </a:prstGeom>
          <a:ln w="0">
            <a:noFill/>
          </a:ln>
        </p:spPr>
      </p:pic>
      <p:pic>
        <p:nvPicPr>
          <p:cNvPr id="843" name="Рисунок 1" descr=""/>
          <p:cNvPicPr/>
          <p:nvPr/>
        </p:nvPicPr>
        <p:blipFill>
          <a:blip r:embed="rId3"/>
          <a:stretch/>
        </p:blipFill>
        <p:spPr>
          <a:xfrm>
            <a:off x="-228600" y="17640"/>
            <a:ext cx="10796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Перспективы конк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0" y="907920"/>
            <a:ext cx="9144000" cy="633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Конкурсу бы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на всех уровн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от институциального до всероссийског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Продумать соотнесение двух конкурсов «Учитель здоровья России» и «Школа – территория здоровь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Придать более современное звучание Положению о Конкурс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6" name="Рисунок 1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617480" cy="143964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6" descr="D:\USERS\Бабуся\Pictures\ПОИПКРО, ПКИПКРО, ЦРО, ИРО ПК\Учитель здоровья 2013\IMG_3376 - копия.JPG"/>
          <p:cNvPicPr/>
          <p:nvPr/>
        </p:nvPicPr>
        <p:blipFill>
          <a:blip r:embed="rId2"/>
          <a:stretch/>
        </p:blipFill>
        <p:spPr>
          <a:xfrm>
            <a:off x="3419640" y="4765680"/>
            <a:ext cx="27907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66cc"/>
                </a:solidFill>
                <a:latin typeface="Calibri"/>
              </a:rPr>
              <a:t>Здоровье обучающихся – эт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838080" y="1484280"/>
            <a:ext cx="3927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одна из целей педагогического процесс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средство повышения качества обуч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критерий эффективности деятельности образовательной орган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0" name="Рисунок 7" descr="sm.jpg"/>
          <p:cNvPicPr/>
          <p:nvPr/>
        </p:nvPicPr>
        <p:blipFill>
          <a:blip r:embed="rId1"/>
          <a:stretch/>
        </p:blipFill>
        <p:spPr>
          <a:xfrm>
            <a:off x="4643280" y="1125360"/>
            <a:ext cx="3345120" cy="222912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5" descr="lechebnay-fizkultura-krasnoyarsk-bubnovskiy"/>
          <p:cNvPicPr/>
          <p:nvPr/>
        </p:nvPicPr>
        <p:blipFill>
          <a:blip r:embed="rId2"/>
          <a:stretch/>
        </p:blipFill>
        <p:spPr>
          <a:xfrm>
            <a:off x="4356000" y="3429000"/>
            <a:ext cx="2251080" cy="294156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6" descr="Территория здоровья"/>
          <p:cNvPicPr/>
          <p:nvPr/>
        </p:nvPicPr>
        <p:blipFill>
          <a:blip r:embed="rId3"/>
          <a:stretch/>
        </p:blipFill>
        <p:spPr>
          <a:xfrm>
            <a:off x="6877080" y="4489560"/>
            <a:ext cx="2266920" cy="1803240"/>
          </a:xfrm>
          <a:prstGeom prst="rect">
            <a:avLst/>
          </a:prstGeom>
          <a:ln w="0">
            <a:noFill/>
          </a:ln>
        </p:spPr>
      </p:pic>
      <p:pic>
        <p:nvPicPr>
          <p:cNvPr id="853" name="Рисунок 1" descr=""/>
          <p:cNvPicPr/>
          <p:nvPr/>
        </p:nvPicPr>
        <p:blipFill>
          <a:blip r:embed="rId4"/>
          <a:stretch/>
        </p:blipFill>
        <p:spPr>
          <a:xfrm>
            <a:off x="-181080" y="104760"/>
            <a:ext cx="172872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ши контак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0" y="1267920"/>
            <a:ext cx="9036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Министерство образования и наук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Пермского края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obr.permkrai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ro.perm.ru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ГАУ ДПО «Институт развития образования Пермского края», Отдел сопровождения ФГОС. Тел. 8(342)212 21 99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-mai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ozdip@list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Лядова Наталья Владимиров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едеральный закон «Об образовании в Российской Федерации» (с изменениями 2018 года)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zakon-ob-obrazovanii.ru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анПиН 2.4.2.2821-10 «Санитарно-эпидемиологические требования к условиям и организации обучения в общеобразовательных организациях. Санитарно-эпидемиологические правила и нормативы» с изменениями от 24 ноября 2015 год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https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://xn--80abucjiibhv9a.xn--p1ai/%D0%B4%D0%BE%D0%BA%D1%83%D0%BC%D0%B5%D0%BD%D1%82%D1%8B/11361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нализ проведения урока с позиции здоровьесбережения [Электронный ресурс] – Режим доступа:  http:// school6nojabrsk.narod. ru (дата обращения: 11.04.2012). Источник: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si-sv.com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ubl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/1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zdorovesberezhenie_na_uroke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/14-1-0-7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рхин В. Учитесь на здоровье: Здоровьеориентированный образовательный процесс на уроке / Владимир Ирхин, Ирина Ирхина. – М.: Чистые пруды, 2008. – 32 с. – (Библиотечка «Первого сентября», серия «Здоровье детей». Вып. 2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.М.Безруких «Методические рекомендации по оценке состояния здоровья, учебной и внеучебной нагрузки, организации учебного процесса в 1, 10 классах при проведении широкомасштабного эксперимента (блок физиологического и психо-физиологического сопровождения эксперимента)», 2001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, Пастухова О.М., Гарсиа Э.Н. Мониторинг здоровья учащихся: Методическое пособие. – Пермь: ПОИПКРО, 2007 – 48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 Оценка деятельности общеобразовательного учреждения по сохранению и укреплению здоровья учащихся методическое пособие. – Пермь: ОТ и ДО, 2010. – 28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, Кокшаров В.Л. Результаты мониторинговых исследований состояния здоровьесберегающей среды в общеобразовательных организациях Пермского края. Электронный журнал «Вестник образования Пермского края». Вып. №.5.1.1 от 07.05.2015. Р.6.1.1., 22 с.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vopk.ru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/view.php?event=levelxx_view&amp;a=5|72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мирнов Н.К. Здоровьесберегающие образовательные технологии в работе учителя и школы. – М.: АРКТИ, 2003. – 271 с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мирнов Н.К. Руководство по здоровьесберегающей педагогике. Технологии здоровьесберегающего образования.  М.: АРКТИ, 2008.  288 с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Школы здоровья России : принципы и организация работы. Мониторинг развития и эффективность / В.Р.Кучма, Л.М Сухарева, И.К.Рапопорт и др.; под ред. В.Р.Кучмы. – М. : Просвещение, 2012. – 235 с. – (Работаем по новым стандартам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Школа здоровья [Электронный ресурс] – Режим доступа: http://Schools.Keldysh.ru (дата обращения: 11.04.2012)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Источник: 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:/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si-sv.com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publ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/1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zdorovesberezhenie_na_uroke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/14-1-0-7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Ягодкина Е.Б. Приемы здоровьесбережения на уроках.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http://festival.1september.ru/articles/627448/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42800" y="15840"/>
            <a:ext cx="82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«Чтобы сделать ребенка умным и рассудительным – сделайте ег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крепким и здоровым» </a:t>
            </a: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/Жан Жак Руссо/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5" name="Рисунок 3" descr="john-jacques-rousseau-i4.jpg"/>
          <p:cNvPicPr/>
          <p:nvPr/>
        </p:nvPicPr>
        <p:blipFill>
          <a:blip r:embed="rId1"/>
          <a:stretch/>
        </p:blipFill>
        <p:spPr>
          <a:xfrm>
            <a:off x="3995640" y="476280"/>
            <a:ext cx="172872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99"/>
                </a:solidFill>
                <a:latin typeface="Calibri"/>
              </a:rPr>
              <a:t>Благодарю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9" name="Содержимое 5" descr="Счастье 3.jpg"/>
          <p:cNvPicPr/>
          <p:nvPr/>
        </p:nvPicPr>
        <p:blipFill>
          <a:blip r:embed="rId1"/>
          <a:stretch/>
        </p:blipFill>
        <p:spPr>
          <a:xfrm>
            <a:off x="1238400" y="1849320"/>
            <a:ext cx="666720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В Пермском крае накоплен большой опыт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в решении вопросов здоровьесбережения школьник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0" y="2565000"/>
            <a:ext cx="90676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создана сеть школ, содействующих здоровью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водятся краевые этапы всероссийских конкурсов «Школа – территория здоровья» (2005-2011, 2018), «Учитель здоровья России» (2011-2014, 2018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ведено 15 краевых НПК  «Здоровье и образование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апробирована единая система мониторинга здоровьесберегающей среды в ОО Пермского края с использованием разработанного в ИРО ПК Web-ресурса – сайта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eduhealth.iro.perm.ru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  «Школьное здоровье», 2014 г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8" name="Рисунок 6" descr="IMG_3362.JPG"/>
          <p:cNvPicPr/>
          <p:nvPr/>
        </p:nvPicPr>
        <p:blipFill>
          <a:blip r:embed="rId2"/>
          <a:stretch/>
        </p:blipFill>
        <p:spPr>
          <a:xfrm>
            <a:off x="6659640" y="105264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5" descr=""/>
          <p:cNvPicPr/>
          <p:nvPr/>
        </p:nvPicPr>
        <p:blipFill>
          <a:blip r:embed="rId3"/>
          <a:stretch/>
        </p:blipFill>
        <p:spPr>
          <a:xfrm>
            <a:off x="539640" y="1125360"/>
            <a:ext cx="2016360" cy="1511640"/>
          </a:xfrm>
          <a:prstGeom prst="rect">
            <a:avLst/>
          </a:prstGeom>
          <a:ln w="0">
            <a:noFill/>
          </a:ln>
        </p:spPr>
      </p:pic>
      <p:pic>
        <p:nvPicPr>
          <p:cNvPr id="800" name="Рисунок 1" descr=""/>
          <p:cNvPicPr/>
          <p:nvPr/>
        </p:nvPicPr>
        <p:blipFill>
          <a:blip r:embed="rId4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25200" y="333360"/>
            <a:ext cx="8218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В рамках проекта Министерства просвещения РФ «Внедрение в общеобразовательных организациях системы мониторинга здоровья обучающихся на основе отечественной технологической платформы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0" y="1125360"/>
            <a:ext cx="9144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179"/>
                </a:solidFill>
                <a:latin typeface="Calibri"/>
              </a:rPr>
              <a:t>создан Региональный центр мониторинга здоровья обучающихся с ОВЗ, октябрь 2017 г.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179"/>
                </a:solidFill>
                <a:latin typeface="Calibri"/>
              </a:rPr>
              <a:t>10 школ, осуществляющих образовательную деятельность по адаптированным основным общеобразовательным программам, участвующих в реализации этого проекта в рамках подпрограммы Российской Федерации «Развитие фармацевтической и медицинской промышленности» на 2013-2020 годы» в 2017 году получили современное оборудование для мониторинга здоровья обучающихся с особыми образовательными потребностями, и сотрудники прошли повышение квалификации по вопросам внедрения системы мониторинга здоровья обучающихс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3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Прямоугольник 1"/>
          <p:cNvSpPr/>
          <p:nvPr/>
        </p:nvSpPr>
        <p:spPr>
          <a:xfrm>
            <a:off x="826920" y="333360"/>
            <a:ext cx="831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</a:rPr>
              <a:t>реализуются мероприятия по формированию здорового образа жизни обучающихся и педагогов образовательных организаций Пермского края, утвержденные Минобром ПК на 2017-2018 учебный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SimSun"/>
              </a:rPr>
              <a:t>Для комплексного решения проблем здоровья школьников в Пермском крае разрабатывается 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региональная модель здоровьесберегающего обще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Прямоугольник 2"/>
          <p:cNvSpPr/>
          <p:nvPr/>
        </p:nvSpPr>
        <p:spPr>
          <a:xfrm>
            <a:off x="179280" y="3357720"/>
            <a:ext cx="8964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 </a:t>
            </a:r>
            <a:r>
              <a:rPr b="0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–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модернизация образовательн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общеобразовательных организаций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основе создания и развития здоровьесберегающей среды, направленной на содействие здоровью в контексте требований ФГОС и в условиях внедрения ВФСК Г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Рисунок 3" descr="cel.jpg"/>
          <p:cNvPicPr/>
          <p:nvPr/>
        </p:nvPicPr>
        <p:blipFill>
          <a:blip r:embed="rId1"/>
          <a:stretch/>
        </p:blipFill>
        <p:spPr>
          <a:xfrm>
            <a:off x="108000" y="3860640"/>
            <a:ext cx="1944720" cy="1109880"/>
          </a:xfrm>
          <a:prstGeom prst="rect">
            <a:avLst/>
          </a:prstGeom>
          <a:ln w="0">
            <a:noFill/>
          </a:ln>
        </p:spPr>
      </p:pic>
      <p:pic>
        <p:nvPicPr>
          <p:cNvPr id="807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008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Роль Конкурса «Учитель здоровья России-2018» в приобщении педагогов к делу воспитания культуры здоровья педагогов и обучающихся видится в следующе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0" y="119664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едагоги не остались равнодушными к вопросам формирования культуры здоровья школьников и поучаствовали в этом Конкурс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Те, кто поучаствовал, показали свое желание и умение гармонично включать в содержание учебного материала по своему предмету вопросы формирования культуры здорового образа жизни и применять здоровьесберегающие подходы в ходе уро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очном этапе Конкурса педагог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демонстрировали системно-деятельностны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одход к обучению, ставили и достига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цели по развитию личностных, метапредмет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ных УУД и предметных умени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демонстрировали хорошую коммуникативную культур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0" name="Picture 6" descr="Рисунок11"/>
          <p:cNvPicPr/>
          <p:nvPr/>
        </p:nvPicPr>
        <p:blipFill>
          <a:blip r:embed="rId1"/>
          <a:stretch/>
        </p:blipFill>
        <p:spPr>
          <a:xfrm>
            <a:off x="6300720" y="3716280"/>
            <a:ext cx="2843280" cy="2127240"/>
          </a:xfrm>
          <a:prstGeom prst="rect">
            <a:avLst/>
          </a:prstGeom>
          <a:ln w="0">
            <a:noFill/>
          </a:ln>
        </p:spPr>
      </p:pic>
      <p:pic>
        <p:nvPicPr>
          <p:cNvPr id="811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0" y="95256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«Самоанализе мероприятия» конкурсанты показали умение видеть свои недостатки, ошибки и их причины, не бояться сказать о н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творческой презентации «Я – учитель здоровья» представили положительный опыт своей продолжительной и системной работы по формированию культуры здоровья обучающихся, наличие результатов по сохранению и улучшению здоровья детей, по формированию мотивации у детей следовать правилам ЗОЖ, показали свою приверженность ЗОЖ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Такие учителя по праву достойны называться учителями здоровья и быть примером для коллег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4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6550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Общим положительным результатом Конкурса-2018 для участвовавших в нём педагогов является то, ч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0" y="764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каждый участник  заочного тура повысил свою компетентность и получил опыт представления результатов педагогической деятельности, в том числе, в направлении формирования здорового образа жизни обучающих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участники очного тура получили бесценный опыт проведения здоровьесберегающих уроков с учетом требований Положения о Конкурс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условиях профессионального соперниче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участие педагогов в Конкурсе дает бонусы к их аттестации через портфолио учителя (дипломы, сертификаты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обедитель и лауреаты Конкурса получили денежное вознаграждение. Все участники получили моральное вознаграждение в виде размещения информации в сети интернет на сайте ИРО Пермского кра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7" name="Picture 4" descr="IMG_20180928_131629"/>
          <p:cNvPicPr/>
          <p:nvPr/>
        </p:nvPicPr>
        <p:blipFill>
          <a:blip r:embed="rId1"/>
          <a:stretch/>
        </p:blipFill>
        <p:spPr>
          <a:xfrm>
            <a:off x="539640" y="5229360"/>
            <a:ext cx="2178000" cy="162864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5" descr="IMG_20181002_133137"/>
          <p:cNvPicPr/>
          <p:nvPr/>
        </p:nvPicPr>
        <p:blipFill>
          <a:blip r:embed="rId2"/>
          <a:stretch/>
        </p:blipFill>
        <p:spPr>
          <a:xfrm>
            <a:off x="3348000" y="5214960"/>
            <a:ext cx="2197080" cy="164304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6" descr="IMG_20180928_123823"/>
          <p:cNvPicPr/>
          <p:nvPr/>
        </p:nvPicPr>
        <p:blipFill>
          <a:blip r:embed="rId3"/>
          <a:stretch/>
        </p:blipFill>
        <p:spPr>
          <a:xfrm>
            <a:off x="6084720" y="5160960"/>
            <a:ext cx="2259360" cy="1697040"/>
          </a:xfrm>
          <a:prstGeom prst="rect">
            <a:avLst/>
          </a:prstGeom>
          <a:ln w="0">
            <a:noFill/>
          </a:ln>
        </p:spPr>
      </p:pic>
      <p:pic>
        <p:nvPicPr>
          <p:cNvPr id="820" name="Рисунок 1" descr=""/>
          <p:cNvPicPr/>
          <p:nvPr/>
        </p:nvPicPr>
        <p:blipFill>
          <a:blip r:embed="rId4"/>
          <a:stretch/>
        </p:blipFill>
        <p:spPr>
          <a:xfrm>
            <a:off x="-108000" y="0"/>
            <a:ext cx="1008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55640" y="102960"/>
            <a:ext cx="79423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участие Министерства образования и науки Пермского края в качестве учредителя Конкурса придало статусность, весомость и значимость Конкурсу, и соответственно -  вопросам здоровьесбережения, формирования культуры здоровья - в глазах руководителей общеобразовательных организаций;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актуализируются тема «здоровье школьника», проблемы формирования культуры здоровья в образовательном пространств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появляется возможность создать и развить региональную сеть школ здоровья, создать банк таких школ и педагогов – учителей здоровь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появляется возможность трансляци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распространения лучшего педагогическо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опыта по формированию культуры здоровь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у обучающихся и педагогов.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3" name="Picture 9" descr="Копия IMG_20171102_125237"/>
          <p:cNvPicPr/>
          <p:nvPr/>
        </p:nvPicPr>
        <p:blipFill>
          <a:blip r:embed="rId1"/>
          <a:stretch/>
        </p:blipFill>
        <p:spPr>
          <a:xfrm>
            <a:off x="6335640" y="475128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824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08:26:38Z</dcterms:created>
  <dc:creator>Лядова Н.В.</dc:creator>
  <dc:description/>
  <dc:language>en-US</dc:language>
  <cp:lastModifiedBy>Ljadova-NV</cp:lastModifiedBy>
  <dcterms:modified xsi:type="dcterms:W3CDTF">2019-05-14T10:54:42Z</dcterms:modified>
  <cp:revision>405</cp:revision>
  <dc:subject/>
  <dc:title>Оразование и здоровье. Школа, содействующая укреплению здоровь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516</vt:lpwstr>
  </property>
</Properties>
</file>