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0556-3BD5-4DF7-AB2B-67BE7DA9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BDF3-DE4C-4804-8525-3AFEB80B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3ED3E-ECDC-4348-9FAA-D1CF6A9B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599D8-60DD-4729-A875-DE462513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624D1-7D85-4D79-AA8C-2BCD9FFB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D968B-7A79-4C84-AF1C-0F19006B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79ED1-E433-4894-A33D-567EBFB0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7A5AD-4443-4BDF-B8D6-386E7BF6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F7C78-26AF-4D47-A227-960DD093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0C35E-1594-48EE-9A88-BB9D6848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7D826-52B0-44A4-B786-29C25CA4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2732F-8C99-442B-9FCE-13ABE3C7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8425-09CA-4F32-8495-57D19D05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C37F8-F385-497D-8F99-749C780B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E939A-36C2-4866-92AA-77D69128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5AAA4-4A5A-4EA5-B720-80CB041F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C7285-2E23-48BB-A624-A138AEC0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16083-4A87-4061-887C-394C7E92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0ABE4-1992-458B-B4AA-05E1F5A8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27B37-C1D3-4C5F-92F3-A8A20A4F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9E80D-E943-4F4D-8AE4-20A76BE7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B933C-E249-46C1-A29E-7858DAA7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4E047-0FBC-4F9C-884D-B656AE84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87DA-2058-4D9C-BA87-10E094F5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D3682-3A35-47BC-BA4C-AAECD51C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ACA5D-EBE1-465B-982E-88151781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7300F-6FA2-4B7F-A5AF-666A2A69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A9F79-C069-43AE-9AF7-B5E79286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D3314-2727-472A-BF04-08A4ED26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02942-9495-470A-B09A-9B44F564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E43B9-902D-44F5-8DF7-E9B19DA1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2EB60-BA7D-4E9A-BE9E-56DF1C4C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184B6-7AB4-4A6C-8002-77333A89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6B81E-2A05-45D1-9F0A-3F9CB25F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4937-C58D-4E57-BDED-8B1FDB14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FCC30-E9EC-4859-8643-D3997AB3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BDF31-FF70-4116-AE48-5881C4AB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A7AE5-575E-4508-9A93-E7EBF9AD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1D8C1-6F67-4F83-A03E-04053386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09FF6-ADD0-47D6-B360-706F65B1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568B7-1A80-4799-BDF2-8BFB41D3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DA2F1-62EE-4B6E-B56E-AE2057E9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E72E2-C71D-4E62-BBE0-12C46391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114C7-9CC8-4950-BEBA-E6444EA3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DF0D9-A760-4CD0-BF79-8909DEE1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677D-8799-4A87-BE73-03165E2E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0CDD4-624B-4963-B929-034BDE0E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764D4-F78D-4015-85EE-58AAC6E0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D6700-1082-40BF-B9A6-80E8175C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622EF-C273-4A31-A834-3BDDBCE2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3CC32-FD34-405B-964F-A969D3C3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E456E8-6FB6-48C6-B2F4-05B59D87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7C32F4-DF41-43E1-BFBE-A98F12A0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B0E777-E919-430B-BE52-60B47893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C6363E-54F1-40F4-95A0-ECEF9396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94A2C-2FB9-4A6B-BD65-AF0E4006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897C-F64A-4DE0-A073-2EBD40ED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E183C2-9505-432C-876B-6AB9C3F8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D36DC7-BDBF-458E-9040-2C8180E7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039F6-6903-43FB-AF39-D1299CE0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CF874-5C26-43D8-9F62-FB566A4E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F6A0A3-0787-4061-B70A-EB1E8ADE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CFF9CB-856D-472C-9905-BF160521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A1F2B-0EDE-4DDE-9925-2DDCA0DE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7013B2-BBE1-4DD6-9FA7-9C1A4B3A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895A94-BDC0-4462-B2B5-814E4BB0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25B20B-18A8-4BCA-873C-8C27FE97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8302-1C77-4920-BEF1-3296A3EE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E2A62F-15F0-4AF9-BB54-D4C3CE7A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6C9E4-33C1-42D0-9163-12A53633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EC1B51-8B10-40DC-94EA-F801C303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B988AC-BCEB-499A-A652-3CC85515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9D5BD0-DEC4-4E51-AFBF-6F26BF83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557367-2036-41CB-B3C9-FCC48121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2A7AD6-41E9-4192-9178-440D1E4D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809960-D80A-4DCD-B198-91725F17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3AEB5C-5EF4-47F8-B982-29954FED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67CA9E-29B9-49B3-8B07-34D8D885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BC1D-7C92-4971-95A2-838CBF48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063215-FEDC-4E3C-8630-7E844B9A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DAB458-0A9F-4C92-8B24-D815FD78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2796C0-B7A5-4671-B74B-B94C15C1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0645D6-8D3A-4788-B1F1-B0B07FDA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8FE9F7-7F22-43EB-8A64-D2C728E0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774AED-DFD9-4C8A-BA0B-0C8A78A4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7D809F-0854-41BA-B748-8D86F473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63E888-D024-48A8-8B6C-347455E4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CCD506-ADC8-4B01-882E-A75392E0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818487-A14D-492B-AEED-CC1152BA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15E8-5325-4099-ADCB-0BACE3E9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55173C-BAC4-4197-84A2-2F48FA9E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0A91AD-1FD0-499E-B1EE-A4D3A8FF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FD25D2-63AB-4EBA-8B49-38FD0AAE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2379C0-989A-48D3-87B4-9E40BD7D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5527E3-054D-4A52-A082-295D3FF3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D4F247-5EE8-4CDE-A8BC-346D2D6B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8D2422-3B00-4C12-AE6C-FF3254C6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34E33C-624D-4772-BE78-DF2DF4FA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03D65F-17F0-4AC1-93B1-23FC9FFE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0BA336-69F4-4C79-BFC7-B3077844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61A4-D40B-4989-A492-607C3B7B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7F1E79-B123-4BF1-93FE-FFCC1604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2CD810-4C7C-4BAF-BD31-C5AED469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0AE709-419A-4E22-9E8C-C27C260C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60993D-0E71-488F-AAD1-4A92557C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BA97EF-655F-44B8-BBB7-E42F04FC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2CE47E-77B6-4466-A186-C6429715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EC0AE7-4007-431F-AE99-CDF4960B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D2BABB-E2F4-40D2-8A33-BDA18AC3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A4E3A3-9D11-47A7-B7FA-EECD6EED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BFE811-D1D8-4393-BA35-991DDF68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F1E8-2E43-4600-941A-96DAB027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42E1-A272-4EDA-97F4-85303C51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411BD2-F9F8-4CBF-8249-4188172A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B181AB-CDA3-4195-8413-116EEC79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BFE1CE-DDFB-4822-92A3-C16847A8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FE8A1B-286F-47C2-BEC1-64A2E282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16DE76-97BD-46A9-BC18-0AA7EA2A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8C7012-0AD3-42AB-B0D0-1E7DCD17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5A8F83-118E-42C8-868D-3DF3175E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2C3B08-FA8A-4F27-8828-6468F8AD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29B2AE-2C06-446A-858B-AC935508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5C953E-5596-44E7-B4E4-17F2DD62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F085-4F32-4B90-A6E2-AD96538E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203A82-CC39-4878-8BF9-7F8CCAB7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A4F7D9-8275-4D04-858B-D0D13072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6D7C9A-1FDD-4DE1-A4DC-5FE99050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B66998-6986-4401-8E7F-5B5BF9D7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974551-0F2C-40C0-AB58-F2FCDC0B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7A51DA-A591-4DF2-AA1E-32A514FB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4BE72D-65A2-4972-B404-735E3CE1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4BF5-1F70-45BE-832F-47970F66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6CAB-C5D4-4AED-B14B-AE64ECCFC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CC69-2A48-44CE-A211-735335D9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B12C5-EEEF-4D40-A638-FA9F59DA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C22CC-A5F8-4601-861C-82869FBE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E85C6-D611-4E8E-8864-06655AF4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907A8-ED36-4CD5-960A-029A0760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B5E7A-491C-4CA7-BBD9-DB40F8FB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B9A7-AA7B-49E0-BCCF-0D78C6E6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3A8F3-4DA4-45C9-AC1B-13F3DB36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EB41F-9B74-4C5E-A046-0711772E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CB1BF-9C73-4487-833D-E3C409FD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03D8E-22E9-427B-80AB-2B29E990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71E64-E926-4555-8F8F-74161E60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490F3-4B93-4492-92CF-11F0294E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D57C4-15F5-40B8-BF80-6A4A8288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D52E2-6CBA-46C9-A0D4-F5EAB207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0AC20-70BA-4EC7-91F7-1AD584AA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B99F5-3459-4A33-84A3-D3A61B3B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B028-BE1E-4CEA-83FA-3FA4FAB8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A568A-227A-4E9B-9AE8-7A08800B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01B88-95DD-45D5-99FA-8CE45A94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C87DB-0B63-450D-BAB3-17B55BD8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6CE9C-D626-4678-BBB0-23BDF5EB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B6E07-06D6-4B72-82F8-8B61744C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F1325-7761-458B-9ECB-9092B12B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E6C81-E705-41EC-899C-12D86F4B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2044B-491D-4C75-AB65-469A772C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2E14C-21AB-4036-80DB-E614F46F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E0C4D-2858-4EFD-9AF6-310AB173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C58C-AE0F-49C2-98B9-82B0EFFC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CEA7E-689A-443D-88BC-9AF7E621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78E71-D8BA-458D-9A81-A34AF6B1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4EB36-F72A-4B75-96DC-9B6AADB9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9B910-1E14-4301-B59E-A97D089D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EDBF7-DEFD-425E-8654-DA88DDCE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01324-881D-4D8F-ADA1-9DD02D3E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F90C0-CB21-4300-9EA3-496C8CF8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1EB3D-7220-402A-B1D6-C229F47F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2DE5E-6301-4143-A2EE-C1D9B0CC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5A26D-68B0-465B-A168-BFFFE49F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BF99-DE2A-4DBA-98A5-B059339A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47781-DE04-41F5-9266-B08DEF61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1A3D1-ABE4-4B16-B266-FC5EB36D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618E6-06B2-419A-A779-E07CC30C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DD6B8-B0B5-4FCA-9877-24ECC771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55AE9-9418-4145-8A2D-11CDC8FA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A3BAD-7F33-49C2-BCA9-7BB8DF82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E4558-CFAE-47EB-A0D0-93B8288D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CB852-A781-4C25-9C2E-7237B3D8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FDC15-7604-4675-8F0E-D33F18A6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7A6DE-DEB7-46DB-9B73-4ABD33B7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9144-0814-4FF0-B492-C3BA986E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AB9AD-2F0E-43CD-BA39-2921319B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53FB5-95A5-4559-BEF3-2647FC31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C02F6-AFD7-4FE5-AB80-20067E27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0BC11-30B8-4320-9FEE-C1963BB1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A0818-3E77-4819-8143-42FC89EE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904C3-6B24-48A5-B3DF-A0EDC6D6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7BCEC-4E2C-4BD7-860F-27C36640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3EBE8-7A3E-44F6-A46A-0C3B1EB3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883EB-E162-4C03-8FF1-1CB136F8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C9709-5818-47C2-9E03-CD1F8D8B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5169-575F-4C79-8B8E-D6767356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13319-D2D0-4F09-ACF1-991C5A5F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76DA2-5F82-4CE3-A2A0-E4A8748A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E6732-4783-4E6F-BDF8-60AC2591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FED97-F687-4CB6-93AC-F388A906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19FD5-6D7B-4BDB-BD12-509C9B0A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2CD63-0FC2-4E68-9688-03A24B58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6BCEF-9C0D-436E-A9F1-6F086BE4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20FEB-989F-4CB8-8C01-A11082E1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DF079-8C7A-487C-8759-0DE3B548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ABCA9-B06D-4EDC-A341-56C18DAA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A0CF-44E9-4693-816C-D7F1E966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6DAD8-CBBB-4CC3-8786-73B316AA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6AEB8-80E4-47B5-9CFA-805EA55A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08505-1643-4DC9-BB47-1427C37A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88A54-A3AA-4C22-9F0E-3CFF0F7C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1DBB8-0535-4878-A568-F7079913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5678B-4481-49E7-A15B-CA0FC33D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3F219-C0B5-4780-BBFB-EFC85B4B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84789-910D-4709-A4DD-AAB2D5BD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BF946-0B59-43CA-93AE-7771D36D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F1518-3897-429B-899A-54D75BF9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86DD-B9E7-46BE-920E-30B82C0D9F09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38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2101-C5BD-4D3F-A603-571DB220813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3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95E0-AA72-474B-9B71-D19E74BF066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7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ED4A-7734-46A6-9715-A41129958FB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2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2B8F-3D2B-453C-B19B-B17E795828B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6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FFBD-058C-4944-899D-3BA4C661B92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1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255B-1F8A-4C0E-BB68-2B59FE1BDD8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5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D70E-41E2-4013-8752-8BBE93E8616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0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27EC-02AA-4D48-99CD-7C9547458CD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4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6CF5-C375-4DE4-857F-3FFCA082DF0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26F2-A807-4759-B36D-862C950D1C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59D3-EC82-4AD4-9D10-FF467AFEBE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129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18C9-1FC1-4621-A47F-DAC68F2EB60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3110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27CD-7BB9-489C-9E91-94BBCC1E0123}" type="slidenum">
              <a:rPr b="0" lang="ru-RU" sz="18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434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AD76-BED0-4670-9136-EA63D0D89849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3C1B-126A-4233-AC25-27E74382A82A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3" y="0"/>
                </a:lnTo>
                <a:cubicBezTo>
                  <a:pt x="2295505" y="0"/>
                  <a:pt x="2324099" y="28594"/>
                  <a:pt x="2324099" y="63866"/>
                </a:cubicBezTo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9A77-F1DB-4CE7-A9A7-8DE607C85D2E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E5B9-EE3E-4341-B861-1ACE8356145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ro.perm.ru/" TargetMode="External"/><Relationship Id="rId2" Type="http://schemas.openxmlformats.org/officeDocument/2006/relationships/hyperlink" Target="http://www.iro.perm.ru/" TargetMode="External"/><Relationship Id="rId3" Type="http://schemas.openxmlformats.org/officeDocument/2006/relationships/hyperlink" Target="http://www.iro.perm.ru/" TargetMode="External"/><Relationship Id="rId4" Type="http://schemas.openxmlformats.org/officeDocument/2006/relationships/hyperlink" Target="http://www.iro.perm.ru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mailto:ozdip@list.ru" TargetMode="External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ocs.cntd.ru/document/zakon-rf-ob-obrazovanii-v-rossijskoj-federacii" TargetMode="External"/><Relationship Id="rId2" Type="http://schemas.openxmlformats.org/officeDocument/2006/relationships/hyperlink" Target="http://zakon-ob-obrazovanii.ru/" TargetMode="External"/><Relationship Id="rId3" Type="http://schemas.openxmlformats.org/officeDocument/2006/relationships/hyperlink" Target="http://zakon-ob-obrazovanii.ru/" TargetMode="External"/><Relationship Id="rId4" Type="http://schemas.openxmlformats.org/officeDocument/2006/relationships/hyperlink" Target="http://si-sv.com/publ/1/zdorovesberezhenie_na_uroke/14-1-0-74" TargetMode="External"/><Relationship Id="rId5" Type="http://schemas.openxmlformats.org/officeDocument/2006/relationships/hyperlink" Target="http://si-sv.com/publ/1/zdorovesberezhenie_na_uroke/14-1-0-74" TargetMode="External"/><Relationship Id="rId6" Type="http://schemas.openxmlformats.org/officeDocument/2006/relationships/hyperlink" Target="http://si-sv.com/publ/1/zdorovesberezhenie_na_uroke/14-1-0-74" TargetMode="External"/><Relationship Id="rId7" Type="http://schemas.openxmlformats.org/officeDocument/2006/relationships/hyperlink" Target="http://si-sv.com/publ/1/zdorovesberezhenie_na_uroke/14-1-0-74" TargetMode="External"/><Relationship Id="rId8" Type="http://schemas.openxmlformats.org/officeDocument/2006/relationships/hyperlink" Target="http://si-sv.com/publ/1/zdorovesberezhenie_na_uroke/14-1-0-74" TargetMode="External"/><Relationship Id="rId9" Type="http://schemas.openxmlformats.org/officeDocument/2006/relationships/hyperlink" Target="http://si-sv.com/publ/1/zdorovesberezhenie_na_uroke/14-1-0-74" TargetMode="External"/><Relationship Id="rId10" Type="http://schemas.openxmlformats.org/officeDocument/2006/relationships/hyperlink" Target="http://si-sv.com/publ/1/zdorovesberezhenie_na_uroke/14-1-0-74" TargetMode="External"/><Relationship Id="rId11" Type="http://schemas.openxmlformats.org/officeDocument/2006/relationships/hyperlink" Target="http://si-sv.com/publ/1/zdorovesberezhenie_na_uroke/14-1-0-74" TargetMode="External"/><Relationship Id="rId12" Type="http://schemas.openxmlformats.org/officeDocument/2006/relationships/hyperlink" Target="http://vopk.ru/view.php?event=levelxx_view&amp;a=5%7C72" TargetMode="External"/><Relationship Id="rId13" Type="http://schemas.openxmlformats.org/officeDocument/2006/relationships/hyperlink" Target="http://vopk.ru/view.php?event=levelxx_view&amp;a=5%7C72" TargetMode="External"/><Relationship Id="rId14" Type="http://schemas.openxmlformats.org/officeDocument/2006/relationships/hyperlink" Target="http://vopk.ru/view.php?event=levelxx_view&amp;a=5%7C72" TargetMode="External"/><Relationship Id="rId15" Type="http://schemas.openxmlformats.org/officeDocument/2006/relationships/hyperlink" Target="http://vopk.ru/view.php?event=levelxx_view&amp;a=5%7C72" TargetMode="External"/><Relationship Id="rId16" Type="http://schemas.openxmlformats.org/officeDocument/2006/relationships/hyperlink" Target="http://si-sv.com/publ/1/zdorovesberezhenie_na_uroke/14-1-0-74" TargetMode="External"/><Relationship Id="rId17" Type="http://schemas.openxmlformats.org/officeDocument/2006/relationships/hyperlink" Target="http://si-sv.com/publ/1/zdorovesberezhenie_na_uroke/14-1-0-74" TargetMode="External"/><Relationship Id="rId18" Type="http://schemas.openxmlformats.org/officeDocument/2006/relationships/hyperlink" Target="http://si-sv.com/publ/1/zdorovesberezhenie_na_uroke/14-1-0-74" TargetMode="External"/><Relationship Id="rId19" Type="http://schemas.openxmlformats.org/officeDocument/2006/relationships/hyperlink" Target="http://si-sv.com/publ/1/zdorovesberezhenie_na_uroke/14-1-0-74" TargetMode="External"/><Relationship Id="rId20" Type="http://schemas.openxmlformats.org/officeDocument/2006/relationships/hyperlink" Target="http://si-sv.com/publ/1/zdorovesberezhenie_na_uroke/14-1-0-74" TargetMode="External"/><Relationship Id="rId21" Type="http://schemas.openxmlformats.org/officeDocument/2006/relationships/hyperlink" Target="http://si-sv.com/publ/1/zdorovesberezhenie_na_uroke/14-1-0-74" TargetMode="External"/><Relationship Id="rId22" Type="http://schemas.openxmlformats.org/officeDocument/2006/relationships/hyperlink" Target="http://si-sv.com/publ/1/zdorovesberezhenie_na_uroke/14-1-0-74" TargetMode="External"/><Relationship Id="rId23" Type="http://schemas.openxmlformats.org/officeDocument/2006/relationships/hyperlink" Target="http://si-sv.com/publ/1/zdorovesberezhenie_na_uroke/14-1-0-74" TargetMode="External"/><Relationship Id="rId24" Type="http://schemas.openxmlformats.org/officeDocument/2006/relationships/hyperlink" Target="http://festival.1september.ru/articles/627448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health.iro.perm.ru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-181080" y="765000"/>
            <a:ext cx="8637840" cy="28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Роль конкурса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Учитель здоровья России»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в формировании культуры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здоровья педагогов и обучающихся: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пыт проведения в Пермском крае, 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роблемы и перспективы</a:t>
            </a:r>
            <a:br>
              <a:rPr sz="2800"/>
            </a:br>
            <a:endParaRPr b="1" lang="en-US" sz="24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08000" y="4122720"/>
            <a:ext cx="5400720" cy="2735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Лядова Наталья Владимир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к.мед.наук, вед. научн.сотру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ГАУ ДПО «Институт развития образования Пермского кра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iro.perm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ермь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F:\USERS\МАМА\Files - МАМА\А 2014\Конференция в Новосибирске\permskkrai-1.jpg"/>
          <p:cNvPicPr/>
          <p:nvPr/>
        </p:nvPicPr>
        <p:blipFill>
          <a:blip r:embed="rId5"/>
          <a:stretch/>
        </p:blipFill>
        <p:spPr>
          <a:xfrm>
            <a:off x="6948360" y="0"/>
            <a:ext cx="2195640" cy="217980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5" descr="набережная.jpg"/>
          <p:cNvPicPr/>
          <p:nvPr/>
        </p:nvPicPr>
        <p:blipFill>
          <a:blip r:embed="rId6"/>
          <a:stretch/>
        </p:blipFill>
        <p:spPr>
          <a:xfrm>
            <a:off x="5580000" y="3716280"/>
            <a:ext cx="3341880" cy="280836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1" descr=""/>
          <p:cNvPicPr/>
          <p:nvPr/>
        </p:nvPicPr>
        <p:blipFill>
          <a:blip r:embed="rId7"/>
          <a:stretch/>
        </p:blipFill>
        <p:spPr>
          <a:xfrm>
            <a:off x="0" y="0"/>
            <a:ext cx="18860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конкурса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112536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Затруднения конкурс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цели и задачи, которых в конспектах порой очень много, являются общими, не конкретными к представляемому урок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цель не соответствует ожидаемым результа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жидаемые результаты представлены общими словами, которые можно отнести к изучению предмета в целом, а не к конкретному уро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достаточно представлены здоровьесберегающие образовательные технологии, есть лишь некоторые приемы снятия позостатического напря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имеет место неправильное отнесение метапредметных, предметных и личностных результатов к соответствующей группе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писываемая деятельность учеников является исполнительской, а не учеб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в работах отсутствует оценивание достигнутых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в ряде работ тренеров-преподавателей, учителей физической культуры вообще нет акцента на здоровьесбережение во время урока и воспитательного компонента в плане повышения мотивации детей следовать правилам ЗОЖ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правильно оформленный список литературы, порой старой, небольшой перечень или его отсу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06560" y="0"/>
            <a:ext cx="8137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в организации, проведении Конкур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ники: вмес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чителя общеобразовательных организаций, тренеры, преподаватели дополнительного, общего и профессионального образования»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писать: 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«учителя и педагоги общеобразовательных организаций, педагоги дополнительного образования, преподаватели среднего профессионального образов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Лучшему пониманию педагогом того, каким должен быть его План-конспект урока/занятия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 правильнее –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ехнологическая карта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, представляемых на конкурс, будут способствовать четкие критерии и их показа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едставление-характеристика с  описываемой в ней здоровьесберегающей деятельностью педагога, сведения о конкурсанте в Информационной карте тоже должны войти в список критери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831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едлагаем такой вариант критериев: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08000" y="980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оформления и содержания технологической карты или плана-конспекта урока/занятия (Максим. 17 баллов). Заочный т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Дидактическое оформление технологической карты/плана-конспекта урока/занятия  (0-3 бал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. обоснованность темы и выбора содержания в контексте заявленной пробл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. грамотное дидактическое оформление плана конспе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. вариативность методического инструментария в достижении планируемы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держание соответствует теме, включает воспитательный компонент по формированию культуры ЗОЖ, здоровьесберегающие технологии (0-3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1. глубина и оригинальность раскрытия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2. инновационные организационные формы и здоровьесберегающие образовательные технологии на уро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3. здоровьесберегающий режим урока, воспитательный компоне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4000" y="115920"/>
            <a:ext cx="84596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Оригинальность используемых приемов, форм в достижении и оценивании результатов (0-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1. достижение заявленных личностных/ метапредметных/предметн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2. оценивание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3. рефлекс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Использованная литература (0- 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1. правильность оформления списк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2. широт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3. новизна источ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Характеристика (0-5 баллов)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Систематичность проведения пропаганды ЗОЖ среди обучающихся в урочной и внеурочной деятельности; удовлетворенность родителей; публикации, разработка и издание методических рекомендаций, пособий; участие педагога в конкурсах, посвященных сохранению и укреплению здоровья и ЗОЖ,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ВСЕГО бал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имеч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конкурсных мероприятий. Очный ту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981000"/>
            <a:ext cx="903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Фрагмент урока, внеклассного занятия. Регламент 25 минут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 Максимальное количество баллов – 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лубина содержания и оригинальность форм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армоничная интеграция вопросов здоровья и предметного содержания, воспитательный компонент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спользование здоровьесберегающих образовательных технологий, деятельностной основы учебной работ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Здоровьесберегающий режим урока, занятия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Результативность урока, занятия (соответствие достигнутых результатов заявленной цели, оценивание результатов, рефлексия)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6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Коммуникативная культура педагога, способность к импровизации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того за фрагмент уро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Прямоугольник 1"/>
          <p:cNvSpPr/>
          <p:nvPr/>
        </p:nvSpPr>
        <p:spPr>
          <a:xfrm>
            <a:off x="0" y="1890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SimSu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SimSun"/>
              </a:rPr>
              <a:t>Таким образом, участие в конкурсе «Учитель здоровья России» помогает учител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амому быть примером ведения здорового образа жизни, «заражает» других коллег стать участником Конкурс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троить свои уроки по-новому, создавая условия для эффективной учебной работы учеников без раннего и выраженного утомления, стрессирования, сохраняя на протяжении всего урока и учебного дня интерес и понимание детей, их высокую умственную работоспособность и хороше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А это и есть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Рисунок 3" descr="jat2uj15ohk_Preview.jpg"/>
          <p:cNvPicPr/>
          <p:nvPr/>
        </p:nvPicPr>
        <p:blipFill>
          <a:blip r:embed="rId1"/>
          <a:stretch/>
        </p:blipFill>
        <p:spPr>
          <a:xfrm>
            <a:off x="755640" y="443700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842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5003640" y="4367160"/>
            <a:ext cx="3594240" cy="2490840"/>
          </a:xfrm>
          <a:prstGeom prst="rect">
            <a:avLst/>
          </a:prstGeom>
          <a:ln w="0">
            <a:noFill/>
          </a:ln>
        </p:spPr>
      </p:pic>
      <p:pic>
        <p:nvPicPr>
          <p:cNvPr id="843" name="Рисунок 1" descr=""/>
          <p:cNvPicPr/>
          <p:nvPr/>
        </p:nvPicPr>
        <p:blipFill>
          <a:blip r:embed="rId3"/>
          <a:stretch/>
        </p:blipFill>
        <p:spPr>
          <a:xfrm>
            <a:off x="-228600" y="1764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ерспективы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0" y="907920"/>
            <a:ext cx="914400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Конкурсу бы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на всех уровн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от институциального до всероссийско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одумать соотнесение двух конкурсов «Учитель здоровья России» и «Школа – территория здоров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идать более современное звучание Положению о Конкур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6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17480" cy="1439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6" descr="D:\USERS\Бабуся\Pictures\ПОИПКРО, ПКИПКРО, ЦРО, ИРО ПК\Учитель здоровья 2013\IMG_3376 - копия.JPG"/>
          <p:cNvPicPr/>
          <p:nvPr/>
        </p:nvPicPr>
        <p:blipFill>
          <a:blip r:embed="rId2"/>
          <a:stretch/>
        </p:blipFill>
        <p:spPr>
          <a:xfrm>
            <a:off x="3419640" y="4765680"/>
            <a:ext cx="2790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Здоровье обучающихся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3927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одна из целей педагогического процес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редство повышения качества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критерий эффективности деятельности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Рисунок 7" descr="sm.jpg"/>
          <p:cNvPicPr/>
          <p:nvPr/>
        </p:nvPicPr>
        <p:blipFill>
          <a:blip r:embed="rId1"/>
          <a:stretch/>
        </p:blipFill>
        <p:spPr>
          <a:xfrm>
            <a:off x="4643280" y="1125360"/>
            <a:ext cx="3345120" cy="22291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" descr="lechebnay-fizkultura-krasnoyarsk-bubnovskiy"/>
          <p:cNvPicPr/>
          <p:nvPr/>
        </p:nvPicPr>
        <p:blipFill>
          <a:blip r:embed="rId2"/>
          <a:stretch/>
        </p:blipFill>
        <p:spPr>
          <a:xfrm>
            <a:off x="4356000" y="3429000"/>
            <a:ext cx="2251080" cy="2941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" descr="Территория здоровья"/>
          <p:cNvPicPr/>
          <p:nvPr/>
        </p:nvPicPr>
        <p:blipFill>
          <a:blip r:embed="rId3"/>
          <a:stretch/>
        </p:blipFill>
        <p:spPr>
          <a:xfrm>
            <a:off x="6877080" y="4489560"/>
            <a:ext cx="2266920" cy="180324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1" descr=""/>
          <p:cNvPicPr/>
          <p:nvPr/>
        </p:nvPicPr>
        <p:blipFill>
          <a:blip r:embed="rId4"/>
          <a:stretch/>
        </p:blipFill>
        <p:spPr>
          <a:xfrm>
            <a:off x="-181080" y="104760"/>
            <a:ext cx="172872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Министерство образования и нау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Пермского кра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obr.permkrai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ГАУ ДПО «Институт развития образования Пермского края», Отдел сопровождения ФГОС. Тел. 8(342)212 21 99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ozdip@list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Лядова Наталья Владимиров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закон «Об образовании в Российской Федерации» (с изменениями 2018 года)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zakon-ob-obrazovanii.r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нПиН 2.4.2.2821-10 «Санитарно-эпидемиологические требования к условиям и организации обучения в общеобразовательных организациях. Санитарно-эпидемиологические правила и нормативы» с изменениями от 24 ноября 2015 год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http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://xn--80abucjiibhv9a.xn--p1ai/%D0%B4%D0%BE%D0%BA%D1%83%D0%BC%D0%B5%D0%BD%D1%82%D1%8B/1136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ведения урока с позиции здоровьесбережения [Электронный ресурс] – Режим доступа:  http:// school6nojabrsk.narod. ru (дата обращения: 11.04.2012). Источник: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i-sv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ub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1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zdorovesberezhenie_na_uroke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рхин В. Учитесь на здоровье: Здоровьеориентированный образовательный процесс на уроке / Владимир Ирхин, Ирина Ирхина. – М.: Чистые пруды, 2008. – 32 с. – (Библиотечка «Первого сентября», серия «Здоровье детей». Вып. 2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.М.Безруких «Методические рекомендации по оценке состояния здоровья, учебной и внеучебной нагрузки, организации учебного процесса в 1, 10 классах при проведении широкомасштабного эксперимента (блок физиологического и психо-физиологического сопровождения эксперимента)», 200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Пастухова О.М., Гарсиа Э.Н. Мониторинг здоровья учащихся: Методическое пособие. – Пермь: ПОИПКРО, 2007 – 4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 Оценка деятельности общеобразовательного учреждения по сохранению и укреплению здоровья учащихся методическое пособие. – Пермь: ОТ и ДО, 2010. – 2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Кокшаров В.Л. Результаты мониторинговых исследований состояния здоровьесберегающей среды в общеобразовательных организациях Пермского края. Электронный журнал «Вестник образования Пермского края». Вып. №.5.1.1 от 07.05.2015. Р.6.1.1., 22 с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vopk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view.php?event=levelxx_view&amp;a=5|7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Здоровьесберегающие образовательные технологии в работе учителя и школы. – М.: АРКТИ, 2003. – 271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Руководство по здоровьесберегающей педагогике. Технологии здоровьесберегающего образования.  М.: АРКТИ, 2008.  288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ы здоровья России : принципы и организация работы. Мониторинг развития и эффективность / В.Р.Кучма, Л.М Сухарева, И.К.Рапопорт и др.; под ред. В.Р.Кучмы. – М. : Просвещение, 2012. – 235 с. – (Работаем по новым стандарта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а здоровья [Электронный ресурс] – Режим доступа: http://Schools.Keldysh.ru (дата обращения: 11.04.2012)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Источник: 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:/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si-sv.com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publ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/1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zdorovesberezhenie_na_uroke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годкина Е.Б. Приемы здоровьесбережения на уроках.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festival.1september.ru/articles/627448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2800" y="15840"/>
            <a:ext cx="82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«Чтобы сделать ребенка умным и рассудительным – сделайте ег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крепким и здоровым»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/Жан Жак Руссо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5" name="Рисунок 3" descr="john-jacques-rousseau-i4.jpg"/>
          <p:cNvPicPr/>
          <p:nvPr/>
        </p:nvPicPr>
        <p:blipFill>
          <a:blip r:embed="rId1"/>
          <a:stretch/>
        </p:blipFill>
        <p:spPr>
          <a:xfrm>
            <a:off x="3995640" y="476280"/>
            <a:ext cx="1728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Calibri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Содержимое 5" descr="Счастье 3.jpg"/>
          <p:cNvPicPr/>
          <p:nvPr/>
        </p:nvPicPr>
        <p:blipFill>
          <a:blip r:embed="rId1"/>
          <a:stretch/>
        </p:blipFill>
        <p:spPr>
          <a:xfrm>
            <a:off x="1238400" y="1849320"/>
            <a:ext cx="66672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Пермском крае накоплен большой опыт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решении вопросов здоровьесбережения школь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067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здана сеть школ, содействующих здоровь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одятся краевые этапы всероссийских конкурсов «Школа – территория здоровья» (2005-2011, 2018), «Учитель здоровья России» (2011-2014, 2018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едено 15 краевых НПК  «Здоровье и образовани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пробирована единая система мониторинга здоровьесберегающей среды в ОО Пермского края с использованием разработанного в ИРО ПК Web-ресурса – сайт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duhealth.iro.perm.ru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 «Школьное здоровье», 2014 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Рисунок 6" descr="IMG_3362.JPG"/>
          <p:cNvPicPr/>
          <p:nvPr/>
        </p:nvPicPr>
        <p:blipFill>
          <a:blip r:embed="rId2"/>
          <a:stretch/>
        </p:blipFill>
        <p:spPr>
          <a:xfrm>
            <a:off x="6659640" y="1052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2016360" cy="151164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25200" y="333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В рамках проекта Министерства просвещения РФ «Внедрение в общеобразовательных организациях системы мониторинга здоровья обучающихся на основе отечественной технологической платформ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0" y="1125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создан Региональный центр мониторинга здоровья обучающихся с ОВЗ, октябрь 2017 г.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10 школ, осуществляющих образовательную деятельность по адаптированным основным общеобразовательным программам, участвующих в реализации этого проекта в рамках подпрограммы Российской Федерации «Развитие фармацевтической и медицинской промышленности» на 2013-2020 годы» в 2017 году получили современное оборудование для мониторинга здоровья обучающихся с особыми образовательными потребностями, и сотрудники прошли повышение квалификации по вопросам внедрения системы мониторинга здоровья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рямоугольник 1"/>
          <p:cNvSpPr/>
          <p:nvPr/>
        </p:nvSpPr>
        <p:spPr>
          <a:xfrm>
            <a:off x="826920" y="33336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реализуются мероприятия по формированию здорового образа жизни обучающихся и педагогов образовательных организаций Пермского края, утвержденные Минобром ПК на 2017-2018 учебн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Для комплексного решения проблем здоровья школьников в Пермском крае разрабатывается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региональная модель здоровьесберегающе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2"/>
          <p:cNvSpPr/>
          <p:nvPr/>
        </p:nvSpPr>
        <p:spPr>
          <a:xfrm>
            <a:off x="179280" y="3357720"/>
            <a:ext cx="896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0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–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модернизация образов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бщеобразовательных организаци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снове создания и развития здоровьесберегающей среды, направленной на содействие здоровью в контексте требований ФГОС и в условиях внедрения ВФСК Г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Рисунок 3" descr="cel.jpg"/>
          <p:cNvPicPr/>
          <p:nvPr/>
        </p:nvPicPr>
        <p:blipFill>
          <a:blip r:embed="rId1"/>
          <a:stretch/>
        </p:blipFill>
        <p:spPr>
          <a:xfrm>
            <a:off x="108000" y="3860640"/>
            <a:ext cx="1944720" cy="11098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оль Конкурса «Учитель здоровья России-2018» в приобщении педагогов к делу воспитания культуры здоровья педагогов и обучающихся видится в следующ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едагоги не остались равнодушными к вопросам формирования культуры здоровья школьников и поучаствовали в этом Конкур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е, кто поучаствовал, показали свое желание и умение гармонично включать в содержание учебного материала по своему предмету вопросы формирования культуры здорового образа жизни и применять здоровьесберегающие подходы в ход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очном этапе Конкурса педаго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системно-деятельнос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дход к обучению, ставили и достиг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цели по развитию личностных, метапредмет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ных УУД и предметных уме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хорошую коммуникативную культу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6" descr="Рисунок11"/>
          <p:cNvPicPr/>
          <p:nvPr/>
        </p:nvPicPr>
        <p:blipFill>
          <a:blip r:embed="rId1"/>
          <a:stretch/>
        </p:blipFill>
        <p:spPr>
          <a:xfrm>
            <a:off x="6300720" y="3716280"/>
            <a:ext cx="2843280" cy="212724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0" y="95256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«Самоанализе мероприятия» конкурсанты показали умение видеть свои недостатки, ошибки и их причины, не бояться сказать о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творческой презентации «Я – учитель здоровья» представили положительный опыт своей продолжительной и системной работы по формированию культуры здоровья обучающихся, наличие результатов по сохранению и улучшению здоровья детей, по формированию мотивации у детей следовать правилам ЗОЖ, показали свою приверженность ЗОЖ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акие учителя по праву достойны называться учителями здоровья и быть примером для коллег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5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Общим положительным результатом Конкурса-2018 для участвовавших в нём педагогов является то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764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каждый участник  заочного тура повысил свою компетентность и получил опыт представления результатов педагогической деятельности, в том числе, в направлении формирования здорового образа жизни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ники очного тура получили бесценный опыт проведения здоровьесберегающих уроков с учетом требований Положения о Конкурс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условиях профессионального соперни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ие педагогов в Конкурсе дает бонусы к их аттестации через портфолио учителя (дипломы, сертифика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бедитель и лауреаты Конкурса получили денежное вознаграждение. Все участники получили моральное вознаграждение в виде размещения информации в сети интернет на сайте ИРО Пермского кр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4" descr="IMG_20180928_131629"/>
          <p:cNvPicPr/>
          <p:nvPr/>
        </p:nvPicPr>
        <p:blipFill>
          <a:blip r:embed="rId1"/>
          <a:stretch/>
        </p:blipFill>
        <p:spPr>
          <a:xfrm>
            <a:off x="539640" y="5229360"/>
            <a:ext cx="2178000" cy="16286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5" descr="IMG_20181002_133137"/>
          <p:cNvPicPr/>
          <p:nvPr/>
        </p:nvPicPr>
        <p:blipFill>
          <a:blip r:embed="rId2"/>
          <a:stretch/>
        </p:blipFill>
        <p:spPr>
          <a:xfrm>
            <a:off x="3348000" y="5214960"/>
            <a:ext cx="2197080" cy="16430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6" descr="IMG_20180928_123823"/>
          <p:cNvPicPr/>
          <p:nvPr/>
        </p:nvPicPr>
        <p:blipFill>
          <a:blip r:embed="rId3"/>
          <a:stretch/>
        </p:blipFill>
        <p:spPr>
          <a:xfrm>
            <a:off x="6084720" y="5160960"/>
            <a:ext cx="2259360" cy="1697040"/>
          </a:xfrm>
          <a:prstGeom prst="rect">
            <a:avLst/>
          </a:prstGeom>
          <a:ln w="0">
            <a:noFill/>
          </a:ln>
        </p:spPr>
      </p:pic>
      <p:pic>
        <p:nvPicPr>
          <p:cNvPr id="82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5640" y="102960"/>
            <a:ext cx="79423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ие Министерства образования и науки Пермского края в качестве учредителя Конкурса придало статусность, весомость и значимость Конкурсу, и соответственно -  вопросам здоровьесбережения, формирования культуры здоровья - в глазах руководителей общеобразовательных организаций;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актуализируются тема «здоровье школьника», проблемы формирования культуры здоровья в образовательном пространст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создать и развить региональную сеть школ здоровья, создать банк таких школ и педагогов – учителей здоровь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трансля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распространения лучшего педагогическ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опыта по формированию культуры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у обучающихся и педагогов.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9" descr="Копия IMG_20171102_125237"/>
          <p:cNvPicPr/>
          <p:nvPr/>
        </p:nvPicPr>
        <p:blipFill>
          <a:blip r:embed="rId1"/>
          <a:stretch/>
        </p:blipFill>
        <p:spPr>
          <a:xfrm>
            <a:off x="6335640" y="4751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824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8:26:38Z</dcterms:created>
  <dc:creator>Лядова Н.В.</dc:creator>
  <dc:description/>
  <dc:language>en-US</dc:language>
  <cp:lastModifiedBy>Ljadova-NV</cp:lastModifiedBy>
  <dcterms:modified xsi:type="dcterms:W3CDTF">2019-05-14T10:54:42Z</dcterms:modified>
  <cp:revision>405</cp:revision>
  <dc:subject/>
  <dc:title>Оразование и здоровье. Школа, содействующая укреплению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516</vt:lpwstr>
  </property>
</Properties>
</file>