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A561-35A6-4046-9CD4-7B848B67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1125-36A0-4512-81D8-4403C3A2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DA08-5AA5-471A-9E53-2E266462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5F11-6EA1-4A19-B28D-4C0139CF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B9B4-88AC-465A-A3D6-44FE016E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2467-6FBB-4805-8BD7-481B9D4F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DEC2-D747-4E14-A4DF-C653E8F9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4D61-5F89-4734-8244-D6AB0FE9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693A-3663-4B6E-A205-8906AB84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966-1B36-40B4-A448-763F8A65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3E65-CF13-4F4D-8879-ED49C5F7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8CFA-F8AF-4A94-8D38-DA37B7BB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C202-F587-4083-9A1D-F98CD62902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zdorobr.org/" TargetMode="External"/><Relationship Id="rId2" Type="http://schemas.openxmlformats.org/officeDocument/2006/relationships/hyperlink" Target="mailto:zdorovie.2014@yandex.ru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www.iro.perm.ru/uchitel_zdorovia_rossii_2015.html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iro.perm.ru/catalog.html?cid=9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ozdip@list.ru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60720" y="620640"/>
            <a:ext cx="6875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раевой этап 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X </a:t>
            </a: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Всероссийского конкурса </a:t>
            </a:r>
            <a:br>
              <a:rPr sz="3600"/>
            </a:b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«Учитель здоровья России - 2019»: условия участия, требования, критери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47560" y="445752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Лядова Наталья Владимировна</a:t>
            </a: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ответственная за проведение краевого конкурс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ведущий научный сотрудник отдела сопровождения ФГОС ИРО ПК, кандидат медицинских наук, доц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6480" y="28584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оощрение победителя и лауреатов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073160"/>
            <a:ext cx="91440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, призеры и лауреаты Конкурса поощряются денежными вознагражде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участники 1-го заочного тура Конкурса награждаются дипломам участников, победитель, призеры и лауреаты (участники 2 тура) – диплом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 Конкурса будет направлен для очного участия во всероссийском (финальном) этапе X Всероссийского конкурса «Учитель здоровья России – 2019», который будет проводиться 27-29 ноября 2019 года в городе Челябинс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ем документов победител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 ноября. Сайт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zdorobr.or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рес Оргкомитета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zdorovie.2014@yandex.r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8028000" y="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спехов участникам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иск информаци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 конкурсе на сайте ИРО П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483920"/>
            <a:ext cx="9036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ероприятия/«Учитель здоровья России»/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iro.perm.ru/uchitel_zdorovia_rossii_2015.htm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iro.perm.ru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logo2"/>
          <p:cNvPicPr/>
          <p:nvPr/>
        </p:nvPicPr>
        <p:blipFill>
          <a:blip r:embed="rId10"/>
          <a:stretch/>
        </p:blipFill>
        <p:spPr>
          <a:xfrm>
            <a:off x="539640" y="333360"/>
            <a:ext cx="1828800" cy="1125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11"/>
          <a:stretch/>
        </p:blipFill>
        <p:spPr>
          <a:xfrm>
            <a:off x="7667640" y="18900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 участию в Конкурсе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приглашают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чителя и педагоги общеобразовательных организац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дагоги дополнительного образова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подаватели среднего профессионального образования Пермского к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Цели Конкурс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лучших учителей, осуществляющих обучение на уроках, занятиях на основе использования современных здоровьесберегающих образовательных технологий, и определение кандидата для участия в финальном этапе X Всероссийского конкурса «Учитель здоровья России – 2019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чи Конкурс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уализация проблемы формирования культуры здоровья в системе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инновационных подходов педагогов к формированию культуры здорового и безопасного образа жизни у обучающихся, воспитанников, использования педагогами здоровьесберегающих образовательных технологий, методик в процессе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уры конкурса и конкурсные меропри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1-й – заочный ту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курсное мероприятие: «Технологическая карта или Конспект урока или занятия»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2-й – очный ту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нкурсные мероприят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Фрагмент урока или внеклассного занятия с дет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Самоанализ мероприят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Творческая презентация педагогического опыта «Я – учитель здоровь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Сроки пр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ры Конкур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1-й – заочный – с 20 мая по 9 сентября 201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проведения - ГАУ ДПО «ИРО ПК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2) 2-й – очный – 25-26 сентября 201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его проведения будет размещено на сайте ГАУ ДПО «ИРО ПК» http://iro.perm.ru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фициальной эмблем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урса 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является развернут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нига с дубовым лист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Использование официальной эмблемы Конкурса обязательно на краевом этапе X Всероссийского конкур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5840" y="274680"/>
            <a:ext cx="8580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Условия участия. </a:t>
            </a:r>
            <a:br>
              <a:rPr sz="3200"/>
            </a:b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еречень направляем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6200" y="1248840"/>
            <a:ext cx="888552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ление участника Конкурса по образцу (Приложение 1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ка на урок или  внеклассное занятие (Приложение 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ставление заявителя (скан) о Конкурсанте (официальное письмо органа управления образованием муниципального района, городского округа с подписью начальника и печатью) (Приложение 3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онная карта участника Конкурс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в формате Wo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скан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Приложение 4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хнологическая карта (план-конспект урока) или внеклассного занятия в электронном виде (Приложение 5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 формате Wor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Приложение 5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ветная фотография участника (портре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ники в срок до 9 сентября 2019 года включительно направляют комплект конкурсных документов в Оргкомитет Лядово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Наталье Владимировне по электронной почте на адрес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zdip@list.ru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967520" y="0"/>
            <a:ext cx="11764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ритерии оценки конкурсных материалов </a:t>
            </a:r>
            <a:br>
              <a:rPr sz="2800"/>
            </a:b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заочного тур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заочном туре жюри оцениваю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ческую карту/Конспект урока или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1746360"/>
          <a:ext cx="8785440" cy="5111640"/>
        </p:xfrm>
        <a:graphic>
          <a:graphicData uri="http://schemas.openxmlformats.org/drawingml/2006/table">
            <a:tbl>
              <a:tblPr/>
              <a:tblGrid>
                <a:gridCol w="360360"/>
                <a:gridCol w="6337440"/>
                <a:gridCol w="2087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. количество баллов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ое оформление технологической карты/плана-консп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соответствует теме, включает воспитательный компонент по формированию культуры ЗОЖ, здоровьесберегающие техноло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гинальность используемых приемов, форм достижения и оценивания результат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ная 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8034480" y="189000"/>
            <a:ext cx="11095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Очный т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074600"/>
            <a:ext cx="85345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2-й очный тур выходя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вять участник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бравших в 1-м туре наибольшее количество баллов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339933"/>
                </a:solidFill>
                <a:latin typeface="Calibri"/>
              </a:rPr>
              <a:t>Конкурсные мероприятия очного ту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гмент урока или внеклассного занятия с детьми – регламент 25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анализ мероприятия – регламент 5 ми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кая презентация педагогического опыта участника Конкурса «Я – учитель здоровья» – регламент 7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3T09:47:00Z</dcterms:created>
  <dc:creator>Ljadova-NV</dc:creator>
  <dc:description/>
  <dc:language>en-US</dc:language>
  <cp:lastModifiedBy>Ljadova-NV</cp:lastModifiedBy>
  <dcterms:modified xsi:type="dcterms:W3CDTF">2019-05-14T09:24:35Z</dcterms:modified>
  <cp:revision>12</cp:revision>
  <dc:subject/>
  <dc:title>Краевой этап  II Всероссийского конкурса  «Школа – территория здоровья - 2018»: условия участия, требования, критер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35</vt:lpwstr>
  </property>
  <property fmtid="{D5CDD505-2E9C-101B-9397-08002B2CF9AE}" pid="3" name="Version">
    <vt:r8>4</vt:r8>
  </property>
</Properties>
</file>