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6025-D76F-4AC2-9203-2E5B215FD6D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7D5C-4911-4388-B56F-687CB517B51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7D4C-FE38-40E9-B6FF-16F309433AF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50B2-CE11-45B5-A734-6BFB4D847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1C99-8B11-40E4-B87C-3477F6A4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0060-9D63-4ACD-9026-6706927FC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4F4C-9198-4A87-896D-B43BB72B0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3F62-2FB1-4254-AC4C-8099C0D5E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8843-8A23-4F87-A7CE-51A92CD3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5A66-F9E2-47A2-AD6C-8E4E50CE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0CF5-173B-4D38-A1B7-AB4A44F2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A7D7-E3C9-478E-80A2-E5184BD7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C1E6-969C-4ECF-B3AA-02171999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75F1-05FC-4E70-8861-ACFB61EB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98E5-70AE-4E86-8029-9B17F465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51C0-273C-45B9-9A7C-21D3DCE9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A562-C20A-46BD-8938-DE527395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BCD0-3790-4ED7-90C4-1887BC6E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AE66-E9FA-4085-8633-00C01F800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6FBE-668D-4DF4-83F1-5435EDF1D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86D2-B542-408B-A111-3DB43C57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D3A5-CC3D-4CF9-88A3-675E851F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E2BC-AECA-4BEF-A111-56095D68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7211-85A7-402B-BD9B-B576B624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84CD-3D42-4043-90E8-9001ECCB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BDEC-DFE7-44EA-AFEB-BDE17903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1AE7-E098-4C59-8D6C-DCFCCC8C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EA99-A33C-4230-8500-022B023D678A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A778-8BAA-4D0F-BC0F-51397591DDBD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9000"/>
          </a:bodyPr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f497d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mbria"/>
              </a:rPr>
              <a:t>Яковлева Н.Г., научный  сотрудник отдела сопровождения ФГОС ГАУ ДПО «ИРО ПК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</a:rPr>
              <a:t>ЭФФЕКТИВНЫЕ ФОРМЫ</a:t>
            </a:r>
            <a:br>
              <a:rPr sz="3600"/>
            </a:br>
            <a:r>
              <a:rPr b="1" lang="ru-RU" sz="3600" spc="-1" strike="noStrike">
                <a:solidFill>
                  <a:srgbClr val="17375e"/>
                </a:solidFill>
                <a:latin typeface="Times New Roman"/>
              </a:rPr>
              <a:t>И МЕХАНИЗМЫ ПОВЫШЕНИЯ ОБРАЗОВАТЕЛЬНЫХ РЕЗУЛЬТАТОВ ОБУЧАЮЩИХС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358128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301320"/>
            <a:ext cx="8991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ПЛАН-ПРОЕКТ НАУЧНО-МЕТОДИЧЕСКОГО</a:t>
            </a:r>
            <a:br>
              <a:rPr sz="2400"/>
            </a:b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СОПРОВОЖДЕНИЯ ГРУПП УЧИТЕЛЕЙ-ПРЕДМЕТНИКОВ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3520" y="1143000"/>
          <a:ext cx="8229600" cy="5616720"/>
        </p:xfrm>
        <a:graphic>
          <a:graphicData uri="http://schemas.openxmlformats.org/drawingml/2006/table">
            <a:tbl>
              <a:tblPr/>
              <a:tblGrid>
                <a:gridCol w="3441600"/>
                <a:gridCol w="2768760"/>
                <a:gridCol w="2019240"/>
              </a:tblGrid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метная 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Установ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. шк.– 7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марта-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апрел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полученного   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 апрел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1 по результатам проверки выполнен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 контрол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осн. шк.– 4 предм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апрел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 ма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2 по результатам проверки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ма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Промежут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. шк.– 7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-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июн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1 сен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3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 контро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осн. шк.– 4 предм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сен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 ок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4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ок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Итоговый семинар-конферен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. шк.– 7 пред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ноября 201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301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7375e"/>
                </a:solidFill>
                <a:latin typeface="Times New Roman"/>
              </a:rPr>
              <a:t>РЕЗУЛЬТАТЫ НАУЧНО-МЕТОДИЧЕСКОГО СОПРОВОЖДЕНИЯ ГРУПП УЧИТЕЛЕЙ-ПРЕДМЕТНИКОВ В 2018 ГОД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екте было охвачен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9 челове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ачальная школа; основная и средня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, иностранный язык, математика, химия, история и обществознание, физика, географ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о окол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целевых програм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повышению образовательных результатов обучающихся в урочной и внеурочн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лен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научно-методических рекоменда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принятию новых управленческих решений со стороны управлений образованием, административных команд, учителей-предметников, направленных на качественную подготовку выпускников к государственной итоговой аттест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ОБРАЗОВАТЕЛЬНЫЙ ЛИФТ – 201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520" y="9140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ая направленность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ие предметно-методической компетентности учителей-предмет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ая задач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явление дефицитных образовательных результ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аботка проек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рам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анирования для их реализации (вариатив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ообразования, тьюторского сопровождения учащихся и др.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ой принцип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вневая оценка предметной и методической компетенций учит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 различных форм взаимодействия в групп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ие образовательных результатов обучающихся в зависимости от возможностей и способностей кажд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пешная социализац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301320"/>
            <a:ext cx="8991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ПЛАН-ПРОЕКТ НАУЧНО-МЕТОДИЧЕСКОГО</a:t>
            </a:r>
            <a:br>
              <a:rPr sz="2800"/>
            </a:b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СОПРОВОЖДЕНИЯ УЧИТЕЛЕЙ-ПРЕДМЕТ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136520"/>
          <a:ext cx="8610480" cy="5567400"/>
        </p:xfrm>
        <a:graphic>
          <a:graphicData uri="http://schemas.openxmlformats.org/drawingml/2006/table">
            <a:tbl>
              <a:tblPr/>
              <a:tblGrid>
                <a:gridCol w="3600360"/>
                <a:gridCol w="3257640"/>
                <a:gridCol w="1752480"/>
              </a:tblGrid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метная 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Установ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сн. шк.– 8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русский язык, математика, английский язык, обществознание, химия, география, физкультур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т-апрель 2019 г.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полученного   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1 по результатам проверки выполнен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русский язык, математика, английский язык, 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й 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2 по результатам проверки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юн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Промежут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сн. шк.– 8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русский язык, математика, английский язык, обществознание, химия, география, физкультур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густ-сентябр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3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русский язык, математика, английский язык, 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нтябр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4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тябр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1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Итоговый семинар-конферен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и работы в рамках предметных сек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ябрь 2019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ДАНИЯ ПРОЕК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534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90360" y="838080"/>
            <a:ext cx="73911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7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«Дети не должны быть заложниками социального или культурного статуса своих сем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Если школы работают в трудных социальных условиях, то и они, а  не только гимназии и лицеи, работающие, как правило, с благополучными детьми, должны получать специальную поддержку – и методическую, и кадровую, и финансовую»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.В.Пут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61760" y="327672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Яковлева Надежда Геннадьевна,  научный сотрудник отдела сопровождения ФГОС ИРО ПК (р.т. 8-342- 212-21-99; с.т. 8-909-731-01-80,  </a:t>
            </a:r>
            <a:r>
              <a:rPr b="0" lang="en-U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e-mail fanni1909@yandex.r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ПРЕДЫСТОРИЯ ВОПРО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1760" y="1295280"/>
            <a:ext cx="7769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каз Министерства образования и науки Пермского кра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т 28.11.2014г  № СЭД-26-01-04-1037 (пункт 13.4.9. «Об утверждении Перечня краевых мероприятий краевых, объема средств и способов закупки товаров и услуг для их реализации в 2015 году»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вести бюджетные очные курс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вышения квалификации по программам дополнительного профессионального образования в рамках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аевого проекта «Образовательный лифт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учителей Александровского, Бардымского, Карагайского, Косинского, Кочёвского, Ординского, Сивинского, Соликамского, Уинского, Усольского муниципальных район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Ожидаемый образовательный результат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владение учителями продуктивными методами и приёмами подготовки выпускников к итоговой аттестации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улучшение результатов ГИА и ЕГЭ по русскому языку  в данных АТЕ в 2015 году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редняя общеобразовательная школа № 6» Александров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«Средняя общеобразовательная школа № 25» г. Губах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«Средняя общеобразовательная школа №3» Гремячи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Средняя общеобразовательная школа № 1» Кизелов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Госконзаводская средняя общеобразовательная школа» Куеди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Основная общеобразовательная школа № 13» Лысьве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Новоильинский казачий кадетский корпус имени Атамана Ермака» Нытвенского 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Петропавловская средняя общеобразовательная школа» Октябрь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Очерская средняя общеобразовательная школа № 2» Очер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«Средняя общеобразовательная школа № 107» г. Перм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Деменевская средняя общеобразовательная школа» Чернуши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редняя общеобразовательная школа № 91» Чусов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762120" y="3049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СПИСОК ОО-АП КРАЕВОГО ПРОЕКТА «ОБРАЗОВАТЕЛЬНЫЙ ЛИФТ» В 2017 Г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15364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РЕЗУЛЬТАТЫ НАУЧНО-МЕТОДИЧЕСКОГО СОПРОВОЖДЕНИЯ ГРУПП УЧИТЕЛЕЙ-ПРЕДМЕТНИКОВ – 2017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5238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е было охвачен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5 челове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ведены практико-ориентированные курсы повышения квалификации (72 ч.) по предметам:«русский язык», «математика», «обществознание», «биология», «химия», «английский язык» – с целью подготовки к ЕГЭ, ОГЭ, по предмету «физическая культура» – с целью повышения уровня социализации обучающих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аботаны модели эффективной школы на базе ОУ-апробационных площадок (МБОУ «СОШ № 1» г Кизела; МБОУ «СОШ № 6» Александровского района; МКОУ «СОШ № 3» Гремячинского района; МБОУ «СОШ № 91»» Чусовского райо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формированы сетевые проблемные группы педагогов-предметников школ с НРО, НСУ (около 200 человек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уществлена диссеминация лучших методик и практи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явились инициативные центры, точки роста по обобщению лучших методик и практик по подготовке к ОГЭ и ЕГЭ по предмету, а также осуществлена трансляция их на краевом, межрегиональном уровн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ОНИТОРИНГОВЫЕ ИССЛЕДОВАНИЯ ШКОЛ В 2017 ГО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520" y="1523520"/>
            <a:ext cx="8610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 и проведен экспертный опрос руководителей МОУО по оценке шко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а и апробирована методика объективированной оценки эффективности образовательной деятельности школ (НРО, СРО, ВРО) по 17 показателям – охват 732 О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а и апробирована методика объективированной оценки социальных условий (НСУ, ОНСУ, ССУ, БСУ, ВСУ) по 18 показателям – охват 702 ОО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ы сводные списки школ по объективированным показателям образовательных результатов и социальных услов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301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</a:rPr>
              <a:t>ЧТО ОЗНАЧАЕТ «ШКОЛА С НИЗКИМИ РЕЗУЛЬТАТАМ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школы, в которых результаты ЕГЭ, ОГЭ ниже среднерегиональных на 15 и более бал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у анализа были взяты результаты ЕГЭ, ОГЭ по русскому языку и математике за 2016 год в СОШ Пермского кра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выведен интегральный показатель и составлен рейтинг 291 СОШ (из 701 ОО Пермского края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этому рейтингу было выявлено 55 школ, в которых интегральный показатель был ниже среднекраевого на 12 и более баллов, из них в 21 СОШ интегральный показатель был ниже среднекраевого на 14,7 и более балл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Для работы в качестве апробационных площадок было выбрано 12 школ из 12 муниципальных районов Пермского края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+   </a:t>
            </a:r>
            <a:r>
              <a:rPr b="0" lang="ru-RU" sz="32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присоединившиеся ОО по решению муниципалитетов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(участники - школы с низкими результатами обучения (НРО), функционирующие в социально неблагоприятных условиях (НСУ)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СПИСОК ОО-АП КРАЕВОГО ПРОЕКТА «ОБРАЗОВАТЕЛЬНЫЙ ЛИФТ» В 2018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Средняя общеобразовательная школа №1» г. Оханс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Основная общеобразовательная школа № 7» г. Краснокам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Екатерининская средняя общеобразовательная школа» Сиви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Чермозская средняя общеобразовательная школа им. В.Ершова» Ильи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«Стряпунинская средняя общеобразовательная школа» Краснокам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ОУ «Средняя общеобразовательная школа» п.Пашия Горнозавод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Старо-Шагиртская средняя общеобразовательная школа» Куеди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ОУ «Тюндюковская средняя общеобразовательная школа» Бардым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Тюшевская средняя общеобразовательная школа» Октябрь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Усть-Туркская средняя общеобразовательная школа» Кунгур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ОУ «Тисовская средняя общеобразовательная школа – Детский сад» Суксу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 «Кордонская средняя общеобразовательная школа им. М.Ю.Шатунова» Кишерт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301320"/>
            <a:ext cx="81532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ТЕХНИЧЕСКОЕ ЗАДАНИЕ ДЛЯ УЧИТЕЛЕЙ 2018 ГОДА.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ализ ситу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ностика индивидуальных затруднений обучающихся при подготовке к сдаче экзамен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ностика предметной компетентности выпускник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воды по принятию управленческих решений, направленных на повышение образовательных результатов школьник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работка 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ение формата задания; сроков; актуальности;  целей, задач; условий (кадровых, технических, методических, социальных); планируемых результат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ланирова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на основе диагностики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дульно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матическо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аткосрочное (четверть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лгосрочное (полугодие, год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идактическое, содержательное  наполнение 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илож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Jakovleva-NG</cp:lastModifiedBy>
  <dcterms:modified xsi:type="dcterms:W3CDTF">2019-04-22T08:38:27Z</dcterms:modified>
  <cp:revision>2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