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A96FD-9050-404D-A491-F559ECA4B0C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D1A62-8600-45D9-9DCE-AB80BA579A1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D9C5C-3AB9-466A-BF76-6A99B4BCEA5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369A-971D-410D-8649-8786776C7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DC6D-E364-408E-BDCD-18E7F46A9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582D-1C0A-4AC7-887C-02FE99A2C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E222-29E7-4A2E-8C05-868BB13EF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238FD-1AE5-4D2C-9D2F-A7BAD8B2A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44654-D48E-456E-A990-0947AE6F0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5C9E8-A173-4C9C-AA33-7CEF09480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C345E-5909-4E0B-A2D6-CBE127B17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52A2F-A5B9-4500-9604-07AFE5550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BA543-964A-4A96-90F1-2DDF4E872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B8BB9-89D5-401E-8557-9E0297FD1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D910-6919-4594-9E1F-816557E8C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65325-EF68-46FF-94F5-AC7A1AEF8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63C91-FC2A-4A71-9E0D-237864AB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C1C32-6CDD-42C7-B1B5-902B5A1C0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6073A-94D7-4D49-A585-5D27B5F43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3121B-EBE8-422A-B4F4-8AD7E109A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3916-8D25-4D47-83FC-1AF90637B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D53F-0520-41B3-9352-D3C9E7200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2C6E-AFBE-461E-B97C-7CBA0103C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ACC1-F613-40D4-9F77-E247E1825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A500-3246-4DDA-AABF-2B508D945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C46B-775F-4568-873C-92BF7519B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3A94-1D2D-40D3-B5DC-EE310517C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0DD69-3FE7-4F73-9762-FC4C50EDA321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FC49A-2565-456F-95BF-EA80DC341E87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85800" y="2742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59000"/>
          </a:bodyPr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" spc="-1" strike="noStrike">
                <a:solidFill>
                  <a:srgbClr val="1f497d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Cambria"/>
              </a:rPr>
              <a:t>Яковлева Н.Г., научный  сотрудник отдела сопровождения ФГОС ГАУ ДПО «ИРО ПК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762120" y="39621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Times New Roman"/>
              </a:rPr>
              <a:t>ЭФФЕКТИВНЫЕ ФОРМЫ</a:t>
            </a:r>
            <a:br>
              <a:rPr sz="3600"/>
            </a:br>
            <a:r>
              <a:rPr b="1" lang="ru-RU" sz="3600" spc="-1" strike="noStrike">
                <a:solidFill>
                  <a:srgbClr val="17375e"/>
                </a:solidFill>
                <a:latin typeface="Times New Roman"/>
              </a:rPr>
              <a:t>И МЕХАНИЗМЫ ПОВЫШЕНИЯ ОБРАЗОВАТЕЛЬНЫХ РЕЗУЛЬТАТОВ ОБУЧАЮЩИХСЯ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Рисунок 3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358128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1920" y="301320"/>
            <a:ext cx="899172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Times New Roman"/>
              </a:rPr>
              <a:t>ПЛАН-ПРОЕКТ НАУЧНО-МЕТОДИЧЕСКОГО</a:t>
            </a:r>
            <a:br>
              <a:rPr sz="2400"/>
            </a:br>
            <a:r>
              <a:rPr b="1" lang="ru-RU" sz="2400" spc="-1" strike="noStrike">
                <a:solidFill>
                  <a:srgbClr val="17375e"/>
                </a:solidFill>
                <a:latin typeface="Times New Roman"/>
              </a:rPr>
              <a:t>СОПРОВОЖДЕНИЯ ГРУПП УЧИТЕЛЕЙ-ПРЕДМЕТНИКОВ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33520" y="1143000"/>
          <a:ext cx="8229600" cy="5616720"/>
        </p:xfrm>
        <a:graphic>
          <a:graphicData uri="http://schemas.openxmlformats.org/drawingml/2006/table">
            <a:tbl>
              <a:tblPr/>
              <a:tblGrid>
                <a:gridCol w="3441600"/>
                <a:gridCol w="2768760"/>
                <a:gridCol w="2019240"/>
              </a:tblGrid>
              <a:tr h="37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роприят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едметная групп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Установочный семина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ч.шк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н. шк.– 7 предм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I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екада марта-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екада апрел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олнение групп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ителей полученного    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20 апрел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бинар-консультация № 1 по результатам проверки выполненных зад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На контрол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нач.шк.</a:t>
                      </a:r>
                      <a:r>
                        <a:rPr b="1" lang="en-US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осн. шк.– 4 предм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>
                      <a:noFill/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I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екада апрел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олнение групп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ителей дополнительных зад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20 ма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бинар-консультация № 2 по результатам проверки дополнительных зад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I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екада ма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37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Промежуточный семина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ч.шк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н. шк.– 7 предм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-III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екада июн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ррекция програм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екто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21 сентябр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бинар-консультация № 3 по результатам проверки програм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ек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На контро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нач.шк.</a:t>
                      </a:r>
                      <a:r>
                        <a:rPr b="1" lang="en-US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осн. шк.– 4 предм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>
                      <a:noFill/>
                    </a:lnT>
                    <a:lnB w="2520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I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екада сентябр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ррекция програм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екто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20 октябр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бинар-консультация № 4 по результатам проверки програм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ек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25200">
                      <a:solidFill>
                        <a:srgbClr val="4f81bd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I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екада октябр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2520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Итоговый семинар-конференц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25200">
                      <a:solidFill>
                        <a:srgbClr val="4f81bd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ч.шк.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н. шк.– 7 предм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25200">
                      <a:solidFill>
                        <a:srgbClr val="4f81bd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екада ноября 2018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25200">
                      <a:solidFill>
                        <a:srgbClr val="4f81bd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301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7375e"/>
                </a:solidFill>
                <a:latin typeface="Times New Roman"/>
              </a:rPr>
              <a:t>РЕЗУЛЬТАТЫ НАУЧНО-МЕТОДИЧЕСКОГО СОПРОВОЖДЕНИЯ ГРУПП УЧИТЕЛЕЙ-ПРЕДМЕТНИКОВ В 2018 ГОДУ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6960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екте было охвачен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9 челове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начальная школа; основная и средня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 язык, иностранный язык, математика, химия, история и обществознание, физика, география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но окол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целевых програм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повышению образовательных результатов обучающихся в урочной и внеурочной деятель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лены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научно-методических рекомендац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принятию новых управленческих решений со стороны управлений образованием, административных команд, учителей-предметников, направленных на качественную подготовку выпускников к государственной итоговой аттест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52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52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52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52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ОБРАЗОВАТЕЛЬНЫЙ ЛИФТ – 201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0520" y="91404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щая направленность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вышение предметно-методической компетентности учителей-предметни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ная задач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явление дефицитных образовательных результа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работка проект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грам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анирования для их реализации (вариативн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амообразования, тьюторского сопровождения учащихся и др.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ной принцип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ровневая оценка предметной и методической компетенций учител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ование различных форм взаимодействия в групп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зульта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вышение образовательных результатов обучающихся в зависимости от возможностей и способностей каждог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спешная социализац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1920" y="301320"/>
            <a:ext cx="899172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</a:rPr>
              <a:t>ПЛАН-ПРОЕКТ НАУЧНО-МЕТОДИЧЕСКОГО</a:t>
            </a:r>
            <a:br>
              <a:rPr sz="2800"/>
            </a:br>
            <a:r>
              <a:rPr b="1" lang="ru-RU" sz="2800" spc="-1" strike="noStrike">
                <a:solidFill>
                  <a:srgbClr val="17375e"/>
                </a:solidFill>
                <a:latin typeface="Times New Roman"/>
              </a:rPr>
              <a:t>СОПРОВОЖДЕНИЯ УЧИТЕЛЕЙ-ПРЕДМЕТНИК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04920" y="1136520"/>
          <a:ext cx="8610480" cy="5567400"/>
        </p:xfrm>
        <a:graphic>
          <a:graphicData uri="http://schemas.openxmlformats.org/drawingml/2006/table">
            <a:tbl>
              <a:tblPr/>
              <a:tblGrid>
                <a:gridCol w="3600360"/>
                <a:gridCol w="3257640"/>
                <a:gridCol w="1752480"/>
              </a:tblGrid>
              <a:tr h="41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роприят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едметная групп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Установочный семина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ач.шк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сн. шк.– 8 предм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русский язык, математика, английский язык, обществознание, химия, география, физкультур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рт-апрель 2019 г.2019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олнение групп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ителей полученного    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бинар-консультация № 1 по результатам проверки выполненных зад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  <a:ea typeface="Times New Roman"/>
                        </a:rPr>
                        <a:t>русский язык, математика, английский язык, обществозн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>
                      <a:noFill/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й  2019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6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олнение групп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ителей дополнительных зад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бинар-консультация № 2 по результатам проверки дополнительных зад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юнь 2019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1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Промежуточный семина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ач.шк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сн. шк.– 8 предм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русский язык, математика, английский язык, обществознание, химия, география, физкультур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вгуст-сентябрь 2019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ррекция 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бинар-консультация № 3 по результатам проверки програм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ек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  <a:ea typeface="Times New Roman"/>
                        </a:rPr>
                        <a:t>русский язык, математика, английский язык, обществозн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>
                      <a:noFill/>
                    </a:lnT>
                    <a:lnB w="2520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нтябрь 2019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1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ррекция 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бинар-консультация № 4 по результатам проверки програм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ек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25200">
                      <a:solidFill>
                        <a:srgbClr val="4f81bd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ктябрь 2019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2520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1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Итоговый семинар-конференц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25200">
                      <a:solidFill>
                        <a:srgbClr val="4f81bd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тоги работы в рамках предметных сек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25200">
                      <a:solidFill>
                        <a:srgbClr val="4f81bd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ябрь 2019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25200">
                      <a:solidFill>
                        <a:srgbClr val="4f81bd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ЗАДАНИЯ ПРОЕКТ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85345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90360" y="838080"/>
            <a:ext cx="739116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7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«Дети не должны быть заложниками социального или культурного статуса своих семе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Если школы работают в трудных социальных условиях, то и они, а  не только гимназии и лицеи, работающие, как правило, с благополучными детьми, должны получать специальную поддержку – и методическую, и кадровую, и финансовую»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 algn="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</a:t>
            </a: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В.В.Пут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 algn="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8153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761760" y="3276720"/>
            <a:ext cx="7848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Яковлева Надежда Геннадьевна,  научный сотрудник отдела сопровождения ФГОС ИРО ПК (р.т. 8-342- 212-21-99; с.т. 8-909-731-01-80,  </a:t>
            </a:r>
            <a:r>
              <a:rPr b="0" lang="en-US" sz="3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e-mail fanni1909@yandex.ru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ПРЕДЫСТОРИЯ ВОПРОС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61760" y="1295280"/>
            <a:ext cx="7769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каз Министерства образования и науки Пермского кра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от 28.11.2014г  № СЭД-26-01-04-1037 (пункт 13.4.9. «Об утверждении Перечня краевых мероприятий краевых, объема средств и способов закупки товаров и услуг для их реализации в 2015 году»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вести бюджетные очные курс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овышения квалификации по программам дополнительного профессионального образования в рамках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раевого проекта «Образовательный лифт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учителей Александровского, Бардымского, Карагайского, Косинского, Кочёвского, Ординского, Сивинского, Соликамского, Уинского, Усольского муниципальных районо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Ожидаемый образовательный результат: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овладение учителями продуктивными методами и приёмами подготовки выпускников к итоговой аттестации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улучшение результатов ГИА и ЕГЭ по русскому языку  в данных АТЕ в 2015 году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Средняя общеобразовательная школа № 6» Александров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ОУ«Средняя общеобразовательная школа № 25» г. Губах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КОУ «Средняя общеобразовательная школа №3» Гремячин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«Средняя общеобразовательная школа № 1» Кизелов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«Госконзаводская средняя общеобразовательная школа» Куедин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«Основная общеобразовательная школа № 13» Лысьвен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Новоильинский казачий кадетский корпус имени Атамана Ермака» Нытвенского 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«Петропавловская средняя общеобразовательная школа» Октябрь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«Очерская средняя общеобразовательная школа № 2» Очер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ОУ«Средняя общеобразовательная школа № 107» г. Перми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«Деменевская средняя общеобразовательная школа» Чернушин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Средняя общеобразовательная школа № 91» Чусов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762120" y="30492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</a:rPr>
              <a:t>СПИСОК ОО-АП КРАЕВОГО ПРОЕКТА «ОБРАЗОВАТЕЛЬНЫЙ ЛИФТ» В 2017 Г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15364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</a:rPr>
              <a:t>РЕЗУЛЬТАТЫ НАУЧНО-МЕТОДИЧЕСКОГО СОПРОВОЖДЕНИЯ ГРУПП УЧИТЕЛЕЙ-ПРЕДМЕТНИКОВ – 2017 ГО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1523880"/>
            <a:ext cx="81532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е было охвачено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5 человек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ведены практико-ориентированные курсы повышения квалификации (72 ч.) по предметам:«русский язык», «математика», «обществознание», «биология», «химия», «английский язык» – с целью подготовки к ЕГЭ, ОГЭ, по предмету «физическая культура» – с целью повышения уровня социализации обучающихс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работаны модели эффективной школы на базе ОУ-апробационных площадок (МБОУ «СОШ № 1» г Кизела; МБОУ «СОШ № 6» Александровского района; МКОУ «СОШ № 3» Гремячинского района; МБОУ «СОШ № 91»» Чусовского район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формированы сетевые проблемные группы педагогов-предметников школ с НРО, НСУ (около 200 человек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уществлена диссеминация лучших методик и практи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явились инициативные центры, точки роста по обобщению лучших методик и практик по подготовке к ОГЭ и ЕГЭ по предмету, а также осуществлена трансляция их на краевом, межрегиональном уровня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МОНИТОРИНГОВЫЕ ИССЛЕДОВАНИЯ ШКОЛ В 2017 ГОД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33520" y="1523520"/>
            <a:ext cx="8610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н и проведен экспертный опрос руководителей МОУО по оценке шко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на и апробирована методика объективированной оценки эффективности образовательной деятельности школ (НРО, СРО, ВРО) по 17 показателям – охват 732 О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на и апробирована методика объективированной оценки социальных условий (НСУ, ОНСУ, ССУ, БСУ, ВСУ) по 18 показателям – охват 702 ОО.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ы сводные списки школ по объективированным показателям образовательных результатов и социальных услов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301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Times New Roman"/>
              </a:rPr>
              <a:t>ЧТО ОЗНАЧАЕТ «ШКОЛА С НИЗКИМИ РЕЗУЛЬТАТАМ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школы, в которых результаты ЕГЭ, ОГЭ ниже среднерегиональных на 15 и более балл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снову анализа были взяты результаты ЕГЭ, ОГЭ по русскому языку и математике за 2016 год в СОШ Пермского кра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 выведен интегральный показатель и составлен рейтинг 291 СОШ (из 701 ОО Пермского края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этому рейтингу было выявлено 55 школ, в которых интегральный показатель был ниже среднекраевого на 12 и более баллов, из них в 21 СОШ интегральный показатель был ниже среднекраевого на 14,7 и более балло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Для работы в качестве апробационных площадок было выбрано 12 школ из 12 муниципальных районов Пермского края </a:t>
            </a: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+   </a:t>
            </a:r>
            <a:r>
              <a:rPr b="0" lang="ru-RU" sz="3200" spc="-1" strike="noStrike" u="sng">
                <a:solidFill>
                  <a:srgbClr val="17375e"/>
                </a:solidFill>
                <a:uFillTx/>
                <a:latin typeface="Times New Roman"/>
                <a:ea typeface="Times New Roman"/>
              </a:rPr>
              <a:t>присоединившиеся ОО по решению муниципалитетов</a:t>
            </a: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(участники - школы с низкими результатами обучения (НРО), функционирующие в социально неблагоприятных условиях (НСУ)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СПИСОК ОО-АП КРАЕВОГО ПРОЕКТА «ОБРАЗОВАТЕЛЬНЫЙ ЛИФТ» В 2018 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«Средняя общеобразовательная школа №1» г. Оханс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«Основная общеобразовательная школа № 7» г. Краснокамс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«Екатерининская средняя общеобразовательная школа» Сивин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«Чермозская средняя общеобразовательная школа им. В.Ершова» Ильин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«Стряпунинская средняя общеобразовательная школа» Краснокам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АОУ «Средняя общеобразовательная школа» п.Пашия Горнозавод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«Старо-Шагиртская средняя общеобразовательная школа» Куедин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АОУ «Тюндюковская средняя общеобразовательная школа» Бардым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«Тюшевская средняя общеобразовательная школа» Октябрь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«Усть-Туркская средняя общеобразовательная школа» Кунгур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АОУ «Тисовская средняя общеобразовательная школа – Детский сад» Суксун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 «Кордонская средняя общеобразовательная школа им. М.Ю.Шатунова» Кишерт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301320"/>
            <a:ext cx="815328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ТЕХНИЧЕСКОЕ ЗАДАНИЕ ДЛЯ УЧИТЕЛЕЙ 2018 ГОДА.</a:t>
            </a:r>
            <a:r>
              <a:rPr b="0" lang="ru-RU" sz="3200" spc="-1" strike="noStrike">
                <a:solidFill>
                  <a:srgbClr val="17375e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нализ ситуац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иагностика индивидуальных затруднений обучающихся при подготовке к сдаче экзамен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иагностика предметной компетентности выпускников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воды по принятию управленческих решений, направленных на повышение образовательных результатов школьнико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зработка проек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пределение формата задания; сроков; актуальности;  целей, задач; условий (кадровых, технических, методических, социальных); планируемых результато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ланирован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на основе диагностики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дульно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матическо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раткосрочное (четверть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лгосрочное (полугодие, год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идактическое, содержательное  наполнение проек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риложе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Jakovleva-NG</cp:lastModifiedBy>
  <dcterms:modified xsi:type="dcterms:W3CDTF">2019-04-22T08:38:27Z</dcterms:modified>
  <cp:revision>25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