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0C04-41D9-4CB4-8B1B-7B90B56CC21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FF44-2E4B-4CFC-8B75-3361F23F9BD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0519-F8EF-4723-B8F9-8B98529E3D6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1E73-7069-41B6-B740-0547258F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BE3A-6270-4764-96F3-EBCAF6E8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FA23-CF79-4954-830C-1D1EE61D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1CFA-D217-4AC1-B677-EC0C27C4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FC25-6E22-460B-9560-9E0D995E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443E-96E2-4AD0-B962-AE86CBAD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288E-E8D2-4D2E-A440-AC60E5E7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527D-73A3-42C1-9BA0-9FB7BC93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5B43-02A0-452B-B9D3-7E18641E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6895-1EF9-44D8-9EA6-A2F28537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A90C-B625-4820-86A9-41F4B47F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ED9D-D866-4BD9-85C2-2D51AD39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7171-D394-4394-A9AB-C143684A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3826-1725-4C6E-8EA2-D79FBB90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19D9-2394-4176-97B3-1D542D2A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2EC6-4E41-415A-9FC9-6049C033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A3CD-7476-4103-8B2B-CD043BB2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FD7E-C2B9-41A2-AA1C-1370C285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AA99-DE7C-4790-9F1D-1A218310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9825-3E5F-44C9-BACC-BA6794AF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93BA-0463-41FF-8F33-B1D3AF69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E224-EB26-415D-A7A4-840FFF97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FDD0-33B7-4004-8D1A-2A8D7C1E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595D-D7A6-4DF6-B83B-589D2AEF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E710-0354-47A8-A3F2-413DE218E047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8C5B-7206-488E-A409-DA312651D7DA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9000"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mbri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ЭФФЕКТИВНЫЕ ФОРМЫ</a:t>
            </a:r>
            <a:br>
              <a:rPr sz="3600"/>
            </a:b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И МЕХАНИЗМЫ ПОВЫШЕНИЯ ОБРАЗОВАТЕЛЬНЫХ РЕЗУЛЬТАТОВ ОБУЧАЮЩИХС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358128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301320"/>
            <a:ext cx="8991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ПЛАН-ПРОЕКТ НАУЧНО-МЕТОДИЧЕСКОГО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СОПРОВОЖДЕНИЯ ГРУПП УЧИТЕЛЕЙ-ПРЕДМЕТНИКОВ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3520" y="1143000"/>
          <a:ext cx="8229600" cy="5616720"/>
        </p:xfrm>
        <a:graphic>
          <a:graphicData uri="http://schemas.openxmlformats.org/drawingml/2006/table">
            <a:tbl>
              <a:tblPr/>
              <a:tblGrid>
                <a:gridCol w="3441600"/>
                <a:gridCol w="2768760"/>
                <a:gridCol w="2019240"/>
              </a:tblGrid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н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Установ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марта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полученного   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1 по результатам проверки выполнен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 контрол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сн. шк.– 4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ма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2 по результатам проверки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ма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Промежут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-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июн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1 сен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3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 контр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сн. шк.– 4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сен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ок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4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ок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тоговый семинар-конферен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ноября 201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1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7375e"/>
                </a:solidFill>
                <a:latin typeface="Times New Roman"/>
              </a:rPr>
              <a:t>РЕЗУЛЬТАТЫ НАУЧНО-МЕТОДИЧЕСКОГО СОПРОВОЖДЕНИЯ ГРУПП УЧИТЕЛЕЙ-ПРЕДМЕТНИКОВ В 2018 ГОД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екте было охвачен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9 челове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чальная школа; основная и средня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, иностранный язык, математика, химия, история и обществознание, физика, географ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о окол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целевых програм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овышению образовательных результатов обучающихся в урочной и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лен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научно-методических рекоменда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ринятию новых управленческих решений со стороны управлений образованием, административных команд, учителей-предметников, направленных на качественную подготовку выпускников к государственной итоговой аттест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ОБРАЗОВАТЕЛЬНЫЙ ЛИФТ – 201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520" y="9140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ая направленность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предметно-методической компетентности учителей-предмет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ая задач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явление дефицитных образовательн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ка проек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ирования для их реализации (вариатив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образования, тьюторского сопровождения учащихся и др.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ой принцип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невая оценка предметной и методической компетенций уч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различных форм взаимодействия в групп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образовательных результатов обучающихся в зависимости от возможностей и способностей кажд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пешная социализа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301320"/>
            <a:ext cx="8991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ПЛАН-ПРОЕКТ НАУЧНО-МЕТОДИЧЕСКОГО</a:t>
            </a:r>
            <a:br>
              <a:rPr sz="2800"/>
            </a:b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СОПРОВОЖДЕНИЯ УЧИТЕЛЕЙ-ПРЕДМЕТ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136520"/>
          <a:ext cx="8610480" cy="5567400"/>
        </p:xfrm>
        <a:graphic>
          <a:graphicData uri="http://schemas.openxmlformats.org/drawingml/2006/table">
            <a:tbl>
              <a:tblPr/>
              <a:tblGrid>
                <a:gridCol w="3600360"/>
                <a:gridCol w="3257640"/>
                <a:gridCol w="1752480"/>
              </a:tblGrid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н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Установ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. шк.– 8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русский язык, математика, английский язык, обществознание, химия, география, физкульту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т-апрель 2019 г.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полученного   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1 по результатам проверки выполнен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русский язык, математика, английский язык, 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й 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2 по результатам проверки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юн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Промежут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. шк.– 8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русский язык, математика, английский язык, обществознание, химия, география, физкульту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густ-сен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3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русский язык, математика, английский язык, 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н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4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тоговый семинар-конферен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и работы в рамках предметных сек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ябрь 2019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ДАНИЯ ПРОЕК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534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90360" y="838080"/>
            <a:ext cx="7391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7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«Дети не должны быть заложниками социального или культурного статуса своих сем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сли школы работают в трудных социальных условиях, то и они, а  не только гимназии и лицеи, работающие, как правило, с благополучными детьми, должны получать специальную поддержку – и методическую, и кадровую, и финансовую»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.В.Пу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61760" y="327672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Яковлева Надежда Геннадьевна,  научный сотрудник отдела сопровождения ФГОС ИРО ПК (р.т. 8-342- 212-21-99; с.т. 8-909-731-01-80,  </a:t>
            </a:r>
            <a:r>
              <a:rPr b="0" lang="en-U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e-mail fanni1909@yandex.r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ПРЕДЫСТОРИЯ ВОПРО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1760" y="1295280"/>
            <a:ext cx="7769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каз Министерства образования и науки Пермского кр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т 28.11.2014г  № СЭД-26-01-04-1037 (пункт 13.4.9. «Об утверждении Перечня краевых мероприятий краевых, объема средств и способов закупки товаров и услуг для их реализации в 2015 году»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сти бюджетные очные курс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вышения квалификации по программам дополнительного профессионального образования в рамка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аевого проекта «Образовательный лифт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учителей Александровского, Бардымского, Карагайского, Косинского, Кочёвского, Ординского, Сивинского, Соликамского, Уинского, Усольского муниципальных район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жидаемый образовательный результат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владение учителями продуктивными методами и приёмами подготовки выпускников к итоговой аттестации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улучшение результатов ГИА и ЕГЭ по русскому языку  в данных АТЕ в 2015 году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редняя общеобразовательная школа № 6» Александр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«Средняя общеобразовательная школа № 25» г. Губах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Средняя общеобразовательная школа №3» Гремяч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Средняя общеобразовательная школа № 1» Кизел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Госконзаводская средняя общеобразовательная школа» Куед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Основная общеобразовательная школа № 13» Лысьве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Новоильинский казачий кадетский корпус имени Атамана Ермака» Нытвенского 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Петропавловская средняя общеобразовательная школа» Октябрь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Очерская средняя общеобразовательная школа № 2» Очер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«Средняя общеобразовательная школа № 107» г. Перм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Деменевская средняя общеобразовательная школа» Чернуш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редняя общеобразовательная школа № 91» Чус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762120" y="3049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СПИСОК ОО-АП КРАЕВОГО ПРОЕКТА «ОБРАЗОВАТЕЛЬНЫЙ ЛИФТ» В 2017 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15364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РЕЗУЛЬТАТЫ НАУЧНО-МЕТОДИЧЕСКОГО СОПРОВОЖДЕНИЯ ГРУПП УЧИТЕЛЕЙ-ПРЕДМЕТНИКОВ – 2017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е было охвачен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 челове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дены практико-ориентированные курсы повышения квалификации (72 ч.) по предметам:«русский язык», «математика», «обществознание», «биология», «химия», «английский язык» – с целью подготовки к ЕГЭ, ОГЭ, по предмету «физическая культура» – с целью повышения уровня социализации обучающих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аны модели эффективной школы на базе ОУ-апробационных площадок (МБОУ «СОШ № 1» г Кизела; МБОУ «СОШ № 6» Александровского района; МКОУ «СОШ № 3» Гремячинского района; МБОУ «СОШ № 91»» Чусовского райо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формированы сетевые проблемные группы педагогов-предметников школ с НРО, НСУ (около 200 человек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уществлена диссеминация лучших методик и практи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ились инициативные центры, точки роста по обобщению лучших методик и практик по подготовке к ОГЭ и ЕГЭ по предмету, а также осуществлена трансляция их на краевом, межрегиональном уровн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ОНИТОРИНГОВЫЕ ИССЛЕДОВАНИЯ ШКОЛ В 2017 Г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523520"/>
            <a:ext cx="8610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 и проведен экспертный опрос руководителей МОУО по оценке шко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а и апробирована методика объективированной оценки эффективности образовательной деятельности школ (НРО, СРО, ВРО) по 17 показателям – охват 732 О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а и апробирована методика объективированной оценки социальных условий (НСУ, ОНСУ, ССУ, БСУ, ВСУ) по 18 показателям – охват 702 ОО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ы сводные списки школ по объективированным показателям образовательных результатов и социальных услов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ЧТО ОЗНАЧАЕТ «ШКОЛА С НИЗКИМИ РЕЗУЛЬТАТА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школы, в которых результаты ЕГЭ, ОГЭ ниже среднерегиональных на 15 и более бал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у анализа были взяты результаты ЕГЭ, ОГЭ по русскому языку и математике за 2016 год в СОШ Пермского кра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выведен интегральный показатель и составлен рейтинг 291 СОШ (из 701 ОО Пермского кра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тому рейтингу было выявлено 55 школ, в которых интегральный показатель был ниже среднекраевого на 12 и более баллов, из них в 21 СОШ интегральный показатель был ниже среднекраевого на 14,7 и более балл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Для работы в качестве апробационных площадок было выбрано 12 школ из 12 муниципальных районов Пермского края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+   </a:t>
            </a:r>
            <a:r>
              <a:rPr b="0" lang="ru-RU" sz="32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присоединившиеся ОО по решению муниципалитетов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(участники - школы с низкими результатами обучения (НРО), функционирующие в социально неблагоприятных условиях (НСУ)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СПИСОК ОО-АП КРАЕВОГО ПРОЕКТА «ОБРАЗОВАТЕЛЬНЫЙ ЛИФТ» В 2018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Средняя общеобразовательная школа №1» г. Охан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Основная общеобразовательная школа № 7» г. Краснока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Екатерининская средняя общеобразовательная школа» Сив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Чермозская средняя общеобразовательная школа им. В.Ершова» Иль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«Стряпунинская средняя общеобразовательная школа» Краснокам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Средняя общеобразовательная школа» п.Пашия Горнозавод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Старо-Шагиртская средняя общеобразовательная школа» Куед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Тюндюковская средняя общеобразовательная школа» Бардым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Тюшевская средняя общеобразовательная школа» Октябрь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Усть-Туркская средняя общеобразовательная школа» Кунгур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Тисовская средняя общеобразовательная школа – Детский сад» Суксу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 «Кордонская средняя общеобразовательная школа им. М.Ю.Шатунова» Кишерт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132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ТЕХНИЧЕСКОЕ ЗАДАНИЕ ДЛЯ УЧИТЕЛЕЙ 2018 ГОДА.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ализ ситу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ка индивидуальных затруднений обучающихся при подготовке к сдаче экзамен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ка предметной компетентности выпускник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воды по принятию управленческих решений, направленных на повышение образовательных результатов школьник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работка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формата задания; сроков; актуальности;  целей, задач; условий (кадровых, технических, методических, социальных); планируемых результа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ланир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на основе диагностики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дульно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атическо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аткосрочное (четверть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госрочное (полугодие, год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дактическое, содержательное  наполнение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илож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Jakovleva-NG</cp:lastModifiedBy>
  <dcterms:modified xsi:type="dcterms:W3CDTF">2019-04-22T08:38:27Z</dcterms:modified>
  <cp:revision>2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