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5C1AB-3B66-478E-82E6-BAB39404901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E699E-C193-4A98-9528-6AD338C1619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9AA5C-692E-42FC-B3C8-AF9D2D11B0E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3007-4AF2-4547-9879-2B047497D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10DC-F6A4-4888-90C6-DFC583670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63DD-B869-4E49-990D-CF3DD2A02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18CD-EE09-4ADA-949D-0736009C0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4B4E5-C107-4D24-BB52-B9BB12EB5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025BB-2EF1-4521-884C-2624305A4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45F87-B7CE-4B5F-A0B8-F330E58B4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0EA4A-97E9-4D16-A888-97B0DB99D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028F4-D42D-4DE8-89B6-75CAE332D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28D48-7290-498C-A7F3-C55734785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631A5-5F4B-4DF9-94C9-13EC9D7F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56FD-0743-4ECA-86DB-A47193E7A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D33D5-4844-497F-9C75-5DB36156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56CF3-5C20-47E8-99D9-8C2C56D1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493B4-2D9B-449C-A0F7-350779D63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9A5EB-6F8C-4505-A5F8-A365D9C1C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DEB91-F4DD-40AA-8DF2-AF075D78B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50BF-DE83-4145-BF6B-BD342747B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EAED-49A3-4202-9900-29BE23180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0CAE-2D01-4571-95C1-C9523D37F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2798-57A3-4CFD-9C28-8FE6AB595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881B-CDE0-4464-8F5C-B7E9E141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3F06-8A98-4022-A7E2-C3613743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5BD6-2556-421C-9CFF-67474128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BF759-0D2C-4D7A-9088-41B202856D1C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BF543-310D-4206-B7A4-25EFBC0BE5F8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2742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59000"/>
          </a:bodyPr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" spc="-1" strike="noStrike">
                <a:solidFill>
                  <a:srgbClr val="1f497d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mbria"/>
              </a:rPr>
              <a:t>Яковлева Н.Г., научный  сотрудник отдела сопровождения ФГОС ГАУ ДПО «ИРО ПК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762120" y="39621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Times New Roman"/>
              </a:rPr>
              <a:t>ЭФФЕКТИВНЫЕ ФОРМЫ</a:t>
            </a:r>
            <a:br>
              <a:rPr sz="3600"/>
            </a:br>
            <a:r>
              <a:rPr b="1" lang="ru-RU" sz="3600" spc="-1" strike="noStrike">
                <a:solidFill>
                  <a:srgbClr val="17375e"/>
                </a:solidFill>
                <a:latin typeface="Times New Roman"/>
              </a:rPr>
              <a:t>И МЕХАНИЗМЫ ПОВЫШЕНИЯ ОБРАЗОВАТЕЛЬНЫХ РЕЗУЛЬТАТОВ ОБУЧАЮЩИХС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3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358128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301320"/>
            <a:ext cx="89917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Times New Roman"/>
              </a:rPr>
              <a:t>ПЛАН-ПРОЕКТ НАУЧНО-МЕТОДИЧЕСКОГО</a:t>
            </a:r>
            <a:br>
              <a:rPr sz="2400"/>
            </a:br>
            <a:r>
              <a:rPr b="1" lang="ru-RU" sz="2400" spc="-1" strike="noStrike">
                <a:solidFill>
                  <a:srgbClr val="17375e"/>
                </a:solidFill>
                <a:latin typeface="Times New Roman"/>
              </a:rPr>
              <a:t>СОПРОВОЖДЕНИЯ ГРУПП УЧИТЕЛЕЙ-ПРЕДМЕТНИКОВ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33520" y="1143000"/>
          <a:ext cx="8229600" cy="5616720"/>
        </p:xfrm>
        <a:graphic>
          <a:graphicData uri="http://schemas.openxmlformats.org/drawingml/2006/table">
            <a:tbl>
              <a:tblPr/>
              <a:tblGrid>
                <a:gridCol w="3441600"/>
                <a:gridCol w="2768760"/>
                <a:gridCol w="2019240"/>
              </a:tblGrid>
              <a:tr h="37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роприят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метная груп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Установочный семина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ч.шк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н. шк.– 7 предм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марта-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апрел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олнение групп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ителей полученного    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20 апрел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1 по результатам проверки выполненных зад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На контрол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нач.шк.</a:t>
                      </a:r>
                      <a:r>
                        <a:rPr b="1" lang="en-US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осн. шк.– 4 предм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>
                      <a:noFill/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апрел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олнение групп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ителей дополнительных зад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20 ма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2 по результатам проверки дополнительных зад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ма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37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Промежуточный семина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ч.шк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н. шк.– 7 предм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-II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июн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ррекция програм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21 сентябр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3 по результатам проверки програм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На контро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нач.шк.</a:t>
                      </a:r>
                      <a:r>
                        <a:rPr b="1" lang="en-US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осн. шк.– 4 предм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>
                      <a:noFill/>
                    </a:lnT>
                    <a:lnB w="2520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сентябр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ррекция програм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20 октябр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4 по результатам проверки програм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25200">
                      <a:solidFill>
                        <a:srgbClr val="4f81bd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октябр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2520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Итоговый семинар-конферен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25200">
                      <a:solidFill>
                        <a:srgbClr val="4f81bd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ч.шк.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н. шк.– 7 предм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25200">
                      <a:solidFill>
                        <a:srgbClr val="4f81bd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ноября 2018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25200">
                      <a:solidFill>
                        <a:srgbClr val="4f81bd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301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7375e"/>
                </a:solidFill>
                <a:latin typeface="Times New Roman"/>
              </a:rPr>
              <a:t>РЕЗУЛЬТАТЫ НАУЧНО-МЕТОДИЧЕСКОГО СОПРОВОЖДЕНИЯ ГРУПП УЧИТЕЛЕЙ-ПРЕДМЕТНИКОВ В 2018 ГОДУ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6960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екте было охвачен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9 челове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начальная школа; основная и средня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язык, иностранный язык, математика, химия, история и обществознание, физика, география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но окол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целевых програм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повышению образовательных результатов обучающихся в урочной и внеурочной деятель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лены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научно-методических рекомендац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принятию новых управленческих решений со стороны управлений образованием, административных команд, учителей-предметников, направленных на качественную подготовку выпускников к государственной итоговой аттест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52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52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52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52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ОБРАЗОВАТЕЛЬНЫЙ ЛИФТ – 201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520" y="91404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щая направленность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ышение предметно-методической компетентности учителей-предметни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ая задач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явление дефицитных образовательных результа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работка проек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грам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анирования для их реализации (вариативн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мообразования, тьюторского сопровождения учащихся и др.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ой принцип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ровневая оценка предметной и методической компетенций учител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ние различных форм взаимодействия в групп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зульта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ышение образовательных результатов обучающихся в зависимости от возможностей и способностей каждог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пешная социализац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301320"/>
            <a:ext cx="89917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</a:rPr>
              <a:t>ПЛАН-ПРОЕКТ НАУЧНО-МЕТОДИЧЕСКОГО</a:t>
            </a:r>
            <a:br>
              <a:rPr sz="2800"/>
            </a:br>
            <a:r>
              <a:rPr b="1" lang="ru-RU" sz="2800" spc="-1" strike="noStrike">
                <a:solidFill>
                  <a:srgbClr val="17375e"/>
                </a:solidFill>
                <a:latin typeface="Times New Roman"/>
              </a:rPr>
              <a:t>СОПРОВОЖДЕНИЯ УЧИТЕЛЕЙ-ПРЕДМЕТНИ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04920" y="1136520"/>
          <a:ext cx="8610480" cy="5567400"/>
        </p:xfrm>
        <a:graphic>
          <a:graphicData uri="http://schemas.openxmlformats.org/drawingml/2006/table">
            <a:tbl>
              <a:tblPr/>
              <a:tblGrid>
                <a:gridCol w="3600360"/>
                <a:gridCol w="3257640"/>
                <a:gridCol w="1752480"/>
              </a:tblGrid>
              <a:tr h="41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роприят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метная груп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Установочный семина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ач.шк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сн. шк.– 8 предм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русский язык, математика, английский язык, обществознание, химия, география, физкультур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рт-апрель 2019 г.201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олнение групп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ителей полученного    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1 по результатам проверки выполненных зад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  <a:ea typeface="Times New Roman"/>
                        </a:rPr>
                        <a:t>русский язык, математика, английский язык, обществозн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>
                      <a:noFill/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й  201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олнение групп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ителей дополнительных зад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2 по результатам проверки дополнительных зад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юнь 201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1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Промежуточный семина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ач.шк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сн. шк.– 8 предм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русский язык, математика, английский язык, обществознание, химия, география, физкультур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вгуст-сентябрь 201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ррекция 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3 по результатам проверки програм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  <a:ea typeface="Times New Roman"/>
                        </a:rPr>
                        <a:t>русский язык, математика, английский язык, обществозн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>
                      <a:noFill/>
                    </a:lnT>
                    <a:lnB w="2520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нтябрь 201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1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ррекция 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4 по результатам проверки програм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25200">
                      <a:solidFill>
                        <a:srgbClr val="4f81bd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тябрь 201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2520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1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Итоговый семинар-конферен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25200">
                      <a:solidFill>
                        <a:srgbClr val="4f81bd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и работы в рамках предметных сек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25200">
                      <a:solidFill>
                        <a:srgbClr val="4f81bd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ябрь 2019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25200">
                      <a:solidFill>
                        <a:srgbClr val="4f81bd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ЗАДАНИЯ ПРОЕКТ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534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90360" y="838080"/>
            <a:ext cx="73911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7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«Дети не должны быть заложниками социального или культурного статуса своих семе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Если школы работают в трудных социальных условиях, то и они, а  не только гимназии и лицеи, работающие, как правило, с благополучными детьми, должны получать специальную поддержку – и методическую, и кадровую, и финансовую»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.В.Пут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8153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761760" y="3276720"/>
            <a:ext cx="7848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Яковлева Надежда Геннадьевна,  научный сотрудник отдела сопровождения ФГОС ИРО ПК (р.т. 8-342- 212-21-99; с.т. 8-909-731-01-80,  </a:t>
            </a:r>
            <a:r>
              <a:rPr b="0" lang="en-US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e-mail fanni1909@yandex.ru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ПРЕДЫСТОРИЯ ВОПРОС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61760" y="1295280"/>
            <a:ext cx="7769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каз Министерства образования и науки Пермского кра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от 28.11.2014г  № СЭД-26-01-04-1037 (пункт 13.4.9. «Об утверждении Перечня краевых мероприятий краевых, объема средств и способов закупки товаров и услуг для их реализации в 2015 году»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вести бюджетные очные курс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овышения квалификации по программам дополнительного профессионального образования в рамках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раевого проекта «Образовательный лифт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учителей Александровского, Бардымского, Карагайского, Косинского, Кочёвского, Ординского, Сивинского, Соликамского, Уинского, Усольского муниципальных район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Ожидаемый образовательный результат: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овладение учителями продуктивными методами и приёмами подготовки выпускников к итоговой аттестации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улучшение результатов ГИА и ЕГЭ по русскому языку  в данных АТЕ в 2015 году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Средняя общеобразовательная школа № 6» Александров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«Средняя общеобразовательная школа № 25» г. Губах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КОУ «Средняя общеобразовательная школа №3» Гремячин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«Средняя общеобразовательная школа № 1» Кизелов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«Госконзаводская средняя общеобразовательная школа» Куедин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«Основная общеобразовательная школа № 13» Лысьвен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Новоильинский казачий кадетский корпус имени Атамана Ермака» Нытвенского 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«Петропавловская средняя общеобразовательная школа» Октябрь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«Очерская средняя общеобразовательная школа № 2» Очер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«Средняя общеобразовательная школа № 107» г. Перми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«Деменевская средняя общеобразовательная школа» Чернушин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Средняя общеобразовательная школа № 91» Чусов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762120" y="30492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</a:rPr>
              <a:t>СПИСОК ОО-АП КРАЕВОГО ПРОЕКТА «ОБРАЗОВАТЕЛЬНЫЙ ЛИФТ» В 2017 Г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15364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</a:rPr>
              <a:t>РЕЗУЛЬТАТЫ НАУЧНО-МЕТОДИЧЕСКОГО СОПРОВОЖДЕНИЯ ГРУПП УЧИТЕЛЕЙ-ПРЕДМЕТНИКОВ – 2017 ГО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523880"/>
            <a:ext cx="81532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е было охвачен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5 человек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ведены практико-ориентированные курсы повышения квалификации (72 ч.) по предметам:«русский язык», «математика», «обществознание», «биология», «химия», «английский язык» – с целью подготовки к ЕГЭ, ОГЭ, по предмету «физическая культура» – с целью повышения уровня социализации обучающих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работаны модели эффективной школы на базе ОУ-апробационных площадок (МБОУ «СОШ № 1» г Кизела; МБОУ «СОШ № 6» Александровского района; МКОУ «СОШ № 3» Гремячинского района; МБОУ «СОШ № 91»» Чусовского райо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формированы сетевые проблемные группы педагогов-предметников школ с НРО, НСУ (около 200 человек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уществлена диссеминация лучших методик и практи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явились инициативные центры, точки роста по обобщению лучших методик и практик по подготовке к ОГЭ и ЕГЭ по предмету, а также осуществлена трансляция их на краевом, межрегиональном уровня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МОНИТОРИНГОВЫЕ ИССЛЕДОВАНИЯ ШКОЛ В 2017 ГОД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33520" y="1523520"/>
            <a:ext cx="8610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н и проведен экспертный опрос руководителей МОУО по оценке шко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на и апробирована методика объективированной оценки эффективности образовательной деятельности школ (НРО, СРО, ВРО) по 17 показателям – охват 732 О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на и апробирована методика объективированной оценки социальных условий (НСУ, ОНСУ, ССУ, БСУ, ВСУ) по 18 показателям – охват 702 ОО.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ы сводные списки школ по объективированным показателям образовательных результатов и социальных услов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301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Times New Roman"/>
              </a:rPr>
              <a:t>ЧТО ОЗНАЧАЕТ «ШКОЛА С НИЗКИМИ РЕЗУЛЬТАТАМ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школы, в которых результаты ЕГЭ, ОГЭ ниже среднерегиональных на 15 и более балл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снову анализа были взяты результаты ЕГЭ, ОГЭ по русскому языку и математике за 2016 год в СОШ Пермского кра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 выведен интегральный показатель и составлен рейтинг 291 СОШ (из 701 ОО Пермского края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этому рейтингу было выявлено 55 школ, в которых интегральный показатель был ниже среднекраевого на 12 и более баллов, из них в 21 СОШ интегральный показатель был ниже среднекраевого на 14,7 и более балл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Для работы в качестве апробационных площадок было выбрано 12 школ из 12 муниципальных районов Пермского края 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+   </a:t>
            </a:r>
            <a:r>
              <a:rPr b="0" lang="ru-RU" sz="3200" spc="-1" strike="noStrike" u="sng">
                <a:solidFill>
                  <a:srgbClr val="17375e"/>
                </a:solidFill>
                <a:uFillTx/>
                <a:latin typeface="Times New Roman"/>
                <a:ea typeface="Times New Roman"/>
              </a:rPr>
              <a:t>присоединившиеся ОО по решению муниципалитетов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(участники - школы с низкими результатами обучения (НРО), функционирующие в социально неблагоприятных условиях (НСУ)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СПИСОК ОО-АП КРАЕВОГО ПРОЕКТА «ОБРАЗОВАТЕЛЬНЫЙ ЛИФТ» В 2018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Средняя общеобразовательная школа №1» г. Оханс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Основная общеобразовательная школа № 7» г. Краснокамс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Екатерининская средняя общеобразовательная школа» Сивин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Чермозская средняя общеобразовательная школа им. В.Ершова» Ильин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«Стряпунинская средняя общеобразовательная школа» Краснокам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ОУ «Средняя общеобразовательная школа» п.Пашия Горнозавод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Старо-Шагиртская средняя общеобразовательная школа» Куедин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ОУ «Тюндюковская средняя общеобразовательная школа» Бардым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Тюшевская средняя общеобразовательная школа» Октябрь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Усть-Туркская средняя общеобразовательная школа» Кунгур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ОУ «Тисовская средняя общеобразовательная школа – Детский сад» Суксун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 «Кордонская средняя общеобразовательная школа им. М.Ю.Шатунова» Кишерт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301320"/>
            <a:ext cx="815328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ТЕХНИЧЕСКОЕ ЗАДАНИЕ ДЛЯ УЧИТЕЛЕЙ 2018 ГОДА.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нализ ситуац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агностика индивидуальных затруднений обучающихся при подготовке к сдаче экзамен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агностика предметной компетентности выпускник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воды по принятию управленческих решений, направленных на повышение образовательных результатов школьник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зработка проек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ределение формата задания; сроков; актуальности;  целей, задач; условий (кадровых, технических, методических, социальных); планируемых результат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ланирова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на основе диагностики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дульно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матическо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раткосрочное (четверть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лгосрочное (полугодие, год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идактическое, содержательное  наполнение проек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иложе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Jakovleva-NG</cp:lastModifiedBy>
  <dcterms:modified xsi:type="dcterms:W3CDTF">2019-04-22T08:38:27Z</dcterms:modified>
  <cp:revision>2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