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80640" cy="124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732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-14223960" y="-11796840"/>
            <a:ext cx="16635240" cy="12477960"/>
          </a:xfrm>
          <a:prstGeom prst="rect">
            <a:avLst/>
          </a:prstGeom>
          <a:ln w="0">
            <a:noFill/>
          </a:ln>
        </p:spPr>
      </p:sp>
      <p:sp>
        <p:nvSpPr>
          <p:cNvPr id="176" name="Text Box 2"/>
          <p:cNvSpPr/>
          <p:nvPr/>
        </p:nvSpPr>
        <p:spPr>
          <a:xfrm>
            <a:off x="685800" y="4343400"/>
            <a:ext cx="547056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-14223960" y="-11796840"/>
            <a:ext cx="16635240" cy="12477960"/>
          </a:xfrm>
          <a:prstGeom prst="rect">
            <a:avLst/>
          </a:prstGeom>
          <a:ln w="0">
            <a:noFill/>
          </a:ln>
        </p:spPr>
      </p:sp>
      <p:sp>
        <p:nvSpPr>
          <p:cNvPr id="169" name="Text Box 2"/>
          <p:cNvSpPr/>
          <p:nvPr/>
        </p:nvSpPr>
        <p:spPr>
          <a:xfrm>
            <a:off x="685800" y="4343400"/>
            <a:ext cx="547056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в наибольшей степени курсы по выбору  удовлетворили запросам пятиклассников  в области математики (геометрии) и русского языка (хотя русский язык по первой диагностике не входит в число предпочитаемых). Следует отметить тот факт, что соотношение удовлетворенных индивидуальных запросов в начале года и в конце основываются на результатах разных методик: в первом случае – это объективная методика, во втором –субъективная. Возможно, этим объясняется расхождение в цифрах. Более того, если  в начале года опросу  подлежали все уч-ся 5-х классов, то в конце года рефлексировали в данном случае только те, кто через эти курсы прошел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2EF53C-AB3C-40FA-B220-F208FC4F5E24}" type="slidenum">
              <a:rPr b="0" lang="ru-RU" sz="1800" spc="-1" strike="noStrike">
                <a:solidFill>
                  <a:srgbClr val="ffffff"/>
                </a:solidFill>
                <a:latin typeface="Arial"/>
                <a:ea typeface="Microsoft YaHe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-14223960" y="-11796840"/>
            <a:ext cx="16635240" cy="12477960"/>
          </a:xfrm>
          <a:prstGeom prst="rect">
            <a:avLst/>
          </a:prstGeom>
          <a:ln w="0">
            <a:noFill/>
          </a:ln>
        </p:spPr>
      </p:sp>
      <p:sp>
        <p:nvSpPr>
          <p:cNvPr id="174" name="Text Box 2"/>
          <p:cNvSpPr/>
          <p:nvPr/>
        </p:nvSpPr>
        <p:spPr>
          <a:xfrm>
            <a:off x="685800" y="4343400"/>
            <a:ext cx="547056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95994-2820-4C9C-BC56-2AA058229E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052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3880"/>
            <a:ext cx="821052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96B40-3189-4D22-9D4D-802B838B53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416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462AE-71E9-47B4-8E98-605DA826A1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2800" y="159984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8760" y="159984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388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2800" y="395388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8760" y="395388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EB345-A044-48CF-82DD-3BB1CA8120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440F5A-6220-4926-A467-19971663D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052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560594-9C03-4BB8-BA00-632FE488C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052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EFFE98-5C25-4913-89A6-3F7498DCC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7A8E7D-AEA5-421C-89FB-C0C97E9C7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5713A5-9295-4851-AFC3-E40DEE0DD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0520" cy="52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C872BD-3B22-4688-A998-31F44A50F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6197C7-A1DB-4D4C-BAE8-9B855A2ED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052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7EEAA-9814-473E-AE0C-F81CA5A0D5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416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79BA08-D712-4F88-B255-C7882FF42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3953880"/>
            <a:ext cx="821052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5A3B92-2109-4073-AAF0-BAAC1FB86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052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3953880"/>
            <a:ext cx="821052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247EA7-33C3-44C2-8162-BA210CB01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416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8B8D9C-1DA9-4457-B6F6-FC0036667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2800" y="159984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8760" y="159984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395388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2800" y="395388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8760" y="395388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35F2BD-FAF4-45F7-997E-DD2301117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052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B02D1-E6CC-4324-A480-E7AC4E0621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361E2-BB33-4DF3-9933-3A47DC1DF1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5108E-2099-4F26-BBF9-EDE0FD5D1D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0520" cy="52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CE072-DEF5-4213-8310-CE8626A6C9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3CC7B-F9CC-4645-A875-0F33E8529E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416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A4B55-AEBD-4341-BE37-11BF8F1193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3880"/>
            <a:ext cx="821052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50BA3-E032-472F-B27C-1DBA8DF2BE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052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240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861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5280"/>
            <a:ext cx="2114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808F42-1FFD-41CF-BFD3-8D4DD44ABCD6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522000"/>
            <a:ext cx="65246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31520"/>
            <a:ext cx="8223120" cy="3970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2"/>
          </p:nvPr>
        </p:nvSpPr>
        <p:spPr>
          <a:xfrm>
            <a:off x="457200" y="6246360"/>
            <a:ext cx="21240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3"/>
          </p:nvPr>
        </p:nvSpPr>
        <p:spPr>
          <a:xfrm>
            <a:off x="3126960" y="6246360"/>
            <a:ext cx="28926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4"/>
          </p:nvPr>
        </p:nvSpPr>
        <p:spPr>
          <a:xfrm>
            <a:off x="6556320" y="6246360"/>
            <a:ext cx="21240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0C5320-6F4F-44B5-A539-D72B3320E0C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1"/>
          <p:cNvSpPr/>
          <p:nvPr/>
        </p:nvSpPr>
        <p:spPr>
          <a:xfrm>
            <a:off x="360360" y="720720"/>
            <a:ext cx="831852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Times New Roman"/>
              </a:rPr>
              <a:t>«Формирование мотивационного компонента готовности к профессиональному самоопределению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360360" y="4608360"/>
            <a:ext cx="83185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Бурачкова Ольга Николаевн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заместитель директора по воспитательной работе МАОУ «Юго-Камская средняя школа Пермского район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1"/>
          <p:cNvSpPr/>
          <p:nvPr/>
        </p:nvSpPr>
        <p:spPr>
          <a:xfrm>
            <a:off x="179280" y="260280"/>
            <a:ext cx="87854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Оценка предметного предпочтения  внеурочной деятельности обучающихся старшей школ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Класс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mbria"/>
              </a:rPr>
              <a:t> 11 «А»</a:t>
            </a: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   классный руководитель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Белова О. Л.</a:t>
            </a: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rcRect l="2001" t="0" r="2309" b="9512"/>
          <a:stretch/>
        </p:blipFill>
        <p:spPr>
          <a:xfrm>
            <a:off x="-1440" y="1400040"/>
            <a:ext cx="9145440" cy="34070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"/>
          <p:cNvPicPr/>
          <p:nvPr/>
        </p:nvPicPr>
        <p:blipFill>
          <a:blip r:embed="rId2"/>
          <a:srcRect l="0" t="0" r="0" b="35696"/>
          <a:stretch/>
        </p:blipFill>
        <p:spPr>
          <a:xfrm>
            <a:off x="0" y="4807080"/>
            <a:ext cx="9144000" cy="176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39640" y="286920"/>
            <a:ext cx="6599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Итоги реализации проек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формирована интегрированная модель учебного плана, внеурочной деятельности и дополнительного образования через курсы по интересам и систему воспитательной деятельности на параллели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Разработан мониторинг индивидуальной занятости детей во внеурочной деятельности по направлениям «Курсы-мероприятия-система дополнительного образования»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Диагностические материалы по выявлению предметного предпочтения и умения учиться  каждого ученика при переходе с основного уровня образования на средний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Определена  диагностика «Мой выбор» для определения индивидуального выбора предметной области и индивидуальной сферы деятельности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Механизм обеспечения выбора каждым  учеником направления  внеурочной деятельности, а в последующем предметной (образовательной) области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Разработано и апробировано 46 программ ВД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380880" y="304920"/>
            <a:ext cx="8534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Личностно-ориентированная   модель внеурочной деятельност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990720" y="3429000"/>
            <a:ext cx="2133360" cy="609480"/>
          </a:xfrm>
          <a:prstGeom prst="rect">
            <a:avLst/>
          </a:prstGeom>
          <a:gradFill rotWithShape="0">
            <a:gsLst>
              <a:gs pos="0">
                <a:srgbClr val="755e75"/>
              </a:gs>
              <a:gs pos="100000">
                <a:srgbClr val="ffccff"/>
              </a:gs>
            </a:gsLst>
            <a:lin ang="135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зовая моде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2057400" y="4724280"/>
            <a:ext cx="2286000" cy="6858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граммы воспитани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социализаци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3581280" y="3352680"/>
            <a:ext cx="2133720" cy="6098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полнительно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разова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2057400" y="2209680"/>
            <a:ext cx="2133720" cy="6098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ебный пла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6"/>
          <p:cNvSpPr/>
          <p:nvPr/>
        </p:nvSpPr>
        <p:spPr>
          <a:xfrm flipH="1">
            <a:off x="3105000" y="3657600"/>
            <a:ext cx="49536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Line 7"/>
          <p:cNvSpPr/>
          <p:nvPr/>
        </p:nvSpPr>
        <p:spPr>
          <a:xfrm>
            <a:off x="2514600" y="2971800"/>
            <a:ext cx="1440" cy="38088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Line 8"/>
          <p:cNvSpPr/>
          <p:nvPr/>
        </p:nvSpPr>
        <p:spPr>
          <a:xfrm flipV="1">
            <a:off x="2514600" y="4247640"/>
            <a:ext cx="1440" cy="4194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9"/>
          <p:cNvSpPr/>
          <p:nvPr/>
        </p:nvSpPr>
        <p:spPr>
          <a:xfrm>
            <a:off x="4495680" y="4419720"/>
            <a:ext cx="533520" cy="609480"/>
          </a:xfrm>
          <a:custGeom>
            <a:avLst/>
            <a:gdLst>
              <a:gd name="textAreaLeft" fmla="*/ 75600 w 533520"/>
              <a:gd name="textAreaRight" fmla="*/ 457200 w 53352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15470" y="0"/>
                </a:moveTo>
                <a:lnTo>
                  <a:pt x="9340" y="6200"/>
                </a:lnTo>
                <a:lnTo>
                  <a:pt x="12440" y="6200"/>
                </a:lnTo>
                <a:lnTo>
                  <a:pt x="12440" y="12440"/>
                </a:lnTo>
                <a:lnTo>
                  <a:pt x="6200" y="12440"/>
                </a:lnTo>
                <a:lnTo>
                  <a:pt x="6200" y="9340"/>
                </a:lnTo>
                <a:lnTo>
                  <a:pt x="0" y="15470"/>
                </a:lnTo>
                <a:lnTo>
                  <a:pt x="6200" y="21600"/>
                </a:lnTo>
                <a:lnTo>
                  <a:pt x="6200" y="18500"/>
                </a:lnTo>
                <a:lnTo>
                  <a:pt x="18500" y="18500"/>
                </a:lnTo>
                <a:lnTo>
                  <a:pt x="18500" y="6200"/>
                </a:lnTo>
                <a:lnTo>
                  <a:pt x="21600" y="6200"/>
                </a:lnTo>
                <a:lnTo>
                  <a:pt x="15470" y="0"/>
                </a:lnTo>
                <a:close/>
              </a:path>
            </a:pathLst>
          </a:cu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10"/>
          <p:cNvSpPr/>
          <p:nvPr/>
        </p:nvSpPr>
        <p:spPr>
          <a:xfrm rot="10800000">
            <a:off x="1295280" y="2609640"/>
            <a:ext cx="533520" cy="609480"/>
          </a:xfrm>
          <a:custGeom>
            <a:avLst/>
            <a:gdLst>
              <a:gd name="textAreaLeft" fmla="*/ 75600 w 533520"/>
              <a:gd name="textAreaRight" fmla="*/ 457200 w 53352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15470" y="0"/>
                </a:moveTo>
                <a:lnTo>
                  <a:pt x="9340" y="6200"/>
                </a:lnTo>
                <a:lnTo>
                  <a:pt x="12440" y="6200"/>
                </a:lnTo>
                <a:lnTo>
                  <a:pt x="12440" y="12440"/>
                </a:lnTo>
                <a:lnTo>
                  <a:pt x="6200" y="12440"/>
                </a:lnTo>
                <a:lnTo>
                  <a:pt x="6200" y="9340"/>
                </a:lnTo>
                <a:lnTo>
                  <a:pt x="0" y="15470"/>
                </a:lnTo>
                <a:lnTo>
                  <a:pt x="6200" y="21600"/>
                </a:lnTo>
                <a:lnTo>
                  <a:pt x="6200" y="18500"/>
                </a:lnTo>
                <a:lnTo>
                  <a:pt x="18500" y="18500"/>
                </a:lnTo>
                <a:lnTo>
                  <a:pt x="18500" y="6200"/>
                </a:lnTo>
                <a:lnTo>
                  <a:pt x="21600" y="6200"/>
                </a:lnTo>
                <a:lnTo>
                  <a:pt x="15470" y="0"/>
                </a:lnTo>
                <a:close/>
              </a:path>
            </a:pathLst>
          </a:cu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11"/>
          <p:cNvSpPr/>
          <p:nvPr/>
        </p:nvSpPr>
        <p:spPr>
          <a:xfrm rot="16200000">
            <a:off x="4438800" y="2552400"/>
            <a:ext cx="533160" cy="609480"/>
          </a:xfrm>
          <a:custGeom>
            <a:avLst/>
            <a:gdLst>
              <a:gd name="textAreaLeft" fmla="*/ 75600 w 533160"/>
              <a:gd name="textAreaRight" fmla="*/ 456840 w 53316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15470" y="0"/>
                </a:moveTo>
                <a:lnTo>
                  <a:pt x="9340" y="6200"/>
                </a:lnTo>
                <a:lnTo>
                  <a:pt x="12440" y="6200"/>
                </a:lnTo>
                <a:lnTo>
                  <a:pt x="12440" y="12440"/>
                </a:lnTo>
                <a:lnTo>
                  <a:pt x="6200" y="12440"/>
                </a:lnTo>
                <a:lnTo>
                  <a:pt x="6200" y="9340"/>
                </a:lnTo>
                <a:lnTo>
                  <a:pt x="0" y="15470"/>
                </a:lnTo>
                <a:lnTo>
                  <a:pt x="6200" y="21600"/>
                </a:lnTo>
                <a:lnTo>
                  <a:pt x="6200" y="18500"/>
                </a:lnTo>
                <a:lnTo>
                  <a:pt x="18500" y="18500"/>
                </a:lnTo>
                <a:lnTo>
                  <a:pt x="18500" y="6200"/>
                </a:lnTo>
                <a:lnTo>
                  <a:pt x="21600" y="6200"/>
                </a:lnTo>
                <a:lnTo>
                  <a:pt x="15470" y="0"/>
                </a:lnTo>
                <a:close/>
              </a:path>
            </a:pathLst>
          </a:cu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12"/>
          <p:cNvSpPr/>
          <p:nvPr/>
        </p:nvSpPr>
        <p:spPr>
          <a:xfrm rot="5400000">
            <a:off x="1275840" y="4476600"/>
            <a:ext cx="533520" cy="609480"/>
          </a:xfrm>
          <a:custGeom>
            <a:avLst/>
            <a:gdLst>
              <a:gd name="textAreaLeft" fmla="*/ 75600 w 533520"/>
              <a:gd name="textAreaRight" fmla="*/ 457200 w 53352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15470" y="0"/>
                </a:moveTo>
                <a:lnTo>
                  <a:pt x="9340" y="6200"/>
                </a:lnTo>
                <a:lnTo>
                  <a:pt x="12440" y="6200"/>
                </a:lnTo>
                <a:lnTo>
                  <a:pt x="12440" y="12440"/>
                </a:lnTo>
                <a:lnTo>
                  <a:pt x="6200" y="12440"/>
                </a:lnTo>
                <a:lnTo>
                  <a:pt x="6200" y="9340"/>
                </a:lnTo>
                <a:lnTo>
                  <a:pt x="0" y="15470"/>
                </a:lnTo>
                <a:lnTo>
                  <a:pt x="6200" y="21600"/>
                </a:lnTo>
                <a:lnTo>
                  <a:pt x="6200" y="18500"/>
                </a:lnTo>
                <a:lnTo>
                  <a:pt x="18500" y="18500"/>
                </a:lnTo>
                <a:lnTo>
                  <a:pt x="18500" y="6200"/>
                </a:lnTo>
                <a:lnTo>
                  <a:pt x="21600" y="6200"/>
                </a:lnTo>
                <a:lnTo>
                  <a:pt x="15470" y="0"/>
                </a:lnTo>
                <a:close/>
              </a:path>
            </a:pathLst>
          </a:cu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Oval 13"/>
          <p:cNvSpPr/>
          <p:nvPr/>
        </p:nvSpPr>
        <p:spPr>
          <a:xfrm>
            <a:off x="6553080" y="2362320"/>
            <a:ext cx="2438640" cy="2361960"/>
          </a:xfrm>
          <a:prstGeom prst="ellipse">
            <a:avLst/>
          </a:prstGeom>
          <a:gradFill rotWithShape="0">
            <a:gsLst>
              <a:gs pos="0">
                <a:srgbClr val="755e75"/>
              </a:gs>
              <a:gs pos="100000">
                <a:srgbClr val="ffccff"/>
              </a:gs>
            </a:gsLst>
            <a:lin ang="135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дивидуальны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о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учающего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14"/>
          <p:cNvSpPr/>
          <p:nvPr/>
        </p:nvSpPr>
        <p:spPr>
          <a:xfrm>
            <a:off x="5791320" y="3429000"/>
            <a:ext cx="761760" cy="380880"/>
          </a:xfrm>
          <a:prstGeom prst="leftRightArrow">
            <a:avLst>
              <a:gd name="adj1" fmla="val 50000"/>
              <a:gd name="adj2" fmla="val 39815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1"/>
          <p:cNvSpPr/>
          <p:nvPr/>
        </p:nvSpPr>
        <p:spPr>
          <a:xfrm>
            <a:off x="380880" y="-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хема обеспечения выбор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990720" y="1828800"/>
            <a:ext cx="2590560" cy="457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5 клас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5181480" y="1828800"/>
            <a:ext cx="2743200" cy="457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6 клас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990720" y="2438280"/>
            <a:ext cx="2590560" cy="17528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Курс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8 час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 интересам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ндивидуальные проб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 основным видам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еятельност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5181480" y="2438280"/>
            <a:ext cx="2743200" cy="17528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Клуб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16-32 час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ъединение детей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 параллели по интересам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рабочие группы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в т.ч. в по предметны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ластям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3657600" y="2590920"/>
            <a:ext cx="1447920" cy="1676160"/>
          </a:xfrm>
          <a:custGeom>
            <a:avLst/>
            <a:gdLst>
              <a:gd name="textAreaLeft" fmla="*/ 361800 w 1447920"/>
              <a:gd name="textAreaRight" fmla="*/ 1086120 w 144792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проек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990720" y="4419720"/>
            <a:ext cx="6933960" cy="106668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сихологический мониторинг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сследования личностных интересов и склонностей учащихс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их изменений во времени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ичная книжка учета выбора и результатов деятельности учащихс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533520" y="5715000"/>
            <a:ext cx="7924680" cy="99072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учение условий и ресурсов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оциальное пространство, дополнительное образование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одительская общественность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т.д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685800" y="1066680"/>
            <a:ext cx="7543800" cy="533520"/>
          </a:xfrm>
          <a:prstGeom prst="rect">
            <a:avLst/>
          </a:prstGeom>
          <a:gradFill rotWithShape="0">
            <a:gsLst>
              <a:gs pos="0">
                <a:srgbClr val="755e75"/>
              </a:gs>
              <a:gs pos="100000">
                <a:srgbClr val="ffccff"/>
              </a:gs>
            </a:gsLst>
            <a:lin ang="135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дивидуальные маршруты внеурочной деятель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10"/>
          <p:cNvSpPr/>
          <p:nvPr/>
        </p:nvSpPr>
        <p:spPr>
          <a:xfrm>
            <a:off x="4114800" y="5486400"/>
            <a:ext cx="533520" cy="380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11"/>
          <p:cNvSpPr/>
          <p:nvPr/>
        </p:nvSpPr>
        <p:spPr>
          <a:xfrm>
            <a:off x="1905120" y="1600200"/>
            <a:ext cx="53316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12"/>
          <p:cNvSpPr/>
          <p:nvPr/>
        </p:nvSpPr>
        <p:spPr>
          <a:xfrm>
            <a:off x="6248520" y="1600200"/>
            <a:ext cx="53316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Line 13"/>
          <p:cNvSpPr/>
          <p:nvPr/>
        </p:nvSpPr>
        <p:spPr>
          <a:xfrm>
            <a:off x="2209680" y="2286000"/>
            <a:ext cx="1800" cy="1522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14"/>
          <p:cNvSpPr/>
          <p:nvPr/>
        </p:nvSpPr>
        <p:spPr>
          <a:xfrm>
            <a:off x="6553080" y="2286000"/>
            <a:ext cx="1800" cy="1522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5"/>
          <p:cNvSpPr/>
          <p:nvPr/>
        </p:nvSpPr>
        <p:spPr>
          <a:xfrm>
            <a:off x="2133720" y="4191120"/>
            <a:ext cx="1440" cy="228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6"/>
          <p:cNvSpPr/>
          <p:nvPr/>
        </p:nvSpPr>
        <p:spPr>
          <a:xfrm>
            <a:off x="6705720" y="4191120"/>
            <a:ext cx="1440" cy="228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1"/>
          <p:cNvSpPr/>
          <p:nvPr/>
        </p:nvSpPr>
        <p:spPr>
          <a:xfrm>
            <a:off x="380880" y="-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хема обеспечения выбор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990720" y="1828800"/>
            <a:ext cx="2590560" cy="457200"/>
          </a:xfrm>
          <a:prstGeom prst="rect">
            <a:avLst/>
          </a:prstGeom>
          <a:solidFill>
            <a:srgbClr val="9999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7-9 класс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5181480" y="1828800"/>
            <a:ext cx="2743200" cy="457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10-11 класс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990720" y="2438280"/>
            <a:ext cx="2590560" cy="1752840"/>
          </a:xfrm>
          <a:prstGeom prst="rect">
            <a:avLst/>
          </a:prstGeom>
          <a:solidFill>
            <a:srgbClr val="9999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300" spc="-1" strike="noStrike">
                <a:solidFill>
                  <a:srgbClr val="ff0066"/>
                </a:solidFill>
                <a:latin typeface="Arial"/>
              </a:rPr>
              <a:t>Курсы по выбору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32 ча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дметная деятельность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дпрофиль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5181480" y="2438280"/>
            <a:ext cx="2743200" cy="17528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Курсы по выбор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32 час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филь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3657600" y="2590920"/>
            <a:ext cx="1447920" cy="1676160"/>
          </a:xfrm>
          <a:custGeom>
            <a:avLst/>
            <a:gdLst>
              <a:gd name="textAreaLeft" fmla="*/ 361800 w 1447920"/>
              <a:gd name="textAreaRight" fmla="*/ 1086120 w 144792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проек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990720" y="4419720"/>
            <a:ext cx="6933960" cy="106668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сихологический мониторинг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сследования личностных интересов и склонностей учащихс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их изменений во времени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ичная книжка учета выбора и результатов деятельности учащихс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533520" y="5715000"/>
            <a:ext cx="7924680" cy="99072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учение условий и ресурсов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оциальное пространство, дополнительное образование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одительская общественность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т.д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685800" y="1066680"/>
            <a:ext cx="7543800" cy="533520"/>
          </a:xfrm>
          <a:prstGeom prst="rect">
            <a:avLst/>
          </a:prstGeom>
          <a:gradFill rotWithShape="0">
            <a:gsLst>
              <a:gs pos="0">
                <a:srgbClr val="755e75"/>
              </a:gs>
              <a:gs pos="100000">
                <a:srgbClr val="ffccff"/>
              </a:gs>
            </a:gsLst>
            <a:lin ang="135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дивидуальные маршрут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10"/>
          <p:cNvSpPr/>
          <p:nvPr/>
        </p:nvSpPr>
        <p:spPr>
          <a:xfrm>
            <a:off x="4114800" y="5486400"/>
            <a:ext cx="533520" cy="380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11"/>
          <p:cNvSpPr/>
          <p:nvPr/>
        </p:nvSpPr>
        <p:spPr>
          <a:xfrm>
            <a:off x="1905120" y="1600200"/>
            <a:ext cx="53316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12"/>
          <p:cNvSpPr/>
          <p:nvPr/>
        </p:nvSpPr>
        <p:spPr>
          <a:xfrm>
            <a:off x="6248520" y="1600200"/>
            <a:ext cx="53316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13"/>
          <p:cNvSpPr/>
          <p:nvPr/>
        </p:nvSpPr>
        <p:spPr>
          <a:xfrm>
            <a:off x="2209680" y="2286000"/>
            <a:ext cx="1800" cy="1522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14"/>
          <p:cNvSpPr/>
          <p:nvPr/>
        </p:nvSpPr>
        <p:spPr>
          <a:xfrm>
            <a:off x="6553080" y="2286000"/>
            <a:ext cx="1800" cy="1522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15"/>
          <p:cNvSpPr/>
          <p:nvPr/>
        </p:nvSpPr>
        <p:spPr>
          <a:xfrm>
            <a:off x="2133720" y="4191120"/>
            <a:ext cx="1440" cy="228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16"/>
          <p:cNvSpPr/>
          <p:nvPr/>
        </p:nvSpPr>
        <p:spPr>
          <a:xfrm>
            <a:off x="6705720" y="4191120"/>
            <a:ext cx="1440" cy="228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ыбор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457200" y="1295280"/>
          <a:ext cx="8215200" cy="5423040"/>
        </p:xfrm>
        <a:graphic>
          <a:graphicData uri="http://schemas.openxmlformats.org/drawingml/2006/table">
            <a:tbl>
              <a:tblPr/>
              <a:tblGrid>
                <a:gridCol w="1685880"/>
                <a:gridCol w="3036960"/>
                <a:gridCol w="3492360"/>
              </a:tblGrid>
              <a:tr h="192564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раллель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исло часов для формирования индивидуального маршрута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альное число времени, использованное в индивидуальных маршрутах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50004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9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50004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860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9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50004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9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50004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49860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5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50004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 (1 полугодие)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5 (1 полугодие)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60360" y="-144360"/>
            <a:ext cx="842328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одержание мотивационного по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6840" y="792000"/>
            <a:ext cx="8543880" cy="59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Активные формы, технологии (проекты, web-квесты, реальные квесты, дебаты, круглые столы, научно-практические конференции и т.д.)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Бально-рейтинговая оценка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«Ученик года», «Класс года», «Объединение года», «Учитель года» - стимулирование деятельности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Привлечение «интересных» людей, тьюторская позиция педагога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Учет желаний обучающихся, родителей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Условия среды (материальные, информационные, психологический комфорт)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Уроки самоопределения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Курс «Атлас профессий»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196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нструменты оценивания осознанного выб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57200" y="936720"/>
          <a:ext cx="8213760" cy="5400720"/>
        </p:xfrm>
        <a:graphic>
          <a:graphicData uri="http://schemas.openxmlformats.org/drawingml/2006/table">
            <a:tbl>
              <a:tblPr/>
              <a:tblGrid>
                <a:gridCol w="4575240"/>
                <a:gridCol w="3638520"/>
              </a:tblGrid>
              <a:tr h="456480">
                <a:tc>
                  <a:txBody>
                    <a:bodyPr lIns="90000" rIns="90000" tIns="6192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ъективированные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6192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ъективированные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3675240">
                <a:tc>
                  <a:txBody>
                    <a:bodyPr lIns="90000" rIns="90000" tIns="6192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тодика «Среда-метафора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тодика «Мотивы изучения предметов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агностика проф.интересов и склонностей, Г. Резапкин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осник «Перекресток» (Н.С. Пряжников, Е.Ю.Пряжникова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осники (авторские анкеты):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Предметное предпочтение В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Недельная занятость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192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блюд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мооцен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тод экспертных оцено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egoe UI"/>
                        </a:rPr>
                        <a:t>Опросники (авторские анкеты):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egoe UI"/>
                        </a:rPr>
                        <a:t>- Удовлетворенность инд.запрос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egoe UI"/>
                        </a:rPr>
                        <a:t>ЗАЧЕМ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12880">
                <a:tc>
                  <a:txBody>
                    <a:bodyPr lIns="90000" rIns="90000" tIns="6192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дагог-психоло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меститель директора по В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192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лассный руководител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учающийс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56480">
                <a:tc gridSpan="2">
                  <a:txBody>
                    <a:bodyPr lIns="90000" rIns="90000" tIns="6192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ичная книжка учета выбор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457200" y="936720"/>
          <a:ext cx="8213760" cy="5610240"/>
        </p:xfrm>
        <a:graphic>
          <a:graphicData uri="http://schemas.openxmlformats.org/drawingml/2006/table">
            <a:tbl>
              <a:tblPr/>
              <a:tblGrid>
                <a:gridCol w="2297160"/>
                <a:gridCol w="2197080"/>
                <a:gridCol w="1924200"/>
                <a:gridCol w="1795320"/>
              </a:tblGrid>
              <a:tr h="116136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рс по выбор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795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ой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мет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/ % инд. запрос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начало года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/ % инд. запросов (конец  года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619560"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Моя родословная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формати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/4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620640"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Флора и фауна земли Пермской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ология, эколог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/3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/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19560"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Семейные праздники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хнолог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/4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365400"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Театр музыки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зы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/4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2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19560"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Лингвистические игры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сский язы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/3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365400"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Музыка ветра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хнолог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/4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/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20280"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Читать себя как книгу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сихология, литератур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/2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619560"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Наглядная  геометрия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матик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/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3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196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довлетворенность индивидуальных запросов 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остоявшийся выбор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(9 классы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539640" y="1844640"/>
          <a:ext cx="8231400" cy="3668760"/>
        </p:xfrm>
        <a:graphic>
          <a:graphicData uri="http://schemas.openxmlformats.org/drawingml/2006/table">
            <a:tbl>
              <a:tblPr/>
              <a:tblGrid>
                <a:gridCol w="2743200"/>
                <a:gridCol w="2745000"/>
                <a:gridCol w="2743200"/>
              </a:tblGrid>
              <a:tr h="887400">
                <a:tc>
                  <a:txBody>
                    <a:bodyPr lIns="90000" rIns="90000" tIns="15228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ыбор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162000" bIns="4680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чел.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162000" bIns="4680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%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947880">
                <a:tc>
                  <a:txBody>
                    <a:bodyPr lIns="90000" rIns="90000" tIns="11412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стоялся полностью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162000" bIns="4680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162000" bIns="4680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78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46080">
                <a:tc>
                  <a:txBody>
                    <a:bodyPr lIns="90000" rIns="90000" tIns="11412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стоялся частичн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162000" bIns="4680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162000" bIns="4680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887400">
                <a:tc>
                  <a:txBody>
                    <a:bodyPr lIns="90000" rIns="90000" tIns="11412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состоялс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162000" bIns="4680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162000" bIns="4680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ремина Инга Анатольевна</dc:creator>
  <dc:description/>
  <dc:language>en-US</dc:language>
  <cp:lastModifiedBy>Dremina-IA</cp:lastModifiedBy>
  <cp:lastPrinted>2019-02-06T06:25:41Z</cp:lastPrinted>
  <dcterms:modified xsi:type="dcterms:W3CDTF">2020-03-27T12:11:30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