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0640" cy="124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ибольшей степени курсы по выбору  удовлетворили запросам пятиклассников  в области математики (геометрии) и русского языка (хотя русский язык по первой диагностике не входит в число предпочитаемых). Следует отметить тот факт, что соотношение удовлетворенных индивидуальных запросов в начале года и в конце основываются на результатах разных методик: в первом случае – это объективная методика, во втором –субъективная. Возможно, этим объясняется расхождение в цифрах. Более того, если  в начале года опросу  подлежали все уч-ся 5-х классов, то в конце года рефлексировали в данном случае только те, кто через эти курсы проше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1A45A-570D-466F-8AD7-CC3D1F4FB8E9}" type="slidenum"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92A3-4A7C-4935-ABA7-1C49C483C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BD72-C0C3-4F4D-8B85-70C99C537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340A-E937-4CF4-AECC-8A1250CB6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31A9-A463-46AE-9EBB-E4CA4AFFA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D6D29-6769-41E5-8BC1-D1B84D67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D800D-C77D-4EBC-A64B-D76D177B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8389A-F381-48BA-8A54-8C22CB0F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8E537-E986-4F5C-9D05-780852EE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86AB4-160C-4187-BD4D-74998FD9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2DC9C-552B-47B2-9643-C14B297F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EFFA0-0307-4BA5-A077-B316465F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1A54-6529-4FA1-932E-CF590C11A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4C9B6-CAED-4B05-BDC8-22BC3FC9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3F7F0-F32A-4356-B78D-56B53F85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88320-2A9B-4E2D-94AC-4327876F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9F8E0-97A8-47DB-9EE4-3C7A75C9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4960A-45C6-47B4-9868-62BB365F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AB85-7750-4CD9-A970-EC7C9902F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8AEF-A97A-4FCC-AAF7-C1D392768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E3B1-3012-4216-A215-B62D67992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1E72-D0A6-4888-A75B-05E8CC7DA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AD30-81E3-49FD-9376-A7887F325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9254-29D9-48D9-B881-4D756ECA1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B19C-96CB-4150-BD89-4AF3B444E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D8573-5A92-4147-AC2D-431DD032CFF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6524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31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5174A-8A7E-42B3-8D1F-F9453E8F75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60360" y="720720"/>
            <a:ext cx="831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Формирование мотивационного компонента готовности к профессиональному самоопределению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0360" y="4608360"/>
            <a:ext cx="8318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Бурачкова Ольга Никола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аместитель директора по воспитательной работе МАОУ «Юго-Камская средняя школа Пермского райо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79280" y="260280"/>
            <a:ext cx="8785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ценка предметного предпочтения  внеурочной деятельности обучающихся старше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ласс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 11 «А»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классный руководитель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Белова О. Л.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2001" t="0" r="2309" b="9512"/>
          <a:stretch/>
        </p:blipFill>
        <p:spPr>
          <a:xfrm>
            <a:off x="-1440" y="1400040"/>
            <a:ext cx="9145440" cy="340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0" t="0" r="0" b="35696"/>
          <a:stretch/>
        </p:blipFill>
        <p:spPr>
          <a:xfrm>
            <a:off x="0" y="4807080"/>
            <a:ext cx="91440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9640" y="286920"/>
            <a:ext cx="659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тоги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формирована интегрированная модель учебного плана, внеурочной деятельности и дополнительного образования через курсы по интересам и систему воспитательной деятельности на параллел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 мониторинг индивидуальной занятости детей во внеурочной деятельности по направлениям «Курсы-мероприятия-система дополнительного образования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иагностические материалы по выявлению предметного предпочтения и умения учиться  каждого ученика при переходе с основного уровня образования на средний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пределена  диагностика «Мой выбор» для определения индивидуального выбора предметной области и индивидуальной сферы деятельности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ханизм обеспечения выбора каждым  учеником направления  внеурочной деятельности, а в последующем предметной (образовательной) област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о и апробировано 46 программ ВД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8088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  модель внеуроч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90720" y="3429000"/>
            <a:ext cx="2133360" cy="60948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057400" y="4724280"/>
            <a:ext cx="2286000" cy="685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воспит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циал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81280" y="3352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57400" y="2209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пл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3105000" y="3657600"/>
            <a:ext cx="495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514600" y="2971800"/>
            <a:ext cx="1440" cy="380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2514600" y="4247640"/>
            <a:ext cx="1440" cy="4194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495680" y="441972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0800000">
            <a:off x="1295280" y="260964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16200000">
            <a:off x="4438800" y="2552400"/>
            <a:ext cx="533160" cy="609480"/>
          </a:xfrm>
          <a:custGeom>
            <a:avLst/>
            <a:gdLst>
              <a:gd name="textAreaLeft" fmla="*/ 7560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1275840" y="447660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553080" y="2362320"/>
            <a:ext cx="2438640" cy="236196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ю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791320" y="342900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интересам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ые проб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основным вид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6-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динение д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араллели по интерес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бочие груп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в т.ч. в по предметн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стя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7-9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0-11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ая деятельность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295280"/>
          <a:ext cx="8215200" cy="5423040"/>
        </p:xfrm>
        <a:graphic>
          <a:graphicData uri="http://schemas.openxmlformats.org/drawingml/2006/table">
            <a:tbl>
              <a:tblPr/>
              <a:tblGrid>
                <a:gridCol w="1685880"/>
                <a:gridCol w="3036960"/>
                <a:gridCol w="3492360"/>
              </a:tblGrid>
              <a:tr h="1925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ь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часов для формирования индивидуального маршру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число времени, использованное в индивидуальных маршрута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0360" y="-144360"/>
            <a:ext cx="8423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мотивационного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792000"/>
            <a:ext cx="854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ктивные формы, технологии (проекты, web-квесты, реальные квесты, дебаты, круглые столы, научно-практические конференции и т.д.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Бально-рейтинговая оценк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«Ученик года», «Класс года», «Объединение года», «Учитель года» - стимулирование деятельности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ивлечение «интересных» людей, тьюторская позиция педагог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чет желаний обучающихся, родителей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словия среды (материальные, информационные, психологический комфорт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роки самоопределени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урс «Атлас профессий»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менты оценивания осознанного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36720"/>
          <a:ext cx="8213760" cy="5400720"/>
        </p:xfrm>
        <a:graphic>
          <a:graphicData uri="http://schemas.openxmlformats.org/drawingml/2006/table">
            <a:tbl>
              <a:tblPr/>
              <a:tblGrid>
                <a:gridCol w="4575240"/>
                <a:gridCol w="3638520"/>
              </a:tblGrid>
              <a:tr h="45648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367524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Среда-метафор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Мотивы изучения предметов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 проф.интересов и склонностей, Г. Резапк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 «Перекресток» (Н.С. Пряжников, Е.Ю.Пряжников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метное предпочтение В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едельная занят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- Удовлетворенность инд.за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ЗАЧЕМ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1288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ститель директора по В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ный руковод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й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6480">
                <a:tc gridSpan="2"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ая книжка учета выбо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936720"/>
          <a:ext cx="8213760" cy="5610240"/>
        </p:xfrm>
        <a:graphic>
          <a:graphicData uri="http://schemas.openxmlformats.org/drawingml/2006/table">
            <a:tbl>
              <a:tblPr/>
              <a:tblGrid>
                <a:gridCol w="2297160"/>
                <a:gridCol w="2197080"/>
                <a:gridCol w="1924200"/>
                <a:gridCol w="1795320"/>
              </a:tblGrid>
              <a:tr h="11613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 по выбо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чало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 (конец 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я родословна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лора и фауна земли Пермско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эк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/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мейные праздни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атр музы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ингвистические игр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узыка вет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28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итать себя как книгу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я, лит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глядная  геометр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индивидуальных запросов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оявшийся выбор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9 класс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844640"/>
          <a:ext cx="82314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5000"/>
                <a:gridCol w="2743200"/>
              </a:tblGrid>
              <a:tr h="887400">
                <a:tc>
                  <a:txBody>
                    <a:bodyPr lIns="90000" rIns="90000" tIns="152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бо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9478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полность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460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частич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8740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остоял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ремина Инга Анатольевна</dc:creator>
  <dc:description/>
  <dc:language>en-US</dc:language>
  <cp:lastModifiedBy>Dremina-IA</cp:lastModifiedBy>
  <cp:lastPrinted>2019-02-06T06:25:41Z</cp:lastPrinted>
  <dcterms:modified xsi:type="dcterms:W3CDTF">2020-03-27T12:11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