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9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704A-6A0F-4551-8AD0-9910ACD501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актную страничку можно сделать и в начале презентации, после титульного слайда и здесь ее оставить. В идеале с Вашим портретом, как руководителя и контактами: школьными и ваш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2638-46B7-4816-B9A9-1042DAADB7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едь не только за счет повышения заинтересованности родителе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6847-9766-4F52-9EA3-9E44A3DEB0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едь не только за счет повышения заинтересованности родителе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76D5-6D90-40F1-A0B2-3BB6C9B254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родители и де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B62E-BC46-46B2-83D4-31D8418C61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шивается схема и взаимосвязи…список нечитабе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отражения модели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342E-FE5D-4AA7-B03C-4AF72F5DBD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шивается схема и взаимосвязи…список нечитабе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отражения модели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87F2-345C-4AA4-BF8A-4095BAC171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9E35-F45E-4483-B2E9-D9A2DD568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EBED-9C86-4672-8A79-4D341D21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CAA4-21E4-44F5-BC11-3DAD397AD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4DDD-FEE2-42FC-87A2-57FD9C084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8CE9-7C4A-44C7-9079-17C866FD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8A50-E9D3-42C3-AF1A-0F5E2B2D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8803-1C30-4567-9714-DF7BDAFB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DC5F-30FB-4BE5-BF3E-6F786260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6FE7-3B24-4D9C-B6C0-4783AD7B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75F9-7B7C-4202-88CF-EC782E74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5174-84E5-4826-85FB-54BFA89F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BB36-2012-4CBB-88B8-79AAEAF9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DC93-57EF-4FD4-8071-409433B0B7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school25-1.nichost.ru/" TargetMode="External"/><Relationship Id="rId3" Type="http://schemas.openxmlformats.org/officeDocument/2006/relationships/hyperlink" Target="http://school25-1.nichost.ru/" TargetMode="External"/><Relationship Id="rId4" Type="http://schemas.openxmlformats.org/officeDocument/2006/relationships/hyperlink" Target="http://fppkdo.ru/" TargetMode="External"/><Relationship Id="rId5" Type="http://schemas.openxmlformats.org/officeDocument/2006/relationships/hyperlink" Target="http://fppkdo.ru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721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Calibri"/>
              </a:rPr>
              <a:t>Комплексная работа с детьми-мигрантами и их семья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ЛОГОТИП.jpg"/>
          <p:cNvPicPr/>
          <p:nvPr/>
        </p:nvPicPr>
        <p:blipFill>
          <a:blip r:embed="rId1"/>
          <a:stretch/>
        </p:blipFill>
        <p:spPr>
          <a:xfrm>
            <a:off x="7885080" y="260280"/>
            <a:ext cx="1000080" cy="1359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Компьютер\Desktop\image-0-02-04-738d563361c1bef40d7eeaa3d37082833ee0dbe9298d45281f20ce9eb65b3813-V.jpg"/>
          <p:cNvPicPr/>
          <p:nvPr/>
        </p:nvPicPr>
        <p:blipFill>
          <a:blip r:embed="rId2"/>
          <a:stretch/>
        </p:blipFill>
        <p:spPr>
          <a:xfrm>
            <a:off x="6429240" y="3238560"/>
            <a:ext cx="2714760" cy="3619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C:\Users\Компьютер\Desktop\image-0-02-05-a3714fccbf8aa9231b73be3af03623221656469d64b2cfd0ac8b5adcd224602e-V.jpg"/>
          <p:cNvPicPr/>
          <p:nvPr/>
        </p:nvPicPr>
        <p:blipFill>
          <a:blip r:embed="rId3"/>
          <a:stretch/>
        </p:blipFill>
        <p:spPr>
          <a:xfrm>
            <a:off x="571680" y="1428840"/>
            <a:ext cx="2697120" cy="3595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C:\Users\Компьютер\Desktop\image-0-02-05-ddd26c04c31ce88ff296fde6e2e6388fc68bb60b442db91e5e7d666fce474996-V.jpg"/>
          <p:cNvPicPr/>
          <p:nvPr/>
        </p:nvPicPr>
        <p:blipFill>
          <a:blip r:embed="rId4"/>
          <a:stretch/>
        </p:blipFill>
        <p:spPr>
          <a:xfrm>
            <a:off x="2357280" y="3238560"/>
            <a:ext cx="2468880" cy="3619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C:\Users\Компьютер\Downloads\image-0-02-04-0efe733febc1798837dbf6bd77ba9e91c38617110e8326669aa1f61c2480edc3-V.jpg"/>
          <p:cNvPicPr/>
          <p:nvPr/>
        </p:nvPicPr>
        <p:blipFill>
          <a:blip r:embed="rId5"/>
          <a:stretch/>
        </p:blipFill>
        <p:spPr>
          <a:xfrm>
            <a:off x="4714920" y="1428840"/>
            <a:ext cx="251784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Анкета для родителей-мигра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71720" y="1000080"/>
          <a:ext cx="7758000" cy="5608800"/>
        </p:xfrm>
        <a:graphic>
          <a:graphicData uri="http://schemas.openxmlformats.org/drawingml/2006/table">
            <a:tbl>
              <a:tblPr/>
              <a:tblGrid>
                <a:gridCol w="428400"/>
                <a:gridCol w="5643720"/>
                <a:gridCol w="16858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Отв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Вашего приезда в г. Пермь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ш родной язык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жите язык, на котором вы общаетесь дом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тели бы изучать русский язык в нашей школе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жите удобное для Вас время занят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 и ваш ребёнок чувствует себя в школе комфортн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ешение каких вопросов или проблем Вам может помочь наша школ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57160" y="-285840"/>
            <a:ext cx="8072640" cy="32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Цель:</a:t>
            </a:r>
            <a:br>
              <a:rPr sz="40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тановление сотрудничества школы и семьи данной категории в вопросах воспитания детей, поддержка семьи в сложные для семьи пери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2000160" y="2714760"/>
            <a:ext cx="5589720" cy="3958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еропри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1440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риглашаем мам и пап!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Типы семейного воспитания и их влияние на ребенка. Встреча с председателем КДН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емья, как система. Нормативные и ненормативные кризисы. Адаптация к школ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емейные традиции. Профессии моей семьи.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озитивное взаимодействие родитель-ребенок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Учение без принужден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Эстафета дружб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А на прощание я скажу…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Взаимодействие с партнёр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:\Users\4D2B~1\AppData\Local\Temp\Rar$DI00.900\IMG_9684.JPG"/>
          <p:cNvPicPr/>
          <p:nvPr/>
        </p:nvPicPr>
        <p:blipFill>
          <a:blip r:embed="rId2"/>
          <a:stretch/>
        </p:blipFill>
        <p:spPr>
          <a:xfrm>
            <a:off x="822240" y="1000080"/>
            <a:ext cx="82504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3880" y="214200"/>
            <a:ext cx="799164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6 шагов к успешной адаптации детей - мигра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56800" y="1071360"/>
            <a:ext cx="8001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стреча с семьё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Диагностика ребёнка – инофона (на входе, промежуточная, итоговая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екомендация программы, клас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Занятия для детей – мигрантов в малых групп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частие в работе клубов «Жихарка», «Дискуссионный» (дети); «Азбука успеха» (родител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онсультации специалистов (по запросу родителей и рекомендации классного руководителя, психолог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7" descr="teach.png"/>
          <p:cNvPicPr/>
          <p:nvPr/>
        </p:nvPicPr>
        <p:blipFill>
          <a:blip r:embed="rId1"/>
          <a:stretch/>
        </p:blipFill>
        <p:spPr>
          <a:xfrm>
            <a:off x="6410160" y="3143160"/>
            <a:ext cx="2733840" cy="3714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857160" y="571320"/>
            <a:ext cx="74296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school25-1.nichost.ru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папка «ЦИО Университетского округа ПГГПУ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fppkdo.ru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курсы ЦИО. Тем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витие  языковой и речевой культур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 – мигрантов начальной школы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тактное лицо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лена Николаев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 - (908) - 251 - 44 - 3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оличественное соотношение детей-мигрантов в МАОУ «СОШ №25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"/>
          <p:cNvPicPr/>
          <p:nvPr/>
        </p:nvPicPr>
        <p:blipFill>
          <a:blip r:embed="rId1"/>
          <a:stretch/>
        </p:blipFill>
        <p:spPr>
          <a:xfrm>
            <a:off x="781200" y="1779480"/>
            <a:ext cx="8154720" cy="444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Цель проек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85880" y="1428480"/>
            <a:ext cx="81439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еализация образовательных программ обучения детей-мигрантов c учетом их индивидуальных особенностей, уровня владения языком, с помощью повышения уровня заинтересованности родителей в образовательном процессе и создания устойчивого положительного эмоционального фона в школьном коллектив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Зада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142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) разработать механизм диагност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)создать систему разноуровневого подхода к обучен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)создать клуб для 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)создать сеть школ-партнеров города Перми и Пермского кр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) создать сеть социальных партнё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ая соединительная линия 13"/>
          <p:cNvSpPr/>
          <p:nvPr/>
        </p:nvSpPr>
        <p:spPr>
          <a:xfrm flipV="1">
            <a:off x="2000160" y="2857320"/>
            <a:ext cx="5929560" cy="612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ая соединительная линия 14"/>
          <p:cNvSpPr/>
          <p:nvPr/>
        </p:nvSpPr>
        <p:spPr>
          <a:xfrm>
            <a:off x="2000160" y="3857760"/>
            <a:ext cx="592956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ая соединительная линия 7"/>
          <p:cNvSpPr/>
          <p:nvPr/>
        </p:nvSpPr>
        <p:spPr>
          <a:xfrm>
            <a:off x="1891440" y="1928880"/>
            <a:ext cx="603756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Участники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Овал 5"/>
          <p:cNvSpPr/>
          <p:nvPr/>
        </p:nvSpPr>
        <p:spPr>
          <a:xfrm>
            <a:off x="1571760" y="1357200"/>
            <a:ext cx="642960" cy="571680"/>
          </a:xfrm>
          <a:prstGeom prst="ellipse">
            <a:avLst/>
          </a:prstGeom>
          <a:noFill/>
          <a:ln w="57240">
            <a:solidFill>
              <a:srgbClr val="f27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2561760" y="1465200"/>
            <a:ext cx="449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Административная коман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Овал 10"/>
          <p:cNvSpPr/>
          <p:nvPr/>
        </p:nvSpPr>
        <p:spPr>
          <a:xfrm>
            <a:off x="1571760" y="2292480"/>
            <a:ext cx="642960" cy="571320"/>
          </a:xfrm>
          <a:prstGeom prst="ellipse">
            <a:avLst/>
          </a:prstGeom>
          <a:noFill/>
          <a:ln w="57240">
            <a:solidFill>
              <a:srgbClr val="254a9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Овал 12"/>
          <p:cNvSpPr/>
          <p:nvPr/>
        </p:nvSpPr>
        <p:spPr>
          <a:xfrm>
            <a:off x="1571760" y="3286080"/>
            <a:ext cx="642960" cy="571680"/>
          </a:xfrm>
          <a:prstGeom prst="ellipse">
            <a:avLst/>
          </a:prstGeom>
          <a:noFill/>
          <a:ln w="57240">
            <a:solidFill>
              <a:srgbClr val="f27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6"/>
          <p:cNvSpPr/>
          <p:nvPr/>
        </p:nvSpPr>
        <p:spPr>
          <a:xfrm>
            <a:off x="2526840" y="2143080"/>
            <a:ext cx="579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Социально – психологическая служб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7"/>
          <p:cNvSpPr/>
          <p:nvPr/>
        </p:nvSpPr>
        <p:spPr>
          <a:xfrm>
            <a:off x="2438640" y="3357720"/>
            <a:ext cx="156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Педагог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Овал 11"/>
          <p:cNvSpPr/>
          <p:nvPr/>
        </p:nvSpPr>
        <p:spPr>
          <a:xfrm>
            <a:off x="1571760" y="4286160"/>
            <a:ext cx="642960" cy="571680"/>
          </a:xfrm>
          <a:prstGeom prst="ellipse">
            <a:avLst/>
          </a:prstGeom>
          <a:noFill/>
          <a:ln w="57240">
            <a:solidFill>
              <a:srgbClr val="254a9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Овал 13"/>
          <p:cNvSpPr/>
          <p:nvPr/>
        </p:nvSpPr>
        <p:spPr>
          <a:xfrm>
            <a:off x="1571760" y="5500800"/>
            <a:ext cx="642960" cy="571320"/>
          </a:xfrm>
          <a:prstGeom prst="ellipse">
            <a:avLst/>
          </a:prstGeom>
          <a:noFill/>
          <a:ln w="57240">
            <a:solidFill>
              <a:srgbClr val="f27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ая соединительная линия 14"/>
          <p:cNvSpPr/>
          <p:nvPr/>
        </p:nvSpPr>
        <p:spPr>
          <a:xfrm>
            <a:off x="2286000" y="4714920"/>
            <a:ext cx="578628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ая соединительная линия 14"/>
          <p:cNvSpPr/>
          <p:nvPr/>
        </p:nvSpPr>
        <p:spPr>
          <a:xfrm>
            <a:off x="2214720" y="6000840"/>
            <a:ext cx="585756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8"/>
          <p:cNvSpPr/>
          <p:nvPr/>
        </p:nvSpPr>
        <p:spPr>
          <a:xfrm>
            <a:off x="2500200" y="428616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Дети и родители  - мигран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0"/>
          <p:cNvSpPr/>
          <p:nvPr/>
        </p:nvSpPr>
        <p:spPr>
          <a:xfrm>
            <a:off x="2357280" y="4857840"/>
            <a:ext cx="557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Социальные партнёры (представители диаспор, НП «ЭТНОПЕРМЬ», Совет молодёжи при Пермской городской дум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7240" y="1425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Организационное взаимодействие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хема 4" descr=""/>
          <p:cNvPicPr/>
          <p:nvPr/>
        </p:nvPicPr>
        <p:blipFill>
          <a:blip r:embed="rId1"/>
          <a:stretch/>
        </p:blipFill>
        <p:spPr>
          <a:xfrm>
            <a:off x="811080" y="993600"/>
            <a:ext cx="7985160" cy="515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28800" y="-3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одель реализации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хема 4" descr=""/>
          <p:cNvPicPr/>
          <p:nvPr/>
        </p:nvPicPr>
        <p:blipFill>
          <a:blip r:embed="rId1"/>
          <a:stretch/>
        </p:blipFill>
        <p:spPr>
          <a:xfrm>
            <a:off x="669960" y="993600"/>
            <a:ext cx="8388360" cy="49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ля учителей школ - партнёр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42960" y="1356840"/>
            <a:ext cx="8229600" cy="19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ПГ , 2 модульных курса «Развитие языковой и речевой культуры у детей - мигрантов» - курсы университетского окру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DSC_0476"/>
          <p:cNvPicPr/>
          <p:nvPr/>
        </p:nvPicPr>
        <p:blipFill>
          <a:blip r:embed="rId1"/>
          <a:stretch/>
        </p:blipFill>
        <p:spPr>
          <a:xfrm>
            <a:off x="4584600" y="2928960"/>
            <a:ext cx="4403880" cy="2428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DSC_0473"/>
          <p:cNvPicPr/>
          <p:nvPr/>
        </p:nvPicPr>
        <p:blipFill>
          <a:blip r:embed="rId2"/>
          <a:stretch/>
        </p:blipFill>
        <p:spPr>
          <a:xfrm>
            <a:off x="857160" y="4500720"/>
            <a:ext cx="38768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ля родителей </a:t>
            </a:r>
            <a:br>
              <a:rPr sz="3200"/>
            </a:b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луб «Азбука успех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1071720" y="1643040"/>
            <a:ext cx="78627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9T07:22:55Z</dcterms:created>
  <dc:creator>Irina Polinceva</dc:creator>
  <dc:description/>
  <dc:language>en-US</dc:language>
  <cp:lastModifiedBy>Компьютер</cp:lastModifiedBy>
  <dcterms:modified xsi:type="dcterms:W3CDTF">2020-03-18T14:42:59Z</dcterms:modified>
  <cp:revision>107</cp:revision>
  <dc:subject/>
  <dc:title>Развитие  языковой и  речевой  компетентности  детей  мигрантов</dc:title>
</cp:coreProperties>
</file>