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93DA-2784-4908-B040-80B89B4519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ую страничку можно сделать и в начале презентации, после титульного слайда и здесь ее оставить. В идеале с Вашим портретом, как руководителя и контактами: школьными и в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D76A-E1DC-4525-8891-773A6A10E7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600B-FFA7-4D18-8516-7EE16E4234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89C1-AB1E-401C-AE62-BB40E96A75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родители и де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3B52-DAD3-426F-85E3-8128AC60B1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E306-C3BD-4275-864E-6429134542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AEB5-214D-42E4-A5C1-352C66E021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A7E4-9D98-4650-AC19-5F60B193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FBF-4AC6-4647-AA22-1F709CA7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1BA-700D-4E2B-9975-8FF0262D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118-CDB3-4827-BCF3-E9E7B6D6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80CC-DFEE-4275-87B6-763A8F91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4B20-BF79-4048-B72D-3CE3E3EF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0FA3-9BAD-4276-ADB6-564D7B2D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2A9-DAEC-4430-98AB-6DF84734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57B-9F89-46F3-9B16-E0590713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BCC1-582B-41A8-A25B-165DEBE7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12A-DC67-446B-A7F2-E6EF60D3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CE6-E0BD-4E12-8CCD-C86201F2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60FD-C371-4BD6-BACA-88879B1A2C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chool25-1.nichost.ru/" TargetMode="External"/><Relationship Id="rId3" Type="http://schemas.openxmlformats.org/officeDocument/2006/relationships/hyperlink" Target="http://school25-1.nichost.ru/" TargetMode="External"/><Relationship Id="rId4" Type="http://schemas.openxmlformats.org/officeDocument/2006/relationships/hyperlink" Target="http://fppkdo.ru/" TargetMode="External"/><Relationship Id="rId5" Type="http://schemas.openxmlformats.org/officeDocument/2006/relationships/hyperlink" Target="http://fppkdo.ru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Комплексная работа с детьми-мигрантами и их семь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ЛОГОТИП.jpg"/>
          <p:cNvPicPr/>
          <p:nvPr/>
        </p:nvPicPr>
        <p:blipFill>
          <a:blip r:embed="rId1"/>
          <a:stretch/>
        </p:blipFill>
        <p:spPr>
          <a:xfrm>
            <a:off x="7885080" y="260280"/>
            <a:ext cx="1000080" cy="135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Компьютер\Desktop\image-0-02-04-738d563361c1bef40d7eeaa3d37082833ee0dbe9298d45281f20ce9eb65b3813-V.jpg"/>
          <p:cNvPicPr/>
          <p:nvPr/>
        </p:nvPicPr>
        <p:blipFill>
          <a:blip r:embed="rId2"/>
          <a:stretch/>
        </p:blipFill>
        <p:spPr>
          <a:xfrm>
            <a:off x="6429240" y="32385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Компьютер\Desktop\image-0-02-05-a3714fccbf8aa9231b73be3af03623221656469d64b2cfd0ac8b5adcd224602e-V.jpg"/>
          <p:cNvPicPr/>
          <p:nvPr/>
        </p:nvPicPr>
        <p:blipFill>
          <a:blip r:embed="rId3"/>
          <a:stretch/>
        </p:blipFill>
        <p:spPr>
          <a:xfrm>
            <a:off x="571680" y="1428840"/>
            <a:ext cx="2697120" cy="35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Компьютер\Desktop\image-0-02-05-ddd26c04c31ce88ff296fde6e2e6388fc68bb60b442db91e5e7d666fce474996-V.jpg"/>
          <p:cNvPicPr/>
          <p:nvPr/>
        </p:nvPicPr>
        <p:blipFill>
          <a:blip r:embed="rId4"/>
          <a:stretch/>
        </p:blipFill>
        <p:spPr>
          <a:xfrm>
            <a:off x="2357280" y="3238560"/>
            <a:ext cx="2468880" cy="361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Users\Компьютер\Downloads\image-0-02-04-0efe733febc1798837dbf6bd77ba9e91c38617110e8326669aa1f61c2480edc3-V.jpg"/>
          <p:cNvPicPr/>
          <p:nvPr/>
        </p:nvPicPr>
        <p:blipFill>
          <a:blip r:embed="rId5"/>
          <a:stretch/>
        </p:blipFill>
        <p:spPr>
          <a:xfrm>
            <a:off x="4714920" y="1428840"/>
            <a:ext cx="2517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кета для родителей-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000080"/>
          <a:ext cx="7758000" cy="5608800"/>
        </p:xfrm>
        <a:graphic>
          <a:graphicData uri="http://schemas.openxmlformats.org/drawingml/2006/table">
            <a:tbl>
              <a:tblPr/>
              <a:tblGrid>
                <a:gridCol w="428400"/>
                <a:gridCol w="5643720"/>
                <a:gridCol w="1685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Вашего приезда в г. Перм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одной язы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язык, на котором вы общаетесь дом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тели бы изучать русский язык в нашей школ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удобное для Вас время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и ваш ребёнок чувствует себя в школе комфорт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шение каких вопросов или проблем Вам может помочь наша шко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-285840"/>
            <a:ext cx="807264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:</a:t>
            </a:r>
            <a:br>
              <a:rPr sz="40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ление сотрудничества школы и семьи данной категории в вопросах воспитания детей, поддержка семьи в сложные для семьи пери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00160" y="2714760"/>
            <a:ext cx="5589720" cy="395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иглашаем мам и пап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ипы семейного воспитания и их влияние на ребенка. Встреча с председателем КД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ья, как система. Нормативные и ненормативные кризисы. Адаптация к школ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ейные традиции. Профессии моей семь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зитивное взаимодействие родитель-ребен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чение без принужде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Эстафета дружб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 на прощание я скажу…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заимодействие с партнё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4D2B~1\AppData\Local\Temp\Rar$DI00.900\IMG_9684.JPG"/>
          <p:cNvPicPr/>
          <p:nvPr/>
        </p:nvPicPr>
        <p:blipFill>
          <a:blip r:embed="rId2"/>
          <a:stretch/>
        </p:blipFill>
        <p:spPr>
          <a:xfrm>
            <a:off x="822240" y="1000080"/>
            <a:ext cx="8250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7991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6 шагов к успешной адаптации детей - 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56800" y="107136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треча с семьё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агностика ребёнка – инофона (на входе, промежуточная, итоговая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я программы, кла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нятия для детей – мигрантов в малых групп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астие в работе клубов «Жихарка», «Дискуссионный» (дети); «Азбука успеха» (родител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сультации специалистов (по запросу родителей и рекомендации классного руководителя, психолог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teach.png"/>
          <p:cNvPicPr/>
          <p:nvPr/>
        </p:nvPicPr>
        <p:blipFill>
          <a:blip r:embed="rId1"/>
          <a:stretch/>
        </p:blipFill>
        <p:spPr>
          <a:xfrm>
            <a:off x="6410160" y="3143160"/>
            <a:ext cx="27338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57160" y="571320"/>
            <a:ext cx="74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chool25-1.nichost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папка «ЦИО Университетского округа ПГГП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fppkdo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курсы ЦИО. Тем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 языковой и речевой куль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– мигрантов начальной школы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актное лиц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ена Николаев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- (908) - 251 - 44 - 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личественное соотношение детей-мигрантов в МАОУ «СОШ №25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781200" y="1779480"/>
            <a:ext cx="815472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5880" y="1428480"/>
            <a:ext cx="8143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ализация образовательных программ обучения детей-мигрантов c учетом их индивидуальных особенностей, уровня владения языком, с помощью повышения уровня заинтересованности родителей в образовательном процессе и создания устойчивого положительного эмоционального фона в школьном коллекти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142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разработать механизм диагно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создать систему разноуровневого подхода к обуч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создать клуб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создать сеть школ-партнеров города Перми и Пермского кр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 создать сеть социальных партнё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ая соединительная линия 13"/>
          <p:cNvSpPr/>
          <p:nvPr/>
        </p:nvSpPr>
        <p:spPr>
          <a:xfrm flipV="1">
            <a:off x="2000160" y="2857320"/>
            <a:ext cx="5929560" cy="612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4"/>
          <p:cNvSpPr/>
          <p:nvPr/>
        </p:nvSpPr>
        <p:spPr>
          <a:xfrm>
            <a:off x="2000160" y="3857760"/>
            <a:ext cx="5929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7"/>
          <p:cNvSpPr/>
          <p:nvPr/>
        </p:nvSpPr>
        <p:spPr>
          <a:xfrm>
            <a:off x="1891440" y="1928880"/>
            <a:ext cx="603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1571760" y="135720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561760" y="146520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дминистративная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10"/>
          <p:cNvSpPr/>
          <p:nvPr/>
        </p:nvSpPr>
        <p:spPr>
          <a:xfrm>
            <a:off x="1571760" y="2292480"/>
            <a:ext cx="642960" cy="57132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12"/>
          <p:cNvSpPr/>
          <p:nvPr/>
        </p:nvSpPr>
        <p:spPr>
          <a:xfrm>
            <a:off x="1571760" y="328608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2526840" y="2143080"/>
            <a:ext cx="57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оциально – психологическая служ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438640" y="335772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Педаг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11"/>
          <p:cNvSpPr/>
          <p:nvPr/>
        </p:nvSpPr>
        <p:spPr>
          <a:xfrm>
            <a:off x="1571760" y="4286160"/>
            <a:ext cx="642960" cy="57168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13"/>
          <p:cNvSpPr/>
          <p:nvPr/>
        </p:nvSpPr>
        <p:spPr>
          <a:xfrm>
            <a:off x="1571760" y="5500800"/>
            <a:ext cx="642960" cy="57132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14"/>
          <p:cNvSpPr/>
          <p:nvPr/>
        </p:nvSpPr>
        <p:spPr>
          <a:xfrm>
            <a:off x="2286000" y="4714920"/>
            <a:ext cx="578628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4"/>
          <p:cNvSpPr/>
          <p:nvPr/>
        </p:nvSpPr>
        <p:spPr>
          <a:xfrm>
            <a:off x="2214720" y="6000840"/>
            <a:ext cx="585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2500200" y="42861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Дети и родители  - мигра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2357280" y="4857840"/>
            <a:ext cx="55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оциальные партнёры (представители диаспор, НП «ЭТНОПЕРМЬ», Совет молодёжи при Пермской городской дум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7240" y="1425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рганизационное взаимодействи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хема 4" descr=""/>
          <p:cNvPicPr/>
          <p:nvPr/>
        </p:nvPicPr>
        <p:blipFill>
          <a:blip r:embed="rId1"/>
          <a:stretch/>
        </p:blipFill>
        <p:spPr>
          <a:xfrm>
            <a:off x="811080" y="993600"/>
            <a:ext cx="798516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одель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хема 4" descr=""/>
          <p:cNvPicPr/>
          <p:nvPr/>
        </p:nvPicPr>
        <p:blipFill>
          <a:blip r:embed="rId1"/>
          <a:stretch/>
        </p:blipFill>
        <p:spPr>
          <a:xfrm>
            <a:off x="669960" y="993600"/>
            <a:ext cx="838836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учителей школ - партнё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135684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ПГ , 2 модульных курса «Развитие языковой и речевой культуры у детей - мигрантов» - курсы университетского ок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SC_0476"/>
          <p:cNvPicPr/>
          <p:nvPr/>
        </p:nvPicPr>
        <p:blipFill>
          <a:blip r:embed="rId1"/>
          <a:stretch/>
        </p:blipFill>
        <p:spPr>
          <a:xfrm>
            <a:off x="4584600" y="2928960"/>
            <a:ext cx="440388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SC_0473"/>
          <p:cNvPicPr/>
          <p:nvPr/>
        </p:nvPicPr>
        <p:blipFill>
          <a:blip r:embed="rId2"/>
          <a:stretch/>
        </p:blipFill>
        <p:spPr>
          <a:xfrm>
            <a:off x="857160" y="4500720"/>
            <a:ext cx="3876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родителей </a:t>
            </a:r>
            <a:br>
              <a:rPr sz="3200"/>
            </a:b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луб «Азбука успех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62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7:22:55Z</dcterms:created>
  <dc:creator>Irina Polinceva</dc:creator>
  <dc:description/>
  <dc:language>en-US</dc:language>
  <cp:lastModifiedBy>Компьютер</cp:lastModifiedBy>
  <dcterms:modified xsi:type="dcterms:W3CDTF">2020-03-18T14:42:59Z</dcterms:modified>
  <cp:revision>107</cp:revision>
  <dc:subject/>
  <dc:title>Развитие  языковой и  речевой  компетентности  детей  мигрантов</dc:title>
</cp:coreProperties>
</file>