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863-3891-4FC0-8E07-AF0B0DB6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3B85-BB51-44D3-A354-B9529734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99C9-408E-43E4-9BB9-AB022946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7C4-CADF-4A28-8731-FBC2B823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F3CB-2635-4631-BDC9-700D660C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F158-00D6-410F-8971-135C17A5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68D4-5E30-465B-AC3B-BBF5264F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788F-F9DF-4C39-9FD8-EB1EC9E5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9D61-4179-4120-B391-C6EEF1BE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8830-2082-4C33-992B-8875613D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629D-27AB-4221-8CAE-EACAD11B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64E-91B1-4B5E-ADDE-02699A7E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2EA2-5377-482F-9AC5-3FEFDACC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3397-0883-4253-95D2-A6047819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20E6-4360-4739-B783-105EE19D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2E9A-E5FB-46EE-901D-594B3F94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38C3-7F33-4637-ADDB-5FDB88FC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E8AE-A166-4B7C-BB1A-8EF42FAB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C853-273B-46A8-A701-D508B8A9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93A-DA3D-4C5E-AE03-5CCED459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301C-D54C-48C6-9A69-BEE0824A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8FE-A362-4649-9438-B50D81D3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B636-CF51-4EE5-A355-EB0B1D14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F74-B574-496E-9507-4A27CB03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dfd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6B73-442D-4629-BCDC-C06D7AFBB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/>
              </a:gs>
              <a:gs pos="100000">
                <a:srgbClr val="fdfb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E7E8-91CD-4206-B741-2006FCB46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vnik2@rambler.ru" TargetMode="External"/><Relationship Id="rId2" Type="http://schemas.openxmlformats.org/officeDocument/2006/relationships/hyperlink" Target="mailto:evnik2@rambler.ru" TargetMode="External"/><Relationship Id="rId3" Type="http://schemas.openxmlformats.org/officeDocument/2006/relationships/hyperlink" Target="mailto:evnik2@rambler.ru" TargetMode="External"/><Relationship Id="rId4" Type="http://schemas.openxmlformats.org/officeDocument/2006/relationships/hyperlink" Target="mailto:evnik2@rambler.ru" TargetMode="External"/><Relationship Id="rId5" Type="http://schemas.openxmlformats.org/officeDocument/2006/relationships/hyperlink" Target="mailto:evnik2@rambler.ru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706400"/>
            <a:ext cx="5187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MyTest на уроках физики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0882" t="14764" r="65867" b="74320"/>
          <a:stretch/>
        </p:blipFill>
        <p:spPr>
          <a:xfrm>
            <a:off x="270000" y="4522680"/>
            <a:ext cx="2120760" cy="1092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3040" y="3768840"/>
            <a:ext cx="607536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икитин Евгений Анатоль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БОУ «Шадейская СОШ», 2019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Если открыть редактор то еще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170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 букв (цвет фона за букв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отдельных слов или бук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ирование абзацев (слева, по центру, спра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ерация абза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шрифта (начерт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символы (математические, греческие буквы и другие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ы, дроби, интегралы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вставлять звуковой вопрос или пояснение к вопросу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добавить видеоклип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48814" t="20204" r="49514" b="76470"/>
          <a:stretch/>
        </p:blipFill>
        <p:spPr>
          <a:xfrm>
            <a:off x="8391600" y="5289480"/>
            <a:ext cx="53028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325520"/>
            <a:ext cx="8483760" cy="119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br>
              <a:rPr sz="4800"/>
            </a:b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4160" y="2411280"/>
            <a:ext cx="5148000" cy="203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8-908-26-58-49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evnik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2@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rambler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4"/>
              </a:rPr>
              <a:t>.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5"/>
              </a:rPr>
              <a:t>r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5000" y="4168800"/>
            <a:ext cx="572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а сетевой верс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группы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тестов, для учител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1200" y="1208160"/>
            <a:ext cx="89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ивной проверки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тически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, темы, разделы, ОГЭ/Е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временные те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-7 мин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практических навык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мерения физ. велич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мпиа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текстовой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ГЭ вопрос №20-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95800" y="0"/>
            <a:ext cx="49482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платная тестовая оболочка (работает п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 8)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созданная специально для учебных заведений. Практически нет недоста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yTest это - система программ для создания и проведения компьютерного тестирования, сбора и анализа результатов, выставления оценки по указанной в тесте шк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0200" y="1648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реимущества </a:t>
            </a: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5740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бумажного носите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-»печать, хранение, раздатка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ая проверка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ибкая система оценивания, «здесь и сейчас», «5»-«12»-«100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шивание вопросов и ответов в тес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ы вопросов. (Вариативность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дача теста, в удобное врем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вопросов (1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заданий теста / качества т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й вид те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цв. фото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звук, виде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и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а дома… (пароль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ет с флеш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ройка шрифта для слабовидя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Технология создания теста (для ОГЭ, ЕГЭ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04440"/>
            <a:ext cx="914400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пируем с сай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i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просы на определенную тему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+C, Ctrl+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а (таблицы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работка в граф. редактор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гор. клавиши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м групп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годам/по смысловым тем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ем…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4960" y="0"/>
            <a:ext cx="15634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Настройка сервер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бкая настройка сервера для мониторинга и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 результатов, в т.ч. за пределы  программы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ипломы, сертификаты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ение результатов тес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13640" y="0"/>
            <a:ext cx="1530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Обнаруженные системы списывания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65200"/>
            <a:ext cx="91440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аргал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(мобильный и на 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 с экрана и размещение в группе в В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ие теста программо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estEdi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MyTest работает с восемью типами заданий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480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оч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ен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порядка следо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соответств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зание истинности или ложности утвержде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числа (или с интервалом ввод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текс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ор места на изобра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 редакторе вопросов и ответов есть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2560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рный / курсив / подчеркивание / зачерк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хние индексы / нижние индек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ер шрифта во всем т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9-02-22T05:39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