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D0FF-4BC8-4B29-A941-2D0D530BF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0012-1AF4-4153-B377-F3A45D09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A357-7917-4143-A3A4-32D71C4B0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A7EE-A2B3-448D-9672-E1A03D41D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254C-D2FE-4EBD-9C58-F52000C2B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6C31-FAB3-4D6B-8F5B-7124D494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7782E-E2D8-4301-B8D8-C494AD7D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CC4A-FECA-494B-BBF2-A0805A3F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4A954-035A-4F31-B974-D2E24915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A79F-41EB-40A1-AFEF-F9566C85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328E-D3DC-4433-B09D-C0139C5E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8AD9-D348-4A12-AB65-141281CB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AF73-2E0F-4412-A9AA-33F29371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79D7-C56E-4A56-9820-1B342843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7B53C-D289-4D06-919E-D393A5AA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8F9F-596B-44AE-88E4-7BB22863E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7653D-DA12-478E-9044-F92682151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E6F7-5E31-4560-AB7D-F7437C70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D7C0-82FF-4C27-B94F-9CD89BB5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FEE7-E1BA-42B6-B18D-8E371041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DDCD-4601-4BEC-9F00-58704C55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2C16-F40A-4C48-AE21-B58AEE63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9AFA-6645-4D00-B2E3-ACFD5ED1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FB06-B8E1-4A41-9B37-9B6843E5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9360"/>
            <a:ext cx="9156600" cy="687204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df58d">
                  <a:alpha val="70196"/>
                </a:srgbClr>
              </a:gs>
              <a:gs pos="100000">
                <a:srgbClr val="fdfdf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4680" y="5500800"/>
            <a:ext cx="144144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549F-994F-4A12-8EA6-DEF86A6D5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9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040" y="-380520"/>
            <a:ext cx="2417760" cy="1995480"/>
          </a:xfrm>
          <a:prstGeom prst="rect">
            <a:avLst/>
          </a:prstGeom>
          <a:ln w="0">
            <a:noFill/>
          </a:ln>
        </p:spPr>
      </p:pic>
      <p:pic>
        <p:nvPicPr>
          <p:cNvPr id="30" name="" descr="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df58d"/>
              </a:gs>
              <a:gs pos="100000">
                <a:srgbClr val="fdfbe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C1FE-A641-4CFD-81F7-B8EF8176A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077320" y="0"/>
            <a:ext cx="1076040" cy="6858000"/>
            <a:chOff x="8077320" y="0"/>
            <a:chExt cx="1076040" cy="6858000"/>
          </a:xfrm>
        </p:grpSpPr>
        <p:sp>
          <p:nvSpPr>
            <p:cNvPr id="95" name=""/>
            <p:cNvSpPr/>
            <p:nvPr/>
          </p:nvSpPr>
          <p:spPr>
            <a:xfrm>
              <a:off x="8077320" y="0"/>
              <a:ext cx="106668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893080" y="5549760"/>
              <a:ext cx="26028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evnik2@rambler.ru" TargetMode="External"/><Relationship Id="rId2" Type="http://schemas.openxmlformats.org/officeDocument/2006/relationships/hyperlink" Target="mailto:evnik2@rambler.ru" TargetMode="External"/><Relationship Id="rId3" Type="http://schemas.openxmlformats.org/officeDocument/2006/relationships/hyperlink" Target="mailto:evnik2@rambler.ru" TargetMode="External"/><Relationship Id="rId4" Type="http://schemas.openxmlformats.org/officeDocument/2006/relationships/hyperlink" Target="mailto:evnik2@rambler.ru" TargetMode="External"/><Relationship Id="rId5" Type="http://schemas.openxmlformats.org/officeDocument/2006/relationships/hyperlink" Target="mailto:evnik2@rambler.ru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706400"/>
            <a:ext cx="518796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3300"/>
                </a:solidFill>
                <a:latin typeface="Arial"/>
              </a:rPr>
              <a:t>MyTest на уроках физики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20882" t="14764" r="65867" b="74320"/>
          <a:stretch/>
        </p:blipFill>
        <p:spPr>
          <a:xfrm>
            <a:off x="270000" y="4522680"/>
            <a:ext cx="2120760" cy="10922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03040" y="3768840"/>
            <a:ext cx="607536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икитин Евгений Анатольеви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МБОУ «Шадейская СОШ», 2019 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Если открыть редактор то еще: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17000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вет букв (цвет фона за буква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ер отдельных слов или бук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атирование абзацев (слева, по центру, справа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керация абзац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 шрифта (начертан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символы (математические, греческие буквы и другие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улы, дроби, интегралы 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сть вставлять звуковой вопрос или пояснение к вопросу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сть добавить видеоклип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48814" t="20204" r="49514" b="76470"/>
          <a:stretch/>
        </p:blipFill>
        <p:spPr>
          <a:xfrm>
            <a:off x="8391600" y="5289480"/>
            <a:ext cx="530280" cy="70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1325520"/>
            <a:ext cx="8483760" cy="119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Спасибо за внимание</a:t>
            </a:r>
            <a:br>
              <a:rPr sz="4800"/>
            </a:b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4160" y="2411280"/>
            <a:ext cx="5148000" cy="203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такты:</a:t>
            </a: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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8-908-26-58-493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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" sz="3200" spc="-1" strike="noStrike" u="sng">
                <a:solidFill>
                  <a:srgbClr val="a8d02a"/>
                </a:solidFill>
                <a:uFillTx/>
                <a:latin typeface="Arial"/>
                <a:hlinkClick r:id="rId1"/>
              </a:rPr>
              <a:t>evnik</a:t>
            </a:r>
            <a:r>
              <a:rPr b="1" lang="ru-RU" sz="3200" spc="-1" strike="noStrike" u="sng">
                <a:solidFill>
                  <a:srgbClr val="a8d02a"/>
                </a:solidFill>
                <a:uFillTx/>
                <a:latin typeface="Arial"/>
                <a:hlinkClick r:id="rId2"/>
              </a:rPr>
              <a:t>2@</a:t>
            </a:r>
            <a:r>
              <a:rPr b="1" lang="en" sz="3200" spc="-1" strike="noStrike" u="sng">
                <a:solidFill>
                  <a:srgbClr val="a8d02a"/>
                </a:solidFill>
                <a:uFillTx/>
                <a:latin typeface="Arial"/>
                <a:hlinkClick r:id="rId3"/>
              </a:rPr>
              <a:t>rambler</a:t>
            </a:r>
            <a:r>
              <a:rPr b="1" lang="ru-RU" sz="3200" spc="-1" strike="noStrike" u="sng">
                <a:solidFill>
                  <a:srgbClr val="a8d02a"/>
                </a:solidFill>
                <a:uFillTx/>
                <a:latin typeface="Arial"/>
                <a:hlinkClick r:id="rId4"/>
              </a:rPr>
              <a:t>.</a:t>
            </a:r>
            <a:r>
              <a:rPr b="1" lang="en" sz="3200" spc="-1" strike="noStrike" u="sng">
                <a:solidFill>
                  <a:srgbClr val="a8d02a"/>
                </a:solidFill>
                <a:uFillTx/>
                <a:latin typeface="Arial"/>
                <a:hlinkClick r:id="rId5"/>
              </a:rPr>
              <a:t>r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35000" y="4168800"/>
            <a:ext cx="5727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тройка сетевой верси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учение группы уч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ие тестов, для учител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MyTest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41200" y="1208160"/>
            <a:ext cx="89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назначен дл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еративной проверки зн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тический контрол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К, темы, разделы, ОГЭ/ЕГЭ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тковременные тест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5-7 мину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ка практических навык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измерения физ. велич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лимпиад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ижение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 текстовой информаци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ГЭ вопрос №20-2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195800" y="0"/>
            <a:ext cx="494820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MyTes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сплатная тестовая оболочка (работает под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 8)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, созданная специально для учебных заведений. Практически нет недостат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MyTest это - система программ для создания и проведения компьютерного тестирования, сбора и анализа результатов, выставления оценки по указанной в тесте шка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30200" y="1648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Преимущества </a:t>
            </a: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MyTest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157400"/>
            <a:ext cx="9144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т бумажного носител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«-»печать, хранение, раздатка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матическая проверка…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гибкая система оценивания, «здесь и сейчас», «5»-«12»-«100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мешивание вопросов и ответов в тес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уппы вопросов. (Вариативность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сдача теста, в удобное врем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жность вопросов (1-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лиз заданий теста / качества те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чественный вид тес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цв. фото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звук, виде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би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нировка дома… (пароль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ет с флеш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тройка шрифта для слабовидящ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Технология создания теста (для ОГЭ, ЕГЭ)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504440"/>
            <a:ext cx="914400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пируем с сайт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pi.r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опросы на определенную тему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l+C, Ctrl+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фика (таблицы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бработка в граф. редактор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n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атирова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гор. клавиши!!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ем групп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 годам/по смысловым тема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аем… отв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о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554960" y="0"/>
            <a:ext cx="156348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Настройка сервера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ибкая настройка сервера для мониторинга и результа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вод результатов, в т.ч. за пределы  программы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дипломы, сертификаты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хранение результатов тестир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613640" y="0"/>
            <a:ext cx="153036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Обнаруженные системы списывания)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465200"/>
            <a:ext cx="914400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паргал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нет (мобильный и на 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то с экрана и размещение в группе в В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крытие теста программой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TestEdito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MyTest работает с восемью типами заданий: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94806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иночный выбо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ожественный выбо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тановление порядка следова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тановление соответств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казание истинности или ложности утвержден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чной ввод числа (или с интервалом ввода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чной ввод текст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бор места на изображ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В редакторе вопросов и ответов есть: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42560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ирный / курсив / подчеркивание / зачерки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рхние индексы / нижние индек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мер шрифта во всем т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вгений</cp:lastModifiedBy>
  <dcterms:modified xsi:type="dcterms:W3CDTF">2019-02-22T05:39:3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