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C477-E166-4506-8858-9C2788EF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5972-4EFC-4081-B587-1E544252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7738-E89E-4F22-AC17-4EFC3E428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DCEF-B442-4575-8903-6F3A05AD1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AC2A-C82A-425F-B07A-8A36C726F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FBA5-12A9-4A3A-B4C8-6DE7C242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8D4E-EED6-4C8A-99B7-5F59607E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9167-2F2C-485F-B412-E1D32472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9778-58E7-448C-82E4-B49A7225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D7C1-5BB7-4C87-A458-D4FAEF4A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DE33-C0FA-4690-B3C9-677C3B42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B9C8-EABF-4367-B7E7-80DBD621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E0F2-9F70-4988-B5EB-C5FF9FA5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1225-71D9-468B-88D9-D3B723B0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3B87-51BD-40A4-A1BD-A4982B00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E359-2F08-42D7-AA7D-5EE4862FE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1E3F-2552-49F3-A2B6-5DFE03E31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0AA5-6657-4050-8176-C3820BBA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CAB1-21B9-4699-AF32-762F4CFD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DA32-1A78-47E8-A9DB-1A93BDD7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E6F5-F027-48E4-BC87-8732F188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F533-BABD-4999-9B22-30A227B1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86C7-A6B4-4F38-B25A-485C37DD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6629-EDA9-414C-A360-278A6ECB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df58d">
                  <a:alpha val="70196"/>
                </a:srgbClr>
              </a:gs>
              <a:gs pos="100000">
                <a:srgbClr val="fdfdf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8FB5-F7B4-47EA-813E-6C14BA99C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" descr="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df58d"/>
              </a:gs>
              <a:gs pos="100000">
                <a:srgbClr val="fdfbe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CAD6-7028-4553-B138-FE122B555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5" name="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evnik2@rambler.ru" TargetMode="External"/><Relationship Id="rId2" Type="http://schemas.openxmlformats.org/officeDocument/2006/relationships/hyperlink" Target="mailto:evnik2@rambler.ru" TargetMode="External"/><Relationship Id="rId3" Type="http://schemas.openxmlformats.org/officeDocument/2006/relationships/hyperlink" Target="mailto:evnik2@rambler.ru" TargetMode="External"/><Relationship Id="rId4" Type="http://schemas.openxmlformats.org/officeDocument/2006/relationships/hyperlink" Target="mailto:evnik2@rambler.ru" TargetMode="External"/><Relationship Id="rId5" Type="http://schemas.openxmlformats.org/officeDocument/2006/relationships/hyperlink" Target="mailto:evnik2@rambler.ru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706400"/>
            <a:ext cx="5187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00"/>
                </a:solidFill>
                <a:latin typeface="Arial"/>
              </a:rPr>
              <a:t>MyTest на уроках физики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20882" t="14764" r="65867" b="74320"/>
          <a:stretch/>
        </p:blipFill>
        <p:spPr>
          <a:xfrm>
            <a:off x="270000" y="4522680"/>
            <a:ext cx="2120760" cy="1092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03040" y="3768840"/>
            <a:ext cx="607536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икитин Евгений Анатольеви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БОУ «Шадейская СОШ», 2019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Если открыть редактор то еще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170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 букв (цвет фона за буква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 отдельных слов или бук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тирование абзацев (слева, по центру, справ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ерация абзац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 шрифта (начерта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символы (математические, греческие буквы и другие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ы, дроби, интегралы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вставлять звуковой вопрос или пояснение к вопросу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добавить видеоклип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48814" t="20204" r="49514" b="76470"/>
          <a:stretch/>
        </p:blipFill>
        <p:spPr>
          <a:xfrm>
            <a:off x="8391600" y="5289480"/>
            <a:ext cx="530280" cy="7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1325520"/>
            <a:ext cx="8483760" cy="119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Спасибо за внимание</a:t>
            </a:r>
            <a:br>
              <a:rPr sz="4800"/>
            </a:b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4160" y="2411280"/>
            <a:ext cx="5148000" cy="203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такты: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8-908-26-58-493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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1"/>
              </a:rPr>
              <a:t>evnik</a:t>
            </a:r>
            <a:r>
              <a:rPr b="1" lang="ru-RU" sz="3200" spc="-1" strike="noStrike" u="sng">
                <a:solidFill>
                  <a:srgbClr val="a8d02a"/>
                </a:solidFill>
                <a:uFillTx/>
                <a:latin typeface="Arial"/>
                <a:hlinkClick r:id="rId2"/>
              </a:rPr>
              <a:t>2@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3"/>
              </a:rPr>
              <a:t>rambler</a:t>
            </a:r>
            <a:r>
              <a:rPr b="1" lang="ru-RU" sz="3200" spc="-1" strike="noStrike" u="sng">
                <a:solidFill>
                  <a:srgbClr val="a8d02a"/>
                </a:solidFill>
                <a:uFillTx/>
                <a:latin typeface="Arial"/>
                <a:hlinkClick r:id="rId4"/>
              </a:rPr>
              <a:t>.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5"/>
              </a:rPr>
              <a:t>r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35000" y="4168800"/>
            <a:ext cx="5727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йка сетевой верси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чение группы уч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тестов, для учител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1200" y="1208160"/>
            <a:ext cx="89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назначен д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ативной проверки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тический контро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К, темы, разделы, ОГЭ/ЕГЭ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тковременные тест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-7 мину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ка практических навык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измерения физ. велич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импиад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жение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текстовой информац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ГЭ вопрос №20-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195800" y="0"/>
            <a:ext cx="49482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сплатная тестовая оболочка (работает по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 8)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созданная специально для учебных заведений. Практически нет недостат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yTest это - система программ для создания и проведения компьютерного тестирования, сбора и анализа результатов, выставления оценки по указанной в тесте шка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30200" y="1648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Преимущества </a:t>
            </a: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157400"/>
            <a:ext cx="9144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бумажного носител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«-»печать, хранение, раздатка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атическая проверка…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ибкая система оценивания, «здесь и сейчас», «5»-«12»-«100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мешивание вопросов и ответов в тес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ы вопросов. (Вариативность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сдача теста, в удобное врем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ость вопросов (1-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 заданий теста / качества т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енный вид тес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цв. фото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звук, виде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би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ировка дома… (пароль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ет с флеш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ройка шрифта для слабовидящ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Технология создания теста (для ОГЭ, ЕГЭ)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504440"/>
            <a:ext cx="914400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пируем с сай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pi.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просы на определенную тему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+C, Ctrl+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ика (таблицы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бработка в граф. редактор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атирова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гор. клавиши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ем групп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 годам/по смысловым тема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аем… отв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54960" y="0"/>
            <a:ext cx="156348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Настройка сервера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ибкая настройка сервера для мониторинга и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вод результатов, в т.ч. за пределы  программы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дипломы, сертификаты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хранение результатов тест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13640" y="0"/>
            <a:ext cx="153036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Обнаруженные системы списывания)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465200"/>
            <a:ext cx="914400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паргал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нет (мобильный и на 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то с экрана и размещение в группе в В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ие теста программой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TestEdit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MyTest работает с восемью типами заданий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94806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иночный выбо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жественный выбо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овление порядка следова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овление соответств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азание истинности или ложности утвержден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чной ввод числа (или с интервалом ввода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чной ввод текс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ор места на изображ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 редакторе вопросов и ответов есть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2560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рный / курсив / подчеркивание / зачерк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хние индексы / нижние индек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мер шрифта во всем т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гений</cp:lastModifiedBy>
  <dcterms:modified xsi:type="dcterms:W3CDTF">2019-02-22T05:39:3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