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3DED-9FDB-42BE-B6A1-A8A45DDAE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BA9B-DF68-43FF-B883-E3BFFC65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A45A-FF56-4956-9285-619F0254E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CDF2-3C8F-49D9-9FA9-14A1828AD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5723-65FE-4A7E-A395-FBD1545B2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0527-BFE0-40CF-A9F9-8E0BC0AE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BBF8-9B7A-4E27-8287-295CCC56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AC96-3373-4B9F-B198-27ADC8F5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E69D-FE78-481C-8FEA-D30B3BAB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2B3B-5F23-43FC-B0A2-BDE278B0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0A6A-7DC7-435C-AC79-3FD34E3A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B1D2-39D4-415F-834E-9C0AD20F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D90F-1C67-4971-BE98-7B67FB09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88F6-EDE9-41E9-B807-259A8AA5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F926-CE7E-4DAC-AE86-A4DC0F79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D03E-960A-46B8-AF22-F3715045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2346-9D3C-4C4F-938B-44D719492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15BEF-11B6-4057-850C-830BD956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25D33-DFF0-499E-8859-A4176382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D9C7A-02A5-455F-B58A-98F3576D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A133A-C781-4804-816D-7F5C4CCD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C3B59-45C6-4A53-9C55-5509666A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A3E0-8F14-4844-840A-16AAD2ED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21D0F-88C8-40B0-A4A0-78BEAABD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17B95-60C2-4F9F-855E-D58EBE8A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882DB-852E-4FAB-9B24-5FB6652A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198F8-0077-47C4-81B8-C57068B0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DD27A-BFB3-45E0-922F-4D9A2994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B7E60-F210-47AC-BEF8-B966B0C11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3C2B9-4FF7-478B-91B8-9EA8B9EEA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9B48A-F40F-478B-A55E-30A269886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CA242-5A8E-45E8-B9E0-1774A4B0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33A85-159A-4837-92D7-38C70243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34BD-97F3-4B89-BE75-0C2F0A8D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89203-3910-448C-A2C5-660F3D12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07AA4-ED16-4E86-BD8D-3225A809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98C41-4D0D-4821-9E24-EEE97DF9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A6F34-C91E-4ED0-B160-8E2B8313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5905C-7B7F-45B3-97C3-1390BF29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C4A73-F264-4D48-98EF-B9D18EE9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1B7A0-E1A3-4F43-9A2D-AA470B84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328C8-4BB4-4E12-8B12-01CFB781D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40E0E-0F5E-46E6-827D-BDEE1C4D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B23B-104F-4C2A-938C-499FCFDD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4E74-D822-40DB-B449-B885DD65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8E1C-B6E9-44A2-87AB-2D982C13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23AF-748A-4AFF-A876-1A3C9C9A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1C89-B1B4-4747-8591-45743A88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0363-A2E2-429F-8316-50E9EC17FFC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754B-3278-43F8-8720-6F25354BE66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3540-26D4-4345-BF26-169631F39E7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A6F1-0990-491A-97CA-1B49982DC8E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291960" y="974880"/>
            <a:ext cx="8242560" cy="2511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24000" y="4005360"/>
            <a:ext cx="8642160" cy="1125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Учитель физики МБОУ «СОШ № 2 с УИОП» г.Лысьв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Фаткуллина Гульнара Аухатовн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2"/>
          <a:srcRect l="3295" t="3907" r="22035" b="18947"/>
          <a:stretch/>
        </p:blipFill>
        <p:spPr>
          <a:xfrm>
            <a:off x="642960" y="1857240"/>
            <a:ext cx="75024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Демоверсии, спецификации, кодификаторы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Формулы по физике 7-9 классы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Краткий справочный материал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493560" y="493560"/>
            <a:ext cx="7864560" cy="10242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33160" y="1844640"/>
            <a:ext cx="7854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с «ГИА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2"/>
          <a:srcRect l="0" t="10743" r="24232" b="23829"/>
          <a:stretch/>
        </p:blipFill>
        <p:spPr>
          <a:xfrm>
            <a:off x="168120" y="1928880"/>
            <a:ext cx="89758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530280" y="755640"/>
            <a:ext cx="7864560" cy="11034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533160" y="2060640"/>
            <a:ext cx="7854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2"/>
          <a:stretch/>
        </p:blipFill>
        <p:spPr>
          <a:xfrm>
            <a:off x="971640" y="1989000"/>
            <a:ext cx="71294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530280" y="755640"/>
            <a:ext cx="7864560" cy="11034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33160" y="2060640"/>
            <a:ext cx="7854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900000" y="1989000"/>
            <a:ext cx="6480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пробаци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1806480" y="1935000"/>
            <a:ext cx="55310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Рисунок 6" descr=""/>
          <p:cNvPicPr/>
          <p:nvPr/>
        </p:nvPicPr>
        <p:blipFill>
          <a:blip r:embed="rId1"/>
          <a:stretch/>
        </p:blipFill>
        <p:spPr>
          <a:xfrm>
            <a:off x="576360" y="1052640"/>
            <a:ext cx="8099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ем обусловлен выбор курс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готовка к итоговой аттестации должна носить системный характер. По каждой теме необходимо дать краткий справочник - конспект (основные определения, формулы, законы и пр.), примеры с решениями, тренировочные упражнения (на базовом и повышенном уровнях) и тес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блем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неумение выполнять операции с переводом единиц  измере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низкий процент верно решивших количественные и качественные задачи, а большинство вообще не приступали к решению этих задач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проблемы оформления решений в заданиях с развернутым ответом: многословность пояснения очевидных фактов, небрежность работы с формулами, ошибки при математических расчета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21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можности  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oogle Form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395280" y="114300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ю данного сервиса возможн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анкетирование учеников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тестирование учеников для контроля и проверки их знаний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 обработать результаты анкетирования или тестировани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Достоинства </a:t>
            </a: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Google Classroom</a:t>
            </a:r>
            <a:r>
              <a:rPr b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560" y="1125360"/>
            <a:ext cx="8497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правильности выполнения заданий осуществляется автоматическ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сть проверки знаний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увидеть сколько раз ученик выполнил данный тес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е создание тестов и разного числа вариантов, автоматическая генерация заданий. Исключается списыван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зменить задания, добавить свои зада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зможность группировать задания по темам, выкладывать информацию в любой форм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зможность ограничить доступ к работе по време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едостатк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 к сети Интерне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ПК каждому ученику на урок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каждого ученика обязатель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533160" y="2204640"/>
            <a:ext cx="7854840" cy="27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438120" y="182520"/>
            <a:ext cx="7888320" cy="1170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2"/>
          <a:srcRect l="11737" t="0" r="3038" b="18839"/>
          <a:stretch/>
        </p:blipFill>
        <p:spPr>
          <a:xfrm>
            <a:off x="0" y="1440000"/>
            <a:ext cx="9156600" cy="52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В самой структуре ОГЭ содержится указание на то, как можно выстроить подготовку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уществующий кодификатор позволяет разбить материал на несколько крупных тематических блоков, выстроив повторение по содержательным (механика, электричество, оптика, атомная физика и т.д.) линиям. Такой подход будет способствовать формированию более прочных знаний и, как следствие, более уверенному поведению выпускника на экзамене вне зависимости от того, в какой форме экзамен будет проводить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водное занят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ханически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пловы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лектромагнитны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изика атома и атомного ядр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5T02:54:54Z</dcterms:created>
  <dc:creator>Лиля</dc:creator>
  <dc:description/>
  <dc:language>en-US</dc:language>
  <cp:lastModifiedBy>User</cp:lastModifiedBy>
  <dcterms:modified xsi:type="dcterms:W3CDTF">2021-11-23T19:29:51Z</dcterms:modified>
  <cp:revision>50</cp:revision>
  <dc:subject/>
  <dc:title>Использование сервиса Google Forms для организации контроля знаний обучающихся</dc:title>
</cp:coreProperties>
</file>