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0A43-41EA-4F04-97A5-34D9B14A3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4CE9-56AB-41BF-8A41-D7B34C146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E555-2BA5-4753-B6DC-2750D51A5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2DD1-E5D1-470E-ACA3-6A132F3C0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3DBA1-16D8-4E6C-B631-5C46D5FF3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FD44D-7180-4013-9F9C-E64A24FB0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551EC-79A2-4014-A1DA-734B9F7AB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C716F-7F4B-42E9-9259-5A13502B8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E5E64-A9A6-4A90-8898-567CF7336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DC95C-C075-4034-9C68-0ACDB4E3A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717BF-D4E6-42D7-BB10-EBD5B0E75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D066-FFC0-42FA-ACE6-040BC7E3E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8191C-D5F4-4181-8DAF-B67B53453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83D66-CC6B-4BD1-9510-364118E45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4CF2C-6109-49CB-A901-E73E2A87F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98A99-F491-43A2-9DC7-59459D43C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EF6D9-262F-45DE-87BE-4936C7617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D3A5E1-FA0B-4490-B0D9-7D14D90D2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35DDC3-E7CA-4549-8B10-544E82D34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E03D50-CA93-4449-9160-D11F3D968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D7F1A4-2756-4500-8245-E814A21D4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7DFCCE-E078-47E2-A04C-C33F75A41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FDCE-86E7-41B1-8726-0126E9598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16430D-613D-490E-95D0-7DA92F995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2C1DF3-DF90-4DAA-9F10-2DA82267A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FD5E2E-D470-48DA-8C73-7DD319260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095C91-D546-40AB-8175-6F2B602BC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E2FA9C-08AA-4909-83EF-46626E565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267BD2-8FE3-4CFE-93E6-0244895C8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AB49F9-31B9-472D-8B36-67BBBC4AA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6F67C2-2131-457E-8FA6-490D80225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FC87DF-3CE9-4ECA-A75F-3BBEC4DBC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71F3C2-AC4F-4445-984F-2147D4B1C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C7F5-DBFE-4CCF-B1D2-E0662CA19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E7C690-31C4-4D1B-930C-601E3F344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149F1C-8D9E-46F4-B7D9-A723D6875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C335E4-851D-4835-9285-093999F07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8E23BE-3333-4AA9-B1F6-8D92FAC26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038823-56CB-4372-BBAB-3DB8071E5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E003FC-D4CA-4DF6-8CC0-8F08C3455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95B5BC-B0B7-49B9-A984-DFB1C15C0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5A6B51-2F1F-4D3E-BBE8-5FEDC9A76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BB82AF-9504-4CCC-BAC6-F6DC78515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0EB6-378E-40CB-AC42-865D59D1C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2E8F-C7E8-47E5-889A-429785A3A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B2B6-1799-4E4A-8335-B2FB8E4B0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1BF3-97CA-400E-AB00-4432236DE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8432-B2D3-4623-9B8F-718DD4BEB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85972-8101-4AAB-B8D5-2D7FBDD13CAE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CD315-483B-4999-B2B9-53FA19EED1AF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E7082-B0D8-4295-873D-AFD5E6E81FB9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59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0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Freeform 9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2" name="Freeform 10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B7ACD-2507-4C35-AF23-57F2CC385E7A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Заголовок 1" descr=""/>
          <p:cNvPicPr/>
          <p:nvPr/>
        </p:nvPicPr>
        <p:blipFill>
          <a:blip r:embed="rId1"/>
          <a:stretch/>
        </p:blipFill>
        <p:spPr>
          <a:xfrm>
            <a:off x="291960" y="974880"/>
            <a:ext cx="8242560" cy="251136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324000" y="4005360"/>
            <a:ext cx="8642160" cy="1125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Учитель физики МБОУ «СОШ № 2 с УИОП» г.Лысьва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Фаткуллина Гульнара Аухатовна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Заголовок 1" descr=""/>
          <p:cNvPicPr/>
          <p:nvPr/>
        </p:nvPicPr>
        <p:blipFill>
          <a:blip r:embed="rId1"/>
          <a:stretch/>
        </p:blipFill>
        <p:spPr>
          <a:xfrm>
            <a:off x="530280" y="396720"/>
            <a:ext cx="7864560" cy="117000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533160" y="1844280"/>
            <a:ext cx="785484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6" name="Picture 2" descr=""/>
          <p:cNvPicPr/>
          <p:nvPr/>
        </p:nvPicPr>
        <p:blipFill>
          <a:blip r:embed="rId2"/>
          <a:srcRect l="3295" t="3907" r="22035" b="18947"/>
          <a:stretch/>
        </p:blipFill>
        <p:spPr>
          <a:xfrm>
            <a:off x="642960" y="1857240"/>
            <a:ext cx="750240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Заголовок 1" descr=""/>
          <p:cNvPicPr/>
          <p:nvPr/>
        </p:nvPicPr>
        <p:blipFill>
          <a:blip r:embed="rId1"/>
          <a:stretch/>
        </p:blipFill>
        <p:spPr>
          <a:xfrm>
            <a:off x="530280" y="396720"/>
            <a:ext cx="7864560" cy="117000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533160" y="1844280"/>
            <a:ext cx="7854840" cy="47530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spcBef>
                <a:spcPts val="9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Демоверсии, спецификации, кодификаторы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9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Формулы по физике 7-9 классы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9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Краткий справочный материал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Заголовок 1" descr=""/>
          <p:cNvPicPr/>
          <p:nvPr/>
        </p:nvPicPr>
        <p:blipFill>
          <a:blip r:embed="rId1"/>
          <a:stretch/>
        </p:blipFill>
        <p:spPr>
          <a:xfrm>
            <a:off x="493560" y="493560"/>
            <a:ext cx="7864560" cy="102420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33160" y="1844640"/>
            <a:ext cx="7854840" cy="31370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урс «ГИА»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31" name="Picture 5" descr=""/>
          <p:cNvPicPr/>
          <p:nvPr/>
        </p:nvPicPr>
        <p:blipFill>
          <a:blip r:embed="rId2"/>
          <a:srcRect l="0" t="10743" r="24232" b="23829"/>
          <a:stretch/>
        </p:blipFill>
        <p:spPr>
          <a:xfrm>
            <a:off x="168120" y="1928880"/>
            <a:ext cx="897588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Заголовок 1" descr=""/>
          <p:cNvPicPr/>
          <p:nvPr/>
        </p:nvPicPr>
        <p:blipFill>
          <a:blip r:embed="rId1"/>
          <a:stretch/>
        </p:blipFill>
        <p:spPr>
          <a:xfrm>
            <a:off x="530280" y="755640"/>
            <a:ext cx="7864560" cy="1103400"/>
          </a:xfrm>
          <a:prstGeom prst="rect">
            <a:avLst/>
          </a:prstGeom>
          <a:ln w="0">
            <a:noFill/>
          </a:ln>
        </p:spPr>
      </p:pic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533160" y="2060640"/>
            <a:ext cx="78548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34" name="Picture 5" descr=""/>
          <p:cNvPicPr/>
          <p:nvPr/>
        </p:nvPicPr>
        <p:blipFill>
          <a:blip r:embed="rId2"/>
          <a:stretch/>
        </p:blipFill>
        <p:spPr>
          <a:xfrm>
            <a:off x="971640" y="1989000"/>
            <a:ext cx="712944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Заголовок 1" descr=""/>
          <p:cNvPicPr/>
          <p:nvPr/>
        </p:nvPicPr>
        <p:blipFill>
          <a:blip r:embed="rId1"/>
          <a:stretch/>
        </p:blipFill>
        <p:spPr>
          <a:xfrm>
            <a:off x="530280" y="755640"/>
            <a:ext cx="7864560" cy="110340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533160" y="2060640"/>
            <a:ext cx="78548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37" name="Picture 2" descr=""/>
          <p:cNvPicPr/>
          <p:nvPr/>
        </p:nvPicPr>
        <p:blipFill>
          <a:blip r:embed="rId2"/>
          <a:stretch/>
        </p:blipFill>
        <p:spPr>
          <a:xfrm>
            <a:off x="900000" y="1989000"/>
            <a:ext cx="648036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Апробация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9" name="Picture 2" descr=""/>
          <p:cNvPicPr/>
          <p:nvPr/>
        </p:nvPicPr>
        <p:blipFill>
          <a:blip r:embed="rId1"/>
          <a:stretch/>
        </p:blipFill>
        <p:spPr>
          <a:xfrm>
            <a:off x="1806480" y="1935000"/>
            <a:ext cx="553104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AutoShape 4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AutoShape 6"/>
          <p:cNvSpPr/>
          <p:nvPr/>
        </p:nvSpPr>
        <p:spPr>
          <a:xfrm>
            <a:off x="460440" y="1602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3" name="Рисунок 6" descr=""/>
          <p:cNvPicPr/>
          <p:nvPr/>
        </p:nvPicPr>
        <p:blipFill>
          <a:blip r:embed="rId1"/>
          <a:stretch/>
        </p:blipFill>
        <p:spPr>
          <a:xfrm>
            <a:off x="576360" y="1052640"/>
            <a:ext cx="809928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Чем обусловлен выбор курса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одготовка к итоговой аттестации должна носить системный характер. По каждой теме необходимо дать краткий справочник - конспект (основные определения, формулы, законы и пр.), примеры с решениями, тренировочные упражнения (на базовом и повышенном уровнях) и тесты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Проблемы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- неумение выполнять операции с переводом единиц  измерения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- низкий процент верно решивших количественные и качественные задачи, а большинство вообще не приступали к решению этих задач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- проблемы оформления решений в заданиях с развернутым ответом: многословность пояснения очевидных фактов, небрежность работы с формулами, ошибки при математических расчетах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-21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озможности  </a:t>
            </a:r>
            <a:r>
              <a:rPr b="1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Google Forms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TextBox 4"/>
          <p:cNvSpPr/>
          <p:nvPr/>
        </p:nvSpPr>
        <p:spPr>
          <a:xfrm>
            <a:off x="395280" y="1143000"/>
            <a:ext cx="8280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щью данного сервиса возможно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овать анкетирование учеников,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овать тестирование учеников для контроля и проверки их знаний,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стро обработать результаты анкетирования или тестирование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4617b"/>
                </a:solidFill>
                <a:latin typeface="Calibri"/>
              </a:rPr>
              <a:t>Достоинства </a:t>
            </a:r>
            <a:r>
              <a:rPr b="1" lang="en-US" sz="4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Google Classroom</a:t>
            </a:r>
            <a:r>
              <a:rPr b="1" lang="ru-RU" sz="4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:</a:t>
            </a:r>
            <a:r>
              <a:rPr b="1" lang="en-US" sz="4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250560" y="1125360"/>
            <a:ext cx="84978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ка правильности выполнения заданий осуществляется автоматически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ктивность проверки знаний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увидеть сколько раз ученик выполнил данный тест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строе создание тестов и разного числа вариантов, автоматическая генерация заданий. Исключается списывание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изменить задания, добавить свои задания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Возможность группировать задания по темам, выкладывать информацию в любой форм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Возможность ограничить доступ к работе по времен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Недостатки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24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туп к сети Интернет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24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оставление ПК каждому ученику на уроке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24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истрация каждого ученика обязательн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533160" y="2204640"/>
            <a:ext cx="7854840" cy="277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7" name="Заголовок 1" descr=""/>
          <p:cNvPicPr/>
          <p:nvPr/>
        </p:nvPicPr>
        <p:blipFill>
          <a:blip r:embed="rId1"/>
          <a:stretch/>
        </p:blipFill>
        <p:spPr>
          <a:xfrm>
            <a:off x="438120" y="182520"/>
            <a:ext cx="7888320" cy="117000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2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6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600" spc="-1" strike="noStrike">
              <a:solidFill>
                <a:srgbClr val="4de1ea"/>
              </a:solidFill>
              <a:latin typeface="Calibri"/>
            </a:endParaRPr>
          </a:p>
        </p:txBody>
      </p:sp>
      <p:pic>
        <p:nvPicPr>
          <p:cNvPr id="219" name="Picture 5" descr=""/>
          <p:cNvPicPr/>
          <p:nvPr/>
        </p:nvPicPr>
        <p:blipFill>
          <a:blip r:embed="rId2"/>
          <a:srcRect l="11737" t="0" r="3038" b="18839"/>
          <a:stretch/>
        </p:blipFill>
        <p:spPr>
          <a:xfrm>
            <a:off x="0" y="1440000"/>
            <a:ext cx="9156600" cy="52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В самой структуре ОГЭ содержится указание на то, как можно выстроить подготовку: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уществующий кодификатор позволяет разбить материал на несколько крупных тематических блоков, выстроив повторение по содержательным (механика, электричество, оптика, атомная физика и т.д.) линиям. Такой подход будет способствовать формированию более прочных знаний и, как следствие, более уверенному поведению выпускника на экзамене вне зависимости от того, в какой форме экзамен будет проводиться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Заголовок 1" descr=""/>
          <p:cNvPicPr/>
          <p:nvPr/>
        </p:nvPicPr>
        <p:blipFill>
          <a:blip r:embed="rId1"/>
          <a:stretch/>
        </p:blipFill>
        <p:spPr>
          <a:xfrm>
            <a:off x="530280" y="396720"/>
            <a:ext cx="7864560" cy="117000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533160" y="1844280"/>
            <a:ext cx="7854840" cy="47530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водное заняти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Механические явления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Тепловые явления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Электромагнитные явления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Физика атома и атомного ядра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5T02:54:54Z</dcterms:created>
  <dc:creator>Лиля</dc:creator>
  <dc:description/>
  <dc:language>en-US</dc:language>
  <cp:lastModifiedBy>User</cp:lastModifiedBy>
  <dcterms:modified xsi:type="dcterms:W3CDTF">2021-11-23T19:29:51Z</dcterms:modified>
  <cp:revision>50</cp:revision>
  <dc:subject/>
  <dc:title>Использование сервиса Google Forms для организации контроля знаний обучающихся</dc:title>
</cp:coreProperties>
</file>