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137-3D9A-4EEB-B9E1-CBE3CD6D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0F8-2788-441B-9711-7621CF86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FB7-5E18-4D45-A0AF-8F11DD69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267-2290-4E97-A914-765CB075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9D88-ABB3-4005-94B1-184A62D3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ACFD-0C6C-4ECC-98E6-D0FB1A46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48B-B229-4428-A3FF-D9A1A448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6AA0-7F93-4AD2-9F9B-BB79CA7C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E56F-0631-4447-A3DF-29546B95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DD7-AE5D-4001-A41C-AB8F1913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F10F-D87F-40F5-A30E-F6A0C9E9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E5C-6B17-4A79-A144-09926E01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E41B-881B-4FFE-95A4-3F88FD58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B3DF-B326-46DE-90BC-4EDE260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C9A6-D19E-43AC-BD42-A5D029BE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473A-9BD1-4409-92D2-CB59BAC9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1285-8E2B-41F1-B442-D8B06E2E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0949-5D47-4DA3-8ECB-8034D8FD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3F3CA-74F5-4A3D-AFE1-000CBDEA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D322-CF4C-4073-8440-8513BA66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1B2C-2E31-4BCB-ABC6-3A48E07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69F58-D0AD-4110-9E4B-68DC0CA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A24-9423-4E18-A584-A7652AD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059D6-8E01-4CA5-9628-26B4C092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8069-4773-4A8C-AC53-D346CA4D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573E4-AAEC-44EC-A31A-C712D92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8BDB-31FA-4FB7-BD95-FBF7D901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5B521-3392-4318-B614-9C0695B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3EFD2-E9A1-49F0-A931-16F7D264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3FAA-9734-4AE0-9C8A-B48F3869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BD38D-B376-426F-AAFF-56623617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6F1CB-B974-4CD0-BBC4-3989470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6F4E-EB72-4A7C-A298-ABB85E47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4F5-86B9-4990-AF16-651C1FC4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8AE45-4E01-4FDF-863B-15040D06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FD36-0BA0-4C73-A321-33BD1310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A6511-EE45-419D-8B05-50F0E188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5A4B9-06B6-4B70-9786-C27A181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D2CB6-47A7-4974-880C-B3F9C36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C86C-34C7-4EEB-AE24-C01303F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A2D2-533E-4610-A66F-43704F9B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A2A33-4695-4327-BAD1-2046AB22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4607-48BD-4725-9AF4-8D4F835C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493-7161-40D4-99A0-EC8D54D7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2C8-8073-4A21-82A0-C4EE21E2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E1E-3F7C-46F2-A30D-9088C289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E09-35C4-466C-8106-EBBFF5E6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161-AAEC-43A5-9B6C-A184B59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021D-DEF8-4811-B0BF-19975B0850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8EF6-D3D4-4C32-8F31-67223B10FF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058-66BB-497D-B0E6-F9AE2A6C59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CBAE-3130-4FEB-8C39-107AF3C18FF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291960" y="974880"/>
            <a:ext cx="8242560" cy="2511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400536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читель физики МБОУ «СОШ № 2 с УИОП» г.Лысьв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Фаткуллина Гульнара Аухатов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2"/>
          <a:srcRect l="3295" t="3907" r="22035" b="18947"/>
          <a:stretch/>
        </p:blipFill>
        <p:spPr>
          <a:xfrm>
            <a:off x="642960" y="1857240"/>
            <a:ext cx="7502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Демоверсии, спецификации, кодификатор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Формулы по физике 7-9 класс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Краткий справочный материа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7864560" cy="1024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3160" y="1844640"/>
            <a:ext cx="7854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«ГИ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2"/>
          <a:srcRect l="0" t="10743" r="24232" b="23829"/>
          <a:stretch/>
        </p:blipFill>
        <p:spPr>
          <a:xfrm>
            <a:off x="168120" y="1928880"/>
            <a:ext cx="8975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7129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530280" y="755640"/>
            <a:ext cx="7864560" cy="1103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2060640"/>
            <a:ext cx="7854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6480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Апробац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1806480" y="1935000"/>
            <a:ext cx="55310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Рисунок 6" descr=""/>
          <p:cNvPicPr/>
          <p:nvPr/>
        </p:nvPicPr>
        <p:blipFill>
          <a:blip r:embed="rId1"/>
          <a:stretch/>
        </p:blipFill>
        <p:spPr>
          <a:xfrm>
            <a:off x="576360" y="1052640"/>
            <a:ext cx="8099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ем обусловлен выбор курс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готовка к итоговой аттестации должна носить системный характер. По каждой теме необходимо дать краткий справочник - конспект (основные определения, формулы, законы и пр.), примеры с решениями, тренировочные упражнения (на базовом и повышенном уровнях) и тес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блем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еумение выполнять операции с переводом единиц  измер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низкий процент верно решивших количественные и качественные задачи, а большинство вообще не приступали к решению этих задач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роблемы оформления решений в заданиях с развернутым ответом: многословность пояснения очевидных фактов, небрежность работы с формулами, ошибки при математических расчет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1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можности 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Google Form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395280" y="1143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ю данного сервиса возмож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анкетирование учеников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тестирование учеников для контроля и проверки их знаний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обработать результаты анкетирования или тестировани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остоинства 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Google Classroom</a:t>
            </a:r>
            <a:r>
              <a:rPr b="1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</a:t>
            </a:r>
            <a:r>
              <a:rPr b="1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1125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равильности выполнения заданий осуществляется автоматическ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 проверки знаний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идеть сколько раз ученик выполнил данный тес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е создание тестов и разного числа вариантов, автоматическая генерация заданий. Исключается списыва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зменить задания, добавить свои задан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группировать задания по темам, выкладывать информацию в любой форм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зможность ограничить доступ к работе по време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едостатк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 к сети Интер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ПК каждому ученику на урок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каждого ученика обязатель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33160" y="2204640"/>
            <a:ext cx="7854840" cy="27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438120" y="182520"/>
            <a:ext cx="7888320" cy="1170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de1ea"/>
              </a:solidFill>
              <a:latin typeface="Calibri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2"/>
          <a:srcRect l="11737" t="0" r="3038" b="18839"/>
          <a:stretch/>
        </p:blipFill>
        <p:spPr>
          <a:xfrm>
            <a:off x="0" y="1440000"/>
            <a:ext cx="9156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самой структуре ОГЭ содержится указание на то, как можно выстроить подготовку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ествующий кодификатор позволяет разбить материал на несколько крупных тематических блоков, выстроив повторение по содержательным (механика, электричество, оптика, атомная физика и т.д.) линиям. Такой подход будет способствовать формированию более прочных знаний и, как следствие, более уверенному поведению выпускника на экзамене вне зависимости от того, в какой форме экзамен будет проводить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530280" y="396720"/>
            <a:ext cx="7864560" cy="117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533160" y="1844280"/>
            <a:ext cx="7854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водное занят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еханически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еплов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лектромагнитные яв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зика атома и атомного яд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5T02:54:54Z</dcterms:created>
  <dc:creator>Лиля</dc:creator>
  <dc:description/>
  <dc:language>en-US</dc:language>
  <cp:lastModifiedBy>User</cp:lastModifiedBy>
  <dcterms:modified xsi:type="dcterms:W3CDTF">2021-11-23T19:29:51Z</dcterms:modified>
  <cp:revision>50</cp:revision>
  <dc:subject/>
  <dc:title>Использование сервиса Google Forms для организации контроля знаний обучающихся</dc:title>
</cp:coreProperties>
</file>