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D540-735F-4F35-AF04-43FC0C1F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D0E8-1FF3-4635-AC59-6396959F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E622-B93E-495B-98E6-7D676243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9C9E-91E3-4834-82CA-0892007A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577F-57CE-4469-9BF3-867C0C9A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085D-3213-4360-815A-1EEC3BAF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C132-3486-4AA5-91AF-B53C2104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7659-C068-44DB-BCC8-1EFD9E31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40D9-429E-43AF-A350-A558BAF9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D644-5894-4D77-B213-D6FBB3D4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EDFC-2A31-4841-8528-D6153389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044E-3FDC-4CCA-A47C-DD7EB2D6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5EBD-1B4B-40B8-949F-3BF5263B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63C6-BDD7-4718-BAFD-2BCE9656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A3A1-BF73-430C-8464-E6E5E145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5DDD-5E26-40B3-A575-F5726E38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827C-7928-4CDA-B41C-68B8794C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A9A55-C06A-449D-A11A-7FDFC50D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FE5D5-AB11-49DB-95D5-4E7945FA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820BE-370F-4916-86A9-D9A0CAA1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F3CEC-E8D2-44EE-92C7-F96907D7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3470D-B348-4FFB-8F7C-6BC230DB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CBD-934F-42B4-ADE0-EEE55F36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016B1-842C-4743-B94B-B17BF819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59137-1BB5-4C83-A08B-A4C2E1A4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06121-6EC8-4A87-A75F-8AF6FDB4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575C7-3D34-48AA-8BD8-E0C6D5CD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63A9B-996B-4108-964C-B9B14635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B4546-A7F9-4492-AA85-9A4D21B5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35BC5-66AC-4679-BB29-D7976E6C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74F13-5F08-4B2C-B28D-DCAEB8AF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C1B35-28B7-45F0-95E4-D2872711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9BCE0-20ED-47B3-82F1-2672013D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74D-C6CB-478B-801C-8FDDDCD3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B76BF-8BE5-4ECF-8F75-C25EBE06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3F1BC-1858-4D00-990E-37AB58FD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C4A80-CFFF-4261-A7FA-1F28077A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4621C-250A-4118-85C6-C99D98DC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66D85-631B-468C-99EA-146661EC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DB39F-000C-4A08-BA0D-4CD4FE23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19C3A-F564-4F7B-8DF1-031F71E9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6E8FA-BF4C-4884-8112-E437F967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08345-0C8E-48EC-8457-513561DC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B4F2-10CC-442E-BA4C-50080488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26F5-0767-4574-ABB3-D75BEA25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E24-2F92-4699-AEF1-01201C04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5617-66A2-4572-9ACB-ED7DE226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DA5-8F23-4B26-B60D-E203F961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EAB1-399E-4043-B7FE-3648F0E485F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EDF8-6193-479D-9BAB-67077AB896D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420C-7BD8-4A95-AC56-F383D1887A0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3166-A5F0-4B87-8A60-1BC36553CFC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291960" y="974880"/>
            <a:ext cx="8242560" cy="2511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4005360"/>
            <a:ext cx="8642160" cy="112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читель физики МБОУ «СОШ № 2 с УИОП» г.Лысь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Фаткуллина Гульнара Аухатов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rcRect l="3295" t="3907" r="22035" b="18947"/>
          <a:stretch/>
        </p:blipFill>
        <p:spPr>
          <a:xfrm>
            <a:off x="642960" y="1857240"/>
            <a:ext cx="7502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емоверсии, спецификации, кодификатор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Формулы по физике 7-9 класс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раткий справочный материа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7864560" cy="10242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33160" y="1844640"/>
            <a:ext cx="7854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 «ГИ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2"/>
          <a:srcRect l="0" t="10743" r="24232" b="23829"/>
          <a:stretch/>
        </p:blipFill>
        <p:spPr>
          <a:xfrm>
            <a:off x="168120" y="1928880"/>
            <a:ext cx="8975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7129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6480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пробац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806480" y="1935000"/>
            <a:ext cx="55310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Рисунок 6" descr=""/>
          <p:cNvPicPr/>
          <p:nvPr/>
        </p:nvPicPr>
        <p:blipFill>
          <a:blip r:embed="rId1"/>
          <a:stretch/>
        </p:blipFill>
        <p:spPr>
          <a:xfrm>
            <a:off x="576360" y="1052640"/>
            <a:ext cx="8099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м обусловлен выбор курс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ка к итоговой аттестации должна носить системный характер. По каждой теме необходимо дать краткий справочник - конспект (основные определения, формулы, законы и пр.), примеры с решениями, тренировочные упражнения (на базовом и повышенном уровнях) и тес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бл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еумение выполнять операции с переводом единиц  измер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изкий процент верно решивших количественные и качественные задачи, а большинство вообще не приступали к решению этих задач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проблемы оформления решений в заданиях с развернутым ответом: многословность пояснения очевидных фактов, небрежность работы с формулами, ошибки при математических расчет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ости  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gle For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395280" y="1143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ю данного сервиса возмож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анкетирование учеников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тестирование учеников для контроля и проверки их знаний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обработать результаты анкетирования или тестирова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Достоинства 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oogle Classroom</a:t>
            </a:r>
            <a:r>
              <a:rPr b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112536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правильности выполнения заданий осуществляется автоматическ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 проверки знаний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видеть сколько раз ученик выполнил данный тес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е создание тестов и разного числа вариантов, автоматическая генерация заданий. Исключается списыва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зменить задания, добавить свои зад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группировать задания по темам, выкладывать информацию в любой форм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ограничить доступ к работе по време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достатк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 к сети Интерн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К каждому ученику на урок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каждого ученика обязатель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160" y="2204640"/>
            <a:ext cx="7854840" cy="27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38120" y="182520"/>
            <a:ext cx="7888320" cy="1170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2"/>
          <a:srcRect l="11737" t="0" r="3038" b="18839"/>
          <a:stretch/>
        </p:blipFill>
        <p:spPr>
          <a:xfrm>
            <a:off x="0" y="1440000"/>
            <a:ext cx="915660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самой структуре ОГЭ содержится указание на то, как можно выстроить подготовку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ществующий кодификатор позволяет разбить материал на несколько крупных тематических блоков, выстроив повторение по содержательным (механика, электричество, оптика, атомная физика и т.д.) линиям. Такой подход будет способствовать формированию более прочных знаний и, как следствие, более уверенному поведению выпускника на экзамене вне зависимости от того, в какой форме экзамен будет провод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водное занят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ханически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плов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лектромагнитн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зика атома и атомного яд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2:54:54Z</dcterms:created>
  <dc:creator>Лиля</dc:creator>
  <dc:description/>
  <dc:language>en-US</dc:language>
  <cp:lastModifiedBy>User</cp:lastModifiedBy>
  <dcterms:modified xsi:type="dcterms:W3CDTF">2021-11-23T19:29:51Z</dcterms:modified>
  <cp:revision>50</cp:revision>
  <dc:subject/>
  <dc:title>Использование сервиса Google Forms для организации контроля знаний обучающихся</dc:title>
</cp:coreProperties>
</file>