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C9D4-B13E-4A13-BF12-BDEA147996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AF7D-5652-43A0-A68E-94C8195ADC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C8D9-0C0E-441D-954E-CE31AC2C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2EA2-8F4D-4A83-9B28-F54867AB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5805-8C57-4AE2-B087-BEBC217DF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245E-C3FE-41EA-9620-3FE2AFF7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A6F6-9D9F-4271-9607-AA4A4C3D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BB0E-168E-4248-8817-7B66048E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675D-0B75-4C5C-999E-22F0F15E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8DAE-554F-4592-8D16-22C04882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3E86-641A-4324-9A18-B3D462BB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5FE1-4CFB-4558-B303-2B2F84DE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E855-E53D-4B70-BDA3-C73B94D6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CEF6-93B6-4328-A603-245AC645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4FA6-D649-4ADA-8B91-0319489498F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ublication.pravo.gov.ru/Document/View/0001202107050027?index=2&amp;rangeSize=1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08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26 августа 2021</a:t>
            </a:r>
            <a:br>
              <a:rPr sz="24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егиональный проект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«Образовательный лифт: ШНОР»-2021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Предметная группа : учителя английского языка общеобразовательных учреждений Пермского края</a:t>
            </a: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Промежуточный вебинар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Моя работа в проекте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«Образовательный лифт»: первые итоги»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уководитель группы: Тихомирова О.А., снс  отдела научно-методического сопровождения общего образования 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ГАУ ДПО ИРО ПК 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e-mail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: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oat_poipkro@mail.r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Подход к изучению иностранных языков в начальной школе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К окончанию начальной школы учащиеся должны научиться строить диалог на 4-5 фраз со стороны каждого собеседника, составлять монолог на 4-5 реплик, воспринимать и понимать на слух до минуты адаптированного или аутентичного текста и писать тексты объёмом до 80 слов в рамках тематического блока «Мир моего «Я». Мир моих увлечений. Мир вокруг меня. Родная страна и страна изучаемого язы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В целом языкового уровня должно хватать для «элементарного бытового общения» и знакомства представителей других стран с «культурой своего наро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D:\РабочийСтол\Screenshot_2.png"/>
          <p:cNvPicPr/>
          <p:nvPr/>
        </p:nvPicPr>
        <p:blipFill>
          <a:blip r:embed="rId1"/>
          <a:stretch/>
        </p:blipFill>
        <p:spPr>
          <a:xfrm>
            <a:off x="395280" y="260280"/>
            <a:ext cx="813744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Новые примерные рабочие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D:\РабочийСтол\Screenshot_1.png"/>
          <p:cNvPicPr/>
          <p:nvPr/>
        </p:nvPicPr>
        <p:blipFill>
          <a:blip r:embed="rId1"/>
          <a:stretch/>
        </p:blipFill>
        <p:spPr>
          <a:xfrm>
            <a:off x="684360" y="1557360"/>
            <a:ext cx="3527280" cy="4896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D:\РабочийСтол\Screenshot_2.png"/>
          <p:cNvPicPr/>
          <p:nvPr/>
        </p:nvPicPr>
        <p:blipFill>
          <a:blip r:embed="rId2"/>
          <a:stretch/>
        </p:blipFill>
        <p:spPr>
          <a:xfrm>
            <a:off x="4716360" y="1600200"/>
            <a:ext cx="33847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Содержание  примерной рабочей программы по английскому языку в основной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D:\РабочийСтол\Screenshot_1.png"/>
          <p:cNvPicPr/>
          <p:nvPr/>
        </p:nvPicPr>
        <p:blipFill>
          <a:blip r:embed="rId1"/>
          <a:stretch/>
        </p:blipFill>
        <p:spPr>
          <a:xfrm>
            <a:off x="826920" y="1052640"/>
            <a:ext cx="6624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План мероприятий проекта ОЛ- ШН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1268280"/>
          <a:ext cx="8229600" cy="5329440"/>
        </p:xfrm>
        <a:graphic>
          <a:graphicData uri="http://schemas.openxmlformats.org/drawingml/2006/table">
            <a:tbl>
              <a:tblPr/>
              <a:tblGrid>
                <a:gridCol w="3251160"/>
                <a:gridCol w="2951280"/>
                <a:gridCol w="2027160"/>
              </a:tblGrid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Меро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овочный семинар/ вебин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ы 1,2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.03.2021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№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ромежуточный семинар/вебина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Группа ОЛ-21: 11.00-12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6.08.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ый семинар/вебин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3.00-1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ая конференция по проект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ябрь 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мерный перечень проектов в рамках проекта «Образовательный лифт: ШНОР» по итогам работы в проекте в 2021 г. (Для представления на НПК в ноябре 2021 г.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. Школьная модель оценки образовательных достижений  учащихся  в условиях требований ФГ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2. Взаимосвязанное обучение лексической и грамматической сторонам устной речи на уроках английского язы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3. Игровые технологии при обучении лексике на уроках английского язы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4.Проектирование современного урока англий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5. Средства достижения образовательных результатов в УМК «  ………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6. Дифференцированный подход в обучении. Эффективные приемы из  практики раб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7. Разработка и применение на практике тренировочных учебных материалов для формирования  языковых навыков и речевых умений в области чтения, аудирования, говорения или письма.  (На выбор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8. Применение интерактивных средств обучения (интерактивной доски, электронных образовательных ресурсов и т.д.) на уроках англий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9. Электронное обучение и дистанционные образовательные технологии  в образовательном процессе (Из опыта рабо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0.Реализация принципа преемственности в обучении английскому языку учащихся 5-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мерный перечень проектов в рамках проекта «Образовательный лифт: ШНОР» по итогам работы в проекте в 2021 г. (Для представления на НПК в ноябре 2021 г.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1.Формирование навыков читательской грамотности в образовательном процессе по английскому язы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2. Методический инструментарий УМК «…….» в достижении планируемых результатов обучения английскому язы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3. Использование средств визуализации на уроках английского язы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4.Организация самостоятельной работы обучающихся в основной и старшей шко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5.Приемы активизации речемыслительной деятельности на уроках английского язы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6.Новые формы внеурочной иноязычной деятельности, практикуемые в  МАОУ/МБОУ/МОУ «……….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7.Самоанализ педагогической деятельности в 2020-2021 учебном году: достижения и неуда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8. Практика обучения  английскому  языку в условиях, когда учащиеся не разделены на групп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9.Формирование навыков критического мышления на уроках англий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20. Специфика работы с учащимися, имеющими низкую мотивацию к изучению английского язы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План вебинара (рабочий язык: русский, англий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74c8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1. Основные результаты  работы участников проекта  «ОЛ-21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(количественные и качественные показатели) на текущий пери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2.Ключевые направления развития иноязычного образования в Пермском крае в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2021-2022 учебном году</a:t>
            </a: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.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Основные задачи и пути реализ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i="1" lang="ru-RU" sz="1800" spc="-1" strike="noStrike">
                <a:solidFill>
                  <a:srgbClr val="374c81"/>
                </a:solidFill>
                <a:latin typeface="Arial Narrow"/>
              </a:rPr>
              <a:t>Тихомирова О.А,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СНС  отдела НМС ОО ЦНППМ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3. «Что нужно знать о задании 40 ЕГЭ (Эссе) по английскому языку»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  </a:t>
            </a:r>
            <a:r>
              <a:rPr b="1" i="1" lang="ru-RU" sz="1800" spc="-1" strike="noStrike">
                <a:solidFill>
                  <a:srgbClr val="374c81"/>
                </a:solidFill>
                <a:latin typeface="Arial Narrow"/>
              </a:rPr>
              <a:t>Корелина Н. Н.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, учитель английского языка высшей категории МА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«СОШ № 50 с углубленным изучением английского языка, руководитель методического объединения учителей английского языка г. Перми ,эксперт ЕГЭ, член краевой  конфликтной коми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4. Лайф-хаки для педагогов от участника проекта «ОЛ-ШНОР-21» </a:t>
            </a:r>
            <a:r>
              <a:rPr b="1" i="1" lang="ru-RU" sz="1800" spc="-1" strike="noStrike">
                <a:solidFill>
                  <a:srgbClr val="374c81"/>
                </a:solidFill>
                <a:latin typeface="Arial Narrow"/>
              </a:rPr>
              <a:t>Рихсиевой Л.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Данные о выполнении зад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3484440"/>
        </p:xfrm>
        <a:graphic>
          <a:graphicData uri="http://schemas.openxmlformats.org/drawingml/2006/table">
            <a:tbl>
              <a:tblPr/>
              <a:tblGrid>
                <a:gridCol w="1738440"/>
                <a:gridCol w="2232000"/>
                <a:gridCol w="2201760"/>
                <a:gridCol w="2057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ок вы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представленных раб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от общего числа участ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42 че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0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9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0.0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6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0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Выбор темы итогового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Не представили работу №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24000" y="907920"/>
          <a:ext cx="8137440" cy="5780160"/>
        </p:xfrm>
        <a:graphic>
          <a:graphicData uri="http://schemas.openxmlformats.org/drawingml/2006/table">
            <a:tbl>
              <a:tblPr/>
              <a:tblGrid>
                <a:gridCol w="431640"/>
                <a:gridCol w="2736720"/>
                <a:gridCol w="496908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О педаго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зовательное учре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Александрова Татьяна Никола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«СОШ №3» г. Горнозавод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Джумалиева Евгения Серг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СОШ №16 С УИОП» г. Лысь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Еговцева Юлия Пав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Мельничная СОШ» Частин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Зорина Екатерина Анатоль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СОШ №1 г. Кунгу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лых Анастасия Пав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СОШ №1 г. Кунгу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Вахитова Роза Васим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Карьевская СОШ Ордин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Некрасова Людмила Никола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« СОШ №60» г. Перм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Немтинова Наталья Михай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Екатерини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Нурисламов Артур Мударисов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КОУ « Богородская СОШ» Бикбаевская шко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Попова Елена Михай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 «Моргуновская ООШ- ДС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Хардина Ирина Серг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СОШ №16 с УИОП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Черемных Ольга Серг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ДООШ №1 ( КШ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Штернберг Арина Ильин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«Савинская средняя школа» Перм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Основные  выводы по результатам</a:t>
            </a:r>
            <a:br>
              <a:rPr sz="2800"/>
            </a:b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 выполнения двух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Выявлена  острая необходимость  поддержки по совершенствованию продуктивной письменной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2. Необходимо методическое сопровождение ( курсовая подготовка, практикумы) по  освоению технологии выполнения письменных заданий в формате итоговой аттес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3. Провести практикум по оцениванию письменных работ учащихся на критериальной основе в формате ОГЭ, ЕГ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Обновлённый ФГОС  начального и основного общего образования: анализируем изменения, планируем реализацию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ФГОС О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D:\РабочийСтол\Screenshot_3.png"/>
          <p:cNvPicPr/>
          <p:nvPr/>
        </p:nvPicPr>
        <p:blipFill>
          <a:blip r:embed="rId1"/>
          <a:stretch/>
        </p:blipFill>
        <p:spPr>
          <a:xfrm>
            <a:off x="539640" y="2174760"/>
            <a:ext cx="3468960" cy="4062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ФГОС Н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D:\РабочийСтол\Screenshot_1.png"/>
          <p:cNvPicPr/>
          <p:nvPr/>
        </p:nvPicPr>
        <p:blipFill>
          <a:blip r:embed="rId2"/>
          <a:stretch/>
        </p:blipFill>
        <p:spPr>
          <a:xfrm>
            <a:off x="5003640" y="2174760"/>
            <a:ext cx="356256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Что изменило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74c81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Максимально конкретно прописываются требования к школьной программе, указывающие, что именно школьник должен изучить в рамках предмета, знать и уметь по итогам прохождения кур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74c81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Сохраняется акцент на улучшение метапредметных результатов обучения, то есть на формирование у детей навыков, необходимых для самостоятельного изучения предмета и оперирования полученной информаци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74c81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регламентируется личностное развитие учащихся. Детей ждёт гражданское, патриотическое, духовно-нравственное, эстетическое, физическое, трудовое и экологическое воспит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Новые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ФГОС</a:t>
            </a: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 для основного общего образования содержат значительно больше патриотических установок, особенно в контексте формировании у детей представлений о значимом международном положении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a424d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a424d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Что изменилось?</a:t>
            </a:r>
            <a:r>
              <a:rPr b="1" lang="ru-RU" sz="4400" spc="-1" strike="noStrike">
                <a:solidFill>
                  <a:srgbClr val="3a424d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Требования к изучению основного иностранного языка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Изучая иностранный язык, дети в повседневной практике для закрепления полученных навыков должны знакомить представителей других народов с культурой и традициями народов России</a:t>
            </a:r>
            <a:r>
              <a:rPr b="0" lang="ru-RU" sz="1800" spc="-1" strike="noStrike">
                <a:solidFill>
                  <a:srgbClr val="3a424d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В действующих ФГОС результатом базового обучения иностранному языку должно стать достижение порогового уровня владения, позволяющего выпускникам общаться в устной и письменной формах как с носителями изучаемого иностранного языка, так и с представителями других стран, использующими данный язык как средство общения</a:t>
            </a:r>
            <a:r>
              <a:rPr b="0" lang="ru-RU" sz="1800" spc="-1" strike="noStrike">
                <a:solidFill>
                  <a:srgbClr val="3a424d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По новому ФГОС школьники основной школы должны вести диалог объёмом до 8 реплик со стороны каждого собеседника, уметь составить монолог на 10-12 фраз, воспринимать и понимать на слух не более двух минут аутентичного текста, писать сообщение на 100-120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Изучение второго иностранного языка – не обязательно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9640" y="105228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Преподавание ещё одного иностранного языка будет осуществляться при наличии такой возможности в конкретной школе и по заявлению родителей уче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В рамках программы школьники должны научиться изъясняться на втором иностранном языке на уровне, «превышающем элементарный», то есть вести диалог объёмом до 5 реплик со стороны каждого собеседника и составлять монологи в 7-9 фраз, воспринимать и понимать на слух не более 1,5 минут несложного аутентичного текста, уметь писать сообщения до 90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Tihomirova-OA</cp:lastModifiedBy>
  <dcterms:modified xsi:type="dcterms:W3CDTF">2021-09-07T11:34:31Z</dcterms:modified>
  <cp:revision>972</cp:revision>
  <dc:subject/>
  <dc:title>Diapositiva 1</dc:title>
</cp:coreProperties>
</file>