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6B8-848A-4421-8D18-2A3C1C34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22A7-AFBF-41A5-801B-9F22762D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3105-B99A-4296-B834-383DFDB8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3AFF-EB68-44B0-94CB-ACA88FFA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EB67-BF0A-4FCF-B2EE-97E41F27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3E31-F7F9-43F1-B351-EF795995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3C1-08F9-44C3-951D-7B721C33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6565-B237-4F53-8154-A3B79AC3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8A4-A884-4B3D-AEEE-76E7D0A0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C7C-D47D-4EDE-A6D9-7A7CED76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4E06-7C36-48E6-8360-633DDE27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5F3-ED1B-4515-9ECE-D64BE307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6EA9-F154-4727-9086-2D2FD0CF3C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961920" y="1046160"/>
            <a:ext cx="10267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АЦИИ УЧЕБНОЙ ДЕЯТЕЛЬНОСТИ УЧАЩИХ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9840" y="594360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Валентиновна Худя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МАОУ «СОШ №36» г. Пер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395280" y="96840"/>
            <a:ext cx="1171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Библиотеки позволяют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личностно-ориентированный характер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индивидуальную траекторию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мотивацию через наглядное представление учебн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903320" y="7920"/>
            <a:ext cx="67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366840" y="2233440"/>
            <a:ext cx="4089240" cy="2716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5605560" y="2233440"/>
            <a:ext cx="4900680" cy="279720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3"/>
          <p:cNvCxnSpPr/>
          <p:nvPr/>
        </p:nvCxnSpPr>
        <p:spPr>
          <a:xfrm flipH="1">
            <a:off x="2285280" y="667800"/>
            <a:ext cx="1521720" cy="139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Прямая со стрелкой 5"/>
          <p:cNvCxnSpPr/>
          <p:nvPr/>
        </p:nvCxnSpPr>
        <p:spPr>
          <a:xfrm>
            <a:off x="5406840" y="668160"/>
            <a:ext cx="2005560" cy="148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TextBox 6"/>
          <p:cNvSpPr/>
          <p:nvPr/>
        </p:nvSpPr>
        <p:spPr>
          <a:xfrm>
            <a:off x="420840" y="4983120"/>
            <a:ext cx="39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124680" y="5067360"/>
            <a:ext cx="398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-1781280" y="7128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249120" y="752400"/>
            <a:ext cx="6743880" cy="2289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697360" y="293364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омашних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Диаграмма 7"/>
          <p:cNvGraphicFramePr/>
          <p:nvPr/>
        </p:nvGraphicFramePr>
        <p:xfrm>
          <a:off x="4471920" y="3530520"/>
          <a:ext cx="5197680" cy="287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Диаграмма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1920" y="3530520"/>
                    <a:ext cx="519768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sun9-38.userapi.com/ni3vLrQb86qyyvnJccjtueHPlVmXY0ByjeX6uQ/lGrPYlYOlX4.jpg"/>
          <p:cNvPicPr/>
          <p:nvPr/>
        </p:nvPicPr>
        <p:blipFill>
          <a:blip r:embed="rId2"/>
          <a:stretch/>
        </p:blipFill>
        <p:spPr>
          <a:xfrm>
            <a:off x="771480" y="1521000"/>
            <a:ext cx="2476440" cy="4809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3"/>
          <a:stretch/>
        </p:blipFill>
        <p:spPr>
          <a:xfrm>
            <a:off x="3695760" y="2163600"/>
            <a:ext cx="7729560" cy="4167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362400" y="54000"/>
            <a:ext cx="844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ление домашнего задания в личном кабинете уче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V="1">
            <a:off x="7948440" y="4184280"/>
            <a:ext cx="1082160" cy="1003680"/>
          </a:xfrm>
          <a:prstGeom prst="straightConnector1">
            <a:avLst/>
          </a:prstGeom>
          <a:ln w="19080">
            <a:solidFill>
              <a:srgbClr val="ed7d3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176040" y="958680"/>
            <a:ext cx="7439040" cy="5745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3478320" y="223920"/>
            <a:ext cx="844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ценария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55600" y="166680"/>
            <a:ext cx="126158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атериалов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организации работы учащихс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обучение наглядным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мотивацию и качеств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17:27:11Z</dcterms:created>
  <dc:creator>худяковы</dc:creator>
  <dc:description/>
  <dc:language>en-US</dc:language>
  <cp:lastModifiedBy>Win</cp:lastModifiedBy>
  <dcterms:modified xsi:type="dcterms:W3CDTF">2020-11-17T03:14:56Z</dcterms:modified>
  <cp:revision>11</cp:revision>
  <dc:subject/>
  <dc:title>Презентация PowerPoint</dc:title>
</cp:coreProperties>
</file>