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CAE8-60B7-4ACF-A1D3-D51660D9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C2A1-4DD2-4F76-B7EE-D35270D7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E4F9-EE34-4C4D-88A6-C41831F6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BD14-DD7E-4A99-9CA6-05BA8327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2B30-B56B-406B-8E61-27B376CA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7BE5-CD17-4A51-BC72-77D87AF9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0F94-0E04-41A8-829A-4B25D5A7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B083-1D92-4E0E-B708-A12424EA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1F23-82B8-4FBD-9F71-A69F1307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A762-1BFD-4A93-B234-6394173E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D04B-7198-44E4-8B8A-96F782F6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18C3-5B3C-4BDE-A175-D30BBAA8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5C99-E92C-4695-88CE-A3CC1496F3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961920" y="1046160"/>
            <a:ext cx="10267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ОВ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ЭПОС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РГАНИЗАЦИИ УЧЕБНОЙ ДЕЯТЕЛЬНОСТИ УЧАЩИХС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69840" y="5943600"/>
            <a:ext cx="55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 Валентиновна Худяк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форматики МАОУ «СОШ №36» г. Перм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395280" y="96840"/>
            <a:ext cx="117172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Библиотеки позволяют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личностно-ориентированный характер обучени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индивидуальную траекторию обучени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сить мотивацию через наглядное представление учебного матери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1903320" y="7920"/>
            <a:ext cx="6743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учебн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2"/>
          <a:stretch/>
        </p:blipFill>
        <p:spPr>
          <a:xfrm>
            <a:off x="366840" y="2233440"/>
            <a:ext cx="4089240" cy="2716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"/>
          <p:cNvPicPr/>
          <p:nvPr/>
        </p:nvPicPr>
        <p:blipFill>
          <a:blip r:embed="rId3"/>
          <a:stretch/>
        </p:blipFill>
        <p:spPr>
          <a:xfrm>
            <a:off x="5605560" y="2233440"/>
            <a:ext cx="4900680" cy="2797200"/>
          </a:xfrm>
          <a:prstGeom prst="rect">
            <a:avLst/>
          </a:prstGeom>
          <a:ln w="0">
            <a:noFill/>
          </a:ln>
        </p:spPr>
      </p:pic>
      <p:cxnSp>
        <p:nvCxnSpPr>
          <p:cNvPr id="50" name="Прямая со стрелкой 3"/>
          <p:cNvCxnSpPr/>
          <p:nvPr/>
        </p:nvCxnSpPr>
        <p:spPr>
          <a:xfrm flipH="1">
            <a:off x="2285280" y="667800"/>
            <a:ext cx="1521720" cy="1399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Прямая со стрелкой 5"/>
          <p:cNvCxnSpPr/>
          <p:nvPr/>
        </p:nvCxnSpPr>
        <p:spPr>
          <a:xfrm>
            <a:off x="5406840" y="668160"/>
            <a:ext cx="2005560" cy="1486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TextBox 6"/>
          <p:cNvSpPr/>
          <p:nvPr/>
        </p:nvSpPr>
        <p:spPr>
          <a:xfrm>
            <a:off x="420840" y="4983120"/>
            <a:ext cx="39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6124680" y="5067360"/>
            <a:ext cx="398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е и практические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-1781280" y="71280"/>
            <a:ext cx="67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зн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2"/>
          <a:stretch/>
        </p:blipFill>
        <p:spPr>
          <a:xfrm>
            <a:off x="249120" y="752400"/>
            <a:ext cx="6743880" cy="228924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5697360" y="2933640"/>
            <a:ext cx="67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домашних зада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Диаграмма 7"/>
          <p:cNvGraphicFramePr/>
          <p:nvPr/>
        </p:nvGraphicFramePr>
        <p:xfrm>
          <a:off x="4471920" y="3530520"/>
          <a:ext cx="5197680" cy="2876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Диаграмма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1920" y="3530520"/>
                    <a:ext cx="5197680" cy="28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s://sun9-38.userapi.com/ni3vLrQb86qyyvnJccjtueHPlVmXY0ByjeX6uQ/lGrPYlYOlX4.jpg"/>
          <p:cNvPicPr/>
          <p:nvPr/>
        </p:nvPicPr>
        <p:blipFill>
          <a:blip r:embed="rId2"/>
          <a:stretch/>
        </p:blipFill>
        <p:spPr>
          <a:xfrm>
            <a:off x="771480" y="1521000"/>
            <a:ext cx="2476440" cy="48099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" descr=""/>
          <p:cNvPicPr/>
          <p:nvPr/>
        </p:nvPicPr>
        <p:blipFill>
          <a:blip r:embed="rId3"/>
          <a:stretch/>
        </p:blipFill>
        <p:spPr>
          <a:xfrm>
            <a:off x="3695760" y="2163600"/>
            <a:ext cx="7729560" cy="41673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3362400" y="54000"/>
            <a:ext cx="8440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репление домашнего задания в личном кабинете учен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Прямая со стрелкой 5"/>
          <p:cNvCxnSpPr/>
          <p:nvPr/>
        </p:nvCxnSpPr>
        <p:spPr>
          <a:xfrm flipV="1">
            <a:off x="7948440" y="4184280"/>
            <a:ext cx="1082160" cy="1003680"/>
          </a:xfrm>
          <a:prstGeom prst="straightConnector1">
            <a:avLst/>
          </a:prstGeom>
          <a:ln w="19080">
            <a:solidFill>
              <a:srgbClr val="ed7d31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"/>
          <p:cNvPicPr/>
          <p:nvPr/>
        </p:nvPicPr>
        <p:blipFill>
          <a:blip r:embed="rId2"/>
          <a:stretch/>
        </p:blipFill>
        <p:spPr>
          <a:xfrm>
            <a:off x="176040" y="958680"/>
            <a:ext cx="7439040" cy="574524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3478320" y="223920"/>
            <a:ext cx="844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ценария ур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255600" y="166680"/>
            <a:ext cx="1261584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материалов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и ЭПОС -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организации работы учащихся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т обучение наглядным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ет мотивацию и качеств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09T17:27:11Z</dcterms:created>
  <dc:creator>худяковы</dc:creator>
  <dc:description/>
  <dc:language>en-US</dc:language>
  <cp:lastModifiedBy>Win</cp:lastModifiedBy>
  <dcterms:modified xsi:type="dcterms:W3CDTF">2020-11-17T03:14:56Z</dcterms:modified>
  <cp:revision>11</cp:revision>
  <dc:subject/>
  <dc:title>Презентация PowerPoint</dc:title>
</cp:coreProperties>
</file>