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11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F0A98-98B3-4441-BB5E-81D1BA4AECB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685800" y="1143000"/>
            <a:ext cx="5486400" cy="3086280"/>
          </a:xfrm>
          <a:prstGeom prst="rect">
            <a:avLst/>
          </a:prstGeom>
          <a:ln w="0">
            <a:noFill/>
          </a:ln>
        </p:spPr>
      </p:sp>
      <p:sp>
        <p:nvSpPr>
          <p:cNvPr id="12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26"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F54C66-B85C-40E4-8ACB-2255004287AB}" type="slidenum">
              <a:rPr b="0" lang="ru-RU" sz="1200" spc="-1" strike="noStrike">
                <a:solidFill>
                  <a:srgbClr val="000000"/>
                </a:solidFill>
                <a:latin typeface="Arial"/>
                <a:ea typeface="Arial"/>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48A36-EF18-46EC-A86F-6DCDBF00D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A6A27-7E66-496B-86B3-63310CAD6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D8C746-FB19-4B0B-8CB1-F472FB5543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D054CE-731A-465E-A703-31AC84522B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CB2296-1DF2-4D69-B8E4-E7C247EEAF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8E4C4C-79DA-4060-8E42-7780994F02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E62CE2-5AFC-48D4-858A-838AA1A139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A05175-1154-4E80-A56F-9B9CA0F11C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73CF70-EB3A-48F8-83F0-2B9A314BB0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AD52DD-B894-422B-BE12-4DD2CBAC0C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C59C65-113B-43AF-AF95-14C6582850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184BE32-56A0-4ED2-A182-4A9E6FA1B86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DD68B-F834-4597-9D90-A1A55B0CC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56B33E-102E-4C5E-92F5-31C2C880EE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899AC1-60CF-4177-8494-0C7DB848A9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CEF68D-0B25-4744-9001-B4A322C3F2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CDF659-4A39-418C-B298-009D5BFC52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0880BA-0BC8-46E0-B05B-BCAEC58059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1735E6-9606-451B-AB78-92CDAFB906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360A6D-72B3-44FB-B0A7-7BE213B34F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F92096-F4F1-473B-A478-2E4F826ADB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F4D5BD-477A-4FA5-AB34-0E726D47CB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4F744A4-5684-4F79-B5C2-D9B812E9EEE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A9A65-EF2D-4D1F-B368-1693E945F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31EB5D0-9BA9-4FDC-B902-566B8C52D54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2042031-304D-422A-9F35-190BBA1FF54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928D65-5D77-4399-B308-97D84D808A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03C1D3-4792-4349-B881-E580EEBE78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2EC38F-5628-42A5-86A1-0C2BB88CED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D8B0FD-0E8A-424E-8CB0-ED714D8423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7363CA-604B-4571-B241-F57D86BA69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DE4156-198F-4C9B-BEAB-661FFA5F9F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E10DCF-C37C-4579-831A-67D226C192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F14C96-CD42-4A23-A6C0-4A3978791B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217D9-0A4C-4A41-8E8C-E5D2A71C78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1AF6E1-FE01-4898-A7AE-9C4B1C4049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A720485-C90C-4776-81DB-38C3F35377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6649D72-177D-41DD-BE7D-07FA9ECC2C1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F87FBAF-682C-409C-9AD5-063D1CDE453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FC90A35-499A-4E13-9D6A-4FA81BCC31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6F0C745-7E88-4737-8248-55D9DEAA30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FE20F4-F560-475D-B107-00631A43304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781E8AC-D667-4A2E-A1B2-084406C106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A3E426-DB1A-4D2D-8E91-9B2B428685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5A2619-0910-4DC1-9CEA-39F50444F7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9AA27-F025-4086-8C06-9DBF6C01D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3A3C68-0DBB-429F-9B71-C6308B1B57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DA31EF-94DC-40F9-A07F-55E88C5C57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A27E33-6F3A-4490-B536-1E913560F0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EE36394-2279-4E1B-A3AC-F71FC7913B9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CF456D0-CE28-4F61-81A4-6E449A49494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B035202-EB93-4F04-8114-46691B91C6C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35CD44-2232-4929-9634-1A03537170B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70FE140-64D5-4E6C-9AE9-71C65962B06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75C72A8-35EF-456E-AD7A-3BE67FF39B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EBBFA96-AB32-477D-AD7C-C231538B1DF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C738A-B30D-41C9-813E-BEBC32BE0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838FBEA-1247-4D0D-B410-9772F034557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5BDDFBE-0A95-419D-B45C-9908842876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6B2323-F795-42C5-AA41-B3BC52BE52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F5F394D-155A-4754-8E8E-3185EFA25F2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AD780B3-D26B-4B3D-9C7E-FB6E7FB9C13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5543E97-C7EF-4A35-9924-B3946186E71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5349A58-99C8-47E2-B7D3-B4617D4371B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6242DA7-5D68-4461-8B4F-46D11933AA7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608F246-8FCB-4096-AB40-C3A910A69BB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99034CE-62DD-46D7-AFBF-5780DD485BC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BB31F-863F-4FAB-B72F-DBDEF568B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621A058-8129-418E-9057-89DB4AD943A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333573E-8D43-413D-9C56-53A97E9ABBC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3564410-F7A1-46F5-8005-64553F0C9E8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3F98574-A213-4E78-BB06-F2E8E9E26BD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BCFFBEB-9BF8-4A37-B5C3-C9D6A62F2EF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11CBD4-5D82-4D53-A9D7-CFBC0D1D7B3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61C128F-45A9-434F-A30A-7C1586AC204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A96EA9A-B08F-41DF-9374-7685FD8714F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1465752-6ABD-4BC2-9F94-BA03149D050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82C5F1E-8728-4F77-A2BB-A5FC64733E7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00E0E-D65B-4EF5-8701-34DB18CFB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143DD61-D008-400B-9B13-71D4AE93AD3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4E45718-9116-4AF0-9710-8A956001BB5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6D298EC-A232-46B3-BD99-72366A0C3D8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BF7CB78-AA25-4609-969E-662E6884FA1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6DF25FF-D379-4E77-8858-67840511226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44A2056-8F4B-4AA5-9DFF-F1872B68C74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C74CDEF-F89B-4B6E-89DD-D93B19FE676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18E0F81-06EA-47EA-83E2-36F3506E5D8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85D1EC7-6B10-44E3-9425-30EF2D5925E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F56BEA7-ADA1-4F87-AE95-9B01B12F2D6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771B2-6E84-4130-B16F-4CEBA1603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53412D7-F93B-4F68-B3D9-7A5DE395524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81EC5AE-A125-44F9-8D1E-5D2C8E3AF8E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E98F213-8F24-45AB-A3D1-3EC09B6339A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AC32F96-7FD9-4A74-9656-BA484791CF5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96E9CB6-3089-49BC-9E93-0DC315974C4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7A409BB-EA7D-4FA3-8F17-2251E3FFA90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813E0E3-A8A9-48AF-80DD-7A71CEFD6D9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E0624F7-0B96-4E0A-9683-791C295895B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EFB71E7-57B1-45F5-BC92-2FD25F0F2C6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CA31B0E-DD9C-4004-A03C-A132D6A771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9B967-75D2-4033-BE8B-732306F8B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B1BBF0F-C0D1-4EEA-80E0-BDD35C355EE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96552A9-2AAC-4180-A0FD-AE6FD6C2F52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93AF62D-6FBE-42A7-B799-159CB909887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76E196B-4F1D-4547-864C-CAFBBDF3657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4A5C974-A035-44B2-A845-664D4B9CCF0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C1160FB-E136-4F22-8F08-A7763EDC87B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325DAAE-D601-4944-B68C-F5E7B6297A7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3D1F64C-8EAC-4416-9D45-7E3C73040A0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964DE10-02BA-4229-B072-CE6A9BD98A3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2C73392-A7E7-4B28-8042-3098E0154ED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85DF3-8CDF-41D7-A1BB-97FF17BCA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75B12-1F64-4078-BED5-5AEF888B8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F092802-AED3-41FE-B2AB-3DEF369670F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19A1F08-3A17-425C-8B5B-0EFE8CA391F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1118DCB-5CFE-43A4-9F6E-7E5C4F087B9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EE2CCCA-0C9F-465D-B776-79A68C402E8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CC54293-A613-4F9F-9FA1-9D338DD621D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31DF7-40E5-4074-B208-890FAD446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6705F-45CA-4BBD-AB3F-832818A81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84FEA0-5DF8-4AAD-A0D5-C5D59C790D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CA6943-C9E2-4B68-BD23-B55F0D6449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AD72AD-F57B-4F77-993F-82AA74F9C8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98EDA4-0B26-4B97-B169-00202C3211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040D70-1225-47CA-940D-E929ABDB59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9AD109-B1CD-4D3F-89E4-DD564880F9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FEC709-0979-4A21-B8BC-503A071D3A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4F6FE-3F84-4928-8F07-5019119B0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7A7F11-6EAB-404A-B84F-4CA7A0F2F9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186FB0-CD39-4593-9988-5F9C14A963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4619D3-262F-4DEF-A097-32C71E04DA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1A232C-C9E5-4698-9355-0BD26F0B4A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505430-F6FE-422C-B926-6A80B3FFEC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1F4807-DA36-4B28-9DDD-A21D01F8B6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00B6C2-755A-48DB-9DA3-BC01198FF0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09C1B9-63B1-417B-A120-EA8EB04747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B1CEB5-0740-428B-8388-CCAC8958E9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917C2B-EA6A-411B-B6EF-21404D2740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A335B-F61A-44A5-ACEF-CD65F5A37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A7EC2E-6CF2-436D-9C41-7E0BFA2007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2B808D-C8E2-45C6-96B0-B787CC2C2E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A064DB-6D49-4F8C-ACDF-EF921A9006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590C0B-21A9-4864-9222-B4BFDF4CB3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956120-F932-4B45-95CE-FCCDAA05BE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077D80-5370-4628-9654-73EA1CC242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5CD7B0-5BAF-479F-974E-4A6FA11039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FC47E4-EDC2-4FE5-AC36-BC4A22B73D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ED6DF4-2D36-4B80-838F-BEEC730F85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132BCC-4EEF-48CE-A783-7078A1F280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9FD42-7DAA-4385-9740-1BDBAF18B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811A6F-0E1C-42AB-9C9A-63001B1332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03ADFE-C7BA-431C-BD96-44C5FA511F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1ED819-95A2-44C4-8136-483779D413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2BCC98-31EE-4D5B-B5D9-17656A61A1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EE9773-A5FA-4D89-A90B-0A2EBC2D94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232C50-A001-4EF1-9806-DFB19F4CB9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AE60CB-ACEA-4BB7-A1B1-8C49AC1AE0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1BF939-82A3-4F29-9AE9-6B88071001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12C6AA-F30B-45C8-B182-468F6A0745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9B9905-C345-4B1E-93BF-76733F0381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B5D1E-EF34-4805-B66F-89FD55D49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41E8B9-C31A-4D74-989D-73952945D1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A2E7FB-1111-468B-AC74-BC06702A47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6C62C8-9A6F-441A-93E5-23CECE9C7E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6F3E10-1308-4C4F-8950-5A043D3FC0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D0F122-025C-4A2D-9594-8B495510F5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66FEE3-3BA2-4628-A421-EF3873B205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82CB16-E16B-4559-AD42-7E798F3D3A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EA3C39-43E5-4D83-B776-55F96A94A9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93570F-0B7F-4BBB-A2FA-DB37A6CFAC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942F9B-EA5B-4B3E-B1D1-45C26598A1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FF0BF-790C-4029-8917-85C1856DF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938F01-F72B-4B55-B163-6E4B218A51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460F25-AA1B-4C19-9816-495FBAD75C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C1008E-788D-43AB-ACF5-BB3F3E61E8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40C75D-F367-4D69-AB38-E210BCC822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B83CB4-4670-44C8-A00C-F1BD11E8B3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BC4FA5-2136-45C0-9E9C-9C00E80CE7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494D7F-F1B8-427A-B7B7-2E9F729D3E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EFD770-0299-49EE-BEA3-FC8AD896C4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65732C-FC99-4459-A4D2-185A7B099F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DC8B0F-79F5-4245-8826-F007653A63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F3E59-0F6C-4F28-8C46-29A5B4E5B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6A67F4-48D5-43D5-868B-04B1649911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B926DE-864C-40AD-ABA5-B6340341CC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A556D1-241C-4F50-A2CF-B68B443217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2D8DAF-3DC6-4A36-8F61-BD64231F0A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938367-BEEA-4191-A414-09EFB16D70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1F8FC4-5D0C-4AE2-B73B-3D3B268943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ACB282-14FA-48CD-8C85-4E15A335A1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996FFB-6BA0-4D5E-917B-A459A58665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1C9B38-DA4C-4A54-BC3D-30E520D4E2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321C31-C4C6-45C3-B9A2-180732B2C8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48C66-065D-40B0-A18F-73C54DADE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35BC3A-34A7-4DC8-B5C3-F070DB445C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C4E3D8-8501-41A5-99C5-86A7BEECCA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CC0919-5806-4EEB-9830-8A153A1229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650215-21E9-49D7-B507-21D963E414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C2A474-53E7-425C-A880-87F003F8B3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C38D59-7BE8-4327-96E7-F6BB36484A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E4F9E4-A34B-49D8-A2E3-7823F0A779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CBB42D4-60BB-4913-AEA7-92F09AEDE9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C23583-8008-4378-83E8-6AE854373D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C4D873-83B6-4B93-9DC0-5045FF56CCA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8A3F7E-FC76-41B6-8EC6-2C03FF1CDC4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778E9F-57BD-4C58-8A78-F733A463973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614382-D1A9-4773-B616-685FE08B81A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AAC2C-1422-4430-B34B-6BCDEA4A9C8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167E62-8175-4A63-A743-02215E51938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8CC721-85E4-4385-BE45-73A94BC8CEA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EA0117-3E16-4481-A91B-91A156A0930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65E8D8-777C-4905-BFED-8751A9E5F46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184151-755A-496B-9991-E5E9A51A3C3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9AAACA-DAFC-455C-AB29-3D0ED6AA5E8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C014AD-A419-4D65-9EC9-48A4FBD9857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BB85F5-159F-47D5-9056-EA64434BCE5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A0188-4CC7-40A9-87F7-25DF67C6331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902118-E456-4E1F-9D96-2A006FC0328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90157-8E75-497E-85D6-89826F00955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2B1E24-C0CA-4747-9331-87902CBF03B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14F83B-60B0-4E75-A598-D64B37CF57D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fimc.gnpbu.ru/&#1080;&#1089;&#1089;&#1083;&#1077;&#1076;&#1086;&#1074;&#1072;&#1085;&#1080;&#1077;-&#1088;&#1086;&#1083;&#1080;-&#1073;&#1080;&#1073;&#1083;&#1080;&#1086;&#1090;&#1077;&#1082;-&#1086;&#1090;-&#1075;&#1076;&#1072;&#1085;&#1100;/" TargetMode="External"/><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25.xml"/><Relationship Id="rId6"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2588760" y="367920"/>
            <a:ext cx="8915400" cy="44499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a53010"/>
                </a:solidFill>
                <a:latin typeface="Century Gothic"/>
              </a:rPr>
              <a:t>Деятельность школьных библиотек образовательных организаций Пермского края по реализации федеральной «Концепции развития ШИБЦ»                    в 2016-2018 годах </a:t>
            </a:r>
            <a:br>
              <a:rPr sz="4000"/>
            </a:br>
            <a:endParaRPr b="0" lang="en-US" sz="4000" spc="-1" strike="noStrike">
              <a:solidFill>
                <a:srgbClr val="262626"/>
              </a:solidFill>
              <a:latin typeface="Century Gothic"/>
            </a:endParaRPr>
          </a:p>
        </p:txBody>
      </p:sp>
      <p:sp>
        <p:nvSpPr>
          <p:cNvPr id="1184" name="PlaceHolder 2"/>
          <p:cNvSpPr>
            <a:spLocks noGrp="1"/>
          </p:cNvSpPr>
          <p:nvPr>
            <p:ph type="subTitle"/>
          </p:nvPr>
        </p:nvSpPr>
        <p:spPr>
          <a:xfrm>
            <a:off x="1160280" y="4818240"/>
            <a:ext cx="10343880" cy="158256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МАЛЬЩУКОВА И.В., </a:t>
            </a:r>
            <a:endParaRPr b="0" lang="en-US" sz="1700" spc="-1" strike="noStrike">
              <a:solidFill>
                <a:srgbClr val="404040"/>
              </a:solidFill>
              <a:latin typeface="Century Gothic"/>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педагог-библиотекарь, зав. ЛИБЦ </a:t>
            </a:r>
            <a:endParaRPr b="0" lang="en-US" sz="1700" spc="-1" strike="noStrike">
              <a:solidFill>
                <a:srgbClr val="404040"/>
              </a:solidFill>
              <a:latin typeface="Century Gothic"/>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МАОУ «Лицей №10» г. Перми</a:t>
            </a:r>
            <a:endParaRPr b="0" lang="en-US" sz="1700" spc="-1" strike="noStrike">
              <a:solidFill>
                <a:srgbClr val="404040"/>
              </a:solidFill>
              <a:latin typeface="Century Gothic"/>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7c240c"/>
                </a:solidFill>
                <a:latin typeface="Century Gothic"/>
              </a:rPr>
              <a:t>Пермь, 2019</a:t>
            </a:r>
            <a:endParaRPr b="0" lang="en-US" sz="2000" spc="-1" strike="noStrike">
              <a:solidFill>
                <a:srgbClr val="404040"/>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pic>
        <p:nvPicPr>
          <p:cNvPr id="1185" name="Рисунок 2" descr="logo"/>
          <p:cNvPicPr/>
          <p:nvPr/>
        </p:nvPicPr>
        <p:blipFill>
          <a:blip r:embed="rId1"/>
          <a:stretch/>
        </p:blipFill>
        <p:spPr>
          <a:xfrm>
            <a:off x="0" y="4125960"/>
            <a:ext cx="1908000" cy="108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
          <p:cNvSpPr txBox="1"/>
          <p:nvPr/>
        </p:nvSpPr>
        <p:spPr>
          <a:xfrm>
            <a:off x="840960" y="214200"/>
            <a:ext cx="10509480" cy="64296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ой</a:t>
            </a:r>
            <a:r>
              <a:rPr b="1" lang="ru-RU" sz="1800" spc="-1" strike="noStrike">
                <a:solidFill>
                  <a:srgbClr val="c00000"/>
                </a:solidFill>
                <a:latin typeface="Century Gothic"/>
              </a:rPr>
              <a:t> конкурс на лучший библиотечный проект, направленный на популяризацию литературных произведений о Пермском крае.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При</a:t>
            </a:r>
            <a:r>
              <a:rPr b="1" lang="ru-RU" sz="1800" spc="-1" strike="noStrike">
                <a:solidFill>
                  <a:srgbClr val="404040"/>
                </a:solidFill>
                <a:latin typeface="Century Gothic"/>
              </a:rPr>
              <a:t>няли участие библиотечные специалисты из Ильинского, Кишертского, Кунгурского, Верещагинского, Чернушинского, Пермского районов  и др.</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ыезды Совета ПРП РШБА в территор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20 декабря 2016 года состоялся выезд ПРП РШБА на РМО ШБ Верещагинского района и совещание в Управлении образования район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Публика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Пайвина В.П «Пермское региональное отделение РШБА: основные вехи» (2012-2016);</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Мальщукова И.В. «Шаги в наше успешное будущее» (О роли школьного библиотекаря в реализации Программ Международного бакалавриата);</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 </a:t>
            </a:r>
            <a:r>
              <a:rPr b="1" lang="ru-RU" sz="1600" spc="-1" strike="noStrike">
                <a:solidFill>
                  <a:srgbClr val="000000"/>
                </a:solidFill>
                <a:latin typeface="Century Gothic"/>
              </a:rPr>
              <a:t>Тюленева Е.В. « Мы постоянно учимся» (Методическое сопровождение деятельности лысьвенских школьных библиотекарей);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Андреева С. В. «Наши конкурсанты – народ креативный» (Записки о краевых конкурсах профессионального мастерства);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Герасимова Ю. В «Переход на новую должность способствовали профессиональные конкурсы». (ШБ. 2016. № 12).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900000" y="582120"/>
            <a:ext cx="10809360" cy="646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7 год</a:t>
            </a:r>
            <a:endParaRPr b="0" lang="en-US" sz="2400" spc="-1" strike="noStrike">
              <a:solidFill>
                <a:srgbClr val="262626"/>
              </a:solidFill>
              <a:latin typeface="Century Gothic"/>
            </a:endParaRPr>
          </a:p>
        </p:txBody>
      </p:sp>
      <p:sp>
        <p:nvSpPr>
          <p:cNvPr id="1200" name=""/>
          <p:cNvSpPr txBox="1"/>
          <p:nvPr/>
        </p:nvSpPr>
        <p:spPr>
          <a:xfrm>
            <a:off x="1487520" y="1228320"/>
            <a:ext cx="9990000" cy="4683240"/>
          </a:xfrm>
          <a:prstGeom prst="rect">
            <a:avLst/>
          </a:prstGeom>
          <a:noFill/>
          <a:ln w="0">
            <a:noFill/>
          </a:ln>
        </p:spPr>
        <p:txBody>
          <a:bodyPr anchor="t">
            <a:normAutofit fontScale="96000"/>
          </a:bodyPr>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пределены победители конкурса ФЦПРО-2.3-03-04 </a:t>
            </a:r>
            <a:r>
              <a:rPr b="1" lang="ru-RU" sz="1800" spc="-1" strike="noStrike">
                <a:solidFill>
                  <a:srgbClr val="c00000"/>
                </a:solidFill>
                <a:latin typeface="Century Gothic"/>
              </a:rPr>
              <a:t>«Современная школьная библиотека: формирование инфраструктуры чтения»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14 образовательных организаций России стали победителями данного конкурса.    Среди них – 3 образовательных организации из Пермского края: </a:t>
            </a:r>
            <a:r>
              <a:rPr b="1" lang="ru-RU" sz="1800" spc="-1" strike="noStrike">
                <a:solidFill>
                  <a:srgbClr val="c00000"/>
                </a:solidFill>
                <a:latin typeface="Century Gothic"/>
              </a:rPr>
              <a:t>МБОУ «Кишертская СОШ», МАОУ «СОШ №15» г. Губахи, МАОУ «Лицей № 10» г. Перми.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Утверждена </a:t>
            </a:r>
            <a:r>
              <a:rPr b="1" lang="ru-RU" sz="1800" spc="-1" strike="noStrike">
                <a:solidFill>
                  <a:srgbClr val="c00000"/>
                </a:solidFill>
                <a:latin typeface="Century Gothic"/>
              </a:rPr>
              <a:t>«Концепция  программы поддержки детского и юношеского чтения в РФ» </a:t>
            </a:r>
            <a:r>
              <a:rPr b="1" lang="ru-RU" sz="1800" spc="-1" strike="noStrike">
                <a:solidFill>
                  <a:srgbClr val="404040"/>
                </a:solidFill>
                <a:latin typeface="Century Gothic"/>
              </a:rPr>
              <a:t>(ШБ. 2017.№ 7).</a:t>
            </a:r>
            <a:endParaRPr b="0" lang="en-US" sz="1800" spc="-1" strike="noStrike">
              <a:solidFill>
                <a:srgbClr val="404040"/>
              </a:solidFill>
              <a:latin typeface="Century Gothic"/>
            </a:endParaRPr>
          </a:p>
          <a:p>
            <a:pPr marL="329040" indent="-329040"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29 мая 2017 г. В.В. Путин подписал Указ Президента РФ №240 «Об объявлении в Российской Федерации Десятилетия детства»</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X </a:t>
            </a:r>
            <a:r>
              <a:rPr b="1" lang="ru-RU" sz="1800" spc="-1" strike="noStrike">
                <a:solidFill>
                  <a:srgbClr val="404040"/>
                </a:solidFill>
                <a:latin typeface="Century Gothic"/>
              </a:rPr>
              <a:t>Всероссийский форум школьных библиотекарей «Михайловское - 2017» ( ШБ. 2017. № 9,10,11).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овый вариант профстандарта  «Педагог-библиотекарь» направляется в Минобрнауки РФ.  Раздел профстандарта </a:t>
            </a:r>
            <a:r>
              <a:rPr b="1" lang="ru-RU" sz="1800" spc="-1" strike="noStrike">
                <a:solidFill>
                  <a:srgbClr val="c00000"/>
                </a:solidFill>
                <a:latin typeface="Century Gothic"/>
              </a:rPr>
              <a:t>«Специалист в области воспитания» 3.5. «Обобщенная трудовая функция….» </a:t>
            </a:r>
            <a:r>
              <a:rPr b="1" lang="ru-RU" sz="1800" spc="-1" strike="noStrike">
                <a:solidFill>
                  <a:srgbClr val="404040"/>
                </a:solidFill>
                <a:latin typeface="Century Gothic"/>
              </a:rPr>
              <a:t>(ШБ.2017 № 2). </a:t>
            </a:r>
            <a:endParaRPr b="0" lang="en-US" sz="1800" spc="-1" strike="noStrike">
              <a:solidFill>
                <a:srgbClr val="404040"/>
              </a:solidFill>
              <a:latin typeface="Century Gothic"/>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682200" y="326520"/>
            <a:ext cx="10821960" cy="4921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7</a:t>
            </a:r>
            <a:endParaRPr b="0" lang="en-US" sz="2400" spc="-1" strike="noStrike">
              <a:solidFill>
                <a:srgbClr val="262626"/>
              </a:solidFill>
              <a:latin typeface="Century Gothic"/>
            </a:endParaRPr>
          </a:p>
        </p:txBody>
      </p:sp>
      <p:sp>
        <p:nvSpPr>
          <p:cNvPr id="1202" name=""/>
          <p:cNvSpPr txBox="1"/>
          <p:nvPr/>
        </p:nvSpPr>
        <p:spPr>
          <a:xfrm>
            <a:off x="682200" y="818640"/>
            <a:ext cx="10821960" cy="5596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u="sng">
                <a:solidFill>
                  <a:srgbClr val="c00000"/>
                </a:solidFill>
                <a:uFillTx/>
                <a:latin typeface="Century Gothic"/>
              </a:rPr>
              <a:t>Сетевые проекты:</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Сетевой  проект МАОУ «Лицей № 10» г. Перми «Компетентный читатель – активный исследователь».  Участники - 32 образовательных организации из 10 территорий Пермского края </a:t>
            </a:r>
            <a:r>
              <a:rPr b="0" lang="ru-RU" sz="1700" spc="-1" strike="noStrike">
                <a:solidFill>
                  <a:srgbClr val="404040"/>
                </a:solidFill>
                <a:latin typeface="Century Gothic"/>
              </a:rPr>
              <a:t>(</a:t>
            </a:r>
            <a:r>
              <a:rPr b="1" lang="ru-RU" sz="1700" spc="-1" strike="noStrike">
                <a:solidFill>
                  <a:srgbClr val="c00000"/>
                </a:solidFill>
                <a:latin typeface="Century Gothic"/>
              </a:rPr>
              <a:t>г. Пермь, Добрянский, Краснокамский, Кунгурский, Лысьвенский, Осинский, Пермский, Суксунский, Чайковский, Чернушинский муниципальные районы).</a:t>
            </a:r>
            <a:r>
              <a:rPr b="0" lang="ru-RU" sz="1700" spc="-1" strike="noStrike">
                <a:solidFill>
                  <a:srgbClr val="404040"/>
                </a:solidFill>
                <a:latin typeface="Century Gothic"/>
              </a:rPr>
              <a:t> </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Семинары:</a:t>
            </a:r>
            <a:r>
              <a:rPr b="0" lang="ru-RU" sz="1700" spc="-1" strike="noStrike">
                <a:solidFill>
                  <a:srgbClr val="404040"/>
                </a:solidFill>
                <a:latin typeface="Century Gothic"/>
              </a:rPr>
              <a:t>  </a:t>
            </a:r>
            <a:r>
              <a:rPr b="1" lang="ru-RU" sz="1700" spc="-1" strike="noStrike">
                <a:solidFill>
                  <a:srgbClr val="c00000"/>
                </a:solidFill>
                <a:latin typeface="Century Gothic"/>
              </a:rPr>
              <a:t>«Создание компетентностной модели «Компетентный читатель – активный исследователь»: концептуальные подходы к организации инновационной методической сети школьных библиотек Пермского края» </a:t>
            </a:r>
            <a:r>
              <a:rPr b="1" lang="ru-RU" sz="1700" spc="-1" strike="noStrike">
                <a:solidFill>
                  <a:srgbClr val="404040"/>
                </a:solidFill>
                <a:latin typeface="Century Gothic"/>
              </a:rPr>
              <a:t>(12.09.2017), </a:t>
            </a:r>
            <a:r>
              <a:rPr b="1" lang="ru-RU" sz="1700" spc="-1" strike="noStrike">
                <a:solidFill>
                  <a:srgbClr val="c00000"/>
                </a:solidFill>
                <a:latin typeface="Century Gothic"/>
              </a:rPr>
              <a:t> «Итоги реализации проекта по созданию инновационной методической сети образовательных организаций Пермского края внедрения компетентностной модели «Компетентный читатель – активный исследователь</a:t>
            </a:r>
            <a:r>
              <a:rPr b="1" lang="ru-RU" sz="1700" spc="-1" strike="noStrike">
                <a:solidFill>
                  <a:srgbClr val="404040"/>
                </a:solidFill>
                <a:latin typeface="Century Gothic"/>
              </a:rPr>
              <a:t>» (19.12.2017).</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Вебинары</a:t>
            </a:r>
            <a:r>
              <a:rPr b="1" lang="ru-RU" sz="1700" spc="-1" strike="noStrike">
                <a:solidFill>
                  <a:srgbClr val="c00000"/>
                </a:solidFill>
                <a:latin typeface="Century Gothic"/>
              </a:rPr>
              <a:t>: «Теория и практика исследовательской деятельности в рамках внедрения компетентностной модели «Компетентный читатель – активный исследователь» </a:t>
            </a:r>
            <a:r>
              <a:rPr b="1" lang="ru-RU" sz="1700" spc="-1" strike="noStrike">
                <a:solidFill>
                  <a:srgbClr val="000000"/>
                </a:solidFill>
                <a:latin typeface="Century Gothic"/>
              </a:rPr>
              <a:t>(20.10.2017); </a:t>
            </a:r>
            <a:r>
              <a:rPr b="1" lang="ru-RU" sz="1700" spc="-1" strike="noStrike">
                <a:solidFill>
                  <a:srgbClr val="c00000"/>
                </a:solidFill>
                <a:latin typeface="Century Gothic"/>
              </a:rPr>
              <a:t>«Стратегии смыслового чтения» </a:t>
            </a:r>
            <a:r>
              <a:rPr b="1" lang="ru-RU" sz="1700" spc="-1" strike="noStrike">
                <a:solidFill>
                  <a:srgbClr val="000000"/>
                </a:solidFill>
                <a:latin typeface="Century Gothic"/>
              </a:rPr>
              <a:t>(27.10.2017); </a:t>
            </a:r>
            <a:r>
              <a:rPr b="1" lang="ru-RU" sz="1700" spc="-1" strike="noStrike">
                <a:solidFill>
                  <a:srgbClr val="c00000"/>
                </a:solidFill>
                <a:latin typeface="Century Gothic"/>
              </a:rPr>
              <a:t>«Информационная культура» </a:t>
            </a:r>
            <a:r>
              <a:rPr b="1" lang="ru-RU" sz="1700" spc="-1" strike="noStrike">
                <a:solidFill>
                  <a:srgbClr val="000000"/>
                </a:solidFill>
                <a:latin typeface="Century Gothic"/>
              </a:rPr>
              <a:t>(01.11.2017); </a:t>
            </a:r>
            <a:r>
              <a:rPr b="1" lang="ru-RU" sz="1700" spc="-1" strike="noStrike">
                <a:solidFill>
                  <a:srgbClr val="c00000"/>
                </a:solidFill>
                <a:latin typeface="Century Gothic"/>
              </a:rPr>
              <a:t>«Медиаграмотность» </a:t>
            </a:r>
            <a:r>
              <a:rPr b="1" lang="ru-RU" sz="1700" spc="-1" strike="noStrike">
                <a:solidFill>
                  <a:srgbClr val="000000"/>
                </a:solidFill>
                <a:latin typeface="Century Gothic"/>
              </a:rPr>
              <a:t>(03.11.2017).</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Выступление : </a:t>
            </a:r>
            <a:r>
              <a:rPr b="1" lang="ru-RU" sz="1700" spc="-1" strike="noStrike">
                <a:solidFill>
                  <a:srgbClr val="c00000"/>
                </a:solidFill>
                <a:latin typeface="Century Gothic"/>
              </a:rPr>
              <a:t>«Стратегии и практики школьных библиотек Пермского края» </a:t>
            </a:r>
            <a:r>
              <a:rPr b="1" lang="ru-RU" sz="1700" spc="-1" strike="noStrike">
                <a:solidFill>
                  <a:srgbClr val="404040"/>
                </a:solidFill>
                <a:latin typeface="Century Gothic"/>
              </a:rPr>
              <a:t>(2017 г.)</a:t>
            </a:r>
            <a:endParaRPr b="0" lang="en-US" sz="17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941400" y="258480"/>
            <a:ext cx="10563120" cy="60325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ъезды. Форумы. Совещани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торой межрегиональный форум </a:t>
            </a:r>
            <a:r>
              <a:rPr b="1" lang="ru-RU" sz="1800" spc="-1" strike="noStrike">
                <a:solidFill>
                  <a:srgbClr val="c00000"/>
                </a:solidFill>
                <a:latin typeface="Century Gothic"/>
              </a:rPr>
              <a:t>«Школьные библиотеки нового поколения» </a:t>
            </a:r>
            <a:r>
              <a:rPr b="1" lang="ru-RU" sz="1800" spc="-1" strike="noStrike">
                <a:solidFill>
                  <a:srgbClr val="404040"/>
                </a:solidFill>
                <a:latin typeface="Century Gothic"/>
              </a:rPr>
              <a:t>8-9 сент. 2017 г. (Российская Академия Образования. РШБА. Информационный центр «Библиотека им. К.Д. Ушинского»)</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Статья в сб. материалов  форума </a:t>
            </a:r>
            <a:r>
              <a:rPr b="1" i="1" lang="ru-RU" sz="1800" spc="-1" strike="noStrike">
                <a:solidFill>
                  <a:srgbClr val="c00000"/>
                </a:solidFill>
                <a:latin typeface="Century Gothic"/>
              </a:rPr>
              <a:t>«Создание единой методической сети школьных библиотек Пермского края в рамках участия в конкурсе ФЦПРО-2.3-03-04 «Современная школьная библиотека: формирование инфраструктуры чте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X</a:t>
            </a:r>
            <a:r>
              <a:rPr b="1" lang="ru-RU" sz="1800" spc="-1" strike="noStrike">
                <a:solidFill>
                  <a:srgbClr val="404040"/>
                </a:solidFill>
                <a:latin typeface="Century Gothic"/>
              </a:rPr>
              <a:t> Всероссийское совещание руководителей служб информации по культуре и искусству «Библиотеки в информационном обеспечении реализации государственной культурной политики» 3-4 окт. 2017 г. (Министерство культуры Российской Федерации, РГБ г. Москва, Санкт-Петербургский институт культуры)</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Выступление, статья </a:t>
            </a:r>
            <a:r>
              <a:rPr b="1" i="1" lang="ru-RU" sz="1800" spc="-1" strike="noStrike">
                <a:solidFill>
                  <a:srgbClr val="c00000"/>
                </a:solidFill>
                <a:latin typeface="Century Gothic"/>
              </a:rPr>
              <a:t>«Стратегии реализации государственной культурно – образовательной политики школьными библиотеками Пермского кра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en-US" sz="1800" spc="-1" strike="noStrike">
                <a:solidFill>
                  <a:srgbClr val="404040"/>
                </a:solidFill>
                <a:latin typeface="Century Gothic"/>
              </a:rPr>
              <a:t>X</a:t>
            </a:r>
            <a:r>
              <a:rPr b="1" lang="ru-RU" sz="1800" spc="-1" strike="noStrike">
                <a:solidFill>
                  <a:srgbClr val="404040"/>
                </a:solidFill>
                <a:latin typeface="Century Gothic"/>
              </a:rPr>
              <a:t>  Всероссийский форум школьных библиотекарей «Михайловское 2017» (г. Псков)</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От Пермского края - Н. И. Шутемова (пгт. Полазна, Добрянского района).</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Подготовлена статья </a:t>
            </a:r>
            <a:r>
              <a:rPr b="1" i="1" lang="ru-RU" sz="1800" spc="-1" strike="noStrike">
                <a:solidFill>
                  <a:srgbClr val="c00000"/>
                </a:solidFill>
                <a:latin typeface="Century Gothic"/>
              </a:rPr>
              <a:t>«Опыт участия в конкурсе ФЦПРО-2.3-03-04 «Современная школьная библиотека: формирование инфраструктуры чте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txBox="1"/>
          <p:nvPr/>
        </p:nvSpPr>
        <p:spPr>
          <a:xfrm>
            <a:off x="887400" y="246240"/>
            <a:ext cx="10617120" cy="5665680"/>
          </a:xfrm>
          <a:prstGeom prst="rect">
            <a:avLst/>
          </a:prstGeom>
          <a:noFill/>
          <a:ln w="0">
            <a:noFill/>
          </a:ln>
        </p:spPr>
        <p:txBody>
          <a:bodyPr anchor="t">
            <a:normAutofit fontScale="89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entury Gothic"/>
              </a:rPr>
              <a:t>III</a:t>
            </a:r>
            <a:r>
              <a:rPr b="1" lang="ru-RU" sz="1800" spc="-1" strike="noStrike">
                <a:solidFill>
                  <a:srgbClr val="000000"/>
                </a:solidFill>
                <a:latin typeface="Century Gothic"/>
              </a:rPr>
              <a:t> Международная научно-практическая конференция Университетского округа НИУ ВШЭ «Школа </a:t>
            </a:r>
            <a:r>
              <a:rPr b="1" lang="en-US" sz="1800" spc="-1" strike="noStrike">
                <a:solidFill>
                  <a:srgbClr val="000000"/>
                </a:solidFill>
                <a:latin typeface="Century Gothic"/>
              </a:rPr>
              <a:t>XXI</a:t>
            </a:r>
            <a:r>
              <a:rPr b="1" lang="ru-RU" sz="1800" spc="-1" strike="noStrike">
                <a:solidFill>
                  <a:srgbClr val="000000"/>
                </a:solidFill>
                <a:latin typeface="Century Gothic"/>
              </a:rPr>
              <a:t> века: стратегии и эффекты образовательных инноваций»                     </a:t>
            </a:r>
            <a:r>
              <a:rPr b="0" lang="ru-RU" sz="1800" spc="-1" strike="noStrike">
                <a:solidFill>
                  <a:srgbClr val="000000"/>
                </a:solidFill>
                <a:latin typeface="Century Gothic"/>
              </a:rPr>
              <a:t>30-31 марта 2017 (НИУ ВШЭ - Пермь)</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ая конференция для образовательных учреждений Пермского края «Научно-педагогическая дискуссия: инновационная деятельность современной школы» </a:t>
            </a:r>
            <a:r>
              <a:rPr b="0" lang="ru-RU" sz="1800" spc="-1" strike="noStrike">
                <a:solidFill>
                  <a:srgbClr val="000000"/>
                </a:solidFill>
                <a:latin typeface="Century Gothic"/>
              </a:rPr>
              <a:t>14.11.2017 (Министерство образования и науки Пермского края, Ассоциация дополнительного профессионального образования «НОТА») Организация мастер – класса по теме: «Инновационная модель МАОУ Лицея № 10 г Перм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ий конкурс «Читающая мама - читающая страна (1148 конкурсантов).</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Лауреат в номинации «Лучшие практики деятельности образовательных организаций по повышению родительской компетенции в области детского чтения»  стала </a:t>
            </a:r>
            <a:r>
              <a:rPr b="1" lang="ru-RU" sz="1800" spc="-1" strike="noStrike">
                <a:solidFill>
                  <a:srgbClr val="c00000"/>
                </a:solidFill>
                <a:latin typeface="Century Gothic"/>
              </a:rPr>
              <a:t>педагог-библиотекарь МБОУ «Шумковская ООШ» с. Андреево, Пермский край  </a:t>
            </a:r>
            <a:r>
              <a:rPr b="1" lang="ru-RU" sz="1800" spc="-1" strike="noStrike">
                <a:solidFill>
                  <a:srgbClr val="404040"/>
                </a:solidFill>
                <a:latin typeface="Century Gothic"/>
              </a:rPr>
              <a:t>(ШБ. 2018. № 1).</a:t>
            </a:r>
            <a:endParaRPr b="0" lang="en-US" sz="1800" spc="-1" strike="noStrike">
              <a:solidFill>
                <a:srgbClr val="404040"/>
              </a:solidFill>
              <a:latin typeface="Century Gothic"/>
            </a:endParaRPr>
          </a:p>
          <a:p>
            <a:pPr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конкурс «Библиотекарь года: инициатива, творчество, профессиональная компетентность» (ПГКУБ им. А. М. Горького). </a:t>
            </a:r>
            <a:r>
              <a:rPr b="1" lang="ru-RU" sz="1800" spc="-1" strike="noStrike">
                <a:solidFill>
                  <a:srgbClr val="000000"/>
                </a:solidFill>
                <a:latin typeface="Century Gothic"/>
              </a:rPr>
              <a:t>Участники:</a:t>
            </a:r>
            <a:r>
              <a:rPr b="1" lang="ru-RU" sz="1800" spc="-1" strike="noStrike">
                <a:solidFill>
                  <a:srgbClr val="c00000"/>
                </a:solidFill>
                <a:latin typeface="Century Gothic"/>
              </a:rPr>
              <a:t> Герасимова Ю.В.                       (г. Чернушка); Мальщукова И.В., (г. Пермь).</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
          <p:cNvSpPr txBox="1"/>
          <p:nvPr/>
        </p:nvSpPr>
        <p:spPr>
          <a:xfrm>
            <a:off x="819000" y="367920"/>
            <a:ext cx="10685520" cy="619596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повышения квалификации:</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ФГАОУ АПК и ППРО (Академии повышения квалификации профессиональной переподготовки работников образования г. Москвы. </a:t>
            </a:r>
            <a:r>
              <a:rPr b="1" lang="ru-RU" sz="1800" spc="-1" strike="noStrike">
                <a:solidFill>
                  <a:srgbClr val="c00000"/>
                </a:solidFill>
                <a:latin typeface="Century Gothic"/>
              </a:rPr>
              <a:t>(«Новые информационные технологии в деятельности библиотек образовательных учреждений», «Поликультурное и социальное партнерство библиотек с применением современных образовательных технологий»); </a:t>
            </a:r>
            <a:r>
              <a:rPr b="1" lang="ru-RU" sz="1800" spc="-1" strike="noStrike">
                <a:solidFill>
                  <a:srgbClr val="404040"/>
                </a:solidFill>
                <a:latin typeface="Century Gothic"/>
              </a:rPr>
              <a:t>ООО «Издательство Форум-Медиа» г. Санкт-Петербург </a:t>
            </a:r>
            <a:r>
              <a:rPr b="1" lang="ru-RU" sz="1800" spc="-1" strike="noStrike">
                <a:solidFill>
                  <a:srgbClr val="c00000"/>
                </a:solidFill>
                <a:latin typeface="Century Gothic"/>
              </a:rPr>
              <a:t>(«Школьная библиотека как условие реализации ФГОС. Новые задачи педагога-библиотекаря»). </a:t>
            </a:r>
            <a:r>
              <a:rPr b="1" lang="ru-RU" sz="1800" spc="-1" strike="noStrike">
                <a:solidFill>
                  <a:srgbClr val="404040"/>
                </a:solidFill>
                <a:latin typeface="Century Gothic"/>
              </a:rPr>
              <a:t> ГБУ ДПО "Институт развития образования Пермского края" </a:t>
            </a:r>
            <a:r>
              <a:rPr b="1" lang="ru-RU" sz="1800" spc="-1" strike="noStrike">
                <a:solidFill>
                  <a:srgbClr val="c00000"/>
                </a:solidFill>
                <a:latin typeface="Century Gothic"/>
              </a:rPr>
              <a:t>("Развитие гражданственности средствами проектной и исследовательской деятельности"); </a:t>
            </a:r>
            <a:r>
              <a:rPr b="1" lang="ru-RU" sz="1800" spc="-1" strike="noStrike">
                <a:solidFill>
                  <a:srgbClr val="404040"/>
                </a:solidFill>
                <a:latin typeface="Century Gothic"/>
              </a:rPr>
              <a:t>НОУ "Академия родительского образования" г. Пермь </a:t>
            </a:r>
            <a:r>
              <a:rPr b="1" lang="ru-RU" sz="1800" spc="-1" strike="noStrike">
                <a:solidFill>
                  <a:srgbClr val="c00000"/>
                </a:solidFill>
                <a:latin typeface="Century Gothic"/>
              </a:rPr>
              <a:t>(«Современная школьная библиотека»</a:t>
            </a:r>
            <a:r>
              <a:rPr b="1" lang="ru-RU" sz="1800" spc="-1" strike="noStrike">
                <a:solidFill>
                  <a:srgbClr val="404040"/>
                </a:solidFill>
                <a:latin typeface="Century Gothic"/>
              </a:rPr>
              <a:t>).                                                                                                                                                      На краевом уровне – организация курсов повышения квалификации Пермской государственной краевой детской библиотекой имени. Л. И. Кузьмина.                                          На муниципальном уровне - организация курсов методическими центрами районо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мках повышения квалификации заслуживает внимание опыт организации </a:t>
            </a:r>
            <a:r>
              <a:rPr b="1" lang="ru-RU" sz="1800" spc="-1" strike="noStrike">
                <a:solidFill>
                  <a:srgbClr val="c00000"/>
                </a:solidFill>
                <a:latin typeface="Century Gothic"/>
              </a:rPr>
              <a:t>дистанционных олимпиад для школьных библиотекарей </a:t>
            </a:r>
            <a:r>
              <a:rPr b="0" i="1" lang="ru-RU" sz="1800" spc="-1" strike="noStrike">
                <a:solidFill>
                  <a:srgbClr val="404040"/>
                </a:solidFill>
                <a:latin typeface="Century Gothic"/>
              </a:rPr>
              <a:t>(организатор: методист МБОУ ДПО(ПК)С "Межшкольный методический центр" Добрянского муниципального р-на Коновалова И. А</a:t>
            </a:r>
            <a:r>
              <a:rPr b="1" i="1" lang="ru-RU" sz="1800" spc="-1" strike="noStrike">
                <a:solidFill>
                  <a:srgbClr val="404040"/>
                </a:solidFill>
                <a:latin typeface="Century Gothic"/>
              </a:rPr>
              <a:t>.). </a:t>
            </a:r>
            <a:r>
              <a:rPr b="1" lang="ru-RU" sz="1800" spc="-1" strike="noStrike">
                <a:solidFill>
                  <a:srgbClr val="404040"/>
                </a:solidFill>
                <a:latin typeface="Century Gothic"/>
              </a:rPr>
              <a:t>Инновационный опыт организации дистанционных олимпиад для школьных библиотекарей интересен и заслуживает распространени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2016-2018 годах данная муниципальная практика распространена на всей территории Пермского края, олимпиада имеет краевой статус.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671400" y="423720"/>
            <a:ext cx="10848960" cy="551520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повышения квалификации: опыт участ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0" lang="ru-RU" sz="1800" spc="-1" strike="noStrike">
                <a:solidFill>
                  <a:srgbClr val="404040"/>
                </a:solidFill>
                <a:latin typeface="Century Gothic"/>
              </a:rPr>
              <a:t>в качестве лекторо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ые курсы повышения квалификации по программе «Педагог-библиотекарь: информационно-коммуникативные технологии библиотечной среды» </a:t>
            </a:r>
            <a:r>
              <a:rPr b="0" lang="ru-RU" sz="1800" spc="-1" strike="noStrike">
                <a:solidFill>
                  <a:srgbClr val="404040"/>
                </a:solidFill>
                <a:latin typeface="Century Gothic"/>
              </a:rPr>
              <a:t>(ПГНИУ, Региональный институт непрерывного образования «РИНО»)</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 мастер класс: «Аттестация педагога-библиотекар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ые очно-заочные курсы повышения квалификации «Работа школьной библиотеки в современных условиях» </a:t>
            </a:r>
            <a:r>
              <a:rPr b="0" lang="ru-RU" sz="1800" spc="-1" strike="noStrike">
                <a:solidFill>
                  <a:srgbClr val="404040"/>
                </a:solidFill>
                <a:latin typeface="Century Gothic"/>
              </a:rPr>
              <a:t>(ГБУК «Пермская краевая детская библиотека им. Л.И. Кузьмина»)</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 лекции: «Реализация федеральной «Концепции развития ШИБЦ» в библиотеках образовательных организаций Пермского края»; «Сетевое сообщество библиотекарей пермского края: сетевые образовательные проекты»; «Участие педагога-библиотекаря в аттестации педагогических работников государственных муниципальных образовательных учреждений Пермского кра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урсы повышения квалификации по темам: </a:t>
            </a:r>
            <a:r>
              <a:rPr b="1" lang="ru-RU" sz="1800" spc="-1" strike="noStrike">
                <a:solidFill>
                  <a:srgbClr val="c00000"/>
                </a:solidFill>
                <a:latin typeface="Century Gothic"/>
              </a:rPr>
              <a:t>«Информационно-библиотечный центр: организация и содержание деятельности», «Создание виртуальных книжных выставок с помощью сервисов </a:t>
            </a:r>
            <a:r>
              <a:rPr b="1" lang="en-US" sz="1800" spc="-1" strike="noStrike">
                <a:solidFill>
                  <a:srgbClr val="c00000"/>
                </a:solidFill>
                <a:latin typeface="Century Gothic"/>
              </a:rPr>
              <a:t>Web</a:t>
            </a:r>
            <a:r>
              <a:rPr b="1" lang="ru-RU" sz="1800" spc="-1" strike="noStrike">
                <a:solidFill>
                  <a:srgbClr val="c00000"/>
                </a:solidFill>
                <a:latin typeface="Century Gothic"/>
              </a:rPr>
              <a:t> 2.0», «Создание электронных учебных пособий» </a:t>
            </a:r>
            <a:r>
              <a:rPr b="0" lang="ru-RU" sz="1800" spc="-1" strike="noStrike">
                <a:solidFill>
                  <a:srgbClr val="404040"/>
                </a:solidFill>
                <a:latin typeface="Century Gothic"/>
              </a:rPr>
              <a:t>и др.  (МАОУ ДЦО «ЦНМО» г. Лысьв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txBox="1"/>
          <p:nvPr/>
        </p:nvSpPr>
        <p:spPr>
          <a:xfrm>
            <a:off x="644400" y="763200"/>
            <a:ext cx="10902960" cy="513396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Мероприят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Отчетное мероприятие краевой творческой площадки передового опыта для специалистов школьных библиотек </a:t>
            </a:r>
            <a:r>
              <a:rPr b="1" lang="ru-RU" sz="2000" spc="-1" strike="noStrike">
                <a:solidFill>
                  <a:srgbClr val="c00000"/>
                </a:solidFill>
                <a:latin typeface="Century Gothic"/>
              </a:rPr>
              <a:t>«Технологии и формы работы школьной библиотеки в условиях реализации ФГОС» </a:t>
            </a:r>
            <a:r>
              <a:rPr b="1" lang="ru-RU" sz="2000" spc="-1" strike="noStrike">
                <a:solidFill>
                  <a:srgbClr val="000000"/>
                </a:solidFill>
                <a:latin typeface="Century Gothic"/>
              </a:rPr>
              <a:t> </a:t>
            </a:r>
            <a:r>
              <a:rPr b="0" lang="ru-RU" sz="2000" spc="-1" strike="noStrike">
                <a:solidFill>
                  <a:srgbClr val="000000"/>
                </a:solidFill>
                <a:latin typeface="Century Gothic"/>
              </a:rPr>
              <a:t>08.12.2017 (ПРП РШБА, МАОУ ДЦО «ЦНМО» г. Лысьва)</a:t>
            </a:r>
            <a:endParaRPr b="0" lang="en-US" sz="20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Краевой семинар </a:t>
            </a:r>
            <a:r>
              <a:rPr b="1" lang="ru-RU" sz="2000" spc="-1" strike="noStrike">
                <a:solidFill>
                  <a:srgbClr val="c00000"/>
                </a:solidFill>
                <a:latin typeface="Century Gothic"/>
              </a:rPr>
              <a:t>«Разработка и апробация новых моделей развития и управления образовательных организаций Пермского края» </a:t>
            </a:r>
            <a:r>
              <a:rPr b="0" lang="ru-RU" sz="2000" spc="-1" strike="noStrike">
                <a:solidFill>
                  <a:srgbClr val="000000"/>
                </a:solidFill>
                <a:latin typeface="Century Gothic"/>
              </a:rPr>
              <a:t>05.04.2017 (АНО ДПО «Институт инновационной образовательной политики и права «Эврика - Пермь», «СОШ № 3» п. Полазна Добрянского района»)</a:t>
            </a:r>
            <a:endParaRPr b="0" lang="en-US" sz="20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404040"/>
                </a:solidFill>
                <a:latin typeface="Century Gothic"/>
              </a:rPr>
              <a:t>«Образование для сложного мира: зачем, чему и как учить в </a:t>
            </a:r>
            <a:r>
              <a:rPr b="1" lang="en-US" sz="2000" spc="-1" strike="noStrike">
                <a:solidFill>
                  <a:srgbClr val="404040"/>
                </a:solidFill>
                <a:latin typeface="Century Gothic"/>
              </a:rPr>
              <a:t>XXI</a:t>
            </a:r>
            <a:r>
              <a:rPr b="1" lang="ru-RU" sz="2000" spc="-1" strike="noStrike">
                <a:solidFill>
                  <a:srgbClr val="404040"/>
                </a:solidFill>
                <a:latin typeface="Century Gothic"/>
              </a:rPr>
              <a:t>  веке». Результаты международного саммита лидеров образования </a:t>
            </a:r>
            <a:r>
              <a:rPr b="1" lang="en-US" sz="2000" spc="-1" strike="noStrike">
                <a:solidFill>
                  <a:srgbClr val="404040"/>
                </a:solidFill>
                <a:latin typeface="Century Gothic"/>
              </a:rPr>
              <a:t>GELP Moscow</a:t>
            </a:r>
            <a:r>
              <a:rPr b="1" lang="ru-RU" sz="2000" spc="-1" strike="noStrike">
                <a:solidFill>
                  <a:srgbClr val="404040"/>
                </a:solidFill>
                <a:latin typeface="Century Gothic"/>
              </a:rPr>
              <a:t>»</a:t>
            </a:r>
            <a:r>
              <a:rPr b="0" lang="ru-RU" sz="2000" spc="-1" strike="noStrike">
                <a:solidFill>
                  <a:srgbClr val="404040"/>
                </a:solidFill>
                <a:latin typeface="Century Gothic"/>
              </a:rPr>
              <a:t> 24.11.2017 (Корпорация «Российский учебник», Дрофа, Вентана-Граф)</a:t>
            </a:r>
            <a:endParaRPr b="0" lang="en-US" sz="20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609560" y="623520"/>
            <a:ext cx="98949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8 год</a:t>
            </a:r>
            <a:endParaRPr b="0" lang="en-US" sz="2400" spc="-1" strike="noStrike">
              <a:solidFill>
                <a:srgbClr val="262626"/>
              </a:solidFill>
              <a:latin typeface="Century Gothic"/>
            </a:endParaRPr>
          </a:p>
        </p:txBody>
      </p:sp>
      <p:sp>
        <p:nvSpPr>
          <p:cNvPr id="1209" name=""/>
          <p:cNvSpPr txBox="1"/>
          <p:nvPr/>
        </p:nvSpPr>
        <p:spPr>
          <a:xfrm>
            <a:off x="518760" y="1092240"/>
            <a:ext cx="11231640" cy="55548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28 февраля 2018 г. на Всероссийском совещании  «Реализация Концепции развития школьных информационно-библиотечных центров: управленческий аспект» </a:t>
            </a:r>
            <a:r>
              <a:rPr b="1" lang="ru-RU" sz="1800" spc="-1" strike="noStrike">
                <a:solidFill>
                  <a:srgbClr val="000000"/>
                </a:solidFill>
                <a:latin typeface="Century Gothic"/>
              </a:rPr>
              <a:t>представлен утвержденный </a:t>
            </a:r>
            <a:r>
              <a:rPr b="1" lang="ru-RU" sz="1800" spc="-1" strike="noStrike">
                <a:solidFill>
                  <a:srgbClr val="c00000"/>
                </a:solidFill>
                <a:latin typeface="Century Gothic"/>
              </a:rPr>
              <a:t>План реализации («дорожная карта») Концепции развития школьных информационно-библиотечных центров </a:t>
            </a:r>
            <a:r>
              <a:rPr b="1" lang="ru-RU" sz="1800" spc="-1" strike="noStrike">
                <a:solidFill>
                  <a:srgbClr val="404040"/>
                </a:solidFill>
                <a:latin typeface="Century Gothic"/>
              </a:rPr>
              <a:t>(ШБ. 2018. № 4).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Активно развивается Всероссийское движение «Читаек» </a:t>
            </a:r>
            <a:r>
              <a:rPr b="0" lang="ru-RU" sz="1800" spc="-1" strike="noStrike">
                <a:solidFill>
                  <a:srgbClr val="000000"/>
                </a:solidFill>
                <a:latin typeface="Century Gothic"/>
              </a:rPr>
              <a:t>(старт новой инициативе дала школа № 32 г. Краснодар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Новое методическое руководство </a:t>
            </a:r>
            <a:r>
              <a:rPr b="1" lang="ru-RU" sz="1800" spc="-1" strike="noStrike">
                <a:solidFill>
                  <a:srgbClr val="c00000"/>
                </a:solidFill>
                <a:latin typeface="Century Gothic"/>
              </a:rPr>
              <a:t>«Технология работы школьной библиотеки»!</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С 8 по 9 ноября 2018 года Информационный центр «Библиотека имени К.Д. Ушинского» Российской академии образования совместно с Ассоциацией школьных библиотекарей русского мира (РШБА) при поддержке Министерства просвещения Российской Федерации провел </a:t>
            </a:r>
            <a:r>
              <a:rPr b="1" lang="ru-RU" sz="1800" spc="-1" strike="noStrike">
                <a:solidFill>
                  <a:srgbClr val="c00000"/>
                </a:solidFill>
                <a:latin typeface="Century Gothic"/>
              </a:rPr>
              <a:t>Третий Всероссийский форум «Школьные библиотеки нового поколения». </a:t>
            </a:r>
            <a:r>
              <a:rPr b="1" lang="ru-RU" sz="1800" spc="-1" strike="noStrike">
                <a:solidFill>
                  <a:srgbClr val="000000"/>
                </a:solidFill>
                <a:latin typeface="Century Gothic"/>
              </a:rPr>
              <a:t>В работе Форума в этом году приняли участие более 300 человек из 67 субъектов Российской Федерации.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Участники Форума приняли участие в трех мастер-классах: «Школа волонтеров чтения – актуальный формат взаимодействия учителей и библиотекарей», «Медийно-информационная грамотность и информационная культура личности в контексте школы будущего» и «Развитие читательской грамотности учащихся с помощью проектно-исследовательского подход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831960" y="695160"/>
            <a:ext cx="10672560" cy="5554800"/>
          </a:xfrm>
          <a:prstGeom prst="rect">
            <a:avLst/>
          </a:prstGeom>
          <a:noFill/>
          <a:ln w="0">
            <a:noFill/>
          </a:ln>
        </p:spPr>
        <p:txBody>
          <a:bodyPr anchor="t">
            <a:normAutofit fontScale="87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8</a:t>
            </a:r>
            <a:endParaRPr b="0" lang="en-US" sz="24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ъезды. Форум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ий съезд участников методических сетей организаций, реализующих  инновационные проекты и программы для обновления существующих и создания новых технологий и содержания обучения и воспитания» </a:t>
            </a:r>
            <a:r>
              <a:rPr b="0" lang="ru-RU" sz="1800" spc="-1" strike="noStrike">
                <a:solidFill>
                  <a:srgbClr val="404040"/>
                </a:solidFill>
                <a:latin typeface="Century Gothic"/>
              </a:rPr>
              <a:t>8-9 октября 2018 г. Москва (Министерство просвещения Российской Федерации, ООО «Пальмира»).  Выступления победителей конкурса ФЦПРО 2017 – МАОУ «Лицей № 10» г. Перми и МАОУ «СОШ № 15» г. Губах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овещан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еминар-совещание  школьных библиотекарей </a:t>
            </a:r>
            <a:r>
              <a:rPr b="1" lang="ru-RU" sz="1800" spc="-1" strike="noStrike">
                <a:solidFill>
                  <a:srgbClr val="c00000"/>
                </a:solidFill>
                <a:latin typeface="Century Gothic"/>
              </a:rPr>
              <a:t>«Модернизация школьных библиотек как условие обеспечения современного качества образования: Инновационные формы работы современной школьной библиотеки. Школьная библиотека – центр поддержки и развития чтения»</a:t>
            </a:r>
            <a:r>
              <a:rPr b="1" lang="ru-RU" sz="1800" spc="-1" strike="noStrike">
                <a:solidFill>
                  <a:srgbClr val="404040"/>
                </a:solidFill>
                <a:latin typeface="Century Gothic"/>
              </a:rPr>
              <a:t> </a:t>
            </a:r>
            <a:r>
              <a:rPr b="0" lang="ru-RU" sz="1800" spc="-1" strike="noStrike">
                <a:solidFill>
                  <a:srgbClr val="000000"/>
                </a:solidFill>
                <a:latin typeface="Century Gothic"/>
              </a:rPr>
              <a:t>(ПРП РШБА,16.01.2018)</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минар «</a:t>
            </a:r>
            <a:r>
              <a:rPr b="1" lang="ru-RU" sz="1800" spc="-1" strike="noStrike">
                <a:solidFill>
                  <a:srgbClr val="c00000"/>
                </a:solidFill>
                <a:latin typeface="Century Gothic"/>
              </a:rPr>
              <a:t>Электронные информационные технологии, применяемые в системе образования» </a:t>
            </a:r>
            <a:r>
              <a:rPr b="0" lang="ru-RU" sz="1800" spc="-1" strike="noStrike">
                <a:solidFill>
                  <a:srgbClr val="404040"/>
                </a:solidFill>
                <a:latin typeface="Century Gothic"/>
              </a:rPr>
              <a:t>21 .06.2018 (АО «Издательство «Просвещение»)</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минар школьных библиотекарей Мотовилихинского района г. Перми «Инновационные формы работы современной школьной библиотеки» </a:t>
            </a:r>
            <a:r>
              <a:rPr b="0" lang="ru-RU" sz="1800" spc="-1" strike="noStrike">
                <a:solidFill>
                  <a:srgbClr val="404040"/>
                </a:solidFill>
                <a:latin typeface="Century Gothic"/>
              </a:rPr>
              <a:t>(ПРП РШБА, МАОУ «Школа дизайна» Точка» г. Перм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400" spc="-1" strike="noStrike">
                <a:solidFill>
                  <a:srgbClr val="404040"/>
                </a:solidFill>
                <a:latin typeface="Century Gothic"/>
              </a:rPr>
              <a:t>-</a:t>
            </a:r>
            <a:endParaRPr b="0" lang="en-US" sz="2400" spc="-1" strike="noStrike">
              <a:solidFill>
                <a:srgbClr val="40404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1282680" y="245880"/>
            <a:ext cx="10221840" cy="1112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5 год</a:t>
            </a:r>
            <a:br>
              <a:rPr sz="2400"/>
            </a:br>
            <a:r>
              <a:rPr b="1" lang="ru-RU" sz="2400" spc="-1" strike="noStrike">
                <a:solidFill>
                  <a:srgbClr val="a53010"/>
                </a:solidFill>
                <a:latin typeface="Century Gothic"/>
              </a:rPr>
              <a:t>Стратегические линии развития школьных библиотек</a:t>
            </a:r>
            <a:br>
              <a:rPr sz="2400"/>
            </a:br>
            <a:endParaRPr b="0" lang="en-US" sz="2400" spc="-1" strike="noStrike">
              <a:solidFill>
                <a:srgbClr val="262626"/>
              </a:solidFill>
              <a:latin typeface="Century Gothic"/>
            </a:endParaRPr>
          </a:p>
        </p:txBody>
      </p:sp>
      <p:sp>
        <p:nvSpPr>
          <p:cNvPr id="1187" name=""/>
          <p:cNvSpPr txBox="1"/>
          <p:nvPr/>
        </p:nvSpPr>
        <p:spPr>
          <a:xfrm>
            <a:off x="1865160" y="1201680"/>
            <a:ext cx="9639360" cy="4710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ое совещание руководителей органов государственной власти субъектов Российской федерации в сфере образования (4 декабря 2015 года). Доклад А.Г. Благинина, зам. дир. Департамента гос. политики в сфере общего образования Минобрнауки России </a:t>
            </a:r>
            <a:r>
              <a:rPr b="1" lang="ru-RU" sz="1800" spc="-1" strike="noStrike">
                <a:solidFill>
                  <a:srgbClr val="c00000"/>
                </a:solidFill>
                <a:latin typeface="Century Gothic"/>
              </a:rPr>
              <a:t>«Стратегический ориентир деятельности школьных библиотек» (ШБ. 2016. № 1)</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Ключевые проблемы  существующей системы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е сформированы единые концептуальные подходы по развитию ШИБЦ (сопровождение их деятельности носит фрагментарный характер, пока слабо развито горизонтальное, в том числе сетевое взаимодействие школ в этом направлении);</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е сформировано общее понимание функций, которые должны выполнять школьные библиотеки сегодня (требований к квалификации педагогов-библиотекарей, к информационно-образовательной среде, частью которой должна стать школьная библиотек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txBox="1"/>
          <p:nvPr/>
        </p:nvSpPr>
        <p:spPr>
          <a:xfrm>
            <a:off x="873000" y="477360"/>
            <a:ext cx="10631520" cy="543420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Мероприят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Торжественное открытие </a:t>
            </a:r>
            <a:r>
              <a:rPr b="1" lang="ru-RU" sz="1800" spc="-1" strike="noStrike">
                <a:solidFill>
                  <a:srgbClr val="c00000"/>
                </a:solidFill>
                <a:latin typeface="Century Gothic"/>
              </a:rPr>
              <a:t>Виртуального читального зала Российской государственной библиотеки</a:t>
            </a:r>
            <a:r>
              <a:rPr b="1" lang="ru-RU" sz="1800" spc="-1" strike="noStrike">
                <a:solidFill>
                  <a:srgbClr val="404040"/>
                </a:solidFill>
                <a:latin typeface="Century Gothic"/>
              </a:rPr>
              <a:t> (ВЧЗ РГБ) на базе МАОУ «Гимназия № 2» г. Перми (</a:t>
            </a:r>
            <a:r>
              <a:rPr b="0" lang="ru-RU" sz="1800" spc="-1" strike="noStrike">
                <a:solidFill>
                  <a:srgbClr val="404040"/>
                </a:solidFill>
                <a:latin typeface="Century Gothic"/>
              </a:rPr>
              <a:t>сент. 2018 г.)</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Семинар школьных библиотекарей Мотовилихинского </a:t>
            </a:r>
            <a:r>
              <a:rPr b="1" lang="ru-RU" sz="1800" spc="-1" strike="noStrike">
                <a:solidFill>
                  <a:srgbClr val="000000"/>
                </a:solidFill>
                <a:latin typeface="Century Gothic"/>
              </a:rPr>
              <a:t>района</a:t>
            </a:r>
            <a:r>
              <a:rPr b="1" lang="ru-RU" sz="1800" spc="-1" strike="noStrike">
                <a:solidFill>
                  <a:srgbClr val="c00000"/>
                </a:solidFill>
                <a:latin typeface="Century Gothic"/>
              </a:rPr>
              <a:t> «Школьная библиотека в условиях информатизации</a:t>
            </a:r>
            <a:r>
              <a:rPr b="0" lang="ru-RU" sz="1800" spc="-1" strike="noStrike">
                <a:solidFill>
                  <a:srgbClr val="c00000"/>
                </a:solidFill>
                <a:latin typeface="Century Gothic"/>
              </a:rPr>
              <a:t>»</a:t>
            </a:r>
            <a:r>
              <a:rPr b="0" lang="ru-RU" sz="1800" spc="-1" strike="noStrike">
                <a:solidFill>
                  <a:srgbClr val="404040"/>
                </a:solidFill>
                <a:latin typeface="Century Gothic"/>
              </a:rPr>
              <a:t> (дек.2018 г.).</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раевые 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конкурс программ внеурочной деятельности для специалистов школьных библиотек </a:t>
            </a:r>
            <a:r>
              <a:rPr b="1" lang="ru-RU" sz="1800" spc="-1" strike="noStrike">
                <a:solidFill>
                  <a:srgbClr val="c00000"/>
                </a:solidFill>
                <a:latin typeface="Century Gothic"/>
              </a:rPr>
              <a:t>«Край родной, как ты чудесен</a:t>
            </a:r>
            <a:r>
              <a:rPr b="0" lang="ru-RU" sz="1800" spc="-1" strike="noStrike">
                <a:solidFill>
                  <a:srgbClr val="c00000"/>
                </a:solidFill>
                <a:latin typeface="Century Gothic"/>
              </a:rPr>
              <a:t>» </a:t>
            </a:r>
            <a:r>
              <a:rPr b="0" lang="ru-RU" sz="1800" spc="-1" strike="noStrike">
                <a:solidFill>
                  <a:srgbClr val="404040"/>
                </a:solidFill>
                <a:latin typeface="Century Gothic"/>
              </a:rPr>
              <a:t>(ГАУ ДПО «Институт развития образования Пермского края, ПРП РШБ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Поддержка детского и юношеского чтения в контексте стратегических документов. Проектирование и развитие системы детского и юношеского чтения в образовательном комплексе» в рамках исполнения мероприятия «Содействие развитию общего образования» направления «Содействие развитию дошкольного и общего образования» государственной программы Российской Федерации «развития образования». Конкурс ФЦПРО 2018-03-01 «Поддержка детского и юношеского чтения» </a:t>
            </a:r>
            <a:r>
              <a:rPr b="0" lang="ru-RU" sz="1800" spc="-1" strike="noStrike">
                <a:solidFill>
                  <a:srgbClr val="404040"/>
                </a:solidFill>
                <a:latin typeface="Century Gothic"/>
              </a:rPr>
              <a:t>16.10.2018 (МАОУ СШ № 59 «Перспектива» г. Липецк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txBox="1"/>
          <p:nvPr/>
        </p:nvSpPr>
        <p:spPr>
          <a:xfrm>
            <a:off x="914040" y="818640"/>
            <a:ext cx="10590120" cy="50929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раевые дистанционные олимпиад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II</a:t>
            </a:r>
            <a:r>
              <a:rPr b="1" lang="ru-RU" sz="1800" spc="-1" strike="noStrike">
                <a:solidFill>
                  <a:srgbClr val="404040"/>
                </a:solidFill>
                <a:latin typeface="Century Gothic"/>
              </a:rPr>
              <a:t> Краевая дистанционная олимпиада для школьных библиотекарей Пермского края </a:t>
            </a:r>
            <a:r>
              <a:rPr b="0" lang="ru-RU" sz="1800" spc="-1" strike="noStrike">
                <a:solidFill>
                  <a:srgbClr val="404040"/>
                </a:solidFill>
                <a:latin typeface="Century Gothic"/>
              </a:rPr>
              <a:t>Апр. 2018 (МБОУ ДПО «ИМЦ» г. Добрянк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ая дистанционная олимпиада для обучающихся 3-4 и 5-6 классов по информационно-библиографической грамотности </a:t>
            </a:r>
            <a:r>
              <a:rPr b="0" lang="ru-RU" sz="1800" spc="-1" strike="noStrike">
                <a:solidFill>
                  <a:srgbClr val="404040"/>
                </a:solidFill>
                <a:latin typeface="Century Gothic"/>
              </a:rPr>
              <a:t>20-23 нояб. 2018 г. (МАОУ «ЦНМО» г. Лысьва, ПРП РШБ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Акции: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Пермский край на карте; # Читаемпермское </a:t>
            </a:r>
            <a:r>
              <a:rPr b="0" lang="ru-RU" sz="1800" spc="-1" strike="noStrike">
                <a:solidFill>
                  <a:srgbClr val="404040"/>
                </a:solidFill>
                <a:latin typeface="Century Gothic"/>
              </a:rPr>
              <a:t>(окт. 2018 г.)</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Проект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етевой проект для учащихся 2-4 классов «Путешествие с Оляпкой. Изучаем Пермский край» </a:t>
            </a:r>
            <a:r>
              <a:rPr b="0" lang="ru-RU" sz="1800" spc="-1" strike="noStrike">
                <a:solidFill>
                  <a:srgbClr val="404040"/>
                </a:solidFill>
                <a:latin typeface="Century Gothic"/>
              </a:rPr>
              <a:t>(окт. 2018-апр.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Межтерриториальный сетевой проект для учащихся 7-10 классов «В поисках сокровищ» </a:t>
            </a:r>
            <a:r>
              <a:rPr b="0" lang="ru-RU" sz="1800" spc="-1" strike="noStrike">
                <a:solidFill>
                  <a:srgbClr val="404040"/>
                </a:solidFill>
                <a:latin typeface="Century Gothic"/>
              </a:rPr>
              <a:t>(окт. 2018-апр.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667800" y="340920"/>
            <a:ext cx="10836360" cy="1646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2019</a:t>
            </a:r>
            <a:endParaRPr b="0" lang="en-US" sz="2400" spc="-1" strike="noStrike">
              <a:solidFill>
                <a:srgbClr val="262626"/>
              </a:solidFill>
              <a:latin typeface="Century Gothic"/>
            </a:endParaRPr>
          </a:p>
        </p:txBody>
      </p:sp>
      <p:sp>
        <p:nvSpPr>
          <p:cNvPr id="1214" name=""/>
          <p:cNvSpPr txBox="1"/>
          <p:nvPr/>
        </p:nvSpPr>
        <p:spPr>
          <a:xfrm>
            <a:off x="667800" y="846000"/>
            <a:ext cx="11028600" cy="56642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и онлайн-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300" spc="-1" strike="noStrike">
                <a:solidFill>
                  <a:srgbClr val="404040"/>
                </a:solidFill>
                <a:latin typeface="Century Gothic"/>
              </a:rPr>
              <a:t>Всероссийская научно-практическая конференция </a:t>
            </a:r>
            <a:r>
              <a:rPr b="1" lang="ru-RU" sz="1300" spc="-1" strike="noStrike">
                <a:solidFill>
                  <a:srgbClr val="404040"/>
                </a:solidFill>
                <a:latin typeface="Century Gothic"/>
              </a:rPr>
              <a:t>«Проектная и исследовательская деятельность в школе: мотивация, содержание, методика» </a:t>
            </a:r>
            <a:r>
              <a:rPr b="0" lang="ru-RU" sz="1300" spc="-1" strike="noStrike">
                <a:solidFill>
                  <a:srgbClr val="404040"/>
                </a:solidFill>
                <a:latin typeface="Century Gothic"/>
              </a:rPr>
              <a:t> 15.03.019 (Корпорация «Российский учебник», </a:t>
            </a:r>
            <a:r>
              <a:rPr b="0" lang="en-US" sz="1300" spc="-1" strike="noStrike">
                <a:solidFill>
                  <a:srgbClr val="404040"/>
                </a:solidFill>
                <a:latin typeface="Century Gothic"/>
              </a:rPr>
              <a:t>LECTA</a:t>
            </a:r>
            <a:r>
              <a:rPr b="0" lang="ru-RU" sz="1300" spc="-1" strike="noStrike">
                <a:solidFill>
                  <a:srgbClr val="404040"/>
                </a:solidFill>
                <a:latin typeface="Century Gothic"/>
              </a:rPr>
              <a:t>)</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Новый ФПУ. Анализируем. Обсуждаем. Принимаем решение Часть 3. Ответы на вопросы»</a:t>
            </a:r>
            <a:r>
              <a:rPr b="0" lang="ru-RU" sz="1300" spc="-1" strike="noStrike">
                <a:solidFill>
                  <a:srgbClr val="404040"/>
                </a:solidFill>
                <a:latin typeface="Century Gothic"/>
              </a:rPr>
              <a:t>14.02.2019 (Издательство «Просвещение», Издательский дом «Первое сентября»)</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 </a:t>
            </a:r>
            <a:r>
              <a:rPr b="1" lang="ru-RU" sz="1300" spc="-1" strike="noStrike">
                <a:solidFill>
                  <a:srgbClr val="404040"/>
                </a:solidFill>
                <a:latin typeface="Century Gothic"/>
              </a:rPr>
              <a:t>«Ценно-смысловые установки образовательной организации»</a:t>
            </a:r>
            <a:r>
              <a:rPr b="0" lang="ru-RU" sz="1300" spc="-1" strike="noStrike">
                <a:solidFill>
                  <a:srgbClr val="404040"/>
                </a:solidFill>
                <a:latin typeface="Century Gothic"/>
              </a:rPr>
              <a:t> 01.03.019 (Корпорация «Российский учебник», </a:t>
            </a:r>
            <a:r>
              <a:rPr b="0" lang="en-US" sz="1300" spc="-1" strike="noStrike">
                <a:solidFill>
                  <a:srgbClr val="404040"/>
                </a:solidFill>
                <a:latin typeface="Century Gothic"/>
              </a:rPr>
              <a:t>LECTA</a:t>
            </a:r>
            <a:r>
              <a:rPr b="0" lang="ru-RU" sz="1300" spc="-1" strike="noStrike">
                <a:solidFill>
                  <a:srgbClr val="404040"/>
                </a:solidFill>
                <a:latin typeface="Century Gothic"/>
              </a:rPr>
              <a:t>)</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Сервисы </a:t>
            </a:r>
            <a:r>
              <a:rPr b="1" lang="en-US" sz="1300" spc="-1" strike="noStrike">
                <a:solidFill>
                  <a:srgbClr val="404040"/>
                </a:solidFill>
                <a:latin typeface="Century Gothic"/>
              </a:rPr>
              <a:t>WEB</a:t>
            </a:r>
            <a:r>
              <a:rPr b="1" lang="ru-RU" sz="1300" spc="-1" strike="noStrike">
                <a:solidFill>
                  <a:srgbClr val="404040"/>
                </a:solidFill>
                <a:latin typeface="Century Gothic"/>
              </a:rPr>
              <a:t> 2.0 в образовательной деятельности»</a:t>
            </a:r>
            <a:r>
              <a:rPr b="0" lang="ru-RU" sz="1300" spc="-1" strike="noStrike">
                <a:solidFill>
                  <a:srgbClr val="404040"/>
                </a:solidFill>
                <a:latin typeface="Century Gothic"/>
              </a:rPr>
              <a:t> 04.02.2019 (Корпорация «Российский учебник», Дрофа, Вентана-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Читательский портрет современного подростка»</a:t>
            </a:r>
            <a:r>
              <a:rPr b="0" lang="ru-RU" sz="1300" spc="-1" strike="noStrike">
                <a:solidFill>
                  <a:srgbClr val="404040"/>
                </a:solidFill>
                <a:latin typeface="Century Gothic"/>
              </a:rPr>
              <a:t> 31.01.2019 (Корпорация «Российский учебник», Дрофа, Вентана-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Новый ФПУ. Анализируем. Обсуждаем. Принимаем решение Часть 2. Ответы на вопросы»</a:t>
            </a:r>
            <a:r>
              <a:rPr b="0" lang="ru-RU" sz="1300" spc="-1" strike="noStrike">
                <a:solidFill>
                  <a:srgbClr val="404040"/>
                </a:solidFill>
                <a:latin typeface="Century Gothic"/>
              </a:rPr>
              <a:t>14.02.2019 (Издательство «Просвещение», Издательский дом «Первое сентября»)</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Стили управления педагогическим коллективом, как избежать «управленческой невменяемости»?</a:t>
            </a:r>
            <a:r>
              <a:rPr b="0" lang="ru-RU" sz="1300" spc="-1" strike="noStrike">
                <a:solidFill>
                  <a:srgbClr val="404040"/>
                </a:solidFill>
                <a:latin typeface="Century Gothic"/>
              </a:rPr>
              <a:t> 28.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Внедрение ЭФУ в образовательный процесс. Из опыта работы учителя»</a:t>
            </a:r>
            <a:r>
              <a:rPr b="0" lang="ru-RU" sz="1300" spc="-1" strike="noStrike">
                <a:solidFill>
                  <a:srgbClr val="404040"/>
                </a:solidFill>
                <a:latin typeface="Century Gothic"/>
              </a:rPr>
              <a:t> 25.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Краудсорсинг, краудфандинг, распределенная проектная деятельность»</a:t>
            </a:r>
            <a:r>
              <a:rPr b="0" lang="ru-RU" sz="1300" spc="-1" strike="noStrike">
                <a:solidFill>
                  <a:srgbClr val="404040"/>
                </a:solidFill>
                <a:latin typeface="Century Gothic"/>
              </a:rPr>
              <a:t> 24.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Использование </a:t>
            </a:r>
            <a:r>
              <a:rPr b="1" lang="en-US" sz="1300" spc="-1" strike="noStrike">
                <a:solidFill>
                  <a:srgbClr val="404040"/>
                </a:solidFill>
                <a:latin typeface="Century Gothic"/>
              </a:rPr>
              <a:t>QR</a:t>
            </a:r>
            <a:r>
              <a:rPr b="1" lang="ru-RU" sz="1300" spc="-1" strike="noStrike">
                <a:solidFill>
                  <a:srgbClr val="404040"/>
                </a:solidFill>
                <a:latin typeface="Century Gothic"/>
              </a:rPr>
              <a:t> – кодов в образовательном процессе»</a:t>
            </a:r>
            <a:r>
              <a:rPr b="0" lang="ru-RU" sz="1300" spc="-1" strike="noStrike">
                <a:solidFill>
                  <a:srgbClr val="404040"/>
                </a:solidFill>
                <a:latin typeface="Century Gothic"/>
              </a:rPr>
              <a:t> 23.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a:t>
            </a:r>
            <a:r>
              <a:rPr b="1" lang="en-US" sz="1300" spc="-1" strike="noStrike">
                <a:solidFill>
                  <a:srgbClr val="404040"/>
                </a:solidFill>
                <a:latin typeface="Century Gothic"/>
              </a:rPr>
              <a:t>BYOD</a:t>
            </a:r>
            <a:r>
              <a:rPr b="1" lang="ru-RU" sz="1300" spc="-1" strike="noStrike">
                <a:solidFill>
                  <a:srgbClr val="404040"/>
                </a:solidFill>
                <a:latin typeface="Century Gothic"/>
              </a:rPr>
              <a:t>: использование мобильных устройств в образовательном процессе»</a:t>
            </a:r>
            <a:r>
              <a:rPr b="0" lang="ru-RU" sz="1300" spc="-1" strike="noStrike">
                <a:solidFill>
                  <a:srgbClr val="404040"/>
                </a:solidFill>
                <a:latin typeface="Century Gothic"/>
              </a:rPr>
              <a:t> 17.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534600" y="243000"/>
            <a:ext cx="11122200" cy="6372000"/>
          </a:xfrm>
          <a:prstGeom prst="rect">
            <a:avLst/>
          </a:prstGeom>
          <a:noFill/>
          <a:ln w="0">
            <a:noFill/>
          </a:ln>
        </p:spPr>
        <p:txBody>
          <a:bodyPr anchor="t">
            <a:normAutofit fontScale="99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сероссийские и международные исследова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овый ФПУ – новые вызовы. Принимаем взвешенные решения» </a:t>
            </a:r>
            <a:r>
              <a:rPr b="0" lang="ru-RU" sz="1800" spc="-1" strike="noStrike">
                <a:solidFill>
                  <a:srgbClr val="404040"/>
                </a:solidFill>
                <a:latin typeface="Century Gothic"/>
              </a:rPr>
              <a:t>Янв. – февр. 2019 г. (Корпорация «Российский учебник», Дрофа, Вентана - Граф)</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u="sng">
                <a:solidFill>
                  <a:srgbClr val="fb4a18"/>
                </a:solidFill>
                <a:uFillTx/>
                <a:latin typeface="Century Gothic"/>
                <a:hlinkClick r:id="rId1"/>
              </a:rPr>
              <a:t>Исследование роли библиотек от Гданьского университета Польш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Организация внеурочной деятельности на базе школьной библиотеки» </a:t>
            </a:r>
            <a:r>
              <a:rPr b="0" lang="ru-RU" sz="1800" spc="-1" strike="noStrike">
                <a:solidFill>
                  <a:srgbClr val="404040"/>
                </a:solidFill>
                <a:latin typeface="Century Gothic"/>
              </a:rPr>
              <a:t>(март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урсы: « Образовательная технология «Развитие критического мышления через чтение и письмо (ТРКМЧП)» </a:t>
            </a:r>
            <a:r>
              <a:rPr b="0" lang="ru-RU" sz="1800" spc="-1" strike="noStrike">
                <a:solidFill>
                  <a:srgbClr val="404040"/>
                </a:solidFill>
                <a:latin typeface="Century Gothic"/>
              </a:rPr>
              <a:t>(апрель 2019)</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айты, электронные портал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айт «Пермское региональное представительство РШБА»  </a:t>
            </a:r>
            <a:r>
              <a:rPr b="0" lang="en-US" sz="1800" spc="-1" strike="noStrike" u="sng">
                <a:solidFill>
                  <a:srgbClr val="404040"/>
                </a:solidFill>
                <a:uFillTx/>
                <a:latin typeface="Century Gothic"/>
              </a:rPr>
              <a:t>http</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permrchba</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my</a:t>
            </a:r>
            <a:r>
              <a:rPr b="0" lang="ru-RU" sz="1800" spc="-1" strike="noStrike" u="sng">
                <a:solidFill>
                  <a:srgbClr val="404040"/>
                </a:solidFill>
                <a:uFillTx/>
                <a:latin typeface="Century Gothic"/>
              </a:rPr>
              <a:t>1.</a:t>
            </a:r>
            <a:r>
              <a:rPr b="0" lang="en-US" sz="1800" spc="-1" strike="noStrike" u="sng">
                <a:solidFill>
                  <a:srgbClr val="404040"/>
                </a:solidFill>
                <a:uFillTx/>
                <a:latin typeface="Century Gothic"/>
              </a:rPr>
              <a:t>ru</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Электронный портал «Сетевое сообщество педагогов Пермского края» (группа «Проектный офис школьных библиотекарей Пермского края»)</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u="sng">
                <a:solidFill>
                  <a:srgbClr val="404040"/>
                </a:solidFill>
                <a:uFillTx/>
                <a:latin typeface="Century Gothic"/>
              </a:rPr>
              <a:t>      </a:t>
            </a:r>
            <a:r>
              <a:rPr b="0" lang="en-US" sz="1800" spc="-1" strike="noStrike" u="sng">
                <a:solidFill>
                  <a:srgbClr val="404040"/>
                </a:solidFill>
                <a:uFillTx/>
                <a:latin typeface="Century Gothic"/>
              </a:rPr>
              <a:t>http</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educomm</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iro</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perm</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ru</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ем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оздание информационно-библиотечного центра нового поколения в образовательном учреждении» для школьных библиотекарей г. Перми на базе МАОУ «СОШ № 22 с углубленным изучением иностранных языков» г. Перми </a:t>
            </a:r>
            <a:r>
              <a:rPr b="0" lang="ru-RU" sz="1800" spc="-1" strike="noStrike">
                <a:solidFill>
                  <a:srgbClr val="404040"/>
                </a:solidFill>
                <a:latin typeface="Century Gothic"/>
              </a:rPr>
              <a:t>(Янв-февр. 2019 г.)</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723600" y="423720"/>
            <a:ext cx="11163240" cy="1036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a53010"/>
                </a:solidFill>
                <a:latin typeface="Century Gothic"/>
              </a:rPr>
              <a:t>Стратегические линии развития школьных библиотек образовательных организаций Пермского края</a:t>
            </a:r>
            <a:br>
              <a:rPr sz="2800"/>
            </a:br>
            <a:endParaRPr b="0" lang="en-US" sz="2800" spc="-1" strike="noStrike">
              <a:solidFill>
                <a:srgbClr val="262626"/>
              </a:solidFill>
              <a:latin typeface="Century Gothic"/>
            </a:endParaRPr>
          </a:p>
        </p:txBody>
      </p:sp>
      <p:sp>
        <p:nvSpPr>
          <p:cNvPr id="1217" name=""/>
          <p:cNvSpPr txBox="1"/>
          <p:nvPr/>
        </p:nvSpPr>
        <p:spPr>
          <a:xfrm>
            <a:off x="723960" y="1596600"/>
            <a:ext cx="10780560" cy="48308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Итак, резюмируя все вышесказанное можно сказать, что интегрированная модель действий, предназначенных для достижения целей, т.е. выработки стратегии развития школьных библиотек образовательных организаций Пермского края строится и согласуется с федеральной «Концепцией развития ШИБЦ».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План реализации («дорожная карта»), региональной «Концепции развития ШИБЦ» согласуется с деятельностью Пермского регионального представительства РШБА, учитывает опыт современных российских и зарубежных  школьных библиотек, а также передовые инновационные практики, сложившихся в образовательных организациях Пермского края.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ыстраивая стратегические векторы развития школьных библиотек образовательных организаций Пермского края нужно отметить, что прошедший с 2016 года период показал рост позитивного настроения в профессиональной среде школьных библиотекарей края, наметил реальные шаги изменений, направленных на поиск и формирование целей к достижению поставленных результатов в профессиональной деятельности.             </a:t>
            </a:r>
            <a:endParaRPr b="0" lang="en-US" sz="1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8" name="Picture 4" descr=""/>
          <p:cNvPicPr/>
          <p:nvPr/>
        </p:nvPicPr>
        <p:blipFill>
          <a:blip r:embed="rId1"/>
          <a:stretch/>
        </p:blipFill>
        <p:spPr>
          <a:xfrm>
            <a:off x="4991040" y="276120"/>
            <a:ext cx="6081840" cy="4595760"/>
          </a:xfrm>
          <a:prstGeom prst="rect">
            <a:avLst/>
          </a:prstGeom>
          <a:ln w="0">
            <a:noFill/>
          </a:ln>
        </p:spPr>
      </p:pic>
      <p:sp>
        <p:nvSpPr>
          <p:cNvPr id="1219" name="Прямоугольник 2"/>
          <p:cNvSpPr/>
          <p:nvPr/>
        </p:nvSpPr>
        <p:spPr>
          <a:xfrm>
            <a:off x="887400" y="4681440"/>
            <a:ext cx="10617120" cy="2592720"/>
          </a:xfrm>
          <a:prstGeom prst="rect">
            <a:avLst/>
          </a:prstGeom>
          <a:noFill/>
          <a:ln w="0">
            <a:noFill/>
          </a:ln>
          <a:effectLst>
            <a:outerShdw dist="12727" dir="2700000" blurRad="0" rotWithShape="0">
              <a:srgbClr val="000000">
                <a:alpha val="20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c00000"/>
                </a:solidFill>
                <a:latin typeface="Century Gothic"/>
              </a:rPr>
              <a:t>АССОЦИАЦИЯ ШКОЛЬНЫХ БИБЛИОТЕКАРЕЙ РУССКОГО МИРА</a:t>
            </a:r>
            <a:endParaRPr b="0" lang="en-US" sz="24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21808"/>
                </a:solidFill>
                <a:latin typeface="Century Gothic"/>
              </a:rPr>
              <a:t>www.rusla.ru</a:t>
            </a: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21808"/>
                </a:solidFill>
                <a:latin typeface="Century Gothic"/>
              </a:rPr>
              <a:t>rusla@rusla.ru</a:t>
            </a: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a:t>
            </a:r>
            <a:endParaRPr b="0" lang="en-US" sz="2000" spc="-1" strike="noStrike">
              <a:solidFill>
                <a:srgbClr val="000000"/>
              </a:solidFill>
              <a:latin typeface="Century Gothic"/>
            </a:endParaRPr>
          </a:p>
        </p:txBody>
      </p:sp>
      <p:pic>
        <p:nvPicPr>
          <p:cNvPr id="1220" name="Рисунок 2" descr=""/>
          <p:cNvPicPr/>
          <p:nvPr/>
        </p:nvPicPr>
        <p:blipFill>
          <a:blip r:embed="rId2"/>
          <a:stretch/>
        </p:blipFill>
        <p:spPr>
          <a:xfrm>
            <a:off x="1562040" y="276120"/>
            <a:ext cx="1119240" cy="1555920"/>
          </a:xfrm>
          <a:prstGeom prst="rect">
            <a:avLst/>
          </a:prstGeom>
          <a:ln w="0">
            <a:noFill/>
          </a:ln>
        </p:spPr>
      </p:pic>
      <p:sp>
        <p:nvSpPr>
          <p:cNvPr id="1221" name="Прямоугольник 1"/>
          <p:cNvSpPr/>
          <p:nvPr/>
        </p:nvSpPr>
        <p:spPr>
          <a:xfrm>
            <a:off x="1562040" y="1405080"/>
            <a:ext cx="3429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Президент РШБА</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Т. Д. Жукова с членами Совета ПРП РШБА. 2014 г.  </a:t>
            </a:r>
            <a:endParaRPr b="0" lang="en-US" sz="1800" spc="-1" strike="noStrike">
              <a:solidFill>
                <a:srgbClr val="000000"/>
              </a:solidFill>
              <a:latin typeface="Century Gothic"/>
            </a:endParaRPr>
          </a:p>
        </p:txBody>
      </p:sp>
      <p:graphicFrame>
        <p:nvGraphicFramePr>
          <p:cNvPr id="1222" name="Object 4"/>
          <p:cNvGraphicFramePr/>
          <p:nvPr/>
        </p:nvGraphicFramePr>
        <p:xfrm>
          <a:off x="2681280" y="276120"/>
          <a:ext cx="2309760" cy="1560600"/>
        </p:xfrm>
        <a:graphic>
          <a:graphicData uri="http://schemas.openxmlformats.org/presentationml/2006/ole">
            <p:oleObj r:id="rId3" spid="">
              <p:embed/>
              <p:pic>
                <p:nvPicPr>
                  <p:cNvPr id="1223" name="Object 4" descr=""/>
                  <p:cNvPicPr/>
                  <p:nvPr/>
                </p:nvPicPr>
                <p:blipFill>
                  <a:blip r:embed="rId4"/>
                  <a:stretch/>
                </p:blipFill>
                <p:spPr>
                  <a:xfrm>
                    <a:off x="2681280" y="276120"/>
                    <a:ext cx="2309760" cy="1560600"/>
                  </a:xfrm>
                  <a:prstGeom prst="rect">
                    <a:avLst/>
                  </a:prstGeom>
                  <a:ln w="0">
                    <a:noFill/>
                  </a:ln>
                </p:spPr>
              </p:pic>
            </p:oleObj>
          </a:graphicData>
        </a:graphic>
      </p:graphicFrame>
    </p:spTree>
  </p:cSld>
  <p:transition spd="slow" advTm="15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1392120" y="450720"/>
            <a:ext cx="10112400" cy="589608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нормативные акты, регламентирующие содержание деятельности школьных библиотек, педагогов-библиотекарей, не отвечают вызовам времени и не обеспечивают их активное участие в управлении содержанием и качеством общего образования;</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существующая система переподготовки и повышения квалификации школьных библиотекарей не соответствует современным задачам и возрастающей роли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материально-техническая база школьных библиотек, состояние (содержание) библиотечных фондов не в полной мере соответствует современным требованиям (уровень обновляемости фондов ШБ в нашей стране составляет 1% при норме ЮНЕСКО 8-10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школьные библиотеки не стали активными субъектами формируемой в стране инфраструктуры чтения, не в полной мере выполняют функцию по воспитанию квалифицированного читателя.</a:t>
            </a:r>
            <a:endParaRPr b="0" lang="en-US" sz="1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В связи с этим, министерство в 2016 году начинает реализацию проектов, направленных на системную модернизацию деятельности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787400" y="623520"/>
            <a:ext cx="971712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Государственная политика в области развития библиотек </a:t>
            </a:r>
            <a:endParaRPr b="0" lang="en-US" sz="2400" spc="-1" strike="noStrike">
              <a:solidFill>
                <a:srgbClr val="262626"/>
              </a:solidFill>
              <a:latin typeface="Century Gothic"/>
            </a:endParaRPr>
          </a:p>
        </p:txBody>
      </p:sp>
      <p:sp>
        <p:nvSpPr>
          <p:cNvPr id="1190" name=""/>
          <p:cNvSpPr txBox="1"/>
          <p:nvPr/>
        </p:nvSpPr>
        <p:spPr>
          <a:xfrm>
            <a:off x="914040" y="1213920"/>
            <a:ext cx="10590120" cy="53089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2016 год – создание федерального  информационно- методического центра на базе Научной педагогической библиотеки имени Ушинского. В это время в планах – создание отраслевых документов, регламентирующих деятельность ШБ (модельное положение о ШБ, профессиональный стандарт педагога-библиотекаря и др.)</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В территориях начинают создаваться региональные информационно-библиотечные центры, утверждаются региональные Программы развития школьных библиотек, апробируются новые пилотные модели информационно-библиотечных центров.</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 </a:t>
            </a:r>
            <a:r>
              <a:rPr b="1" lang="ru-RU" sz="1800" spc="-1" strike="noStrike">
                <a:solidFill>
                  <a:srgbClr val="000000"/>
                </a:solidFill>
                <a:latin typeface="Century Gothic"/>
              </a:rPr>
              <a:t>«Современная открытая образовательная среда, современная школьная библиотека – это гарант эффективной реализации стандартов  общего образования и важный инструмент их внедрения».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Творческая  площадка передового опыта для специалистов школьных библиотек как ресурс развития  школьного библиотековедения Пермского края (г.Чернушка) Целевая аудитория: участниками стали  50 представителей   из 8 территорий Пермского края: г. Перми, г. Лысьвы, Кунгурского,  Кишертского,  Куединского, Октябрьского, Чайковского и Чернушинского районов.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996840" y="623520"/>
            <a:ext cx="1050768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6 год</a:t>
            </a:r>
            <a:endParaRPr b="0" lang="en-US" sz="2400" spc="-1" strike="noStrike">
              <a:solidFill>
                <a:srgbClr val="262626"/>
              </a:solidFill>
              <a:latin typeface="Century Gothic"/>
            </a:endParaRPr>
          </a:p>
        </p:txBody>
      </p:sp>
      <p:sp>
        <p:nvSpPr>
          <p:cNvPr id="1192" name=""/>
          <p:cNvSpPr txBox="1"/>
          <p:nvPr/>
        </p:nvSpPr>
        <p:spPr>
          <a:xfrm>
            <a:off x="819000" y="1104840"/>
            <a:ext cx="10685520" cy="51451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рии региональных форумов школьных библиотекарей (Удмуртская Республика, Курская область)</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проекте Резолюции регионального форума школьных библиотекарей Курской области  «Проектирование будущего школьной библиотеки» отмечено, что что необходимо создавать и развивать в ОО </a:t>
            </a:r>
            <a:r>
              <a:rPr b="1" lang="ru-RU" sz="1800" spc="-1" strike="noStrike">
                <a:solidFill>
                  <a:srgbClr val="c00000"/>
                </a:solidFill>
                <a:latin typeface="Century Gothic"/>
              </a:rPr>
              <a:t>инновационные модели</a:t>
            </a:r>
            <a:r>
              <a:rPr b="0" lang="ru-RU" sz="1800" spc="-1" strike="noStrike">
                <a:solidFill>
                  <a:srgbClr val="c00000"/>
                </a:solidFill>
                <a:latin typeface="Century Gothic"/>
              </a:rPr>
              <a:t> </a:t>
            </a:r>
            <a:r>
              <a:rPr b="1" lang="ru-RU" sz="1800" spc="-1" strike="noStrike">
                <a:solidFill>
                  <a:srgbClr val="404040"/>
                </a:solidFill>
                <a:latin typeface="Century Gothic"/>
              </a:rPr>
              <a:t>школьных библиотек, </a:t>
            </a:r>
            <a:r>
              <a:rPr b="1" lang="ru-RU" sz="1800" spc="-1" strike="noStrike">
                <a:solidFill>
                  <a:srgbClr val="c00000"/>
                </a:solidFill>
                <a:latin typeface="Century Gothic"/>
              </a:rPr>
              <a:t>вариативные модели</a:t>
            </a:r>
            <a:r>
              <a:rPr b="0" lang="ru-RU" sz="1800" spc="-1" strike="noStrike">
                <a:solidFill>
                  <a:srgbClr val="c00000"/>
                </a:solidFill>
                <a:latin typeface="Century Gothic"/>
              </a:rPr>
              <a:t> </a:t>
            </a:r>
            <a:r>
              <a:rPr b="1" lang="ru-RU" sz="1800" spc="-1" strike="noStrike">
                <a:solidFill>
                  <a:srgbClr val="404040"/>
                </a:solidFill>
                <a:latin typeface="Century Gothic"/>
              </a:rPr>
              <a:t>школьных библиотек (компактных школьных библиотек, функционирующих в условиях существующих ограничений), а также – </a:t>
            </a:r>
            <a:r>
              <a:rPr b="1" lang="ru-RU" sz="1800" spc="-1" strike="noStrike">
                <a:solidFill>
                  <a:srgbClr val="c00000"/>
                </a:solidFill>
                <a:latin typeface="Century Gothic"/>
              </a:rPr>
              <a:t>многофункциональных библиотечных центров</a:t>
            </a:r>
            <a:r>
              <a:rPr b="0" lang="ru-RU" sz="1800" spc="-1" strike="noStrike">
                <a:solidFill>
                  <a:srgbClr val="c00000"/>
                </a:solidFill>
                <a:latin typeface="Century Gothic"/>
              </a:rPr>
              <a:t> </a:t>
            </a:r>
            <a:r>
              <a:rPr b="1" lang="ru-RU" sz="1800" spc="-1" strike="noStrike">
                <a:solidFill>
                  <a:srgbClr val="404040"/>
                </a:solidFill>
                <a:latin typeface="Century Gothic"/>
              </a:rPr>
              <a:t>с широкими возможностями  организации информационного и культурно-образовательного пространства, и последующего развития системы диссеминации лучшего и инновационного опыта.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В этом же году началась широкая волна публикаций и выступлений ст. преподавателя ОГБОУ ДПО КИРО И. В. Булавиной. Статья </a:t>
            </a:r>
            <a:r>
              <a:rPr b="1" lang="ru-RU" sz="1800" spc="-1" strike="noStrike">
                <a:solidFill>
                  <a:srgbClr val="c00000"/>
                </a:solidFill>
                <a:latin typeface="Century Gothic"/>
              </a:rPr>
              <a:t>«Деятельность библиотек образовательных организаций в современных условиях» </a:t>
            </a:r>
            <a:r>
              <a:rPr b="1" lang="ru-RU" sz="1800" spc="-1" strike="noStrike">
                <a:solidFill>
                  <a:srgbClr val="404040"/>
                </a:solidFill>
                <a:latin typeface="Century Gothic"/>
              </a:rPr>
              <a:t>всесторонне освещала нормативно-правовое обеспечение деятельности библиотек образовательных организаций и содержание работы школьных информационно-библиотечных центров (ШБ.  2016.-№ 3).</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
          <p:cNvSpPr txBox="1"/>
          <p:nvPr/>
        </p:nvSpPr>
        <p:spPr>
          <a:xfrm>
            <a:off x="1282680" y="846000"/>
            <a:ext cx="10221840" cy="5065920"/>
          </a:xfrm>
          <a:prstGeom prst="rect">
            <a:avLst/>
          </a:prstGeom>
          <a:noFill/>
          <a:ln w="0">
            <a:noFill/>
          </a:ln>
        </p:spPr>
        <p:txBody>
          <a:bodyPr anchor="t">
            <a:normAutofit fontScale="96000"/>
          </a:bodyPr>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 перспективах библиотек образовательных организаций говорилось неоднократно на встречах в департаменте гос. политики Минобрнауки РФ  Материалы встречи легли в основу статьи </a:t>
            </a:r>
            <a:r>
              <a:rPr b="1" lang="ru-RU" sz="1800" spc="-1" strike="noStrike">
                <a:solidFill>
                  <a:srgbClr val="c00000"/>
                </a:solidFill>
                <a:latin typeface="Century Gothic"/>
              </a:rPr>
              <a:t>«Школьная библиотека – неотъемлемая часть образовательной деятельности» </a:t>
            </a:r>
            <a:r>
              <a:rPr b="1" lang="ru-RU" sz="1800" spc="-1" strike="noStrike">
                <a:solidFill>
                  <a:srgbClr val="404040"/>
                </a:solidFill>
                <a:latin typeface="Century Gothic"/>
              </a:rPr>
              <a:t>(ШБ 2016.№ 4)</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зделе  «Методическая копилка. Опыт региона» журнала  «Школьная библиотека» появляются рекомендации курского института развития образования </a:t>
            </a:r>
            <a:r>
              <a:rPr b="1" lang="ru-RU" sz="1800" spc="-1" strike="noStrike">
                <a:solidFill>
                  <a:srgbClr val="c00000"/>
                </a:solidFill>
                <a:latin typeface="Century Gothic"/>
              </a:rPr>
              <a:t>«Критерии оценки эффективности деятельности педагога-библиотекаря», Положение «Об учебном фонде информационно-библиотечного центр» </a:t>
            </a:r>
            <a:r>
              <a:rPr b="1" lang="ru-RU" sz="1800" spc="-1" strike="noStrike">
                <a:solidFill>
                  <a:srgbClr val="000000"/>
                </a:solidFill>
                <a:latin typeface="Century Gothic"/>
              </a:rPr>
              <a:t>(ШБ. 2016. №4); </a:t>
            </a:r>
            <a:r>
              <a:rPr b="1" lang="ru-RU" sz="1800" spc="-1" strike="noStrike">
                <a:solidFill>
                  <a:srgbClr val="c00000"/>
                </a:solidFill>
                <a:latin typeface="Century Gothic"/>
              </a:rPr>
              <a:t>«Внеурочная образовательная деятельность педагога-библиотекаря» </a:t>
            </a:r>
            <a:r>
              <a:rPr b="1" lang="ru-RU" sz="1800" spc="-1" strike="noStrike">
                <a:solidFill>
                  <a:srgbClr val="000000"/>
                </a:solidFill>
                <a:latin typeface="Century Gothic"/>
              </a:rPr>
              <a:t>с публикацией примерной программы «Грамочтей» </a:t>
            </a:r>
            <a:r>
              <a:rPr b="1" lang="ru-RU" sz="1800" spc="-1" strike="noStrike">
                <a:solidFill>
                  <a:srgbClr val="404040"/>
                </a:solidFill>
                <a:latin typeface="Century Gothic"/>
              </a:rPr>
              <a:t>(ШБ. 2016. №6)</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000000"/>
                </a:solidFill>
                <a:latin typeface="Century Gothic"/>
              </a:rPr>
              <a:t>После окончания региональных форумов начали появилась долгосрочные программы развития ШБ. Например, </a:t>
            </a:r>
            <a:r>
              <a:rPr b="1" lang="ru-RU" sz="1800" spc="-1" strike="noStrike">
                <a:solidFill>
                  <a:srgbClr val="c00000"/>
                </a:solidFill>
                <a:latin typeface="Century Gothic"/>
              </a:rPr>
              <a:t>«Программа развития школьных библиотек Калининградской области на 2016-2020 гг.» </a:t>
            </a:r>
            <a:r>
              <a:rPr b="1" lang="ru-RU" sz="1800" spc="-1" strike="noStrike">
                <a:solidFill>
                  <a:srgbClr val="000000"/>
                </a:solidFill>
                <a:latin typeface="Century Gothic"/>
              </a:rPr>
              <a:t>включала следующие проекты «Инфраструктура поддержки информационно-библиотечных центров образовательных организаций Калининградской области»  и    «Региональная автоматизированная библиотечная система образовательных организаций Калининградской области» (ШБ. 2016.№ 4).</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1173240" y="504360"/>
            <a:ext cx="10331280" cy="5745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фициальный документ </a:t>
            </a:r>
            <a:r>
              <a:rPr b="1" lang="ru-RU" sz="1800" spc="-1" strike="noStrike">
                <a:solidFill>
                  <a:srgbClr val="c00000"/>
                </a:solidFill>
                <a:latin typeface="Century Gothic"/>
              </a:rPr>
              <a:t>«Концепция развития школьных информационно-библиотечных центров», </a:t>
            </a:r>
            <a:r>
              <a:rPr b="1" lang="ru-RU" sz="1800" spc="-1" strike="noStrike">
                <a:solidFill>
                  <a:srgbClr val="404040"/>
                </a:solidFill>
                <a:latin typeface="Century Gothic"/>
              </a:rPr>
              <a:t>утвержденная приказом Министерства образования и науки Российской Федерации от 15 июня 2016 г. № 715 появилась летом 2016 года (ШБ. 2016. № 7). Концепция представляет собой систему взглядов на базовые принципы, цели, задачи и основные направления развития информационно-библиотечных центров РФ.</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мках второго  Международного профессионального форума «</a:t>
            </a:r>
            <a:r>
              <a:rPr b="1" lang="ru-RU" sz="1800" spc="-1" strike="noStrike">
                <a:solidFill>
                  <a:srgbClr val="c00000"/>
                </a:solidFill>
                <a:latin typeface="Century Gothic"/>
              </a:rPr>
              <a:t>Книга. Культура. Образование. Инновации»  («Крым- 2016) </a:t>
            </a:r>
            <a:r>
              <a:rPr b="1" lang="ru-RU" sz="1800" spc="-1" strike="noStrike">
                <a:solidFill>
                  <a:srgbClr val="404040"/>
                </a:solidFill>
                <a:latin typeface="Century Gothic"/>
              </a:rPr>
              <a:t>состоялся День школьного библиотекаря Крыма и включал круглый стол «Школьные библиотеки Крыма и новая профессия «Педагог-библиотекарь» Важнейшая мысль форума: «Библиотеки должны соответствовать новым требованиям, предлагая новые продукты и услуги» (ШБ. 2016. №8).</a:t>
            </a:r>
            <a:r>
              <a:rPr b="0" lang="ru-RU" sz="1800" spc="-1" strike="noStrike">
                <a:solidFill>
                  <a:srgbClr val="404040"/>
                </a:solidFill>
                <a:latin typeface="Century Gothic"/>
              </a:rPr>
              <a:t>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РАО при поддержки РШБА проводит Первый межрегиональный форум «Школьные библиотеки нового поколения». В рамках него состоялось обсуждение плана мероприятий по реализации Концепции. Доклад Т.Д. Жуковой </a:t>
            </a:r>
            <a:r>
              <a:rPr b="1" lang="ru-RU" sz="1800" spc="-1" strike="noStrike">
                <a:solidFill>
                  <a:srgbClr val="c00000"/>
                </a:solidFill>
                <a:latin typeface="Century Gothic"/>
              </a:rPr>
              <a:t>«Школьные библиотеки нового поколения» </a:t>
            </a:r>
            <a:r>
              <a:rPr b="1" lang="ru-RU" sz="1800" spc="-1" strike="noStrike">
                <a:solidFill>
                  <a:srgbClr val="000000"/>
                </a:solidFill>
                <a:latin typeface="Century Gothic"/>
              </a:rPr>
              <a:t>в котором она говорила о стратегических проектах РШБА – движении «Молодая Россия Читает», «Читающая мама-читающая страна», об опыте работы шанхайских школ по созданию комнат для мам (ШБ. 2016. № 9, 11).</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36680" y="341280"/>
            <a:ext cx="11067840" cy="5047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6</a:t>
            </a:r>
            <a:endParaRPr b="0" lang="en-US" sz="2400" spc="-1" strike="noStrike">
              <a:solidFill>
                <a:srgbClr val="262626"/>
              </a:solidFill>
              <a:latin typeface="Century Gothic"/>
            </a:endParaRPr>
          </a:p>
        </p:txBody>
      </p:sp>
      <p:sp>
        <p:nvSpPr>
          <p:cNvPr id="1196" name=""/>
          <p:cNvSpPr txBox="1"/>
          <p:nvPr/>
        </p:nvSpPr>
        <p:spPr>
          <a:xfrm>
            <a:off x="614520" y="845640"/>
            <a:ext cx="10890000" cy="5650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a53010"/>
                </a:solidFill>
                <a:uFillTx/>
                <a:latin typeface="Century Gothic"/>
              </a:rPr>
              <a:t>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Межрегиональная научно-практическая конференция, посвященная 180-летию Пермской краевой библиотеки им. А.М. Горького «Современное библиотечное дело в контексте социально – экономического развития региона». Секция «Стратегии инновационного развития детских и школьных библиотек» </a:t>
            </a:r>
            <a:r>
              <a:rPr b="0" lang="ru-RU" sz="1800" spc="-1" strike="noStrike">
                <a:solidFill>
                  <a:srgbClr val="404040"/>
                </a:solidFill>
                <a:latin typeface="Century Gothic"/>
              </a:rPr>
              <a:t>03-07.10.2016 (Пермская краевая детская библиотека им. Л.И. Кузьмина).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404040"/>
                </a:solidFill>
                <a:latin typeface="Century Gothic"/>
              </a:rPr>
              <a:t>Выступления:</a:t>
            </a:r>
            <a:r>
              <a:rPr b="0" i="1" lang="ru-RU" sz="1800" spc="-1" strike="noStrike">
                <a:solidFill>
                  <a:srgbClr val="404040"/>
                </a:solidFill>
                <a:latin typeface="Century Gothic"/>
              </a:rPr>
              <a:t> «Стратегии и практики работы школьных библиотек Пермского края» (Мальщукова И.В.); «О взаимодействии общедоступных библиотек и библиотек образовательных учреждений (из опыта работы РМЩО школьных библиотекарей Пермского муниципального района)» (Лазарева Н.А.), «Творческая площадка передового опыта как инструмент развития современной школьной библиотеки» (Шашкина В.Н.), «Формы повышения квалификации школьных библиотекарей» (Тюленева Е.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аучно-практическая конференция «Инновационные механизмы достижения новых предметных, метапредметных, личностных образовательных результатов обучающихся в условиях внедрения Федерального государственного образовательного стандарта общего образования» </a:t>
            </a:r>
            <a:r>
              <a:rPr b="0" lang="ru-RU" sz="1800" spc="-1" strike="noStrike">
                <a:solidFill>
                  <a:srgbClr val="404040"/>
                </a:solidFill>
                <a:latin typeface="Century Gothic"/>
              </a:rPr>
              <a:t>09-10.11.2016 (ИРО Пермского края). </a:t>
            </a:r>
            <a:r>
              <a:rPr b="0" i="1" lang="ru-RU" sz="1800" spc="-1" strike="noStrike">
                <a:solidFill>
                  <a:srgbClr val="404040"/>
                </a:solidFill>
                <a:latin typeface="Century Gothic"/>
              </a:rPr>
              <a:t>Доклад «Готовимся к реформированию школьной библиотечной системы: от школьной библиотеки к информационно-библиотечному центру».</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1665000" y="355680"/>
            <a:ext cx="9839160" cy="55562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овещан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Ежегодный семинар-совещание библиотечных специалистов образовательных организаций Пермского края (29 марта 2016 г.) </a:t>
            </a:r>
            <a:r>
              <a:rPr b="1" lang="ru-RU" sz="1800" spc="-1" strike="noStrike">
                <a:solidFill>
                  <a:srgbClr val="c00000"/>
                </a:solidFill>
                <a:latin typeface="Century Gothic"/>
              </a:rPr>
              <a:t>«Повышение профессионального уровня библиотечных  специалистов в современной школе»</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В работе семинара-совещания приняли участие  консультант Министерства образования и науки Пермского края Батуева М.И., директор книготорговой фирмы ООО «Лира 2» Жмыхова Г.И. Участвовали  в мероприятии более 90 человек из 20 районов края</a:t>
            </a:r>
            <a:r>
              <a:rPr b="1" lang="ru-RU" sz="1800" spc="-1" strike="noStrike">
                <a:solidFill>
                  <a:srgbClr val="404040"/>
                </a:solidFill>
                <a:latin typeface="Century Gothic"/>
              </a:rPr>
              <a:t>.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Основной тезис всех выступлений библиотечных специалистов на семинаре – совещании - школьная библиотека не может сегодня не соответствовать современным тенденциям развития образования,  а  школьный библиотекарь не сможет удовлетворять информационные запросы педагогов и учеников  без профессионального роста.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е совещание «Развитие школьных информационно-библиотечных центров» 10 ноября 2016 года.</a:t>
            </a:r>
            <a:r>
              <a:rPr b="0" lang="ru-RU" sz="1800" spc="-1" strike="noStrike">
                <a:solidFill>
                  <a:srgbClr val="404040"/>
                </a:solidFill>
                <a:latin typeface="Century Gothic"/>
              </a:rPr>
              <a:t> Выступление начальника управления общего образования Министерства образования и науки Пермского края Л. Н. Калинчиковой.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3T00:08:21Z</dcterms:created>
  <dc:creator>Пользователь</dc:creator>
  <dc:description/>
  <dc:language>en-US</dc:language>
  <cp:lastModifiedBy>Пользователь</cp:lastModifiedBy>
  <dcterms:modified xsi:type="dcterms:W3CDTF">2019-03-24T20:28:17Z</dcterms:modified>
  <cp:revision>152</cp:revision>
  <dc:subject/>
  <dc:title>СТРАТЕГИИ И ПРАКТИКИ ШКОЛЬНЫХ БИБЛИОТЕК ПЕРМСКОГО КРАЯ</dc:title>
</cp:coreProperties>
</file>