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74DF8-80E8-44C3-A833-FA26C23EF8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FECDB-B16B-4233-8D9D-0561ED12AE4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C5196-BD6D-4CA9-BFFC-1F9D4EF3CBD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714B7-77B3-49C0-875A-7441DC2FF3E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11CC-0F08-4415-B9E0-B63C2C8DF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F753-A5D7-49B7-9FBF-9368BF4D3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CA97-3856-4118-A5B4-2BCD47153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C0DB-CEC2-444A-9B2C-B36BDA8A6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1988-63F7-4F2F-A781-17230FED4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A7E9-5770-4002-B908-AD8AFDB64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3567-D7E0-4229-B98D-D38DD1B3D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D39F-3F49-4322-93B5-1FA3AB7AE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EF33-7910-446C-AA93-64D6BAE18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F84A-95DF-46F1-88AA-813426C1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9C7F-E5AF-45D6-A2B6-589710B1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6C95-DEEF-4D52-B936-98C00717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3C4CE-9C52-4061-B16C-CB75EC8CC3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C:\Users\VV\Desktop\Таблички_cr_cr.jpg"/>
          <p:cNvPicPr/>
          <p:nvPr/>
        </p:nvPicPr>
        <p:blipFill>
          <a:blip r:embed="rId1"/>
          <a:srcRect l="0" t="0" r="78257" b="0"/>
          <a:stretch/>
        </p:blipFill>
        <p:spPr>
          <a:xfrm>
            <a:off x="250920" y="0"/>
            <a:ext cx="720720" cy="706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7740720" y="189000"/>
            <a:ext cx="577800" cy="4968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8" descr=""/>
          <p:cNvPicPr/>
          <p:nvPr/>
        </p:nvPicPr>
        <p:blipFill>
          <a:blip r:embed="rId3"/>
          <a:stretch/>
        </p:blipFill>
        <p:spPr>
          <a:xfrm>
            <a:off x="8388360" y="189000"/>
            <a:ext cx="576360" cy="555480"/>
          </a:xfrm>
          <a:prstGeom prst="rect">
            <a:avLst/>
          </a:prstGeom>
          <a:ln w="0">
            <a:noFill/>
          </a:ln>
        </p:spPr>
      </p:pic>
      <p:sp>
        <p:nvSpPr>
          <p:cNvPr id="51" name="Заголовок 1"/>
          <p:cNvSpPr/>
          <p:nvPr/>
        </p:nvSpPr>
        <p:spPr>
          <a:xfrm>
            <a:off x="1042920" y="189000"/>
            <a:ext cx="5743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f50"/>
                </a:solidFill>
                <a:latin typeface="Calibri Light"/>
                <a:ea typeface="Times New Roman"/>
              </a:rPr>
              <a:t>МАОУ «СРЕДНЯЯ ОБЩЕОБРАЗОВАТЕЛЬНАЯ ШКОЛА №2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f50"/>
                </a:solidFill>
                <a:latin typeface="Calibri Light"/>
                <a:ea typeface="Times New Roman"/>
              </a:rPr>
              <a:t>С УГЛУБЛЕННЫМ ИЗУЧЕНИЕМ ИНОСТРАННЫХ ЯЗЫКОВ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f50"/>
                </a:solidFill>
                <a:latin typeface="Calibri Light"/>
                <a:ea typeface="Times New Roman"/>
              </a:rPr>
              <a:t>ГОРОДА ПЕР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63640" y="1252080"/>
            <a:ext cx="6997680" cy="52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2003400" y="1413000"/>
            <a:ext cx="714060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Georgia"/>
              </a:rPr>
              <a:t>Роль информационно-библиотечных центров нового покол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Monotype Corsiva"/>
              </a:rPr>
              <a:t>Пермь, 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http://www.schillergymnasium-pirna.de/images/certilingua.gif"/>
          <p:cNvPicPr/>
          <p:nvPr/>
        </p:nvPicPr>
        <p:blipFill>
          <a:blip r:embed="rId4"/>
          <a:stretch/>
        </p:blipFill>
        <p:spPr>
          <a:xfrm>
            <a:off x="7093080" y="189000"/>
            <a:ext cx="503280" cy="498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C:\Users\VV\Desktop\Таблички_cr.jpg"/>
          <p:cNvPicPr/>
          <p:nvPr/>
        </p:nvPicPr>
        <p:blipFill>
          <a:blip r:embed="rId5"/>
          <a:stretch/>
        </p:blipFill>
        <p:spPr>
          <a:xfrm>
            <a:off x="179280" y="1052640"/>
            <a:ext cx="676908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7138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Georgia"/>
              </a:rPr>
              <a:t>Актуальные тренды образовательной сре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353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Georgia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79280" y="1197000"/>
          <a:ext cx="8964720" cy="4675320"/>
        </p:xfrm>
        <a:graphic>
          <a:graphicData uri="http://schemas.openxmlformats.org/drawingml/2006/table">
            <a:tbl>
              <a:tblPr/>
              <a:tblGrid>
                <a:gridCol w="2430720"/>
                <a:gridCol w="3300120"/>
                <a:gridCol w="3233880"/>
              </a:tblGrid>
              <a:tr h="93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Моби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пользовате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Абоненты сотовой связи 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8,2 млрд.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Пользователи сети Интернет 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5 млрд.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Мобильност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устройств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Объем продаж носимых «умных» устройств достигне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270 млн шт. в 2019 г. (свыше 80% из них –«умные» устройства ), развитие экосисте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Развитие Интернета вещей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Общемировые затраты ИТ-компаний в рамках</a:t>
                      </a:r>
                      <a:r>
                        <a:rPr b="0" lang="ru-RU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«Интернета вещей в 2020 г. составя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         </a:t>
                      </a: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6 трлн долл.</a:t>
                      </a: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Роботиз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Роботы станут авторами 20% всех деловых документов, а «роботы-боссы» будут контролировать более      3 млн. работников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Технология 3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 D</a:t>
                      </a: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 печа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К 2020 г. продажи промышленных 3D-принтеров вырастет на 164%ежегодно (медицина, энергетика, машиностроение, космос)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" name="" descr=""/>
          <p:cNvPicPr/>
          <p:nvPr/>
        </p:nvPicPr>
        <p:blipFill>
          <a:blip r:embed="rId1"/>
          <a:srcRect l="29509" t="3459" r="0" b="0"/>
          <a:stretch/>
        </p:blipFill>
        <p:spPr>
          <a:xfrm>
            <a:off x="4427640" y="1197000"/>
            <a:ext cx="1511280" cy="111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56000" y="1197000"/>
            <a:ext cx="1734840" cy="1125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rcRect l="23310" t="0" r="21361" b="0"/>
          <a:stretch/>
        </p:blipFill>
        <p:spPr>
          <a:xfrm>
            <a:off x="4284720" y="2421000"/>
            <a:ext cx="1654200" cy="1439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rcRect l="8859" t="11782" r="0" b="5537"/>
          <a:stretch/>
        </p:blipFill>
        <p:spPr>
          <a:xfrm>
            <a:off x="2556000" y="2421000"/>
            <a:ext cx="1584360" cy="14367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rcRect l="4225" t="0" r="0" b="2090"/>
          <a:stretch/>
        </p:blipFill>
        <p:spPr>
          <a:xfrm>
            <a:off x="3995640" y="4724280"/>
            <a:ext cx="1906560" cy="1152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2484360" y="3860640"/>
            <a:ext cx="2449440" cy="936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50920" y="6237360"/>
            <a:ext cx="88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Monotype Corsiva"/>
              </a:rPr>
              <a:t>Пермь, 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33000"/>
            <a:ext cx="78868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Georgia"/>
              </a:rPr>
              <a:t>Нормативно-правовая баз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06080" y="1125000"/>
            <a:ext cx="85582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451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Постановление Правительства Российской Федерации «Об утверждении Стратегии развития воспитания в Российской Федерации на период до 2025 года» от 29.05. 2015 г. № 996-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451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Программа «Цифровая экономика Российской Федерации до 2025 года» утверждена Правительством РФ от 28 июля 2017 года под №1632-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451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Указом Президента Российской Федерации от 1 декабря 2016 г. №642  утверждена «Стратегия научно-технологического развития Российской Федерации на период до 2035 год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451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Постановление Правительства РФ от 18 апреля 2016 г. N 317 утверждена государственная программа "О реализации Национальной технологической инициативы на период до 2035 го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451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Приказ Минобрнауки РФ №715 от 15.06.2016 года «Об утверждении Концепции развития школьных информационно-библиотечных центров на период 2016-2020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3"/>
          <p:cNvSpPr/>
          <p:nvPr/>
        </p:nvSpPr>
        <p:spPr>
          <a:xfrm>
            <a:off x="800280" y="6165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Monotype Corsiva"/>
              </a:rPr>
              <a:t>Пермь, 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710560" cy="16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Georgia"/>
              </a:rPr>
              <a:t>Единое информационно-образовательное простран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83920" y="1915920"/>
            <a:ext cx="40179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4788000" y="2205000"/>
            <a:ext cx="4103640" cy="3424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89334"/>
          <p:cNvPicPr/>
          <p:nvPr/>
        </p:nvPicPr>
        <p:blipFill>
          <a:blip r:embed="rId2"/>
          <a:stretch/>
        </p:blipFill>
        <p:spPr>
          <a:xfrm>
            <a:off x="179280" y="2205000"/>
            <a:ext cx="4248360" cy="341172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6"/>
          <p:cNvSpPr/>
          <p:nvPr/>
        </p:nvSpPr>
        <p:spPr>
          <a:xfrm>
            <a:off x="503280" y="6093000"/>
            <a:ext cx="82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Monotype Corsiva"/>
              </a:rPr>
              <a:t>Пермь ,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Georgia"/>
              </a:rPr>
              <a:t>Цифровая образовательная сре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3241800" cy="45514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92000" y="1915920"/>
            <a:ext cx="547236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Доступ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Georgia"/>
              </a:rPr>
              <a:t>Насыщ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Персонализ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Безопас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Возрастосообраз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0200" y="6237360"/>
            <a:ext cx="883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Monotype Corsiva"/>
              </a:rPr>
              <a:t>Пермь, 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Схема 4" descr=""/>
          <p:cNvPicPr/>
          <p:nvPr/>
        </p:nvPicPr>
        <p:blipFill>
          <a:blip r:embed="rId1"/>
          <a:stretch/>
        </p:blipFill>
        <p:spPr>
          <a:xfrm>
            <a:off x="785880" y="281160"/>
            <a:ext cx="7572240" cy="582120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6"/>
          <p:cNvSpPr/>
          <p:nvPr/>
        </p:nvSpPr>
        <p:spPr>
          <a:xfrm>
            <a:off x="606600" y="6141960"/>
            <a:ext cx="81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Monotype Corsiva"/>
              </a:rPr>
              <a:t>Пермь, 20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9" descr="020"/>
          <p:cNvPicPr/>
          <p:nvPr/>
        </p:nvPicPr>
        <p:blipFill>
          <a:blip r:embed="rId1"/>
          <a:srcRect l="0" t="0" r="0" b="6824"/>
          <a:stretch/>
        </p:blipFill>
        <p:spPr>
          <a:xfrm>
            <a:off x="503280" y="0"/>
            <a:ext cx="8319960" cy="612288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4"/>
          <p:cNvSpPr/>
          <p:nvPr/>
        </p:nvSpPr>
        <p:spPr>
          <a:xfrm>
            <a:off x="584280" y="6111720"/>
            <a:ext cx="831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Monotype Corsiva"/>
              </a:rPr>
              <a:t>Семинар «Создание информационно-библиотечных центров нового поколения в образовательных учреждениях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Monotype Corsiva"/>
              </a:rPr>
              <a:t>Пермь ,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C:\Users\VV\Desktop\Таблички_cr.jpg"/>
          <p:cNvPicPr/>
          <p:nvPr/>
        </p:nvPicPr>
        <p:blipFill>
          <a:blip r:embed="rId1"/>
          <a:stretch/>
        </p:blipFill>
        <p:spPr>
          <a:xfrm>
            <a:off x="88920" y="1415880"/>
            <a:ext cx="7362720" cy="4972320"/>
          </a:xfrm>
          <a:prstGeom prst="rect">
            <a:avLst/>
          </a:prstGeom>
          <a:ln w="0">
            <a:noFill/>
          </a:ln>
        </p:spPr>
      </p:pic>
      <p:sp>
        <p:nvSpPr>
          <p:cNvPr id="83" name="Заголовок 1"/>
          <p:cNvSpPr/>
          <p:nvPr/>
        </p:nvSpPr>
        <p:spPr>
          <a:xfrm>
            <a:off x="2244600" y="189000"/>
            <a:ext cx="45421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46320" y="1252440"/>
            <a:ext cx="6997680" cy="448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пасибо за внимание!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1793880" y="5745240"/>
            <a:ext cx="719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Monotype Corsiva"/>
              </a:rPr>
              <a:t>Пермь, 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"/>
          <p:cNvPicPr/>
          <p:nvPr/>
        </p:nvPicPr>
        <p:blipFill>
          <a:blip r:embed="rId2"/>
          <a:stretch/>
        </p:blipFill>
        <p:spPr>
          <a:xfrm>
            <a:off x="7740720" y="260280"/>
            <a:ext cx="576360" cy="49680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8" descr=""/>
          <p:cNvPicPr/>
          <p:nvPr/>
        </p:nvPicPr>
        <p:blipFill>
          <a:blip r:embed="rId3"/>
          <a:stretch/>
        </p:blipFill>
        <p:spPr>
          <a:xfrm>
            <a:off x="8317080" y="189000"/>
            <a:ext cx="610920" cy="555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http://www.schillergymnasium-pirna.de/images/certilingua.gif"/>
          <p:cNvPicPr/>
          <p:nvPr/>
        </p:nvPicPr>
        <p:blipFill>
          <a:blip r:embed="rId4"/>
          <a:stretch/>
        </p:blipFill>
        <p:spPr>
          <a:xfrm>
            <a:off x="7236000" y="260280"/>
            <a:ext cx="431640" cy="4986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C:\Users\VV\Desktop\Таблички_cr_cr.jpg"/>
          <p:cNvPicPr/>
          <p:nvPr/>
        </p:nvPicPr>
        <p:blipFill>
          <a:blip r:embed="rId5"/>
          <a:srcRect l="0" t="0" r="78257" b="0"/>
          <a:stretch/>
        </p:blipFill>
        <p:spPr>
          <a:xfrm>
            <a:off x="324000" y="260280"/>
            <a:ext cx="718920" cy="706680"/>
          </a:xfrm>
          <a:prstGeom prst="rect">
            <a:avLst/>
          </a:prstGeom>
          <a:ln w="0">
            <a:noFill/>
          </a:ln>
        </p:spPr>
      </p:pic>
      <p:sp>
        <p:nvSpPr>
          <p:cNvPr id="90" name="Заголовок 1"/>
          <p:cNvSpPr/>
          <p:nvPr/>
        </p:nvSpPr>
        <p:spPr>
          <a:xfrm>
            <a:off x="1258920" y="333360"/>
            <a:ext cx="5834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f50"/>
                </a:solidFill>
                <a:latin typeface="Calibri Light"/>
                <a:ea typeface="Times New Roman"/>
              </a:rPr>
              <a:t>МАОУ «СРЕДНЯЯ ОБЩЕОБРАЗОВАТЕЛЬНАЯ ШКОЛА №22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f50"/>
                </a:solidFill>
                <a:latin typeface="Calibri Light"/>
                <a:ea typeface="Times New Roman"/>
              </a:rPr>
              <a:t>С УГЛУБЛЕННЫМ ИЗУЧЕНИЕМ ИНОСТРАННЫХ ЯЗЫКОВ»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f50"/>
                </a:solidFill>
                <a:latin typeface="Calibri Light"/>
                <a:ea typeface="Times New Roman"/>
              </a:rPr>
              <a:t>ГОРОДА ПЕРМ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15T08:20:22Z</dcterms:created>
  <dc:creator>User</dc:creator>
  <dc:description/>
  <dc:language>en-US</dc:language>
  <cp:lastModifiedBy>User</cp:lastModifiedBy>
  <dcterms:modified xsi:type="dcterms:W3CDTF">2019-03-22T05:13:01Z</dcterms:modified>
  <cp:revision>4</cp:revision>
  <dc:subject/>
  <dc:title> </dc:title>
</cp:coreProperties>
</file>