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38C3-F7C4-4676-904B-A6DE52B859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2B95-A915-4555-8A78-74F5C3216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ата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барь В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ерхний колонтитул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F55-E6EF-4D15-A2CC-EFA897FB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1FC-2A8B-4522-8C0F-D1E88074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410-5916-4D91-9677-4C41F158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E50-54A3-4FA4-9B09-C8A38CA6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A22E-8FBE-44DF-8AAC-E0A2F6A1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EF19-1126-4641-886E-B36030F7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2AF2-ECAD-4863-91CF-390FB8A5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4B2B-2E91-492A-BF3D-E92D25AA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F03F-9841-4520-A1A3-D667801E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FA37-07D3-4326-870F-581540FD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E7C2-E1FD-4139-8CC4-F18CEC8A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F09-0376-47A6-9D5D-4C1507DB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1436-E554-4D24-8E76-BA06392E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5D1A-8707-43D4-8999-5761D498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16B3-13E1-4E70-BB0E-25AA8BB2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7C3B-292F-44ED-857A-BE5ACD53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98E3-63C0-4246-9CF4-C7BC08D8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FCD-A80D-4CAB-BA96-FDC1C1B8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089-954D-4266-801A-E67A1E7E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54F-0A4C-446B-99C1-49A3136D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969-E3C0-4EFF-806B-ED11ED08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B9C-338C-482E-8A3E-827DA91F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C08-85F1-475A-BA79-D11C4EFF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124-7FAA-43C0-B58D-52F2731D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54A1-3A4F-4E97-9B21-8222BDF4F103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7806-B8A7-4F36-BD08-684E506CFC93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rtfolio-edu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213000"/>
            <a:ext cx="7632720" cy="2190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Сетевое сообщество педагогов Пермского края как ресурс профессионального рост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4032360" y="551664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аева Татьяна Викторов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профессионального развития педагогов 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0255-69A7-4B7F-ACFF-89C5E46658EE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11556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каз Министерства труда и социальной защиты РФ от 10 января 2017 г. № 10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«Об утверждении профессионального стандарта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пециалист в области воспитания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3285-6436-4636-BB6E-A13BE58C22D6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8207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E81F-269B-4C8C-8045-F026355639EA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628640"/>
          <a:ext cx="8424720" cy="4608720"/>
        </p:xfrm>
        <a:graphic>
          <a:graphicData uri="http://schemas.openxmlformats.org/drawingml/2006/table">
            <a:tbl>
              <a:tblPr/>
              <a:tblGrid>
                <a:gridCol w="4114800"/>
                <a:gridCol w="4309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ектирование и реализация библиотечно-педагогического обеспечения в образовательных организациях начального общего, основного общего, среднего общего образован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нирование и осуществление библиотечно-педагогической деятельности в соответствии с требованиями ФГОС общего образо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Цели и задачи сообщества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действие профессиональному развитию работников системы образования Пермского края посредством решения профессиональных затруднений и проблем на основе сетевого взаимодейств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здать единое информационно-методическое пространство сетевого взаимодействия, как отдельных работников образования, так и коллективов образовательных организаций, работающих в инновационном режим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рганизовать деятельность сетевых объединений для профессионального обсуждения, обмена мнениями и опытом, публикации материалов (разработок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держать образовательные инициативы, способствовать распространению успешных педагогических практик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еспечить проведение экспертной оценки методических и других практико-ориентированных материал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052280"/>
            <a:ext cx="8362800" cy="561636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Название сообщества: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«Сообщество педагогов Пермского края»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бщее описан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етевое сообщество педагогических работников Пермского края, зарегистрированных на сетевом ресурсе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portfolio-edu.ru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Адрес сайта: </a:t>
            </a:r>
            <a:r>
              <a:rPr b="1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educomm.iro.perm.ru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сновные формы сетевого взаимодейств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фессиональные группы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блемные группы, объединенные решением определенной проблемы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фокус-группы, объединенные общим интересом и деятельностью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ецифика: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суждаются актуальные проблемы системы образования Пермского кра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8A7C-0E7D-47B2-AF04-BD7D54BE520F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11280" y="1628640"/>
            <a:ext cx="6446880" cy="4680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ератор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Мальщукова Ирина Вениамино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заведующий ЛИБЦ МАОУ Лицей №10 г. Пермь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Шашкина Валентина Николае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ведующий БИЦ, педагог - библиотекарь МАОУ «Гимназия» г. Чернуш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9625-5FB0-4C88-99EE-70DC4DCD1C3D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65120" y="1268280"/>
            <a:ext cx="6699240" cy="3456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еятельность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нформационно-методическое сопровождение процессов реализации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Программы поддержки детского и юношеского чтения в Российской Федерации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,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и развития школьных информационно-библиотечных центр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одернизации школьных библиотек в соответствии с 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«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ей развития школьных информационно-библиотечных центров в Пермском крае в 2018-2021 годах»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2EBB-95E3-4A4F-BA9A-858F47873F52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520" y="4890960"/>
            <a:ext cx="381636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6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280" y="-7920"/>
            <a:ext cx="71643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Организация работы портал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ообщество педагогов Пермского края»</a:t>
            </a:r>
            <a:endParaRPr b="1" lang="en-US" sz="2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4920" y="1052640"/>
            <a:ext cx="8497800" cy="4176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тент сетевых групп структурирован по разделам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Новости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актуальная и полезная информация о событиях в системе образов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Методическая копилка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лощадка для публикаций представляемых материалов, прошедших экспертизу. Материалы в данном разделе размещаются модератор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Документы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актуальные нормативно-правовые акты, относящиеся к деятельности сетевой групп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Полезные ссылки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ссылки на ресурсы, относящиеся к содержанию деятельности сетевых групп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Форум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бсуждение представленных пользователями материалов, а также ведение дискуссий на заданные модератором и участниками тем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а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ереговорная площад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8569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53:29Z</dcterms:created>
  <dc:creator>Old_School</dc:creator>
  <dc:description/>
  <dc:language>en-US</dc:language>
  <cp:lastModifiedBy>Админ</cp:lastModifiedBy>
  <cp:lastPrinted>2017-08-25T11:48:31Z</cp:lastPrinted>
  <dcterms:modified xsi:type="dcterms:W3CDTF">2019-03-23T06:15:17Z</dcterms:modified>
  <cp:revision>223</cp:revision>
  <dc:subject/>
  <dc:title>Образование без границ</dc:title>
</cp:coreProperties>
</file>