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58D2-9780-4718-AEBA-6CFC3C1C6A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6B09-4C40-49E1-9604-7C3C4B7AC3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ата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барь В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ерхний колонтитул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AC2-2590-414E-9CAA-C41E078BE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A40-65BE-4A21-9164-C39A8930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119-EFD7-4091-8717-4FFC7C2C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98F-5CFF-422A-B32D-6EDBA52A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C90D-57A8-44B9-9DA7-8AF83499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94CC-3994-41F8-AA0E-CABD63F2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51E4-DEFA-455C-A734-D27C8C34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18C2-F136-45E5-BBEA-3CFA98DE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0B57-2263-4DA0-8E15-387F8094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288B-9D1C-4517-816C-0AF0D69B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113C-86BE-4C53-ABED-49D12832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C5E-2BF7-41D0-861A-C3FF0AAC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BD90-3051-46C6-924B-F3B11161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6860-E57A-4749-B344-D0D83687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9E72-185F-400A-B1B1-E80D80EA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CCF8-85E3-4A54-B473-6E6A054B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348BC-30A3-41B3-9986-4F721A6A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CB7-C432-453C-B105-2CB8B87B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E8A-C43E-40B4-BE5E-BA00A194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547-B72D-4BD5-B9A2-F79FDF5F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D39-8259-49B7-B0B2-3F2CF5C5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791D-7AE6-4304-8AE2-284C8074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032-74E8-4440-8EBD-2B0665EB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F3B-8553-4540-9289-94EB2EDC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CA51-6845-4780-9E15-D72B994CED6B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13D3-1BEE-4A43-A338-055CB304AE1A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rtfolio-edu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213000"/>
            <a:ext cx="7632720" cy="2190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Сетевое сообщество педагогов Пермского края как ресурс профессионального рост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4032360" y="5516640"/>
            <a:ext cx="48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аева Татьяна Викторов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а профессионального развития педагогов 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4246-5BB4-44D2-8E97-4CD646C7D351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11556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каз Министерства труда и социальной защиты РФ от 10 января 2017 г. № 10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«Об утверждении профессионального стандарта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пециалист в области воспитания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C11C-3AB4-4EEC-B92D-E8392A0E5E20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82072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0C46-A784-4069-8649-FEB969EE8381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628640"/>
          <a:ext cx="8424720" cy="4608720"/>
        </p:xfrm>
        <a:graphic>
          <a:graphicData uri="http://schemas.openxmlformats.org/drawingml/2006/table">
            <a:tbl>
              <a:tblPr/>
              <a:tblGrid>
                <a:gridCol w="4114800"/>
                <a:gridCol w="43099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1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ектирование и реализация библиотечно-педагогического обеспечения в образовательных организациях начального общего, основного общего, среднего общего образован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нирование и осуществление библиотечно-педагогической деятельности в соответствии с требованиями ФГОС общего образов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Цели и задачи сообщества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507520" cy="5472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действие профессиональному развитию работников системы образования Пермского края посредством решения профессиональных затруднений и проблем на основе сетевого взаимодейств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здать единое информационно-методическое пространство сетевого взаимодействия, как отдельных работников образования, так и коллективов образовательных организаций, работающих в инновационном режим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рганизовать деятельность сетевых объединений для профессионального обсуждения, обмена мнениями и опытом, публикации материалов (разработок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держать образовательные инициативы, способствовать распространению успешных педагогических практик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еспечить проведение экспертной оценки методических и других практико-ориентированных материало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052280"/>
            <a:ext cx="8362800" cy="561636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Название сообщества: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«Сообщество педагогов Пермского края»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бщее описани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етевое сообщество педагогических работников Пермского края, зарегистрированных на сетевом ресурсе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portfolio-edu.ru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Адрес сайта: </a:t>
            </a:r>
            <a:r>
              <a:rPr b="1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educomm.iro.perm.ru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сновные формы сетевого взаимодействи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фессиональные группы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блемные группы, объединенные решением определенной проблемы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фокус-группы, объединенные общим интересом и деятельностью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пецифика: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суждаются актуальные проблемы системы образования Пермского кра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496E-1D4A-4722-BB54-7EB5FF53EE09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11280" y="1628640"/>
            <a:ext cx="6446880" cy="4680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ератор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Мальщукова Ирина Вениамино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заведующий ЛИБЦ МАОУ Лицей №10 г. Пермь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Шашкина Валентина Николае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аведующий БИЦ, педагог - библиотекарь МАОУ «Гимназия» г. Чернуш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007E-EAC1-431F-B65B-73CECE487DAC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232000" cy="165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65120" y="1268280"/>
            <a:ext cx="6699240" cy="3456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еятельность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нформационно-методическое сопровождение процессов реализации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Программы поддержки детского и юношеского чтения в Российской Федерации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,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и развития школьных информационно-библиотечных центров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одернизации школьных библиотек в соответствии с 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«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ей развития школьных информационно-библиотечных центров в Пермском крае в 2018-2021 годах»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D091-2F4E-40FA-BFAD-7BB5875F18FC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520" y="4890960"/>
            <a:ext cx="381636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6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280" y="-7920"/>
            <a:ext cx="71643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Организация работы портал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ообщество педагогов Пермского края»</a:t>
            </a:r>
            <a:endParaRPr b="1" lang="en-US" sz="2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4920" y="1052640"/>
            <a:ext cx="8497800" cy="4176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нтент сетевых групп структурирован по разделам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Новости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актуальная и полезная информация о событиях в системе образовани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Методическая копилка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лощадка для публикаций представляемых материалов, прошедших экспертизу. Материалы в данном разделе размещаются модератор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Документы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актуальные нормативно-правовые акты, относящиеся к деятельности сетевой групп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Полезные ссылки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ссылки на ресурсы, относящиеся к содержанию деятельности сетевых групп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Форум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обсуждение представленных пользователями материалов, а также ведение дискуссий на заданные модератором и участниками тем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а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ереговорная площад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4000" y="5229360"/>
            <a:ext cx="8569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53:29Z</dcterms:created>
  <dc:creator>Old_School</dc:creator>
  <dc:description/>
  <dc:language>en-US</dc:language>
  <cp:lastModifiedBy>Админ</cp:lastModifiedBy>
  <cp:lastPrinted>2017-08-25T11:48:31Z</cp:lastPrinted>
  <dcterms:modified xsi:type="dcterms:W3CDTF">2019-03-23T06:15:17Z</dcterms:modified>
  <cp:revision>223</cp:revision>
  <dc:subject/>
  <dc:title>Образование без границ</dc:title>
</cp:coreProperties>
</file>