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EBEE-6219-4DA4-A58E-B4ADB8C567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E36E-9F1B-41B7-846F-024F16F0F4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ата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барь В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ерхний колонтитул 6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6F4-AE0A-452E-84AE-3BBE7D9D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3D1-3CFE-43A1-827F-7E6F41B7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8B2-5C0F-45BA-BDBE-96B4206C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B588-ED26-4805-A407-47C076BB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4DA3-195A-40EC-8317-3673F99F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DC2F-46C1-45F2-9CCB-68A36B9E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3073-EFB7-40CC-870C-A5174786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8F8A-E10A-4D7E-B872-0742B58C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92DF-D554-45AA-86D9-AA26FAF5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B9EB-862C-45DB-BF4D-A59017C3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596C-262B-49BF-ABD3-A5D9580D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8FD-E392-4714-9024-4D374849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7381-3F0E-47F9-BF18-9A7A5F55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7BB5-3803-419F-9D49-BE821D4D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1D57-EB25-4228-AA38-DBFB3A5E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47B8-3F47-49F8-8999-76A5BE64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112C-51A6-499F-B183-82459C1E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214-05BC-4F5B-B25D-A473783D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ED5-C03A-49A4-AAC1-53847CBC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22D2-AD03-4693-B412-2E88D3A1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271-58C4-4371-83A0-B43ABB25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B536-2568-47CF-82F6-B2FEEF4E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061-D753-4382-AD2C-E6287CE8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8DC1-260C-4E85-9BB4-4EFE88FF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t1234ыярфенш"/>
          <p:cNvPicPr/>
          <p:nvPr/>
        </p:nvPicPr>
        <p:blipFill>
          <a:blip r:embed="rId2"/>
          <a:stretch/>
        </p:blipFill>
        <p:spPr>
          <a:xfrm>
            <a:off x="0" y="0"/>
            <a:ext cx="2335320" cy="179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6739-EA43-465E-AB31-EF80D9D93B1D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C3A5-445B-48C0-98B0-85F47D1F4F9D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rtfolio-edu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213000"/>
            <a:ext cx="7632720" cy="2190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Сетевое сообщество педагогов Пермского края как ресурс профессионального рост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4032360" y="5516640"/>
            <a:ext cx="48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аева Татьяна Викторовн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отдела профессионального развития педагогов 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3AB3-4331-4436-AAC9-80B7170593C1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11556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иказ Министерства труда и социальной защиты РФ от 10 января 2017 г. № 10н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«Об утверждении профессионального стандарта </a:t>
            </a: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пециалист в области воспитания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6085-26DD-4A3F-BDD5-FC68E3D81689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82072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6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8A72-3554-4B99-8401-22D648FC0500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1628640"/>
          <a:ext cx="8424720" cy="4608720"/>
        </p:xfrm>
        <a:graphic>
          <a:graphicData uri="http://schemas.openxmlformats.org/drawingml/2006/table">
            <a:tbl>
              <a:tblPr/>
              <a:tblGrid>
                <a:gridCol w="4114800"/>
                <a:gridCol w="43099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1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ектирование и реализация библиотечно-педагогического обеспечения в образовательных организациях начального общего, основного общего, среднего общего образовани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анирование и осуществление библиотечно-педагогической деятельности в соответствии с требованиями ФГОС общего образова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Цели и задачи сообщества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507520" cy="5472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действие профессиональному развитию работников системы образования Пермского края посредством решения профессиональных затруднений и проблем на основе сетевого взаимодейств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здать единое информационно-методическое пространство сетевого взаимодействия, как отдельных работников образования, так и коллективов образовательных организаций, работающих в инновационном режиме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рганизовать деятельность сетевых объединений для профессионального обсуждения, обмена мнениями и опытом, публикации материалов (разработок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ддержать образовательные инициативы, способствовать распространению успешных педагогических практик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еспечить проведение экспертной оценки методических и других практико-ориентированных материалов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052280"/>
            <a:ext cx="8362800" cy="561636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Название сообщества: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«Сообщество педагогов Пермского края»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бщее описани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Сетевое сообщество педагогических работников Пермского края, зарегистрированных на сетевом ресурсе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portfolio-edu.ru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Адрес сайта: </a:t>
            </a:r>
            <a:r>
              <a:rPr b="1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educomm.iro.perm.ru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сновные формы сетевого взаимодействи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фессиональные группы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блемные группы, объединенные решением определенной проблемы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фокус-группы, объединенные общим интересом и деятельностью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пецифика: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суждаются актуальные проблемы системы образования Пермского кра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A95E-2803-4AEA-8CC3-AC3410209CF0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411280" y="1628640"/>
            <a:ext cx="6446880" cy="4680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ератор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Мальщукова Ирина Вениамино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заведующий ЛИБЦ МАОУ Лицей №10 г. Пермь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Шашкина Валентина Николае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заведующий БИЦ, педагог - библиотекарь МАОУ «Гимназия» г. Чернушк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6117-6122-455F-8DAA-46663F6015E3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2232000" cy="165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65120" y="1268280"/>
            <a:ext cx="6699240" cy="3456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Деятельность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Информационно-методическое сопровождение процессов реализации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Программы поддержки детского и юношеского чтения в Российской Федерации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,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и развития школьных информационно-библиотечных центров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модернизации школьных библиотек в соответствии с 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«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ей развития школьных информационно-библиотечных центров в Пермском крае в 2018-2021 годах»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C1EC-E775-4200-B098-76233E0F5259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520" y="4890960"/>
            <a:ext cx="3816360" cy="194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7" name="Овал 6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280" y="-7920"/>
            <a:ext cx="716436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Организация работы портал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ообщество педагогов Пермского края»</a:t>
            </a:r>
            <a:endParaRPr b="1" lang="en-US" sz="2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4920" y="1052640"/>
            <a:ext cx="8497800" cy="41767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нтент сетевых групп структурирован по разделам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Новости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актуальная и полезная информация о событиях в системе образования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Методическая копилка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лощадка для публикаций представляемых материалов, прошедших экспертизу. Материалы в данном разделе размещаются модераторо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Документы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актуальные нормативно-правовые акты, относящиеся к деятельности сетевой групп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Полезные ссылки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ссылки на ресурсы, относящиеся к содержанию деятельности сетевых групп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Форум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обсуждение представленных пользователями материалов, а также ведение дискуссий на заданные модератором и участниками тем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Чат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ереговорная площадк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4000" y="5229360"/>
            <a:ext cx="8569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53:29Z</dcterms:created>
  <dc:creator>Old_School</dc:creator>
  <dc:description/>
  <dc:language>en-US</dc:language>
  <cp:lastModifiedBy>Админ</cp:lastModifiedBy>
  <cp:lastPrinted>2017-08-25T11:48:31Z</cp:lastPrinted>
  <dcterms:modified xsi:type="dcterms:W3CDTF">2019-03-23T06:15:17Z</dcterms:modified>
  <cp:revision>223</cp:revision>
  <dc:subject/>
  <dc:title>Образование без границ</dc:title>
</cp:coreProperties>
</file>