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898-7D37-4A7B-B0DD-92FEF5D9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090-8087-4930-A246-14C2DACB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055-2104-439E-A60C-B65A0CFC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715-22E8-43A1-8421-199B9944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3B49-A481-4315-98FD-A04F1D11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F5E8-2D97-41FD-A508-03881F9C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F19A-61C4-4160-8D6C-3AD92281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321A-9CE3-4D69-9D3A-EC73841B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75E7-6931-4E5C-9264-3076F862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7936-F957-4E51-BB92-27E41116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1D47-1EFA-43B6-9F2D-8A64CC9A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A84-B6EE-4B78-8BF5-EDC65E8E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87A7-388F-43DF-8D33-B2BD706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D299-526F-474E-A20D-F92C3F3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373B-5599-4583-8AC5-71DB846F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29F3-791D-4B49-8F8B-C6819EFC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ED2B-F00D-4197-A1E4-4E690021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0696-1EC1-4EC1-B576-A3B674FA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3C8D-2BA8-4532-A429-2D39EB31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BACF-1DAF-4FCB-871A-9EDF20D3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760D-4252-4510-86AE-12C5563A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1F2E5-BB03-40AC-9767-C8414F82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6BC-8BBF-4F0C-A433-1B885312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F1EB-B675-4D91-81C0-F183D1D2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53B2-A428-48ED-8A71-95A997CE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2F0C0-EA50-46BB-8F2D-37F24BC5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FAA7-7C5D-4AB2-8757-AAD97A31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6AEE-8E79-483F-B5DB-289D46C6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7775-A867-498E-A704-31E98013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26FA-3779-4B2B-BBBF-CEE2F2A8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2192F-EA24-4D88-B00B-FFC69F88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8F780-DE83-4DFA-A2E0-1199383A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F1206-E42A-422B-9289-D69981EB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C33-05AF-40A4-9107-BFD3CCF5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CDB0-672E-4486-9392-B2B7623A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1FD14-AE36-4341-8AFF-B9FE1336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ED594-378B-4722-ACE8-856162B7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709B3-BC87-4E77-909B-040BFE02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96DD-715E-40C5-8EF9-7E24B4A4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3A11-0FA6-44F9-9001-BF31E9EB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0FB9-9447-4E2A-BDA8-0FF1BC7C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892A2-5CAD-4C65-A113-C2595404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4E17E-36C1-494A-AB13-7BAD48A7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E4C-5A55-4271-AC5F-0628A894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0EE-8E45-4FCA-8505-B600853C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AEC-8BCA-40C6-9452-7CF6134E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2B7-44D4-4FB0-A298-09CF56E5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02D-238A-41B7-92F3-C2AFFA50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AD56D-3B5F-4466-A686-9584E5DEF150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65703-0E4F-4376-B6C9-7C4ED3DC55D5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11331-BFBC-4CA6-BD8D-3ACCAB65E3A1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F1EE0-EE0B-4C3F-B2DA-A326184627D9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382680"/>
            <a:ext cx="9677520" cy="48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Краевое совещание 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«Школьные библиотеки образовательных организаций Пермского края: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 от Концепции к реальности»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Анкетирование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школьных библиотек Пермского края-2019</a:t>
            </a:r>
            <a:br>
              <a:rPr sz="5400"/>
            </a:br>
            <a:r>
              <a:rPr b="0" lang="ru-RU" sz="5400" spc="-1" strike="noStrike">
                <a:solidFill>
                  <a:srgbClr val="236292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236292"/>
                </a:solidFill>
                <a:latin typeface="Trebuchet MS"/>
              </a:rPr>
              <a:t>Итоги начального этапа мониторингового исследования                          школьных библиотекарей образовательных организаций Пермского края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227200"/>
            <a:ext cx="8878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Мальщукова И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Пермь, 25 марта 2019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4261"/>
                </a:solidFill>
                <a:latin typeface="Trebuchet MS"/>
              </a:rPr>
              <a:t>Повышение квалификац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880" y="1350720"/>
            <a:ext cx="10785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Педагог - библиотекарь в современной школе" в ГБОУ СОП "Пермский краевой колледж искусств и культуры" 72 час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Создание интерактивного плаката с помощью сервисов Web 2.0МАУ ДПО «Центр научно-методического обеспечения.г.Лысьва2 16 часов 201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Педагог-библиотекарь: информационно-коммуникационные технологии библиотечной среды 72 ча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МООК "Ментальные карты-инструмент когнитивного развития", май, 2018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Организация обучения детей  с ОВЗ и детей-инвалидов в общеобразовательной организации» (72 часа) 2018 год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Инновационная деятельность школьной библиотеки в современном коммуникационном пространстве" 72 ч. 2017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Н ПОО "МАНО" "Теория обучения и воспитания в условиях реализации ФГОС", 520 часов, 2017 г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Современные подходы к библиотечно-информационному обеспечению реализации ФГОС общеобразовательной организацией", 36часов, 20.07.2017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34 участника  анкетирования на проходили курсы повышения квалификации за последние 3 года (10%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фессиональных совещаниях, конференциях, НКП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33 участника анкетирования отрицательно ответили или оставили вопрос без ответ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вебинар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460520"/>
            <a:ext cx="8596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0 отрицательных ответа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ыступл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ольше 50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Публикаци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6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ектах и конкурс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Готовы ли ШБ к трансформированию в ШИБЦ?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Выводы напрашиваются сами…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лагодарю заведующих школьными библиотеками(ШИБЦ, медиатеками), педагогов-библиотекарей, библиотекарей и методистов районов в сборе необходимой для анализа информ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63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Цель первого этапа обследования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77960"/>
            <a:ext cx="8596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анализировать состав профессионального сообщества школьных библиотек образовательных организаций Пермского края (кадровый,  должностной, статус школьной библиотеки, профессиональная занятость, достижения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ветить на вопросы: Сколько нас? Кто будет реализовывать Концепцию? Каким мы обладаем потенциалом? Участвуют ли библиотекари в жизни профессионального сообщества России, Пермского края? Готовы ли библиотекари меняться? Происходят ли изменения в жизни ШБ в связи с принятием Концепци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4093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опросы анке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8280" y="1133280"/>
            <a:ext cx="10794960" cy="55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. ФИ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2. Контактные данные (тел., эл. Поч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3.Территория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4. Образовательное учреждение ( по Уставу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5. Статус школьной библиотеки (ШБ, ШИБЦ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6. Ваша должность (библиотекарь, педагог-библиотекарь, зав. ШБ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7.Время работы (Ставка; о,5; 0,25;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8. Общий стаж работы и в данной должности (через /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9. Последняя аттестация (указать, когда и на какую категорию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0. Повышение квалификации (за 3 последних года, с указанием курсов и часов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1. Участие в профессиональных совещаниях, конференциях, НКП (за 3 последних год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2. Участие в вебинарах (за последний год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3. Ваши выступления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4. Ваши публикации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5. Участие в проектах, конкурсах; грантополучение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4261"/>
                </a:solidFill>
                <a:latin typeface="Trebuchet MS"/>
              </a:rPr>
              <a:t>Территории: 20 (130 анкет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880" y="1541160"/>
            <a:ext cx="4183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лександров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ерезов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рещагин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бахин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янский р-н - 1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льинский р-н – 1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ишерт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с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чевский р-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Кунгур – 1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541160"/>
            <a:ext cx="4184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нгур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Лысьва -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рмский р-н –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Пермь -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винский райо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йковский р-н – 1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ст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Чернушка –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рлин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сьвенкий р-н -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тус школьной библиотек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880" y="2160360"/>
            <a:ext cx="6827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ШИБЦ – 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чный медиацентр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 - медиатека - 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ШБ – остальные участники анкетирования – 12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3" name="Объект 6"/>
          <p:cNvGraphicFramePr/>
          <p:nvPr/>
        </p:nvGraphicFramePr>
        <p:xfrm>
          <a:off x="7454880" y="1204920"/>
          <a:ext cx="385596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1204920"/>
                    <a:ext cx="38559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Должность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7720"/>
            <a:ext cx="8596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Зав. библиотекой - 25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едагог-библиотекарь – 4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рь – 49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ителя – совместители- 1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очие - 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Время рабо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77880" y="1630440"/>
          <a:ext cx="8596440" cy="311760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287360"/>
                <a:gridCol w="1577880"/>
                <a:gridCol w="1433520"/>
                <a:gridCol w="1432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 -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-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ж работы</a:t>
            </a:r>
            <a:br>
              <a:rPr sz="3600"/>
            </a:b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77880" y="2160720"/>
          <a:ext cx="8596440" cy="215244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587240"/>
                <a:gridCol w="1278000"/>
                <a:gridCol w="1433520"/>
                <a:gridCol w="1432080"/>
              </a:tblGrid>
              <a:tr h="10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Аттест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Только в 26 анкетах указана информация о прохождении аттестации (первая и высшая категория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6:55:22Z</dcterms:created>
  <dc:creator>Пользователь</dc:creator>
  <dc:description/>
  <dc:language>en-US</dc:language>
  <cp:lastModifiedBy>Пользователь</cp:lastModifiedBy>
  <dcterms:modified xsi:type="dcterms:W3CDTF">2019-03-24T15:04:14Z</dcterms:modified>
  <cp:revision>21</cp:revision>
  <dc:subject/>
  <dc:title>Краевое совещание  «Школьные библиотеки образовательных организаций Пермского края:  от Концепции к реальности»   Анкетирование  школьных библиотекарей Пермского края-2019</dc:title>
</cp:coreProperties>
</file>