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59E-2099-45A0-AD5A-BBC8ECD9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819-BBCE-4723-9ACD-E340629F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1CE-6F6F-4669-B0E6-4AF5FE3E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DB8-5FB5-4F4F-A405-5F418534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0A40-B4A8-4F9E-B224-AA9F775A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CB68-C995-4CCD-A657-686694AE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8B7E-E494-468B-9D32-2390EA19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CFA5-D99E-4B7B-8B8D-400226BB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D34D-8502-42C6-8D52-868D3E26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F30E-06DB-4021-8E24-181541A1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CA80-2302-4AB7-8C52-456D53B1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1A6-F07D-49E7-9CD0-E83E8AC7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5430-3929-42CF-80BB-191B81EA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EDCF-6B61-4C23-824A-B5D5507D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8409-6BA7-42DF-AFE5-24A2D758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A78A-200D-48DF-B6E0-CAD1D9E1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2ED2-D68F-4CA1-A4B6-EB9AC072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CB1B8-B8E0-42D4-8FFA-7289BC3D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B166C-0353-4344-96D4-0748678F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41B7A-470D-4D98-B0EE-55BD73C2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9AED3-8C89-4FF9-A7BE-07D178C1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AF5D2-5FC8-4348-BE89-6E524858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590-8E18-42AD-8C3F-F8CCD1AD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AC5A6-085A-4FA1-8DAD-87898140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6620E-1BAB-4FB8-965F-3CBA3D74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EC842-F461-45AB-8891-A8BC6E60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A4F9A-F2D3-4DAF-B049-1E671346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5DDAB-7E7A-4138-914A-1BE04DB5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757EC-240F-401D-8BCF-FFCB4895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018C6-7AEE-4D53-893F-9F093AF5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5D6CE-FB25-42E5-B2EB-285E521A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6F4A5-DC07-449D-ABED-5FC0DB4A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CEB74-5FB5-450B-9060-76B7FCDE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E544-CAD0-4772-BACC-0313C9B6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BBEDC-BFB6-46EF-8A99-D8987630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8838C-83B6-4E09-9A06-062E0D64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EDD15-EF88-48C4-ACD4-164DA7D0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75906-6C0A-46AF-BC77-60573432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DA0FC-BAC9-4CF4-9867-E270F2EA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DBC7B-8921-47B2-BAAB-79413208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07D66-25DD-4DD3-A03B-B689432B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4DACF-256D-48AB-9747-5D164E4C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354A2-DAA1-40EC-B38F-4B3981AD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181-2B83-4EF5-AE94-D0B43243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530F-E9F7-46BE-ABDF-E98D7CB4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2DD-9DC3-422D-9D2F-037B868F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81D-DE3C-47ED-9AC0-A716EA67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2E3-C3DF-487A-BC86-2864ABA1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BF7BE-11BC-4307-AD49-821556B2749E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823BB-3FB3-48E3-9B63-5C5B9765BF5E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90483-9997-4303-A9FB-FE26F6F561A6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449AA-6AD2-419A-B12B-1E0554F8A5FE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382680"/>
            <a:ext cx="9677520" cy="484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Краевое совещание 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«Школьные библиотеки образовательных организаций Пермского края: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 от Концепции к реальности»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Анкетирование 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школьных библиотек Пермского края-2019</a:t>
            </a:r>
            <a:br>
              <a:rPr sz="5400"/>
            </a:br>
            <a:r>
              <a:rPr b="0" lang="ru-RU" sz="5400" spc="-1" strike="noStrike">
                <a:solidFill>
                  <a:srgbClr val="236292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236292"/>
                </a:solidFill>
                <a:latin typeface="Trebuchet MS"/>
              </a:rPr>
              <a:t>Итоги начального этапа мониторингового исследования                          школьных библиотекарей образовательных организаций Пермского края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5227200"/>
            <a:ext cx="8878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Мальщукова И.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Пермь, 25 марта 2019 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74261"/>
                </a:solidFill>
                <a:latin typeface="Trebuchet MS"/>
              </a:rPr>
              <a:t>Повышение квалификаци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7880" y="1350720"/>
            <a:ext cx="10785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Педагог - библиотекарь в современной школе" в ГБОУ СОП "Пермский краевой колледж искусств и культуры" 72 час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Создание интерактивного плаката с помощью сервисов Web 2.0МАУ ДПО «Центр научно-методического обеспечения.г.Лысьва2 16 часов 2016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Педагог-библиотекарь: информационно-коммуникационные технологии библиотечной среды 72 ча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МООК "Ментальные карты-инструмент когнитивного развития", май, 2018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Организация обучения детей  с ОВЗ и детей-инвалидов в общеобразовательной организации» (72 часа) 2018 год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Инновационная деятельность школьной библиотеки в современном коммуникационном пространстве" 72 ч. 2017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Н ПОО "МАНО" "Теория обучения и воспитания в условиях реализации ФГОС", 520 часов, 2017 год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Современные подходы к библиотечно-информационному обеспечению реализации ФГОС общеобразовательной организацией", 36часов, 20.07.2017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34 участника  анкетирования на проходили курсы повышения квалификации за последние 3 года (10%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фессиональных совещаниях, конференциях, НКП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33 участника анкетирования отрицательно ответили или оставили вопрос без ответа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вебинар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77520" y="1460520"/>
            <a:ext cx="85964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0 отрицательных ответа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ыступл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ольше 50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Публикаци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6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ектах и конкурс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Готовы ли ШБ к трансформированию в ШИБЦ?</a:t>
            </a: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Выводы напрашиваются сами…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лагодарю заведующих школьными библиотеками(ШИБЦ, медиатеками), педагогов-библиотекарей, библиотекарей и методистов районов в сборе необходимой для анализа информаци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63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Цель первого этапа обследования: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1677960"/>
            <a:ext cx="859644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анализировать состав профессионального сообщества школьных библиотек образовательных организаций Пермского края (кадровый,  должностной, статус школьной библиотеки, профессиональная занятость, достижения и др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ветить на вопросы: Сколько нас? Кто будет реализовывать Концепцию? Каким мы обладаем потенциалом? Участвуют ли библиотекари в жизни профессионального сообщества России, Пермского края? Готовы ли библиотекари меняться? Происходят ли изменения в жизни ШБ в связи с принятием Концепции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409320"/>
            <a:ext cx="859644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опросы анке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8280" y="1133280"/>
            <a:ext cx="10794960" cy="55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. ФИО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2. Контактные данные (тел., эл. Почт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3.Территория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4. Образовательное учреждение ( по Уставу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5. Статус школьной библиотеки (ШБ, ШИБЦ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6. Ваша должность (библиотекарь, педагог-библиотекарь, зав. ШБ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7.Время работы (Ставка; о,5; 0,25;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8. Общий стаж работы и в данной должности (через / 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9. Последняя аттестация (указать, когда и на какую категорию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0. Повышение квалификации (за 3 последних года, с указанием курсов и часов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1. Участие в профессиональных совещаниях, конференциях, НКП (за 3 последних год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2. Участие в вебинарах (за последний год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3. Ваши выступления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4. Ваши публикации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5. Участие в проектах, конкурсах; грантополучение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74261"/>
                </a:solidFill>
                <a:latin typeface="Trebuchet MS"/>
              </a:rPr>
              <a:t>Территории: 20 (130 анкет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880" y="1541160"/>
            <a:ext cx="41832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лександров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ерезов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ерещагин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убахин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обрянский р-н - 1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льинский р-н – 1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ишерт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с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чевский р-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Кунгур – 1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89680" y="1541160"/>
            <a:ext cx="41846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нгур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Лысьва - 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рмский р-н –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Пермь - 1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ивинский райо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йковский р-н – 1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ст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Чернушка –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рлин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сьвенкий р-н -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тус школьной библиотек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880" y="2160360"/>
            <a:ext cx="6827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ШИБЦ – 7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чный медиацентр 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/</a:t>
            </a: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 - медиатека - 2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ШБ – остальные участники анкетирования – 12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3" name="Объект 6"/>
          <p:cNvGraphicFramePr/>
          <p:nvPr/>
        </p:nvGraphicFramePr>
        <p:xfrm>
          <a:off x="7454880" y="1204920"/>
          <a:ext cx="3855960" cy="38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4880" y="1204920"/>
                    <a:ext cx="38559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Должность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77520" y="1377720"/>
            <a:ext cx="859644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Зав. библиотекой - 25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едагог-библиотекарь – 44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рь – 49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Учителя – совместители- 1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Прочие - 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Время рабо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77880" y="1630440"/>
          <a:ext cx="8596440" cy="311760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287360"/>
                <a:gridCol w="1577880"/>
                <a:gridCol w="1433520"/>
                <a:gridCol w="1432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 - 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8-0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2752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ж работы</a:t>
            </a:r>
            <a:br>
              <a:rPr sz="3600"/>
            </a:b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77880" y="2160720"/>
          <a:ext cx="8596440" cy="215244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587240"/>
                <a:gridCol w="1278000"/>
                <a:gridCol w="1433520"/>
                <a:gridCol w="1432080"/>
              </a:tblGrid>
              <a:tr h="107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107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Аттест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Только в 26 анкетах указана информация о прохождении аттестации (первая и высшая категория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4T06:55:22Z</dcterms:created>
  <dc:creator>Пользователь</dc:creator>
  <dc:description/>
  <dc:language>en-US</dc:language>
  <cp:lastModifiedBy>Пользователь</cp:lastModifiedBy>
  <dcterms:modified xsi:type="dcterms:W3CDTF">2019-03-24T15:04:14Z</dcterms:modified>
  <cp:revision>21</cp:revision>
  <dc:subject/>
  <dc:title>Краевое совещание  «Школьные библиотеки образовательных организаций Пермского края:  от Концепции к реальности»   Анкетирование  школьных библиотекарей Пермского края-2019</dc:title>
</cp:coreProperties>
</file>