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D180-B360-443E-A059-426877A0E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E61D-433A-4478-9CEA-DC512B976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14C3-F1C0-4782-80EA-48FDB5240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8F45-7396-45AC-9E9B-ED8B404F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8D7C7-C4C9-4701-86AD-42E07E600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BD6F-FE07-479E-A0BA-047764588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E46A-405A-4296-A9EF-4782E2BD8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C55A-9E26-4478-B1FC-8B95240E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94F2-BFA7-4570-904C-56334D6C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2DEB-6945-496D-8F6D-88FF6097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18A-DAD2-4597-9CC3-885A6950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E1E16-E5F4-4425-8CD2-68393728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617A-56FE-4029-82B4-A33E8C75B1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ологически ориентированное взаимодействие с природ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2708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Тема: «Диалоги»              с природными объектам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 - 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клоп ярко и интересно окрашен: на черном фоне у него красный узор. Эта демонстративная окраска предупреждает чтобы его не ели. Для этого же клоп-солдатик использует свои пахучие железы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итается растительными остатками (старой корой, облетевшей листвой) и тоже является «чистильщиком» ле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лоп-солдат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124000" y="1557360"/>
            <a:ext cx="500076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 отдельности это маленькие, незаметные насекомые, но всей своей семьей они строят красивые дома-муравейники, высотой часто превышающие рост челове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равьи – известные трудяги, они все время работают, строят свое жилище, принося огромные по сравнению с ними хвоинки, щепки, листь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ураве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00000" y="1390680"/>
            <a:ext cx="7128000" cy="50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Муравьи занимаются «животноводством», выращивая и оберегая тлей, как мы – коров, и пьют сладкие их выделения - «молочко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Манжет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920" y="1628640"/>
            <a:ext cx="4327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Развернулся листик, как гармошка.       Между жилок – капельки воды.                            И растет травинка понемножку,             Вдоль дорожки, что ведет в сады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. Глум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4643280" y="1413000"/>
            <a:ext cx="403884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Зябл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лет зябликов, так же, как грачей и скворцов, знаменует наступление долгожданной весны. Они возвращаются из далеких стран, чтобы вырастить своих птенцов в родных мест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яблик поет очень красивую песню, наполняя весь лес своими мелодичными трел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87360" y="692280"/>
            <a:ext cx="382284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Летучая мышь – это не птица, а млекопитающее, приспособившееся к по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рылья летучих мышей образованы широкой кожистой перепонкой между пальцами передних конечностей, туловищем и ног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Летучая мыш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40384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Это ночные животные, и у них превосходно развит слух. Благодаря этому они охотятся даже в пасмурную погоду, почти не пользуясь зр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смотря на устрашающий вид, это очень интересные, загадочные и полезные животные. Они уничтожают кровососущих насекомых: комаров и моше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4836960" y="1557360"/>
            <a:ext cx="355464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Молодцы, ребята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Вы познакомились сегодня с неприметными, но такими важными обитателями смешанного лес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Сегодня пойдет рассказ о незаметных на первый взгляд, но очень интересных и полезных обитателях смешанного леса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229600" cy="35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алахитово-зеленый покров мхов – самая характерная черта смешанных лесов. Внимательно присмотревшись, можно увидеть, что слоевище мхов прикрепляется к почве тонкими, нежными, похожими на корешки, нитями. Даже слабое нарушение подстилки при вытаптывании ведет к отмиранию мх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2268360" y="3068640"/>
            <a:ext cx="453708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мох напоминает миниатюрную елочку. Стебельки гордо растут прямо и не ветвятся, достигая 50 сантиметров. Тогда как большинство других мхов «головы» не поднимают от земли -  стелю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дный настой кукушкина льна используют при кашле, отваром моют волосы при выпаден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424720" cy="53280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Кукушкин ле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т гриб растет только на березах, но заражаются в первую очередь деревья больные и ослабленны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ревесина, пораженная данным грибом, становится трухлявой и при растирании превращается в порош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риб помогает очистить лес от больных деревьев, выполняя роль санита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Гриб - трутови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116000" y="1270080"/>
            <a:ext cx="69120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единственный бродячий паук в наших лесах. Бродячий потому, что никогда не плетет паутину. Он охотится как волк, подстерегая свою добыч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Живет на поверхности почвы и ведет  дневной образ жизн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аук-волк оказывает большую пользу лесу, уничтожая вредных насекомы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аук-вол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971640" y="1201680"/>
            <a:ext cx="7345440" cy="525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4:50:38Z</dcterms:created>
  <dc:creator>Lib</dc:creator>
  <dc:description/>
  <dc:language>en-US</dc:language>
  <cp:lastModifiedBy>Lib</cp:lastModifiedBy>
  <dcterms:modified xsi:type="dcterms:W3CDTF">2008-11-13T06:29:20Z</dcterms:modified>
  <cp:revision>2</cp:revision>
  <dc:subject/>
  <dc:title>Экологически ориентированное взаимодействие с природой</dc:title>
</cp:coreProperties>
</file>