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842F-815A-4193-B046-DEC24FD03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5840-C5D1-4683-9B9F-4BCB0EA9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A836-6004-4F8D-9A51-B4722F008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FBE5-5487-4973-A8BF-7837110C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7D95C-FD0D-446B-BF82-66B3580EC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CD467-13AF-4192-A7C3-645B9AC9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4CBA3-4AF5-4B55-B0A3-6B944971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6C8CC-2B11-4355-BF97-E4625C7F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43C2B-C986-4A65-9147-441CE35A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F8EA5-8C86-4126-804C-502EFB66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C7818-4B91-4119-AE56-7A3F85BE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E3BF-889C-4B5D-A121-9ED70A6D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7C2F8-C32D-491D-BE92-E42CC178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66933-314B-4792-AC63-21E28E71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5A2A4-53E9-4532-8ECE-BFFC6522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41FFB-49D2-4907-B0EF-FE6F08655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2BC55-0D00-44CA-9EB2-A99AD34B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4DCF-2DE5-4799-B91B-8514BCF1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81D5-9369-4E43-AF18-73A7452B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39A4-A6DE-43D2-A348-85839B96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169F-22AE-4B02-BD2E-57C7B476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E292-94A5-44A5-92DA-950865A1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D7A8-45C4-4879-B447-DEDFE58B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9E33-C813-4E0D-BBC0-654B4BF6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2C1F-7D32-4238-8A62-E40BB20F2F51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CCD6-7764-4F18-8F44-3EF7BCEDC1BA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www.b5.ru/VEX/location/cprime01.jpg&amp;imgrefurl=http://www.b5.ru/VEX/cprime.html&amp;h=156&amp;w=208&amp;sz=7&amp;hl=ru&amp;start=24&amp;tbnid=no3dzOhIUjD6GM:&amp;tbnh=79&amp;tbnw=105&amp;prev=/images%3Fq%3D%25D0%2593%25D0%25B8%25D0%25B4%25D1%2580%25D0%25BE%25D1%2581%25D1%2584%25D0%25B5%25D1%2580%25D0%25B0%2B%26start%3D20%26ndsp%3D20%26svnum%3D10%26hl%3Dru%26lr%3D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www.greenworld.org.ru/iaur/strasty6.jpg&amp;imgrefurl=http://www.greenworld.org.ru/rus/proj/movie/passion/cstrasty6.htm&amp;h=389&amp;w=467&amp;sz=38&amp;hl=ru&amp;start=2&amp;tbnid=ZjKzxI5kWoMCEM:&amp;tbnh=107&amp;tbnw=128&amp;prev=/images%3Fq%3D%25D0%25BD%25D0%25B5%25D1%2584%25D1%2582%25D1%258C%26svnum%3D10%26hl%3Dru%26lr%3D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hyperlink" Target="http://images.google.ru/imgres?imgurl=http://www.tarusa.ru/~golovan/imgsklad/img072.jpg&amp;imgrefurl=http://www.tarusa.ru/~golovan/file.php%3Fpage%3D33&amp;h=768&amp;w=1024&amp;sz=245&amp;hl=ru&amp;start=8&amp;tbnid=CtB7sNfahAAhuM:&amp;tbnh=113&amp;tbnw=150&amp;prev=/images%3Fq%3D%25D0%25BB%25D0%25B5%25D1%2581%26svnum%3D10%26hl%3Dru%26lr%3D" TargetMode="External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wz.kurortinfo.ru/p/s000007.jpg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Вода и цивилизац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920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Гидросфера – одна из оболочек Земли. Воды Земли находятся в непрерывном движении океан – атмосфера – суша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Вода входит в состав клеток и тканей любого животного и растения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59280" y="3860640"/>
            <a:ext cx="3385800" cy="2548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 Римском государстве – до 70 л/сут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24360" y="2565360"/>
            <a:ext cx="4776840" cy="2016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79280" y="3805200"/>
            <a:ext cx="5005440" cy="2473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овременный житель США – около 700 л/сут., тогда как во многих современных развивающихся странах эта цифра не превышает 30 л/сут.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– бесценн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5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Белым золотом называют хлопок, зелёным – лес, чёрным – нефть. Величайшее богатство земли – хлеб – получают из золотого колоса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95640" y="3213000"/>
            <a:ext cx="2411640" cy="2014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11280" y="3573360"/>
            <a:ext cx="2381040" cy="1704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5796000" y="4653000"/>
            <a:ext cx="2886120" cy="1933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68360" y="4653000"/>
            <a:ext cx="2448000" cy="1844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– бесценн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296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С чем же сравнить ценность обычной, простой, не говоря уже минеральной, лечебной воды. Вода – бесценна! По образному выражению академика А.Л.Карпинского: «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Вода – это живая кровь, которая создаёт жизнь там, где её не было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»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4149720"/>
            <a:ext cx="2514600" cy="21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932360" y="3789360"/>
            <a:ext cx="3605040" cy="239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Подача воды в город и её очистк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Методы очистки воды при всём их многообразии можно подразделить на три группы: механические, физико-химические и биологические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Механическая очистка применяется прежде всего для отделения твёрдых и взвешенных частиц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771640" y="4437000"/>
            <a:ext cx="2481480" cy="1984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724360" y="4437000"/>
            <a:ext cx="1519560" cy="201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Подача воды в город и её очистк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3212640"/>
            <a:ext cx="3538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Биологическая очистка возможна в естественных условиях и в искусственных сооружениях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95640" y="32130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1555920"/>
            <a:ext cx="820908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Физико-химическая очистка обеспечивает отделение как твёрдых и взвешенных частиц, так и растворённых примесей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просы для самопровер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Вода и цивилизация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Использование воды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Методы очистки воды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Основные способы снижения расхода воды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Экологическое исследование «Вода в нашем доме»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Экологическая акция «Капля»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Вода и цивилизац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9200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Климат и погода на Земле во многом зависит и определяется наличием водных пространств и содержанием водяного пара в атмосфере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Реки и моря имеют огромное значение для развития водного транспорта. Они служат источниками электроэнергии.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88840" y="901800"/>
            <a:ext cx="7366320" cy="5054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Среди отраслей экономики нашей страны первое место по потреблению воды занимает сельское хозяйство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Для получения 1т пшеницы необходимо 1500т воды, 1т риса – более 7000т, 1т хлопка – около 10000т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03640" y="404640"/>
            <a:ext cx="3784680" cy="2838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908000" y="3573360"/>
            <a:ext cx="4824720" cy="29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Второе место отводится промышленности. Ни одно промышленное предприятие не может функционировать, не используя воду из природных источников. Для получения 1т угля затрачивается 2т воды, стали – 15-20т, целлюлозы – 400-500т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Третье место по водоёмкости занимает коммунальное хозяйство городов.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На хозяйственно-питьевые цели в нашей стране приходится около 10 % общего водопотребления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Статистика показывает, что 80% всех заболеваний в мире вызвано неудовлетворительным качеством питьевой воды. По мере развития цивилизации человеку требовалось всё больше и больше воды. в Римском государстве – до 70 л/сут., Человек каменного века потреблял менее 10 л/сут., современный житель США – около 700 л/сут., тогда как во многих современных развивающихся странах эта цифра не превышает 30 л/сут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Человек каменного века потреблял менее 10 л/сут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26920" y="3716280"/>
            <a:ext cx="3672000" cy="1590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003640" y="3068640"/>
            <a:ext cx="3672000" cy="2363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1:30:56Z</dcterms:created>
  <dc:creator>Кирьянова</dc:creator>
  <dc:description/>
  <dc:language>en-US</dc:language>
  <cp:lastModifiedBy>molinfo</cp:lastModifiedBy>
  <dcterms:modified xsi:type="dcterms:W3CDTF">2008-01-09T06:04:23Z</dcterms:modified>
  <cp:revision>18</cp:revision>
  <dc:subject/>
  <dc:title>Вода и цивилизация. </dc:title>
</cp:coreProperties>
</file>