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914D-CF17-4FCF-9902-A7C368659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0ECC-0304-46E7-B69E-D859E5B59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C412-5D4B-403E-AD4D-1565E2BB7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24A5-3640-42A5-9493-BB34135CC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151A-FDB9-488A-BE87-E34D41076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51DB-38C3-45CC-B103-359F5E5E6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DF99-FBFE-4665-8569-458652712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FD97-C904-42B9-A66D-E3734DB18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2ECA-0CEC-4426-B4D6-BC0687D79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D1CA-9DF3-4BD7-ABA1-719128703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9B83-1514-4169-91DA-E8362695A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858B-DEA0-42A2-AAA8-ACE570ACC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4675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B0E00-4883-44CE-A378-0224CCABE4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dga.ru/mscdoma/imagepages/image5.html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www.edga.ru/mscdoma/imagepages/image23.html" TargetMode="External"/><Relationship Id="rId4" Type="http://schemas.openxmlformats.org/officeDocument/2006/relationships/image" Target="../media/image3.jpeg"/><Relationship Id="rId5" Type="http://schemas.openxmlformats.org/officeDocument/2006/relationships/hyperlink" Target="http://www.edga.ru/mscdoma/imagepages/image25.html" TargetMode="External"/><Relationship Id="rId6" Type="http://schemas.openxmlformats.org/officeDocument/2006/relationships/image" Target="../media/image4.jpeg"/><Relationship Id="rId7" Type="http://schemas.openxmlformats.org/officeDocument/2006/relationships/hyperlink" Target="http://www.edga.ru/mscdoma/imagepages/image3.html" TargetMode="External"/><Relationship Id="rId8" Type="http://schemas.openxmlformats.org/officeDocument/2006/relationships/image" Target="../media/image5.jpeg"/><Relationship Id="rId9" Type="http://schemas.openxmlformats.org/officeDocument/2006/relationships/image" Target="../media/image6.jpeg"/><Relationship Id="rId10" Type="http://schemas.openxmlformats.org/officeDocument/2006/relationships/image" Target="../media/image7.jpeg"/><Relationship Id="rId11" Type="http://schemas.openxmlformats.org/officeDocument/2006/relationships/image" Target="../media/image8.jpeg"/><Relationship Id="rId12" Type="http://schemas.openxmlformats.org/officeDocument/2006/relationships/image" Target="../media/image9.jpeg"/><Relationship Id="rId1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05120" y="152280"/>
            <a:ext cx="519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Что я вижу за окном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4675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066680" y="1789200"/>
            <a:ext cx="68580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omic Sans MS"/>
              </a:rPr>
              <a:t>Видеоэкология (от лат. </a:t>
            </a:r>
            <a:r>
              <a:rPr b="1" i="1" lang="ru-RU" sz="2000" spc="-1" strike="noStrike">
                <a:solidFill>
                  <a:srgbClr val="ffff00"/>
                </a:solidFill>
                <a:latin typeface="Comic Sans MS"/>
              </a:rPr>
              <a:t>video</a:t>
            </a:r>
            <a:r>
              <a:rPr b="1" lang="ru-RU" sz="2000" spc="-1" strike="noStrike">
                <a:solidFill>
                  <a:srgbClr val="ffff00"/>
                </a:solidFill>
                <a:latin typeface="Comic Sans MS"/>
              </a:rPr>
              <a:t> — видеть, греч. </a:t>
            </a:r>
            <a:r>
              <a:rPr b="1" i="1" lang="ru-RU" sz="2000" spc="-1" strike="noStrike">
                <a:solidFill>
                  <a:srgbClr val="ffff00"/>
                </a:solidFill>
                <a:latin typeface="Comic Sans MS"/>
              </a:rPr>
              <a:t>οικος</a:t>
            </a:r>
            <a:r>
              <a:rPr b="1" lang="ru-RU" sz="2000" spc="-1" strike="noStrike">
                <a:solidFill>
                  <a:srgbClr val="ffff00"/>
                </a:solidFill>
                <a:latin typeface="Comic Sans MS"/>
              </a:rPr>
              <a:t> и </a:t>
            </a:r>
            <a:r>
              <a:rPr b="1" i="1" lang="ru-RU" sz="2000" spc="-1" strike="noStrike">
                <a:solidFill>
                  <a:srgbClr val="ffff00"/>
                </a:solidFill>
                <a:latin typeface="Comic Sans MS"/>
              </a:rPr>
              <a:t>λόγος</a:t>
            </a:r>
            <a:r>
              <a:rPr b="1" lang="ru-RU" sz="2000" spc="-1" strike="noStrike">
                <a:solidFill>
                  <a:srgbClr val="ffff00"/>
                </a:solidFill>
                <a:latin typeface="Comic Sans MS"/>
              </a:rPr>
              <a:t> — экология) — это область знания о взаимодействии человека с окружающей видимой сред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Comic Sans MS"/>
              </a:rPr>
              <a:t>Визуальная среда – совокупность объектов, воспринимаемых человеческим взглядом в определенной мест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4675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Гостиница Космос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033640" y="1523880"/>
            <a:ext cx="5076720" cy="38102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Москва. Улицы, дома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057400" y="1523880"/>
            <a:ext cx="5076720" cy="38102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Замоскворечье, клумба с тюльпанами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057400" y="1523880"/>
            <a:ext cx="5076720" cy="38102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Овчинниковская набережная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057400" y="1523880"/>
            <a:ext cx="5076720" cy="38102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Гостиница Советская. Санкт-Петербург"/>
          <p:cNvPicPr/>
          <p:nvPr/>
        </p:nvPicPr>
        <p:blipFill>
          <a:blip r:embed="rId9"/>
          <a:stretch/>
        </p:blipFill>
        <p:spPr>
          <a:xfrm>
            <a:off x="2057400" y="1523880"/>
            <a:ext cx="5076720" cy="38102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Московский вокзал"/>
          <p:cNvPicPr/>
          <p:nvPr/>
        </p:nvPicPr>
        <p:blipFill>
          <a:blip r:embed="rId10"/>
          <a:stretch/>
        </p:blipFill>
        <p:spPr>
          <a:xfrm>
            <a:off x="2057400" y="1523880"/>
            <a:ext cx="5076720" cy="38102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Бассейн СК Олимпийский"/>
          <p:cNvPicPr/>
          <p:nvPr/>
        </p:nvPicPr>
        <p:blipFill>
          <a:blip r:embed="rId11"/>
          <a:stretch/>
        </p:blipFill>
        <p:spPr>
          <a:xfrm>
            <a:off x="2057400" y="1523880"/>
            <a:ext cx="5076720" cy="38102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Лето. Тропинка и пруд"/>
          <p:cNvPicPr/>
          <p:nvPr/>
        </p:nvPicPr>
        <p:blipFill>
          <a:blip r:embed="rId12"/>
          <a:stretch/>
        </p:blipFill>
        <p:spPr>
          <a:xfrm>
            <a:off x="2057400" y="1523880"/>
            <a:ext cx="510552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4675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433600" y="642960"/>
            <a:ext cx="42768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4675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743200" y="990720"/>
            <a:ext cx="38862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HH</cp:lastModifiedBy>
  <dcterms:modified xsi:type="dcterms:W3CDTF">2008-11-14T04:55:57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