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32C0-5E5F-4A7B-8209-865CF2D7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DEC8-90B7-49A5-BA72-E094F2BD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46F4-8BD0-4E1A-A680-5EC41305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C5AF-A865-42E4-9CA9-0580EB0F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D3B9A-C982-4403-ABF1-170E2CFB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964F6-4930-4407-AFAE-12BB8646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1BEB4-DE41-475A-9BBC-9AE4E1D0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28FC2-B206-4158-8065-68876986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AB7AE-B995-4675-879A-21A2FD4B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2D6FB-DE90-41A0-97BF-78DFFDAB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DFAEC-F9F1-41A3-BF70-DEEDB539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A8A8-A5AA-425F-A432-AC2FE7D1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BC9D1-A520-4F31-999A-2182EE92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53FF6-3EA0-4896-89F5-6A0A2BDD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26282-B19F-4A1B-8772-7F8C4475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1BEF5-3786-4377-BF07-C12F56816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3C9A2-9635-4088-BFD4-2345AF8A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A9AB-EE3E-4807-AFEE-254B7030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4284-41F9-42F6-8353-86676A29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71E4-9AE9-464F-B772-E2B7B33F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03CB-E700-4ACE-8A0B-06134BE6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45FF-A9AD-4B74-8AAA-1BD387CC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D97F-7CE4-4FA0-9134-FC247D1B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BE03-FB31-400E-A4A7-804338E9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B523-3C17-4F87-846F-2789AE0BF87F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D6BF-E157-497D-A069-E85344EF5916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b5.ru/VEX/location/cprime01.jpg&amp;imgrefurl=http://www.b5.ru/VEX/cprime.html&amp;h=156&amp;w=208&amp;sz=7&amp;hl=ru&amp;start=24&amp;tbnid=no3dzOhIUjD6GM:&amp;tbnh=79&amp;tbnw=105&amp;prev=/images%3Fq%3D%25D0%2593%25D0%25B8%25D0%25B4%25D1%2580%25D0%25BE%25D1%2581%25D1%2584%25D0%25B5%25D1%2580%25D0%25B0%2B%26start%3D20%26ndsp%3D20%26svnum%3D10%26hl%3Dru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greenworld.org.ru/iaur/strasty6.jpg&amp;imgrefurl=http://www.greenworld.org.ru/rus/proj/movie/passion/cstrasty6.htm&amp;h=389&amp;w=467&amp;sz=38&amp;hl=ru&amp;start=2&amp;tbnid=ZjKzxI5kWoMCEM:&amp;tbnh=107&amp;tbnw=128&amp;prev=/images%3Fq%3D%25D0%25BD%25D0%25B5%25D1%2584%25D1%2582%25D1%258C%26svnum%3D10%26hl%3Dru%26lr%3D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hyperlink" Target="http://images.google.ru/imgres?imgurl=http://www.tarusa.ru/~golovan/imgsklad/img072.jpg&amp;imgrefurl=http://www.tarusa.ru/~golovan/file.php%3Fpage%3D33&amp;h=768&amp;w=1024&amp;sz=245&amp;hl=ru&amp;start=8&amp;tbnid=CtB7sNfahAAhuM:&amp;tbnh=113&amp;tbnw=150&amp;prev=/images%3Fq%3D%25D0%25BB%25D0%25B5%25D1%2581%26svnum%3D10%26hl%3Dru%26lr%3D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wz.kurortinfo.ru/p/s000007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Гидросфера – одна из оболочек Земли. Воды Земли находятся в непрерывном движении океан – атмосфера – суш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Вода входит в состав клеток и тканей любого животного и растения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3860640"/>
            <a:ext cx="3385800" cy="2548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 Римском государстве – до 70 л/су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24360" y="2565360"/>
            <a:ext cx="4776840" cy="201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79280" y="3805200"/>
            <a:ext cx="5005440" cy="247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елым золотом называют хлопок, зелёным – лес, чёрным – нефть. Величайшее богатство земли – хлеб – получают из золотого колос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3213000"/>
            <a:ext cx="2411640" cy="201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11280" y="3573360"/>
            <a:ext cx="2381040" cy="1704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796000" y="4653000"/>
            <a:ext cx="2886120" cy="1933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68360" y="465300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 чем же сравнить ценность обычной, простой, не говоря уже минеральной, лечебной воды. Вода – бесценна! По образному выражению академика А.Л.Карпинского: «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Вода – это живая кровь, которая создаёт жизнь там, где её не было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»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4149720"/>
            <a:ext cx="2514600" cy="21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932360" y="3789360"/>
            <a:ext cx="3605040" cy="239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тоды очистки воды при всём их многообразии можно подразделить на три группы: механические, физико-химические и биологически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ханическая очистка применяется прежде всего для отделения твёрдых и взвешенных частиц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771640" y="4437000"/>
            <a:ext cx="2481480" cy="1984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724360" y="4437000"/>
            <a:ext cx="1519560" cy="201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3212640"/>
            <a:ext cx="3538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иологическая очистка возможна в естественных условиях и в искусственных сооружениях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95640" y="32130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1555920"/>
            <a:ext cx="82090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Физико-химическая очистка обеспечивает отделение как твёрдых и взвешенных частиц, так и растворённых примесей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просы для самопровер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ода и цивилизация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Использование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Методы очистки воды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Основные способы снижения расхода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ое исследование «Вода в нашем доме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ая акция «Капля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Климат и погода на Земле во многом зависит и определяется наличием водных пространств и содержанием водяного пара в атмосфер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Реки и моря имеют огромное значение для развития водного транспорта. Они служат источниками электроэнергии.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88840" y="901800"/>
            <a:ext cx="7366320" cy="5054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реди отраслей экономики нашей страны первое место по потреблению воды занимает сельское хозяйство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Для получения 1т пшеницы необходимо 1500т воды, 1т риса – более 7000т, 1т хлопка – около 10000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784680" cy="2838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908000" y="3573360"/>
            <a:ext cx="4824720" cy="29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торое место отводится промышленности. Ни одно промышленное предприятие не может функционировать, не используя воду из природных источников. Для получения 1т угля затрачивается 2т воды, стали – 15-20т, целлюлозы – 400-500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Третье место по водоёмкости занимает коммунальное хозяйство городов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На хозяйственно-питьевые цели в нашей стране приходится около 10 % общего водопотребления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Статистика показывает, что 80% всех заболеваний в мире вызвано неудовлетворительным качеством питьевой воды. По мере развития цивилизации человеку требовалось всё больше и больше воды. в Римском государстве – до 70 л/сут., Человек каменного века потреблял менее 10 л/сут., 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Человек каменного века потреблял менее 10 л/су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6920" y="3716280"/>
            <a:ext cx="3672000" cy="159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003640" y="3068640"/>
            <a:ext cx="3672000" cy="2363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1:30:56Z</dcterms:created>
  <dc:creator>Кирьянова</dc:creator>
  <dc:description/>
  <dc:language>en-US</dc:language>
  <cp:lastModifiedBy>molinfo</cp:lastModifiedBy>
  <dcterms:modified xsi:type="dcterms:W3CDTF">2008-01-09T06:04:23Z</dcterms:modified>
  <cp:revision>18</cp:revision>
  <dc:subject/>
  <dc:title>Вода и цивилизация. </dc:title>
</cp:coreProperties>
</file>