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666A-5C30-438C-A837-36DD8BBD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62FA-BC5D-4E70-8087-F8B279BB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35FA-1148-4AED-A662-34196767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310-8AD1-424A-9D7E-A02EC77B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0483-9BA8-4CAC-9A20-BF49E748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7E72-4308-4B20-B244-E87BD614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A2F4-27BF-4586-8F68-44AA9D4A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7FC3-57AA-4CE9-9CA6-C17491FC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1759-F615-4728-94BB-E8394D5F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AE73-FF49-4FC3-A0F5-18D7D0BB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8658-CA50-4DF4-A26D-2C466237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AA7-415A-46B4-B61F-BBEAF928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4863-A129-4FA9-AF8C-163EE391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ECBC-FB37-4C52-BFCF-94ED0ADA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3A09-410A-4C2C-89BA-3DA7E285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C8D1-3E78-4C65-8042-B7E6BAED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A768-61AF-4DB3-A7CC-7F9EEE49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7EAC-E212-4504-99A6-762A6B79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7F1F-91B9-4875-9FA7-51F6BE16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6A3-6C64-4655-93A4-3D617FEB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6683-6677-469D-BCDA-BE60B697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2100-7560-4AC3-9E2F-A02AE2C8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EDD-E9CE-42AE-96FD-3B051C73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A227-4626-455A-B945-FE585755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A255-DEF8-4E90-8587-D6606EBCE6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B12F-AB30-4EF3-BA4A-67A8929762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604692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7391520" cy="430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74167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зеленение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Это может сделать каждый! Сделаем наш город чистым, красивым и уютным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719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Только 8 предприятий города готовы соблюдать требования экологического законодательст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Из 68 предприятий города только 8 заключили договора на функционирование санитарно-защитной зоны (СЗЗ)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475164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 городе три главных источника выброса ядовитых веществ в атмосферу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бросы КЦБК "Кама"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хлопные газы транспорта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Полигон бытовых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" descr="КЦБК.jpg, 21179 bytes"/>
          <p:cNvPicPr/>
          <p:nvPr/>
        </p:nvPicPr>
        <p:blipFill>
          <a:blip r:embed="rId1"/>
          <a:stretch/>
        </p:blipFill>
        <p:spPr>
          <a:xfrm>
            <a:off x="6156360" y="1628640"/>
            <a:ext cx="27684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777680"/>
            <a:ext cx="7491600" cy="44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течение нескольких лет более 400 краснокамских детей были обследованы сотрудниками института экология и выявили рост содержащихся в их организме: свинца, хрома, фенола и бензол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2000 году фенол влияющий на систему крови, печени и почек, обнаруживался у 25 % обследованных детей, то в 2003 году - уже у 87 %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При попадании в организм: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сернистого ангидрид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развиваются такие заболевания, как бронхиальная астма, нефрит, хронический отит, ДЦП, сахарный диабет, аномалии системы кровообращения;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фенол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бронхиальная астма, стенокардия, сахарный диабет, гипертони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Город занимает 18 место по уровню смертности в области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смертности от новообразований. Краснокамск занимает седьмое место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53 % - болезни системы кровообращения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4 % - органы пищеварения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6 % - органы дых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общей заболеваемости на 21 месте, а детей на 7 мест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едприятия город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52400" y="1279080"/>
            <a:ext cx="7491240" cy="43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КЦБК «Кама"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ТЭЦ-5",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Свинокомплекс" - 71 % вредных выбросов в воздух и 83 % всех загрязнений окружающей среды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100 тысяч тонн так называемых нефтеочистк находится на небольшой глубине под слоем грунта в водоохраной зоне в районе деревни Шило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488360" cy="15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ля изменения экологическо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езопаснос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необходимо решить следующие основные задач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7640" y="2133360"/>
            <a:ext cx="7345440" cy="42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реализовать комплексные меры по улучшению экологической ситуаци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роводить медико-экологическую реабилитацию насел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способствовать снижению техногенной нагрузки на окружающую среду от выбросов и сбросов загрязняющих веществ и размещения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28:39Z</dcterms:created>
  <dc:creator>01</dc:creator>
  <dc:description/>
  <dc:language>en-US</dc:language>
  <cp:lastModifiedBy>admin</cp:lastModifiedBy>
  <dcterms:modified xsi:type="dcterms:W3CDTF">2007-01-24T02:26:54Z</dcterms:modified>
  <cp:revision>6</cp:revision>
  <dc:subject/>
  <dc:title>Экология Краснокамска</dc:title>
</cp:coreProperties>
</file>