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6C9C-E7A5-409E-9BE6-6DE0820E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36F5-7E31-434D-9AC5-3CED5AF4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511E-E6D1-43DD-B8F9-FB8BC4619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5CB0-24C7-43B8-A8AC-E53B28BAC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ED28-F314-4016-906A-CB240151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170B-6A22-4210-A25E-0FF2C66D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26B4-3DC4-4F58-81E5-2AFA4F8C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0757-D0CA-4B63-9A7D-8A52F4B2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BD48-D6F0-46AB-B294-EFFE5A6C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3893-CD06-48D0-B8C6-2995580E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C49F-2108-4ED0-931F-711D46BF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1BE3-C067-47A8-84E8-138B41FF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9004-BBC8-46A2-9262-20D009354DDA}" type="slidenum">
              <a:rPr b="0" lang="ru-RU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16000" y="1700280"/>
            <a:ext cx="6656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Экология</a:t>
            </a: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 – наука о взаимоотношениях живой материи с окружающей средой .</a:t>
            </a:r>
            <a:endParaRPr b="0" lang="en-US" sz="4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5"/>
          <p:cNvSpPr/>
          <p:nvPr/>
        </p:nvSpPr>
        <p:spPr>
          <a:xfrm>
            <a:off x="4211640" y="2205000"/>
            <a:ext cx="4681440" cy="40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987560"/>
            <a:ext cx="2736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атмосфера, литосфера и биосфера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Picture 4" descr="Биосфера Земли"/>
          <p:cNvPicPr/>
          <p:nvPr/>
        </p:nvPicPr>
        <p:blipFill>
          <a:blip r:embed="rId1"/>
          <a:stretch/>
        </p:blipFill>
        <p:spPr>
          <a:xfrm>
            <a:off x="3276720" y="2205000"/>
            <a:ext cx="5688000" cy="40323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250920" y="1052640"/>
            <a:ext cx="86421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Естественная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окружающая среда это геосферы планеты: гидросфера,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868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скусственная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среда, или  техносфера – это создание ума и рук человека: фабрики и заводы, города и сёла, наземный водный и воздушный транспорт, средства связи и прочее.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9" name="Picture 4" descr="Железные дороги"/>
          <p:cNvPicPr/>
          <p:nvPr/>
        </p:nvPicPr>
        <p:blipFill>
          <a:blip r:embed="rId1"/>
          <a:stretch/>
        </p:blipFill>
        <p:spPr>
          <a:xfrm>
            <a:off x="4932360" y="377208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0407"/>
          <p:cNvPicPr/>
          <p:nvPr/>
        </p:nvPicPr>
        <p:blipFill>
          <a:blip r:embed="rId2"/>
          <a:stretch/>
        </p:blipFill>
        <p:spPr>
          <a:xfrm>
            <a:off x="395280" y="4005360"/>
            <a:ext cx="2521080" cy="2592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0389"/>
          <p:cNvPicPr/>
          <p:nvPr/>
        </p:nvPicPr>
        <p:blipFill>
          <a:blip r:embed="rId3"/>
          <a:stretch/>
        </p:blipFill>
        <p:spPr>
          <a:xfrm>
            <a:off x="2411280" y="3716280"/>
            <a:ext cx="460872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реобразованная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среда, или агросфера, сочетает в себе признаки естественной и видоизменённой хозяйственной деятельностью человека (пашни, луга, пастбища, пруды, водохранилище, сады и парки, искусственные лесопосадки  и другие)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54" name="Picture 4" descr="Untitled - 5"/>
          <p:cNvPicPr/>
          <p:nvPr/>
        </p:nvPicPr>
        <p:blipFill>
          <a:blip r:embed="rId1"/>
          <a:stretch/>
        </p:blipFill>
        <p:spPr>
          <a:xfrm>
            <a:off x="4427640" y="4168800"/>
            <a:ext cx="4406760" cy="2500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Untitled - 6"/>
          <p:cNvPicPr/>
          <p:nvPr/>
        </p:nvPicPr>
        <p:blipFill>
          <a:blip r:embed="rId2"/>
          <a:stretch/>
        </p:blipFill>
        <p:spPr>
          <a:xfrm>
            <a:off x="179280" y="4552920"/>
            <a:ext cx="417672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рирода не признаёт шуток, она всегда серьёзна, всегда строга, она всегда права, ошибки же и заблуждения исходят от людей»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4427640" y="4653000"/>
            <a:ext cx="40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cc"/>
                </a:solidFill>
                <a:latin typeface="Arial"/>
              </a:rPr>
              <a:t>Вольфганг Гёте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79280"/>
            <a:ext cx="89647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Некоторые из основных экологических проблем мир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Уничтожение лесов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Токсичные отходы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Деградация земель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одный кризис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счезновение видов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агрязнение атмосферы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1" name="Picture 5" descr="Последствия глобального потепления, как указывается в докладе, будут непропорциональны и больнее всего отзовутся именно на самых бедных регионах мира. Экологические проблемы могут поставить под угрозу достижение цели сокращения бедности в мире вдвое к 201"/>
          <p:cNvPicPr/>
          <p:nvPr/>
        </p:nvPicPr>
        <p:blipFill>
          <a:blip r:embed="rId1"/>
          <a:stretch/>
        </p:blipFill>
        <p:spPr>
          <a:xfrm>
            <a:off x="5867280" y="16286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image_4088"/>
          <p:cNvPicPr/>
          <p:nvPr/>
        </p:nvPicPr>
        <p:blipFill>
          <a:blip r:embed="rId2"/>
          <a:stretch/>
        </p:blipFill>
        <p:spPr>
          <a:xfrm rot="19695600">
            <a:off x="6876720" y="4723920"/>
            <a:ext cx="1584360" cy="1131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img_eco01"/>
          <p:cNvPicPr/>
          <p:nvPr/>
        </p:nvPicPr>
        <p:blipFill>
          <a:blip r:embed="rId3"/>
          <a:stretch/>
        </p:blipFill>
        <p:spPr>
          <a:xfrm>
            <a:off x="5796000" y="1628640"/>
            <a:ext cx="3103560" cy="2116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pj040101"/>
          <p:cNvPicPr/>
          <p:nvPr/>
        </p:nvPicPr>
        <p:blipFill>
          <a:blip r:embed="rId4"/>
          <a:stretch/>
        </p:blipFill>
        <p:spPr>
          <a:xfrm>
            <a:off x="5796000" y="1628640"/>
            <a:ext cx="3114720" cy="2343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pic"/>
          <p:cNvPicPr/>
          <p:nvPr/>
        </p:nvPicPr>
        <p:blipFill>
          <a:blip r:embed="rId5"/>
          <a:stretch/>
        </p:blipFill>
        <p:spPr>
          <a:xfrm>
            <a:off x="5796000" y="1628640"/>
            <a:ext cx="3097080" cy="2117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expert-sibir_23_016"/>
          <p:cNvPicPr/>
          <p:nvPr/>
        </p:nvPicPr>
        <p:blipFill>
          <a:blip r:embed="rId6"/>
          <a:stretch/>
        </p:blipFill>
        <p:spPr>
          <a:xfrm>
            <a:off x="5651640" y="1557360"/>
            <a:ext cx="321768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000" y="178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оиски возобновляемых источников энерг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36734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Солнечная энергия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Энергия ветра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идроэлектричество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9" name="Picture 5" descr="7-3SunShot"/>
          <p:cNvPicPr/>
          <p:nvPr/>
        </p:nvPicPr>
        <p:blipFill>
          <a:blip r:embed="rId1"/>
          <a:stretch/>
        </p:blipFill>
        <p:spPr>
          <a:xfrm>
            <a:off x="6154560" y="1700280"/>
            <a:ext cx="2791080" cy="2179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14_sun_energ"/>
          <p:cNvPicPr/>
          <p:nvPr/>
        </p:nvPicPr>
        <p:blipFill>
          <a:blip r:embed="rId2"/>
          <a:stretch/>
        </p:blipFill>
        <p:spPr>
          <a:xfrm>
            <a:off x="6083280" y="1700280"/>
            <a:ext cx="2857680" cy="2152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Солнце садится за ветровой электростанцией, расположенной недалеко от г. Монтесума, шт. Канзас"/>
          <p:cNvPicPr/>
          <p:nvPr/>
        </p:nvPicPr>
        <p:blipFill>
          <a:blip r:embed="rId3"/>
          <a:stretch/>
        </p:blipFill>
        <p:spPr>
          <a:xfrm>
            <a:off x="5435640" y="1700280"/>
            <a:ext cx="3492360" cy="2759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040920offshore"/>
          <p:cNvPicPr/>
          <p:nvPr/>
        </p:nvPicPr>
        <p:blipFill>
          <a:blip r:embed="rId4"/>
          <a:stretch/>
        </p:blipFill>
        <p:spPr>
          <a:xfrm>
            <a:off x="5364000" y="1700280"/>
            <a:ext cx="3571920" cy="2552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040723_einfuehrung_geothermie_bine_sb_bild"/>
          <p:cNvPicPr/>
          <p:nvPr/>
        </p:nvPicPr>
        <p:blipFill>
          <a:blip r:embed="rId5"/>
          <a:stretch/>
        </p:blipFill>
        <p:spPr>
          <a:xfrm>
            <a:off x="5364000" y="1700280"/>
            <a:ext cx="3530880" cy="2565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Братская ГЭС"/>
          <p:cNvPicPr/>
          <p:nvPr/>
        </p:nvPicPr>
        <p:blipFill>
          <a:blip r:embed="rId6"/>
          <a:stretch/>
        </p:blipFill>
        <p:spPr>
          <a:xfrm>
            <a:off x="4643280" y="1700280"/>
            <a:ext cx="4211640" cy="3159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5" descr="Гейзер на о"/>
          <p:cNvPicPr/>
          <p:nvPr/>
        </p:nvPicPr>
        <p:blipFill>
          <a:blip r:embed="rId7"/>
          <a:stretch/>
        </p:blipFill>
        <p:spPr>
          <a:xfrm>
            <a:off x="3995640" y="1628640"/>
            <a:ext cx="4811760" cy="32068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6"/>
          <p:cNvSpPr/>
          <p:nvPr/>
        </p:nvSpPr>
        <p:spPr>
          <a:xfrm>
            <a:off x="216000" y="4824360"/>
            <a:ext cx="882000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еотермальная энергия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Энергия приливов и отливов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4500"/>
                            </p:stCondLst>
                            <p:childTnLst>
                              <p:par>
                                <p:cTn id="9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0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7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4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Вопросы для самопровер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Почему нам необходимо знать экологию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тношение человека к окружающей среде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кружающая среда, какая она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Экологическое исследование: «Моё отношение к окружающей среде»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0:31:51Z</dcterms:created>
  <dc:creator>Кирьянова</dc:creator>
  <dc:description/>
  <dc:language>en-US</dc:language>
  <cp:lastModifiedBy>Владелец</cp:lastModifiedBy>
  <dcterms:modified xsi:type="dcterms:W3CDTF">2009-02-02T08:37:57Z</dcterms:modified>
  <cp:revision>19</cp:revision>
  <dc:subject/>
  <dc:title>Экология</dc:title>
</cp:coreProperties>
</file>