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3BD-60F6-4019-9916-F84A87B4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E3E-A577-4A7D-AE32-6118238D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269-9AE0-4151-99C3-E8EF3F73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3593-DF34-4E8A-8426-57FB3787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3A2D-4F41-4DE6-B9B3-862FB432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A1E7-EC8F-45E1-81D7-26F9167E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B41F-75FA-4195-976E-FDC58DE5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D204-2544-4A1F-ABF7-279A7E36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3C09-6B5A-4829-86BF-F0E39BBF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4F9A-0655-431D-88AB-FDDDBDA8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74D5-2FB0-4C99-B46B-3B43D905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972-3768-4832-A108-D1CC9937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38F2-6C3D-4614-A4D3-D79CFFCE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69EC-739A-4B7E-B614-0B712E7B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18C0-0E20-4ACD-B6AC-2E27EBA9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38F9-BBE1-4FA9-9C2F-F5977306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B654-3CA2-4472-9C37-907ADF2A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CAD-D910-4E8B-835D-282FCE84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6C3-C252-4154-8AB0-DA90422A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6B32-2C4A-43A1-A7BA-4A60ABB5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42A-76CD-4457-A98A-FC0EA085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52C8-0A44-447C-8860-4B2F07C2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C9D5-62F3-436C-B93A-83AE052A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6E9-AC84-4E4C-8F01-996C2298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9B76-D843-49F9-BFD4-D9835228FC7D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89A1-C1F9-4AC5-ABEA-D2CA324A76AD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Экология жилища и здоровь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остоянно идет процесс пылеобразования - вытираются ковровые покрытия, осыпается и вышаркивается краска, с улицы попадает пыль и выхлопные газы автомобилей, люди и домашние животные теряют волосы, кожный эпителий, перхоть и т.д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ыль является транспортным средством для распространения бактерий и вирусов и способствует возникновению и распространению эпидемий.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ь в квартир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3040" r="0" b="3040"/>
          <a:stretch/>
        </p:blipFill>
        <p:spPr>
          <a:xfrm>
            <a:off x="324000" y="1844640"/>
            <a:ext cx="2879640" cy="446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48000" y="2133720"/>
            <a:ext cx="54007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Знаете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ли Вы о том, что в стандартной трехкомнатной квартире в год образуется до 40 кг. пыли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Человек за сутки вдыхает до 12 тыс. литров воздуха, в одном литре которого содержится до 500 тыс. пылинок.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В 28 гр. пыли живет до 42 000 пылевых клещей, продукты жизнедеятельности которых являются самыми мощными из известных на сегодняшний день аллергенов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Клещ может стать постоянным спутником человека на протяжении всей его жизни. Основным питанием для клеща являются омертвевшие клетки кожи. В год человек теряет до двух кг. кожи, основная масса которой остается на постельном белье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Основную опасность для человека представляют как сами клещи, так и продукты его жизнедеятельности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70% аллергических заболеваний дыхательных путей обусловлены присутствием именно этих веществ.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00000" y="2060640"/>
            <a:ext cx="6443640" cy="44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збавится от клеща обычными средствами практически невозможно. Губительными для него являются только природные условия - обогащенный озоном воздух, ультрафиолетовое излучение и естественный уровень ионизации воздуха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6654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Силикоз лёгкого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64000" y="1916280"/>
            <a:ext cx="5045040" cy="42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Это профессиональная болезнь шахтеров, аналогичные изменения наблюдаются у жителей городов с высоким уровнем загрязнения воздуха выбросами промышленных предприятий, выхлопными газами автомобилей и сжиганием угля на ТЭЦ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4960" y="1916280"/>
            <a:ext cx="318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Чистый воздух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Высоко ионизированный воздух горных курортов способствовал в начале 20 века излечению от начальных форм туберкулеза, а в настоящее время рекомендуется для лечения и уменьшения приступов бронхиальной астмы и дыхательной аллергии и т.д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Очевидно - дышать чистым и свежим воздухом полезно, люди, работающие на свежем воздухе, бодрее и здоровее работающих в закрытых и плохо проветриваемых помещениях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Narrow"/>
              </a:rPr>
              <a:t>Вопросы для самопроверки:</a:t>
            </a:r>
            <a:endParaRPr b="0" lang="en-US" sz="44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9776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сточники загрязнения воздуха на улице и в помещении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етоды борьбы с пылью в домашних условиях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икроклимат жилища и его воздействие на здоровье человека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Практическая работа: «Измерение температуры, влажности воздуха в жилых помещениях.»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9:08:09Z</dcterms:created>
  <dc:creator>01</dc:creator>
  <dc:description/>
  <dc:language>en-US</dc:language>
  <cp:lastModifiedBy>uchitel</cp:lastModifiedBy>
  <dcterms:modified xsi:type="dcterms:W3CDTF">2007-01-20T06:45:12Z</dcterms:modified>
  <cp:revision>6</cp:revision>
  <dc:subject/>
  <dc:title>Слайд 1</dc:title>
</cp:coreProperties>
</file>