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00A8B-3B7D-47F8-830C-8EDA5848B2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5062-5F62-4026-AC07-574EF791DC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09D59-11A2-4BB0-8748-BEF7EF54BB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58DED-09EC-441D-A332-68108F87930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A04B7-2B43-4BE4-9812-A91F15A5DD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21B81-1332-4C26-8F1F-F394082016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B8AE2-7A9B-4FB8-957E-C49067B9696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F5BEF-CA9E-4BA4-B50D-C760685CA1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A4E0-CE95-4C59-BA0A-AFFA1E6A9C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C0B1-BECE-494E-A6ED-C27CD76491B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8F686-FC98-464C-A63A-630D155306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B9006-8732-4645-8282-9CC0F48B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88D-1F2E-40C6-BEA6-EF460B9B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F688-F39F-40DF-829C-23EC49AC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4C2D-BA85-4A24-93BD-8C115E17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A28E-6E30-42B4-8866-DC08CCB7A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A17E-A884-4EEE-BE3B-32ABDEDB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C1A4E-95E8-44DD-92F3-A1E38AA45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D0D1-CACE-4036-9499-1B0B5FA5C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8E2E-35E8-478E-BEBC-35DEA2BD0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165FB-78E5-4460-B63E-D591DC2E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0FC2-4EF2-4C2E-AD97-6ECDE7CFC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FE9CD-2064-4D1D-8654-E59DAF35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6E96-A215-40D3-A444-C27B4EAABF1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03_03_08_0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Organization Chart 7"/>
          <p:cNvGrpSpPr/>
          <p:nvPr/>
        </p:nvGrpSpPr>
        <p:grpSpPr>
          <a:xfrm>
            <a:off x="467280" y="1628640"/>
            <a:ext cx="8138520" cy="3382920"/>
            <a:chOff x="467280" y="1628640"/>
            <a:chExt cx="8138520" cy="3382920"/>
          </a:xfrm>
        </p:grpSpPr>
        <p:cxnSp>
          <p:nvCxnSpPr>
            <p:cNvPr id="72" name="_s2052"/>
            <p:cNvCxnSpPr>
              <a:stCxn id="73" idx="0"/>
              <a:endCxn id="74" idx="2"/>
            </p:cNvCxnSpPr>
            <p:nvPr/>
          </p:nvCxnSpPr>
          <p:spPr>
            <a:xfrm flipV="1" rot="16200000">
              <a:off x="5239800" y="1647000"/>
              <a:ext cx="1257840" cy="288072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5" name="_s2053"/>
            <p:cNvCxnSpPr>
              <a:stCxn id="76" idx="0"/>
              <a:endCxn id="74" idx="1"/>
            </p:cNvCxnSpPr>
            <p:nvPr/>
          </p:nvCxnSpPr>
          <p:spPr>
            <a:xfrm flipV="1" rot="16200000">
              <a:off x="3871440" y="3015360"/>
              <a:ext cx="1257840" cy="14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77" name="_s2054"/>
            <p:cNvCxnSpPr>
              <a:stCxn id="78" idx="0"/>
              <a:endCxn id="74" idx="0"/>
            </p:cNvCxnSpPr>
            <p:nvPr/>
          </p:nvCxnSpPr>
          <p:spPr>
            <a:xfrm flipH="1" flipV="1" rot="5400000">
              <a:off x="2467800" y="1755360"/>
              <a:ext cx="1257840" cy="2664360"/>
            </a:xfrm>
            <a:prstGeom prst="bentConnector3">
              <a:avLst>
                <a:gd name="adj1" fmla="val 9075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74" name="_s2055"/>
            <p:cNvSpPr/>
            <p:nvPr/>
          </p:nvSpPr>
          <p:spPr>
            <a:xfrm>
              <a:off x="2483280" y="1628640"/>
              <a:ext cx="3889080" cy="8305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bbe0e3"/>
                </a:gs>
                <a:gs pos="50000">
                  <a:srgbClr val="ffffff"/>
                </a:gs>
                <a:gs pos="100000">
                  <a:srgbClr val="bbe0e3"/>
                </a:gs>
              </a:gsLst>
              <a:lin ang="8100000"/>
            </a:gradFill>
            <a:ln w="324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Среды обитани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_s2056"/>
            <p:cNvSpPr/>
            <p:nvPr/>
          </p:nvSpPr>
          <p:spPr>
            <a:xfrm>
              <a:off x="467280" y="3716280"/>
              <a:ext cx="259488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наземно-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здуш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_s2057"/>
            <p:cNvSpPr/>
            <p:nvPr/>
          </p:nvSpPr>
          <p:spPr>
            <a:xfrm>
              <a:off x="3277080" y="3716280"/>
              <a:ext cx="259164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вод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_s2058"/>
            <p:cNvSpPr/>
            <p:nvPr/>
          </p:nvSpPr>
          <p:spPr>
            <a:xfrm>
              <a:off x="6011280" y="3716280"/>
              <a:ext cx="2594520" cy="1295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99"/>
                </a:gs>
                <a:gs pos="50000">
                  <a:srgbClr val="ffffff"/>
                </a:gs>
                <a:gs pos="100000">
                  <a:srgbClr val="333399"/>
                </a:gs>
              </a:gsLst>
              <a:lin ang="8100000"/>
            </a:gradFill>
            <a:ln w="3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6960" rIns="66960" tIns="33480" bIns="33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Arial"/>
                </a:rPr>
                <a:t>почвенна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10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Характеристика сре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229600" cy="132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ы      водная            почвенная        наземно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ы                                                            воздушная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1" descr="KorkinaO2"/>
          <p:cNvPicPr/>
          <p:nvPr/>
        </p:nvPicPr>
        <p:blipFill>
          <a:blip r:embed="rId1"/>
          <a:stretch/>
        </p:blipFill>
        <p:spPr>
          <a:xfrm>
            <a:off x="468360" y="2708280"/>
            <a:ext cx="820728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АДАП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РИСПОСОБЛЕНИЯ, ОБЕСПЕЧИВАЮЩИЕ ВОЗМОЖНОСТЬ ОБИТАНИЯ ОРГАНИЗМОВ В УСЛОВИЯХ ВНЕШНЕЙ СРЕ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6" descr="03_05_04_08"/>
          <p:cNvPicPr/>
          <p:nvPr/>
        </p:nvPicPr>
        <p:blipFill>
          <a:blip r:embed="rId1"/>
          <a:stretch/>
        </p:blipFill>
        <p:spPr>
          <a:xfrm>
            <a:off x="4572000" y="1773360"/>
            <a:ext cx="4038480" cy="303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03_03_06_27"/>
          <p:cNvPicPr/>
          <p:nvPr/>
        </p:nvPicPr>
        <p:blipFill>
          <a:blip r:embed="rId1"/>
          <a:stretch/>
        </p:blipFill>
        <p:spPr>
          <a:xfrm>
            <a:off x="0" y="281160"/>
            <a:ext cx="9144000" cy="631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воды по уроку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еда обитания – 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Различают наземно– воздушную, водную и почвенную среды обит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99"/>
                </a:solidFill>
                <a:latin typeface="Arial"/>
              </a:rPr>
              <a:t>Каждый организм приспособлен к жизни в определенной сре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03_03_08_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03_04_03_03"/>
          <p:cNvPicPr/>
          <p:nvPr/>
        </p:nvPicPr>
        <p:blipFill>
          <a:blip r:embed="rId1"/>
          <a:stretch/>
        </p:blipFill>
        <p:spPr>
          <a:xfrm>
            <a:off x="-757080" y="-243000"/>
            <a:ext cx="9901080" cy="742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8"/>
          <p:cNvSpPr/>
          <p:nvPr/>
        </p:nvSpPr>
        <p:spPr>
          <a:xfrm>
            <a:off x="3098880" y="1652760"/>
            <a:ext cx="1211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Object 5"/>
          <p:cNvGraphicFramePr/>
          <p:nvPr/>
        </p:nvGraphicFramePr>
        <p:xfrm>
          <a:off x="2843280" y="2060640"/>
          <a:ext cx="685800" cy="27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43280" y="2060640"/>
                    <a:ext cx="68580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Rectangle 10"/>
          <p:cNvSpPr/>
          <p:nvPr/>
        </p:nvSpPr>
        <p:spPr>
          <a:xfrm>
            <a:off x="3098880" y="1652760"/>
            <a:ext cx="17366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1619280" y="260280"/>
          <a:ext cx="5291280" cy="5473800"/>
        </p:xfrm>
        <a:graphic>
          <a:graphicData uri="http://schemas.openxmlformats.org/drawingml/2006/table">
            <a:tbl>
              <a:tblPr/>
              <a:tblGrid>
                <a:gridCol w="2173320"/>
                <a:gridCol w="3117960"/>
              </a:tblGrid>
              <a:tr h="175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</a:t>
                      </a: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словия царст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текаемая форма 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личие слизи на те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авни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ас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кожный слой жи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8" descr="03_04_04_02"/>
          <p:cNvPicPr/>
          <p:nvPr/>
        </p:nvPicPr>
        <p:blipFill>
          <a:blip r:embed="rId2"/>
          <a:stretch/>
        </p:blipFill>
        <p:spPr>
          <a:xfrm>
            <a:off x="4788000" y="1484280"/>
            <a:ext cx="4105080" cy="2259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9" descr="03_05_04_26"/>
          <p:cNvPicPr/>
          <p:nvPr/>
        </p:nvPicPr>
        <p:blipFill>
          <a:blip r:embed="rId3"/>
          <a:stretch/>
        </p:blipFill>
        <p:spPr>
          <a:xfrm>
            <a:off x="4788000" y="3933720"/>
            <a:ext cx="417672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03_03_06_31"/>
          <p:cNvPicPr/>
          <p:nvPr/>
        </p:nvPicPr>
        <p:blipFill>
          <a:blip r:embed="rId1"/>
          <a:stretch/>
        </p:blipFill>
        <p:spPr>
          <a:xfrm>
            <a:off x="142920" y="1357200"/>
            <a:ext cx="4714920" cy="40212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827600" y="907560"/>
            <a:ext cx="43164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рыл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для передвижения по твердой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шерс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ер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экономного расходования влаг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испособления для опыления раст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25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ы органы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орень,  стебель, листья и т.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опы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яркая окраска цветков, арома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способления к сохранению вла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03_03_05_06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0" y="3429000"/>
            <a:ext cx="3635280" cy="3284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3" descr="03_05_03_22"/>
          <p:cNvPicPr/>
          <p:nvPr/>
        </p:nvPicPr>
        <p:blipFill>
          <a:blip r:embed="rId2"/>
          <a:stretch/>
        </p:blipFill>
        <p:spPr>
          <a:xfrm>
            <a:off x="3635280" y="3141720"/>
            <a:ext cx="529272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1" descr="03_04_03_07"/>
          <p:cNvPicPr/>
          <p:nvPr/>
        </p:nvPicPr>
        <p:blipFill>
          <a:blip r:embed="rId1"/>
          <a:stretch/>
        </p:blipFill>
        <p:spPr>
          <a:xfrm>
            <a:off x="4788000" y="3573360"/>
            <a:ext cx="4103640" cy="271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03_04_03_06"/>
          <p:cNvPicPr/>
          <p:nvPr/>
        </p:nvPicPr>
        <p:blipFill>
          <a:blip r:embed="rId2"/>
          <a:stretch/>
        </p:blipFill>
        <p:spPr>
          <a:xfrm>
            <a:off x="4788000" y="476280"/>
            <a:ext cx="4038480" cy="23684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6"/>
          <p:cNvSpPr/>
          <p:nvPr/>
        </p:nvSpPr>
        <p:spPr>
          <a:xfrm>
            <a:off x="250920" y="1125360"/>
            <a:ext cx="4316400" cy="492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зрения развиты слабо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чности роющего типа либо отсутству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орошо развитое обон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Arial Black"/>
              </a:rPr>
              <a:t>СРЕДА ОБ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Arial"/>
              </a:rPr>
              <a:t>условия, окружающие 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03_04_03_07"/>
          <p:cNvPicPr/>
          <p:nvPr/>
        </p:nvPicPr>
        <p:blipFill>
          <a:blip r:embed="rId1"/>
          <a:stretch/>
        </p:blipFill>
        <p:spPr>
          <a:xfrm>
            <a:off x="4648320" y="2523960"/>
            <a:ext cx="403848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15:30:59Z</dcterms:created>
  <dc:creator>2</dc:creator>
  <dc:description/>
  <dc:language>en-US</dc:language>
  <cp:lastModifiedBy>Владелец</cp:lastModifiedBy>
  <dcterms:modified xsi:type="dcterms:W3CDTF">2009-02-02T07:50:23Z</dcterms:modified>
  <cp:revision>36</cp:revision>
  <dc:subject/>
  <dc:title>Среды обитания организмов. Приспособленность организмов к среде обитания.</dc:title>
</cp:coreProperties>
</file>