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BDB-57E5-4F4B-8742-57F4E060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268-9092-4627-8187-AC88603D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845-C89A-4AFB-AB22-5844CCE7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051-0C95-4B08-B431-92E021EA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403-07A7-4D93-A5CB-93337E43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105-3333-4623-A957-F3834762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9AF-BD87-4B97-9A47-A5628181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F3A9-09A0-4965-BB20-93234399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30F-F5C9-4CCF-A3D6-A22FF0EE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37FC-46A3-4689-80F9-2133454D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2696-62B9-4720-A440-7BA84524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68C-E1E7-4808-BDCE-EB5D6C9A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9888-C9F2-4EA5-A5FF-48123149A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ga.ru/mscdoma/imagepages/image5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dga.ru/mscdoma/imagepages/image23.html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edga.ru/mscdoma/imagepages/image25.htm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edga.ru/mscdoma/imagepages/image3.html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522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Что я вижу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789200"/>
            <a:ext cx="685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деоэкология (от лат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video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видеть, греч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οικ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λόγ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экология) — это область знания о взаимодействии человека с окружающей видимо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зуальная среда – совокупность объектов, воспринимаемых человеческим взглядом в определенной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Гостиница Космо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Москва. Улицы, дом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Замоскворечье, клумба с тюльпанам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Овчинниковская набережная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Гостиница Советская. Санкт-Петербург"/>
          <p:cNvPicPr/>
          <p:nvPr/>
        </p:nvPicPr>
        <p:blipFill>
          <a:blip r:embed="rId9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Московский вокзал"/>
          <p:cNvPicPr/>
          <p:nvPr/>
        </p:nvPicPr>
        <p:blipFill>
          <a:blip r:embed="rId10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Бассейн СК Олимпийский"/>
          <p:cNvPicPr/>
          <p:nvPr/>
        </p:nvPicPr>
        <p:blipFill>
          <a:blip r:embed="rId11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Лето. Тропинка и пруд"/>
          <p:cNvPicPr/>
          <p:nvPr/>
        </p:nvPicPr>
        <p:blipFill>
          <a:blip r:embed="rId12"/>
          <a:stretch/>
        </p:blipFill>
        <p:spPr>
          <a:xfrm>
            <a:off x="2057400" y="1523880"/>
            <a:ext cx="5105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3600" y="642960"/>
            <a:ext cx="4276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88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HH</cp:lastModifiedBy>
  <dcterms:modified xsi:type="dcterms:W3CDTF">2008-11-14T04:55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