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60D2-89B0-4450-85D8-7B0082681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BF33-7B91-43EC-88DA-789FDE38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EAE6-5828-4792-B6C0-3B00444AD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59F5-F94B-40C2-B6F9-849CAB1EE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3B64-37CB-4D15-82A3-D40E96A87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B521-54B8-452F-8F51-C7B018BC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7B02-50DB-4A31-8F43-BD6710C4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3283-1884-4838-BFCD-DB6F7C05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B411-874A-4D62-BB17-E902F942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11FE-63F8-49CF-AAE6-B1938988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4AE3-327E-40B3-9280-B2007F3C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970C-1D14-4B13-81DC-1E949152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6B77-9A56-4FA7-BF97-4463F943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A1D7-EC7B-4619-A957-CF06FBB1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7685-4958-431A-B5F2-0147EC80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25499-EA86-4161-80BA-597A68696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9586-3A2B-4A16-B70D-4B1ABB8B4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2B71-CC75-4094-A5C0-86559CEA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AD1F-7F01-48BC-8B71-1273D77E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3A19-E8B2-42EE-9850-4FE76280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05FB-2B1B-40BC-924C-253104E8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180E-D974-4A92-8BF3-3ACB9679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399A-D9D1-469B-9650-0506B7DC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15B3-13CD-4152-9940-D5C077D6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D616-24E7-4A2A-B0DD-031BA279D6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1520-0BA5-4D6C-9049-0A627F7D81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10920" y="404280"/>
            <a:ext cx="6046920" cy="20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7391520" cy="430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403280" y="1773360"/>
            <a:ext cx="741672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зеленение город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Это может сделать каждый! Сделаем наш город чистым, красивым и уютным!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195640" y="3068640"/>
            <a:ext cx="471960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Только 8 предприятий города готовы соблюдать требования экологического законодательства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Из 68 предприятий города только 8 заключили договора на функционирование санитарно-защитной зоны (СЗЗ)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47280" y="1700280"/>
            <a:ext cx="4751640" cy="46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В городе три главных источника выброса ядовитых веществ в атмосферу: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7920" indent="3780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Выбросы КЦБК "Кама"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7920" indent="3780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Выхлопные газы транспорта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7920" indent="3780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Полигон бытовых отходов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9" name="" descr="КЦБК.jpg, 21179 bytes"/>
          <p:cNvPicPr/>
          <p:nvPr/>
        </p:nvPicPr>
        <p:blipFill>
          <a:blip r:embed="rId1"/>
          <a:stretch/>
        </p:blipFill>
        <p:spPr>
          <a:xfrm>
            <a:off x="6156360" y="1628640"/>
            <a:ext cx="276840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и здоровь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00120" y="1777680"/>
            <a:ext cx="7491600" cy="446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В течение нескольких лет более 400 краснокамских детей были обследованы сотрудниками института экология и выявили рост содержащихся в их организме: свинца, хрома, фенола и бензола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В 2000 году фенол влияющий на систему крови, печени и почек, обнаруживался у 25 % обследованных детей, то в 2003 году - уже у 87 %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и здоровь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При попадании в организм: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сернистого ангидрида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 - развиваются такие заболевания, как бронхиальная астма, нефрит, хронический отит, ДЦП, сахарный диабет, аномалии системы кровообращения;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фенола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 - бронхиальная астма, стенокардия, сахарный диабет, гипертония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и здоровь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Город занимает 18 место по уровню смертности в области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По уровню смертности от новообразований. Краснокамск занимает седьмое место: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53 % - болезни системы кровообращения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4 % - органы пищеварения,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6 % - органы дыхания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По уровню общей заболеваемости на 21 месте, а детей на 7 месте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редприятия город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652400" y="1279080"/>
            <a:ext cx="7491240" cy="431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КЦБК «Кама",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"ТЭЦ-5",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"Свинокомплекс" - 71 % вредных выбросов в воздух и 83 % всех загрязнений окружающей среды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100 тысяч тонн так называемых нефтеочистк находится на небольшой глубине под слоем грунта в водоохраной зоне в районе деревни Шилова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76000" y="404280"/>
            <a:ext cx="7488360" cy="15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ля изменения экологической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безопасност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необходимо решить следующие основные задачи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47640" y="2133360"/>
            <a:ext cx="7345440" cy="42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реализовать комплексные меры по улучшению экологической ситуации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проводить медико-экологическую реабилитацию населения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способствовать снижению техногенной нагрузки на окружающую среду от выбросов и сбросов загрязняющих веществ и размещения отходов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1:28:39Z</dcterms:created>
  <dc:creator>01</dc:creator>
  <dc:description/>
  <dc:language>en-US</dc:language>
  <cp:lastModifiedBy>admin</cp:lastModifiedBy>
  <dcterms:modified xsi:type="dcterms:W3CDTF">2007-01-24T02:26:54Z</dcterms:modified>
  <cp:revision>6</cp:revision>
  <dc:subject/>
  <dc:title>Экология Краснокамска</dc:title>
</cp:coreProperties>
</file>