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D5192-779A-45B2-B40B-69B261D01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D1C1-4128-4C15-B18E-CAC915ED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C2D0-D34B-4549-B781-74F5133F4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A39F-CDF2-4833-B915-A3484B73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20720-9619-4E54-B9B0-72B58DC91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57FB4-F049-4B81-B890-88AF2DC15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57E8-181D-4244-AC0E-45356C0F0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FCDC-0136-4EDE-BA7F-B40F5089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85BE1-EF45-4665-B80A-5DD15CA8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F963D-EFAB-42D9-A3CA-683B9675C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EFAEB-91A6-4E2B-B60F-EDE11F07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5415-8F0E-4A19-8A75-9073FC4D6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40BC0-63F7-47C8-8245-920440FA7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9F38-0C51-48AE-B87E-A7B119B4B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34B78-30AA-4AA0-BA48-585BAB9D0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1DD3C-7772-4128-936B-88330EC38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85515-3988-4BEA-933F-7536598215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BB6E-BB33-450F-9684-87223F9AA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146E-FF45-4037-8155-9CD734F46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006-18EC-4248-9B34-6A89FA4C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3EB3-E86A-4932-82E4-4E6EF9464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D48F-12F3-42B1-9987-5BD5C2F08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2081-2BFE-4421-89C8-8BAD7D62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ED9-40C4-440F-896D-BD763DCF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801B-9DD6-48B2-A9F9-3B39DDCBAB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3333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3333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E747E-36B2-4EAE-ADE0-CEFF966C0D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410920" y="404280"/>
            <a:ext cx="6046920" cy="201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1403280" y="1773360"/>
            <a:ext cx="7391520" cy="43005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403280" y="1773360"/>
            <a:ext cx="7416720" cy="42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3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30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Озеленение гор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Это может сделать каждый! Сделаем наш город чистым, красивым и уютным!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195640" y="3068640"/>
            <a:ext cx="4719600" cy="35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Только 8 предприятий города готовы соблюдать требования экологического законодательст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Из 68 предприятий города только 8 заключили договора на функционирование санитарно-защитной зоны (СЗЗ)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47280" y="1700280"/>
            <a:ext cx="4751640" cy="46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 городе три главных источника выброса ядовитых веществ в атмосферу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бросы КЦБК "Кама"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Выхлопные газы транспорта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7920" indent="3780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Полигон бытовых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  <p:pic>
        <p:nvPicPr>
          <p:cNvPr id="169" name="" descr="КЦБК.jpg, 21179 bytes"/>
          <p:cNvPicPr/>
          <p:nvPr/>
        </p:nvPicPr>
        <p:blipFill>
          <a:blip r:embed="rId1"/>
          <a:stretch/>
        </p:blipFill>
        <p:spPr>
          <a:xfrm>
            <a:off x="6156360" y="1628640"/>
            <a:ext cx="2768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500120" y="1777680"/>
            <a:ext cx="749160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течение нескольких лет более 400 краснокамских детей были обследованы сотрудниками института экология и выявили рост содержащихся в их организме: свинца, хрома, фенола и бензола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00"/>
                </a:solidFill>
                <a:latin typeface="Arial"/>
              </a:rPr>
              <a:t>В 2000 году фенол влияющий на систему крови, печени и почек, обнаруживался у 25 % обследованных детей, то в 2003 году - уже у 87 %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При попадании в организм: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сернистого ангидрид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развиваются такие заболевания, как бронхиальная астма, нефрит, хронический отит, ДЦП, сахарный диабет, аномалии системы кровообращения;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фенола</a:t>
            </a: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 - бронхиальная астма, стенокардия, сахарный диабет, гипертония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и здоровь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Город занимает 18 место по уровню смертности в области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смертности от новообразований. Краснокамск занимает седьмое место: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53 % - болезни системы кровообращения;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4 % - органы пищеварения,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6 % - органы дыхания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о уровню общей заболеваемости на 21 месте, а детей на 7 месте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Предприятия города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52400" y="1279080"/>
            <a:ext cx="7491240" cy="4310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КЦБК «Кама",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ТЭЦ-5",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00"/>
                </a:solidFill>
                <a:latin typeface="Arial"/>
              </a:rPr>
              <a:t>"Свинокомплекс" - 71 % вредных выбросов в воздух и 83 % всех загрязнений окружающей среды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Экология Краснокамс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Arial"/>
              </a:rPr>
              <a:t>100 тысяч тонн так называемых нефтеочистк находится на небольшой глубине под слоем грунта в водоохраной зоне в районе деревни Шилова. 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76000" y="404280"/>
            <a:ext cx="7488360" cy="158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ля изменения экологической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безопаснос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необходимо решить следующие основные задачи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547640" y="2133360"/>
            <a:ext cx="7345440" cy="42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реализовать комплексные меры по улучшению экологической ситуации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проводить медико-экологическую реабилитацию населения;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00"/>
                </a:solidFill>
                <a:latin typeface="Arial"/>
              </a:rPr>
              <a:t>способствовать снижению техногенной нагрузки на окружающую среду от выбросов и сбросов загрязняющих веществ и размещения отходов. 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1:28:39Z</dcterms:created>
  <dc:creator>01</dc:creator>
  <dc:description/>
  <dc:language>en-US</dc:language>
  <cp:lastModifiedBy>admin</cp:lastModifiedBy>
  <dcterms:modified xsi:type="dcterms:W3CDTF">2007-01-24T02:26:54Z</dcterms:modified>
  <cp:revision>6</cp:revision>
  <dc:subject/>
  <dc:title>Экология Краснокамска</dc:title>
</cp:coreProperties>
</file>