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9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B551-ADFE-4A1F-A82C-741D305DF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9249-15D6-42AD-B430-1BAC0F29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ED4B-99F9-497B-B1D9-178970B89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B403-0CA1-45DC-8A70-89BAC8C39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990D-708E-4AC4-9A14-8BE0FAFE7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26891-AE20-41A0-AB47-31625FC2E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22E1-10D0-4C7E-9C9C-C8140322A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3612F-C276-4BD3-A660-C398DB538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8B7F-C9DC-4353-8872-013E5D2E5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F7F20-93CD-4197-9550-ABA542343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7C3B-102D-404A-9CDB-84A801EFD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BDB-6B2D-4289-8D33-A7A776F6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7DD9E-D966-48E1-9CEE-529E16DF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B9767-C48D-4E4F-A0B4-0C765F60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E3F75-4687-468F-9497-CD256F2DE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2BD97-A41C-43E5-B7FE-323FE0DC0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D578-F30E-4785-AA89-0BC32A500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6EAB-27E1-4445-89FA-5A6659748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D4A2-9FE0-48A0-AA04-B1C21E0F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24FC-5D1C-4D28-8822-681393BB2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B76D-0570-4BDE-AA13-DA2CE131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4EE9-C07E-486D-8C7F-28338AE4D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3FA2-1E6A-4677-BC91-BE9BFB0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21CE-90D5-42C2-8F15-A71C0075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63F64-D86C-4CDB-B899-04FA480DB49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86953-44D5-425D-9383-40A698B3140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reenmama.ru/image_show.html?url=images/2007-09/24/1190611257-73783337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4240" y="100008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осметика: </a:t>
            </a:r>
            <a:br>
              <a:rPr sz="4400"/>
            </a:b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юсы и минус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1428840" y="428760"/>
            <a:ext cx="632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раевой эколого-биологический цент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"/>
          <p:cNvPicPr/>
          <p:nvPr/>
        </p:nvPicPr>
        <p:blipFill>
          <a:blip r:embed="rId1"/>
          <a:stretch/>
        </p:blipFill>
        <p:spPr>
          <a:xfrm>
            <a:off x="3286080" y="2786040"/>
            <a:ext cx="3286080" cy="3286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500280" y="614376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ермь 200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9286920" cy="87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-19872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Жирная подводка зрительно уменьшает глаза и придаёт вашему лицу усталое выражение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4" descr="i[96]"/>
          <p:cNvPicPr/>
          <p:nvPr/>
        </p:nvPicPr>
        <p:blipFill>
          <a:blip r:embed="rId1"/>
          <a:stretch/>
        </p:blipFill>
        <p:spPr>
          <a:xfrm>
            <a:off x="6786720" y="1857240"/>
            <a:ext cx="2143080" cy="276732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0" y="2143080"/>
            <a:ext cx="68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тобы макияж выглядел естественно, достаточно подчеркнуть одну деталь, например, глаза. Губы можно оставить нейтральными или наоборот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42920" y="4786200"/>
            <a:ext cx="900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макияж, следует учитывать его назначение и возраст. Надо соблюдать меру, помнить о том, что большой слой красок не придает красоты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5712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142920" y="1581120"/>
            <a:ext cx="850104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 год в женский организм поступает до 2,5 кг косметики. Часто это приносит  не пользу, а серьезный вред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14200" y="928800"/>
            <a:ext cx="22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785880" y="3286080"/>
            <a:ext cx="8358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сроченные средства могут таить в себе угрозу занесения инфекции и раздражения кож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214200" y="4714920"/>
            <a:ext cx="853452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ые считают, что некоторые искусственные компоненты косметических средств, попадая в организм, могут даже спровоцировать развитие онкологических заболеваний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2876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здоровье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142920" y="1571760"/>
            <a:ext cx="61437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мывайся перед сном: косметика закупоривает поры кожи и не дает коже дышать. Это приводит к появлению прыщей, отечности, землистому цвету лица и воспаления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142920" y="4611600"/>
            <a:ext cx="91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бенно осторожными следует быть с натуральной косметикой, т.к. она не содержит консервантов и быстрее подвергается порче. При первых симптомах раздражения ее использование необходимо прекрати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Picture 12" descr="1190611191-56955996"/>
          <p:cNvPicPr/>
          <p:nvPr/>
        </p:nvPicPr>
        <p:blipFill>
          <a:blip r:embed="rId1"/>
          <a:stretch/>
        </p:blipFill>
        <p:spPr>
          <a:xfrm>
            <a:off x="6000840" y="2214720"/>
            <a:ext cx="2958840" cy="2158920"/>
          </a:xfrm>
          <a:prstGeom prst="rect">
            <a:avLst/>
          </a:prstGeom>
          <a:ln w="0">
            <a:noFill/>
          </a:ln>
        </p:spPr>
      </p:pic>
      <p:sp>
        <p:nvSpPr>
          <p:cNvPr id="153" name="TextBox 12"/>
          <p:cNvSpPr/>
          <p:nvPr/>
        </p:nvSpPr>
        <p:spPr>
          <a:xfrm>
            <a:off x="214200" y="857160"/>
            <a:ext cx="292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омн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38512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5" name="Picture 7" descr="знак1"/>
          <p:cNvPicPr/>
          <p:nvPr/>
        </p:nvPicPr>
        <p:blipFill>
          <a:blip r:embed="rId1"/>
          <a:srcRect l="34924" t="36020" r="36848" b="41768"/>
          <a:stretch/>
        </p:blipFill>
        <p:spPr>
          <a:xfrm>
            <a:off x="357120" y="2143080"/>
            <a:ext cx="2716200" cy="207180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9"/>
          <p:cNvSpPr/>
          <p:nvPr/>
        </p:nvSpPr>
        <p:spPr>
          <a:xfrm>
            <a:off x="428760" y="100008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 выборе косметики обрати внимание на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наки упаков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0"/>
          <p:cNvSpPr/>
          <p:nvPr/>
        </p:nvSpPr>
        <p:spPr>
          <a:xfrm>
            <a:off x="3500280" y="2500200"/>
            <a:ext cx="5175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дукция не тестируется на живот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11" descr="знак2"/>
          <p:cNvPicPr/>
          <p:nvPr/>
        </p:nvPicPr>
        <p:blipFill>
          <a:blip r:embed="rId2"/>
          <a:srcRect l="26750" t="36069" r="26822" b="36167"/>
          <a:stretch/>
        </p:blipFill>
        <p:spPr>
          <a:xfrm>
            <a:off x="5572080" y="3786120"/>
            <a:ext cx="3154320" cy="2782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12"/>
          <p:cNvSpPr/>
          <p:nvPr/>
        </p:nvSpPr>
        <p:spPr>
          <a:xfrm>
            <a:off x="285840" y="5500800"/>
            <a:ext cx="421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паковки могут быть переработан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природ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56920" y="1484280"/>
            <a:ext cx="6247080" cy="351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13" descr="знак3"/>
          <p:cNvPicPr/>
          <p:nvPr/>
        </p:nvPicPr>
        <p:blipFill>
          <a:blip r:embed="rId1"/>
          <a:srcRect l="27720" t="34949" r="29838" b="37701"/>
          <a:stretch/>
        </p:blipFill>
        <p:spPr>
          <a:xfrm>
            <a:off x="357120" y="1285920"/>
            <a:ext cx="2838600" cy="2697120"/>
          </a:xfrm>
          <a:prstGeom prst="rect">
            <a:avLst/>
          </a:prstGeom>
          <a:ln w="0">
            <a:noFill/>
          </a:ln>
        </p:spPr>
      </p:pic>
      <p:sp>
        <p:nvSpPr>
          <p:cNvPr id="163" name="Прямоугольник 6"/>
          <p:cNvSpPr/>
          <p:nvPr/>
        </p:nvSpPr>
        <p:spPr>
          <a:xfrm>
            <a:off x="3429000" y="1285920"/>
            <a:ext cx="3857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ованы натуральные ингреди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15" descr="знак5"/>
          <p:cNvPicPr/>
          <p:nvPr/>
        </p:nvPicPr>
        <p:blipFill>
          <a:blip r:embed="rId2"/>
          <a:srcRect l="23753" t="27730" r="30413" b="33259"/>
          <a:stretch/>
        </p:blipFill>
        <p:spPr>
          <a:xfrm>
            <a:off x="5786280" y="3429000"/>
            <a:ext cx="3143520" cy="314316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10"/>
          <p:cNvSpPr/>
          <p:nvPr/>
        </p:nvSpPr>
        <p:spPr>
          <a:xfrm>
            <a:off x="1857240" y="5500800"/>
            <a:ext cx="3929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е разрушают озоновый сл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0040" y="257148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Красота любой ценой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Что такое косметика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03640" y="2781000"/>
            <a:ext cx="345600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редства для ухода за кожей, волосами, зубами и ногтями (крем, лосьон, пудра, шампунь и т. п.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Text Box 4" descr=""/>
          <p:cNvPicPr/>
          <p:nvPr/>
        </p:nvPicPr>
        <p:blipFill>
          <a:blip r:embed="rId1"/>
          <a:stretch/>
        </p:blipFill>
        <p:spPr>
          <a:xfrm>
            <a:off x="981000" y="1316160"/>
            <a:ext cx="6639120" cy="105552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6"/>
          <p:cNvSpPr/>
          <p:nvPr/>
        </p:nvSpPr>
        <p:spPr>
          <a:xfrm>
            <a:off x="611280" y="2924280"/>
            <a:ext cx="3024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ние о средствах и методах улучшения внешности челове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4500720" y="2421000"/>
            <a:ext cx="792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 flipH="1">
            <a:off x="2411280" y="2421000"/>
            <a:ext cx="648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9" descr="1190610957-aog50798"/>
          <p:cNvPicPr/>
          <p:nvPr/>
        </p:nvPicPr>
        <p:blipFill>
          <a:blip r:embed="rId2"/>
          <a:stretch/>
        </p:blipFill>
        <p:spPr>
          <a:xfrm>
            <a:off x="3059280" y="3573360"/>
            <a:ext cx="196200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стория косме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483920"/>
            <a:ext cx="83772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Ещё древние египтяне, римляне, арабы подкрашивали щёки, ресницы, веки, завивали волосы, использовали благовонные масла, заменяющие дух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России примерно лет сто назад женщины коптили мыло на свечке и красили этой копотью ресницы, натирали щеки свекольным соком, а чтобы губы были красными - мазали их жгучим перцем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-288000" algn="just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учное развитие косметики началось в 19 век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85840" y="-21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     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 косметик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Схема 8" descr=""/>
          <p:cNvPicPr/>
          <p:nvPr/>
        </p:nvPicPr>
        <p:blipFill>
          <a:blip r:embed="rId1"/>
          <a:stretch/>
        </p:blipFill>
        <p:spPr>
          <a:xfrm>
            <a:off x="1609560" y="993600"/>
            <a:ext cx="6077160" cy="277344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5"/>
          <p:cNvSpPr/>
          <p:nvPr/>
        </p:nvSpPr>
        <p:spPr>
          <a:xfrm>
            <a:off x="357120" y="4000680"/>
            <a:ext cx="385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 : профилактика и лечение заболеваний и косметических недостатков кожи, волос, уход за ногтями и полостью рт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4714920" y="3929040"/>
            <a:ext cx="41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дачи: косметическими средствами сделать менее заметными или скрыть некоторые дефекты внешности, оттенить отдельные черты лица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Виды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косметической</a:t>
            </a: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родукции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901600" y="4820760"/>
            <a:ext cx="6242040" cy="18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удры, губные помады, грим, карандаши для бровей, век, тушь для ресниц, румяна, лаки для ногтей и волос, краски и восстановители для волос, бриолин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214200" y="1857240"/>
            <a:ext cx="3032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игиен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15"/>
          <p:cNvSpPr/>
          <p:nvPr/>
        </p:nvSpPr>
        <p:spPr>
          <a:xfrm>
            <a:off x="285840" y="2643120"/>
            <a:ext cx="257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лечеб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16"/>
          <p:cNvSpPr/>
          <p:nvPr/>
        </p:nvSpPr>
        <p:spPr>
          <a:xfrm>
            <a:off x="285840" y="3429000"/>
            <a:ext cx="38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офилактическ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7"/>
          <p:cNvSpPr/>
          <p:nvPr/>
        </p:nvSpPr>
        <p:spPr>
          <a:xfrm>
            <a:off x="285840" y="5286240"/>
            <a:ext cx="357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коративны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18"/>
          <p:cNvSpPr/>
          <p:nvPr/>
        </p:nvSpPr>
        <p:spPr>
          <a:xfrm>
            <a:off x="3929040" y="178596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сметические средства по уходу за зубами (зубные пасты, порошки), ртом (жидкость для полоскания рта), кожей лица, головы и тела (кремы, лосьоны, мыла), средства от пота (тальк и др., освежающие лосьоны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85840" y="1428480"/>
            <a:ext cx="885816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1. Подбирайте косметические средства, соответствующие типу вашей кож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28760" y="2428920"/>
            <a:ext cx="8715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2. Пользуйтесь средствами для        своей      возрастной категор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500280" y="3571920"/>
            <a:ext cx="5643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3. Выбирайте средства в соответствии с индивидуальной чувствительностью своей кожи, не забывайте про аллергию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11" descr="женщина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7040" y="4071960"/>
            <a:ext cx="2907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Правила выбора косметик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547640" y="1628640"/>
            <a:ext cx="72979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476360" y="4221000"/>
            <a:ext cx="3908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285840" y="1433160"/>
            <a:ext cx="86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4. Обязательно проверяйте срок годности косметических средст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285840" y="2714760"/>
            <a:ext cx="8858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5. Приобретайте косметику в специально предназначенных для этого местах. Никаких рынков или  подземных переходов метро!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10"/>
          <p:cNvSpPr/>
          <p:nvPr/>
        </p:nvSpPr>
        <p:spPr>
          <a:xfrm>
            <a:off x="428760" y="4714920"/>
            <a:ext cx="857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6. Прежде чем покупать косметику новой фирмы, узнайте о ней как можно больше.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14200" y="1214280"/>
            <a:ext cx="8643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Сегодня существует множество средств для создания красоты. Необходимо лишь знать чувство меры и уметь правильно использовать и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285840" y="3786120"/>
            <a:ext cx="8572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 нанесении макияжа стоит учитывать цвет кожи, а также эффект, которого вы хотите добитьс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28760" y="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Косметика и красота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285840" y="1143000"/>
            <a:ext cx="528624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льзя злоупотреблять тональным кремом, он  должен быть незаметным на лиц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лишком светлая основа придаёт лицу неестественную бледность и усталост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Picture 13" descr="1190611338-dv1887011"/>
          <p:cNvPicPr/>
          <p:nvPr/>
        </p:nvPicPr>
        <p:blipFill>
          <a:blip r:embed="rId1"/>
          <a:stretch/>
        </p:blipFill>
        <p:spPr>
          <a:xfrm>
            <a:off x="5572080" y="1571760"/>
            <a:ext cx="318132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19:43:45Z</dcterms:created>
  <dc:creator>SSG</dc:creator>
  <dc:description/>
  <dc:language>en-US</dc:language>
  <cp:lastModifiedBy>Пользователь</cp:lastModifiedBy>
  <dcterms:modified xsi:type="dcterms:W3CDTF">2008-11-14T05:52:59Z</dcterms:modified>
  <cp:revision>57</cp:revision>
  <dc:subject/>
  <dc:title>Красота не любой ценой</dc:title>
</cp:coreProperties>
</file>