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B28-223F-45C5-95AE-D08FE6AD4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BF00-7C75-4BB7-80E8-D971AE58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813FA-C168-4436-A9DC-174541E7B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A5F9-711E-4B76-8D11-A10B1D18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457AF-4183-47C0-8544-C5951BE04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1082-5649-4A61-B51C-04F3F013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2F18E-0F21-4D41-A8B0-0E118B30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9F32-5CD1-4442-A46D-3ACEE3115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A1C31-F638-4303-AF79-146AE9B70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F446-CE43-4ED0-B10E-DC3C88EA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794B-8A43-492D-A175-8456FD45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65EE-9B52-4405-A985-F6812DE2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37169-16EB-4A0F-84A0-A4253EAE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47F83-819E-4AC5-A2C6-6FFE313B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BCCAA-5B20-4AA6-8305-A063B6D9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40AA8-F9C4-4E74-BCD3-EF408F64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53FE-74EB-41F4-9CA6-0014B799F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CE3A-FD12-4C05-BF73-4F13ADED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9F40-5790-4D74-8903-ABED0BE20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BD1A1-9F61-40FE-997F-E55C4B5C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D634-6E14-4092-8BBB-BD77AC041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F2AA-2FDC-47D6-9E82-B6C98CB4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AAAB-9885-40FF-A632-07233F1A1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70F8-A388-4B85-8403-98B4A0255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A2298-9129-47FB-B959-4F165A35DD7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c4c3d8"/>
                </a:gs>
                <a:gs pos="100000">
                  <a:srgbClr val="b8b7d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b8b7d1"/>
                </a:gs>
                <a:gs pos="100000">
                  <a:srgbClr val="c4c3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53B6-977C-45BB-9032-5B1CF0F4B1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1bcf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a6f86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www.forklift.ru/img/kat/katalog100128pp.jpg&amp;imgrefurl=http://www.forklift.ru/%3Fpage%3Dcat%26top%3D100042&amp;h=200&amp;w=200&amp;sz=44&amp;hl=ru&amp;start=17&amp;tbnid=p04Ufsq4ubPDGM:&amp;tbnh=104&amp;tbnw=104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ages.google.ru/imgres?imgurl=http://bast.ru/bastion/help/risunki/jurris.gif&amp;imgrefurl=http://bast.ru/bastion/help/stat_juravlev_akb.htm&amp;h=179&amp;w=250&amp;sz=22&amp;hl=ru&amp;start=20&amp;tbnid=zEAGC-Y-xJfrwM:&amp;tbnh=79&amp;tbnw=111&amp;prev=/images%3Fq%3D%25D0%25A1%25D0%25B2%25D0%25B8%25D0%25BD%25D1%2586%25D0%25BE%25D0%25B2%25D1%258B%25D0%25B5%2B%25D0%25B0%25D0%25BA%25D0%25BA%25D1%2583%25D0%25BC%25D1%2583%25D0%25BB%25D1%258F%25D1%2582%25D0%25BE%25D1%2580%25D1%258B%2B%26svnum%3D10%26hl%3Dru%26lr%3D" TargetMode="External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7989840" cy="299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Бытовые отходы.</a:t>
            </a:r>
            <a:br>
              <a:rPr sz="5400"/>
            </a:br>
            <a:r>
              <a:rPr b="1" i="1" lang="en-US" sz="5400" spc="-1" strike="noStrike">
                <a:solidFill>
                  <a:srgbClr val="000000"/>
                </a:solidFill>
                <a:latin typeface="Arial"/>
              </a:rPr>
              <a:t>Мусор-проблема века.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2519280" y="2349360"/>
            <a:ext cx="6624720" cy="42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копление твердых бытовых отходов в современном городе достигает 250-300 кг на человека в год, а ежегодное увеличение отходов на душу населения составляет 4-6%, что в 3 раза превышает скорость роста насел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1873080" cy="184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России разработана технология по механизированному извлечению из твердых бытовых отходов шести компонент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черных металло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ловосодержащего лом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юми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кулатуры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олимерной пленк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щевых отходо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сточник энерг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середины 70-х годов ХХв. в разгар мирового энергетического кризиса на твердые бытовые отходы стали смотреть как на дополнительный сырьевой источник энергии - тепло отходящих газов, образующихся при сжигании мусора, можно утилизировать: пять тонн мусора равны тонне условного топлив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826920" y="4797360"/>
            <a:ext cx="2592720" cy="43344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87280" y="3716280"/>
            <a:ext cx="2521080" cy="4334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87280" y="2924280"/>
            <a:ext cx="2160720" cy="433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истема раздельного сбора мус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9360">
            <a:solidFill>
              <a:srgbClr val="b8b7d1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Германии батареи мусорных бочек у домов выкрашены в три цвета: серые, желтые, зелены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сер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несут старые газеты, журналы и картонные короб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желту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у выбрасывают банки, бутылки полимерную и бумажную, а также частично металлическую упаковку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елена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бочка предназначена для биоразлагаемых отходов пищевого происхождения, которые позже будут переработаны в компост.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следствия мусорного загрязнения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Классификация бытовых отходов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облемы удаления и переработки бытового мусора в современных городах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ое исследование: «Не слишком ли много мы используем упаковок?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ологические акции: «Чистый подъезд», «Ель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95280" y="1412640"/>
            <a:ext cx="514836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3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валки существенно влияют на все компоненты окружающей природной среды и являются мощным загрязнителем атмосферного воздуха, почвы и грунтовых вод .Эти свалки являются, кроме того, еще рассадниками мышей, крыс, насекомых и могут стать источником инфекционных заболеваний, особенно в южных районах стран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3456000" cy="258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57834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708360" y="2779560"/>
            <a:ext cx="5168880" cy="34610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250920" y="549360"/>
            <a:ext cx="5825880" cy="38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xit" presetID="4" presetSubtype="16">
                                  <p:stCondLst>
                                    <p:cond delay="200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8000"/>
                            </p:stCondLst>
                            <p:childTnLst>
                              <p:par>
                                <p:cTn id="1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66400" y="1341360"/>
            <a:ext cx="87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собенно опасным является ртутное загрязнение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настоящее время в стране ежегодно идет в отходы около 200 млн. штук люминесцентных и дугоразрядных ламп. В каждой лампе содержится от 80 до 120 мг ртут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5435640" y="3716280"/>
            <a:ext cx="3433680" cy="2575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50920" y="3284640"/>
            <a:ext cx="5473440" cy="26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е меньшую опасность представляют ртутьсодержащие электрические батарейки. В электрических батарейках содержание ртути достигает 300 мг. В целом по нашей стране попадают на свалки десятки тонн ртут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Опасность свало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винцовые аккумуляторы для автомобилей – в среднем в каждом аккумуляторе содержится от 8,5 до 9,5 кг свинца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3933720"/>
            <a:ext cx="1584360" cy="1584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348000" y="3860640"/>
            <a:ext cx="2303640" cy="1640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5"/>
          <a:stretch/>
        </p:blipFill>
        <p:spPr>
          <a:xfrm>
            <a:off x="6732720" y="3933720"/>
            <a:ext cx="1679400" cy="16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Эпидемиологическая опас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ак, например, в Ленинградской области на свалке были выявлены зараженные бешенством лисицы, что привело к необходимости проведения дорогостоящих профилактических мероприяти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се твердые отходы городов заражены разнообразными насекомыми и гельминт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мире зарегистрировано уже заражение детей СПИДом, связанное с игрой последних с медицинскими отходами, попавшими в бытовые контейнер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вердые бытовые отходы в городах содержат значительное количество разнообразных токсичных веществ и материалов. Примерно 4% отходов являются токсичны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 наименований токсичных соединений и среди них - красители, пестициды, ртуть и ее соединения, растворители, свинец и его соли, лекарства, кадмий, мышьяковистые соединения, формальдегид, соли таллия и др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Токсикологическая опасност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обое место среди твердых отходов занимают пластмассы и синтетические материалы, так как они не подвергаются процессам биологического разрушения и могут длительное время (десятки лет) находиться в объектах окружающей среды. При горении пластмасс и синтетических материалов выделяются многочисленные токсические яд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8b7d1"/>
            </a:gs>
            <a:gs pos="50000">
              <a:srgbClr val="dddddd"/>
            </a:gs>
            <a:gs pos="100000">
              <a:srgbClr val="b8b7d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9280" y="-360"/>
            <a:ext cx="8964720" cy="314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Проблемы удаления и переработки бытового мусора в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современных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городах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7588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ервое "мусоросжигательное заведение" было построено еще в 1870 году близ Лондон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ейчас в мире действуют более 1000 мусоросжигательных заводов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5454c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 нашей стране первый мусоросжигательный завод был построен только в 1972 году, то есть через 102 года после появления в мире первог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6:49:11Z</dcterms:created>
  <dc:creator>09</dc:creator>
  <dc:description/>
  <dc:language>en-US</dc:language>
  <cp:lastModifiedBy>admin</cp:lastModifiedBy>
  <dcterms:modified xsi:type="dcterms:W3CDTF">2007-01-21T19:45:50Z</dcterms:modified>
  <cp:revision>12</cp:revision>
  <dc:subject/>
  <dc:title>Бытовые отходы. Мусор-проблема века. </dc:title>
</cp:coreProperties>
</file>