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303C-9D2D-4FEA-A904-5CD82AE78E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2A46-6A5C-4CB7-BF28-7D38CCCB70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52A9-0822-4B80-8F72-653C9E6E7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EC11-2046-4B12-B83C-FAD6B703E9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5C06-BE5E-4B6A-BD09-A32C43AB5E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0961-51B8-453B-9218-85B44F912F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F53C-03F2-43A5-BDDA-252261839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4B08-2CC2-45B3-A3F2-B9FD552211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7A78-7AC0-44F8-964F-4FDC1C81D5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5DA8-5428-483C-BE8F-66A2F422C7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8A52-870B-4638-8FBB-097375FF86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505-E74F-4A1A-81A2-61F261D8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4A4A-03CC-4169-A2F7-F3DCEF06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6B4-EC04-41C2-B16A-67AA4561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4A3-8E82-47CC-848C-1D4040E3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D6D-527C-4C19-8B8F-B941903F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332-1CDA-4345-9821-1CF84E48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2AF4-8962-4A21-BF43-8B2514C3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680-A551-43E1-9EFA-FA343A91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FDD-8F38-450B-A976-8B6C1FBB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4B4-51EC-4B3F-8E18-488515FB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E710-B876-4B78-A37E-B212F071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9FC1-6943-48EF-87F4-E62A9757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1A01-E15D-492F-A58E-F92D227726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3_03_08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Organization Chart 7"/>
          <p:cNvGrpSpPr/>
          <p:nvPr/>
        </p:nvGrpSpPr>
        <p:grpSpPr>
          <a:xfrm>
            <a:off x="467280" y="1628640"/>
            <a:ext cx="8138520" cy="3382920"/>
            <a:chOff x="467280" y="1628640"/>
            <a:chExt cx="8138520" cy="3382920"/>
          </a:xfrm>
        </p:grpSpPr>
        <p:cxnSp>
          <p:nvCxnSpPr>
            <p:cNvPr id="72" name="_s2052"/>
            <p:cNvCxnSpPr>
              <a:stCxn id="73" idx="0"/>
              <a:endCxn id="74" idx="2"/>
            </p:cNvCxnSpPr>
            <p:nvPr/>
          </p:nvCxnSpPr>
          <p:spPr>
            <a:xfrm flipV="1" rot="16200000">
              <a:off x="5239800" y="1647000"/>
              <a:ext cx="1257840" cy="288072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_s2053"/>
            <p:cNvCxnSpPr>
              <a:stCxn id="76" idx="0"/>
              <a:endCxn id="74" idx="1"/>
            </p:cNvCxnSpPr>
            <p:nvPr/>
          </p:nvCxnSpPr>
          <p:spPr>
            <a:xfrm flipV="1" rot="16200000">
              <a:off x="3871440" y="3015360"/>
              <a:ext cx="1257840" cy="14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_s2054"/>
            <p:cNvCxnSpPr>
              <a:stCxn id="78" idx="0"/>
              <a:endCxn id="74" idx="0"/>
            </p:cNvCxnSpPr>
            <p:nvPr/>
          </p:nvCxnSpPr>
          <p:spPr>
            <a:xfrm flipH="1" flipV="1" rot="5400000">
              <a:off x="2467800" y="1755360"/>
              <a:ext cx="1257840" cy="266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_s2055"/>
            <p:cNvSpPr/>
            <p:nvPr/>
          </p:nvSpPr>
          <p:spPr>
            <a:xfrm>
              <a:off x="2483280" y="1628640"/>
              <a:ext cx="3889080" cy="830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Среды обита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6"/>
            <p:cNvSpPr/>
            <p:nvPr/>
          </p:nvSpPr>
          <p:spPr>
            <a:xfrm>
              <a:off x="467280" y="3716280"/>
              <a:ext cx="259488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наземно-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здуш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7"/>
            <p:cNvSpPr/>
            <p:nvPr/>
          </p:nvSpPr>
          <p:spPr>
            <a:xfrm>
              <a:off x="3277080" y="3716280"/>
              <a:ext cx="259164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д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8"/>
            <p:cNvSpPr/>
            <p:nvPr/>
          </p:nvSpPr>
          <p:spPr>
            <a:xfrm>
              <a:off x="6011280" y="3716280"/>
              <a:ext cx="259452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почвен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актеристика сре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      водная            почвенная        назем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ы                                                            воздушна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KorkinaO2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ДАП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СПОСОБЛЕНИЯ, ОБЕСПЕЧИВАЮЩИЕ ВОЗМОЖНОСТЬ ОБИТАНИЯ ОРГАНИЗМОВ В УСЛОВИЯХ ВНЕШН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3_05_04_08"/>
          <p:cNvPicPr/>
          <p:nvPr/>
        </p:nvPicPr>
        <p:blipFill>
          <a:blip r:embed="rId1"/>
          <a:stretch/>
        </p:blipFill>
        <p:spPr>
          <a:xfrm>
            <a:off x="4572000" y="17733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3_03_06_27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 по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да обитания – 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азличают наземно– воздушную, водную и почвенную среды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аждый организм приспособлен к жизни в определенной ср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3_03_08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3_04_03_03"/>
          <p:cNvPicPr/>
          <p:nvPr/>
        </p:nvPicPr>
        <p:blipFill>
          <a:blip r:embed="rId1"/>
          <a:stretch/>
        </p:blipFill>
        <p:spPr>
          <a:xfrm>
            <a:off x="-757080" y="-243000"/>
            <a:ext cx="9901080" cy="74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8"/>
          <p:cNvSpPr/>
          <p:nvPr/>
        </p:nvSpPr>
        <p:spPr>
          <a:xfrm>
            <a:off x="3098880" y="165276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843280" y="2060640"/>
          <a:ext cx="68580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060640"/>
                    <a:ext cx="685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0"/>
          <p:cNvSpPr/>
          <p:nvPr/>
        </p:nvSpPr>
        <p:spPr>
          <a:xfrm>
            <a:off x="3098880" y="1652760"/>
            <a:ext cx="173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19280" y="260280"/>
          <a:ext cx="5291280" cy="5473800"/>
        </p:xfrm>
        <a:graphic>
          <a:graphicData uri="http://schemas.openxmlformats.org/drawingml/2006/table">
            <a:tbl>
              <a:tblPr/>
              <a:tblGrid>
                <a:gridCol w="2173320"/>
                <a:gridCol w="3117960"/>
              </a:tblGrid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 цар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слизи на т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н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жный 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03_04_04_02"/>
          <p:cNvPicPr/>
          <p:nvPr/>
        </p:nvPicPr>
        <p:blipFill>
          <a:blip r:embed="rId2"/>
          <a:stretch/>
        </p:blipFill>
        <p:spPr>
          <a:xfrm>
            <a:off x="4788000" y="1484280"/>
            <a:ext cx="4105080" cy="225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03_05_04_26"/>
          <p:cNvPicPr/>
          <p:nvPr/>
        </p:nvPicPr>
        <p:blipFill>
          <a:blip r:embed="rId3"/>
          <a:stretch/>
        </p:blipFill>
        <p:spPr>
          <a:xfrm>
            <a:off x="4788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3_03_06_31"/>
          <p:cNvPicPr/>
          <p:nvPr/>
        </p:nvPicPr>
        <p:blipFill>
          <a:blip r:embed="rId1"/>
          <a:stretch/>
        </p:blipFill>
        <p:spPr>
          <a:xfrm>
            <a:off x="142920" y="1357200"/>
            <a:ext cx="4714920" cy="4021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27600" y="907560"/>
            <a:ext cx="4316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передвижения по тверд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р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экономного расходования вл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опыления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ы органы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ень,  стебель, листья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опы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ркая окраска цветков, аро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сохранению вл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03_03_05_06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342900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03_05_03_22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03_04_03_07"/>
          <p:cNvPicPr/>
          <p:nvPr/>
        </p:nvPicPr>
        <p:blipFill>
          <a:blip r:embed="rId1"/>
          <a:stretch/>
        </p:blipFill>
        <p:spPr>
          <a:xfrm>
            <a:off x="4788000" y="357336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03_04_03_06"/>
          <p:cNvPicPr/>
          <p:nvPr/>
        </p:nvPicPr>
        <p:blipFill>
          <a:blip r:embed="rId2"/>
          <a:stretch/>
        </p:blipFill>
        <p:spPr>
          <a:xfrm>
            <a:off x="4788000" y="476280"/>
            <a:ext cx="4038480" cy="2368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6"/>
          <p:cNvSpPr/>
          <p:nvPr/>
        </p:nvSpPr>
        <p:spPr>
          <a:xfrm>
            <a:off x="250920" y="1125360"/>
            <a:ext cx="43164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зрения развиты слабо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 роющего типа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ое обон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3_04_03_07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30:59Z</dcterms:created>
  <dc:creator>2</dc:creator>
  <dc:description/>
  <dc:language>en-US</dc:language>
  <cp:lastModifiedBy>Владелец</cp:lastModifiedBy>
  <dcterms:modified xsi:type="dcterms:W3CDTF">2009-02-02T07:50:23Z</dcterms:modified>
  <cp:revision>36</cp:revision>
  <dc:subject/>
  <dc:title>Среды обитания организмов. Приспособленность организмов к среде обитания.</dc:title>
</cp:coreProperties>
</file>