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BB4-7400-4050-A890-8F7E6571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29A-6203-46F7-A466-42CA8CBD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A9E-198D-4F06-BEFD-30E6DE9E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8279-546E-4315-96BC-FF6E0A49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0C02-D41D-40DB-A7AE-38310239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0187-2C6A-4417-9D66-092B3B64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06E1-9C89-4849-9B2D-F0CBE2C0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2394-D991-4B6D-A6AB-A2742DC4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04A8-DE24-4680-986A-5C4011F1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5E3C-8E45-49FF-8D27-84AFD1CC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7FCD-E01B-4F81-9F5D-77A2BCC6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87A-BBD6-47BA-B9D2-2BA53B2A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459A-3EC6-4978-BB93-8B2ACAAF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DEAC-EFEA-49D2-BCC6-22E011BF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A1B8-653C-4F0D-98A1-D2D68E64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21AA-AA7A-4AF3-90F6-F796E221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8630-E321-4D12-A294-C503256F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620-2B2C-451D-BD35-738F266C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9ACC-E8F5-4421-B7BB-13148145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92F6-4908-48A8-9ABD-CD0E9281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72A6-B5EF-44C7-B092-08EAAA6B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3D49-D1EC-4D78-9315-1A98F2AB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ACBD-E449-4E57-9889-01449CC5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A5A0-8C1A-4429-BA5E-5D0DF0A6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7D6B-CB9F-4494-8B54-BBD7560D7880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E8A2-92BD-4F2F-B424-0C16557BF005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Экология жилища и здоровь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остоянно идет процесс пылеобразования - вытираются ковровые покрытия, осыпается и вышаркивается краска, с улицы попадает пыль и выхлопные газы автомобилей, люди и домашние животные теряют волосы, кожный эпителий, перхоть и т.д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ыль является транспортным средством для распространения бактерий и вирусов и способствует возникновению и распространению эпидемий.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ь в квартир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3040" r="0" b="3040"/>
          <a:stretch/>
        </p:blipFill>
        <p:spPr>
          <a:xfrm>
            <a:off x="324000" y="1844640"/>
            <a:ext cx="2879640" cy="446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48000" y="2133720"/>
            <a:ext cx="54007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Знаете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ли Вы о том, что в стандартной трехкомнатной квартире в год образуется до 40 кг. пыли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Человек за сутки вдыхает до 12 тыс. литров воздуха, в одном литре которого содержится до 500 тыс. пылинок.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В 28 гр. пыли живет до 42 000 пылевых клещей, продукты жизнедеятельности которых являются самыми мощными из известных на сегодняшний день аллергенов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Клещ может стать постоянным спутником человека на протяжении всей его жизни. Основным питанием для клеща являются омертвевшие клетки кожи. В год человек теряет до двух кг. кожи, основная масса которой остается на постельном белье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Основную опасность для человека представляют как сами клещи, так и продукты его жизнедеятельности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70% аллергических заболеваний дыхательных путей обусловлены присутствием именно этих веществ.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00000" y="2060640"/>
            <a:ext cx="6443640" cy="44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збавится от клеща обычными средствами практически невозможно. Губительными для него являются только природные условия - обогащенный озоном воздух, ультрафиолетовое излучение и естественный уровень ионизации воздуха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6654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Силикоз лёгкого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64000" y="1916280"/>
            <a:ext cx="5045040" cy="42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Это профессиональная болезнь шахтеров, аналогичные изменения наблюдаются у жителей городов с высоким уровнем загрязнения воздуха выбросами промышленных предприятий, выхлопными газами автомобилей и сжиганием угля на ТЭЦ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4960" y="1916280"/>
            <a:ext cx="318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Чистый воздух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Высоко ионизированный воздух горных курортов способствовал в начале 20 века излечению от начальных форм туберкулеза, а в настоящее время рекомендуется для лечения и уменьшения приступов бронхиальной астмы и дыхательной аллергии и т.д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Очевидно - дышать чистым и свежим воздухом полезно, люди, работающие на свежем воздухе, бодрее и здоровее работающих в закрытых и плохо проветриваемых помещениях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Narrow"/>
              </a:rPr>
              <a:t>Вопросы для самопроверки:</a:t>
            </a:r>
            <a:endParaRPr b="0" lang="en-US" sz="44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9776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сточники загрязнения воздуха на улице и в помещении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етоды борьбы с пылью в домашних условиях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икроклимат жилища и его воздействие на здоровье человека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Практическая работа: «Измерение температуры, влажности воздуха в жилых помещениях.»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9:08:09Z</dcterms:created>
  <dc:creator>01</dc:creator>
  <dc:description/>
  <dc:language>en-US</dc:language>
  <cp:lastModifiedBy>uchitel</cp:lastModifiedBy>
  <dcterms:modified xsi:type="dcterms:W3CDTF">2007-01-20T06:45:12Z</dcterms:modified>
  <cp:revision>6</cp:revision>
  <dc:subject/>
  <dc:title>Слайд 1</dc:title>
</cp:coreProperties>
</file>