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3501-2116-4674-A777-D918A360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550-75D0-41D6-95FF-D4B379A9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8A2-2A15-4D04-AEDC-6245898B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A4BE-2B52-4729-914F-3A699098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3E7-5907-4403-8013-47F54797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311-C308-4922-9D7E-D3673A6E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5CE-8F71-4E1E-A251-90B002A0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23E-721C-45E6-91B0-DACA6730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A3A9-0EF0-4D12-8901-80E10D1B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9E1-C4D0-4481-B8AF-E7DA70D4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062-47BB-477B-A5E7-F797B481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6AF-7586-4D87-A143-1BF6ED17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6043-10B1-4141-85FB-8304F322F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чески ориентированное взаимодействие с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«Диалоги»              с природными объ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 - 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клоп ярко и интересно окрашен: на черном фоне у него красный узор. Эта демонстративная окраска предупреждает чтобы его не ели. Для этого же клоп-солдатик использует свои пахучие желе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ется растительными остатками (старой корой, облетевшей листвой) и тоже является «чистильщиком»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-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тдельности это маленькие, незаметные насекомые, но всей своей семьей они строят красивые дома-муравейники, высотой часто превышающие рост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равьи – известные трудяги, они все время работают, строят свое жилище, принося огромные по сравнению с ними хвоинки, щепки,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390680"/>
            <a:ext cx="7128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уравьи занимаются «животноводством», выращивая и оберегая тлей, как мы – коров, и пьют сладкие их выделения - «молочк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нж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32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вернулся листик, как гармошка.       Между жилок – капельки воды.                            И растет травинка понемножку,             Вдоль дорожки, что ведет в сад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 Гл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8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лет зябликов, так же, как грачей и скворцов, знаменует наступление долгожданной весны. Они возвращаются из далеких стран, чтобы вырастить своих птенцов в родны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яблик поет очень красивую песню, наполняя весь лес своими мелодичными тр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7360" y="692280"/>
            <a:ext cx="3822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учая мышь – это не птица, а млекопитающее, приспособившееся к пол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летучих мышей образованы широкой кожистой перепонкой между пальцами передних конечностей, туловищем и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ночные животные, и у них превосходно развит слух. Благодаря этому они охотятся даже в пасмурную погоду, почти не пользуясь з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мотря на устрашающий вид, это очень интересные, загадочные и полезные животные. Они уничтожают кровососущих насекомых: комаров и мо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36960" y="1557360"/>
            <a:ext cx="3554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одцы, ребя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 познакомились сегодня с неприметными, но такими важными обитателями смешанного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годня пойдет рассказ о незаметных на первый взгляд, но очень интересных и полезных обитателях смешанного лес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ахитово-зеленый покров мхов – самая характерная черта смешанных лесов. Внимательно присмотревшись, можно увидеть, что слоевище мхов прикрепляется к почве тонкими, нежными, похожими на корешки, нитями. Даже слабое нарушение подстилки при вытаптывании ведет к отмиранию м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5370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мох напоминает миниатюрную елочку. Стебельки гордо растут прямо и не ветвятся, достигая 50 сантиметров. Тогда как большинство других мхов «головы» не поднимают от земли -  стел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ный настой кукушкина льна используют при кашле, отваром моют волосы при вы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424720" cy="532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гриб растет только на березах, но заражаются в первую очередь деревья больные и ослабл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есина, пораженная данным грибом, становится трухлявой и при растирании превращается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иб помогает очистить лес от больных деревьев, выполняя роль санит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2700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единственный бродячий паук в наших лесах. Бродячий потому, что никогда не плетет паутину. Он охотится как волк, подстерегая свою добы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ет на поверхности почвы и ведет  дневно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ук-волк оказывает большую пользу лесу, уничтожая вредных насеко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1201680"/>
            <a:ext cx="73454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4:50:38Z</dcterms:created>
  <dc:creator>Lib</dc:creator>
  <dc:description/>
  <dc:language>en-US</dc:language>
  <cp:lastModifiedBy>Lib</cp:lastModifiedBy>
  <dcterms:modified xsi:type="dcterms:W3CDTF">2008-11-13T06:29:20Z</dcterms:modified>
  <cp:revision>2</cp:revision>
  <dc:subject/>
  <dc:title>Экологически ориентированное взаимодействие с природой</dc:title>
</cp:coreProperties>
</file>