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AEC3-4745-4667-89C9-DFFF3DDA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696C-4276-4A0C-8826-DBD1772A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BF0D-5332-4555-B79D-BD9037595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CDCB-266B-4CFE-ADF0-B1722CE0E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2132-A71D-4CBD-BD4C-008E8B468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2111-B9A1-4A75-A78D-D27258865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B415-E21E-4D3B-B83C-8CE8BE9EB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0568F-E52D-41A0-884B-E2928842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C8F7-9C71-433D-87CE-04AD266E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401C-1A7C-463F-A9C7-C2A11B82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C44C-9D0E-4F85-9ABA-D53CCC7C5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33C1-F7DE-48A6-AF52-6924EAAA7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615BA-989E-49D7-B8B0-79B5A3368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ga.ru/mscdoma/imagepages/image5.html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dga.ru/mscdoma/imagepages/image23.html" TargetMode="External"/><Relationship Id="rId4" Type="http://schemas.openxmlformats.org/officeDocument/2006/relationships/image" Target="../media/image3.jpeg"/><Relationship Id="rId5" Type="http://schemas.openxmlformats.org/officeDocument/2006/relationships/hyperlink" Target="http://www.edga.ru/mscdoma/imagepages/image25.html" TargetMode="External"/><Relationship Id="rId6" Type="http://schemas.openxmlformats.org/officeDocument/2006/relationships/image" Target="../media/image4.jpeg"/><Relationship Id="rId7" Type="http://schemas.openxmlformats.org/officeDocument/2006/relationships/hyperlink" Target="http://www.edga.ru/mscdoma/imagepages/image3.html" TargetMode="External"/><Relationship Id="rId8" Type="http://schemas.openxmlformats.org/officeDocument/2006/relationships/image" Target="../media/image5.jpeg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image" Target="../media/image8.jpeg"/><Relationship Id="rId12" Type="http://schemas.openxmlformats.org/officeDocument/2006/relationships/image" Target="../media/image9.jpeg"/><Relationship Id="rId1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05120" y="152280"/>
            <a:ext cx="519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mic Sans MS"/>
              </a:rPr>
              <a:t>Что я вижу за окном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066680" y="1789200"/>
            <a:ext cx="685800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деоэкология (от лат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video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видеть, греч.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οικ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и </a:t>
            </a:r>
            <a:r>
              <a:rPr b="1" i="1" lang="ru-RU" sz="2000" spc="-1" strike="noStrike">
                <a:solidFill>
                  <a:srgbClr val="ffff00"/>
                </a:solidFill>
                <a:latin typeface="Comic Sans MS"/>
              </a:rPr>
              <a:t>λόγος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 — экология) — это область знания о взаимодействии человека с окружающей видимой сред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Comic Sans MS"/>
              </a:rPr>
              <a:t>Визуальная среда – совокупность объектов, воспринимаемых человеческим взглядом в определенной мест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Гостиница Космос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03364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Москва. Улицы, дома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Замоскворечье, клумба с тюльпанами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Овчинниковская набережная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Гостиница Советская. Санкт-Петербург"/>
          <p:cNvPicPr/>
          <p:nvPr/>
        </p:nvPicPr>
        <p:blipFill>
          <a:blip r:embed="rId9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Московский вокзал"/>
          <p:cNvPicPr/>
          <p:nvPr/>
        </p:nvPicPr>
        <p:blipFill>
          <a:blip r:embed="rId10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Бассейн СК Олимпийский"/>
          <p:cNvPicPr/>
          <p:nvPr/>
        </p:nvPicPr>
        <p:blipFill>
          <a:blip r:embed="rId11"/>
          <a:stretch/>
        </p:blipFill>
        <p:spPr>
          <a:xfrm>
            <a:off x="2057400" y="1523880"/>
            <a:ext cx="5076720" cy="381024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Лето. Тропинка и пруд"/>
          <p:cNvPicPr/>
          <p:nvPr/>
        </p:nvPicPr>
        <p:blipFill>
          <a:blip r:embed="rId12"/>
          <a:stretch/>
        </p:blipFill>
        <p:spPr>
          <a:xfrm>
            <a:off x="2057400" y="1523880"/>
            <a:ext cx="51055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433600" y="642960"/>
            <a:ext cx="42768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4675"/>
            </a:gs>
            <a:gs pos="100000">
              <a:srgbClr val="9999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743200" y="990720"/>
            <a:ext cx="3886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HH</cp:lastModifiedBy>
  <dcterms:modified xsi:type="dcterms:W3CDTF">2008-11-14T04:55:57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