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9C55-CF04-48EF-8FB5-043ACB233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B01D-5446-474B-A083-7237C5F7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B7E1-DEA8-477D-A9F7-744C0FA65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A741-1068-4A0E-803B-019FFB8B4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E062-78D6-48D5-9762-56C8E070B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94DC-892F-4C67-AD76-713DDEBA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BA2F-166B-4CB1-B840-FCD7CC66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72F48-1622-4A89-8896-D6FCCDC2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6674-24DA-4C87-B003-4ABF8067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057E-6B7E-4E40-8A1A-53B6B097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DB66-219A-4CBF-9D27-B62FEB26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246D-FFF0-462B-9350-EA9322BF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121F-B7EE-4BAD-A9D9-0226AF06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9700-5374-4083-B51F-63CEE1AC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0250-D180-41F1-BB88-C66A985B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51A0-3EA7-4322-AECF-A20FBE4DB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4DC0-7162-4C60-9EDB-0EF6138E2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B360-A7E0-4186-B4A2-0B451C51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59DD-D8FC-4B6E-BAC4-9A47B0DA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BEB5-F558-4D15-8109-77AACCF2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A114-63FE-4094-AF56-0B425434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ACED-EA84-4800-935C-920F1130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E5ED-DFB0-4CAB-96DD-9778A047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BAD3-2D38-45AA-A442-056CC3AC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66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83C3-834B-4CE5-A13C-F5124926387A}" type="slidenum"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63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85" name="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87" name="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f3f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99" name="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f3f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</p:grpSp>
      </p:grpSp>
      <p:sp>
        <p:nvSpPr>
          <p:cNvPr id="107" name="PlaceHolder 2"/>
          <p:cNvSpPr>
            <a:spLocks noGrp="1"/>
          </p:cNvSpPr>
          <p:nvPr>
            <p:ph type="dt" idx="4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5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00CF-916B-49E9-BBB9-DB11F299273C}" type="slidenum"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6633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6633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6633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6633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5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Arial Narrow"/>
              </a:rPr>
              <a:t>Экология жилища и здоровье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79280" y="2060280"/>
            <a:ext cx="878544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Постоянно идет процесс пылеобразования - вытираются ковровые покрытия, осыпается и вышаркивается краска, с улицы попадает пыль и выхлопные газы автомобилей, люди и домашние животные теряют волосы, кожный эпителий, перхоть и т.д.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Пыль является транспортным средством для распространения бактерий и вирусов и способствует возникновению и распространению эпидемий.</a:t>
            </a:r>
            <a:br>
              <a:rPr sz="2800"/>
            </a:b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Пыль в квартире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3040" r="0" b="3040"/>
          <a:stretch/>
        </p:blipFill>
        <p:spPr>
          <a:xfrm>
            <a:off x="324000" y="1844640"/>
            <a:ext cx="2879640" cy="4464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348000" y="2133720"/>
            <a:ext cx="5400720" cy="36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Знаете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ли Вы о том, что в стандартной трехкомнатной квартире в год образуется до 40 кг. пыли.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Человек за сутки вдыхает до 12 тыс. литров воздуха, в одном литре которого содержится до 500 тыс. пылинок.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Пылевой клещ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В 28 гр. пыли живет до 42 000 пылевых клещей, продукты жизнедеятельности которых являются самыми мощными из известных на сегодняшний день аллергенов.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Клещ может стать постоянным спутником человека на протяжении всей его жизни. Основным питанием для клеща являются омертвевшие клетки кожи. В год человек теряет до двух кг. кожи, основная масса которой остается на постельном белье. 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Основную опасность для человека представляют как сами клещи, так и продукты его жизнедеятельности. 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70% аллергических заболеваний дыхательных путей обусловлены присутствием именно этих веществ. </a:t>
            </a:r>
            <a:br>
              <a:rPr sz="2800"/>
            </a:b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 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Пылевой клещ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700000" y="2060640"/>
            <a:ext cx="6443640" cy="445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     </a:t>
            </a: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Избавится от клеща обычными средствами практически невозможно. Губительными для него являются только природные условия - обогащенный озоном воздух, ультрафиолетовое излучение и естественный уровень ионизации воздуха.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266544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Силикоз лёгкого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64000" y="1916280"/>
            <a:ext cx="5045040" cy="42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</a:t>
            </a: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Это профессиональная болезнь шахтеров, аналогичные изменения наблюдаются у жителей городов с высоким уровнем загрязнения воздуха выбросами промышленных предприятий, выхлопными газами автомобилей и сжиганием угля на ТЭЦ. 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64960" y="1916280"/>
            <a:ext cx="3186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Чистый воздух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43588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Высоко ионизированный воздух горных курортов способствовал в начале 20 века излечению от начальных форм туберкулеза, а в настоящее время рекомендуется для лечения и уменьшения приступов бронхиальной астмы и дыхательной аллергии и т.д.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Очевидно - дышать чистым и свежим воздухом полезно, люди, работающие на свежем воздухе, бодрее и здоровее работающих в закрытых и плохо проветриваемых помещениях.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 Narrow"/>
              </a:rPr>
              <a:t>Вопросы для самопроверки:</a:t>
            </a:r>
            <a:endParaRPr b="0" lang="en-US" sz="44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97760" cy="468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Источники загрязнения воздуха на улице и в помещении?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Методы борьбы с пылью в домашних условиях?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Микроклимат жилища и его воздействие на здоровье человека?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Практическая работа: «Измерение температуры, влажности воздуха в жилых помещениях.»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09:08:09Z</dcterms:created>
  <dc:creator>01</dc:creator>
  <dc:description/>
  <dc:language>en-US</dc:language>
  <cp:lastModifiedBy>uchitel</cp:lastModifiedBy>
  <dcterms:modified xsi:type="dcterms:W3CDTF">2007-01-20T06:45:12Z</dcterms:modified>
  <cp:revision>6</cp:revision>
  <dc:subject/>
  <dc:title>Слайд 1</dc:title>
</cp:coreProperties>
</file>