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18BE-CBD3-4AB3-B55F-603C294D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63F0-CF03-4706-BD6D-CDB3AF61F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A3C0-B0EB-492F-8A19-609F25915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4C3-AC82-42E2-A5D2-BC822159B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47FEDA-0EF5-449F-BF53-289C884B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0E810-3287-4B71-911C-00253D33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B2438-C6EB-4214-9A82-58CC29655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053EBB-BBA1-49B2-B440-3F061C99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1375B-4892-4C5B-82D2-69C7E8A9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572C8A-DB57-4D52-904E-F7602B255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0BDA5F-021E-4246-8E28-9B192840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332-DC7B-44B4-B956-CA3C138D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45B464-09DA-4D4A-8A69-7F5B52AB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D6ABCB-551C-48C0-9108-E8E67811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27A83-236D-4462-B307-785767F58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C8514D-6E49-4B77-93E4-8311DE877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B8AD7-D12D-4F17-9E68-84B88BD2C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99AD-CA4F-4CF3-8CB5-137ECD184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13AF-55F9-4CEB-BACC-DEB5DB01C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D254-97E7-40FD-9E6D-ED93E5CE1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8EC9-B0AB-4A01-BA93-612BB6549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C81F-5BF5-4D02-AFC1-0F255F540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C54D-D219-4F63-B845-ABFEB0808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F417-2909-4A07-8E48-195CDD38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4DBA-BD7E-444E-8BD6-8FF1A59CFC0B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6B62-2132-45F3-BC9B-FBBBE4534070}" type="slidenum"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99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99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b5.ru/VEX/location/cprime01.jpg&amp;imgrefurl=http://www.b5.ru/VEX/cprime.html&amp;h=156&amp;w=208&amp;sz=7&amp;hl=ru&amp;start=24&amp;tbnid=no3dzOhIUjD6GM:&amp;tbnh=79&amp;tbnw=105&amp;prev=/images%3Fq%3D%25D0%2593%25D0%25B8%25D0%25B4%25D1%2580%25D0%25BE%25D1%2581%25D1%2584%25D0%25B5%25D1%2580%25D0%25B0%2B%26start%3D20%26ndsp%3D20%26svnum%3D10%26hl%3Dru%26lr%3D%26sa%3DN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ages.google.ru/imgres?imgurl=http://www.greenworld.org.ru/iaur/strasty6.jpg&amp;imgrefurl=http://www.greenworld.org.ru/rus/proj/movie/passion/cstrasty6.htm&amp;h=389&amp;w=467&amp;sz=38&amp;hl=ru&amp;start=2&amp;tbnid=ZjKzxI5kWoMCEM:&amp;tbnh=107&amp;tbnw=128&amp;prev=/images%3Fq%3D%25D0%25BD%25D0%25B5%25D1%2584%25D1%2582%25D1%258C%26svnum%3D10%26hl%3Dru%26lr%3D" TargetMode="External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hyperlink" Target="http://images.google.ru/imgres?imgurl=http://www.tarusa.ru/~golovan/imgsklad/img072.jpg&amp;imgrefurl=http://www.tarusa.ru/~golovan/file.php%3Fpage%3D33&amp;h=768&amp;w=1024&amp;sz=245&amp;hl=ru&amp;start=8&amp;tbnid=CtB7sNfahAAhuM:&amp;tbnh=113&amp;tbnw=150&amp;prev=/images%3Fq%3D%25D0%25BB%25D0%25B5%25D1%2581%26svnum%3D10%26hl%3Dru%26lr%3D" TargetMode="External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wz.kurortinfo.ru/p/s000007.jpg" TargetMode="External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Гидросфера – одна из оболочек Земли. Воды Земли находятся в непрерывном движении океан – атмосфера – суш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Вода входит в состав клеток и тканей любого животного и растения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8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59280" y="3860640"/>
            <a:ext cx="3385800" cy="25480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В Римском государстве – до 70 л/су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3924360" y="2565360"/>
            <a:ext cx="477684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179280" y="3805200"/>
            <a:ext cx="5005440" cy="24732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15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елым золотом называют хлопок, зелёным – лес, чёрным – нефть. Величайшее богатство земли – хлеб – получают из золотого колоса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995640" y="3213000"/>
            <a:ext cx="2411640" cy="201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611280" y="3573360"/>
            <a:ext cx="2381040" cy="17049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5796000" y="4653000"/>
            <a:ext cx="2886120" cy="19335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268360" y="4653000"/>
            <a:ext cx="2448000" cy="1844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6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7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– бесценна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2296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3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 чем же сравнить ценность обычной, простой, не говоря уже минеральной, лечебной воды. Вода – бесценна! По образному выражению академика А.Л.Карпинского: «</a:t>
            </a:r>
            <a:r>
              <a:rPr b="1" lang="en-US" sz="2800" spc="-1" strike="noStrike">
                <a:solidFill>
                  <a:srgbClr val="000099"/>
                </a:solidFill>
                <a:latin typeface="Tahoma"/>
              </a:rPr>
              <a:t>Вода – это живая кровь, которая создаёт жизнь там, где её не было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»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1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11280" y="4149720"/>
            <a:ext cx="2514600" cy="21049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4932360" y="3789360"/>
            <a:ext cx="3605040" cy="2394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тоды очистки воды при всём их многообразии можно подразделить на три группы: механические, физико-химические и биологически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Механическая очистка применяется прежде всего для отделения твёрдых и взвешенных частиц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771640" y="4437000"/>
            <a:ext cx="2481480" cy="1984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5724360" y="4437000"/>
            <a:ext cx="1519560" cy="2016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2915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Подача воды в город и её очистка.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3212640"/>
            <a:ext cx="353844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18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Биологическая очистка возможна в естественных условиях и в искусственных сооружениях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5640" y="32130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68360" y="1555920"/>
            <a:ext cx="820908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Физико-химическая очистка обеспечивает отделение как твёрдых и взвешенных частиц, так и растворённых примесей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transition>
    <p:comb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просы для самопровер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ода и цивилизация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Использование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Методы очистки воды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Основные способы снижения расхода воды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ое исследование «Вода в нашем доме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Экологическая акция «Капля»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ahoma"/>
              </a:rPr>
              <a:t>Вода и цивилизация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4360" y="1412640"/>
            <a:ext cx="79200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Климат и погода на Земле во многом зависит и определяется наличием водных пространств и содержанием водяного пара в атмосфере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Реки и моря имеют огромное значение для развития водного транспорта. Они служат источниками электроэнергии.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88840" y="901800"/>
            <a:ext cx="7366320" cy="50544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Среди отраслей экономики нашей страны первое место по потреблению воды занимает сельское хозяйство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Tahoma"/>
              </a:rPr>
              <a:t>Для получения 1т пшеницы необходимо 1500т воды, 1т риса – более 7000т, 1т хлопка – около 10000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003640" y="404640"/>
            <a:ext cx="3784680" cy="28386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333360"/>
            <a:ext cx="3960720" cy="29703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4824720" cy="299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3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ahoma"/>
              </a:rPr>
              <a:t>Второе место отводится промышленности. Ни одно промышленное предприятие не может функционировать, не используя воду из природных источников. Для получения 1т угля затрачивается 2т воды, стали – 15-20т, целлюлозы – 400-500т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трасли экономик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Третье место по водоёмкости занимает коммунальное хозяйство городов. 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99"/>
                </a:solidFill>
                <a:latin typeface="Tahoma"/>
              </a:rPr>
              <a:t>На хозяйственно-питьевые цели в нашей стране приходится около 10 % общего водопотребления.</a:t>
            </a: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Статистика показывает, что 80% всех заболеваний в мире вызвано неудовлетворительным качеством питьевой воды. По мере развития цивилизации человеку требовалось всё больше и больше воды. в Римском государстве – до 70 л/сут., Человек каменного века потреблял менее 10 л/сут., современный житель США – около 700 л/сут., тогда как во многих современных развивающихся странах эта цифра не превышает 30 л/сут. 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Вода и цивилизаци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99"/>
                </a:solidFill>
                <a:latin typeface="Tahoma"/>
              </a:rPr>
              <a:t>Человек каменного века потреблял менее 10 л/сут.</a:t>
            </a:r>
            <a:endParaRPr b="0" lang="en-US" sz="2800" spc="-1" strike="noStrike">
              <a:solidFill>
                <a:srgbClr val="000099"/>
              </a:solidFill>
              <a:latin typeface="Tahom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6920" y="3716280"/>
            <a:ext cx="3672000" cy="159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5003640" y="3068640"/>
            <a:ext cx="3672000" cy="23637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1:30:56Z</dcterms:created>
  <dc:creator>Кирьянова</dc:creator>
  <dc:description/>
  <dc:language>en-US</dc:language>
  <cp:lastModifiedBy>molinfo</cp:lastModifiedBy>
  <dcterms:modified xsi:type="dcterms:W3CDTF">2008-01-09T06:04:23Z</dcterms:modified>
  <cp:revision>18</cp:revision>
  <dc:subject/>
  <dc:title>Вода и цивилизация. </dc:title>
</cp:coreProperties>
</file>