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77D-08EB-46F3-A1F2-D758F658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8B30-6097-4F8A-A805-39135625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65B4-B52F-4EC7-A1CF-937BAE17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CE7-1793-4E2F-A68F-8AA6078F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2497-B7CA-4BC9-B8C6-6C5BEE61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8AFB-AF6E-4989-8FEA-582496EB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2DD1-3462-4AFC-8464-74D2E3C4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DECE-B55C-4B2E-BC87-4C883158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9A9B-ECD9-4C92-A683-B1837114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8511-6251-47F4-A72C-22183D10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3666-F219-4EB9-AE1E-20BFC6E6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C07-E59C-4620-91D0-783F22DB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4754-3338-4B06-B1D2-2810522A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F486-C3BC-4426-8D64-4C9961C8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FE6F-5E65-4250-B3BD-F8F2072C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EF70-AE70-4E64-8988-BD8FBE82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57D8-E851-4E9E-8203-A4577D22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40C8-D059-4E4E-8361-F560E1BF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DAA-E95C-470A-9C6D-74129D82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B9A2-D26C-478E-9F1B-77F2C7D1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C61-CECC-4A2E-B2BA-A709D06D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738-B3B2-4F13-B73F-14E3EDF2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D0C-816D-4B13-AB14-0E062623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DD0-4A88-4FDB-A708-CAD9D342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9931-2F83-4EDF-B619-A0E9E149ED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0838-2B9A-461D-8A44-FAFD440A859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eenmama.ru/image_show.html?url=images/2007-09/24/1190611257-7378333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сметика: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юсы и мину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28840" y="428760"/>
            <a:ext cx="63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евой эколого-биологический цен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"/>
          <p:cNvPicPr/>
          <p:nvPr/>
        </p:nvPicPr>
        <p:blipFill>
          <a:blip r:embed="rId1"/>
          <a:stretch/>
        </p:blipFill>
        <p:spPr>
          <a:xfrm>
            <a:off x="3286080" y="2786040"/>
            <a:ext cx="3286080" cy="3286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500280" y="61437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мь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8692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рная подводка зрительно уменьшает глаза и придаёт вашему лицу усталое выраже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[96]"/>
          <p:cNvPicPr/>
          <p:nvPr/>
        </p:nvPicPr>
        <p:blipFill>
          <a:blip r:embed="rId1"/>
          <a:stretch/>
        </p:blipFill>
        <p:spPr>
          <a:xfrm>
            <a:off x="6786720" y="1857240"/>
            <a:ext cx="2143080" cy="2767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214308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макияж выглядел естественно, достаточно подчеркнуть одну деталь, например, глаза. Губы можно оставить нейтральными или наобор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2920" y="4786200"/>
            <a:ext cx="90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макияж, следует учитывать его назначение и возраст. Надо соблюдать меру, помнить о том, что большой слой красок не придает красот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42920" y="1581120"/>
            <a:ext cx="8501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год в женский организм поступает до 2,5 кг косметики. Часто это приносит  не пользу, а серьезный вре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4200" y="92880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85880" y="3286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роченные средства могут таить в себе угрозу занесения инфекции и раздражения к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14200" y="4714920"/>
            <a:ext cx="8534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е считают, что некоторые искусственные компоненты косметических средств, попадая в организм, могут даже спровоцировать развитие онкологических заболев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2920" y="1571760"/>
            <a:ext cx="614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ывайся перед сном: косметика закупоривает поры кожи и не дает коже дышать. Это приводит к появлению прыщей, отечности, землистому цвету лица и воспаления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42920" y="46116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 осторожными следует быть с натуральной косметикой, т.к. она не содержит консервантов и быстрее подвергается порче. При первых симптомах раздражения ее использование необходимо прекрат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2" descr="1190611191-56955996"/>
          <p:cNvPicPr/>
          <p:nvPr/>
        </p:nvPicPr>
        <p:blipFill>
          <a:blip r:embed="rId1"/>
          <a:stretch/>
        </p:blipFill>
        <p:spPr>
          <a:xfrm>
            <a:off x="6000840" y="2214720"/>
            <a:ext cx="295884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"/>
          <p:cNvSpPr/>
          <p:nvPr/>
        </p:nvSpPr>
        <p:spPr>
          <a:xfrm>
            <a:off x="214200" y="8571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385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Picture 7" descr="знак1"/>
          <p:cNvPicPr/>
          <p:nvPr/>
        </p:nvPicPr>
        <p:blipFill>
          <a:blip r:embed="rId1"/>
          <a:srcRect l="34924" t="36020" r="36848" b="41768"/>
          <a:stretch/>
        </p:blipFill>
        <p:spPr>
          <a:xfrm>
            <a:off x="357120" y="2143080"/>
            <a:ext cx="2716200" cy="2071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428760" y="10000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боре косметики обрати внимание 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наки упак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500280" y="2500200"/>
            <a:ext cx="5175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ция не тестируется на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1" descr="знак2"/>
          <p:cNvPicPr/>
          <p:nvPr/>
        </p:nvPicPr>
        <p:blipFill>
          <a:blip r:embed="rId2"/>
          <a:srcRect l="26750" t="36069" r="26822" b="36167"/>
          <a:stretch/>
        </p:blipFill>
        <p:spPr>
          <a:xfrm>
            <a:off x="5572080" y="3786120"/>
            <a:ext cx="3154320" cy="2782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285840" y="55008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аковки могут быть переработ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56920" y="1484280"/>
            <a:ext cx="6247080" cy="35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3" descr="знак3"/>
          <p:cNvPicPr/>
          <p:nvPr/>
        </p:nvPicPr>
        <p:blipFill>
          <a:blip r:embed="rId1"/>
          <a:srcRect l="27720" t="34949" r="29838" b="37701"/>
          <a:stretch/>
        </p:blipFill>
        <p:spPr>
          <a:xfrm>
            <a:off x="357120" y="1285920"/>
            <a:ext cx="2838600" cy="2697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6"/>
          <p:cNvSpPr/>
          <p:nvPr/>
        </p:nvSpPr>
        <p:spPr>
          <a:xfrm>
            <a:off x="3429000" y="12859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ы натуральные ингреди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5" descr="знак5"/>
          <p:cNvPicPr/>
          <p:nvPr/>
        </p:nvPicPr>
        <p:blipFill>
          <a:blip r:embed="rId2"/>
          <a:srcRect l="23753" t="27730" r="30413" b="33259"/>
          <a:stretch/>
        </p:blipFill>
        <p:spPr>
          <a:xfrm>
            <a:off x="5786280" y="342900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0"/>
          <p:cNvSpPr/>
          <p:nvPr/>
        </p:nvSpPr>
        <p:spPr>
          <a:xfrm>
            <a:off x="1857240" y="55008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разрушают озоновый сл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асота любой цено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косметик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3640" y="2781000"/>
            <a:ext cx="3456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ства для ухода за кожей, волосами, зубами и ногтями (крем, лосьон, пудра, шампунь и т. п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Text Box 4" descr=""/>
          <p:cNvPicPr/>
          <p:nvPr/>
        </p:nvPicPr>
        <p:blipFill>
          <a:blip r:embed="rId1"/>
          <a:stretch/>
        </p:blipFill>
        <p:spPr>
          <a:xfrm>
            <a:off x="981000" y="1316160"/>
            <a:ext cx="6639120" cy="1055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11280" y="2924280"/>
            <a:ext cx="30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о средствах и методах улучшения внешност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500720" y="2421000"/>
            <a:ext cx="79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2411280" y="242100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9" descr="1190610957-aog50798"/>
          <p:cNvPicPr/>
          <p:nvPr/>
        </p:nvPicPr>
        <p:blipFill>
          <a:blip r:embed="rId2"/>
          <a:stretch/>
        </p:blipFill>
        <p:spPr>
          <a:xfrm>
            <a:off x="3059280" y="3573360"/>
            <a:ext cx="1962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рия косме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377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древние египтяне, римляне, арабы подкрашивали щёки, ресницы, веки, завивали волосы, использовали благовонные масла, заменяющие дух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оссии примерно лет сто назад женщины коптили мыло на свечке и красили этой копотью ресницы, натирали щеки свекольным соком, а чтобы губы были красными - мазали их жгучим перц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е развитие косметики началось в 19 ве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 космети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Схема 8" descr=""/>
          <p:cNvPicPr/>
          <p:nvPr/>
        </p:nvPicPr>
        <p:blipFill>
          <a:blip r:embed="rId1"/>
          <a:stretch/>
        </p:blipFill>
        <p:spPr>
          <a:xfrm>
            <a:off x="1609560" y="993600"/>
            <a:ext cx="6077160" cy="277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357120" y="400068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: профилактика и лечение заболеваний и косметических недостатков кожи, волос, уход за ногтями и полостью 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714920" y="39290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: косметическими средствами сделать менее заметными или скрыть некоторые дефекты внешности, оттенить отдельные черты лиц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осметической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одукц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0" y="4820760"/>
            <a:ext cx="624204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дры, губные помады, грим, карандаши для бровей, век, тушь для ресниц, румяна, лаки для ногтей и волос, краски и восстановители для волос, брио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214200" y="185724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гие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285840" y="26431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чеб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85840" y="34290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85840" y="52862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корати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3929040" y="178596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метические средства по уходу за зубами (зубные пасты, порошки), ртом (жидкость для полоскания рта), кожей лица, головы и тела (кремы, лосьоны, мыла), средства от пота (тальк и др., освежающие лось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858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одбирайте косметические средства, соответствующие типу вашей кож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28760" y="242892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ользуйтесь средствами для        своей      возрастной катег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00280" y="357192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Выбирайте средства в соответствии с индивидуальной чувствительностью своей кожи, не забывайте про аллер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1" descr="женщ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040" y="4071960"/>
            <a:ext cx="2907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47640" y="1628640"/>
            <a:ext cx="72979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476360" y="4221000"/>
            <a:ext cx="39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85840" y="143316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бязательно проверяйте срок годности косметически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85840" y="271476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Приобретайте косметику в специально предназначенных для этого местах. Никаких рынков или  подземных переходов метро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28760" y="47149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Прежде чем покупать косметику новой фирмы, узнайте о ней как можно больш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4200" y="1214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егодня существует множество средств для создания красоты. Необходимо лишь знать чувство меры и уметь правильно использовать 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85840" y="378612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анесении макияжа стоит учитывать цвет кожи, а также эффект, которого вы хотите доби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5840" y="1143000"/>
            <a:ext cx="5286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льзя злоупотреблять тональным кремом, он  должен быть незаметным на ли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ишком светлая основа придаёт лицу неестественную бледность и устал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1190611338-dv1887011"/>
          <p:cNvPicPr/>
          <p:nvPr/>
        </p:nvPicPr>
        <p:blipFill>
          <a:blip r:embed="rId1"/>
          <a:stretch/>
        </p:blipFill>
        <p:spPr>
          <a:xfrm>
            <a:off x="5572080" y="1571760"/>
            <a:ext cx="31813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9:43:45Z</dcterms:created>
  <dc:creator>SSG</dc:creator>
  <dc:description/>
  <dc:language>en-US</dc:language>
  <cp:lastModifiedBy>Пользователь</cp:lastModifiedBy>
  <dcterms:modified xsi:type="dcterms:W3CDTF">2008-11-14T05:52:59Z</dcterms:modified>
  <cp:revision>57</cp:revision>
  <dc:subject/>
  <dc:title>Красота не любой ценой</dc:title>
</cp:coreProperties>
</file>