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91DF-3C70-40CC-8451-1FE82DA13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DACF-BE4D-4369-A4C8-3D76D269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05F7-B28E-491C-9592-6B25F2088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14B0-A032-4D1A-9B4F-441FE9B0F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1349E-04D5-4628-A5E8-DEB1808FF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6017A-F5EE-402B-97FD-13C4F2AC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8253E-17D3-42FE-8853-501C4DFD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5D0D5-BC7B-42B2-8469-A3744749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CC42F-6188-4B29-8D45-443C74EF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33A11-5813-4CD4-8EEC-C1E58DEC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BD94A-34F0-4A9C-994C-3DEC15A4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658D-8BED-4246-BE08-8C13BD1B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D0727-F4C0-420B-AE02-AC07026E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7EFA8-98BB-4F0F-BAE0-6D3AADD8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C7991-628C-4B28-9CBC-25DA446B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FD838-FFF7-4FB4-A479-A5697CE0F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3EC88-BA41-46AC-8904-F2F5B3C14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AB2C-8A77-4865-8338-0A83A724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B7ED-00AF-494E-92AC-6D2E15B8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CE57-8661-4EB3-A782-2D900F54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8514-570D-45A6-9F52-D513CA16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B274-E6D0-4A36-B297-4B901153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11B3-F184-4F74-AC5E-A5C2D0DA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A9C3-BA83-4A1F-A588-2706F949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5694-D01A-4BD0-94A0-3036F9AE3B23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A792-0884-4C70-A3B3-95241521FC00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ru/imgres?imgurl=http://www.b5.ru/VEX/location/cprime01.jpg&amp;imgrefurl=http://www.b5.ru/VEX/cprime.html&amp;h=156&amp;w=208&amp;sz=7&amp;hl=ru&amp;start=24&amp;tbnid=no3dzOhIUjD6GM:&amp;tbnh=79&amp;tbnw=105&amp;prev=/images%3Fq%3D%25D0%2593%25D0%25B8%25D0%25B4%25D1%2580%25D0%25BE%25D1%2581%25D1%2584%25D0%25B5%25D1%2580%25D0%25B0%2B%26start%3D20%26ndsp%3D20%26svnum%3D10%26hl%3Dru%26lr%3D%26sa%3D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ru/imgres?imgurl=http://www.greenworld.org.ru/iaur/strasty6.jpg&amp;imgrefurl=http://www.greenworld.org.ru/rus/proj/movie/passion/cstrasty6.htm&amp;h=389&amp;w=467&amp;sz=38&amp;hl=ru&amp;start=2&amp;tbnid=ZjKzxI5kWoMCEM:&amp;tbnh=107&amp;tbnw=128&amp;prev=/images%3Fq%3D%25D0%25BD%25D0%25B5%25D1%2584%25D1%2582%25D1%258C%26svnum%3D10%26hl%3Dru%26lr%3D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hyperlink" Target="http://images.google.ru/imgres?imgurl=http://www.tarusa.ru/~golovan/imgsklad/img072.jpg&amp;imgrefurl=http://www.tarusa.ru/~golovan/file.php%3Fpage%3D33&amp;h=768&amp;w=1024&amp;sz=245&amp;hl=ru&amp;start=8&amp;tbnid=CtB7sNfahAAhuM:&amp;tbnh=113&amp;tbnw=150&amp;prev=/images%3Fq%3D%25D0%25BB%25D0%25B5%25D1%2581%26svnum%3D10%26hl%3Dru%26lr%3D" TargetMode="External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wz.kurortinfo.ru/p/s000007.jpg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Вода и цивилизац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9200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Гидросфера – одна из оболочек Земли. Воды Земли находятся в непрерывном движении океан – атмосфера – суша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Вода входит в состав клеток и тканей любого животного и растения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59280" y="3860640"/>
            <a:ext cx="3385800" cy="2548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В Римском государстве – до 70 л/сут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24360" y="2565360"/>
            <a:ext cx="4776840" cy="2016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79280" y="3805200"/>
            <a:ext cx="5005440" cy="2473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Современный житель США – около 700 л/сут., тогда как во многих современных развивающихся странах эта цифра не превышает 30 л/сут.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– бесценна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5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Белым золотом называют хлопок, зелёным – лес, чёрным – нефть. Величайшее богатство земли – хлеб – получают из золотого колоса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1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95640" y="3213000"/>
            <a:ext cx="2411640" cy="2014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11280" y="3573360"/>
            <a:ext cx="2381040" cy="1704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5796000" y="4653000"/>
            <a:ext cx="2886120" cy="1933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68360" y="4653000"/>
            <a:ext cx="2448000" cy="1844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– бесценна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2960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С чем же сравнить ценность обычной, простой, не говоря уже минеральной, лечебной воды. Вода – бесценна! По образному выражению академика А.Л.Карпинского: «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Вода – это живая кровь, которая создаёт жизнь там, где её не было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»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1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4149720"/>
            <a:ext cx="2514600" cy="21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932360" y="3789360"/>
            <a:ext cx="3605040" cy="2394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91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Подача воды в город и её очистк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Методы очистки воды при всём их многообразии можно подразделить на три группы: механические, физико-химические и биологические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Механическая очистка применяется прежде всего для отделения твёрдых и взвешенных частиц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771640" y="4437000"/>
            <a:ext cx="2481480" cy="1984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724360" y="4437000"/>
            <a:ext cx="1519560" cy="2016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91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Подача воды в город и её очистк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3212640"/>
            <a:ext cx="3538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Биологическая очистка возможна в естественных условиях и в искусственных сооружениях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995640" y="32130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8360" y="1555920"/>
            <a:ext cx="820908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Физико-химическая очистка обеспечивает отделение как твёрдых и взвешенных частиц, так и растворённых примесей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просы для самопровер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Вода и цивилизация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Использование воды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Методы очистки воды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Основные способы снижения расхода воды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Экологическое исследование «Вода в нашем доме»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Экологическая акция «Капля»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Вода и цивилизац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9200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Климат и погода на Земле во многом зависит и определяется наличием водных пространств и содержанием водяного пара в атмосфере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Реки и моря имеют огромное значение для развития водного транспорта. Они служат источниками электроэнергии.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88840" y="901800"/>
            <a:ext cx="7366320" cy="5054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расли эконом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Среди отраслей экономики нашей страны первое место по потреблению воды занимает сельское хозяйство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Для получения 1т пшеницы необходимо 1500т воды, 1т риса – более 7000т, 1т хлопка – около 10000т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03640" y="404640"/>
            <a:ext cx="3784680" cy="2838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908000" y="3573360"/>
            <a:ext cx="4824720" cy="299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расли эконом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Второе место отводится промышленности. Ни одно промышленное предприятие не может функционировать, не используя воду из природных источников. Для получения 1т угля затрачивается 2т воды, стали – 15-20т, целлюлозы – 400-500т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расли эконом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Третье место по водоёмкости занимает коммунальное хозяйство городов.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На хозяйственно-питьевые цели в нашей стране приходится около 10 % общего водопотребления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Статистика показывает, что 80% всех заболеваний в мире вызвано неудовлетворительным качеством питьевой воды. По мере развития цивилизации человеку требовалось всё больше и больше воды. в Римском государстве – до 70 л/сут., Человек каменного века потреблял менее 10 л/сут., современный житель США – около 700 л/сут., тогда как во многих современных развивающихся странах эта цифра не превышает 30 л/сут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Человек каменного века потреблял менее 10 л/сут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26920" y="3716280"/>
            <a:ext cx="3672000" cy="1590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003640" y="3068640"/>
            <a:ext cx="3672000" cy="2363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1:30:56Z</dcterms:created>
  <dc:creator>Кирьянова</dc:creator>
  <dc:description/>
  <dc:language>en-US</dc:language>
  <cp:lastModifiedBy>molinfo</cp:lastModifiedBy>
  <dcterms:modified xsi:type="dcterms:W3CDTF">2008-01-09T06:04:23Z</dcterms:modified>
  <cp:revision>18</cp:revision>
  <dc:subject/>
  <dc:title>Вода и цивилизация. </dc:title>
</cp:coreProperties>
</file>