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9D36-566C-45F4-9E7C-1533F2E4FB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0577-2E28-4A4F-9ECC-0FA7DE7D53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F37F-B078-43AF-BE24-5AF8016560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4AFC-7F2F-4D90-9E1F-3797DAEA74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CC26-66A4-49B4-BDD4-F5E8876BB2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8A46-34B8-4095-A824-3ABC22BA0B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72BA-6A44-4412-B420-9F0340C59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89BA-2472-461B-81BE-B82CD94BEE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D95D-F9E9-4199-BCAC-67B2DE8136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4759-FF2D-44FE-B3E6-B388FC47B8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AED6-575B-4508-B13E-A7A1D170DE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94B-B6F2-4C30-9880-E51CE414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B52-9C53-4936-BE7C-DC58F568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EF7-4773-4FF8-AE53-B3CA4FC9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FFF-5D5F-48B4-8F50-64F3EB26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6CD-8144-4D41-B691-84F6276E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FDF-9345-4D4E-B0EA-33EC49DC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0E0-80FA-4D2F-A296-FC964176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64B-9F94-4050-B770-E0C67721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B141-93C8-4510-858F-5060E481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F2B-908A-43E3-80C4-A589507D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0F3-5BCD-4545-8FF6-1EFC28FF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CB1-7568-4798-8EB3-0C451956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D15E-B943-4BD7-A533-5AC96300B0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_03_08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Organization Chart 7"/>
          <p:cNvGrpSpPr/>
          <p:nvPr/>
        </p:nvGrpSpPr>
        <p:grpSpPr>
          <a:xfrm>
            <a:off x="467280" y="1628640"/>
            <a:ext cx="8138520" cy="3382920"/>
            <a:chOff x="467280" y="1628640"/>
            <a:chExt cx="8138520" cy="3382920"/>
          </a:xfrm>
        </p:grpSpPr>
        <p:cxnSp>
          <p:nvCxnSpPr>
            <p:cNvPr id="72" name="_s2052"/>
            <p:cNvCxnSpPr>
              <a:stCxn id="73" idx="0"/>
              <a:endCxn id="74" idx="2"/>
            </p:cNvCxnSpPr>
            <p:nvPr/>
          </p:nvCxnSpPr>
          <p:spPr>
            <a:xfrm flipV="1" rot="16200000">
              <a:off x="5239800" y="1647000"/>
              <a:ext cx="1257840" cy="288072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2053"/>
            <p:cNvCxnSpPr>
              <a:stCxn id="76" idx="0"/>
              <a:endCxn id="74" idx="1"/>
            </p:cNvCxnSpPr>
            <p:nvPr/>
          </p:nvCxnSpPr>
          <p:spPr>
            <a:xfrm flipV="1" rot="16200000">
              <a:off x="3871440" y="3015360"/>
              <a:ext cx="1257840" cy="14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_s2054"/>
            <p:cNvCxnSpPr>
              <a:stCxn id="78" idx="0"/>
              <a:endCxn id="74" idx="0"/>
            </p:cNvCxnSpPr>
            <p:nvPr/>
          </p:nvCxnSpPr>
          <p:spPr>
            <a:xfrm flipH="1" flipV="1" rot="5400000">
              <a:off x="2467800" y="1755360"/>
              <a:ext cx="1257840" cy="266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_s2055"/>
            <p:cNvSpPr/>
            <p:nvPr/>
          </p:nvSpPr>
          <p:spPr>
            <a:xfrm>
              <a:off x="2483280" y="1628640"/>
              <a:ext cx="3889080" cy="830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ы обит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6"/>
            <p:cNvSpPr/>
            <p:nvPr/>
          </p:nvSpPr>
          <p:spPr>
            <a:xfrm>
              <a:off x="467280" y="3716280"/>
              <a:ext cx="259488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наземно-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7"/>
            <p:cNvSpPr/>
            <p:nvPr/>
          </p:nvSpPr>
          <p:spPr>
            <a:xfrm>
              <a:off x="3277080" y="3716280"/>
              <a:ext cx="259164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8"/>
            <p:cNvSpPr/>
            <p:nvPr/>
          </p:nvSpPr>
          <p:spPr>
            <a:xfrm>
              <a:off x="6011280" y="3716280"/>
              <a:ext cx="259452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KorkinaO2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ПОСОБЛЕНИЯ, ОБЕСПЕЧИВАЮЩИЕ ВОЗМОЖНОСТЬ ОБИТАНИЯ ОРГАНИЗМОВ В УСЛОВИЯХ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3_05_04_08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3_03_06_27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да обитания – 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азличают наземно– воздушную, водную и почвенную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аждый организм приспособлен к жизни в определенно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3_03_08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_04_03_03"/>
          <p:cNvPicPr/>
          <p:nvPr/>
        </p:nvPicPr>
        <p:blipFill>
          <a:blip r:embed="rId1"/>
          <a:stretch/>
        </p:blipFill>
        <p:spPr>
          <a:xfrm>
            <a:off x="-757080" y="-243000"/>
            <a:ext cx="99010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3098880" y="165276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843280" y="2060640"/>
          <a:ext cx="6858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685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0"/>
          <p:cNvSpPr/>
          <p:nvPr/>
        </p:nvSpPr>
        <p:spPr>
          <a:xfrm>
            <a:off x="3098880" y="1652760"/>
            <a:ext cx="173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60280"/>
          <a:ext cx="5291280" cy="5473800"/>
        </p:xfrm>
        <a:graphic>
          <a:graphicData uri="http://schemas.openxmlformats.org/drawingml/2006/table">
            <a:tbl>
              <a:tblPr/>
              <a:tblGrid>
                <a:gridCol w="2173320"/>
                <a:gridCol w="31179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 цар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03_04_04_02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03_05_04_26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3_03_06_31"/>
          <p:cNvPicPr/>
          <p:nvPr/>
        </p:nvPicPr>
        <p:blipFill>
          <a:blip r:embed="rId1"/>
          <a:stretch/>
        </p:blipFill>
        <p:spPr>
          <a:xfrm>
            <a:off x="142920" y="1357200"/>
            <a:ext cx="4714920" cy="4021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27600" y="907560"/>
            <a:ext cx="4316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03_03_05_06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342900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03_05_03_22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03_04_03_07"/>
          <p:cNvPicPr/>
          <p:nvPr/>
        </p:nvPicPr>
        <p:blipFill>
          <a:blip r:embed="rId1"/>
          <a:stretch/>
        </p:blipFill>
        <p:spPr>
          <a:xfrm>
            <a:off x="4788000" y="357336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3_04_03_06"/>
          <p:cNvPicPr/>
          <p:nvPr/>
        </p:nvPicPr>
        <p:blipFill>
          <a:blip r:embed="rId2"/>
          <a:stretch/>
        </p:blipFill>
        <p:spPr>
          <a:xfrm>
            <a:off x="4788000" y="476280"/>
            <a:ext cx="4038480" cy="2368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250920" y="1125360"/>
            <a:ext cx="4316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зрения развиты слабо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 роющего типа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ое 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3_04_03_07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Владелец</cp:lastModifiedBy>
  <dcterms:modified xsi:type="dcterms:W3CDTF">2009-02-02T07:50:23Z</dcterms:modified>
  <cp:revision>36</cp:revision>
  <dc:subject/>
  <dc:title>Среды обитания организмов. Приспособленность организмов к среде обитания.</dc:title>
</cp:coreProperties>
</file>