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D6E82-3825-4DD6-AFCA-8C10A62D9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9AAC0-27B9-4061-B505-6AFAEC700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4992E-F0A5-4DE7-B45B-51618CA3D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EB4E3-0D0F-47F0-8B99-063D6C7D7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CADF1-95DE-4FC9-B01E-099DD1B50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C03D9-D82F-484C-AEE2-C01FFE6F9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43038-9572-44EE-ACA9-8D3CBA91C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E7003-8085-43E4-B0A1-4BDFF8456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C217E-AA16-46F7-B46B-0920F198F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C1E67-A3DB-4846-AD47-102BF7A60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7AD50-47C6-4970-ACE3-32997373B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F5864-CC2A-4FF9-A01A-C3C8847C2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BEF83-4324-4247-B393-BA584BD98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B494B-D33E-4EFB-92FE-B1C309A27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E6054-E011-464F-8DFD-BA183FF71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1068C-1F03-444F-9CBB-78DD1FFEB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876A0-0138-438B-AEF9-A2956C7BF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23237-83D8-4FB0-AE47-4172ECE42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0F001-6C82-4FAB-8B70-42A97128F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F5B8D-CB44-46F3-94CD-ABAA7672D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86FF0-D81F-44A4-B322-5D71074FF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1D00A-838D-44C8-AE87-7B5364D8A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26C8A-3F63-4CBC-AD11-BFF1DA991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C1BDB-BE9D-48BF-97CF-D4BBDCE67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70545-129F-4E57-BD1E-3DBCA219AAA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33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33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33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33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07993-EFBE-4711-94F7-142D890AEB5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410920" y="404280"/>
            <a:ext cx="6046920" cy="201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Экология Краснокамск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1403280" y="1773360"/>
            <a:ext cx="7391520" cy="430056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1403280" y="1773360"/>
            <a:ext cx="7416720" cy="42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3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3000"/>
                            </p:stCondLst>
                            <p:childTnLst>
                              <p:par>
                                <p:cTn id="9" nodeType="afterEffect" fill="hold" presetClass="entr" presetID="4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" dur="3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Озеленение город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Arial"/>
              </a:rPr>
              <a:t>Это может сделать каждый! Сделаем наш город чистым, красивым и уютным!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2195640" y="3068640"/>
            <a:ext cx="4719600" cy="354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Экология Краснокамск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Только 8 предприятий города готовы соблюдать требования экологического законодательства. 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Из 68 предприятий города только 8 заключили договора на функционирование санитарно-защитной зоны (СЗЗ). 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Экология Краснокамск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547280" y="1700280"/>
            <a:ext cx="4751640" cy="468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7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В городе три главных источника выброса ядовитых веществ в атмосферу: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7920" indent="37800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Выбросы КЦБК "Кама";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7920" indent="37800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Выхлопные газы транспорта;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7920" indent="37800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Полигон бытовых отходов.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169" name="" descr="КЦБК.jpg, 21179 bytes"/>
          <p:cNvPicPr/>
          <p:nvPr/>
        </p:nvPicPr>
        <p:blipFill>
          <a:blip r:embed="rId1"/>
          <a:stretch/>
        </p:blipFill>
        <p:spPr>
          <a:xfrm>
            <a:off x="6156360" y="1628640"/>
            <a:ext cx="2768400" cy="36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Экология и здоровь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500120" y="1777680"/>
            <a:ext cx="7491600" cy="446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В течение нескольких лет более 400 краснокамских детей были обследованы сотрудниками института экология и выявили рост содержащихся в их организме: свинца, хрома, фенола и бензола.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В 2000 году фенол влияющий на систему крови, печени и почек, обнаруживался у 25 % обследованных детей, то в 2003 году - уже у 87 %.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Экология и здоровь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Arial"/>
              </a:rPr>
              <a:t>При попадании в организм: 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00"/>
                </a:solidFill>
                <a:latin typeface="Arial"/>
              </a:rPr>
              <a:t>сернистого ангидрида</a:t>
            </a:r>
            <a:r>
              <a:rPr b="0" lang="en-US" sz="3200" spc="-1" strike="noStrike">
                <a:solidFill>
                  <a:srgbClr val="333300"/>
                </a:solidFill>
                <a:latin typeface="Arial"/>
              </a:rPr>
              <a:t> - развиваются такие заболевания, как бронхиальная астма, нефрит, хронический отит, ДЦП, сахарный диабет, аномалии системы кровообращения; 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00"/>
                </a:solidFill>
                <a:latin typeface="Arial"/>
              </a:rPr>
              <a:t>фенола</a:t>
            </a:r>
            <a:r>
              <a:rPr b="0" lang="en-US" sz="3200" spc="-1" strike="noStrike">
                <a:solidFill>
                  <a:srgbClr val="333300"/>
                </a:solidFill>
                <a:latin typeface="Arial"/>
              </a:rPr>
              <a:t> - бронхиальная астма, стенокардия, сахарный диабет, гипертония. 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Экология и здоровь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00"/>
                </a:solidFill>
                <a:latin typeface="Arial"/>
              </a:rPr>
              <a:t>Город занимает 18 место по уровню смертности в области.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00"/>
                </a:solidFill>
                <a:latin typeface="Arial"/>
              </a:rPr>
              <a:t>По уровню смертности от новообразований. Краснокамск занимает седьмое место: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00"/>
                </a:solidFill>
                <a:latin typeface="Arial"/>
              </a:rPr>
              <a:t>53 % - болезни системы кровообращения;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00"/>
                </a:solidFill>
                <a:latin typeface="Arial"/>
              </a:rPr>
              <a:t>4 % - органы пищеварения,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00"/>
                </a:solidFill>
                <a:latin typeface="Arial"/>
              </a:rPr>
              <a:t>6 % - органы дыхания.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00"/>
                </a:solidFill>
                <a:latin typeface="Arial"/>
              </a:rPr>
              <a:t>По уровню общей заболеваемости на 21 месте, а детей на 7 месте.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Предприятия города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652400" y="1279080"/>
            <a:ext cx="7491240" cy="4310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00"/>
                </a:solidFill>
                <a:latin typeface="Arial"/>
              </a:rPr>
              <a:t>КЦБК «Кама",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333300"/>
                </a:solidFill>
                <a:latin typeface="Arial"/>
              </a:rPr>
              <a:t>"ТЭЦ-5", 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00"/>
                </a:solidFill>
                <a:latin typeface="Arial"/>
              </a:rPr>
              <a:t>"Свинокомплекс" - 71 % вредных выбросов в воздух и 83 % всех загрязнений окружающей среды. 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Экология Краснокамск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Arial"/>
              </a:rPr>
              <a:t>100 тысяч тонн так называемых нефтеочистк находится на небольшой глубине под слоем грунта в водоохраной зоне в районе деревни Шилова. 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476000" y="404280"/>
            <a:ext cx="7488360" cy="1582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Для изменения экологической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безопасности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необходимо решить следующие основные задачи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547640" y="2133360"/>
            <a:ext cx="7345440" cy="42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00"/>
                </a:solidFill>
                <a:latin typeface="Arial"/>
              </a:rPr>
              <a:t>реализовать комплексные меры по улучшению экологической ситуации;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00"/>
                </a:solidFill>
                <a:latin typeface="Arial"/>
              </a:rPr>
              <a:t>проводить медико-экологическую реабилитацию населения;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00"/>
                </a:solidFill>
                <a:latin typeface="Arial"/>
              </a:rPr>
              <a:t>способствовать снижению техногенной нагрузки на окружающую среду от выбросов и сбросов загрязняющих веществ и размещения отходов.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7T11:28:39Z</dcterms:created>
  <dc:creator>01</dc:creator>
  <dc:description/>
  <dc:language>en-US</dc:language>
  <cp:lastModifiedBy>admin</cp:lastModifiedBy>
  <dcterms:modified xsi:type="dcterms:W3CDTF">2007-01-24T02:26:54Z</dcterms:modified>
  <cp:revision>6</cp:revision>
  <dc:subject/>
  <dc:title>Экология Краснокамска</dc:title>
</cp:coreProperties>
</file>