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B2A6-85E6-47A6-80F1-3FC634C0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52DF6-79EA-45F2-80C1-26033685F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813-1D2E-4BA5-8396-56FB16A2A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1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EFB0-A003-4AFF-95EC-8C7C682FC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F650D-8F39-48B5-A4B5-32738941A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14BE8-F7CA-42E9-BAF6-C2567DCDE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E04B6-3490-4453-B8CD-39A75DED9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40187-BED5-4034-9D65-F7BE83690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F85ED-1EBD-4036-B57C-020CB688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F4A67-04B5-4871-A7EF-941BED29C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DCD-6CD1-4EB8-8E3C-30B1A893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 type="subTitle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6215-91FE-4F6B-8C01-5CDF14DE0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877AE-DFEC-41D0-B5C4-CC2DD815B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EB2E2-FEDB-44FD-A3C2-5238230E3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1967D-B080-4614-AB60-6D6B3C81C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75D44-1D74-43E9-9AC5-993673C10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6812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40960" y="182844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29528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6812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240960" y="4097160"/>
            <a:ext cx="2354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56FE2-863B-45D7-B106-B6E0EE19D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5278-C0E5-41E8-A8DB-AE9BD4E8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B1A3-5390-4308-BA12-5B9DE4D0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EBB0-2987-4C44-AF89-7ECC94FCE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subTitle"/>
          </p:nvPr>
        </p:nvSpPr>
        <p:spPr>
          <a:xfrm>
            <a:off x="1371600" y="30456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92B3-EAA8-4887-AEFA-567D30188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3007-8F5D-49EB-B1D1-D7A2FD9F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043240" y="409716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CB76-8729-472A-BCAA-8AD1520D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29528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3240" y="1828440"/>
            <a:ext cx="356904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295280" y="4097160"/>
            <a:ext cx="7313760" cy="207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EF8-9D5C-4627-AD57-8556A961A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1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body"/>
          </p:nvPr>
        </p:nvSpPr>
        <p:spPr>
          <a:xfrm>
            <a:off x="1295280" y="1828440"/>
            <a:ext cx="7313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 type="dt" idx="1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 type="ftr" idx="2"/>
          </p:nvPr>
        </p:nvSpPr>
        <p:spPr>
          <a:xfrm>
            <a:off x="3200040" y="640080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5"/>
          <p:cNvSpPr>
            <a:spLocks noGrp="1"/>
          </p:cNvSpPr>
          <p:nvPr>
            <p:ph type="sldNum" idx="3"/>
          </p:nvPr>
        </p:nvSpPr>
        <p:spPr>
          <a:xfrm>
            <a:off x="67053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A0A34-8FC7-4173-8E20-558B1D42C62D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914400" y="1600200"/>
            <a:ext cx="8247240" cy="5257800"/>
            <a:chOff x="914400" y="1600200"/>
            <a:chExt cx="8247240" cy="5257800"/>
          </a:xfrm>
        </p:grpSpPr>
        <p:sp>
          <p:nvSpPr>
            <p:cNvPr id="63" name=""/>
            <p:cNvSpPr/>
            <p:nvPr/>
          </p:nvSpPr>
          <p:spPr>
            <a:xfrm>
              <a:off x="1017720" y="1609560"/>
              <a:ext cx="8123040" cy="5247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1600200"/>
              <a:ext cx="103320" cy="525636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1600200"/>
              <a:ext cx="8247240" cy="98280"/>
            </a:xfrm>
            <a:prstGeom prst="rect">
              <a:avLst/>
            </a:prstGeom>
            <a:solidFill>
              <a:srgbClr val="f3f3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7282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789768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070760" y="1609560"/>
              <a:ext cx="4111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24060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4118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58316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754440" y="1609560"/>
              <a:ext cx="41292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92428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095560" y="1609560"/>
              <a:ext cx="4143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66840" y="1609560"/>
              <a:ext cx="412560" cy="795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922320" y="176832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22320" y="25509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22320" y="3335400"/>
              <a:ext cx="84240" cy="3888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22320" y="411804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922320" y="4902120"/>
              <a:ext cx="84240" cy="38916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2320" y="568476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922320" y="6467400"/>
              <a:ext cx="84240" cy="390600"/>
            </a:xfrm>
            <a:prstGeom prst="rect">
              <a:avLst/>
            </a:prstGeom>
            <a:solidFill>
              <a:srgbClr val="867a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0040" y="304560"/>
            <a:ext cx="5791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Click to edit the title text format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3057480" cy="2057400"/>
            <a:chOff x="0" y="0"/>
            <a:chExt cx="3057480" cy="205740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3048120" cy="20574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33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1440" y="2009880"/>
              <a:ext cx="3052800" cy="47520"/>
              <a:chOff x="1440" y="2009880"/>
              <a:chExt cx="3052800" cy="47520"/>
            </a:xfrm>
          </p:grpSpPr>
          <p:sp>
            <p:nvSpPr>
              <p:cNvPr id="87" name=""/>
              <p:cNvSpPr/>
              <p:nvPr/>
            </p:nvSpPr>
            <p:spPr>
              <a:xfrm>
                <a:off x="1440" y="2009880"/>
                <a:ext cx="3052800" cy="4752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3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160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22440" y="2021040"/>
                <a:ext cx="15372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9302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23660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542960" y="2021040"/>
                <a:ext cx="15264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849320" y="2021040"/>
                <a:ext cx="1540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215748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46384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770200" y="2021040"/>
                <a:ext cx="152280" cy="316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3014640" y="0"/>
              <a:ext cx="42840" cy="2055960"/>
              <a:chOff x="3014640" y="0"/>
              <a:chExt cx="42840" cy="2055960"/>
            </a:xfrm>
          </p:grpSpPr>
          <p:sp>
            <p:nvSpPr>
              <p:cNvPr id="99" name=""/>
              <p:cNvSpPr/>
              <p:nvPr/>
            </p:nvSpPr>
            <p:spPr>
              <a:xfrm>
                <a:off x="3014640" y="0"/>
                <a:ext cx="42840" cy="2055960"/>
              </a:xfrm>
              <a:prstGeom prst="rect">
                <a:avLst/>
              </a:prstGeom>
              <a:solidFill>
                <a:srgbClr val="f3f3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016080" y="189720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016080" y="159084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3016080" y="128412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3016080" y="97776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016080" y="67140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016080" y="365040"/>
                <a:ext cx="30240" cy="15264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016080" y="58680"/>
                <a:ext cx="30240" cy="152280"/>
              </a:xfrm>
              <a:prstGeom prst="rect">
                <a:avLst/>
              </a:prstGeom>
              <a:solidFill>
                <a:srgbClr val="867a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33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PlaceHolder 2"/>
          <p:cNvSpPr>
            <a:spLocks noGrp="1"/>
          </p:cNvSpPr>
          <p:nvPr>
            <p:ph type="dt" idx="4"/>
          </p:nvPr>
        </p:nvSpPr>
        <p:spPr>
          <a:xfrm>
            <a:off x="1295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ftr" idx="5"/>
          </p:nvPr>
        </p:nvSpPr>
        <p:spPr>
          <a:xfrm>
            <a:off x="32004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sldNum" idx="6"/>
          </p:nvPr>
        </p:nvSpPr>
        <p:spPr>
          <a:xfrm>
            <a:off x="67816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33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90830-5D18-4070-94AD-FBD4720224EE}" type="slidenum">
              <a:rPr b="0" lang="en-US" sz="1400" spc="-1" strike="noStrike">
                <a:solidFill>
                  <a:srgbClr val="66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663300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663300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6633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51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3300"/>
                </a:solidFill>
                <a:latin typeface="Arial Narrow"/>
              </a:rPr>
              <a:t>Экология жилища и здоровь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79280" y="206028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остоянно идет процесс пылеобразования - вытираются ковровые покрытия, осыпается и вышаркивается краска, с улицы попадает пыль и выхлопные газы автомобилей, люди и домашние животные теряют волосы, кожный эпителий, перхоть и т.д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Пыль является транспортным средством для распространения бактерий и вирусов и способствует возникновению и распространению эпидемий.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ь в квартире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3040" r="0" b="3040"/>
          <a:stretch/>
        </p:blipFill>
        <p:spPr>
          <a:xfrm>
            <a:off x="324000" y="1844640"/>
            <a:ext cx="2879640" cy="4464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348000" y="2133720"/>
            <a:ext cx="5400720" cy="36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Знаете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ли Вы о том, что в стандартной трехкомнатной квартире в год образуется до 40 кг. пыли.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Человек за сутки вдыхает до 12 тыс. литров воздуха, в одном литре которого содержится до 500 тыс. пылинок. 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66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66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В 28 гр. пыли живет до 42 000 пылевых клещей, продукты жизнедеятельности которых являются самыми мощными из известных на сегодняшний день аллергенов.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Клещ может стать постоянным спутником человека на протяжении всей его жизни. Основным питанием для клеща являются омертвевшие клетки кожи. В год человек теряет до двух кг. кожи, основная масса которой остается на постельном белье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Основную опасность для человека представляют как сами клещи, так и продукты его жизнедеятельности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70% аллергических заболеваний дыхательных путей обусловлены присутствием именно этих веществ. </a:t>
            </a:r>
            <a:br>
              <a:rPr sz="2800"/>
            </a:b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  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Пылевой клещ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700000" y="2060640"/>
            <a:ext cx="6443640" cy="445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     </a:t>
            </a: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збавится от клеща обычными средствами практически невозможно. Губительными для него являются только природные условия - обогащенный озоном воздух, ультрафиолетовое излучение и естественный уровень ионизации воздуха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250920" y="2133720"/>
            <a:ext cx="266544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Силикоз лёгкого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564000" y="1916280"/>
            <a:ext cx="5045040" cy="42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  </a:t>
            </a:r>
            <a:r>
              <a:rPr b="0" lang="en-US" sz="2400" spc="-1" strike="noStrike">
                <a:solidFill>
                  <a:srgbClr val="663300"/>
                </a:solidFill>
                <a:latin typeface="Arial Narrow"/>
              </a:rPr>
              <a:t>   </a:t>
            </a:r>
            <a:r>
              <a:rPr b="0" lang="en-US" sz="2800" spc="-1" strike="noStrike">
                <a:solidFill>
                  <a:srgbClr val="663300"/>
                </a:solidFill>
                <a:latin typeface="Arial Narrow"/>
              </a:rPr>
              <a:t>Это профессиональная болезнь шахтеров, аналогичные изменения наблюдаются у жителей городов с высоким уровнем загрязнения воздуха выбросами промышленных предприятий, выхлопными газами автомобилей и сжиганием угля на ТЭЦ. </a:t>
            </a:r>
            <a:endParaRPr b="0" lang="en-US" sz="2800" spc="-1" strike="noStrike">
              <a:solidFill>
                <a:srgbClr val="663300"/>
              </a:solidFill>
              <a:latin typeface="Arial Narrow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264960" y="1916280"/>
            <a:ext cx="3186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Arial Narrow"/>
              </a:rPr>
              <a:t>Чистый воздух</a:t>
            </a:r>
            <a:endParaRPr b="0" lang="en-US" sz="48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435880" cy="5329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Высоко ионизированный воздух горных курортов способствовал в начале 20 века излечению от начальных форм туберкулеза, а в настоящее время рекомендуется для лечения и уменьшения приступов бронхиальной астмы и дыхательной аллергии и т.д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Очевидно - дышать чистым и свежим воздухом полезно, люди, работающие на свежем воздухе, бодрее и здоровее работающих в закрытых и плохо проветриваемых помещениях.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ffcc"/>
            </a:gs>
            <a:gs pos="100000">
              <a:srgbClr val="ff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3300"/>
                </a:solidFill>
                <a:latin typeface="Arial Narrow"/>
              </a:rPr>
              <a:t>Вопросы для самопроверки:</a:t>
            </a:r>
            <a:endParaRPr b="0" lang="en-US" sz="4400" spc="-1" strike="noStrike">
              <a:solidFill>
                <a:srgbClr val="cc3300"/>
              </a:solidFill>
              <a:latin typeface="Arial Narrow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7997760" cy="468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Источники загрязнения воздуха на улице и в помещении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етоды борьбы с пылью в домашних условиях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Микроклимат жилища и его воздействие на здоровье человека?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85e1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Arial Narrow"/>
              </a:rPr>
              <a:t>Практическая работа: «Измерение температуры, влажности воздуха в жилых помещениях.»</a:t>
            </a:r>
            <a:endParaRPr b="0" lang="en-US" sz="3200" spc="-1" strike="noStrike">
              <a:solidFill>
                <a:srgbClr val="6633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7T09:08:09Z</dcterms:created>
  <dc:creator>01</dc:creator>
  <dc:description/>
  <dc:language>en-US</dc:language>
  <cp:lastModifiedBy>uchitel</cp:lastModifiedBy>
  <dcterms:modified xsi:type="dcterms:W3CDTF">2007-01-20T06:45:12Z</dcterms:modified>
  <cp:revision>6</cp:revision>
  <dc:subject/>
  <dc:title>Слайд 1</dc:title>
</cp:coreProperties>
</file>