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F4A3A-13E2-4915-A1CA-FCD7FC767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B507-692D-4A87-B544-01A4A01A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85A5-0169-4099-BB20-A7B0B6947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AEBC-71D2-47B8-A1E0-A464F85D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C633-9E13-4D17-82E8-7F296CE55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C763-CCBE-49EB-83C6-BC18F7722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AD16-DD2B-4423-A9D5-CB2A4CD9E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FA092-D7A5-4DAC-B3D6-3C985FF5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E242-3F1E-41A0-B555-E388D8328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5375-5DEF-48FE-BFA2-7831BE5D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71910-6027-462B-91A6-B571EB8F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7994-0805-45BD-B526-50DAA14D3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B0427-FFD5-41A8-99B3-6FC6BA770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20AD2-8C28-4354-8878-EB867F70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00470-3079-418E-84A9-4A0630D9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E860-2FFA-4750-B539-F1A0C98DC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48614-7948-45A7-BF22-8A53AF89E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5595-A50F-42C3-B52A-125F2D1BD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FF87-E6B5-43F9-9014-BABE16EC9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CEAE-7052-45E4-9C60-244630FD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9F64D-38B4-4505-BCD8-E6341EB8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C69D-B679-450C-B4A3-257ABEF15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C2FA-A01B-4DDE-8732-E8F91E30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8B0A-8B6D-4A9E-BBD8-C2003EDA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F7C6D-CE28-4D15-8ABB-3EF76D3295CF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c6600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3B27-CDED-410F-9244-E3CC00FF30B9}" type="slidenum">
              <a:rPr b="0" lang="en-US" sz="1400" spc="-1" strike="noStrike">
                <a:solidFill>
                  <a:srgbClr val="99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http://images.china.cn/images1/200510/206919.jpg" TargetMode="External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          </a:t>
            </a:r>
            <a:r>
              <a:rPr b="1" lang="en-US" sz="4000" spc="-1" strike="noStrike">
                <a:solidFill>
                  <a:srgbClr val="cc6600"/>
                </a:solidFill>
                <a:latin typeface="Arial Black"/>
              </a:rPr>
              <a:t>Природа и человек </a:t>
            </a:r>
            <a:endParaRPr b="1" lang="en-US" sz="4000" spc="-1" strike="noStrike">
              <a:solidFill>
                <a:srgbClr val="cc6600"/>
              </a:solidFill>
              <a:latin typeface="Arial Black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0920" y="620640"/>
            <a:ext cx="1871640" cy="1920960"/>
            <a:chOff x="250920" y="620640"/>
            <a:chExt cx="1871640" cy="1920960"/>
          </a:xfrm>
        </p:grpSpPr>
        <p:sp>
          <p:nvSpPr>
            <p:cNvPr id="100" name=""/>
            <p:cNvSpPr/>
            <p:nvPr/>
          </p:nvSpPr>
          <p:spPr>
            <a:xfrm>
              <a:off x="320400" y="693720"/>
              <a:ext cx="1718640" cy="1727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99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50920" y="620640"/>
              <a:ext cx="1871640" cy="1920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23640" y="1341360"/>
            <a:ext cx="60483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Земля – колыбель человека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2492280"/>
            <a:ext cx="2417760" cy="33130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00000" y="3213000"/>
            <a:ext cx="478476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"/>
              </a:rPr>
              <a:t>Любовь к природе, впрочем как и всякая человеческая любовь, несомненно, закладывается у нас с детства.                                   </a:t>
            </a:r>
            <a:endParaRPr b="0" lang="en-US" sz="3200" spc="-1" strike="noStrike">
              <a:solidFill>
                <a:srgbClr val="99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990000"/>
                </a:solidFill>
                <a:latin typeface="Arial"/>
              </a:rPr>
              <a:t>И. Соколов- Микитов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30072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Человек рождён природой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101080" y="3141720"/>
            <a:ext cx="503280" cy="36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99ccff"/>
                </a:solidFill>
                <a:latin typeface="Times New Roman"/>
              </a:rPr>
              <a:t>Относись к ней как к матери</a:t>
            </a:r>
            <a:endParaRPr b="0" lang="en-US" sz="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771640" y="1268280"/>
            <a:ext cx="5832720" cy="20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История Дня Земли началась в 1840 г., когда Дж.Стерлинг Мортон переехал со своей семьей на территорию штата Небраск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4000" y="1197000"/>
            <a:ext cx="2381040" cy="19051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10103" t="23870" r="9347" b="-143"/>
          <a:stretch/>
        </p:blipFill>
        <p:spPr>
          <a:xfrm>
            <a:off x="6710400" y="2997360"/>
            <a:ext cx="1928880" cy="3860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68360" y="3573360"/>
            <a:ext cx="5904000" cy="32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Бескрайние прерии с одинокими деревьями, солнце и ветер, от которых негде было укрыться, и иссушенная земля привели Мортона к идее озеленения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22 апреля - День Земли 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250920" y="1341360"/>
            <a:ext cx="4681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Он предложил установить день, посвященный озеленению и учредить призы для тех, кто высадит наибольшее количество деревьев. Так в штате Небраска появил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День Дерева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. В 1882 г. День Дерева был объявлен официальным праздником штата и стал отмечаться </a:t>
            </a:r>
            <a:r>
              <a:rPr b="1" lang="ru-RU" sz="2800" spc="-1" strike="noStrike">
                <a:solidFill>
                  <a:srgbClr val="990000"/>
                </a:solidFill>
                <a:latin typeface="Arial"/>
              </a:rPr>
              <a:t>22 апреля</a:t>
            </a:r>
            <a:r>
              <a:rPr b="0" lang="ru-RU" sz="2800" spc="-1" strike="noStrike">
                <a:solidFill>
                  <a:srgbClr val="990000"/>
                </a:solidFill>
                <a:latin typeface="Arial"/>
              </a:rPr>
              <a:t>, в день рождения Мортона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516720" y="1197000"/>
            <a:ext cx="1847880" cy="23432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148360" y="3068640"/>
            <a:ext cx="2857320" cy="18763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04000" y="4869000"/>
            <a:ext cx="1800360" cy="1358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5148360" y="5373720"/>
            <a:ext cx="17287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43210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С 1970 г. идея праздника сменилась. В 1969 году произошла страшная экологическая катастрофа возле американского города Санта-Барбара. Тогда миллионы тонн нефти, вылившейся из скважин, погубили множество пеликанов, журавлей, уток, морских львов, других животных, погибли гектары растительности, была отравлена вода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857680" cy="2105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788000" y="3213000"/>
            <a:ext cx="287964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50560" y="1484280"/>
            <a:ext cx="50418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37296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С тех пор ведущую роль в праздновании стали играть охрана окружающей среды, экологическое образование и экопросвещение. Появилось и новое название - 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День Земли</a:t>
            </a:r>
            <a:r>
              <a:rPr b="0" lang="ru-RU" sz="2400" spc="-1" strike="noStrike">
                <a:solidFill>
                  <a:srgbClr val="990000"/>
                </a:solidFill>
                <a:latin typeface="Arial"/>
              </a:rPr>
              <a:t>. Через несколько лет праздник стал всемирным. Начиная с 1990 г. в празднование включились и российские организации. </a:t>
            </a:r>
            <a:endParaRPr b="0" lang="en-US" sz="24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rcRect l="8917" t="0" r="19567" b="0"/>
          <a:stretch/>
        </p:blipFill>
        <p:spPr>
          <a:xfrm>
            <a:off x="5364000" y="1628640"/>
            <a:ext cx="352908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8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"/>
              </a:rPr>
              <a:t>День земли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572436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Перед нами стоит выбор: создать всеобщее содружество и заботиться о Земле, друг о друге либо рисковать разрушением самих себя и всего разнообразия жизни. Мы обладаем достаточными знаниями и технологиями для обеспечения потребностей всех людей и сокращения воздействия на окружающую среду.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724360" y="1484280"/>
            <a:ext cx="321948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aaf4af"/>
            </a:gs>
            <a:gs pos="100000">
              <a:srgbClr val="00cc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Black"/>
              </a:rPr>
              <a:t>Природа и человек</a:t>
            </a:r>
            <a:endParaRPr b="1" lang="en-US" sz="4400" spc="-1" strike="noStrike">
              <a:solidFill>
                <a:srgbClr val="cc66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79280" y="1916280"/>
            <a:ext cx="4321440" cy="41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Охрану природы я считаю делом святым. Это – сохранение и умножение красот Родины.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  <a:p>
            <a:pPr marL="64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990000"/>
                </a:solidFill>
                <a:latin typeface="Arial"/>
              </a:rPr>
              <a:t>Л. Леонов                                                                                                                      </a:t>
            </a:r>
            <a:endParaRPr b="0" lang="en-US" sz="28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68840" y="1341360"/>
            <a:ext cx="3646440" cy="48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10:51:45Z</dcterms:created>
  <dc:creator>01</dc:creator>
  <dc:description/>
  <dc:language>en-US</dc:language>
  <cp:lastModifiedBy>molinfo</cp:lastModifiedBy>
  <dcterms:modified xsi:type="dcterms:W3CDTF">2008-01-09T06:05:10Z</dcterms:modified>
  <cp:revision>8</cp:revision>
  <dc:subject/>
  <dc:title>22 апреля - День Земли </dc:title>
</cp:coreProperties>
</file>