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622C-0FBC-4451-8AE7-5177741E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E8F6-6DCE-403C-8AEF-2E34E226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26C2-63C9-4851-95E3-41702F62C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8DA9-1523-42D1-907F-099EA7F8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7962-5445-405A-BFC7-759FC787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597F-B826-4278-BAC4-B725B4FA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AFFB-86CF-4F98-8881-E07DF1FB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C954-3E54-4E08-9C39-728582BE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0957-5310-49B5-815B-EDA8EAB5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EC87-919D-4EF1-A74C-6D1987FB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4F9A-FA58-44AA-92B6-7FD9D95F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1717-33E5-4583-92B7-967541D3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F0AD-812A-4E62-BDA5-1878DC6AF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ологически ориентированное взаимодействие с приро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ма: «Диалоги»              с природными объек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оп - солд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клоп ярко и интересно окрашен: на черном фоне у него красный узор. Эта демонстративная окраска предупреждает чтобы его не ели. Для этого же клоп-солдатик использует свои пахучие желез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тается растительными остатками (старой корой, облетевшей листвой) и тоже является «чистильщиком» 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оп-солд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0007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урав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отдельности это маленькие, незаметные насекомые, но всей своей семьей они строят красивые дома-муравейники, высотой часто превышающие рост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равьи – известные трудяги, они все время работают, строят свое жилище, принося огромные по сравнению с ними хвоинки, щепки, лист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урав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00000" y="1390680"/>
            <a:ext cx="71280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уравьи занимаются «животноводством», выращивая и оберегая тлей, как мы – коров, и пьют сладкие их выделения - «молочко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нже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4327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азвернулся листик, как гармошка.       Между жилок – капельки воды.                            И растет травинка понемножку,             Вдоль дорожки, что ведет в сады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. Глу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0388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яб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лет зябликов, так же, как грачей и скворцов, знаменует наступление долгожданной весны. Они возвращаются из далеких стран, чтобы вырастить своих птенцов в родных мес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яблик поет очень красивую песню, наполняя весь лес своими мелодичными тр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7360" y="692280"/>
            <a:ext cx="38228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тучая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тучая мышь – это не птица, а млекопитающее, приспособившееся к пол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ылья летучих мышей образованы широкой кожистой перепонкой между пальцами передних конечностей, туловищем и ног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тучая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38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ночные животные, и у них превосходно развит слух. Благодаря этому они охотятся даже в пасмурную погоду, почти не пользуясь зр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смотря на устрашающий вид, это очень интересные, загадочные и полезные животные. Они уничтожают кровососущих насекомых: комаров и мо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836960" y="1557360"/>
            <a:ext cx="35546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лодцы, ребят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 познакомились сегодня с неприметными, но такими важными обитателями смешанного ле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егодня пойдет рассказ о незаметных на первый взгляд, но очень интересных и полезных обитателях смешанного лес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ахитово-зеленый покров мхов – самая характерная черта смешанных лесов. Внимательно присмотревшись, можно увидеть, что слоевище мхов прикрепляется к почве тонкими, нежными, похожими на корешки, нитями. Даже слабое нарушение подстилки при вытаптывании ведет к отмиранию мх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53708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укушкин л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мох напоминает миниатюрную елочку. Стебельки гордо растут прямо и не ветвятся, достигая 50 сантиметров. Тогда как большинство других мхов «головы» не поднимают от земли -  стел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дный настой кукушкина льна используют при кашле, отваром моют волосы при выпад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424720" cy="532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укушкин л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иб - трутов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гриб растет только на березах, но заражаются в первую очередь деревья больные и ослаблен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евесина, пораженная данным грибом, становится трухлявой и при растирании превращается в порош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иб помогает очистить лес от больных деревьев, выполняя роль санит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иб - трутов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16000" y="127008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ук-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единственный бродячий паук в наших лесах. Бродячий потому, что никогда не плетет паутину. Он охотится как волк, подстерегая свою добы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вет на поверхности почвы и ведет  дневной образ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ук-волк оказывает большую пользу лесу, уничтожая вредных насеком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ук-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71640" y="1201680"/>
            <a:ext cx="734544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04:50:38Z</dcterms:created>
  <dc:creator>Lib</dc:creator>
  <dc:description/>
  <dc:language>en-US</dc:language>
  <cp:lastModifiedBy>Lib</cp:lastModifiedBy>
  <dcterms:modified xsi:type="dcterms:W3CDTF">2008-11-13T06:29:20Z</dcterms:modified>
  <cp:revision>2</cp:revision>
  <dc:subject/>
  <dc:title>Экологически ориентированное взаимодействие с природой</dc:title>
</cp:coreProperties>
</file>