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FAE5-4E5E-4E78-890F-F2A879197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578B-9A6A-4E5B-BAD2-82D1A8CE3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0C79-5B11-4704-A2BE-5E0F18664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57F6-6997-4ED1-A6CB-E5A54F169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FB57-43F1-43A7-96DC-4DFC59BA3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0DA2-1E52-4D30-B907-9292A4B2E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C3E7-CF1E-4FA1-AEAA-6A4823D08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C97E-D59F-4FDD-A678-13229BCF6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44CB-DFA5-49F8-BDB8-F404A4C25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CC87-A60E-4020-9E96-D749B4F8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5600-7BFE-4F47-88EB-138A53BE5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0425-A0EB-4D34-B69A-B3A49A410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4675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FC2A0-879D-480D-9192-81BF51E262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dga.ru/mscdoma/imagepages/image5.html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edga.ru/mscdoma/imagepages/image23.html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www.edga.ru/mscdoma/imagepages/image25.html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www.edga.ru/mscdoma/imagepages/image3.html" TargetMode="External"/><Relationship Id="rId8" Type="http://schemas.openxmlformats.org/officeDocument/2006/relationships/image" Target="../media/image5.jpeg"/><Relationship Id="rId9" Type="http://schemas.openxmlformats.org/officeDocument/2006/relationships/image" Target="../media/image6.jpeg"/><Relationship Id="rId10" Type="http://schemas.openxmlformats.org/officeDocument/2006/relationships/image" Target="../media/image7.jpeg"/><Relationship Id="rId11" Type="http://schemas.openxmlformats.org/officeDocument/2006/relationships/image" Target="../media/image8.jpeg"/><Relationship Id="rId12" Type="http://schemas.openxmlformats.org/officeDocument/2006/relationships/image" Target="../media/image9.jpeg"/><Relationship Id="rId1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05120" y="152280"/>
            <a:ext cx="519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Что я вижу за окно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4675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066680" y="1789200"/>
            <a:ext cx="6858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Видеоэкология (от лат. </a:t>
            </a:r>
            <a:r>
              <a:rPr b="1" i="1" lang="ru-RU" sz="2000" spc="-1" strike="noStrike">
                <a:solidFill>
                  <a:srgbClr val="ffff00"/>
                </a:solidFill>
                <a:latin typeface="Comic Sans MS"/>
              </a:rPr>
              <a:t>video</a:t>
            </a: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 — видеть, греч. </a:t>
            </a:r>
            <a:r>
              <a:rPr b="1" i="1" lang="ru-RU" sz="2000" spc="-1" strike="noStrike">
                <a:solidFill>
                  <a:srgbClr val="ffff00"/>
                </a:solidFill>
                <a:latin typeface="Comic Sans MS"/>
              </a:rPr>
              <a:t>οικος</a:t>
            </a: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 и </a:t>
            </a:r>
            <a:r>
              <a:rPr b="1" i="1" lang="ru-RU" sz="2000" spc="-1" strike="noStrike">
                <a:solidFill>
                  <a:srgbClr val="ffff00"/>
                </a:solidFill>
                <a:latin typeface="Comic Sans MS"/>
              </a:rPr>
              <a:t>λόγος</a:t>
            </a: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 — экология) — это область знания о взаимодействии человека с окружающей видимой сред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Визуальная среда – совокупность объектов, воспринимаемых человеческим взглядом в определенной мест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4675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Гостиница Космос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33640" y="15238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Москва. Улицы, дома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057400" y="15238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Замоскворечье, клумба с тюльпанами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057400" y="15238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Овчинниковская набережная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057400" y="15238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Гостиница Советская. Санкт-Петербург"/>
          <p:cNvPicPr/>
          <p:nvPr/>
        </p:nvPicPr>
        <p:blipFill>
          <a:blip r:embed="rId9"/>
          <a:stretch/>
        </p:blipFill>
        <p:spPr>
          <a:xfrm>
            <a:off x="2057400" y="15238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Московский вокзал"/>
          <p:cNvPicPr/>
          <p:nvPr/>
        </p:nvPicPr>
        <p:blipFill>
          <a:blip r:embed="rId10"/>
          <a:stretch/>
        </p:blipFill>
        <p:spPr>
          <a:xfrm>
            <a:off x="2057400" y="15238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Бассейн СК Олимпийский"/>
          <p:cNvPicPr/>
          <p:nvPr/>
        </p:nvPicPr>
        <p:blipFill>
          <a:blip r:embed="rId11"/>
          <a:stretch/>
        </p:blipFill>
        <p:spPr>
          <a:xfrm>
            <a:off x="2057400" y="15238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Лето. Тропинка и пруд"/>
          <p:cNvPicPr/>
          <p:nvPr/>
        </p:nvPicPr>
        <p:blipFill>
          <a:blip r:embed="rId12"/>
          <a:stretch/>
        </p:blipFill>
        <p:spPr>
          <a:xfrm>
            <a:off x="2057400" y="1523880"/>
            <a:ext cx="51055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4675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433600" y="642960"/>
            <a:ext cx="42768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4675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743200" y="990720"/>
            <a:ext cx="38862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HH</cp:lastModifiedBy>
  <dcterms:modified xsi:type="dcterms:W3CDTF">2008-11-14T04:55:57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