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BA96-61C6-4997-94AE-5021EBC9A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DCF3-0D00-4091-8355-D59328CDB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AC1E-26D3-4BA1-99BE-D306B50F3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3870-8E02-4E3F-8C7A-6E4D3C2D2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4EA0B-6790-47C1-B992-599D5B69C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3A413-265C-4855-A0A9-7066FC4C3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14ECB-3CFC-4F62-A362-C2138FBC0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AF05B-D24B-4DBA-93AD-404E132E0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72ED2-1D25-4225-A30B-732D40425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6895A-3F02-46E3-A818-0C1596C6A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6288A-4C36-4BEB-B9F1-A61B8FDE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622A-37B7-4753-A905-512CF2A4D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CE027-5F98-420E-82DB-453510F7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BFFDF-5CA5-44B1-82FA-C21D3161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E05D9-867C-4415-8CDE-9D96D5981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E83D8-5484-459F-AB6F-DE24B80CE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0B61E-A649-45BC-B27B-CC18D3E28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A9F6-E7E1-4E7D-BACB-7B825D607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A25A-15DC-42A2-924E-8A4AF0CBA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7487-FFE0-4B67-8831-047C6CC9E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707D-663F-45DE-80DC-A60CB9A74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A6A1-6438-41B2-9477-AF2C4CE3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146B-82BC-4FD5-AF3B-681C58D5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86C9-1F36-47C4-8BC0-A55E92F5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D78FD-34A9-4665-915C-421F5441D7ED}" type="slidenum"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71116-5C65-4885-9981-8D51700D1D7B}" type="slidenum"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hyperlink" Target="http://images.china.cn/images1/200510/206919.jpg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00"/>
                </a:solidFill>
                <a:latin typeface="Arial Black"/>
              </a:rPr>
              <a:t>          </a:t>
            </a:r>
            <a:r>
              <a:rPr b="1" lang="en-US" sz="4000" spc="-1" strike="noStrike">
                <a:solidFill>
                  <a:srgbClr val="cc6600"/>
                </a:solidFill>
                <a:latin typeface="Arial Black"/>
              </a:rPr>
              <a:t>Природа и человек </a:t>
            </a:r>
            <a:endParaRPr b="1" lang="en-US" sz="4000" spc="-1" strike="noStrike">
              <a:solidFill>
                <a:srgbClr val="cc6600"/>
              </a:solidFill>
              <a:latin typeface="Arial Black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50920" y="620640"/>
            <a:ext cx="1871640" cy="1920960"/>
            <a:chOff x="250920" y="620640"/>
            <a:chExt cx="1871640" cy="1920960"/>
          </a:xfrm>
        </p:grpSpPr>
        <p:sp>
          <p:nvSpPr>
            <p:cNvPr id="100" name=""/>
            <p:cNvSpPr/>
            <p:nvPr/>
          </p:nvSpPr>
          <p:spPr>
            <a:xfrm>
              <a:off x="320400" y="693720"/>
              <a:ext cx="1718640" cy="172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250920" y="620640"/>
              <a:ext cx="1871640" cy="192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23640" y="1341360"/>
            <a:ext cx="6048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Земля – колыбель человека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227640" y="2492280"/>
            <a:ext cx="2417760" cy="3313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900000" y="3213000"/>
            <a:ext cx="478476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Любовь к природе, впрочем как и всякая человеческая любовь, несомненно, закладывается у нас с детства.                                   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00"/>
                </a:solidFill>
                <a:latin typeface="Arial"/>
              </a:rPr>
              <a:t>И. Соколов- Микитов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00720" y="3141720"/>
            <a:ext cx="503280" cy="36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ccff"/>
                </a:solidFill>
                <a:latin typeface="Times New Roman"/>
              </a:rPr>
              <a:t>Человек рождён природой</a:t>
            </a:r>
            <a:endParaRPr b="0" lang="en-US" sz="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101080" y="3141720"/>
            <a:ext cx="503280" cy="36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ccff"/>
                </a:solidFill>
                <a:latin typeface="Times New Roman"/>
              </a:rPr>
              <a:t>Относись к ней как к матери</a:t>
            </a:r>
            <a:endParaRPr b="0" lang="en-US" sz="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22 апреля - День Земли 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771640" y="1268280"/>
            <a:ext cx="5832720" cy="20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История Дня Земли началась в 1840 г., когда Дж.Стерлинг Мортон переехал со своей семьей на территорию штата Небраска.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2381040" cy="190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rcRect l="10103" t="23870" r="9347" b="-143"/>
          <a:stretch/>
        </p:blipFill>
        <p:spPr>
          <a:xfrm>
            <a:off x="6710400" y="2997360"/>
            <a:ext cx="1928880" cy="3860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68360" y="3573360"/>
            <a:ext cx="5904000" cy="32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Бескрайние прерии с одинокими деревьями, солнце и ветер, от которых негде было укрыться, и иссушенная земля привели Мортона к идее озеленения.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22 апреля - День Земли 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250920" y="1341360"/>
            <a:ext cx="46814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Он предложил установить день, посвященный озеленению и учредить призы для тех, кто высадит наибольшее количество деревьев. Так в штате Небраска появился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День Дерева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. В 1882 г. День Дерева был объявлен официальным праздником штата и стал отмечаться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22 апреля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, в день рождения Мортона.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516720" y="1197000"/>
            <a:ext cx="1847880" cy="23432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148360" y="3068640"/>
            <a:ext cx="2857320" cy="18763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04000" y="4869000"/>
            <a:ext cx="1800360" cy="1358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5148360" y="5373720"/>
            <a:ext cx="1728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День земли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43210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С 1970 г. идея праздника сменилась. В 1969 году произошла страшная экологическая катастрофа возле американского города Санта-Барбара. Тогда миллионы тонн нефти, вылившейся из скважин, погубили множество пеликанов, журавлей, уток, морских львов, других животных, погибли гектары растительности, была отравлена вода. 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084720" y="1341360"/>
            <a:ext cx="2857680" cy="2105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788000" y="3213000"/>
            <a:ext cx="287964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День земли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5041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37296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С тех пор ведущую роль в праздновании стали играть охрана окружающей среды, экологическое образование и экопросвещение. Появилось и новое название -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День Земли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. Через несколько лет праздник стал всемирным. Начиная с 1990 г. в празднование включились и российские организации. 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8917" t="0" r="19567" b="0"/>
          <a:stretch/>
        </p:blipFill>
        <p:spPr>
          <a:xfrm>
            <a:off x="5364000" y="1628640"/>
            <a:ext cx="352908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День земли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57243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Перед нами стоит выбор: создать всеобщее содружество и заботиться о Земле, друг о друге либо рисковать разрушением самих себя и всего разнообразия жизни. Мы обладаем достаточными знаниями и технологиями для обеспечения потребностей всех людей и сокращения воздействия на окружающую среду.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724360" y="1484280"/>
            <a:ext cx="321948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Природа и человек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32144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Охрану природы я считаю делом святым. Это – сохранение и умножение красот Родины.             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6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Л. Леонов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668840" y="1341360"/>
            <a:ext cx="36464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10:51:45Z</dcterms:created>
  <dc:creator>01</dc:creator>
  <dc:description/>
  <dc:language>en-US</dc:language>
  <cp:lastModifiedBy>molinfo</cp:lastModifiedBy>
  <dcterms:modified xsi:type="dcterms:W3CDTF">2008-01-09T06:05:10Z</dcterms:modified>
  <cp:revision>8</cp:revision>
  <dc:subject/>
  <dc:title>22 апреля - День Земли </dc:title>
</cp:coreProperties>
</file>