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185-662C-4985-B31C-62B67F1D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B6B-3B74-45B2-B862-D385D1BC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E49-0D5A-49D3-9D19-03A21026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520-1F9A-43C5-B452-FA987114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E8F0-EEA4-4F34-917C-BB846612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4A33-25F9-471F-8612-91E4E6B3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2868-B456-4CA0-94F7-BB76378B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F2AF-6DCB-4AC6-891F-A5976B78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48E6-5E1A-48D6-A25D-562865AB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CBBA-9F00-40A4-923D-0AB737E4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6C94-A8BA-4047-8800-DFBD0403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7F8C-17EB-4201-8BEA-B10B39EA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D502-F3AF-46DD-B646-AC1B355E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4145-F0E6-4187-93F7-9C3F46AA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281B-F44B-4070-A54F-2FAB85DF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585B-5C91-4F2F-80F4-F0E19E1D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728A-0939-4BE9-AD06-EAEADE27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442-41C6-4420-AEFA-097D65F9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3444-70A4-4F70-B47E-F8307C5B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A1DE-D481-48C7-9E58-10AB15BC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DA9-4961-402F-8DC7-27CB54C8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7E74-D9CC-4048-AA52-DAFFE4D7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D755-0A43-4B86-A4B9-430CB72D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0DF-9FB1-43F8-B69C-BBE4C7C0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7A5F-DD37-404B-9C2E-3D9F804C5C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8E33-74E9-41C2-AC76-D7570FAEA7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forklift.ru/img/kat/katalog100128pp.jpg&amp;imgrefurl=http://www.forklift.ru/%3Fpage%3Dcat%26top%3D100042&amp;h=200&amp;w=200&amp;sz=44&amp;hl=ru&amp;start=17&amp;tbnid=p04Ufsq4ubPDGM:&amp;tbnh=104&amp;tbnw=104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bast.ru/bastion/help/risunki/jurris.gif&amp;imgrefurl=http://bast.ru/bastion/help/stat_juravlev_akb.htm&amp;h=179&amp;w=250&amp;sz=22&amp;hl=ru&amp;start=20&amp;tbnid=zEAGC-Y-xJfrwM:&amp;tbnh=79&amp;tbnw=111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8984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ытовые отходы.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сор-проблема век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19280" y="2349360"/>
            <a:ext cx="66247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копление твердых бытовых отходов в современном городе достигает 250-300 кг на человека в год, а ежегодное увеличение отходов на душу населения составляет 4-6%, что в 3 раза превышает скорость роста насе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187308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оссии разработана технология по механизированному извлечению из твердых бытовых отходов шести компонен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х металл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ловосодержащего лом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юми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кулату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мерной плен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щевых отход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середины 70-х годов ХХв. в разгар мирового энергетического кризиса на твердые бытовые отходы стали смотреть как на дополнительный сырьевой источник энергии - тепло отходящих газов, образующихся при сжигании мусора, можно утилизировать: пять тонн мусора равны тонне условного топли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6920" y="4797360"/>
            <a:ext cx="2592720" cy="433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16280"/>
            <a:ext cx="2521080" cy="43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2924280"/>
            <a:ext cx="216072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а раздельного сбора мус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b8b7d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Германии батареи мусорных бочек у домов выкрашены в три цвета: серые, желтые, зелены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ер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несут старые газеты, журналы и картонные короб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желт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выбрасывают банки, бутылки полимерную и бумажную, а также частично металлическую упаков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еле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а предназначена для биоразлагаемых отходов пищевого происхождения, которые позже будут переработаны в компост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ледствия мусорного загрязнен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ассификация бытовых отход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ы удаления и переработки бытового мусора в современных города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ое исследование: «Не слишком ли много мы используем упаковок?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ие акции: «Чистый подъезд», «Ель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алки существенно влияют на все компоненты окружающей природной среды и являются мощным загрязнителем атмосферного воздуха, почвы и грунтовых вод .Эти свалки являются, кроме того, еще рассадниками мышей, крыс, насекомых и могут стать источником инфекционных заболеваний, особенно в южных районах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5600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578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779560"/>
            <a:ext cx="5168880" cy="346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58258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400" y="1341360"/>
            <a:ext cx="87692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обенно опасным является ртутное загрязн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стоящее время в стране ежегодно идет в отходы около 200 млн. штук люминесцентных и дугоразрядных ламп. В каждой лампе содержится от 80 до 120 мг рту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3433680" cy="2575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3284640"/>
            <a:ext cx="54734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меньшую опасность представляют ртутьсодержащие электрические батарейки. В электрических батарейках содержание ртути достигает 300 мг. В целом по нашей стране попадают на свалки десятки тонн рт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инцовые аккумуляторы для автомобилей – в среднем в каждом аккумуляторе содержится от 8,5 до 9,5 кг свин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933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860640"/>
            <a:ext cx="2303640" cy="1640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679400" cy="16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демиологическая 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, например, в Ленинградской области на свалке были выявлены зараженные бешенством лисицы, что привело к необходимости проведения дорогостоящих профилактических мероприят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твердые отходы городов заражены разнообразными насекомыми и гельми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мире зарегистрировано уже заражение детей СПИДом, связанное с игрой последних с медицинскими отходами, попавшими в бытовые контейн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вердые бытовые отходы в городах содержат значительное количество разнообразных токсичных веществ и материалов. Примерно 4% отходов являются токсичны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наименований токсичных соединений и среди них - красители, пестициды, ртуть и ее соединения, растворители, свинец и его соли, лекарства, кадмий, мышьяковистые соединения, формальдегид, соли таллия 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обое место среди твердых отходов занимают пластмассы и синтетические материалы, так как они не подвергаются процессам биологического разрушения и могут длительное время (десятки лет) находиться в объектах окружающей среды. При горении пластмасс и синтетических материалов выделяются многочисленные токсические я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ы удаления и переработки бытового мусора в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овременных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город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вое "мусоросжигательное заведение" было построено еще в 1870 году близ Лондо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ейчас в мире действуют более 1000 мусоросжигательных заво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шей стране первый мусоросжигательный завод был построен только в 1972 году, то есть через 102 года после появления в мире перв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6:49:11Z</dcterms:created>
  <dc:creator>09</dc:creator>
  <dc:description/>
  <dc:language>en-US</dc:language>
  <cp:lastModifiedBy>admin</cp:lastModifiedBy>
  <dcterms:modified xsi:type="dcterms:W3CDTF">2007-01-21T19:45:50Z</dcterms:modified>
  <cp:revision>12</cp:revision>
  <dc:subject/>
  <dc:title>Бытовые отходы. Мусор-проблема века. </dc:title>
</cp:coreProperties>
</file>