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A71-B7E5-45D8-AED4-B56537E2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4EE3-D73A-4A94-9D2C-67F48580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AE8-17D6-4EBB-B00F-D867AD77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266-977F-4A29-BDF6-3DFB296D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3F0F2-5284-4014-A525-78C65C76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7BD1A-CCBC-44DA-AFFF-D353ECEB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B383F-9D2B-41D8-9369-EB4D5046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7F614-431A-4E20-B5DF-3A8358C1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A646C-AA3B-49FB-B874-2C4C5C77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92F0F-FC4B-4400-ACDB-4482620E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42AA3-8DBC-482F-98CF-9A47BFE9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0CD-85E9-4665-B66D-195457AF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04327-B1FA-4BE0-9CB0-7A5239E2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90CC1-D8A3-4F41-A79E-D4C8E238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5758C-5B21-43BF-9ACA-6AB80E96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43690-3BBA-4852-B7CC-70850590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9589A-617B-4CF2-BCF6-48C0F67C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7B1-901F-41B8-A563-5CA5D238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C7B-5533-4B7E-97E6-4CEE66B6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1C16-9DF5-401A-A1B7-52B75A74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CF4-C5D6-4684-9696-9BE727F0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157-B2DC-4341-A366-A3087BBE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14B-EB38-4BCB-8072-1F511980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89C-2E21-45DE-839E-AA56C239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2849-4B34-4ACC-A84A-A99D53C00078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DF23-31AF-4C93-B498-ACFB99149B18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b5.ru/VEX/location/cprime01.jpg&amp;imgrefurl=http://www.b5.ru/VEX/cprime.html&amp;h=156&amp;w=208&amp;sz=7&amp;hl=ru&amp;start=24&amp;tbnid=no3dzOhIUjD6GM:&amp;tbnh=79&amp;tbnw=105&amp;prev=/images%3Fq%3D%25D0%2593%25D0%25B8%25D0%25B4%25D1%2580%25D0%25BE%25D1%2581%25D1%2584%25D0%25B5%25D1%2580%25D0%25B0%2B%26start%3D20%26ndsp%3D20%26svnum%3D10%26hl%3Dru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greenworld.org.ru/iaur/strasty6.jpg&amp;imgrefurl=http://www.greenworld.org.ru/rus/proj/movie/passion/cstrasty6.htm&amp;h=389&amp;w=467&amp;sz=38&amp;hl=ru&amp;start=2&amp;tbnid=ZjKzxI5kWoMCEM:&amp;tbnh=107&amp;tbnw=128&amp;prev=/images%3Fq%3D%25D0%25BD%25D0%25B5%25D1%2584%25D1%2582%25D1%258C%26svnum%3D10%26hl%3Dru%26lr%3D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hyperlink" Target="http://images.google.ru/imgres?imgurl=http://www.tarusa.ru/~golovan/imgsklad/img072.jpg&amp;imgrefurl=http://www.tarusa.ru/~golovan/file.php%3Fpage%3D33&amp;h=768&amp;w=1024&amp;sz=245&amp;hl=ru&amp;start=8&amp;tbnid=CtB7sNfahAAhuM:&amp;tbnh=113&amp;tbnw=150&amp;prev=/images%3Fq%3D%25D0%25BB%25D0%25B5%25D1%2581%26svnum%3D10%26hl%3Dru%26lr%3D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wz.kurortinfo.ru/p/s000007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Гидросфера – одна из оболочек Земли. Воды Земли находятся в непрерывном движении океан – атмосфера – суш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Вода входит в состав клеток и тканей любого животного и растения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860640"/>
            <a:ext cx="3385800" cy="25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Римском государстве – до 70 л/су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77684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805200"/>
            <a:ext cx="5005440" cy="24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елым золотом называют хлопок, зелёным – лес, чёрным – нефть. Величайшее богатство земли – хлеб – получают из золотого колос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213000"/>
            <a:ext cx="2411640" cy="201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381040" cy="170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96000" y="4653000"/>
            <a:ext cx="2886120" cy="1933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465300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 чем же сравнить ценность обычной, простой, не говоря уже минеральной, лечебной воды. Вода – бесценна! По образному выражению академика А.Л.Карпинского: «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Вода – это живая кровь, которая создаёт жизнь там, где её не был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»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149720"/>
            <a:ext cx="2514600" cy="21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05040" cy="239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тоды очистки воды при всём их многообразии можно подразделить на три группы: механические, физико-химические и биологически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ханическая очистка применяется прежде всего для отделения твёрдых и взвешенных частиц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1640" y="4437000"/>
            <a:ext cx="248148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1519560" cy="20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212640"/>
            <a:ext cx="3538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иологическая очистка возможна в естественных условиях и в искусственных сооружениях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555920"/>
            <a:ext cx="820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Физико-химическая очистка обеспечивает отделение как твёрдых и взвешенных частиц, так и растворённых примесе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просы для самопровер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ода и цивилизация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Использование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Методы очистки воды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Основные способы снижения расхода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ое исследование «Вода в нашем доме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ая акция «Капля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Климат и погода на Земле во многом зависит и определяется наличием водных пространств и содержанием водяного пара в атмосфер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Реки и моря имеют огромное значение для развития водного транспорта. Они служат источниками электроэнергии.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8840" y="901800"/>
            <a:ext cx="7366320" cy="505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реди отраслей экономики нашей страны первое место по потреблению воды занимает сельское хозяйство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Для получения 1т пшеницы необходимо 1500т воды, 1т риса – более 7000т, 1т хлопка – около 10000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482472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торое место отводится промышленности. Ни одно промышленное предприятие не может функционировать, не используя воду из природных источников. Для получения 1т угля затрачивается 2т воды, стали – 15-20т, целлюлозы – 400-500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ретье место по водоёмкости занимает коммунальное хозяйство городов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На хозяйственно-питьевые цели в нашей стране приходится около 10 % общего водопотребления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Статистика показывает, что 80% всех заболеваний в мире вызвано неудовлетворительным качеством питьевой воды. По мере развития цивилизации человеку требовалось всё больше и больше воды. в Римском государстве – до 70 л/сут., Человек каменного века потреблял менее 10 л/сут., 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еловек каменного века потреблял менее 10 л/су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3672000" cy="159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3068640"/>
            <a:ext cx="3672000" cy="23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30:56Z</dcterms:created>
  <dc:creator>Кирьянова</dc:creator>
  <dc:description/>
  <dc:language>en-US</dc:language>
  <cp:lastModifiedBy>molinfo</cp:lastModifiedBy>
  <dcterms:modified xsi:type="dcterms:W3CDTF">2008-01-09T06:04:23Z</dcterms:modified>
  <cp:revision>18</cp:revision>
  <dc:subject/>
  <dc:title>Вода и цивилизация. </dc:title>
</cp:coreProperties>
</file>