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1BFD-EBBF-4600-8ACA-CC9B894C8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96F0-ECDA-459D-A378-B404FC1C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9747-D37E-49AD-B9B5-6028C9C0E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25D0-B24D-46D2-A458-363E6A150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8D90-B3E6-4490-9C85-C04616BBE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6085-7B0D-4CA3-9800-36F8C7A3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7920C-3513-4644-B7D7-91B77D20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CABE-7222-48F8-8106-1518FCA8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CC95-2BC3-4834-B3B7-BDEA99D4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9057-C45B-4B28-AB5A-A8D7493B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C21D-C9E0-4D35-86EF-99C0AA53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45F0-28A8-4AB9-A6CA-C8D92563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D6EE-98E3-4955-A068-369B914C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3C2F-A0FB-4C94-A635-E6C97509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07EB-6805-4850-B133-08E13C00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E97D-86F8-49DF-A843-351F86A2A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28EF-9365-47F9-8A25-189AD27FE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9B09-0D3A-4B3E-BBE4-CC86A7ED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64AD-8D50-4782-89D8-6D1F0037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1D12-531A-46A9-8BAB-01831F09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6324-73B1-447A-A192-FC41DF04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78B0-AFCF-41B6-BC6C-69A1CE8B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0606-D6BB-40E9-B93E-EFA86B23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F3F5-F798-4293-9114-A4D69571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63DC-9BAF-4174-AA35-8B6364C2AF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CEC6-FD25-476A-9435-FDDEF2B956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10920" y="404280"/>
            <a:ext cx="6046920" cy="20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7391520" cy="430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403280" y="1773360"/>
            <a:ext cx="741672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зеленение город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Это может сделать каждый! Сделаем наш город чистым, красивым и уютным!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195640" y="3068640"/>
            <a:ext cx="471960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Только 8 предприятий города готовы соблюдать требования экологического законодательства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Из 68 предприятий города только 8 заключили договора на функционирование санитарно-защитной зоны (СЗЗ)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47280" y="1700280"/>
            <a:ext cx="4751640" cy="46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В городе три главных источника выброса ядовитых веществ в атмосферу: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7920" indent="3780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Выбросы КЦБК "Кама"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7920" indent="3780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Выхлопные газы транспорта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7920" indent="3780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Полигон бытовых отходов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9" name="" descr="КЦБК.jpg, 21179 bytes"/>
          <p:cNvPicPr/>
          <p:nvPr/>
        </p:nvPicPr>
        <p:blipFill>
          <a:blip r:embed="rId1"/>
          <a:stretch/>
        </p:blipFill>
        <p:spPr>
          <a:xfrm>
            <a:off x="6156360" y="1628640"/>
            <a:ext cx="276840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и здоровь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00120" y="1777680"/>
            <a:ext cx="7491600" cy="446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В течение нескольких лет более 400 краснокамских детей были обследованы сотрудниками института экология и выявили рост содержащихся в их организме: свинца, хрома, фенола и бензола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В 2000 году фенол влияющий на систему крови, печени и почек, обнаруживался у 25 % обследованных детей, то в 2003 году - уже у 87 %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и здоровь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При попадании в организм: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сернистого ангидрида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 - развиваются такие заболевания, как бронхиальная астма, нефрит, хронический отит, ДЦП, сахарный диабет, аномалии системы кровообращения;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фенола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 - бронхиальная астма, стенокардия, сахарный диабет, гипертония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и здоровь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Город занимает 18 место по уровню смертности в области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По уровню смертности от новообразований. Краснокамск занимает седьмое место: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53 % - болезни системы кровообращения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4 % - органы пищеварения,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6 % - органы дыхания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По уровню общей заболеваемости на 21 месте, а детей на 7 месте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редприятия город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652400" y="1279080"/>
            <a:ext cx="7491240" cy="431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КЦБК «Кама",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"ТЭЦ-5",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"Свинокомплекс" - 71 % вредных выбросов в воздух и 83 % всех загрязнений окружающей среды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100 тысяч тонн так называемых нефтеочистк находится на небольшой глубине под слоем грунта в водоохраной зоне в районе деревни Шилова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76000" y="404280"/>
            <a:ext cx="7488360" cy="15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ля изменения экологической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безопасност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необходимо решить следующие основные задачи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47640" y="2133360"/>
            <a:ext cx="7345440" cy="42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реализовать комплексные меры по улучшению экологической ситуации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проводить медико-экологическую реабилитацию населения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способствовать снижению техногенной нагрузки на окружающую среду от выбросов и сбросов загрязняющих веществ и размещения отходов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1:28:39Z</dcterms:created>
  <dc:creator>01</dc:creator>
  <dc:description/>
  <dc:language>en-US</dc:language>
  <cp:lastModifiedBy>admin</cp:lastModifiedBy>
  <dcterms:modified xsi:type="dcterms:W3CDTF">2007-01-24T02:26:54Z</dcterms:modified>
  <cp:revision>6</cp:revision>
  <dc:subject/>
  <dc:title>Экология Краснокамска</dc:title>
</cp:coreProperties>
</file>