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11E3-C4E5-4C9A-AD9D-E0E22D1E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778A-E40C-402F-996C-E532B878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1DA-7500-490C-940C-DC8C5C73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61A-7CBD-4655-9B7C-CAA18058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E0E-2BB7-4BA0-B453-FD803C26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9E28-4BD5-4CAB-B15C-B504E6BD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0309-2E50-4A24-89C7-61F941BA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9B0-0B68-4859-A46B-CA62B876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4C4F-9DF5-4E53-9208-5E07DA90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406-9E40-4795-B81F-A29BC652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F8A-E7F5-4A94-8BB4-5A83AED6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4A02-B13E-46B1-B043-7C2E28B7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AB30-888A-4CC7-9618-22B4AC3C3E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11280" y="620640"/>
            <a:ext cx="77770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Истина должна быть пережита, а не препода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жуан-цзы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В игровом мироощущении присутствует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олее глубокая, чем в рассудочном взгляде на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. Эйнштейн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ОВАЯ ИГРА  КАК  ЭФФЕКТИВНАЯ ФОРМА ФОРМИРОВАНИЯ И ОТСЛЕЖИВАНИЯ ПРОФЕССИОНАЛЬНОЙ КОМПЕТЕНТНОСТИ ПЕДАГО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Фиалкина Татьяна Викто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БУ ЦРО г.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560" y="44280"/>
            <a:ext cx="7572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подвиг  или матрица успех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rcRect l="0" t="5289" r="0" b="4154"/>
          <a:stretch/>
        </p:blipFill>
        <p:spPr>
          <a:xfrm>
            <a:off x="0" y="1701720"/>
            <a:ext cx="9144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28676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или авгиевы конюшн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http://img1.liveinternet.ru/images/attach/c/4/78/672/78672605_7_1.jpg"/>
          <p:cNvPicPr/>
          <p:nvPr/>
        </p:nvPicPr>
        <p:blipFill>
          <a:blip r:embed="rId2"/>
          <a:srcRect l="0" t="0" r="0" b="6135"/>
          <a:stretch/>
        </p:blipFill>
        <p:spPr>
          <a:xfrm>
            <a:off x="0" y="2448000"/>
            <a:ext cx="913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7151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Новый подвиг Геракл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0" y="253044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original_mirror"/>
          <p:cNvPicPr/>
          <p:nvPr/>
        </p:nvPicPr>
        <p:blipFill>
          <a:blip r:embed="rId2"/>
          <a:stretch/>
        </p:blipFill>
        <p:spPr>
          <a:xfrm>
            <a:off x="7451640" y="18900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ндивидуальные 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8360" y="1125360"/>
          <a:ext cx="8064360" cy="4237200"/>
        </p:xfrm>
        <a:graphic>
          <a:graphicData uri="http://schemas.openxmlformats.org/drawingml/2006/table">
            <a:tbl>
              <a:tblPr/>
              <a:tblGrid>
                <a:gridCol w="2808360"/>
                <a:gridCol w="5256000"/>
              </a:tblGrid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Но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тстаивающий предлагаемые инновационные идеи - реш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подвижни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новатору; проникшись идеей новатора, помогает защитить эту идею новатор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Консер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провергающий или подвергающий критике предлагаемые идеи - решения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омневающийс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консерватору, осторожно, с опаской относится ко всему новому, обозначает ри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611280" y="1689120"/>
            <a:ext cx="778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группа экспертов - продемонстрировала матрицу усп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группа экспертов - высказала свое мнение: действительно произошел ли переход начальной школы на ФГОС или пока формально, имитацио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группа  -озвучила проблемы и перспективы развития начально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690920" y="69228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ступление экспер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Object 2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4087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642960" y="511560"/>
            <a:ext cx="77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Доводы, до которых человек додумывается сам, обычно, убеждают его больше, нежели те, которые пришли в голову други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Б. Паска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571680" y="329292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Если Вы хотите иметь то, чего никогда не имели, надо сделать то, чего вы никогда не дела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3" descr=""/>
          <p:cNvPicPr/>
          <p:nvPr/>
        </p:nvPicPr>
        <p:blipFill>
          <a:blip r:embed="rId2"/>
          <a:stretch/>
        </p:blipFill>
        <p:spPr>
          <a:xfrm>
            <a:off x="212760" y="2225520"/>
            <a:ext cx="87184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755640" y="620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900000" y="795600"/>
            <a:ext cx="73440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г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форма деятельности в условных ситуациях, направле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оссоздание и усвоение общественного опыта, зафиксированного в социально закрепленных способах осуществления предметных действий, в предметах культуры и на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сихологический словар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55640" y="170028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форма деятельности людей, имитирующая те или иные практические ситуации, одно из средств активизации учебного процесса в системе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6"/>
          <p:cNvSpPr/>
          <p:nvPr/>
        </p:nvSpPr>
        <p:spPr>
          <a:xfrm>
            <a:off x="234000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еловая игр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619280" y="571680"/>
            <a:ext cx="5616720" cy="847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ловия для совмес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633680" y="1643040"/>
            <a:ext cx="5616360" cy="723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ближен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гровых условий к ре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692360" y="2571840"/>
            <a:ext cx="554364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ние целостного представления о проб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1714680" y="3571920"/>
            <a:ext cx="554328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билизация опыта,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1714680" y="4538520"/>
            <a:ext cx="5543280" cy="752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ворческая активность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371600" y="2276640"/>
            <a:ext cx="6153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Выноска со стрелкой вниз 4"/>
          <p:cNvSpPr/>
          <p:nvPr/>
        </p:nvSpPr>
        <p:spPr>
          <a:xfrm>
            <a:off x="1857240" y="2000160"/>
            <a:ext cx="5500800" cy="1500120"/>
          </a:xfrm>
          <a:prstGeom prst="downArrowCallout">
            <a:avLst>
              <a:gd name="adj1" fmla="val 24992"/>
              <a:gd name="adj2" fmla="val 25006"/>
              <a:gd name="adj3" fmla="val 25000"/>
              <a:gd name="adj4" fmla="val 6497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комплексных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3203640" y="3570120"/>
            <a:ext cx="26542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муника-тив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6"/>
          <p:cNvSpPr/>
          <p:nvPr/>
        </p:nvSpPr>
        <p:spPr>
          <a:xfrm>
            <a:off x="5908680" y="3570120"/>
            <a:ext cx="25210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ности-ческ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7"/>
          <p:cNvSpPr/>
          <p:nvPr/>
        </p:nvSpPr>
        <p:spPr>
          <a:xfrm>
            <a:off x="500040" y="3570120"/>
            <a:ext cx="264312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0"/>
          <p:cNvSpPr/>
          <p:nvPr/>
        </p:nvSpPr>
        <p:spPr>
          <a:xfrm>
            <a:off x="826920" y="620640"/>
            <a:ext cx="7274160" cy="12956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«Дай человеку рыбу, и он будет сытым один день. Научи человека ловить рыбу, и он будет сытым всю жизнь» (Восточная муд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Скругленный прямоугольник 6"/>
          <p:cNvSpPr/>
          <p:nvPr/>
        </p:nvSpPr>
        <p:spPr>
          <a:xfrm>
            <a:off x="75564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локвиу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1156098-hercules.jpg"/>
          <p:cNvPicPr/>
          <p:nvPr/>
        </p:nvPicPr>
        <p:blipFill>
          <a:blip r:embed="rId2"/>
          <a:stretch/>
        </p:blipFill>
        <p:spPr>
          <a:xfrm>
            <a:off x="6000840" y="500040"/>
            <a:ext cx="2860560" cy="4824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428760" y="1700280"/>
            <a:ext cx="6000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«Завтра начинается сегодня, или остановка по требова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Деловая игра «Герак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ercules_KH.png"/>
          <p:cNvPicPr/>
          <p:nvPr/>
        </p:nvPicPr>
        <p:blipFill>
          <a:blip r:embed="rId2"/>
          <a:stretch/>
        </p:blipFill>
        <p:spPr>
          <a:xfrm>
            <a:off x="5586480" y="2205000"/>
            <a:ext cx="3557520" cy="4653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просы для  обсужде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0920" y="907560"/>
            <a:ext cx="698508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ие подвиги мы уже совершили, в чем прорвались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Чем можем гордиться?  А какие подвиги нам еще предстоит совершит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овы наши перспективы? Что нас ждет в будущем?</a:t>
            </a: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А действительно ли произошел  переход на стандарты или пока формально, имитационно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678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Этапы проведения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гры «Герак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5280" y="1916280"/>
            <a:ext cx="838836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хождение в игровую ситу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обственно иг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ыход из игровой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index"/>
          <p:cNvPicPr/>
          <p:nvPr/>
        </p:nvPicPr>
        <p:blipFill>
          <a:blip r:embed="rId2"/>
          <a:stretch/>
        </p:blipFill>
        <p:spPr>
          <a:xfrm>
            <a:off x="6848640" y="3500280"/>
            <a:ext cx="146664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1239353216_1195400938_0lik.ru_hercules_35.jpg"/>
          <p:cNvPicPr/>
          <p:nvPr/>
        </p:nvPicPr>
        <p:blipFill>
          <a:blip r:embed="rId2"/>
          <a:stretch/>
        </p:blipFill>
        <p:spPr>
          <a:xfrm>
            <a:off x="6227640" y="1844640"/>
            <a:ext cx="2048040" cy="3076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114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00000" y="1125360"/>
            <a:ext cx="6120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теоретики-анали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диагносты-прак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администраторы- управленц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визуалисты - импровизатор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эксперт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09:34:19Z</dcterms:created>
  <dc:creator>Acer</dc:creator>
  <dc:description/>
  <dc:language>en-US</dc:language>
  <cp:lastModifiedBy>victor</cp:lastModifiedBy>
  <dcterms:modified xsi:type="dcterms:W3CDTF">2018-10-27T12:33:56Z</dcterms:modified>
  <cp:revision>93</cp:revision>
  <dc:subject/>
  <dc:title>Слайд 1</dc:title>
</cp:coreProperties>
</file>