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BCB6-BD67-45E4-920E-339B6A5B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A710-8B1B-4FBE-8098-EBF54DA0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277F-9B50-45C1-9D2C-EADE8036C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8821-C082-405E-B42C-09A3D567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9639-D3A8-45F0-B955-E05EB432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B5D5-3326-402E-AA76-4A3A1F72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8FA6-B5A4-4B33-A2F0-2AA89D08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6D86-B3F7-4112-8412-04ECE53E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1F26-686E-49DB-8C49-1D1E47F9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44C7-4F47-4697-BEC2-95A97F84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1CFA-9D7C-478D-8F06-82D96109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820C-70F6-400E-8A8B-D459579F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69BC-3FBB-445E-A16C-438F8AAE93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611280" y="620640"/>
            <a:ext cx="777708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Истина должна быть пережита, а не препода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Чжуан-цзы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«В игровом мироощущении присутствует ис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более глубокая, чем в рассудочном взгляде на ми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. Эйнштейн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ЛОВАЯ ИГРА  КАК  ЭФФЕКТИВНАЯ ФОРМА ФОРМИРОВАНИЯ И ОТСЛЕЖИВАНИЯ ПРОФЕССИОНАЛЬНОЙ КОМПЕТЕНТНОСТИ ПЕДАГОГ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Фиалкина Татьяна Виктор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МБУ ЦРО г.Чай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560" y="44280"/>
            <a:ext cx="7572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Геркулесов труд, подвиг  или матрица успех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2"/>
          <a:srcRect l="0" t="5289" r="0" b="4154"/>
          <a:stretch/>
        </p:blipFill>
        <p:spPr>
          <a:xfrm>
            <a:off x="0" y="1701720"/>
            <a:ext cx="914400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2560" y="549360"/>
            <a:ext cx="728676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Геркулесов труд, или авгиевы конюшн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http://img1.liveinternet.ru/images/attach/c/4/78/672/78672605_7_1.jpg"/>
          <p:cNvPicPr/>
          <p:nvPr/>
        </p:nvPicPr>
        <p:blipFill>
          <a:blip r:embed="rId2"/>
          <a:srcRect l="0" t="0" r="0" b="6135"/>
          <a:stretch/>
        </p:blipFill>
        <p:spPr>
          <a:xfrm>
            <a:off x="0" y="2448000"/>
            <a:ext cx="913464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77151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ookman Old Style"/>
              </a:rPr>
              <a:t>«Новый подвиг Геракл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0" y="2530440"/>
            <a:ext cx="914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original_mirror"/>
          <p:cNvPicPr/>
          <p:nvPr/>
        </p:nvPicPr>
        <p:blipFill>
          <a:blip r:embed="rId2"/>
          <a:stretch/>
        </p:blipFill>
        <p:spPr>
          <a:xfrm>
            <a:off x="7451640" y="189000"/>
            <a:ext cx="1170000" cy="877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87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Индивидуальные ро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68360" y="1125360"/>
          <a:ext cx="8064360" cy="4237200"/>
        </p:xfrm>
        <a:graphic>
          <a:graphicData uri="http://schemas.openxmlformats.org/drawingml/2006/table">
            <a:tbl>
              <a:tblPr/>
              <a:tblGrid>
                <a:gridCol w="2808360"/>
                <a:gridCol w="5256000"/>
              </a:tblGrid>
              <a:tr h="101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«Новатор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отстаивающий предлагаемые инновационные идеи - реш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Сподвижни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путствующий новатору; проникшись идеей новатора, помогает защитить эту идею новатору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«Консерватор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ff"/>
                          </a:solidFill>
                          <a:latin typeface="Bookman Old Style"/>
                        </a:rPr>
                        <a:t>опровергающий или подвергающий критике предлагаемые идеи - решения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«Сомневающийс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опутствующий консерватору, осторожно, с опаской относится ко всему новому, обозначает рис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611280" y="1689120"/>
            <a:ext cx="7786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группа экспертов - продемонстрировала матрицу успе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группа экспертов - высказала свое мнение: действительно произошел ли переход начальной школы на ФГОС или пока формально, имитацио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группа  -озвучила проблемы и перспективы развития начально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690920" y="692280"/>
            <a:ext cx="52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ступление эксперт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Object 2" descr=""/>
          <p:cNvPicPr/>
          <p:nvPr/>
        </p:nvPicPr>
        <p:blipFill>
          <a:blip r:embed="rId2"/>
          <a:stretch/>
        </p:blipFill>
        <p:spPr>
          <a:xfrm>
            <a:off x="1403280" y="549360"/>
            <a:ext cx="64087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"/>
          <p:cNvSpPr/>
          <p:nvPr/>
        </p:nvSpPr>
        <p:spPr>
          <a:xfrm>
            <a:off x="642960" y="511560"/>
            <a:ext cx="7786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Доводы, до которых человек додумывается сам, обычно, убеждают его больше, нежели те, которые пришли в голову другим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(Б. Паска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571680" y="329292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«Если Вы хотите иметь то, чего никогда не имели, надо сделать то, чего вы никогда не делал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Прямоугольник 3" descr=""/>
          <p:cNvPicPr/>
          <p:nvPr/>
        </p:nvPicPr>
        <p:blipFill>
          <a:blip r:embed="rId2"/>
          <a:stretch/>
        </p:blipFill>
        <p:spPr>
          <a:xfrm>
            <a:off x="212760" y="2225520"/>
            <a:ext cx="871848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755640" y="62064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7"/>
          <p:cNvSpPr/>
          <p:nvPr/>
        </p:nvSpPr>
        <p:spPr>
          <a:xfrm>
            <a:off x="900000" y="795600"/>
            <a:ext cx="73440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г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форма деятельности в условных ситуациях, направлен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воссоздание и усвоение общественного опыта, зафиксированного в социально закрепленных способах осуществления предметных действий, в предметах культуры и нау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сихологический словарь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755640" y="170028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это форма деятельности людей, имитирующая те или иные практические ситуации, одно из средств активизации учебного процесса в системе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6"/>
          <p:cNvSpPr/>
          <p:nvPr/>
        </p:nvSpPr>
        <p:spPr>
          <a:xfrm>
            <a:off x="2340000" y="620640"/>
            <a:ext cx="4392720" cy="720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еловая игра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1619280" y="571680"/>
            <a:ext cx="5616720" cy="847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словия для совмест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1633680" y="1643040"/>
            <a:ext cx="5616360" cy="7239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ближен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игровых условий к ре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1692360" y="2571840"/>
            <a:ext cx="5543640" cy="752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здание целостного представления о пробл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1714680" y="3571920"/>
            <a:ext cx="5543280" cy="7524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билизация опыта, компетен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9"/>
          <p:cNvSpPr/>
          <p:nvPr/>
        </p:nvSpPr>
        <p:spPr>
          <a:xfrm>
            <a:off x="1714680" y="4538520"/>
            <a:ext cx="5543280" cy="752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ворческая активность субъ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371600" y="2276640"/>
            <a:ext cx="61531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Выноска со стрелкой вниз 4"/>
          <p:cNvSpPr/>
          <p:nvPr/>
        </p:nvSpPr>
        <p:spPr>
          <a:xfrm>
            <a:off x="1857240" y="2000160"/>
            <a:ext cx="5500800" cy="1500120"/>
          </a:xfrm>
          <a:prstGeom prst="downArrowCallout">
            <a:avLst>
              <a:gd name="adj1" fmla="val 24992"/>
              <a:gd name="adj2" fmla="val 25006"/>
              <a:gd name="adj3" fmla="val 25000"/>
              <a:gd name="adj4" fmla="val 6497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 комплексных зада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5"/>
          <p:cNvSpPr/>
          <p:nvPr/>
        </p:nvSpPr>
        <p:spPr>
          <a:xfrm>
            <a:off x="3203640" y="3570120"/>
            <a:ext cx="265428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муника-тивн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6"/>
          <p:cNvSpPr/>
          <p:nvPr/>
        </p:nvSpPr>
        <p:spPr>
          <a:xfrm>
            <a:off x="5908680" y="3570120"/>
            <a:ext cx="252108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агности-чески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7"/>
          <p:cNvSpPr/>
          <p:nvPr/>
        </p:nvSpPr>
        <p:spPr>
          <a:xfrm>
            <a:off x="500040" y="3570120"/>
            <a:ext cx="2643120" cy="1144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ова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ль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0"/>
          <p:cNvSpPr/>
          <p:nvPr/>
        </p:nvSpPr>
        <p:spPr>
          <a:xfrm>
            <a:off x="826920" y="620640"/>
            <a:ext cx="7274160" cy="129564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«Дай человеку рыбу, и он будет сытым один день. Научи человека ловить рыбу, и он будет сытым всю жизнь» (Восточная мудр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14240" y="428400"/>
            <a:ext cx="77803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6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Скругленный прямоугольник 6"/>
          <p:cNvSpPr/>
          <p:nvPr/>
        </p:nvSpPr>
        <p:spPr>
          <a:xfrm>
            <a:off x="755640" y="620640"/>
            <a:ext cx="4392720" cy="720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оллоквиум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1156098-hercules.jpg"/>
          <p:cNvPicPr/>
          <p:nvPr/>
        </p:nvPicPr>
        <p:blipFill>
          <a:blip r:embed="rId2"/>
          <a:stretch/>
        </p:blipFill>
        <p:spPr>
          <a:xfrm>
            <a:off x="6000840" y="500040"/>
            <a:ext cx="2860560" cy="4824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428760" y="1700280"/>
            <a:ext cx="600048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«Завтра начинается сегодня, или остановка по требовани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Деловая игра «Герак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ercules_KH.png"/>
          <p:cNvPicPr/>
          <p:nvPr/>
        </p:nvPicPr>
        <p:blipFill>
          <a:blip r:embed="rId2"/>
          <a:stretch/>
        </p:blipFill>
        <p:spPr>
          <a:xfrm>
            <a:off x="5586480" y="2205000"/>
            <a:ext cx="3557520" cy="4653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опросы для  обсуждения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10920" y="907560"/>
            <a:ext cx="698508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Какие подвиги мы уже совершили, в чем прорвались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Чем можем гордиться?  А какие подвиги нам еще предстоит совершить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Каковы наши перспективы? Что нас ждет в будущем?</a:t>
            </a:r>
            <a:r>
              <a:rPr b="1" lang="ru-RU" sz="26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alibri"/>
              </a:rPr>
              <a:t>А действительно ли произошел  переход на стандарты или пока формально, имитационно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678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Этапы проведения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игры «Герак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55280" y="1916280"/>
            <a:ext cx="838836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хождение в игровую ситуац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Собственно иг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man Old Style"/>
              </a:rPr>
              <a:t>Выход из игровой ситу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index"/>
          <p:cNvPicPr/>
          <p:nvPr/>
        </p:nvPicPr>
        <p:blipFill>
          <a:blip r:embed="rId2"/>
          <a:stretch/>
        </p:blipFill>
        <p:spPr>
          <a:xfrm>
            <a:off x="6848640" y="3500280"/>
            <a:ext cx="146664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Acer\Desktop\мамины документы\фоны презентации\ramka-photoshop-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1239353216_1195400938_0lik.ru_hercules_35.jpg"/>
          <p:cNvPicPr/>
          <p:nvPr/>
        </p:nvPicPr>
        <p:blipFill>
          <a:blip r:embed="rId2"/>
          <a:stretch/>
        </p:blipFill>
        <p:spPr>
          <a:xfrm>
            <a:off x="6227640" y="1844640"/>
            <a:ext cx="2048040" cy="3076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1149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Bookman Old Style"/>
              </a:rPr>
              <a:t>Ро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00000" y="1125360"/>
            <a:ext cx="6120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теоретики-аналитик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диагносты-практик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администраторы- управленц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визуалисты - импровизатор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Bookman Old Style"/>
              </a:rPr>
              <a:t>«эксперт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09:34:19Z</dcterms:created>
  <dc:creator>Acer</dc:creator>
  <dc:description/>
  <dc:language>en-US</dc:language>
  <cp:lastModifiedBy>victor</cp:lastModifiedBy>
  <dcterms:modified xsi:type="dcterms:W3CDTF">2018-10-27T12:33:56Z</dcterms:modified>
  <cp:revision>93</cp:revision>
  <dc:subject/>
  <dc:title>Слайд 1</dc:title>
</cp:coreProperties>
</file>