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219A-8A2E-424C-AA91-36A43A703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CA08-0A39-4B32-8F85-2A3330F07F0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85AD-CA44-4DEB-93DF-5CC04D4A62E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D11A-9893-425F-9D19-6B492DBAFD8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04D0-15FF-4BFD-B852-EB1B9D9611A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46530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1403"/>
                </a:solidFill>
                <a:latin typeface="Microsoft Sans Serif"/>
              </a:rPr>
              <a:t>Family Budget and Pocket Money for Teenagers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MAEI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 «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SCS No.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65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 with profound studies of the English language, Perm City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1403"/>
                </a:solidFill>
                <a:latin typeface="Microsoft Sans Serif"/>
              </a:rPr>
              <a:t>Answer the question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137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1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ere do teenagers get their pocket money from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2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do teenagers spend their pocket money on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3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are pros and cons of pocket money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Microsoft Sans Serif"/>
              </a:rPr>
              <a:t>Options of Family Budgets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1916280"/>
            <a:ext cx="7286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Option 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1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resort package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 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2</a:t>
            </a: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-  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 000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1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– 3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new fridge – 20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400" y="1412640"/>
            <a:ext cx="871524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 3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Expenses on food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3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chool lunches – 1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two children (tea and a bun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or school thing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ocket money for children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 per two children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entertainments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(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oing to the cinema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,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 a pizza restaurant or children caf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) – 4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aving for a holida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tuations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24382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А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 and Father are planning expenditures for a month and their child insists on buying him an expensive phone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B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wo teenagers share a room in a hostel and they are distributing a certain amount of money for a week. What do they have to take into account to do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C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A family of three people has got a large amount of money (lottery, heritage).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How to manage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What do you think of the ways a family can decrease their expenditures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177300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e rules of managing money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5" name="Picture 2" descr="https://armblog.am/wp-content/uploads/2017/12/koshelek.jpg"/>
          <p:cNvPicPr/>
          <p:nvPr/>
        </p:nvPicPr>
        <p:blipFill>
          <a:blip r:embed="rId1"/>
          <a:stretch/>
        </p:blipFill>
        <p:spPr>
          <a:xfrm>
            <a:off x="1547640" y="3068640"/>
            <a:ext cx="5592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1403"/>
                </a:solidFill>
                <a:latin typeface="Microsoft Sans Serif"/>
              </a:rPr>
              <a:t>Do you understand now what  a family budget consist of?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8" name="Picture 5" descr="https://sliveninfo.bg/wp-content/uploads/2018/01/Strelbi-Batmish-3800x3816_c.png"/>
          <p:cNvPicPr/>
          <p:nvPr/>
        </p:nvPicPr>
        <p:blipFill>
          <a:blip r:embed="rId2"/>
          <a:stretch/>
        </p:blipFill>
        <p:spPr>
          <a:xfrm>
            <a:off x="3348000" y="2205000"/>
            <a:ext cx="349092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3T04:59:21Z</dcterms:created>
  <dc:creator>User</dc:creator>
  <dc:description/>
  <dc:language>en-US</dc:language>
  <cp:lastModifiedBy>1</cp:lastModifiedBy>
  <dcterms:modified xsi:type="dcterms:W3CDTF">2019-03-10T06:26:52Z</dcterms:modified>
  <cp:revision>39</cp:revision>
  <dc:subject/>
  <dc:title>Семейный бюджет и карманные деньги подростка</dc:title>
</cp:coreProperties>
</file>