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12A7-862D-4290-AD34-BBD02D5E7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79D4-D929-4274-AA7B-FE2A4D3EEC4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19AB-CAFC-4B9E-94A9-978FE910710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6DA9-D9D9-463F-854E-8FF09F1DACA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1A87-9972-4FE2-ACAF-B049148E0EC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465300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1403"/>
                </a:solidFill>
                <a:latin typeface="Microsoft Sans Serif"/>
              </a:rPr>
              <a:t>Family Budget and Pocket Money for Teenagers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880" y="5714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MAEI</a:t>
            </a:r>
            <a:r>
              <a:rPr b="0" lang="ru-RU" sz="1600" spc="-1" strike="noStrike">
                <a:solidFill>
                  <a:srgbClr val="3a1002"/>
                </a:solidFill>
                <a:latin typeface="Microsoft Sans Serif"/>
              </a:rPr>
              <a:t> «</a:t>
            </a: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SCS No.</a:t>
            </a:r>
            <a:r>
              <a:rPr b="0" lang="ru-RU" sz="1600" spc="-1" strike="noStrike">
                <a:solidFill>
                  <a:srgbClr val="3a1002"/>
                </a:solidFill>
                <a:latin typeface="Microsoft Sans Serif"/>
              </a:rPr>
              <a:t>65</a:t>
            </a: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 with profound studies of the English language, Perm City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1628280"/>
            <a:ext cx="7086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91403"/>
                </a:solidFill>
                <a:latin typeface="Microsoft Sans Serif"/>
              </a:rPr>
              <a:t>Answer the questions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8137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1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ere do teenagers get their pocket money from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2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at do teenagers spend their pocket money on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3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at are pros and cons of pocket money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Microsoft Sans Serif"/>
              </a:rPr>
              <a:t>Options of Family Budgets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9720" y="1916280"/>
            <a:ext cx="72867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Option 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1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ther’s salary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4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Expenditures on food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School lunches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 per two children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a resort package for grandfather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Unexpected expenditur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9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24000" y="1557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Option 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2</a:t>
            </a: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ther’s salary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-  4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 000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Expenditures on food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1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School lunches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 per two children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medicines for grandfather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stationary things and school things – 3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a new fridge – 20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28400" y="1412640"/>
            <a:ext cx="8715240" cy="58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Option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 3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ther’s salary –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4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4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Expenses on food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3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School lunches – 1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two children (tea and a bun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medicines for grandfather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Unexpected expenditur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9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stationary things and school things or school thing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ocket money for children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month per two children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mily entertainments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(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going to the cinema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,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o a pizza restaurant or children cafe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) – 4000 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month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Saving for a holiday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29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ituations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000" y="243828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А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 and Father are planning expenditures for a month and their child insists on buying him an expensive phone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B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wo teenagers share a room in a hostel and they are distributing a certain amount of money for a week. What do they have to take into account to do it properly?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C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A family of three people has got a large amount of money (lottery, heritage).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How to manage it properly?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What do you think of the ways a family can decrease their expenditures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42920" y="177300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e rules of managing money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5" name="Picture 2" descr="https://armblog.am/wp-content/uploads/2017/12/koshelek.jpg"/>
          <p:cNvPicPr/>
          <p:nvPr/>
        </p:nvPicPr>
        <p:blipFill>
          <a:blip r:embed="rId1"/>
          <a:stretch/>
        </p:blipFill>
        <p:spPr>
          <a:xfrm>
            <a:off x="1547640" y="3068640"/>
            <a:ext cx="55929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91403"/>
                </a:solidFill>
                <a:latin typeface="Microsoft Sans Serif"/>
              </a:rPr>
              <a:t>Do you understand now what  a family budget consist of?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81080" y="190476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8" name="Picture 5" descr="https://sliveninfo.bg/wp-content/uploads/2018/01/Strelbi-Batmish-3800x3816_c.png"/>
          <p:cNvPicPr/>
          <p:nvPr/>
        </p:nvPicPr>
        <p:blipFill>
          <a:blip r:embed="rId2"/>
          <a:stretch/>
        </p:blipFill>
        <p:spPr>
          <a:xfrm>
            <a:off x="3348000" y="2205000"/>
            <a:ext cx="349092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3T04:59:21Z</dcterms:created>
  <dc:creator>User</dc:creator>
  <dc:description/>
  <dc:language>en-US</dc:language>
  <cp:lastModifiedBy>1</cp:lastModifiedBy>
  <dcterms:modified xsi:type="dcterms:W3CDTF">2019-03-10T06:26:52Z</dcterms:modified>
  <cp:revision>39</cp:revision>
  <dc:subject/>
  <dc:title>Семейный бюджет и карманные деньги подростка</dc:title>
</cp:coreProperties>
</file>