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96D2-C11A-4607-98BB-6C878C004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9C04-B917-41A0-89B9-259CA13D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B728-5152-4CEC-A05E-E780844A0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6497-AA7F-4B23-A5F6-09C6A1B97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0BAD-E795-4CD3-AB0E-4892DDB63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C745-79C2-40F6-8D88-FD447AFD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DB8E-1EB0-4023-9C58-E4F9BC28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E14F-4F34-4B16-9E6B-84CF21A1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B382-52C8-4788-92C5-4D8558AE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D4A4-08A0-497F-A98A-28480A9E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A65B-6006-4E31-A3D7-81195386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50D8-0C9F-4924-8C23-CA3B2545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DDF4-7563-4598-9274-786A23C0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3091-88A9-4E66-B75A-17C739FE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55F1-F245-47A0-883F-B96AF192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B878-C283-4110-80B9-E522ACE74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E4B6-45C1-472F-8753-554626883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8B5E2-A36F-48B7-AFA6-0A2C9E66E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4C21E-BD97-43C4-A04D-6830061E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7E378-5039-4244-BFDC-F03253B9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3C49B-FAC0-4168-91E1-08B74685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8DF73-A7D1-4D8A-927D-2987B7BF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4F06-07BC-4386-9F21-44903F25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60F23-9780-48E3-8C28-99CC3784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8239E-7285-4947-995B-EEDB02A5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2616A-8FA8-4302-AA3F-A9766CF9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E6504-6EA5-4FA9-9EBB-C1505535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329C4-C6D9-440C-9BFD-49CD0546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65DBC-544A-4701-AF3D-EFBD0E44A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E4DB5-F3E5-4CFD-A0F3-BC08E6A3B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45211-A1C7-4B1D-B860-F29613F5F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0C28B-5099-41D4-80FB-767D1DFF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2193C-2643-4F5C-8419-55697604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E260-794F-42AA-9F1C-9D3DAE7D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9FC0B-7D5C-48A7-8FEE-1CFEDECC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A0282-4CB2-4CC5-99D5-F67EC15A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542CB-C409-4AC1-B436-C6E19F1F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90B67-9D64-4640-8947-F6DD7B79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EF099-622C-4BCC-878A-8E44D9DE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48E57-0614-4450-A0D9-F2FA04E6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9E0CA-7A55-40EE-9F8C-4A8FF03B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82D1F-023F-4EA0-A16C-1B969CC4B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BF50A-8616-4DEC-91FC-F084B6519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FE217-41F0-470E-927D-396419970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64B0-8281-4C11-86C2-0451ADA2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E7562-7EFC-4A28-8A71-F2F7BB09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C1D84-5C5E-487A-A376-F3BDE3A6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E905F-06FF-4B27-8E82-5A8EF200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ADD5B-2CA3-477E-B27C-BBAC4759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A03EA-FF93-4A65-8A83-5D7535EF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42412-680E-48EA-87B4-6443A72D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EEAF6-23F6-44E4-80ED-A02B3C76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C0E4D-D320-43A4-95F4-20E754E4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49577-2C7C-492B-90DB-F5610224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BF3B9-01E1-4B52-A043-F2C17E6F5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170E-7464-4535-BD5B-B6C281C7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455F0-5DA9-4B25-97EB-5322B1633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1F0F8-53C5-4FCA-BD9C-F25D4A2A8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68D2B-3275-4AD0-BB51-79795AC6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2DBBD-C19E-47E8-9AF8-05CF5847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2067A-E75E-4B03-A791-80B94608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78A9F-A200-45C6-A750-C73657D4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02918-261C-4E04-A2AE-7719A063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AC4F8-A6B9-4A43-BEBD-31B61F60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7801E-8A3C-47CD-9545-9FC5BA8C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76A94-5F3D-4FE8-B319-E56EBD7F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7117-529A-4497-848A-E8BB4DBA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75351-EB91-4175-8ABA-F51F9518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60614-5B93-4B3B-80E6-82AC5AFC9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A4A1E-FFFF-4E27-88E1-4B89E7A7F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15EC0-B4FD-4C58-95F6-D2B54AE0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6290A-7441-4F3E-BBA4-D4281A9E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8C199-A7D7-4D38-85AC-77A36AAF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9A4E8-5B62-4773-AA4E-3DBBC5A8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A226C-1988-489F-9C29-F805EB36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48FF0-6945-4B02-B396-B746E9D9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50A1B-FBB4-4A03-BCB3-1899AD27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859A-3EC3-483B-B668-39A55634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2A598-965C-436B-AF56-509B6111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BF615-D53D-4B69-B482-0B15E785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2C8A1-CFCF-4280-B8D7-95E0CBD9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09A22-610B-4CAB-ADD0-8C5B96220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0BCCB-F437-426C-B80C-C79BE984E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B691E-CE3F-40E2-90A6-15DCA90D6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AF4DE-FFF8-4AC6-8053-3D2CDA2A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EDA15-826B-4E64-8C89-D8EB913E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A24A2-0600-4699-8656-2C4DF0B2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4FDFB-7F1E-44D8-99CF-693C1970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4767-F6AC-4E69-B3B7-8A549481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80CC1-8C12-4994-A4A9-8A5C23EB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82C5D-65DD-42DF-91D8-28186340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EA86B-4614-46F2-B7D6-7FAA8D50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F5FD5-ED11-41CD-B5AE-FB259256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46999-09D8-4DD8-A3C2-C4EE500B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DBC23-202C-4E7D-84FA-FA3DD922E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F0ECB-AA15-4225-8202-D3B50157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2AED-5355-4E95-A486-28BF87B4CA9F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E390-C988-4FE4-998E-37E42F6075E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A6C0-7514-4B31-9064-0427CBFF922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4A2E-9326-4BD1-836C-AD2F4FFC11E4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D97D-7CE2-4F59-8210-81ED057051DE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5A02-CCE6-4737-89DD-C2DC2B32B963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37B8-B753-4828-94BB-FC92696904AA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98C0-1726-449B-8DCE-F26683908590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Заголовок 4" descr=""/>
          <p:cNvPicPr/>
          <p:nvPr/>
        </p:nvPicPr>
        <p:blipFill>
          <a:blip r:embed="rId1"/>
          <a:stretch/>
        </p:blipFill>
        <p:spPr>
          <a:xfrm>
            <a:off x="298440" y="512640"/>
            <a:ext cx="8516880" cy="38466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85440" y="5181480"/>
            <a:ext cx="8077320" cy="15004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d4d4d6"/>
                </a:solidFill>
                <a:latin typeface="Times New Roman"/>
              </a:rPr>
              <a:t> 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 рамках секции учителей физики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«Формы и методы работы учителя по повышению образовательных результатов по учебному предмету»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990360" y="1600200"/>
            <a:ext cx="7692840" cy="49528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Оценка уровня квалификации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Предметны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Методически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Психолого-педагогически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 Коммуникативны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0 балл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!!!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ттестация на Едином национальном портал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1"/>
          <a:stretch/>
        </p:blipFill>
        <p:spPr>
          <a:xfrm>
            <a:off x="317520" y="152280"/>
            <a:ext cx="8375760" cy="12621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914040" y="1827360"/>
            <a:ext cx="7769160" cy="4573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Сведения 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ложности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условий профессиональной деятельност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Сведения 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инамике образовательных результат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оответствующих обучающихся за последние 5 лет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Сведения об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ндивидуальных достижениях учител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включа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чет мнения обучающихся и выпускник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кончивших организацию не ранее, чем за 4 года до аттестации учителя (мнение выпускников на сайте путем заполнения опросного листа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0 балл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1365120" y="291960"/>
            <a:ext cx="732168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3" name=""/>
          <p:cNvGraphicFramePr/>
          <p:nvPr/>
        </p:nvGraphicFramePr>
        <p:xfrm>
          <a:off x="914400" y="1523880"/>
          <a:ext cx="8001000" cy="5015160"/>
        </p:xfrm>
        <a:graphic>
          <a:graphicData uri="http://schemas.openxmlformats.org/drawingml/2006/table">
            <a:tbl>
              <a:tblPr/>
              <a:tblGrid>
                <a:gridCol w="4002120"/>
                <a:gridCol w="399888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квалификации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результатов профессиональ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динамики образовательных результатов обучаю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ж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эффициент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 1,00 до 1,2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видуальные достижения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не более 2-х по 5 балл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баллов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 5+5, + 5 – мнение выпускник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!!! Единый федеральный минимум баллов 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енее 50% от минимального количества бал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Rectangle 2" descr=""/>
          <p:cNvPicPr/>
          <p:nvPr/>
        </p:nvPicPr>
        <p:blipFill>
          <a:blip r:embed="rId1"/>
          <a:stretch/>
        </p:blipFill>
        <p:spPr>
          <a:xfrm>
            <a:off x="317520" y="152280"/>
            <a:ext cx="8375760" cy="12621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914040" y="15238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должен быть ознакомлен о сроках аттестаци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е позднее, чем за 30 дн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о начала аттестационных процедур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тификат выдаётся н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5 л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ет дан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аключение с рекомендация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 совершенствованию профессиональной квалификации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ве формулировк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установи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высшую) квалификационную категори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азать в установлен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высшей) квалификационной категории (Протокол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ттестация не ранее, чем через 2 го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позднее, чем через 3 года (обязательная заявительная после 1 года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ные о прохождении аттестации сохраняются в Едином национальном портал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Заголовок 3" descr=""/>
          <p:cNvPicPr/>
          <p:nvPr/>
        </p:nvPicPr>
        <p:blipFill>
          <a:blip r:embed="rId1"/>
          <a:stretch/>
        </p:blipFill>
        <p:spPr>
          <a:xfrm>
            <a:off x="298440" y="2724120"/>
            <a:ext cx="8474040" cy="192708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Jakovleva-NG</cp:lastModifiedBy>
  <dcterms:modified xsi:type="dcterms:W3CDTF">2018-11-07T07:28:55Z</dcterms:modified>
  <cp:revision>2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