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4DC84-0025-4499-8142-9144C0031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D8CAE-0C79-4BEB-832B-CCBF78B71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70A6F-9567-4D2E-BB0A-2FC2457FA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5F03A-3BC4-4DCA-8FCF-04E457C3E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8DF67-4727-4384-BD7F-9563889D1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04781-1E5A-4D64-8376-7B4E3C875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CC998-4B22-46A1-A872-156FB4EE2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75611-E9FE-4CAA-83DF-E9AD9C25F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B1287-1B26-4CF1-B148-AC5D08B5F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7D22C-67E8-49D9-A71F-0C5275303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6C0E0-8EFE-4B66-9980-A63EA0C0C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91818-5ACA-49FC-BC12-28061F9A9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D2623-8028-4A50-8FBD-DCFB0568B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767FE-3A62-464B-8CAB-A8590635F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26899-ADB5-483D-BBEB-676EC6F87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A296C-6CD6-4E7F-BF8C-CBF5FAEC7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4CFD2-B82B-450C-AC25-1D63FB6A2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3B4077-A638-43E1-B3D9-4E35687EA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107997-0A20-4C79-ADDA-53A937E65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FEF03E-46E4-46F5-A1BD-E335BA6E3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FAC600-F189-48B9-8364-3A531F5F1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E30585-2CA5-409A-96C7-56275CF2D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17F79-893A-4C71-9CE6-DD5C29A8A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65293E-CA2B-4D20-9D5D-B2C213AB2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6672E2-4208-49AE-B244-687FA1591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399056-E023-4564-971F-2474DE709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1DCA5A-93AE-4F4E-BFEF-1741BEC78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39C991-8866-4809-A6D3-8670DA874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CD7683-AA5D-4F92-B208-83754667E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AAEB0B-283C-48E6-8E6D-F242B9C01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EF6DB0-D958-409D-9499-A7E6D5623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2B13EB-84BA-426F-95C3-69D6C48C5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0C3C59-BC44-434A-BDC7-41C3E5E01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0F574-C767-45A7-B589-B4FBD4897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8EE8BD-DA6A-48BB-92AA-9E6503A61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C889E7-2CBA-4137-8116-6ADD6FDCA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0286B5-DFAF-40E4-A118-F7C5F0FE8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34A352-4D76-451A-AF73-04F31F7F4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F5401D-674A-4C3C-BC18-49620FEAE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DAFF70-86A4-4152-974E-B57F46F15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53FBFA-95C9-4A65-B4F0-EFB8E354E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F44111-67CA-4461-B6D5-0329359BB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7D18B3-E32F-424A-B2F3-9011E805F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DB3894-6875-4286-A426-AC5DE57E6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B4310-BAFB-40E8-A8C7-0E8E074D9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8F1BB0-E1D4-4F42-87EE-322FFEE95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442385-85A0-4FF6-85DE-18A963FE1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9AF10B-CBAE-4EA6-A73D-38FB7D8FC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F78630-9C77-461C-ACF8-1A4EC3B99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72C0A8-E120-4F98-B576-00A1D5BBC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34457A-4286-4DAC-BD38-43484AB26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0B234E-08F1-4AD9-8298-8B299CA5F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8724C2-A7B7-4DFD-B4DB-90E9BA6A1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F73860-9D70-4892-853F-8E07D2AB8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A704B3-770A-4A4D-9009-429890E8C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70BEE-4816-4A50-8869-448FBFD70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58C3BF-DB31-4EA2-B951-D1B72AA7F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7C548E-9B13-499A-B557-E7ED34487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03FD96-1DF3-46CA-910B-77A55C7B1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C07D2A-3956-4FF0-B544-878548A35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F33304-7A6B-48DA-9433-78743643F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92F421-D1E2-4974-AA8F-CFF969529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4C9DED-4167-4FC2-9EDA-C002B11A5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BA356E-05EF-40FD-8ADB-EBF0E1545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A1CAD7-80F5-4DC3-9A08-F62BAF768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40346C-9F6E-4282-8EC6-693B43B21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4FEB8-AF86-4A6B-9475-C7D899F47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F16F09-AD97-41F8-8E73-AC689D753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ABD391-C451-4EE1-8509-A733C8EB6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E548AE-040D-4ABE-AD64-8FFE03EC6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EB081F-7491-4F98-8857-2D64FC36C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AB5421-759C-41D9-A1D2-839CF09CC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08EF90-97C3-45DC-A07A-E9FC05407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E06E55-C1EA-470E-8A68-A06A93384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BE2C81-DF9B-44C2-9A83-C6A616C2E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92F506-32EC-4C34-93CB-0F660300E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610A09-7441-48A8-9D40-DF2D4B8CF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4ED0C-CA5E-4B8B-B3A1-BD16B85D0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671DC2-773C-4C93-978D-D53424F71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F0D1EE-0DFE-42CE-B452-86412C583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F7E1F0-536C-49A6-9DE3-5ED1E8075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C95582-C03F-4880-AD8D-F688AC392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2CCC43-3BFC-413C-9E5F-DB528788F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3E91A9-FED5-4C11-B9D6-D8C3647AC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BC9E25-2DC2-439F-BF84-481B641A0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FEBFAA-6AE4-4052-80CE-CA1113884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1A9DAD-4618-4620-89B2-35F1AA425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BC0319-6BC0-4200-8741-FA253D414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DA05A-1AC3-4C02-80E3-ACE20D8A7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A963D0-A994-4209-9FFF-FC6342F9C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06C6EB-1AD6-4D7C-B27E-E33AC0F73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3D0750-02BA-49BB-8A5C-63E017E6B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3C5110-1305-4808-B93F-E0CCDD70A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16A129-82AF-4A4A-8557-A212B08F5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AE3E48-813B-4885-A0A4-11A5D3BAA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FC431E-D3C1-4ADE-8443-FD152E7AB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Прямоугольник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5DBE3-7D41-44A5-8687-67C5A5FABCF8}" type="slidenum">
              <a:rPr b="0" lang="ru-RU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8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Прямоугольник 10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4F526-41E0-4602-92F5-94A769C1D674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рямоугольник 8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Прямоугольник 10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F3BDC-D036-4361-80E6-ACC452F5401E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F9558-113D-4B80-90CE-8D3026252E57}" type="slidenum">
              <a:rPr b="0" lang="ru-RU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Прямоугольник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Прямоугольник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Прямоугольник 8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Прямоугольник 10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1405F-7168-4DD6-AFF6-D560C864600F}" type="slidenum">
              <a:rPr b="0" lang="ru-RU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Прямоугольник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Прямоугольник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Прямоугольник 8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Прямоугольник 10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372F2-BC97-428D-93EC-498763D802E3}" type="slidenum">
              <a:rPr b="0" lang="ru-RU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Прямоугольник 8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Прямоугольник 10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9B38F-14DB-4BCA-BF7A-26B39D8ED9E9}" type="slidenum">
              <a:rPr b="0" lang="ru-RU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оугольник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Прямоугольник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920E2-0527-4D04-84F1-F285FCF4E1B6}" type="slidenum">
              <a:rPr b="0" lang="ru-RU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Заголовок 4" descr=""/>
          <p:cNvPicPr/>
          <p:nvPr/>
        </p:nvPicPr>
        <p:blipFill>
          <a:blip r:embed="rId1"/>
          <a:stretch/>
        </p:blipFill>
        <p:spPr>
          <a:xfrm>
            <a:off x="298440" y="512640"/>
            <a:ext cx="8516880" cy="3846600"/>
          </a:xfrm>
          <a:prstGeom prst="rect">
            <a:avLst/>
          </a:prstGeom>
          <a:ln w="0">
            <a:noFill/>
          </a:ln>
        </p:spPr>
      </p:pic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685440" y="5181480"/>
            <a:ext cx="8077320" cy="1500480"/>
          </a:xfrm>
          <a:prstGeom prst="rect">
            <a:avLst/>
          </a:prstGeom>
          <a:noFill/>
          <a:ln w="0">
            <a:noFill/>
          </a:ln>
        </p:spPr>
        <p:txBody>
          <a:bodyPr lIns="118800" rIns="45720" tIns="0" bIns="0" anchor="b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d4d4d6"/>
                </a:solidFill>
                <a:latin typeface="Times New Roman"/>
              </a:rPr>
              <a:t>  </a:t>
            </a: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в рамках секции учителей физики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«Формы и методы работы учителя по повышению образовательных результатов по учебному предмету»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Rectangle 2" descr=""/>
          <p:cNvPicPr/>
          <p:nvPr/>
        </p:nvPicPr>
        <p:blipFill>
          <a:blip r:embed="rId1"/>
          <a:stretch/>
        </p:blipFill>
        <p:spPr>
          <a:xfrm>
            <a:off x="450720" y="152280"/>
            <a:ext cx="8242560" cy="126216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 txBox="1"/>
          <p:nvPr/>
        </p:nvSpPr>
        <p:spPr>
          <a:xfrm>
            <a:off x="990360" y="1600200"/>
            <a:ext cx="7692840" cy="49528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. Оценка уровня квалификации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) Предметные компетенции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) Методические компетенции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) Психолого-педагогические компетенции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4) Коммуникативные компетенции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60 баллов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!!!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Аттестация на Едином национальном портале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Rectangle 2" descr=""/>
          <p:cNvPicPr/>
          <p:nvPr/>
        </p:nvPicPr>
        <p:blipFill>
          <a:blip r:embed="rId1"/>
          <a:stretch/>
        </p:blipFill>
        <p:spPr>
          <a:xfrm>
            <a:off x="317520" y="152280"/>
            <a:ext cx="8375760" cy="1262160"/>
          </a:xfrm>
          <a:prstGeom prst="rect">
            <a:avLst/>
          </a:prstGeom>
          <a:ln w="0">
            <a:noFill/>
          </a:ln>
        </p:spPr>
      </p:pic>
      <p:sp>
        <p:nvSpPr>
          <p:cNvPr id="351" name=""/>
          <p:cNvSpPr txBox="1"/>
          <p:nvPr/>
        </p:nvSpPr>
        <p:spPr>
          <a:xfrm>
            <a:off x="914040" y="1827360"/>
            <a:ext cx="7769160" cy="4573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) Сведения о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сложности деятельност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условий профессиональной деятельности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) Сведения о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динамике образовательных результатов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соответствующих обучающихся за последние 5 лет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) Сведения об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индивидуальных достижениях учител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включая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учет мнения обучающихся и выпускников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окончивших организацию не ранее, чем за 4 года до аттестации учителя (мнение выпускников на сайте путем заполнения опросного листа)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40 баллов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Rectangle 2" descr=""/>
          <p:cNvPicPr/>
          <p:nvPr/>
        </p:nvPicPr>
        <p:blipFill>
          <a:blip r:embed="rId1"/>
          <a:stretch/>
        </p:blipFill>
        <p:spPr>
          <a:xfrm>
            <a:off x="1365120" y="291960"/>
            <a:ext cx="732168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53" name=""/>
          <p:cNvGraphicFramePr/>
          <p:nvPr/>
        </p:nvGraphicFramePr>
        <p:xfrm>
          <a:off x="914400" y="1523880"/>
          <a:ext cx="8001000" cy="5015160"/>
        </p:xfrm>
        <a:graphic>
          <a:graphicData uri="http://schemas.openxmlformats.org/drawingml/2006/table">
            <a:tbl>
              <a:tblPr/>
              <a:tblGrid>
                <a:gridCol w="4002120"/>
                <a:gridCol w="3998880"/>
              </a:tblGrid>
              <a:tr h="73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)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ценка квалификации учител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 балл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)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ценка результатов профессиональной деятель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 балл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)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ценка динамики образовательных результатов обучающихс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 балл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)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ложн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эффициент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/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т 1,00 до 1,25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)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дивидуальные достижения учител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не более 2-х по 5 баллов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 баллов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 5+5, + 5 – мнение выпускников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96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!!! Единый федеральный минимум баллов -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 менее 50% от минимального количества балл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Rectangle 2" descr=""/>
          <p:cNvPicPr/>
          <p:nvPr/>
        </p:nvPicPr>
        <p:blipFill>
          <a:blip r:embed="rId1"/>
          <a:stretch/>
        </p:blipFill>
        <p:spPr>
          <a:xfrm>
            <a:off x="317520" y="152280"/>
            <a:ext cx="8375760" cy="126216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 txBox="1"/>
          <p:nvPr/>
        </p:nvSpPr>
        <p:spPr>
          <a:xfrm>
            <a:off x="914040" y="15238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552600" indent="-552600">
              <a:lnSpc>
                <a:spcPct val="90000"/>
              </a:lnSpc>
              <a:buClr>
                <a:srgbClr val="f0ad00"/>
              </a:buClr>
              <a:buSzPct val="8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читель должен быть ознакомлен о сроках аттестации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не позднее, чем за 30 дней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до начала аттестационных процедур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552600" indent="-552600">
              <a:lnSpc>
                <a:spcPct val="90000"/>
              </a:lnSpc>
              <a:buClr>
                <a:srgbClr val="f0ad00"/>
              </a:buClr>
              <a:buSzPct val="8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ертификат выдаётся на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5 лет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552600" indent="-552600">
              <a:lnSpc>
                <a:spcPct val="90000"/>
              </a:lnSpc>
              <a:buClr>
                <a:srgbClr val="f0ad00"/>
              </a:buClr>
              <a:buSzPct val="8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удет дано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Заключение с рекомендациям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по совершенствованию профессиональной квалификации;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552600" indent="-552600">
              <a:lnSpc>
                <a:spcPct val="90000"/>
              </a:lnSpc>
              <a:buClr>
                <a:srgbClr val="f0ad00"/>
              </a:buClr>
              <a:buSzPct val="8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Две формулировки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установить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высшую) квалификационную категори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тказать в установлении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высшей) квалификационной категории (Протокол)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552600" indent="-552600">
              <a:lnSpc>
                <a:spcPct val="90000"/>
              </a:lnSpc>
              <a:buClr>
                <a:srgbClr val="f0ad00"/>
              </a:buClr>
              <a:buSzPct val="8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ттестация не ранее, чем через 2 год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 позднее, чем через 3 года (обязательная заявительная после 1 года)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552600" indent="-552600">
              <a:lnSpc>
                <a:spcPct val="90000"/>
              </a:lnSpc>
              <a:buClr>
                <a:srgbClr val="f0ad00"/>
              </a:buClr>
              <a:buSzPct val="8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анные о прохождении аттестации сохраняются в Едином национальном портале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Заголовок 3" descr=""/>
          <p:cNvPicPr/>
          <p:nvPr/>
        </p:nvPicPr>
        <p:blipFill>
          <a:blip r:embed="rId1"/>
          <a:stretch/>
        </p:blipFill>
        <p:spPr>
          <a:xfrm>
            <a:off x="298440" y="2724120"/>
            <a:ext cx="8474040" cy="1927080"/>
          </a:xfrm>
          <a:prstGeom prst="rect">
            <a:avLst/>
          </a:prstGeom>
          <a:ln w="0">
            <a:noFill/>
          </a:ln>
        </p:spPr>
      </p:pic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685440" y="1828440"/>
            <a:ext cx="8077320" cy="150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1</dc:creator>
  <dc:description/>
  <dc:language>en-US</dc:language>
  <cp:lastModifiedBy>Jakovleva-NG</cp:lastModifiedBy>
  <dcterms:modified xsi:type="dcterms:W3CDTF">2018-11-07T07:28:55Z</dcterms:modified>
  <cp:revision>22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