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F13D-D9AD-4163-B0C4-67C4D6A9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189-B381-476F-8941-88364F86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CE0-DF67-4A24-9D76-0A222D5A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993-C96C-46E6-A445-F7F0EE84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55C0-B953-4EA4-90E2-F9147924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555C-893E-47B5-B2E3-EF0CA9B7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3AEC-0376-49D8-A95C-978799BC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DA38-C3C3-4BCF-8C1C-1A26E72D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D729-3217-4BB5-BFC4-80226AF0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A186-E410-4605-88B6-3EA4C385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70F6-B4A0-4400-8575-19468081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389A-C677-4D98-B3A1-A6525F28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9CF4-9898-4052-9B6A-4D5124F7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3AF9-1C53-4C71-8202-58E44BBC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C220-7C5D-41E2-B1A2-E27D5805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CCE6-A5B5-4437-BF1C-EFFE2C52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D4CA-5FF0-4FB1-8DD8-0A3AFDB6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44419-4D1F-4042-AC2A-EF1842FC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19DEB-B8FE-4CF8-8248-EDC39E01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EC64E-58E9-40F3-99A3-1315678B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7AFBC-E702-4C37-98B1-DC5DFEFE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38AB1-CA75-4960-85EC-7CD9E458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FDF-A595-4C27-9FC2-3B6F2B7B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BADD0-08D4-4A65-9800-20C92FEB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2AE56-6331-4A45-BCA8-51E184EF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73487-3819-4E78-8BEB-3C12D5FD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48FDD-84E0-4ABB-8CD0-7C2C0B0E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587A8-6691-4AD9-8950-08B10E62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8C1F7-24DA-4C77-96FB-3ADF5EE4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4751F-15E4-4030-AF82-B01C0839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6B8F2-CD06-475B-836F-6F151CE6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BA481-4F1E-47C1-BF9E-ACE122FE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59B4A-A2CE-4BD0-A03C-0BF326D5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54FC-8120-4AFF-AF57-3BD7D6E7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12740-55B0-4DA8-AE35-C041D427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336F3-D8BE-4501-AB08-0772408A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CC456-667B-4822-9B76-94494A8B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6E498-2777-4744-88D0-FD325B72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C8C0C-EBFD-4C01-84FC-A1DB07A9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E000E-9F77-4D83-828E-08C232C7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7E03A-FD12-4A03-9830-060F64D9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4F00F-65FC-41C8-A9E3-B28C0770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9B8EC-EBDC-41E3-9F8F-EA46ABB6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A4588-DA76-4B8E-ABD0-7DCD63DE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48A9-6085-4A44-A736-06631339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9BA89-72D1-4433-AA4C-4B3B7E0D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A7C48-32B1-4298-92F2-961776BC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3413D-31FF-43FB-8597-C4F18823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E16AE-2738-4AA1-A92A-7F8331A5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1FC4B-1EDA-46D1-A09A-CBB62BC7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95E53-F80C-40C8-B57F-35594B61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72EF8-2F96-4736-A92C-3D06C6AB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3E45B-8356-4298-A1B2-E8A644DE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1CB29-271C-4178-939E-74CCD584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ACAB1-6906-49CE-8217-583AD37A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DDF5-505C-4798-8D35-41EB7189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C8661-9BE7-4D93-BC74-4F6ED064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2B74D-46B0-4581-A73F-9478A14C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28F69-23DB-4729-A8C6-62520C53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F5ADE-5DD0-467B-BFBA-FAB3CE37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A20A9-C9FF-4130-B03C-FB1DF07B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A7C10-561D-4442-85C4-29D5ADBE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CA4C2-FF7E-48E4-83DE-CD36753A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063D6-0694-42EA-81FC-E891D847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885CB-0B8A-4A3E-A4C9-C97023AD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907D9-2CCF-4F95-B62D-1F7C045D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39C-A34E-409E-ACA8-04F4F792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3694B-228F-4B6D-9307-DFBB8D2C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901BA-9DA5-4F66-8DD4-9BED0B2C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CDA72-F223-43FD-917D-215D8113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3E2FD-A85D-47B2-9956-8D01768B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DD0D5-B5BA-40A1-B399-D3E9C5C3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91EE1-F61A-4241-A9FD-090D50F8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F262E-30F7-4FA3-BFE4-020830E9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451FD-9CB7-4ACE-8BE1-D0A6A57D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3BEC7-94F1-4036-8A04-904AFECF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357FB-E70B-4E59-A961-E3E2FF79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838-3C95-4ECC-B827-4E2C842E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625DD-62E8-44EE-A530-153DAF66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9D3CB-E706-44FB-B5E4-5516836F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C0677-854D-45DF-B70E-790FD720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CE264-1DDF-43E7-8AF1-ADB11B96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48D32-C882-4E89-AFEA-BF347854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0423D-DB41-4043-A40F-1F133A53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79067-988A-4BFB-A634-AE886B72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ECD60-2B9A-4D48-AE5E-EFF756D2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D9C52-489A-4D96-ACDB-FA02A1C1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BEC83-378E-4AAA-AD69-CFB6F0CF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8F2-C59A-4D64-9D15-C4311F9C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D8E5C-13C1-4A68-BCE5-922CBE63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8DA56-A549-4BE8-A9FF-18FB3C3F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2ACC5-FB67-4C26-9D50-CBA586AE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1AF7C-8D56-4401-9CCD-91AFA642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8A0D6-C624-4514-8FC5-8DCD8189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AA1C3-34B8-4AE9-B6CB-239848C6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4FE82-535A-4DBB-993A-EDC9D2F4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55BB-D15D-4719-B412-E435E8C7BD71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FFFF-038B-4661-954F-1441F4935EE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EA7C-0465-4FD0-91C2-31916826903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DF30-387E-482F-9C99-B0C2DA6AB9A1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2BC5-1D44-4B81-B781-FDF21AF78FDA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0F30-1DFB-4718-BE60-C89BEA8AB009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E5E3-C6C9-436B-A2CB-0B0A4D93A9E4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A0E6-81B0-4DB5-9490-CA6A9506C49C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4" descr=""/>
          <p:cNvPicPr/>
          <p:nvPr/>
        </p:nvPicPr>
        <p:blipFill>
          <a:blip r:embed="rId1"/>
          <a:stretch/>
        </p:blipFill>
        <p:spPr>
          <a:xfrm>
            <a:off x="298440" y="512640"/>
            <a:ext cx="8516880" cy="3846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440" y="5181480"/>
            <a:ext cx="8077320" cy="1500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d4d4d6"/>
                </a:solidFill>
                <a:latin typeface="Times New Roman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рамках секции учителей физик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«Формы и методы работы учителя по повышению образовательных результатов по учебному предмету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990360" y="1600200"/>
            <a:ext cx="7692840" cy="4952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Оценка уровня квалификаци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Предмет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Метод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сихолого-педагог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Коммуникатив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!!!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ттестация на Едином национальном портал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914040" y="1827360"/>
            <a:ext cx="7769160" cy="4573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ости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условий профессиональной деятель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инамике образовательных результа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ответствующих обучающихся за последние 5 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Сведения об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дивидуальных достижениях учите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ключа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чет мнения обучающихся и выпуск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кончивших организацию не ранее, чем за 4 года до аттестации учителя (мнение выпускников на сайте путем заполнения опросного листа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365120" y="291960"/>
            <a:ext cx="73216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914400" y="1523880"/>
          <a:ext cx="8001000" cy="5015160"/>
        </p:xfrm>
        <a:graphic>
          <a:graphicData uri="http://schemas.openxmlformats.org/drawingml/2006/table">
            <a:tbl>
              <a:tblPr/>
              <a:tblGrid>
                <a:gridCol w="4002120"/>
                <a:gridCol w="39988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квалификации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результатов профессиональ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динамики образовательных результатов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1,00 до 1,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ые достижен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е более 2-х по 5 бал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балл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5+5, + 5 – мнение выпускник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!! Единый федеральный минимум баллов 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50% от минимального количеств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9140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должен быть ознакомлен о сроках аттестац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 позднее, чем за 30 дн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 начала аттестационных процедур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тификат выдаётся 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5 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дан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ение с рекомендаци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совершенствованию профессиональной квалификации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ве формулировк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станови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ую) квалификационную категори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азать в установле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ей) квалификационной категории (Протокол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тестация не ранее, чем через 2 г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озднее, чем через 3 года (обязательная заявительная после 1 года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ные о прохождении аттестации сохраняются в Едином национальном портал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3" descr=""/>
          <p:cNvPicPr/>
          <p:nvPr/>
        </p:nvPicPr>
        <p:blipFill>
          <a:blip r:embed="rId1"/>
          <a:stretch/>
        </p:blipFill>
        <p:spPr>
          <a:xfrm>
            <a:off x="298440" y="2724120"/>
            <a:ext cx="8474040" cy="19270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8-11-07T07:28:55Z</dcterms:modified>
  <cp:revision>2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