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373A-4F3A-4298-BB3B-76552E02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FC28-6F40-4EA8-8DD8-B113045A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B40-A47E-4CE5-9CFF-FFD28959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932F-41FD-471C-A8A8-A387FCF8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8166-CE30-444A-AB5C-FF14212D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5480-D900-43A2-99F9-A0DA2890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48C1-7E25-45CC-9138-85597B88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CB28-3C3B-48AA-8AA7-27681F08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E1D8-E041-486A-94E4-462F7EBE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C986-4735-4A87-B77F-BB2E7C14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C823-F9B5-40FA-A658-827C848A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1A33-F6C8-4685-B054-F1391563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7DDB-D8BA-4894-8127-ACC9E293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D9F1-42A5-4049-8F98-6EB712F4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ED7E-7C5A-4BFE-8CCF-4E66251D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A71A-2220-4942-A967-623CE036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55E5-717F-4F2A-A2E0-37440CE6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A00E-D798-4F47-BCF1-B1E7A00A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14A5-C41E-4DC5-AF16-3C28D029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F68-214E-468D-B635-87DFE362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1522-3B13-4231-B01C-485731F5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4BF7-7703-4FF7-9101-B9B13065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32E5-1E11-4086-8E19-1BE71049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509B-31DA-4FEF-BE71-0AD56ABA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2E8C-34E6-421F-B04A-D3BE1C8042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2CDB-CDA9-4A92-A070-303F72A9B61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99"/>
                </a:solidFill>
                <a:latin typeface="Garamond"/>
              </a:rPr>
              <a:t>НПК – метапредметные цели и задачи в современной школе.</a:t>
            </a:r>
            <a:endParaRPr b="0" lang="en-US" sz="4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2560" y="3284640"/>
            <a:ext cx="7234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Выступление на краевом методическом  семинаре по теме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Verdana"/>
              </a:rPr>
              <a:t>«Инновационные педагогические технологии: Проектная и исследовательская деятельность на уроках и во внеурочное время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Verdana"/>
              </a:rPr>
              <a:t>Яковлева Н.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Главное  отличие проектной и исследовательской деятельности – это цель.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проектной деятельности – реализация проектного замысл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исследовательской деятельности - уяснения сущности явлений,  поиск истины, открытие новых закономерностей и т.п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11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 – временная целенаправленная деятельность на получение уникального результа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ная деятельность является частью самостоятельной работы учащихся. Качественно выполненный проект – это поэтапное планирование своих действий, отслеживание результатов своей рабо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ю проектной деятельности является понимание и применение учащимися знаний, умений и навыков, приобретенных при изучении различных предме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6868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ланированию (учащийся должен уметь четко определить цель, описать основные шаги по достижению поставленной цели, концентрироваться на достижении цели, на протяжении всей рабо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навыков сбора и обработки информации, материалов (учащийся должен уметь выбрать подходящую информацию и правильно ее использовать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е анализировать (креативность и критическое мышление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мение составлять письменный отчет (учащийся должен уметь составлять план работы, презентовать четко информацию, оформлять сноски, иметь понятие о библиографии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позитивного отношения к работе (учащийся должен проявлять инициативу, энтузиазм, стараться выполнить работу в срок в соответствии с установленным планом и графиком работ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К важным положительным факторам проектной деятельности относятся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учащихся при решении задач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щение акцента от инструментального подхода в решении задач к технологическо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ност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ние условий для отношений сотрудни-чества между учителем и учащим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11280" y="549360"/>
            <a:ext cx="8229600" cy="57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-ности происходит подсознательно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ащийся стремится доказать, в первую очередь, самому себе, что он сделал правильный выбор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ет отметить, что стремление самоутвердиться является главным фактором эффективности проектной деятельнос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решении практических задач естественным образом возникают отношения сотрудничества с учител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 ярко это проявляется на тех задачах, которые сумел сформулировать сам учащий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11280" y="476280"/>
            <a:ext cx="8229600" cy="67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гласно федеральным образовательным стандартам (ФГОС), одной из форм, способствующих развитию универсальных учебных действий исследовательского характера, является научно-практическая конферен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еренция (от лат. conferre – собирать в одном месте) – это форма коллективного обсуждения и изучения каких-либо актуальных проблем; собрание организаций, групп, а также отдельных лиц для обсуждения и решения определенных вопрос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11280" y="475920"/>
            <a:ext cx="8229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видам конференции подразделяются н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учны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еск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итические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ли представляющие синтез этих направлений (научно-практические, общественно-политические и др.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атикой, названием и целями обычно определяется содержание и направленность конференции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468360" y="620640"/>
            <a:ext cx="8351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«Содержание образовательной программы любой нации определяет её ценности и отражает её надежды, возлагаемые на будущие поколения»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2771640" y="544500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 ХАЛЛГАРТЕН, директор по вопросам образования и лидер проекта «Проектирование общей образовательной программы» Королевское общество искусств (R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11280" y="259920"/>
            <a:ext cx="8229600" cy="62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В процессе подготовки к конференции у школьников формируются навыки целенаправленного наблюдения, постановки эксперимента, они проходят весь путь исследовательской деятельности – от определения проблемы до защиты полученных результат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539640" y="692280"/>
            <a:ext cx="8209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Метапознание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, как следует из самого термина, — это знание человека о своем собственном познании и основанная на этом знании способность управлять своими </a:t>
            </a:r>
            <a:r>
              <a:rPr b="0" i="1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познавательными процессами</a:t>
            </a:r>
            <a:r>
              <a:rPr b="0" i="1" lang="ru-RU" sz="40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в ходе приобретения новых знан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684360" y="549360"/>
            <a:ext cx="7991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а самом деле главное, про что метапознание в школе, — это про возможность </a:t>
            </a: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индивидуальных траекторий обучения</a:t>
            </a: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358920" y="620640"/>
            <a:ext cx="8785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468360" y="0"/>
            <a:ext cx="8496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Развитие метапознания начинается с двух других вопросов. Прежде всего, с вопроса «Как ты это узнал?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Это заставляет школьника рефлексировать о том, как работала его память, как работало его внимание, как он мысли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второй главный вопрос — «Зачем ты это узнал?», то есть для чего ребенку это знание, где оно может быть востребован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этот вопрос напрямую выводит нас на проблему мотивации — того самого, чего современному школьнику чаще всего не хвата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3"/>
          <p:cNvSpPr/>
          <p:nvPr/>
        </p:nvSpPr>
        <p:spPr>
          <a:xfrm>
            <a:off x="755640" y="620640"/>
            <a:ext cx="79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«Лучший способ предсказать будущее — вдохнови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овое поколение учеников сделать его лучше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3527280" y="5013360"/>
            <a:ext cx="54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Н АБЕЛЕ, учредитель и председатель Boston Scientific, председатель Argosy Found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Вызовы современности для школы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148392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Чему должны учиться школьники в эпоху поисковых машин, роботов и искусственного интеллек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селерация технологий и информационный взрыв породили срочную необходимость переосмыслить систему образования, традиционно основанную на учебном материале. Начиная с глубокого понимания того, как меняются потребности современного общества и работников, эти вызовы призывают нас сделать большой скачок в области образования, чтобы развить глубокие компетенции, включающие актуальные современные знани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435600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ИВ ВИНТЕР, директор, площадка Кэмбридж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8560" y="907560"/>
            <a:ext cx="878508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Изменение роли участников педагогического процесса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98" name="Содержимое 4" descr=""/>
          <p:cNvPicPr/>
          <p:nvPr/>
        </p:nvPicPr>
        <p:blipFill>
          <a:blip r:embed="rId1"/>
          <a:stretch/>
        </p:blipFill>
        <p:spPr>
          <a:xfrm>
            <a:off x="450720" y="1481040"/>
            <a:ext cx="843120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Какое место занимает проектная деятельность в реализации ФГОС нового поколения?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ое отличие нового Стандарта заключается в изменение результатов, которые мы должны получить на выходе (планируемые личностные, предметные  и метапредметные результа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ментом достижения данных результатов являются универсальные учебные действия (программы формирования УУД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ым подходом формирования УУД, согласно новым Стандартам, является системно-деятельностный подход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им из методов (возможно наиболее эффективным) реализации данного подхода является проектная деятель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ребования к результатам освоения ООП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 получению нового знания в рамках учебного предмета, его преобразованию и применению в учебных, учебно-проектных и социально – проектных ситуациях» (п.8 ФГОС ОО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при итоговом оценивании результатов освоения обучающимися основной образовательной программы основного общего образования должны учитываться сформированность умений выполнения проектной деятельности   и способность к решению учебно-практических и учебно-познавательных задач»    (п.12 ФГОС ООО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Фактически, ФГОС требует от учителя помочь школьнику получить представление об основных мыслительных операциях и научиться применять их на практик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нализ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анализе происходит мысленное разложение целого на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Синтез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это обратный анализу процесс. При синтезе происходит мысленное объедине­ние частей, свойств, действий в единое целое. Сравнение – это установление сходства или различия между предметами и явлениями или их отдельными призна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бстракция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заключается в выделении каких-либо свойств, признаков изучаемого объ­екта и представление этих признаков, свойств в виде самостоятельного объекта мышл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Конкретизация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конкретизации происходит возвращение мысли от общего и абст­рактного к конкретному с целью раскрытия содержа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бобщение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мысленное объединение предметов и явлений по их общим и существенным признака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пецифика  проектной и исследовательской деятельности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557360"/>
          <a:ext cx="8507520" cy="4949640"/>
        </p:xfrm>
        <a:graphic>
          <a:graphicData uri="http://schemas.openxmlformats.org/drawingml/2006/table">
            <a:tbl>
              <a:tblPr/>
              <a:tblGrid>
                <a:gridCol w="4253040"/>
                <a:gridCol w="4254480"/>
              </a:tblGrid>
              <a:tr h="56664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Проект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Учебно-исследовательская 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ект направлен на получение конкретного запланированного  результата – продукта, обладающего определенными свойствами, и который необходим для конкретного использова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ходе исследования организуется поиск в какой-то области, формулируются отдельные характеристики итогов работ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  <a:tr h="23749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ализацию проектных работ предваряет представление о будущем проекте, планирование процесса создания продукта и реализации этого плана. Результат проекта должен быть точно соотнесен со всеми характеристиками, сформулированными в его замы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следование может вывести на результаты, которые не предполагались. Логика построения исследовательской деятельности включает формулировку проблемы исследования, выдвижение гипотезы (для решения этой проблемы) и последующую экспериментальную или модельную проверку выдвинутых предположени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авлен на формирование всего комплекса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ются прежде всего познавательные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1</cp:lastModifiedBy>
  <dcterms:modified xsi:type="dcterms:W3CDTF">2018-11-21T17:40:56Z</dcterms:modified>
  <cp:revision>76</cp:revision>
  <dc:subject/>
  <dc:title>«Деление ядер урана»</dc:title>
</cp:coreProperties>
</file>