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F4E0-E4C9-4859-AFB9-08065C87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4761-45AB-4F6E-8C98-EF78FC2D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2CA-8CB4-4EBD-A308-8E6E878E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E7F-9E8F-46B0-8E73-50495043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5CC7-CE44-4023-8689-C10A51DB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979A-CB7B-430B-9C61-CD9206CC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E389-DFF4-4303-B398-6B033F81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C062-BC14-4FEE-9115-FE276D10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6DED-225A-4F7C-8A58-F4E16E11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5993-F500-4B6C-9576-65A66F6A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D48B-36C5-4C45-BC88-8A8B6EA6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FC16-A31F-4E59-A673-20D8566D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F42C-699D-4C6E-99C8-058760B2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D858-AE19-4EFB-8FBC-1F09A1A9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07EB-524C-4985-8AAC-2CD38C0B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6132-5DFB-4930-AC75-7B83A4AB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EE7E-0799-4D1A-A3B3-81D62D27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A10-A3BA-478F-87D4-0BF2E73C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897-E758-4FF6-B36B-B8605FA5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2C3-DD18-43A4-8B92-BB1BCB7E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08A-DA97-4DF1-AECC-B49017E6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9AD-7007-4AF7-AC8B-F093C62E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0E54-48A6-43A4-996F-1B95177F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D47-FA50-4841-B94E-594D53F6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C0BF-83AC-43ED-8643-BF8740FE16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88A8-B59F-493B-923C-E2A5ABB3BC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99"/>
                </a:solidFill>
                <a:latin typeface="Garamond"/>
              </a:rPr>
              <a:t>НПК – метапредметные цели и задачи в современной школе.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3284640"/>
            <a:ext cx="7234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Выступление на краевом методическом  семинаре по тем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«Инновационные педагогические технологии: Проектная и исследовательская деятельность на уроках и во внеурочное время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Verdana"/>
              </a:rPr>
              <a:t>Яковлева Н.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Главное  отличие проектной и исследовательской деятельности – это цель.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проектной деятельности – реализация проектного замыс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исследовательской деятельности - уяснения сущности явлений,  поиск истины, открытие новых закономерностей и т.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 – временная целенаправленная деятельность на получение уникального результа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ная деятельность является частью самостоятельной работы учащихся. Качественно выполненный проект – это поэтапное планирование своих действий, отслеживание результатов своей раб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ю проектной деятельности является понимание и применение учащимися знаний, умений и навыков, приобретенных при изучении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ланированию (учащийся должен уметь четко определить цель, описать основные шаги по достижению поставленной цели, концентрироваться на достижении цели, на протяжении всей рабо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навыков сбора и обработки информации, материалов (учащийся должен уметь выбрать подходящую информацию и правильно ее использовать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е анализировать (креативность и критическое мышлен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е составлять письменный отчет (учащийся должен уметь составлять план работы, презентовать четко информацию, оформлять сноски, иметь понятие о библиографии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позитивного отношения к работе (учащийся должен проявлять инициативу, энтузиазм, стараться выполнить работу в срок в соответствии с установленным планом и графиком рабо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К важным положительным факторам проектной деятельности относятся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учащихся при решении задач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щение акцента от инструментального подхода в решении задач к технологическо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нос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условий для отношений сотрудни-чества между учителем и учащим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549360"/>
            <a:ext cx="82296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-ности происходит подсознательно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йся стремится доказать, в первую очередь, самому себе, что он сделал правильный выбо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ет отметить, что стремление самоутвердиться является главным фактором эффективности проектной деятель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решении практических задач естественным образом возникают отношения сотрудничества с учите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 ярко это проявляется на тех задачах, которые сумел сформулировать сам учащий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11280" y="476280"/>
            <a:ext cx="8229600" cy="67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гласно федеральным образовательным стандартам (ФГОС), одной из форм, способствующих развитию универсальных учебных действий исследовательского характера, является научно-практическая конферен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еренция (от лат. conferre – собирать в одном месте) – это форма коллективного обсуждения и изучения каких-либо актуальных проблем; собрание организаций, групп, а также отдельных лиц для обсуждения и решения определенных вопрос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11280" y="47592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видам конференции подразделяются н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ны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еск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итические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 представляющие синтез этих направлений (научно-практические, общественно-политические и др.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тикой, названием и целями обычно определяется содержание и направленность конференци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468360" y="62064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«Содержание образовательной программы любой нации определяет её ценности и отражает её надежды, возлагаемые на будущие поколения»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2771640" y="54450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 ХАЛЛГАРТЕН, директор по вопросам образования и лидер проекта «Проектирование общей образовательной программы» Королевское общество искусств (R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11280" y="259920"/>
            <a:ext cx="8229600" cy="62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процессе подготовки к конференции у школьников формируются навыки целенаправленного наблюдения, постановки эксперимента, они проходят весь путь исследовательской деятельности – от определения проблемы до защиты полученных результа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539640" y="692280"/>
            <a:ext cx="820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Метапознание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, как следует из самого термина, — это знание человека о своем собственном познании и основанная на этом знании способность управлять своими </a:t>
            </a:r>
            <a:r>
              <a:rPr b="0" i="1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познавательными процессами</a:t>
            </a: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в ходе приобретения новых знан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684360" y="549360"/>
            <a:ext cx="799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а самом деле главное, про что метапознание в школе, — это про возможность </a:t>
            </a: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индивидуальных траекторий обучения</a:t>
            </a: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58920" y="620640"/>
            <a:ext cx="8785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68360" y="0"/>
            <a:ext cx="849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азвитие метапознания начинается с двух других вопросов. Прежде всего, с вопроса «Как ты это узнал?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Это заставляет школьника рефлексировать о том, как работала его память, как работало его внимание, как он мысли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второй главный вопрос — «Зачем ты это узнал?», то есть для чего ребенку это знание, где оно может быть востребова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этот вопрос напрямую выводит нас на проблему мотивации — того самого, чего современному школьнику чаще всего не хват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755640" y="62064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«Лучший способ предсказать будущее — вдохнови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овое поколение учеников сделать его лучше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527280" y="5013360"/>
            <a:ext cx="54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Н АБЕЛЕ, учредитель и председатель Boston Scientific, председатель Argosy Found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Вызовы современности для школы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48392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Чему должны учиться школьники в эпоху поисковых машин, роботов и искусственного интеллек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селерация технологий и информационный взрыв породили срочную необходимость переосмыслить систему образования, традиционно основанную на учебном материале. Начиная с глубокого понимания того, как меняются потребности современного общества и работников, эти вызовы призывают нас сделать большой скачок в области образования, чтобы развить глубокие компетенции, включающие актуальные современные знан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356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ИВ ВИНТЕР, директор, площадка Кэмбридж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560" y="907560"/>
            <a:ext cx="8785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Изменение роли участников педагогического процесса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8" name="Содержимое 4" descr=""/>
          <p:cNvPicPr/>
          <p:nvPr/>
        </p:nvPicPr>
        <p:blipFill>
          <a:blip r:embed="rId1"/>
          <a:stretch/>
        </p:blipFill>
        <p:spPr>
          <a:xfrm>
            <a:off x="450720" y="1481040"/>
            <a:ext cx="84312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Какое место занимает проектная деятельность в реализации ФГОС нового поколения?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ое отличие нового Стандарта заключается в изменение результатов, которые мы должны получить на выходе (планируемые личностные, предметные  и метапредметные результа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ментом достижения данных результатов являются универсальные учебные действия (программы формирования УУД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м подходом формирования УУД, согласно новым Стандартам, является системно-деятельностный подход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им из методов (возможно наиболее эффективным) реализации данного подхода является проектная дея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ребования к результатам освоения ООП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 получению нового знания в рамках учебного предмета, его преобразованию и применению в учебных, учебно-проектных и социально – проектных ситуациях» (п.8 ФГОС ОО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ри итоговом оценивании результатов освоения обучающимися основной образовательной программы основного общего образования должны учитываться сформированность умений выполнения проектной деятельности   и способность к решению учебно-практических и учебно-познавательных задач»    (п.12 ФГОС ОО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Фактически, ФГОС требует от учителя помочь школьнику получить представление об основных мыслительных операциях и научиться применять их на практик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нализ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анализе происходит мысленное разложение целого на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интез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это обратный анализу процесс. При синтезе происходит мысленное объедине­ние частей, свойств, действий в единое целое. Сравнение – это установление сходства или различия между предметами и явлениями или их отдельными призна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бстракция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заключается в выделении каких-либо свойств, признаков изучаемого объ­екта и представление этих признаков, свойств в виде самостоятельного объекта мыш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Конкретизация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конкретизации происходит возвращение мысли от общего и абст­рактного к конкретному с целью раскрытия содержа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бобщение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мысленное объединение предметов и явлений по их общим и существенным признака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пецифика  проектной и исследовательской деятельности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557360"/>
          <a:ext cx="8507520" cy="4949640"/>
        </p:xfrm>
        <a:graphic>
          <a:graphicData uri="http://schemas.openxmlformats.org/drawingml/2006/table">
            <a:tbl>
              <a:tblPr/>
              <a:tblGrid>
                <a:gridCol w="4253040"/>
                <a:gridCol w="4254480"/>
              </a:tblGrid>
              <a:tr h="56664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Учебно-исследовательская 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 направлен на получение конкретного запланированного  результата – продукта, обладающего определенными свойствами, и который необходим для конкретного использов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оде исследования организуется поиск в какой-то области, формулируются отдельные характеристики итогов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  <a:tr h="23749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ализацию проектных работ предваряет представление о будущем проекте, планирование процесса создания продукта и реализации этого плана. Результат проекта должен быть точно соотнесен со всеми характеристиками, сформулированными в его замы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ние может вывести на результаты, которые не предполагались. Логика построения исследовательской деятельности включает формулировку проблемы исследования, выдвижение гипотезы (для решения этой проблемы) и последующую экспериментальную или модельную проверку выдвинутых предположе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авлен на формирование всего комплекса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ются прежде всего познавательные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1</cp:lastModifiedBy>
  <dcterms:modified xsi:type="dcterms:W3CDTF">2018-11-21T17:40:56Z</dcterms:modified>
  <cp:revision>76</cp:revision>
  <dc:subject/>
  <dc:title>«Деление ядер урана»</dc:title>
</cp:coreProperties>
</file>