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E40-E101-4CFF-BD9B-33A5F26B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CF1-295F-4ED7-A7AE-411FE7BD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4EF-B226-47DD-9D54-99454BB7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466-C952-473F-AFAB-A09E5B13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6704-ED59-4F78-9477-A28DB00A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158-87BD-4D9D-AC06-E2A41AFE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AE85-5069-4B1A-A813-FE4D6820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0D81-7843-43BD-BC09-7F09F207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B1C0-30CC-4508-95E5-2A3E2DA3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1B2D-CB21-4452-836A-EF743C74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F732-69B1-43B2-A292-83D3319D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AF2-620F-40AA-A440-A25C0CA3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0872-4163-4671-82EA-5DB76539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BE34-82E1-46EA-AB91-835DD95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B2A7-7D50-429E-A445-E9C12725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D668-E62B-4CAE-9C53-E1C8C0AD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F7F5-A79D-4604-8295-3752D074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3AC-66EA-4E7A-92AD-9A842C9B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711-704F-4223-AB9A-F789291A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EBD-371A-402A-91BF-A088C926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CDD-A1B1-4F6D-BAB2-023A6C7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CD9-CC23-4A8C-B0B1-7C6740AF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F70-13D7-49B3-9E56-B5E92AA9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78C-4A55-4CC4-B7DA-80FBCB03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E910-B5A1-4686-BB4D-E4CE8727101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17C-9A9C-4276-9F96-33E002977B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99"/>
                </a:solidFill>
                <a:latin typeface="Garamond"/>
              </a:rPr>
              <a:t>НПК – метапредметные цели и задачи в современной школе.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2560" y="3284640"/>
            <a:ext cx="7234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Выступление на краевом методическом  семинаре по теме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Verdana"/>
              </a:rPr>
              <a:t>«Инновационные педагогические технологии: Проектная и исследовательская деятельность на уроках и во внеурочное время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Verdana"/>
              </a:rPr>
              <a:t>Яковлева Н.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Главное  отличие проектной и исследовательской деятельности – это цель.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проектной деятельности – реализация проектного замысл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исследовательской деятельности - уяснения сущности явлений,  поиск истины, открытие новых закономерностей и т.п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 – временная целенаправленная деятельность на получение уникального результа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ная деятельность является частью самостоятельной работы учащихся. Качественно выполненный проект – это поэтапное планирование своих действий, отслеживание результатов своей раб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ю проектной деятельности является понимание и применение учащимися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ланированию (учащийся должен уметь четко определить цель, описать основные шаги по достижению поставленной цели, концентрироваться на достижении цели, на протяжении всей рабо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бора и обработки информации, материалов (учащийся должен уметь выбрать подходящую информацию и правильно ее использовать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е анализировать (креативность и критическое мышление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Задачи проектной деятельности в школе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составлять письменный отчет (учащийся должен уметь составлять план работы, презентовать четко информацию, оформлять сноски, иметь понятие о библиографии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озитивного отношения к работе (учащийся должен проявлять инициативу, энтузиазм, стараться выполнить работу в срок в соответствии с установленным планом и графиком работ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К важным положительным факторам проектной деятельности относятся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учащихся при решении задач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щение акцента от инструментального подхода в решении задач к технологическо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нос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условий для отношений сотрудни-чества между учителем и учащим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11280" y="549360"/>
            <a:ext cx="82296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ормирование чувства ответствен-ности происходит подсознательно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ащийся стремится доказать, в первую очередь, самому себе, что он сделал правильный выбор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ет отметить, что стремление самоутвердиться является главным фактором эффективности проектной деятельнос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решении практических задач естественным образом возникают отношения сотрудничества с учител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 ярко это проявляется на тех задачах, которые сумел сформулировать сам учащий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7592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мотивации и развитие творческих способностей происходит из-за наличия в проектной деятельности ключевого признака – самостоятельного выбора.     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тие творческих способностей и смещение акцента от инструментального подхода к технологическому происходит благодаря необходимости осмысленного выбора инструментария и планирования деятельности  для достижения лучшего результат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11280" y="476280"/>
            <a:ext cx="8229600" cy="67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гласно федеральным образовательным стандартам (ФГОС), одной из форм, способствующих развитию универсальных учебных действий исследовательского характера, является научно-практическая конферен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еренция (от лат. conferre – собирать в одном месте) – это форма коллективного обсуждения и изучения каких-либо актуальных проблем; собрание организаций, групп, а также отдельных лиц для обсуждения и решения определенных вопрос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11280" y="475920"/>
            <a:ext cx="8229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видам конференции подразделяются н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учны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ески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итические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 представляющие синтез этих направлений (научно-практические, общественно-политические и др.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атикой, названием и целями обычно определяется содержание и направленность конференции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468360" y="620640"/>
            <a:ext cx="8351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«Содержание образовательной программы любой нации определяет её ценности и отражает её надежды, возлагаемые на будущие поколения»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Прямоугольник 4"/>
          <p:cNvSpPr/>
          <p:nvPr/>
        </p:nvSpPr>
        <p:spPr>
          <a:xfrm>
            <a:off x="2771640" y="544500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 ХАЛЛГАРТЕН, директор по вопросам образования и лидер проекта «Проектирование общей образовательной программы» Королевское общество искусств (R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11280" y="259920"/>
            <a:ext cx="8229600" cy="62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 процессе подготовки к конференции у школьников формируются навыки целенаправленного наблюдения, постановки эксперимента, они проходят весь путь исследовательской деятельности – от определения проблемы до защиты полученных результат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539640" y="692280"/>
            <a:ext cx="8209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Метапознание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, как следует из самого термина, — это знание человека о своем собственном познании и основанная на этом знании способность управлять своими </a:t>
            </a:r>
            <a:r>
              <a:rPr b="0" i="1" lang="ru-RU" sz="4000" spc="-1" strike="noStrike" u="sng">
                <a:solidFill>
                  <a:srgbClr val="002060"/>
                </a:solidFill>
                <a:uFillTx/>
                <a:latin typeface="Verdana"/>
              </a:rPr>
              <a:t>познавательными процессами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в ходе приобретения новых знан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684360" y="549360"/>
            <a:ext cx="7991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а самом деле главное, про что метапознание в школе, — это про возможность </a:t>
            </a:r>
            <a:r>
              <a:rPr b="1" lang="ru-RU" sz="4800" spc="-1" strike="noStrike">
                <a:solidFill>
                  <a:srgbClr val="002060"/>
                </a:solidFill>
                <a:latin typeface="Verdana"/>
              </a:rPr>
              <a:t>индивидуальных траекторий обучения</a:t>
            </a: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358920" y="620640"/>
            <a:ext cx="8785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468360" y="0"/>
            <a:ext cx="8496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Развитие метапознания начинается с двух других вопросов. Прежде всего, с вопроса «Как ты это узнал?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Это заставляет школьника рефлексировать о том, как работала его память, как работало его внимание, как он мысли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второй главный вопрос — «Зачем ты это узнал?», то есть для чего ребенку это знание, где оно может быть востребован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И этот вопрос напрямую выводит нас на проблему мотивации — того самого, чего современному школьнику чаще всего не хват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755640" y="620640"/>
            <a:ext cx="792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«Лучший способ предсказать будущее — вдохновить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Verdana"/>
              </a:rPr>
              <a:t>новое поколение учеников сделать его лучше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3527280" y="5013360"/>
            <a:ext cx="54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ДЖОН АБЕЛЕ, учредитель и председатель Boston Scientific, председатель Argosy Foun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Вызовы современности для школы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48392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Чему должны учиться школьники в эпоху поисковых машин, роботов и искусственного интеллек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селерация технологий и информационный взрыв породили срочную необходимость переосмыслить систему образования, традиционно основанную на учебном материале. Начиная с глубокого понимания того, как меняются потребности современного общества и работников, эти вызовы призывают нас сделать большой скачок в области образования, чтобы развить глубокие компетенции, включающие актуальные современные знания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35600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ИВ ВИНТЕР, директор, площадка Кэмбридж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8560" y="907560"/>
            <a:ext cx="8785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Изменение роли участников педагогического процесса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8" name="Содержимое 4" descr=""/>
          <p:cNvPicPr/>
          <p:nvPr/>
        </p:nvPicPr>
        <p:blipFill>
          <a:blip r:embed="rId1"/>
          <a:stretch/>
        </p:blipFill>
        <p:spPr>
          <a:xfrm>
            <a:off x="450720" y="1481040"/>
            <a:ext cx="84312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Garamond"/>
              </a:rPr>
              <a:t>Какое место занимает проектная деятельность в реализации ФГОС нового поколения?</a:t>
            </a:r>
            <a:endParaRPr b="0" lang="en-US" sz="3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ое отличие нового Стандарта заключается в изменение результатов, которые мы должны получить на выходе (планируемые личностные, предметные  и метапредметные результаты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ментом достижения данных результатов являются универсальные учебные действия (программы формирования УУД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ым подходом формирования УУД, согласно новым Стандартам, является системно-деятельностный подход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им из методов (возможно наиболее эффективным) реализации данного подхода является проектная дея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ребования к результатам освоения ООП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 получению нового знания в рамках учебного предмета, его преобразованию и применению в учебных, учебно-проектных и социально – проектных ситуациях» (п.8 ФГОС О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при итоговом оценивании результатов освоения обучающимися основной образовательной программы основного общего образования должны учитываться сформированность умений выполнения проектной деятельности   и способность к решению учебно-практических и учебно-познавательных задач»    (п.12 ФГОС ООО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Фактически, ФГОС требует от учителя помочь школьнику получить представление об основных мыслительных операциях и научиться применять их на практике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нализ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анализе происходит мысленное разложение целого на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Синтез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это обратный анализу процесс. При синтезе происходит мысленное объедине­ние частей, свойств, действий в единое целое. Сравнение – это установление сходства или различия между предметами и явлениями или их отдельными призна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Абстракция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заключается в выделении каких-либо свойств, признаков изучаемого объ­екта и представление этих признаков, свойств в виде самостоятельного объекта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Конкретизация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– при конкретизации происходит возвращение мысли от общего и абст­рактного к конкретному с целью раскрытия содержа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</a:rPr>
              <a:t>Обобщение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– мысленное объединение предметов и явлений по их общим и существенным признака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пецифика  проектной и исследовательской деятельности.</a:t>
            </a:r>
            <a:br>
              <a:rPr sz="4400"/>
            </a:b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557360"/>
          <a:ext cx="8507520" cy="4949640"/>
        </p:xfrm>
        <a:graphic>
          <a:graphicData uri="http://schemas.openxmlformats.org/drawingml/2006/table">
            <a:tbl>
              <a:tblPr/>
              <a:tblGrid>
                <a:gridCol w="4253040"/>
                <a:gridCol w="4254480"/>
              </a:tblGrid>
              <a:tr h="56664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bf0000"/>
                          </a:solidFill>
                          <a:latin typeface="Verdana"/>
                        </a:rPr>
                        <a:t>Учебно-исследовательская 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ект направлен на получение конкретного запланированного  результата – продукта, обладающего определенными свойствами, и который необходим для конкретного использо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ходе исследования организуется поиск в какой-то области, формулируются отдельные характеристики итогов работы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  <a:tr h="237492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ализацию проектных работ предваряет представление о будущем проекте, планирование процесса создания продукта и реализации этого плана. Результат проекта должен быть точно соотнесен со всеми характеристиками, сформулированными в его замы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ние может вывести на результаты, которые не предполагались. Логика построения исследовательской деятельности включает формулировку проблемы исследования, выдвижение гипотезы (для решения этой проблемы) и последующую экспериментальную или модельную проверку выдвинутых предположени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правлен на формирование всего комплекса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  <a:tc>
                  <a:txBody>
                    <a:bodyPr lIns="122040" rIns="122040" anchor="t">
                      <a:noAutofit/>
                    </a:bodyPr>
                    <a:p>
                      <a:pPr marL="88920" indent="8892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ируются прежде всего познавательные УУ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99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1</cp:lastModifiedBy>
  <dcterms:modified xsi:type="dcterms:W3CDTF">2018-11-21T17:40:56Z</dcterms:modified>
  <cp:revision>76</cp:revision>
  <dc:subject/>
  <dc:title>«Деление ядер урана»</dc:title>
</cp:coreProperties>
</file>