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49DEC-EF58-453E-A214-CD05602F0B4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4BBCE-7C23-48A1-9F04-6F58CE10C95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C04F8-3C6A-49E9-B4B1-C7584537D91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E731-35D1-4F3D-BF7C-C4194D5D0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87DE-04AF-4F8F-9F46-1FD96639D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2158-C608-4384-B175-4419906D0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ECE4-2568-4A20-81F3-A23B3D294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92DED-BE12-44FD-B033-AC3A85BF8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213EC-8F7E-4D95-A6C2-6D7FCDF1C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A6400-2E34-4E16-9D96-CF0DBBB18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7125F-8BC5-4D01-B07D-F9F7F6FF7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4CE31-6551-4ED8-9D3D-1A9D04AD0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10C1C-E640-4B0B-B521-ED895DD84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35752-A490-4CB3-B60B-A5EBA79B0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E790-5FD9-43B7-B18A-866CDE160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68457-3AC2-44CA-8C07-D666C5E4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0D96E-74E3-4AAF-A2C6-9B76C1C7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D91A5-0A5A-4A47-9E2C-ED91A1F18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06BA1-0CD9-4284-9DDD-44A9C1AA7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485C4-AD98-4721-85CE-05EBD445A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31030-74AC-4B12-ABFA-CB856977B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A98C4-DDCA-443E-BB90-AEB063C44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0F4B6-6B4F-469C-B3FE-5152AC654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BF57F-2868-4548-8300-CE605524C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4C1F4-3824-4E48-A3EC-F0EAFD19A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2FD6-7E36-41D7-966E-26269948D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DFBBE-4E23-40E6-9D4D-CA0B7F1AB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94BCD-F860-4461-8956-9E43AE16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DCFDC-51FE-40AB-8CC4-9E1D4E70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29174-3DE9-4AA3-BB52-4AA80F67A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0779B-B4D9-40E0-8F90-54F38D584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223A4-3492-4514-97DE-B8B41756D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9E95C-F974-41D1-AB2E-99406C2DF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D89DD-ECFF-4F3B-B065-1754BA5AB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2619F-B4D7-48EE-B785-4A8DD8158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DD07E-ED07-403A-A9CE-C38787953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3B4B-018A-4106-88A9-FF82A7B63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3BA96-CCB6-4DBD-8CC8-60C30384E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770C9-E413-4176-89C0-5520A80E4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D78CB-9677-45BD-A0D5-46E25EE30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96AD6-78DA-473F-BBFF-DC911E8E7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44581-2A93-45AC-9A84-0D6F2770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E20D6-BADF-4A76-ACA0-85BE3C99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029C1-3AA5-49A2-9208-6516B8316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29F9D-4A2F-4867-A41B-7116C7837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78F72-1408-4AF8-BDD5-466C30959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86BA0E-E714-45F0-B123-3DBE78666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4CAD-50EB-4AA9-81E5-87F599D84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DABD9F-AB6E-4620-8DB1-4658D6275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3F98E-BBAB-42BB-92FD-98316AED8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2EEFAA-E839-4144-BC9E-024D13E4A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E8D4DC-54FB-4B24-962C-4E85866A4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16F228-9F5A-481D-8901-6253282F4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AFCE7B-98A6-4CC7-898A-1E53EDD3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D0547-D23D-47B2-96EE-DBDB4CA73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D43813-1927-477A-9FC2-4E7B50CE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9DE51-EEB5-4E9B-BC96-EF4053B17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4BD1C-72FF-48DB-8A8B-55AC16E72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1BE4-4CF2-40FA-84BC-92E9EE5E6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BE322-35CC-4011-AF19-5F892CDD2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7733-392F-47F9-B5A6-7DD627907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74B2-BC10-4848-9E8D-0F7465794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A34C-EF32-4339-B68B-A4D9B8A1C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4A8B1-F4E1-4E29-A38E-222769756B08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27B90-9C71-4881-9CBB-3A7AD4F829EA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A1FEB-DA6C-4013-9F16-FF3D40557A32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98C06-68F3-495C-B305-8D7C2354A664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533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9714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В.А.Власенко,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400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4A987-CD5C-4ABF-9189-E63A693B8C05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1413000"/>
            <a:ext cx="8229600" cy="2363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Возможности физической культуры как средства повышения моральной и психологической устойчивости  к экзаменационным испытаниям</a:t>
            </a:r>
            <a:br>
              <a:rPr sz="4000"/>
            </a:br>
            <a:r>
              <a:rPr b="1" lang="en-US" sz="1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ИЗ ОПЫТА РАБОТЫ ПО ПРИМЕНЕНИЮ ФОРМИРУЮЩЕГО ОЦЕНИВАНИЯ)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479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1000"/>
          </a:bodyPr>
          <a:p>
            <a:pPr marL="111600" indent="-111600"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утагарова Люция Рифовна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11600" indent="-111600"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читель физической культуры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11600" indent="-111600"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АОУ «Гимназия № 33» г. Перм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ирующее оценивание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Цель формирующей оценки - способствовать улучшению результатов каждого отдельно взятого ученика</a:t>
            </a:r>
            <a:r>
              <a:rPr b="0" lang="ru-RU" sz="48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и и ожидаемые результаты формирующего оценивания: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352440" y="1339920"/>
          <a:ext cx="8510400" cy="5227560"/>
        </p:xfrm>
        <a:graphic>
          <a:graphicData uri="http://schemas.openxmlformats.org/drawingml/2006/table">
            <a:tbl>
              <a:tblPr/>
              <a:tblGrid>
                <a:gridCol w="3003480"/>
                <a:gridCol w="5506920"/>
              </a:tblGrid>
              <a:tr h="13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ить потребности учени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уализация знаний по теме, субъектного опы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ов интереса к тем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отвращение неправильного понимания вопро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ощрить саморегуляцию и сотрудниче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ивание навыков к самостоятельной работе и сотрудничеству для использования разнообразных ресурсов и инструмен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уществить мониторинг прогрес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явление и самоопределение учащимися слабых сторон, подтверждение сильных и обеспечение более глубокого поним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рить понимание и поощрить метапозн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ствует применению знаний в новой ситуации, обобщению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1773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Ebrima"/>
              </a:rPr>
              <a:t>Что такое формирующее оценивание или оценивание для обучения?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914400" y="2428920"/>
            <a:ext cx="7772400" cy="39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ценивание это больше, чем маркировк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ценивание — это обратная связь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ценивание направляет учени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1487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ирующее оценивание для </a:t>
            </a:r>
            <a:r>
              <a:rPr b="0" lang="ru-RU" sz="45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обучающихся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914400" y="2214360"/>
            <a:ext cx="777240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b5edfd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помогать учиться на ошибках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b5edfd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помогать понять, что важно;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b5edfd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помогать понять, что у них получается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b5edfd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помогать обнаруживать, что они не знают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b5edfd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помогать обнаруживать, что они не умеют делать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2400" cy="1559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ирующее оценивание позволяет </a:t>
            </a:r>
            <a:r>
              <a:rPr b="0" lang="ru-RU" sz="45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учителю</a:t>
            </a:r>
            <a:r>
              <a:rPr b="0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914400" y="2285640"/>
            <a:ext cx="7772400" cy="40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b5edfd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ко сформулировать образовательный результат, подлежащий формированию и оценке в каждом конкретном случае, и организовать в соответствии с этим свою работу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b5edfd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елать учащегося субъектом образовательной и оценочной деятельности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1416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хнологии формирующего оценивания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 (минутный) обзор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-обзор (проводится в конце урока)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Что изучали? Назовите тему урока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С какими заданиями ты справлялся без помощи учителя, одноклассника?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пределите наиболее важное в этом уроке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Что вызвало трудности, осталось неясным?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Что хотелось бы узнать по теме дополнительно?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Что у меня получилось лучше всего?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Что мне необходимо усовершенствовать?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alibri"/>
              </a:rPr>
              <a:t>Тема урока</a:t>
            </a: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  Развитие силовых качеств. Подготовка к сдаче норм ГТО испытания «Сгибание-разгибание рук в упоре лежа» </a:t>
            </a:r>
            <a:br>
              <a:rPr sz="2400"/>
            </a:b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95280" y="13410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12760" indent="-212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Цель урока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Для учителя  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Организовать контрольно-оценочную деятельность по выявлению точечных затруднений при выполнении техники  через работу в парах и  анализ видеозаписи собственного выполнения технического действия (обязательный норматив  «Сгибание-разгибание рук в упоре лежа»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Для учащихся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Определить критерии оценивания выполнения  техники норматива ГТО  - «Сгибание-разгибание рук в упоре лежа»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Заполнить таблицу самооценки  выполнения техники  выполнении сгибания и разгибания рук в упоре лежа («Отжимания») по выработанным критериям, применяя личные гаджеты,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ыявить затруднения, для устранения ошибок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Прогнозируемый результат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Знают контрольные точки техники «Отжимания», безопасного для здоровья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Фиксируют контрольные точки у партнера при работе в парах  и определяют свои затруднения при просмотре видеозаписи собственного выполнения приседания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Умеют объективно оценивать, по выработанным критериям, технику «отжимани», безопасного для здоровья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Таблица самооценки 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1"/>
          <a:srcRect l="11109" t="28110" r="32367" b="14444"/>
          <a:stretch/>
        </p:blipFill>
        <p:spPr>
          <a:xfrm>
            <a:off x="826920" y="2060640"/>
            <a:ext cx="7740720" cy="44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7" name="Picture 2" descr=""/>
          <p:cNvPicPr/>
          <p:nvPr/>
        </p:nvPicPr>
        <p:blipFill>
          <a:blip r:embed="rId1"/>
          <a:srcRect l="26163" t="34218" r="25804" b="39724"/>
          <a:stretch/>
        </p:blipFill>
        <p:spPr>
          <a:xfrm>
            <a:off x="250920" y="620640"/>
            <a:ext cx="8497800" cy="25923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" descr=""/>
          <p:cNvPicPr/>
          <p:nvPr/>
        </p:nvPicPr>
        <p:blipFill>
          <a:blip r:embed="rId2"/>
          <a:srcRect l="24174" t="27470" r="23253" b="34798"/>
          <a:stretch/>
        </p:blipFill>
        <p:spPr>
          <a:xfrm>
            <a:off x="73080" y="2997360"/>
            <a:ext cx="9070920" cy="36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сихологическая устойчивость — это личностная черта, которая во многом определяет, насколько эффективно мы справляемся с проблемами, стрессами и давлением, независимо от обстоятельст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тресс - состояние сильного и длительного психологического напряжения, которое возникает у человека, когда его нервная система получает эмоциональную перегрузк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Развитие Физических качеств. Подготовка к сдаче норм ГТО норматив «Поднимание туловища из положения лежа»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324000" y="148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Цель урока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Для учителя  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Организовать познавательную  деятельность по выявлению точечных затруднений при выполнении норматива  ГТО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Для учащихся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ыявить затруднения в выполнении норматива ГТО по силовой подготовке «Поднимание туловища из положения лежа»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ыделить группу упражнений, направленных на подготовку учащихся к выполнению норматива ГТО по силовой подготовке.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Прогнозируемый результат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 конце урока учащиеся при выполнении различных упражнений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ыделяют группы мышц, которые задействовано в данном упражнении на станции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На основе работы мышечных групп выделяют 3 вида упражнений, при систематическом выполнении которых смогут подготовиться к результативной сдаче норм ГТО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7 станций. Работа в группах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4" name="Picture 3" descr=""/>
          <p:cNvPicPr/>
          <p:nvPr/>
        </p:nvPicPr>
        <p:blipFill>
          <a:blip r:embed="rId1"/>
          <a:srcRect l="12185" t="27470" r="21410" b="8548"/>
          <a:stretch/>
        </p:blipFill>
        <p:spPr>
          <a:xfrm>
            <a:off x="250920" y="1700280"/>
            <a:ext cx="85089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6" name="Picture 2" descr=""/>
          <p:cNvPicPr/>
          <p:nvPr/>
        </p:nvPicPr>
        <p:blipFill>
          <a:blip r:embed="rId1"/>
          <a:srcRect l="35244" t="20910" r="36166" b="10192"/>
          <a:stretch/>
        </p:blipFill>
        <p:spPr>
          <a:xfrm>
            <a:off x="2340000" y="333360"/>
            <a:ext cx="4535640" cy="61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ИРУЮЩЕЕ ОЦЕНИВАНИЕ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28400" y="1784520"/>
            <a:ext cx="8258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ценивается не только результат, но и процесс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Носит системный характер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страивается в личностно-ориентированное обучени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Ориентировано на обучающегос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Отслеживается прогресс каждого обучающегос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Ориентировано на формирование личностных и метапредметных умений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Ebrima"/>
              </a:rPr>
              <a:t>Памятка 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Ebrima"/>
              </a:rPr>
              <a:t>по применению формирующего оценивания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914400" y="1784160"/>
            <a:ext cx="7772400" cy="47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1. 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Оцениваем п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роцесс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2. В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ыставление отметки и оценивание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– разные вещи!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3. В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ыставляя своему ученику отметку  за работу на уроке или в четверти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: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оценивае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м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его работу по определенным критериям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ученик знаком с теми критериями, по которым его оценивают (причем они доступны для его понимания)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ученик 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в процессе работы сам пытается оценить качество своей работы, сверяясь с этими критериями и получая  комментарии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учителя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ученик 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видит, где конкретно он пока не достиг нужного результата и корректирует свою деятельность, 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т.е. 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ищ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ет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пути 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коррекции 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выявленны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х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недостатк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ов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Благодарю за внимание!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На психологическом и поведенческом уровнях занятия ФК полезны и могут способствовать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 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рганизации и упорядочиванию активност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иведению действий и мыслей в порядо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лучению ощущения контроля над ситуацией, дефицит которого испытывает человек во время стресс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Повышению самооценки и уверенности в себ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нятия спортом могут приносить радость и удовлетворение от достижения даже небольших результатов             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r>
              <a:rPr b="1" i="1" lang="ru-RU" sz="3200" spc="-1" strike="noStrike">
                <a:solidFill>
                  <a:srgbClr val="04617b"/>
                </a:solidFill>
                <a:latin typeface="Calibri"/>
              </a:rPr>
              <a:t>Повышение самооценки и уверенности в себе</a:t>
            </a:r>
            <a:br>
              <a:rPr sz="28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Есть ли  у Вас  в работе  проблемы в оценивании обучающихся на уроках ФК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Если Да, то какие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к технология оценивания может повлиять на повышение самооценки и уверенность в себе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Есть ли проблемы в работе со старшеклассницами и старшеклассниками? Какаие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1059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блемы оценочной деятельности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Verdana"/>
              </a:rPr>
              <a:t>субъективизм школьной отметки;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Verdana"/>
              </a:rPr>
              <a:t>недостаточная разработанность критериев оценивания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Verdana"/>
              </a:rPr>
              <a:t>существующая система оценивания отражает </a:t>
            </a:r>
            <a:r>
              <a:rPr b="0" i="1" lang="ru-RU" sz="2700" spc="-1" strike="noStrike">
                <a:solidFill>
                  <a:srgbClr val="ff0000"/>
                </a:solidFill>
                <a:latin typeface="Times New Roman"/>
                <a:ea typeface="Verdana"/>
              </a:rPr>
              <a:t>результат развития физических качеств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Verdana"/>
              </a:rPr>
              <a:t>, а не процесс их усвоения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Verdana"/>
              </a:rPr>
              <a:t>При оценивании техники двигательных действий зачастую ставим отметки не выделяя критерии оценивания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Verdana"/>
              </a:rPr>
              <a:t>отсутствие в отметке конструктивной информации о том, что именно является причиной низкого или высокого балл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ункции оценивания: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68360" y="227664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мулирующа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ностическа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эффективност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адекватной самооценк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мотиваци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я в межличностных отношениях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0000"/>
                </a:solidFill>
                <a:latin typeface="Times New Roman"/>
                <a:ea typeface="Ebrima"/>
              </a:rPr>
              <a:t>Зачем мы оцениваем?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Чтобы выяснить,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достигнуты ли поставленные учебные цели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гут ли быть разные цели у учащихся?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105264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ирующее оценивание – это…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178920" y="155700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b5edfd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Формирующее (внутреннее) оценивание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елено на определение индивидуальных достижений каждого учащегося и не предполагает как сравнения результатов, продемонстрированных разными учащимися, так и административных выводов по результатам обучения.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b5edfd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ующим данный вид оценивания называется потому, что оценка ориентирована на конкретного ученика, призвана выявить пробелы в освоении учащимся элемента содержания образования с тем, чтобы восполнить их с максимальной эффективностью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7240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имущества критериального подхода к оцениванию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826920" y="2349360"/>
            <a:ext cx="7772400" cy="42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ие тревожност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ивность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ство требований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гранность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ение достижений учащихся с эталоном;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ответственности учащихся за результат своего труда;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самооценки, самоанализа, самоконтроля учащихся.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2T00:14:57Z</dcterms:created>
  <dc:creator>TATJANA</dc:creator>
  <dc:description/>
  <dc:language>en-US</dc:language>
  <cp:lastModifiedBy>Ljadova-NV</cp:lastModifiedBy>
  <dcterms:modified xsi:type="dcterms:W3CDTF">2019-11-18T06:51:39Z</dcterms:modified>
  <cp:revision>27</cp:revision>
  <dc:subject/>
  <dc:title>Педагогический совет по теме:  «Технология формирующего оценивания»  12.02.2015 г. МОУ СОШ №19  г. Комсомольск -  на - Амуре</dc:title>
</cp:coreProperties>
</file>