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389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</p:sld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  <p:sldId id="263" r:id="rId51"/>
    <p:sldId id="264" r:id="rId52"/>
    <p:sldId id="26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slide" Target="slides/slide8.xml"/><Relationship Id="rId52" Type="http://schemas.openxmlformats.org/officeDocument/2006/relationships/slide" Target="slides/slide9.xml"/><Relationship Id="rId53" Type="http://schemas.openxmlformats.org/officeDocument/2006/relationships/slide" Target="slides/slide1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03E0-CAF0-4CC5-A53D-2D5D43A83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44F1-DB9A-4A20-9A77-0B796636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E0616-83D0-4267-86F8-AE5C9222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3AFE2-C937-4E58-8EBE-6099C80F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F0D08-8693-4BC2-8890-0FA58A1D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CFE53-FA6D-4276-B9A9-8AB7F325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32E42-4AEC-40B2-A22C-4B459A7E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ACCE2-FBFA-444E-8116-99F31025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5C5A5-65DB-4D26-A969-4FB2F5C1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9607C-013A-45C6-8DE3-43BC5018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C4D8F-B19E-4D0B-B0D1-2AAB4995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69985-2ECF-4CEC-8DDE-D32D07BC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CC3C-9AD4-4924-9E89-C7C11E2BE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838D1-897A-48A5-8524-32EA535E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33FDCA-A397-4C0D-BDB2-5B09E7B7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28276-63D2-4B47-8408-A50BE46F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C5E399-9F24-43B9-9201-9896FF3B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943ED-FBE1-4BCC-9523-B196296E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05FAA-8FEF-4B7B-8FBC-00E61BE4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57ADF8-1953-4CF7-9D60-2035C505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905F5-4F9A-4239-B154-DBDAA9E1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A89FD-9CEA-4509-820D-BE475F55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2E538-8AA4-4082-8022-187F2E319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7AC1-0BE0-48F8-9EA6-D8544CE8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D20C6-866C-4BF5-8870-1CB9E4783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47B99-631F-4243-BB24-312D13E7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971FF-D113-43F1-86C9-A328F4CA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94209-2673-452C-86D1-A795A1F7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30C1F-7B20-4BF5-8221-B40364E4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EB201-B2E2-488D-BE7E-2248C3EA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AE932-0114-48FB-B353-12A4B8B6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66ED7-9CCB-424E-B32C-D1CDD7DC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63EBF-B926-41F7-A8B0-70E8A42A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46F66-6B44-49C3-AF4B-E59C6F4E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6879-D5C7-4FE3-8409-6482540E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61961-28F9-4A37-B84D-CE6E561F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85407-FC7C-43AE-807D-24333A325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0BEDD-8155-4B2B-94B5-416FFDB6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BE8C03-1EBD-457D-A8B8-E64971184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8BE3C2-87AB-4DF3-ABEF-A1F02D69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BDE672-FD0E-46F9-8867-FC5CB4A5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43F229-1698-42B9-951A-5F92DD9F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8F24F-E430-45A5-A0A9-C29B7EAD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48BCF-6B32-4F59-B60A-62F0F015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B4335-2E92-400B-B8FC-ED8D5417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263A-97A6-444F-99BC-6FEAE172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30197F-9B0D-4A17-81A3-687BA0C8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4C8D17-2A4C-4E48-BD50-0DBA5BF4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30850E-C1FC-469B-8AEA-ADC8D635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56871-19F9-4288-918B-377C02F82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C5C4D-819C-4A50-BC6E-6DC15096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145B64-C714-4A9F-9527-915054AB0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E97278-8D61-4CB2-8E8A-6CB3CA75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930AF2-4D95-4458-AEE6-B7717D56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D6651B-2288-4890-977E-B78A6034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AA2C6A-C502-4DB0-B01E-1CABBB4A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D959-D242-4B63-885C-589B7205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BC10C3-C51D-4F32-A83A-F6320668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8D47CA-CE82-4C05-92F8-96E1838C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5E7A68-A73C-4221-B63C-BC61ADE6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6D8655-6FC7-4F87-ADDC-A5A23410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207140-D0CB-423E-97A4-69DB68B7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905439-A307-4A43-9589-4398EF2D0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897403-C0D1-4BD3-8F5B-E5173813F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731A39-82AD-4CB8-A675-3A5416D2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F253B3-27EB-4059-96CC-6D51D028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F45134-DD48-402D-B77C-EDA27B87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462D-C0F2-434C-AE00-8C9AD4A0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FBE0C7-6D2F-4DAE-B1F9-04823ACE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760A51-1BA5-4114-B6E0-85608C81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B71DC2-1B36-4E1F-957D-AFC88F11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2E6BF9-82E0-4A54-A950-4CB2812F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552DB9-9E94-4315-840B-CC9014BB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ED200D-E2D0-4B61-BDE2-827B8AD0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5F50FA-13D7-4F00-A23D-4DBAD17B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337D24-E347-4E41-B94D-B57C0BAA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D1C6E9-566D-4B38-B5BA-4D274B7D7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431BC8-1D95-40D1-BFC6-F3F33762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59DA-AC7F-4A0D-AC1D-533B8CC4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64A153-6464-4D7A-856E-43200D6A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4A71EE-9892-4B75-8AFD-827C0E18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B3CE56-BA2E-4601-858D-60416D7E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D9E563-58AF-4DD5-9565-98A5C58F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1BB7F9-0185-48DE-9B17-9CB8BD92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F002CB-24D7-479E-B99B-A2D417B2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09F2F1-5588-4FFD-AC36-9B117191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22CCEC-3EB9-47CD-BCE6-5B29653B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807B0B-6D85-4395-8762-DA4895E0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A0D61A-34B7-4D16-AB52-66C479215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B8CA-AE41-4882-A24D-77EDDBCD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F02C5B-8AF6-4785-8CD0-11281AEB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260895-B57B-4081-9FFA-DA0C01AF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4ACFA7-69E1-4CD2-8BAF-CFF046EF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3715A2-ED92-4649-8CED-03E07455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2A8846-B3FC-40DD-AD13-8F92C0DF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F8DEC4-3A16-46BF-ADFE-C78BE3E3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D6E9FB-49F2-4439-92CE-3AE73D0A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539311-5E52-4599-9C5A-27B80418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406C7B-A4FF-45ED-8CA7-22E3405D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3C0696-13C3-43BD-B669-7E40F7A4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83B0-5C45-4371-A5F7-90218302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01BE81-9FBE-4947-A66D-B7885088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95D93F-018C-4DB5-8DD3-E39142D2E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726A48-9925-413B-8ECB-7F2235F39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CC90FF-33CE-4346-B36E-A384238C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7C06AF-EABC-4D10-92FC-1641E14A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26AD3D-776D-4B9B-A775-10C1C24A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33E614-330C-4830-B9AA-41DD9CAD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74C6ED-5549-4AB4-AAF8-584081BD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12C803-EEB4-4DB2-9F2F-FB966B35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B49366-4350-4365-871A-48663342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D542-E9A4-4477-939C-936ED7E0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9737-8E39-4300-87E1-559B0CB2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4CEDA6-530D-4F4B-ADF3-D007261A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2996DE-81AF-4405-908A-5D2E4DE6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E65795-82C7-48B6-A358-6CC29645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8EEDCD-2CD8-4286-B7E6-21A5B4B04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50E93D-A2BC-44B7-8360-6BD5FD1FE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4167EB-7310-4023-956C-8B455775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4D3C85-2595-4FF7-B8C9-3FF1D6DF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F9CF7C-5690-45EE-883A-403E0AF0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B65920-74C7-467E-B62F-8BFEC1DC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8FBC64-5EDC-438F-B11A-3A7F89FD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0508-2BEC-4164-9CF5-B16D5F0A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A44FE3-6A20-4490-A3E0-9E481095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9ED229-742F-4B80-B6E4-28340B00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D3766F-AFF5-4C3E-868F-302BC442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7F59C7-D048-4880-9AFE-D306FD48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0C0E39-6B0F-4A98-8FFA-29E72476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B1A013-A50E-4795-B4F2-4DB66A10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AB1D21-E67C-49B6-B0DC-AE2958C9B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B0728A-09CD-465F-92B3-E5E0FD95D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1097CB-B892-4E08-BB81-8D6A7624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053A85-9327-4F59-BBA9-E02FC480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B4A4-1A2E-4774-AD84-B984BE8C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8A3F10-5941-44F4-B414-2E878F8C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B5BE5A-A7F5-417E-AD6A-7CEB17C0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A58CC9-9196-40AD-AD9F-EB22731D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CB9364-DBF2-4229-A36D-14821824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F444BC-526F-4C8F-9EC1-B3F3B7F9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F8ECE3-4537-4D3B-92CD-8ADFF7FD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27D1D8-3D38-46C3-BB30-27533D03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2C223E-7B34-462B-8F76-893D581D1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A49AF6-8A82-431A-A49E-501909EF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F778C8-649C-4FDA-869C-073399BF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ABEF-C371-4EB0-8268-0EA5B43BA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C86D79-0513-472B-A36B-6975EEAD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2DD13C-BEC0-4823-AB43-F5CD2720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1A6107-2900-4C58-9BED-252120DC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F1655C-9563-477E-942A-97FBA91E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DD7EEE-5313-48A7-907A-3815EA49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055080-5B4B-48C0-BC0C-6348F36D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4DD45E-A37B-49AD-9251-E08E6BD6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657C66-7A9C-46D9-BBC1-79988895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A60167-2FCE-435D-917D-03DFED9E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9537F4-3A23-4B85-96FF-37F2432B9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041E-BA3F-42EE-8A94-C0AE5E32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CD3C45-3341-46F7-B8CF-55438A9FC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4A7103-2607-491E-9373-FEB259435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446B4F-EEA6-4603-BDB6-F108BD2C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2FEE18-D637-42DD-9E10-877A0ED0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476114-A72C-40E2-99AE-F09204BB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D11112-33A8-4BD4-A972-02735E26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D1497C-FD45-4202-A2EC-67FA4274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FA934A-9EE7-469B-9C33-A04A9BEF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A73B99-1F96-41E4-B1FB-2D0A87A6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CD918F-0294-449B-AAC1-5E648118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CA521-B1E3-4313-9851-F84B2722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78D19D-435A-4E5A-9B8E-E38BE8C4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6D87BC-6144-4C11-8D02-550CD5B60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116AB2-A8A5-43DB-904B-E8E1CE66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85234A-D426-46E7-99BF-0901416E5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5F3DD0-22DC-4195-9E0B-9F2DAFCA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B1BC13-83AD-4395-96A5-E7E759BD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92DE0E-F114-4688-8B96-6C222FDA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4481E0-0F26-4D16-A503-BEC9493C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734257-4906-41B1-BAA4-895794B9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12B181-F21D-4E18-949C-F4138616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FBA11-2370-434F-B519-0C97A7B6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4BA735-5FE6-4D36-81A2-CBF6572A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C332F5-5AB9-4071-B193-B58B1EA4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F7F63B-26F5-49ED-8026-2E6994B2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F508A9-65A9-4818-B134-8EB56953D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C1086F-AF92-4B2C-827A-7E00CD628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609ECA-CCF1-4D6B-A3C8-0BD0946E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5E23B6-7766-4647-BD70-8D53C92C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A7EB44-19C7-48DE-8079-48834575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48617B-E592-49B7-A2F6-33C5A8A7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3D4ADF-9201-42FC-899C-DD2E4BDA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3EC39-AA74-400A-9CB8-C332E439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B6DC1F-13BA-42D3-B134-35A033C6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3CE550-1C1F-4A61-8490-F7E2A948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9454C7-A1DF-4A5D-9AA1-1E230D84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2B7BDF-00BB-4A75-875F-AA836E36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A498F6-4F14-4B6D-B6B1-C4A92D87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B9B086-A854-4834-8A6C-86FE2E6A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A729D5-4BD6-4B61-BE65-68950C83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8DE056-0A77-4918-AAF9-484B46B4B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6444A0-FEAF-4D33-9A65-424546ED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B487E6-382F-4C28-94EE-090E8DE4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48DAB-F818-49F0-9833-A726AE88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ABC13C-0042-4669-88CC-967B2EBA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3137FE-51D7-48CC-9F88-0692159D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B04EF0-9BE0-48AD-91BE-62F9D5A6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050567-9F28-409C-8268-797FA01E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83FB2A-9108-4AA1-8C24-03E83B8E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BF34E0-8AD8-4ADD-B407-E9F964AC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DC1B68-623E-4881-B35B-1F08B86C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631ED6-C3E2-431B-9BF6-789C770D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8A6CD1-57FB-41B2-8C2D-3C604A53D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C1D4D1-8390-4883-A50C-3AB66097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0A0A4-D2A3-4A3B-AF1D-B33F208A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707AC6-8A43-47C8-8D8A-28FC55AB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445D60-3C77-4ABB-B13D-792F13BA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48251F-DCAE-4535-9449-9E70666F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D6EF15-EA00-4AAC-821C-E3CA7712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D5FD94-6191-4B7D-B2A4-30CF226D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463DEA-4BAA-4645-8050-799DA772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8FE9D9-6DFA-416A-A0FB-09C51867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270DA1-B4E6-4AA2-BD5B-ED956CBE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D07E50-C082-4624-AEE5-2B70F01E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D44D68-241B-4707-9734-E80AE203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38EF-526B-4C8E-BF8E-A67D502D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D36EF-B3BD-45FE-BF29-3FA0F4A8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5520CCD-CFE4-45CF-895E-3AB03FA99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4B29ED-29A0-4DB9-B63D-25EE18E6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5DDFDF-D3BA-4D21-AFB8-D2E3F27A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7FD0BA-6F89-4947-84E8-5F423EF2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9213662-2CF7-4412-872D-51E3F954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06E6C0-EEF2-4627-A693-79C01D75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992997-2D3C-4373-BACD-3E3F8E04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F670F3-FE57-47B0-8789-C030A6D1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4A3EBB-3D6F-4FFA-817B-29DA5D7F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317974-247F-4BE2-863D-C7E83FBA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44A8F-B566-4372-9A31-7FADCA4B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A55B6F-4C1E-43DA-ABC4-3B95A43D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EC8E4F-1EE2-41FA-84FB-D60EA5F3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A4234ED-453F-49E5-A3D3-12D26ED07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F08360-7A6C-4F1B-A02E-C5A35EDB1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B89DA5-2118-41D9-A622-069C7297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9C2784-E47D-4328-8965-CBF22DDE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0A401B9-410A-4BD4-9A7A-6AC903AF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EA0AE79-DE97-4A0C-9446-7A0C5D50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11551E-A73A-4C0F-A137-E5A8D528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C386D53-3865-4CAF-9FAA-6BFA331B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EDE59-3D73-423E-BB7D-74490B77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18ED943-E784-4370-8E61-CF50DE3C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02B0850-A250-4504-8508-F2310AB5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18FA5D-3B6A-469C-8A00-0D32FC80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CE2DE91-4717-4443-9362-8AE40635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BD7B8DE-0268-4B47-B529-7DCEC3D6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37C356-DFE5-4257-9E08-CBF8ECACB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2D65EC6-A283-4345-A975-007A3236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143383-BCA5-4D16-969E-D463900A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1A9AF0-D83A-4B23-9C64-2CD06922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6A7FFDF-DF7F-4487-94D8-8CBDD47F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0AB06-FFA5-4100-B2EB-93656D51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ABE3CCD-7640-4663-94D6-D426ABA0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6DC5BD-B580-4B92-B96E-2D54433D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241175-3481-49DA-B69A-86B49918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02892CA-21C8-4EB5-BEDA-F3029F49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F86E762-5885-4522-9B0D-5FAF487A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D082FD-4F24-4106-A84B-DE07EA29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BFC47BB-BF41-4A68-B02F-F934FAE0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D7BB3F-7071-4148-BF7D-B28E140FD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22A59C5-A4BB-4741-9F29-E907A0F2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BF5AB8E-3D2E-4C19-9E7B-02D578AE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890D0-1073-4BB6-89FC-A90094BD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AE4B50B-09C1-4F7F-956E-9546E16B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10A2EAC-C69D-4598-ADB5-9458AC13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2168150-E621-43EC-AF44-F358DFDA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2F796AF-FA05-4CE9-B2E5-00E87DD1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84761AD-049F-4BCE-B551-B1A45985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BB9CF4A-B0EF-4A14-A63C-ADFF7543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8304E2F-9CA2-4F01-B1EB-B446DD1B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638A438-68F1-4649-B1AC-6FD7E4BF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46AAFB8-5D23-4CA1-9E53-FB80CA194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0B54701-E294-4F3C-89B6-66C5D6F8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48A49-BB81-4BB6-90C3-DAC18D64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B6CC204-02D6-4DF8-A1A8-F3D4B0D5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4F8D1C-D7E3-4C14-B57E-DE7DA8A3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609B6C2-8B96-4A61-8357-282D9425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46FBA1D-CBD4-4914-9DC5-928AD030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85CC211-78F4-466A-946B-467CB901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CD597C-4DD4-44D5-A76D-DF8410B5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34D420-95A5-45D7-809F-C12BC35F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7110688-DAC1-4FA7-BAD2-BB39BE43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6AF6A2F-35D8-4678-AB51-A15433FC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A6F1EDA-F9C3-4E0C-B71A-80D6E2C72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7FFC8-6F02-4E00-8B29-47DE9BB8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416EE51-54AA-4BF4-999B-9F1CA0FC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E4677BA-F065-4FEF-89AE-B7493A1C2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CB016DD-8AC7-4BD5-903A-17E8E743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9329EF-2D3F-4F3A-A3EB-2929075A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149159D-4A26-44F2-A7FF-B6177978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CD434D3-604A-4A6E-ABCB-1A7FD04B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D3B72E7-241A-421E-8310-DDD6A0B1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974A9DA-1359-4594-9C05-DD0186B6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2489705-9A43-4C6C-A1E6-4B8A1C40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9C1D37A-B922-4B2C-BB50-FF4013AF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A4844-D04E-4A10-B35A-CE0FB456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B3310C0-28B2-48F2-90DF-6ED6AD4A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7FF18DC-9C23-4CE2-B5E7-F080E0F0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7CF4FF7-6F4E-43DD-A3F6-1E36304C5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3B890F0-0BA2-46AD-9644-DF4F3E1F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5E1E8AF-6084-4D85-B291-E3EA74BB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7B9AB3D-C7BC-4D38-B9A7-A54DC106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D7B7300-BEA6-4BBC-85A3-D18B495E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39869D2-328E-4E63-BF54-8455753C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366DC83-4F14-483E-B203-626AC80F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21A3393-D568-4EAD-A2C8-DE04A74F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2FFA0-D8AE-4C9C-95FE-50594C7B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FB58252-E92F-4DC2-9AA2-C4174E3D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1674564-DD18-4B5D-8D81-D512D76B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34DC2C9-7E51-4701-A3A2-1C2A2204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A5CB9EE-BBEF-442C-BA12-73A554550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3065628-CFC3-4147-8A49-112D86AC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B92009A-F166-4E35-B0B6-8072BB65E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A40196A-BBD7-4AB3-BBB5-5D4FE246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339C035-3902-48E9-BF48-01ABBE55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D59D455-4948-4A39-AF3A-06C3BC2B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6DAD063-706B-4029-9BB9-D559AE94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DCF14-7449-4DD8-A5A0-A42726BC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1B0C304-7040-4CD1-B5C2-92EF7E64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238A651-75EB-4A5A-ADB5-92B99C65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63738FC-184C-4E1E-8B70-AFB1ED6A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65EACE0-DB1D-4364-942F-AE941921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AC25BD2-7FB6-4C22-A0FC-74DF1F5C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D7860ED-0E2F-4008-AAAF-6F2DE8C7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56ABDDF-E557-403B-94C5-0885A8E46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25E0844-1896-4F30-8528-9FB8682E1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6A48938-75AC-4D7C-949B-E8C34EC5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219D9F5-6099-40A0-B398-BC571819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B5FC-6D7B-4861-8D54-2AA42E8B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7C102-59F5-4F08-B7FA-5071CF92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FD42BBF-FFE6-4B22-977F-D832F98E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C3DA865-F4FF-4F1E-AD82-08EED2AD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1BA8AE2-2DBE-4330-8AFA-C28A1464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2B06A53-6343-4549-8160-B1BD6462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EDA5697-E663-4103-B3B2-96F4530D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A68C505-2AE1-43E7-9589-5F642128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A14A68B-7BFD-4EDB-A4A1-476D7F2C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573CEB6-EFAD-46C8-A57F-50028D78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E4027E3-2122-47D2-8947-8EDBC249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6E1B4C5-A4CD-4CAD-8E76-73447B5B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77009-88FD-4DE2-89DE-BA50C7DF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964BE6C-82BB-4A97-B96E-7E4D8EFE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A1C1FD1-8959-423E-BB96-4B4F5C10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9AE5F62-03DF-49C0-8BC5-C8CB2B97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1AA89F7-94A6-4A08-ACDC-4278CEDD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14D6F75-DEA7-4EA5-A606-870E9A7A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8B4D97E-485B-46A4-94BD-E089D42F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27F9B61-854F-497E-AF10-3C8D84C3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1ED01A0-044E-4240-85EE-0D70F996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37C9E3A-F186-4FF2-BDE4-4439EA63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DBCE560-EF46-4D12-9BF2-35DC18A3B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D2286-A359-4ECF-86E7-32B59B8F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50784F9-29E7-4DFB-9493-F6C660D1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40FDEF2-AA45-4790-93BA-EDAD9534D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AD073C3-4B24-4FD8-B697-772B8915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5863E04-1166-43D9-9630-8B8D6B9A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1375553-2846-4426-ADA6-D7D01C79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1EAC049-E252-4310-9C6C-8E77E7B0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B5F550E-CF5C-4E26-9A15-DB408F07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CEB91BD-6AE6-492A-B259-D6BF8593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A58E65B-9A05-418B-AF2D-77740FD5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033CC1A-AFDC-405F-BC4A-A0B3710A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C29BB-C7D5-4E0E-A506-DF9EF84F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A4AE020-D972-43D0-944B-FA201786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09B9FEF-FBBA-49BA-ABF1-3E88B4569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7E01998-24E5-4AF7-9454-DF9F15E90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D1DCD01-62B7-4064-B656-A6D572F9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884FBB5-7A71-4240-B2FC-C6CB07EE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EC8D2A9-F768-4C39-BC1D-8F3917F9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65FAB82-9569-4D17-A1EE-3F43F6D9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01B2827-E084-4E40-BFD3-7DF060E3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F6389FA-92D4-454C-9334-2166DC97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DD2C140-2B1C-4CB9-87DC-C86BC11C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B8342-6D28-4584-A4C0-6992A8A0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6F7C523-F347-4F83-9158-566CBA13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4D06CD6-3B9F-4A94-8665-5243A931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C6547D5-7B81-4948-A3EB-8C82A929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27E28B6-3284-44D7-B0D3-B091A6A3C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9359E48-CD38-4507-A546-6509E1409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A248610-F82F-429A-BB06-56774BD41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38EBA20-E4B6-48D5-AA79-55B35AE1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E678CA7-51FE-466B-BC4E-9DEB8F54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D6CD98E-564B-47A3-AD86-2F3293F5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3E5D527-3901-481B-9184-3480A640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8077C-7F9E-4990-9407-58FEC21F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DD5BCD5-4FFC-47DB-95EC-A2EF0DF6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B5C6701-2842-44B7-B972-2B6A5B9C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7D71D4D-9D7C-4102-82F1-EE3B9ACD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9E67160-698B-4291-A5A5-68377283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A840252-66EF-417E-8389-F1C11BEC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544088B-1EBE-4CFA-87BB-33AE9F3A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1C1D876-BB64-4153-9ADA-2AA36D5C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8D718F8-617F-4224-84C6-D1B28501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39C0CED-C9AE-46B1-B8C3-E22C988E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BB9AF53-7794-4603-B8F4-5BC31A94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BCC6C-A278-4F1A-8299-BBE4391A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4A90593-452A-4736-91B7-23CC8AD4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D6003EB-5CA7-41EF-8527-57E0DB40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DF356FE-F97F-4CC5-84EE-08179F62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349F733-74A7-4F2F-A24A-9ACBA981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0F87633-9F82-472A-85E9-DB6AF898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FB924BA-67EF-4D5B-8689-C4C7056E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E8B0F15-46D9-48B4-9F58-851BABBB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5064246-CF4F-4311-A194-AB0042478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13E8B49-2B15-410C-B4CC-FF0C4271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5D262D8-3840-45FD-B842-C950B467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903AF-6CBD-4036-80A9-DDEEB10B3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998FEE9-4162-499F-BCEF-14E2C628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77DF8A8-C8E7-445E-A225-E5E3C7A3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5DA0E98-9976-49C6-AF17-A39E20DC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CFB95A5-39F3-4027-807A-0AE913CA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1A72EC5-9D15-4D0B-B205-0DC3D04F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72BD6E5-2BB4-436E-8477-DB86F1DF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6D16184-096A-4929-9C06-96971BCE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F35A47C-C434-4061-A842-F9C2F553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278F19D-AEDD-44E9-86BD-0C241A0D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46A2283-C671-400F-A4D5-41A2A06E5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8F75A-A8F9-41B0-A278-065802B7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2D53D07-8391-4E64-80DC-8A8A093B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20F66E5-6748-4E2E-A46D-2B4ABA69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732DD96-4A8F-4B1B-9815-AF5194B7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F5AA686-5ECA-4FE0-8940-2FED388B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C2C2966-AFA2-4F9D-80A5-AA7F5AF9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0A0149F-F953-4FF9-A6CC-2493CBF2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D0A8D25-17D4-4F34-8E71-BD031E3B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8AB8006-865A-4BE3-B9CC-FFB8552B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0B39EAD-9F9A-4246-ADA8-951753A8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8E6F85A-5879-4933-90E5-584FB4F0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D69B0-C3A3-40F7-AD78-F1D4EF6F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3F0D7BF-2678-479D-B088-7E1077F4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8649611-1FB8-45AD-8C16-069F20841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D14F3D0-FB9D-4BC3-802A-72F6B92D8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280488C-35CC-4E11-AFA4-F1913946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B761849-0B44-416C-8F43-70E1EC98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C9CAC06-D35C-4884-B632-7F8D8888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F917E6F-BE00-465E-9656-E5C27DB7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F05B8C1-68EF-4C36-B113-B1241E5C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BC97B35-B364-4240-80D6-E8399137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AFFD71D-706E-4A22-8875-0EE3EC18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29D7-3163-4016-9EA0-BEED58D6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496B3-6D8A-47D8-9494-FB2C3A6E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7319FF9-7C31-4B80-9ED4-9E8F4E69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9E069D7-42B1-42DC-B722-AFD5372C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0080AAB-69F0-42A2-825F-084345CA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5ED9257-7336-422D-9A97-BA574921C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3CE8681-4308-4450-A37B-CA2D37EFE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70DE5-A194-4503-BE27-17D576F7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BA92B-8027-4BB7-905D-EDA9C0B7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6AF67-72DA-4359-9230-E9DD08B0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00329-47A0-411A-888F-37CD9E4D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62C9C-3022-4745-B3CA-5D32E34E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5E9C9-D31E-4BCC-980A-F4B98371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E7AD7-D569-43E8-8CB8-7F7FB8BB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88781-D0BE-4346-B1D2-0D28849D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3AFE7-C6BF-4154-8404-E564B8A9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F623-8772-4BAC-90FC-04B0A12B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FEE85-FAE5-4EC5-8162-A62878B65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0B70A-5454-4F71-9C78-8496EC80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6FF72-7089-47F0-A667-232359F0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F6EE1-6076-49B6-ABD1-A07C5629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0BD3E-C3A5-424E-BB43-70CF3C8C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10287-D2F8-4ABE-A48F-33DB2F3C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58399-5B6E-42F5-849D-8D98E560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B2BFF-3325-46EB-92F6-657309A6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7DAD1-CA6C-4FAE-85A9-E93DC9F0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A9FF5-6266-4938-8ECD-C6A101C7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F891-9F52-427D-903F-95711617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7C5E0-C130-4AD7-9399-33CDE4E8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D6B08-20E5-4A43-926B-4B2AD65ED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2F9AD-32D1-40FA-BFD3-A7F2F0620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3EDF3-7302-48B1-BD81-E2987CAE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B6726-5A4A-4A13-8B1A-7129FB39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27F67-B627-4CB4-88B7-4DDE53B0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3741B-6ECD-4F85-9DF1-C518B591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BA083-FE3A-44E9-BF5A-01000A51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5CCDB-288B-43F4-9B7E-44629B0E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B3831-76CD-4657-B6D8-3EE36BC9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7B7F-31EA-467D-8160-457E82B3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2645C-488D-41C6-AADD-41211754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E3240-A0BB-40C5-9791-C0981967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F65F9-5D08-4430-A532-0C4B9533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A7227-63E6-4185-BDFB-ED612C46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26E85-6867-4353-9A3C-BA8E89E9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E6408-FBEA-470C-B0CD-0DD78D57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BFE33-C7E5-4581-AA3B-B9B57724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A4BED-BA76-4539-A16F-5EC2F228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B487B-584C-43DF-8CAB-765930F7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5D15F-C61C-4BED-A2DA-9A4DBFFD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B154-7B56-42A4-A518-85FEDBA8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8F644-3828-4680-960E-88C990FD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70AED-35B0-4656-A612-B1CB8C6E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BCD73-E21C-4765-9252-9BEEAFE9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A3235-549D-4896-800E-E81F005A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36868-7793-4D32-98F6-9E3BE0EF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6CA30-97E7-4C20-B75A-2B058A96B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886BA-F771-4920-85A0-E6CBBDCC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0C269-7A4C-4221-BDD5-0041B436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6FB2B-94D4-4C20-BA85-37C3B22C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68B7E-AC4E-4049-A14A-CE7A3DC5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45.xml"/><Relationship Id="rId6" Type="http://schemas.openxmlformats.org/officeDocument/2006/relationships/slideLayout" Target="../slideLayouts/slideLayout446.xml"/><Relationship Id="rId7" Type="http://schemas.openxmlformats.org/officeDocument/2006/relationships/slideLayout" Target="../slideLayouts/slideLayout447.xml"/><Relationship Id="rId8" Type="http://schemas.openxmlformats.org/officeDocument/2006/relationships/slideLayout" Target="../slideLayouts/slideLayout448.xml"/><Relationship Id="rId9" Type="http://schemas.openxmlformats.org/officeDocument/2006/relationships/slideLayout" Target="../slideLayouts/slideLayout449.xml"/><Relationship Id="rId10" Type="http://schemas.openxmlformats.org/officeDocument/2006/relationships/slideLayout" Target="../slideLayouts/slideLayout450.xml"/><Relationship Id="rId11" Type="http://schemas.openxmlformats.org/officeDocument/2006/relationships/slideLayout" Target="../slideLayouts/slideLayout451.xml"/><Relationship Id="rId12" Type="http://schemas.openxmlformats.org/officeDocument/2006/relationships/slideLayout" Target="../slideLayouts/slideLayout452.xml"/><Relationship Id="rId13" Type="http://schemas.openxmlformats.org/officeDocument/2006/relationships/slideLayout" Target="../slideLayouts/slideLayout453.xml"/><Relationship Id="rId14" Type="http://schemas.openxmlformats.org/officeDocument/2006/relationships/slideLayout" Target="../slideLayouts/slideLayout454.xml"/><Relationship Id="rId15" Type="http://schemas.openxmlformats.org/officeDocument/2006/relationships/slideLayout" Target="../slideLayouts/slideLayout455.xml"/><Relationship Id="rId16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3.xml"/><Relationship Id="rId6" Type="http://schemas.openxmlformats.org/officeDocument/2006/relationships/slideLayout" Target="../slideLayouts/slideLayout494.xml"/><Relationship Id="rId7" Type="http://schemas.openxmlformats.org/officeDocument/2006/relationships/slideLayout" Target="../slideLayouts/slideLayout495.xml"/><Relationship Id="rId8" Type="http://schemas.openxmlformats.org/officeDocument/2006/relationships/slideLayout" Target="../slideLayouts/slideLayout496.xml"/><Relationship Id="rId9" Type="http://schemas.openxmlformats.org/officeDocument/2006/relationships/slideLayout" Target="../slideLayouts/slideLayout497.xml"/><Relationship Id="rId10" Type="http://schemas.openxmlformats.org/officeDocument/2006/relationships/slideLayout" Target="../slideLayouts/slideLayout498.xml"/><Relationship Id="rId11" Type="http://schemas.openxmlformats.org/officeDocument/2006/relationships/slideLayout" Target="../slideLayouts/slideLayout499.xml"/><Relationship Id="rId12" Type="http://schemas.openxmlformats.org/officeDocument/2006/relationships/slideLayout" Target="../slideLayouts/slideLayout500.xml"/><Relationship Id="rId13" Type="http://schemas.openxmlformats.org/officeDocument/2006/relationships/slideLayout" Target="../slideLayouts/slideLayout501.xml"/><Relationship Id="rId14" Type="http://schemas.openxmlformats.org/officeDocument/2006/relationships/slideLayout" Target="../slideLayouts/slideLayout502.xml"/><Relationship Id="rId15" Type="http://schemas.openxmlformats.org/officeDocument/2006/relationships/slideLayout" Target="../slideLayouts/slideLayout503.xml"/><Relationship Id="rId16" Type="http://schemas.openxmlformats.org/officeDocument/2006/relationships/slideLayout" Target="../slideLayouts/slideLayout50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BB2E-7F06-412D-A663-CB5A08F8C4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62C4-C2F5-4F4E-B928-7CBFEA286A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63F2-6772-4ABE-81A3-638206A73E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C2CF-D04A-4016-89EC-02CB49BF3B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305B-AF1D-4696-92FC-E298511BF4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80F1-52AE-42F0-AA30-67D5696EED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C544-E3CA-4EEB-9C95-56B1AB93FD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1F58-BA03-4878-86EA-E33F5C88AE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393B-BCB2-4D31-8091-20B9C076BAC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7D5F-9352-4660-8C26-369712F1DE5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7E62-0718-414A-9D81-F9C7DF18570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5921-25C2-4DDF-90C7-10D2AE5BE9A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DE52-5DF4-49FC-989D-F8CD16D96DE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01F5-BA21-4B3D-A7C6-52CC49D175D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CC27-8C95-421B-B970-1F9DF0E1866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6595-10F2-4E76-8730-EE076F6B6D4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8B58-DC62-4D85-8361-485F1A553A5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93F8-753D-43DA-9B5C-89DEFEEE2B9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5FEE-1E7E-488F-BA67-D8A0DC330B2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402B-D4D7-46C1-8206-2832583EC82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7990-69A3-4867-BBCB-C0A24CECA0A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162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4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1165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6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67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dt" idx="8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 type="ftr" idx="8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 type="sldNum" idx="8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1E25-389F-4369-9327-16814E4636B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5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C0B3-D3C6-49B1-BFE3-6AF8533A61C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1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215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 type="dt" idx="8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 type="ftr" idx="8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 type="sldNum" idx="9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6CAC-5CC9-4572-9D65-597F4133524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6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 type="dt" idx="9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 type="ftr" idx="9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 type="sldNum" idx="9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7A9C-9E7B-4650-892D-DC6FE9720D5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 type="dt" idx="9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 type="ftr" idx="9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 type="sldNum" idx="9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ADA6-289B-44FF-A24A-CE7F678DB5C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4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 type="dt" idx="9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 type="ftr" idx="9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 type="sldNum" idx="9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89A9-8C29-401D-B795-E8BC5082CCE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 type="dt" idx="10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 type="ftr" idx="10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 type="sldNum" idx="10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D6C0-7D61-4CFE-84A7-DCAC0AAC4B1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6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37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9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440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dt" idx="10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ftr" idx="10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 type="sldNum" idx="10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B6AD-CE7F-4B0D-A5F0-969BB595954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485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7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1488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90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 type="dt" idx="10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 type="ftr" idx="10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 type="sldNum" idx="10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FFCF-9554-416E-9F19-07138F09C9F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3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38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 type="dt" idx="10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 type="ftr" idx="11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 type="sldNum" idx="1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7A13-B59F-4075-855C-9E24CA4A9C7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3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84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6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dt" idx="11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 type="ftr" idx="11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 type="sldNum" idx="11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9A96-EFF7-47FD-86AD-F381A9E8B67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5"/>
    <p:sldLayoutId id="2147484131" r:id="rId6"/>
    <p:sldLayoutId id="2147484132" r:id="rId7"/>
    <p:sldLayoutId id="2147484133" r:id="rId8"/>
    <p:sldLayoutId id="2147484134" r:id="rId9"/>
    <p:sldLayoutId id="2147484135" r:id="rId10"/>
    <p:sldLayoutId id="2147484136" r:id="rId11"/>
    <p:sldLayoutId id="2147484137" r:id="rId12"/>
    <p:sldLayoutId id="2147484138" r:id="rId13"/>
    <p:sldLayoutId id="2147484139" r:id="rId14"/>
    <p:sldLayoutId id="2147484140" r:id="rId15"/>
    <p:sldLayoutId id="2147484141" r:id="rId16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 type="dt" idx="1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 type="ftr" idx="11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 type="sldNum" idx="1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28EC-52C6-477F-8D89-4D5058F73C4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2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35BC-C6D3-4546-A6B9-4D0A9289232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67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 type="dt" idx="11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 type="ftr" idx="11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 type="sldNum" idx="12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A42B-6239-444C-A584-5A2DCC2DB28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 type="dt" idx="12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 type="ftr" idx="12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 type="sldNum" idx="12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3FDF-B9E8-468A-87F6-81EC54B512C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9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760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2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763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 type="dt" idx="12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 type="ftr" idx="12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5"/>
          <p:cNvSpPr>
            <a:spLocks noGrp="1"/>
          </p:cNvSpPr>
          <p:nvPr>
            <p:ph type="sldNum" idx="12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7BDC-D0B3-4235-A783-E09FD635B32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5"/>
    <p:sldLayoutId id="2147484183" r:id="rId6"/>
    <p:sldLayoutId id="2147484184" r:id="rId7"/>
    <p:sldLayoutId id="2147484185" r:id="rId8"/>
    <p:sldLayoutId id="2147484186" r:id="rId9"/>
    <p:sldLayoutId id="2147484187" r:id="rId10"/>
    <p:sldLayoutId id="2147484188" r:id="rId11"/>
    <p:sldLayoutId id="2147484189" r:id="rId12"/>
    <p:sldLayoutId id="2147484190" r:id="rId13"/>
    <p:sldLayoutId id="2147484191" r:id="rId14"/>
    <p:sldLayoutId id="2147484192" r:id="rId15"/>
    <p:sldLayoutId id="2147484193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7375-F204-42AA-99FA-F156CDD05E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3049-587A-439A-99A2-5448AA4C72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00AF-2F7C-4E51-AA85-7B67B018FF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9C70-5255-4674-91B3-8634723620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35CE-9CEA-43ED-9F80-9E86F8FEA0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/>
          </p:nvPr>
        </p:nvSpPr>
        <p:spPr>
          <a:xfrm>
            <a:off x="500040" y="2858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ПЕДАГОГИЧЕСКИЕ УСЛОВИЯ ФОРМИРОВАНИЯ КУЛЬТУРЫ ЗДОРОВЬЯ ОБУЧАЮЩИХСЯ ВО ВНЕУРОЧНОЙ ДЕЯТЕЛЬНОСТИ ПО ФИЗИЧЕСКОМУ ВОСПИТА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Arial Unicode MS"/>
              </a:rPr>
              <a:t>Чедов Константин Васильевич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 Unicode MS"/>
              </a:rPr>
              <a:t>, к.п.н., доцент кафедры физической культуры и спорта ФГБОУ ВО «Пермский государственный национальный исследовательский университет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/>
          </p:nvPr>
        </p:nvSpPr>
        <p:spPr>
          <a:xfrm>
            <a:off x="500040" y="2858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ПЕДАГОГИЧЕСКИЕ УСЛОВИЯ ФОРМИРОВАНИЯ КУЛЬТУРЫ ЗДОРОВЬЯ ОБУЧАЮЩИХСЯ ВО ВНЕУРОЧНОЙ ДЕЯТЕЛЬНОСТИ ПО ФИЗИЧЕСКОМУ ВОСПИТА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Чедов Константин Васильевич</a:t>
            </a:r>
            <a:r>
              <a:rPr b="0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, к.п.н., доцент кафедры физической культуры и спорта ФГБОУ ВО «Пермский государственный национальный исследовательский университет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Культура здоровья 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- это часть общей культуры личности, включающая систему знаний о здоровье, методах самодиагностики психофизического состояния, компонентах здорового образа жизни; осознание личностной значимости ценности здоровья и здорового образа жизни как необходимости личностного саморазвития; способность сознательной выработки индивидуальной стратегии сбережения и развития здоровь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Школьный спортивный клуб (ШСК)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 – это форма внеурочной деятельности общеобразовательной школы, ориентированная на формирование физической культуры личности, характеризующаяся физкультурно-спортивной и общественно значимой направленностью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ШСК может создаваться образовательными организациями в качестве их структурных подразделений или в виде общественных объединений, не являющихся юридическими лицами. Деятельность ШСК регламентируется Положением о ШСК, которое самостоятельно разрабатывает и утверждает образовательная организаци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Скругленный прямоугольник 1"/>
          <p:cNvSpPr/>
          <p:nvPr/>
        </p:nvSpPr>
        <p:spPr>
          <a:xfrm>
            <a:off x="611280" y="404640"/>
            <a:ext cx="8137440" cy="16560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Педагогические условия формирования культуры здоровья обучающихся в рамках функционирования школьного спортивного клуб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Скругленный прямоугольник 2"/>
          <p:cNvSpPr/>
          <p:nvPr/>
        </p:nvSpPr>
        <p:spPr>
          <a:xfrm>
            <a:off x="638280" y="2276640"/>
            <a:ext cx="8136000" cy="979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Реализация комплекса мероприятий, направленного на формирование у школьников представлений об эталонном здоровом образе жиз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1" name="Прямая со стрелкой 4"/>
          <p:cNvCxnSpPr>
            <a:stCxn id="1809" idx="1"/>
            <a:endCxn id="1809" idx="1"/>
          </p:cNvCxnSpPr>
          <p:nvPr/>
        </p:nvCxnSpPr>
        <p:spPr>
          <a:xfrm>
            <a:off x="610920" y="1233000"/>
            <a:ext cx="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2" name="Стрелка углом вверх 8"/>
          <p:cNvSpPr/>
          <p:nvPr/>
        </p:nvSpPr>
        <p:spPr>
          <a:xfrm>
            <a:off x="611280" y="1233360"/>
            <a:ext cx="46080" cy="44640"/>
          </a:xfrm>
          <a:custGeom>
            <a:avLst/>
            <a:gdLst/>
            <a:ahLst/>
            <a:rect l="l" t="t" r="r" b="b"/>
            <a:pathLst>
              <a:path w="46037" h="44450">
                <a:moveTo>
                  <a:pt x="0" y="-32198"/>
                </a:moveTo>
                <a:lnTo>
                  <a:pt x="29368" y="-32198"/>
                </a:lnTo>
                <a:lnTo>
                  <a:pt x="29368" y="11113"/>
                </a:lnTo>
                <a:lnTo>
                  <a:pt x="23812" y="11113"/>
                </a:lnTo>
                <a:lnTo>
                  <a:pt x="-30611" y="0"/>
                </a:lnTo>
                <a:lnTo>
                  <a:pt x="-19499" y="11113"/>
                </a:lnTo>
                <a:lnTo>
                  <a:pt x="-25055" y="11113"/>
                </a:lnTo>
                <a:lnTo>
                  <a:pt x="-25055" y="-21086"/>
                </a:lnTo>
                <a:lnTo>
                  <a:pt x="0" y="-21086"/>
                </a:lnTo>
                <a:lnTo>
                  <a:pt x="0" y="-3219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3" name="Соединительная линия уступом 11"/>
          <p:cNvCxnSpPr/>
          <p:nvPr/>
        </p:nvCxnSpPr>
        <p:spPr>
          <a:xfrm flipH="1" flipV="1" rot="10800000">
            <a:off x="599040" y="525240"/>
            <a:ext cx="27720" cy="4907520"/>
          </a:xfrm>
          <a:prstGeom prst="bentConnector3">
            <a:avLst>
              <a:gd name="adj1" fmla="val -877631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14" name="Прямая со стрелкой 15"/>
          <p:cNvCxnSpPr/>
          <p:nvPr/>
        </p:nvCxnSpPr>
        <p:spPr>
          <a:xfrm>
            <a:off x="371520" y="4176360"/>
            <a:ext cx="286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5" name="Прямоугольник 28"/>
          <p:cNvSpPr/>
          <p:nvPr/>
        </p:nvSpPr>
        <p:spPr>
          <a:xfrm>
            <a:off x="644400" y="4834080"/>
            <a:ext cx="811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овышение профессиоальной компетентности педагогов в вопросах формирования культуры здоровья л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Прямоугольник 29"/>
          <p:cNvSpPr/>
          <p:nvPr/>
        </p:nvSpPr>
        <p:spPr>
          <a:xfrm>
            <a:off x="611280" y="5722920"/>
            <a:ext cx="811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Разработка и реализация индивидуальных программ сбережения и развития здоровья обучаю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Скругленный прямоугольник 24"/>
          <p:cNvSpPr/>
          <p:nvPr/>
        </p:nvSpPr>
        <p:spPr>
          <a:xfrm>
            <a:off x="657360" y="3686040"/>
            <a:ext cx="8135640" cy="979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роектирование индивидуальных программ сбережения и укрепления здоровья обучаю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Скругленный прямоугольник 27"/>
          <p:cNvSpPr/>
          <p:nvPr/>
        </p:nvSpPr>
        <p:spPr>
          <a:xfrm>
            <a:off x="635040" y="4941720"/>
            <a:ext cx="8136000" cy="979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Обеспечение взаимодействия всех субъектов учебно-воспитательной деятельности шк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9" name="Прямая со стрелкой 31"/>
          <p:cNvCxnSpPr/>
          <p:nvPr/>
        </p:nvCxnSpPr>
        <p:spPr>
          <a:xfrm>
            <a:off x="371520" y="2784240"/>
            <a:ext cx="286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Реализация комплекса мероприятий, направленного на формирование у школьников представлений об эталонном здоровом образе жизн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Просмотр мультфильмов, тематических видеоматериалов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Обсуждение примеров известных людей прошлого и современности, обладающих высоким уровнем культуры здоровь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Проведение рефлексии с целью выявления мотивов поведения рассматриваемых персон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Проектирование индивидуальных программ сбережения и укрепления здоровья обучающихся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Индивидуальная программа сбережения и развития здоровья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– это составная часть индивидуальной образовательной программы, комплексно описывающая деятельность по сбережению и развитию здоровья, содержащая индивидуальные цели, этапы и способы их достижения, результаты, анализ и оценку результатов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"/>
          <p:cNvSpPr txBox="1"/>
          <p:nvPr/>
        </p:nvSpPr>
        <p:spPr>
          <a:xfrm>
            <a:off x="395280" y="83664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Структура и содержание индивидуальной программы сбережения и укрепления здоровья обучаю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1. Анализ индивидуального опыта здорового образа жизн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2. Индивидуальная карта здоровь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3. Цель и задачи деятельности по сбережению и укреплению здоровь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"/>
          <p:cNvSpPr txBox="1"/>
          <p:nvPr/>
        </p:nvSpPr>
        <p:spPr>
          <a:xfrm>
            <a:off x="395280" y="18864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Структура и содержание индивидуальной программы сбережения и укрепленияздоровья обучаю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4. Индивидуальный план деятельности по сбережению и укреплениюздоровь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индивидуальный план двигательной актив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план закаливания, дыхательной гимнастики, отказа от вредных привычек и др.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план рефлексивных ситуаций (мероприятий), в том числе представление индивидуальной программы сбережения и развития здоровья, достигнут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5. Оценка эффективности реализации индивидуальной программы сбережения и укрепления здоровь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4" name="Рисунок 19" descr=""/>
          <p:cNvPicPr/>
          <p:nvPr/>
        </p:nvPicPr>
        <p:blipFill>
          <a:blip r:embed="rId1"/>
          <a:srcRect l="24215" t="30963" r="18744" b="14575"/>
          <a:stretch/>
        </p:blipFill>
        <p:spPr>
          <a:xfrm>
            <a:off x="1547640" y="1484280"/>
            <a:ext cx="6048720" cy="3889440"/>
          </a:xfrm>
          <a:prstGeom prst="rect">
            <a:avLst/>
          </a:prstGeom>
          <a:ln w="0">
            <a:noFill/>
          </a:ln>
        </p:spPr>
      </p:pic>
      <p:sp>
        <p:nvSpPr>
          <p:cNvPr id="1825" name="Прямоугольник 18"/>
          <p:cNvSpPr/>
          <p:nvPr/>
        </p:nvSpPr>
        <p:spPr>
          <a:xfrm>
            <a:off x="755640" y="4762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беспечение взаимодействия всех субъектов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учебно-воспитательной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деятельности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0T08:55:57Z</dcterms:created>
  <dc:creator>Venera</dc:creator>
  <dc:description/>
  <dc:language>en-US</dc:language>
  <cp:lastModifiedBy>Пользователь Windows</cp:lastModifiedBy>
  <dcterms:modified xsi:type="dcterms:W3CDTF">2019-11-16T07:53:27Z</dcterms:modified>
  <cp:revision>178</cp:revision>
  <dc:subject/>
  <dc:title>Слайд 1</dc:title>
</cp:coreProperties>
</file>