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8682-54D3-4D23-A684-ACA3F98F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44EF-29C5-43A6-BF06-E417CD10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14E8-135B-4BD7-8AA1-1356FB44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7586-9144-49D6-913D-1C2788E8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A625-0311-465E-9F2F-1B8B6FDC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E566-A74D-4B48-9697-973D471E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441B-E5B7-4FFF-91AE-EC0A4B86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6736-0ADA-4FF5-ABD7-18BEAFA6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344E-D221-4978-824E-DD1B67C5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AA00-C6E0-4D20-8677-B8071E28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2CFE-8B95-4F94-AFE3-98CA12C5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FD79-FCF4-4953-87E4-F63D65C3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A242-FC02-4BAC-9777-7D7FCE52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7A18-FC25-42F6-B0C2-0F947102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AB05-B477-4759-BC82-34481293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9515-9A02-473D-9480-7B57099A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F13B-98E0-42BF-9CD1-1E6E320DA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D8FDA-9223-482E-B54C-BD157C1B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821EE-E0DD-4C5B-9C9D-383FE823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3AB90-9326-4250-9DAB-58D28E4D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CC001-25FC-4642-BB20-8A36622D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9B7A7-DBDE-42E6-8315-E5EF265D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4197-40EE-4842-96F0-8CC6931E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439DD-5331-45E2-BC40-4A89927D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375F5-7351-44F2-8DAE-D6AF0DC8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E2403-252F-4219-BA48-7D856EFA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7E10A-09FC-4174-831F-4C3788FF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96ECC-43FE-4E4E-83DF-6397C6AC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53422-A436-4DE5-81CC-DA77790C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B1DF1-1ABA-448D-B015-978E1098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D4C2-50D0-4F7F-AB40-407A76A8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42CB-8B31-4740-A99C-13F48EF2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353B-36C1-40E0-9202-55F3C93F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7B95-CC6B-431E-AF57-4501CB3B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E1C4-3236-4E95-935A-AD39AB2D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799A-CF1D-4E6A-8C71-71144F1C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236A-18FA-4785-9CDC-A8B5373071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0837-3C23-44C8-A562-AA7F21F7C1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9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Group 15"/>
              <p:cNvGrpSpPr/>
              <p:nvPr/>
            </p:nvGrpSpPr>
            <p:grpSpPr>
              <a:xfrm>
                <a:off x="852480" y="4053960"/>
                <a:ext cx="1833480" cy="1664640"/>
                <a:chOff x="852480" y="4053960"/>
                <a:chExt cx="1833480" cy="1664640"/>
              </a:xfrm>
            </p:grpSpPr>
            <p:sp>
              <p:nvSpPr>
                <p:cNvPr id="96" name="Freeform 16"/>
                <p:cNvSpPr/>
                <p:nvPr/>
              </p:nvSpPr>
              <p:spPr>
                <a:xfrm flipH="1" rot="7102800">
                  <a:off x="1266840" y="3941280"/>
                  <a:ext cx="476640" cy="12268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17"/>
                <p:cNvSpPr/>
                <p:nvPr/>
              </p:nvSpPr>
              <p:spPr>
                <a:xfrm flipH="1" rot="7102800">
                  <a:off x="2336760" y="4975920"/>
                  <a:ext cx="109440" cy="5036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0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9CDB-80B4-4057-8717-2BF68A80DD1D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iro.perm.ru/catalog.html?cid=9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www.educomm.iro.perm.ru/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ducomm.iro.perm.ru/" TargetMode="External"/><Relationship Id="rId2" Type="http://schemas.openxmlformats.org/officeDocument/2006/relationships/hyperlink" Target="http://educomm.iro.perm.ru/" TargetMode="External"/><Relationship Id="rId3" Type="http://schemas.openxmlformats.org/officeDocument/2006/relationships/hyperlink" Target="http://educomm.iro.perm.ru/" TargetMode="External"/><Relationship Id="rId4" Type="http://schemas.openxmlformats.org/officeDocument/2006/relationships/hyperlink" Target="http://educomm.iro.perm.ru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425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Модель использования комплексных мер для сохранения и укрепления здоровья обучающихся и педагогов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в условиях подготовки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к итоговой аттестации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50920" y="3141360"/>
            <a:ext cx="8640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Лядова Наталья Владимир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руководитель сетевого со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учителей ФК Пермского к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 рамках выполнения краевого про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«Образовательный лифт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к.м.н., вед.научн.сотрудник ГАУ ДПО «ИРО П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201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0"/>
          <a:ext cx="9144000" cy="6959520"/>
        </p:xfrm>
        <a:graphic>
          <a:graphicData uri="http://schemas.openxmlformats.org/drawingml/2006/table">
            <a:tbl>
              <a:tblPr/>
              <a:tblGrid>
                <a:gridCol w="2732040"/>
                <a:gridCol w="6411960"/>
              </a:tblGrid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Управленче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рациональная организация учебной и внеучебной деятельности обучающихся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проблемной группы по разработке и реализации программы содействия здоровью выпускников и педагогов, готовящих учеников к сдаче ГИ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анкетирования учеников и учителей ФК (Анкеты 1, 2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, обеспечение и контрол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строения уроков физкультуры на основе системно-деятельностного и здоровьесберегающих подходов, обеспечения субъектности ученик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ционального построения расписания относительно уроков физической культур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тбора содержания обучения, соответствующего интересам обучающихся выпускных классов, традициям школы, а также новым популярным среди подростков, молодежи видов двигательной активности, игр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блюдения требований СанПиН к физической нагрузке, моторной плотнос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здания и поддержания благоприятного психологического климата на уроках физкультуры, во внеурочных занятия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ценивания учебных достижений на основе системы  формирующего критериального оцени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25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организации мониторинговых исследований состояния здоровья школьников 9-х, 11-х классов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44280"/>
          <a:ext cx="9144000" cy="6624720"/>
        </p:xfrm>
        <a:graphic>
          <a:graphicData uri="http://schemas.openxmlformats.org/drawingml/2006/table">
            <a:tbl>
              <a:tblPr/>
              <a:tblGrid>
                <a:gridCol w="2054160"/>
                <a:gridCol w="708984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эффективная орган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й работы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оптимальной двигательной активности обучающихся  выпускных классов в режиме учебного дня, на уроках физкультуры, во внеурочной и досуговой деятельности за счет физкультминуток на уроках, двигательной организации перемен, занятий в спортивных секциях/кружках, самостоятельных занятиях физическими упражнениям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щь учителям-предметникам в разработке и организации проведения физкультминуток для старшеклассников.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занятий физкультурой с обучающимися, отнесенными к специальной медицинской группе (СМГ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договоренности со специалистами школы (медработником, психологом, социальным педагогом, приглашенным специалистом) по осуществлению оздоровительно-профилактических мероприятий (организация закаливания, работа фитобара, витамино- и аромопрофилактика, ионизация воздуха (люстра Чижевского), точечный самомассаж, дыхательная гимнастика, релаксационные упражнения  и др., предоставление физиотерапевтических услуг при наличии оборудования и специалиста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выпускникам и педагогам выпускных классов посещать спортивный зал в вечернее время для самостоятельных или организованных занятий физическими упражнениями, для подготовки к выполнению нормативов (испытаний) комплекса ГТО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476280"/>
          <a:ext cx="8229600" cy="4003560"/>
        </p:xfrm>
        <a:graphic>
          <a:graphicData uri="http://schemas.openxmlformats.org/drawingml/2006/table">
            <a:tbl>
              <a:tblPr/>
              <a:tblGrid>
                <a:gridCol w="1090440"/>
                <a:gridCol w="7139160"/>
              </a:tblGrid>
              <a:tr h="40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посещать бассейн, тир, тренажерный зал для подготовки к выполнению нормативов (испытаний) комплекса ГТО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работы школьного спортивного клуба, спортивных секций, кружков, групп здоровья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и проведение спортивных праздников, Дней здоровья, соревнований, в т.ч. по выполнению нормативов (испытаний) комплекса ГТО, олимпиад, походов и т.п. в соответствии с планом работы учите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влечение выпускников 9-х, 11-х классов в физкультурно-оздоровительные занятия и объединения по тематике ЗОЖ в рамках дополнительных образовательных программ и во внеурочной деятельности, в волонтерское движение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оздоровления выпускников 9-х, 11-х классов в каникулярное время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124000"/>
                <a:gridCol w="7020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в т.ч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программ для обучающихся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тематического планирования по включению здоровьесберегающего содержания в содержание учебного предмета «Физическая культура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уроков ФК на основе системно-деятельностного подхода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ение в ходе уроков ФК и внеурочной деятельности формирования знаний, умений, компетенций в сфере ведения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омощи классным руководителям старших классов в разработке сценариев и проведении классных часов по тематике здорового и безопасного, спортивного образа жизн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сценариев Дней здоровья, составление Положений о спортивных праздниках, проведение их 2-4 раза в год с учениками выпускных классов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и реализация программы внеурочной деятельности по спортивно-оздоровительному направлению.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0"/>
          <a:ext cx="9144000" cy="716112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просветительская и организац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с родителями, педагога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(законными представителями) разработка программы постоянно действующего семинара для родителей «Здоровье наших детей – условие успешного обучения» и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разработка и реализация программы «Родительские инициативы в сохранении здоровья учеников выпускных классов, в т.ч. во время подготовки к сдаче экзаменов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лечение родителей к совместной работе по проведению оздоровительных мероприятий и спортивных соревнова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эффективного взаимодействия школы (учителя) с родителями для совместного обсуждения и решения вопросов сохранения и укрепления здоровья детей, участия семьи в физкультурно-оздоровительных мероприятиях, психолого-педагогических тренингах, практико-ориентированных проектах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еречня рекомендаций, памяток по организации образа жизни, адекватного здоровому, для обучающихся-выпускников и педагогов-предметников, работающих в выпускных класс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библиотечки подросткового здоровья, доступной для родителей и педагогов и т.п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иагност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сследователь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критериев оценки качества воспитательного процесса в части формирования ЗОЖ у выпускников 9-х, 11-х клас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анкет, отбор диагностических метод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бор, разработка тестов, анкет для оценки сформированности знаний и ответственного отношения к здоровью у выпуск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схемы проведения мониторинга соблюдения обучающимися режимных моментов, правил здорового образа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эффективности реализации программы (модел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роектов по решению проблем обучения, преподавания, вос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онсультацио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консультирования учеников, родителей, педагогов по вопросам, связанным с сохранением здоровья средствами физкультуры, организацией режима дня в период подготовки и сдачи экзамен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сихолого-педагогической помощи родителям, чьи дети оказались в сложных жизненных ситуациях (в пределах своей компетенци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йствие в организации социально-психологической, медико-профилактической помощи семье, детям, нуждающимся в поддерж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План проведения мероприятий по разработке и апробации программы (модели) в школе на 2019-2020 уч.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0920" y="1600200"/>
          <a:ext cx="8785080" cy="4525920"/>
        </p:xfrm>
        <a:graphic>
          <a:graphicData uri="http://schemas.openxmlformats.org/drawingml/2006/table">
            <a:tbl>
              <a:tblPr/>
              <a:tblGrid>
                <a:gridCol w="1008000"/>
                <a:gridCol w="2737080"/>
                <a:gridCol w="1584000"/>
                <a:gridCol w="1584360"/>
                <a:gridCol w="187164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и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 рамках дальнейшей реализации проекта «Образовательный лифт»  планируется </a:t>
            </a: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проведение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еб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ем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онсультирование участников проек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заимодействие через «Сетевое сообщество педагогов ПК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images (6)"/>
          <p:cNvPicPr/>
          <p:nvPr/>
        </p:nvPicPr>
        <p:blipFill>
          <a:blip r:embed="rId1"/>
          <a:stretch/>
        </p:blipFill>
        <p:spPr>
          <a:xfrm>
            <a:off x="3276720" y="2981160"/>
            <a:ext cx="25905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83920"/>
            <a:ext cx="9036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ro.perm.ru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тевое сообщество педагогов Пермского края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educomm.iro.perm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разовательный лифт», «Учитель здоров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logo2"/>
          <p:cNvPicPr/>
          <p:nvPr/>
        </p:nvPicPr>
        <p:blipFill>
          <a:blip r:embed="rId10"/>
          <a:stretch/>
        </p:blipFill>
        <p:spPr>
          <a:xfrm>
            <a:off x="826920" y="189000"/>
            <a:ext cx="18288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-366840"/>
            <a:ext cx="82440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-360"/>
            <a:ext cx="903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аждый человек должен уметь относиться к любым изменениям в жизни как к новым возможностям, вызову судьбы или уроку, но не как к угрозе сложившемуся порядку.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Способы преодоления стресс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нализ ситуации и выработка плана действ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ффективные копинг-стратеги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Физическая активность, двигательна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зряд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ыхательные практи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етоды релаксации (расслабления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оигрывание стрессовых ситуаций заранее в голов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правление эмоциями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http://www.psychologos.ru/articles/view/kak_upravlyat_svoimi_emociyami_vop_zn_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твлекающая деятельность, переключение на другой вид деятельности, хобб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4" descr="F:\USERS\МАМА\Мои рисунки\Стресс\i (8).jpg"/>
          <p:cNvPicPr/>
          <p:nvPr/>
        </p:nvPicPr>
        <p:blipFill>
          <a:blip r:embed="rId1"/>
          <a:stretch/>
        </p:blipFill>
        <p:spPr>
          <a:xfrm>
            <a:off x="6732720" y="242100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763272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Verdana"/>
              </a:rPr>
              <a:t>Некоторые рекомендации педагогам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Здоровый образ жизни: режим дня, питания, физических упражнений и сна. Полезная пища и отказ от интоксикантов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Излечение болезней или хотя бы некоторое продвижение на этом пути.</a:t>
            </a:r>
            <a:br>
              <a:rPr sz="16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релаксационной медитации для снятия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мышечных зажимов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12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восточных дисциплин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йога, тай-цзи цюань, цигун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ознавание дыхания и мягкие попытки направить его в правильное русло: дыхание носом, а не ртом, выдох длиннее вдоха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Жизнь в гармонии с природой и частое пребывание на свежем воздухе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одоление склонности к негативным эмоциям. Для этого можно использовать различные психологические и духовные практик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Эмоциональная открытость и позитивное взаимодействие с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кращение общения с негативными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Развитие в себе любви ко всему сущему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тановка ненужных и негативных мысле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онимание, что каждая мысль тянет за собой последствия.</a:t>
            </a:r>
            <a:br>
              <a:rPr sz="1600"/>
            </a:br>
            <a:br>
              <a:rPr sz="12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Picture 5" descr="UT0Uc5ArTuQ"/>
          <p:cNvPicPr/>
          <p:nvPr/>
        </p:nvPicPr>
        <p:blipFill>
          <a:blip r:embed="rId1"/>
          <a:stretch/>
        </p:blipFill>
        <p:spPr>
          <a:xfrm>
            <a:off x="6084720" y="1844640"/>
            <a:ext cx="2260800" cy="150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F:\USERS\МАМА\Мои рисунки\Стресс\Njz-fdhC8Ts.jpg"/>
          <p:cNvPicPr/>
          <p:nvPr/>
        </p:nvPicPr>
        <p:blipFill>
          <a:blip r:embed="rId2"/>
          <a:stretch/>
        </p:blipFill>
        <p:spPr>
          <a:xfrm>
            <a:off x="7020000" y="5157720"/>
            <a:ext cx="2124000" cy="1584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F:\USERS\МАМА\Мои рисунки\Стресс\i (2).jpg"/>
          <p:cNvPicPr/>
          <p:nvPr/>
        </p:nvPicPr>
        <p:blipFill>
          <a:blip r:embed="rId3"/>
          <a:stretch/>
        </p:blipFill>
        <p:spPr>
          <a:xfrm>
            <a:off x="6948360" y="-100080"/>
            <a:ext cx="1697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8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Некоторые рекомендации родителям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32920" y="1029960"/>
            <a:ext cx="86598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Не поддавайться панике других родителе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Помнить, что успех на экзамене ещё не означает успех в жизн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Больше разговаривать с ребёнком на отвлечённые тем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 Помнить, что оценка за экзамен — это ещё не оценка личност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Тормозить фантазии на тему «а как оно будет…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19360" y="1143000"/>
            <a:ext cx="47815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Благодарю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Замещающее содержимое 1" descr="1443658720_14"/>
          <p:cNvPicPr/>
          <p:nvPr/>
        </p:nvPicPr>
        <p:blipFill>
          <a:blip r:embed="rId1"/>
          <a:stretch/>
        </p:blipFill>
        <p:spPr>
          <a:xfrm>
            <a:off x="2457360" y="2932200"/>
            <a:ext cx="46292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</a:rPr>
              <a:t>В целях выполнения п. 2.2. ФЦПРО РФ на 2016-2020 г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79280" y="1125360"/>
            <a:ext cx="89647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в 2017–2019 году в Пермском крае реализуется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раевой проект «Образовательный лифт»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- комплекс мероприятий по повышению качества образования в школах с низкими результатами обучения (НРО), функционирующих в неблагоприятных социальных условиях (НСУ)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(руководитель проекта Новикова О.Н., начальник отдела развития образовательных систем, к.филос.н.,)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, в том числ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   утверждение перечня школ – апробационных площадо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оведение аналитических, проектных, обучающих и других мероприятий для учителей школ данной категори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создание постоянно действующих проблемных групп-педагогов-предметников в режиме сетевого взаимодействия с педагогами школ, показывающих хорошие образовательные результат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бобщение и трансляция лучших методик и практи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бразовательный лиф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ключены предметы, по которым выпускники 9-11-х классов проходят ГИА, а также –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едмет «Физическая культур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856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Цели сетевого сообщества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учителей ФК- участников проекта 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«Образовательный лифт»</a:t>
            </a:r>
            <a:r>
              <a:rPr b="1" lang="ru-RU" sz="2800" spc="-1" strike="noStrike">
                <a:solidFill>
                  <a:srgbClr val="009999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оказать физическое, психологическое и моральное содействие обучающимся выпускных классов и учителям, готовящих обучающихся к сдаче ОГЭ и ЕГЭ, в том числе, за счет повышения качества преподавания уроков физкультуры, особенно в выпускных классах, и создания условий, позволяющих приобщить учеников и учителей к рациональной организации своего распорядка дня, здоровому образу жизни, особенно в период подготовки и сдачи экзам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Изображение 324611" descr="urok-po-tiemie-zdorovyi-obraz-zhizni_3"/>
          <p:cNvPicPr/>
          <p:nvPr/>
        </p:nvPicPr>
        <p:blipFill>
          <a:blip r:embed="rId1"/>
          <a:stretch/>
        </p:blipFill>
        <p:spPr>
          <a:xfrm>
            <a:off x="3808440" y="4689360"/>
            <a:ext cx="21985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дачи участников проекта «Образовательный лифт» (техническое задание - ТЗ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овести анализ качества преподавания уроков физкультуры, затруднений учеников и учителей в выпускных классах (9-х и 11-х) путем проведения анкетирования обучающихся и педагогов с последующим анализом его результа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модель (программу) содействия здоровью обучающихся и/ил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, включающей планирование проведения физкультурно-оздоровительных урочных и внеурочных мероприятий с обучающимися 9-х и 11-х классов и мероприятий для учителей-предметников, готовящих выпускников к сдаче ОГЭ, ЕГЭ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перечень рекомендаций в форме памятки, стенда, страницы в соц. сетях, др. по организации в период подготовки и сдачи экзаменов образа жизни, адекватного здоровому, для обучающихся выпускных классов и/или педагогов-предметников, работающих в выпускных классах и готовящих детей к сдаче ОГЭ, ЕГЭ, и/или для родителей выпуск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систему эффективного взаимодействия с родителями обучающихся выпускных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Модель школы, способствующей улучшению результатов сдачи ОГЭ, ЕГЭ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предполага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8000" y="1341360"/>
            <a:ext cx="9036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разработку системы поддержки учителей (например: повышение квалификации, сильный помогает слабому, создание условий для оздоровления педагогов,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ерестройку системы освоения учениками ООП, методической и социально-психологической подготовки ребят к экзамена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 разработку системы эффективного взаимодействия с родителями, особенно выпускных классо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овые управленческие решения, инновационные технологии управления образовательным процесс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запрос помощи извне и использование возможностей внешних факто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ы выполнения задач (ТЗ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78920" y="1125000"/>
            <a:ext cx="8713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слеживание информации, поступающей на сайт «Сетевое сообщество педагогов Пермского края»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ducomm.iro.perm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 рубрике «Образовательный лифт (Сальникова Ю.Н.) и «Учитель здоровья» (Лядова Н.В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работка подходов как универсальных, так и индивидуализированных к преподаванию физической культуры в соответствии с требованиями ФГОС основного и среднего общего образования и в условиях внедрения ВФСК ГТО, а также – с целью обсуждения  программ (моделей) содействия здоровью обучающихся 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ращение  за консультацией/помощью к коллегам, специалистам, руководителю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1600" y="115920"/>
            <a:ext cx="8623440" cy="16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Модель школы (структура деятельности) по содействию здоровью обучающихся-выпускников и учителей-предметников, готовящих детей к ГИА, </a:t>
            </a: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средствами  физической культуры и физического воспитания  </a:t>
            </a:r>
            <a:br>
              <a:rPr sz="2000"/>
            </a:b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(как один из вариантов).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Составитель - Н.В.Лядова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7480" y="1916280"/>
          <a:ext cx="8950320" cy="3531960"/>
        </p:xfrm>
        <a:graphic>
          <a:graphicData uri="http://schemas.openxmlformats.org/drawingml/2006/table">
            <a:tbl>
              <a:tblPr/>
              <a:tblGrid>
                <a:gridCol w="1785600"/>
                <a:gridCol w="1567080"/>
                <a:gridCol w="1693800"/>
                <a:gridCol w="2062080"/>
                <a:gridCol w="1841760"/>
              </a:tblGrid>
              <a:tr h="3814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1. Создание и поддержание экологически безопасной,  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сберегающ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инфраструктуры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2. Рацион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ая орг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зация уче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ой и 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учеб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обуч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3. Эффект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ая ор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физкультурно-оздоров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4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образовательных программ по ЗО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профилактика употребления ПАВ, социально значимых заболеваний, травматизма, нерац.поведения в ЧС и в обычной жиз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Организация системы просветительской работы и по обучению ЗОЖ с участниками образовательных отнош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Скругленный прямоугольник 5"/>
          <p:cNvSpPr/>
          <p:nvPr/>
        </p:nvSpPr>
        <p:spPr>
          <a:xfrm>
            <a:off x="2411280" y="5589720"/>
            <a:ext cx="4535640" cy="110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6. Мониторинг здоровьесберегаю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деятельности и здоровья обучающихся/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римерное содержание деятельности учителя физической культуры по каждому направ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600200"/>
          <a:ext cx="8229600" cy="4950000"/>
        </p:xfrm>
        <a:graphic>
          <a:graphicData uri="http://schemas.openxmlformats.org/drawingml/2006/table">
            <a:tbl>
              <a:tblPr/>
              <a:tblGrid>
                <a:gridCol w="3610080"/>
                <a:gridCol w="4619520"/>
              </a:tblGrid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Организацио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(поддержание на хорошем уровне здоровьесберегающ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инфраструктуры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го зала/залов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й площадки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ое соблюдение требований СанПиН к спортивному залу, спортивной площадк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воздушно-тепловому и световому режима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установке спортивного оборудования, инвентаря и его безопас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чистоте раздевалок, туалетов, душевых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соблюдению техники безопасности на уроках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обеспечению питьевого режима, соблюденнию личной гигиен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8T07:17:48Z</dcterms:created>
  <dc:creator>Ljadova-NV</dc:creator>
  <dc:description/>
  <dc:language>en-US</dc:language>
  <cp:lastModifiedBy>Ljadova-NV</cp:lastModifiedBy>
  <dcterms:modified xsi:type="dcterms:W3CDTF">2019-11-15T12:49:17Z</dcterms:modified>
  <cp:revision>13</cp:revision>
  <dc:subject/>
  <dc:title>Проект программы (модели)  физической, психологической поддержки обучающихся выпускных классов и учителей-предметников, готовящих выпускников 9-х и 11-х классов своей школы к сдаче ОГЭ, ЕГЭ, посредством  оздоровительно-профилактических физкультурных мероприяти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46</vt:lpwstr>
  </property>
  <property fmtid="{D5CDD505-2E9C-101B-9397-08002B2CF9AE}" pid="3" name="Version">
    <vt:r8>4</vt:r8>
  </property>
</Properties>
</file>