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D840-D638-42DC-9CF9-1F2F8C82C2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B8BA-3E33-4809-997A-2A3F2A5428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0231-A76F-40ED-92D7-B59FB741A8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7BA6-9F82-4EAE-A5E9-27CFD432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B35C-866E-42C4-8746-5FABE67B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C8A-DDE0-4991-876F-88C4C05C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C28-F8A7-4CAA-A752-B661D566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B5E1-830E-47FE-B94B-89F51B70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2D74-FDA1-44F6-858E-A82C6B1A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038F-5E72-4672-A316-E138BF03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8367-7F52-497F-8C9B-87AFE4CD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B840-AEEC-4213-B036-4D543A65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F551-EC6E-4DCD-BCE5-C0040F28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3FC4-5BD0-4327-859B-C929733A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2F06-EDAF-4D00-8A59-8FC69BA1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CBF8-4165-4E97-ABF5-7AE1F611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FF6F-93F9-435D-AFE3-1496F97E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7ACA-2E14-4CE1-BDBB-ED2D0289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AE07-CFDF-4C41-8C6C-B7289976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E513-036B-4E68-B872-83B5AC21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BBCB3-BD51-4C14-8730-0E1EE163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0FD39-CC40-4A8D-8BA2-55EFCD4B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4DEB9-108F-47DE-B9AB-11922010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2CE0C-AF16-438D-B123-5E719FA4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48079-DCA6-4BA2-AB8E-DBA7F4B9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688-4B7B-4E90-8FBB-0EFA3080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56AE5-00C9-4871-97B1-84780044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E68C9-C3D0-4787-BFAF-C126355A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D709D-48BB-4027-8C28-BD43CB2C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4E4FB-F647-4D23-AF32-69169BAC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272BC-43A0-4C81-B54D-64C98FF5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9D6B3-EA6B-4A36-BFDB-14FF789B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334BB-17EA-473C-8B78-6F7530A0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84C84-65CB-48AE-8408-A349DD11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7AEA2-53D6-4F5D-BD28-7395D4A0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F7435-1C99-40B1-A2FA-92504B01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F96-D0C8-4B08-BDB5-DDBC1296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B35EF-3C90-42C7-9786-076570A9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A9678-32D4-49E3-9A9A-2FC39AC1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BEFBF-2AE6-4E43-A4D4-32C07ADB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6897B-AA7F-48D6-954B-155C73A9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30A9F-D489-4E16-872E-0B0A8706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B901E-4E95-4D17-AF9D-6FBB024F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3C9E4-EB46-44C3-854C-B3311ECC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C799E-83CD-40D6-87C9-949FB963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83C63-F65C-4398-9775-9ACA17BF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EB29A-77FC-4BA8-93C9-F39C2FD6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E0E-92E5-4252-8A18-9498573A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2E1EB-F9D0-4FA5-8D51-5FAB37FA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1A74D-3BEE-4915-BDF0-540E170C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237D6-2BF9-4585-89D9-07AD93AE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4F25B-03E2-4BB7-821D-08901D67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48993-3020-4EF3-9BB4-1CABFF10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7A4CB-EC59-44DC-951D-DC06D610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9E116-5A3C-49B7-90C4-F25D4618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ECBCA-3697-43C1-A7C8-1EB244B8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8DD20-F638-4BB7-B895-2C87AEE5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A5C9C-60F1-4093-AB8C-B0B3A224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0A47-EAED-481D-89AB-FBE99184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FE17D-ACDB-4384-8304-6B5068AF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8F3C-AF00-4340-A01D-3E687169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00A-B15C-4FE3-8598-D1434D61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D47F-0D7B-42FA-9F86-298BA8B5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4B15-2FFB-44B7-A980-06712B10300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FB85-6FA9-41D3-B4C1-CE20C39746E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DE29-D6BB-4DB3-A88A-8FE3AD38F8C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6DA5-5206-45C9-ABA1-6F51F6DB7E2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В.А.Власенко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75ED-9FCC-4ACC-92A1-972E0D6EF81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3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зможности физической культуры как средства повышения моральной и психологической устойчивости  к экзаменационным испытаниям</a:t>
            </a:r>
            <a:br>
              <a:rPr sz="4000"/>
            </a:b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 ОПЫТА РАБОТЫ ПО ПРИМЕНЕНИЮ ФОРМИРУЮЩЕГО ОЦЕНИВАНИЯ)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479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тагарова Люция Рифов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ОУ «Гимназия № 33» г. Пер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Цель формирующей оценки - способствовать улучшению результатов каждого отдельно взятого ученика</a:t>
            </a:r>
            <a:r>
              <a:rPr b="0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ожидаемые результаты формирующего оценивани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52440" y="1339920"/>
          <a:ext cx="8510400" cy="5227560"/>
        </p:xfrm>
        <a:graphic>
          <a:graphicData uri="http://schemas.openxmlformats.org/drawingml/2006/table">
            <a:tbl>
              <a:tblPr/>
              <a:tblGrid>
                <a:gridCol w="3003480"/>
                <a:gridCol w="550692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ть потребности уче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 по теме, субъектн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 интереса к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твращение неправильного понимания во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ить саморегуляцию и сотрудн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 навыков к самостоятельной работе и сотрудничеству для использования разнообразных ресурсов и инстру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ить мониторинг прогр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и самоопределение учащимися слабых сторон, подтверждение сильных и обеспечение более глубокого пони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ить понимание и поощрить метап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применению знаний в новой ситуации, обобще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Ebrima"/>
              </a:rPr>
              <a:t>Что такое формирующее оценивание или оценивание для обучения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242892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ценивание это больше, чем маркиров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ценивание — это обратная связ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ценивание направляет 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для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учающихс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учиться на ошибка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важно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у них получаетс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знаю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умеют дела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позволяет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ителю</a:t>
            </a: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2285640"/>
            <a:ext cx="77724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сформулировать образовательный результат, подлежащий формированию и оценке в каждом конкретном случае, и организовать в соответствии с этим свою работ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учащегося субъектом образовательной и оценочной деятель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и формирующего оценива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(минутный) обз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обзор (проводится в конце урока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изучали? Назовите тему урок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 какими заданиями ты справлялся без помощи учителя, одноклассника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е наиболее важное в этом урок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то вызвало трудности, осталось неясным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Что хотелось бы узнать по теме дополнительн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Что у меня получилось лучше всег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Что мне необходимо усовершенствовать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Тема урока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Развитие силовых качеств. Подготовка к сдаче норм ГТО испытания «Сгибание-разгибание рук в упоре лежа»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контрольно-оценочную деятельность по выявлению точечных затруднений при выполнении техники  через работу в парах и  анализ видеозаписи собственного выполнения технического действия (обязательный норматив  «Сгибание-разгибание рук в упоре лежа»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пределить критерии оценивания выполнения  техники норматива ГТО  - «Сгибание-разгибание рук в упоре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полнить таблицу самооценки  выполнения техники  выполнении сгибания и разгибания рук в упоре лежа («Отжимания») по выработанным критериям, применяя личные гаджеты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, для устранения ошибок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нают контрольные точки техники «Отжимания», безопасного для здоровь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иксируют контрольные точки у партнера при работе в парах  и определяют свои затруднения при просмотре видеозаписи собственного выполнения приседани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меют объективно оценивать, по выработанным критериям, технику «отжимани», безопасного для здоровь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лица самооценки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rcRect l="11109" t="28110" r="32367" b="14444"/>
          <a:stretch/>
        </p:blipFill>
        <p:spPr>
          <a:xfrm>
            <a:off x="826920" y="2060640"/>
            <a:ext cx="77407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rcRect l="26163" t="34218" r="25804" b="39724"/>
          <a:stretch/>
        </p:blipFill>
        <p:spPr>
          <a:xfrm>
            <a:off x="250920" y="620640"/>
            <a:ext cx="8497800" cy="259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2"/>
          <a:srcRect l="24174" t="27470" r="23253" b="34798"/>
          <a:stretch/>
        </p:blipFill>
        <p:spPr>
          <a:xfrm>
            <a:off x="73080" y="2997360"/>
            <a:ext cx="90709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сихологическая устойчивость — это личностная черта, которая во многом определяет, насколько эффективно мы справляемся с проблемами, стрессами и давлением, независимо от обстоятель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есс - состояние сильного и длительного психологического напряжения, которое возникает у человека, когда его нервная система получает эмоциональную перегруз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азвитие Физических качеств. Подготовка к сдаче норм ГТО норматив «Поднимание туловища из положения лежа»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2400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познавательную  деятельность по выявлению точечных затруднений при выполнении норматива 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 в выполнении норматива ГТО по силовой подготовке «Поднимание туловища из положения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ить группу упражнений, направленных на подготовку учащихся к выполнению норматива ГТО по силовой подготовке.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конце урока учащиеся при выполнении различных упражнений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яют группы мышц, которые задействовано в данном упражнении на станци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 основе работы мышечных групп выделяют 3 вида упражнений, при систематическом выполнении которых смогут подготовиться к результативной сдаче норм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7 станций. Работа в группах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12185" t="27470" r="21410" b="8548"/>
          <a:stretch/>
        </p:blipFill>
        <p:spPr>
          <a:xfrm>
            <a:off x="250920" y="1700280"/>
            <a:ext cx="8508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rcRect l="35244" t="20910" r="36166" b="10192"/>
          <a:stretch/>
        </p:blipFill>
        <p:spPr>
          <a:xfrm>
            <a:off x="2340000" y="333360"/>
            <a:ext cx="45356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28400" y="17845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ивается не только результат, но и процес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осит системны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траивается в личностно-ориентированное об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риентировано на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тслеживается прогресс каждого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риентировано на формирование личностных и метапредметных ум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амятк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о применению формирующего оцени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м п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роцесс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2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ение отметки и оценивани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– разные вещи!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3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яя своему ученику отметку  за работу на уроке или в четверт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его работу по определенным критериям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знаком с теми критериями, по которым его оценивают (причем они доступны для его понимания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 процессе работы сам пытается оценить качество своей работы, сверяясь с этими критериями и получая  комментари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учителя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идит, где конкретно он пока не достиг нужного результата и корректирует свою деятельность,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т.е.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щ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ет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пути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оррекции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ыявленны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х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недостатк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На психологическом и поведенческом уровнях занятия ФК полезны и могут способствовать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ации и упорядочиванию ак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ведению действий и мыслей в поряд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учению ощущения контроля над ситуацией, дефицит которого испытывает человек во время стрес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вышению самооценки и уверенности в с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нятия спортом могут приносить радость и удовлетворение от достижения даже небольших результатов             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Повышение самооценки и уверенности в себе</a:t>
            </a:r>
            <a:br>
              <a:rPr sz="2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 у Вас  в работе  проблемы в оценивании обучающихся на уроках Ф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Да, то как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технология оценивания может повлиять на повышение самооценки и уверенность в себ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проблемы в работе со старшеклассницами и старшеклассниками? Кака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05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оценочной деятельност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бъективизм школьной отметки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недостаточная разработанность критериев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ществующая система оценивания отражает </a:t>
            </a:r>
            <a:r>
              <a:rPr b="0" i="1" lang="ru-RU" sz="2700" spc="-1" strike="noStrike">
                <a:solidFill>
                  <a:srgbClr val="ff0000"/>
                </a:solidFill>
                <a:latin typeface="Times New Roman"/>
                <a:ea typeface="Verdana"/>
              </a:rPr>
              <a:t>результат развития физических качеств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, а не процесс их усвое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При оценивании техники двигательных действий зачастую ставим отметки не выделяя критерии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отсутствие в отметке конструктивной информации о том, что именно является причиной низкого или высокого бал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и оценивания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эффектив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мотив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межличностных отношения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  <a:ea typeface="Ebrima"/>
              </a:rPr>
              <a:t>Зачем мы оцениваем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Чтобы выяснить,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остигнуты ли поставленные учебные цел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гут ли быть разные цели у учащихся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– это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892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ующее (внутреннее) оценивани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о на определение индивидуальных достижений каждого учащегося и не предполагает как сравнения результатов, продемонстрированных разными учащимися, так и административных выводов по результатам обучения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щим данный вид оценивания называется потому, что оценка ориентирована на конкретного ученика, призвана выявить пробелы в освоении учащимся элемента содержания образования с тем, чтобы восполнить их с максимальной эффективностью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имущества критериального подхода к оцениванию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2349360"/>
            <a:ext cx="777240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тревож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требов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достижений учащихся с эталоном;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тветственности учащихся за результат своего труда;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самооценки, самоанализа, самоконтроля учащихся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00:14:57Z</dcterms:created>
  <dc:creator>TATJANA</dc:creator>
  <dc:description/>
  <dc:language>en-US</dc:language>
  <cp:lastModifiedBy>Ljadova-NV</cp:lastModifiedBy>
  <dcterms:modified xsi:type="dcterms:W3CDTF">2019-11-18T06:51:39Z</dcterms:modified>
  <cp:revision>27</cp:revision>
  <dc:subject/>
  <dc:title>Педагогический совет по теме:  «Технология формирующего оценивания»  12.02.2015 г. МОУ СОШ №19  г. Комсомольск -  на - Амуре</dc:title>
</cp:coreProperties>
</file>