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957D-833A-4D78-8304-E7D2C261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A9CF-9EBC-4C92-B37D-8EFD93DD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F0D1D-855F-4702-BAAC-6629FD4E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5DF08-877E-472E-A640-7DE33034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B2691-08BB-4841-B69D-606DF52C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28F71-3FAD-4C67-806B-9A18A02B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7DD01-643B-43BE-9A42-C69669AD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BAAB2-90A2-49CA-A2B7-6CEB8CED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B1A75-691A-449D-BE03-B98E913A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06C08-75E6-4C91-99C9-11AF01CF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2B7C4-DA8E-476A-A0C1-63D11B43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5F58D-E7D5-4B5C-8D3E-FF4A0F15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A95-59A4-422E-B15A-FCF01567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C0CDB-CCE3-45B2-9678-0D0C8DFC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29DC4-2B51-4679-88BE-189595BA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E0556-D080-49E8-819B-99822AD9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14823-9865-41B5-9EFE-B655EDC6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7F158-0CEC-4316-8A3D-0E2C2515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FEE53-4FAF-48D1-8097-2AFDB9AB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84B76-9BDE-480F-A123-031BB927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5A3E7-7E10-442F-890E-FA531D67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24D5E-E09C-4F97-B7BF-B36EAA0A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2CFC5-4D8E-4CCD-8789-D6888D12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F905-2CD4-4132-816E-9950FD03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F2BC9-4C20-4151-822F-C82CBD4D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D58B8-FEE5-45B5-8CA1-C1E58FDB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64254-ADB8-4963-A305-61EF0BA6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9F0F9-3780-43A2-9AE1-9C8E6153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0ACF4-0257-47E3-A255-A8E3655A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EF7DA-8D8D-46A8-AA0C-3C39B4D6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310CE-0A91-41CB-B44A-32C83506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149CB-6C96-4576-BF76-5F6A0082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CE040-36F1-42DA-B12B-A0F30764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8453C-E6F3-47F9-A315-957FF3C0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3A7B-24F5-4BCB-A16E-EDE6CFE1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25611-2ED9-4969-AB1F-BF9DECD6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254F5-3B11-451C-89DC-34040324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432ED-45E8-4283-864A-69B735CD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89B77-B841-49DB-A002-7452BCED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45600-AEFC-457C-9750-C54A3C0C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069F2-1E32-4420-B854-1C2E2133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EF2DA-DF1E-4204-8472-EF6C6ACC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A5D1E-6444-4F14-A433-82EECB9C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33993-D160-4C54-AFB1-5FF5BCD9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FA962-3B8C-4F63-B904-F4B4CFA6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AF3D-B8FE-468A-B3A6-5E0A5BFD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023FA-7D33-4A65-A30E-905E8EEA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B41F8-AF16-4738-A93B-F8537A4E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7FA15-A427-478D-875C-8438C94C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765C1-7ACA-4B01-B9E5-93303A7F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EF9E8-D75A-41B8-BD7D-3B6CC448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371F91-14A1-42FA-9EB9-C4070102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B1D926-BCFF-4721-90FB-1B9FF739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F98375-FA6F-4423-83B5-EEA5AF38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275E0-F785-43D7-9FFE-C1293A7C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197ADC-39BA-4F4E-AB4D-81E5B0BA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2605-E907-434D-B3C0-ED09B39F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4222F-3B14-405F-9EBE-E1C8C657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A9694D-8647-4965-8E14-983CC950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F427B2-883C-4269-8C06-CD691D9A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30A53E-EE3F-41C1-AE89-52687C10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517B63-48FA-4BF0-B4DD-7CE2A4F3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AA1F8E-0395-4232-B77E-86B3CA0D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E80B2B-B5D6-4A4F-93C9-BA14C4E0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809308-EAB7-45C6-ABDD-E25C235F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E571CF-5F2C-4C90-B52C-72486825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1D9BF5-329F-4185-844A-4FC37D62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7B24-BA8C-4F82-A8B9-1C917B3C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B3CAD9-FA02-46C0-88F7-79B1C71C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9D94BD-58E8-43E1-B20D-697A5DC7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44E6DC-3B9D-47E3-827B-2ECFA3DA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E8307A-1D55-45ED-B45C-E6D053E2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27F566-C453-4074-B7C7-E539BDEC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062A64-DF16-4C79-AF0E-5006FA82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309D6D-CD50-445E-9065-2011EE49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3A25BE-B02B-4057-B270-3B63435C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793ECF-69EF-4ABF-BBBC-371C300D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B53C03-E494-40F1-9EE0-0BA11FA5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326B-C3B8-49ED-857F-A37673FC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FF1193-E79B-4DFA-9AFD-CBA8DF66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9B356F-4645-4C60-8E15-F41EAC5C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2F017F-9987-4333-A763-894706AC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23B3ED-B70B-4A84-A678-9D78E413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73A787-93C1-42F6-A5AA-6214020E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65F93E-AA2B-4D0B-8DF0-1A2709EE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52A36D-4296-4960-B07A-C0B6178C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BA473D-B57F-467C-8E3C-A59D7F59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8E7BDE-FBBA-43B2-AE34-245AE692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1F44AF-3961-4443-B26D-04EAD374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077A-20CE-4040-BC39-D00449F1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24A734-3C16-4383-9419-DE734BA8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A967DE-5ADC-49D3-A097-B64F4699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9558E9-507A-49B1-A693-3E03CA74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5E7E83-2446-463D-A910-A08DD62F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A1BE9F-1B0B-4A09-89E0-2E5C15A8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A8F15A-4D85-45C6-8535-79999EC9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ED10E1-2799-48AD-8710-EE98F7FA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7CC672-9C99-4D3D-B8EF-1E1C5695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6BF6F1-7DBD-43A3-B28C-28647DE1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D5DF42-BA99-484D-9C20-BCC79275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1864-CD35-42B4-9985-14D9B27F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46C923-475A-44D8-8E18-7F5AD081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3E4975-645F-4137-97FA-19DE9AE0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DD6DEA-1255-45F4-842E-A6E70777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63980E-03A8-4BD3-BCAC-303C6C2B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62BCD0-0A89-4FC7-A45C-7C1B67D3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DD60A0-D3B6-4A4F-95B1-96652CAC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29DE61-6F3F-48DD-B618-1E8F687A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61C750-FF22-469A-8542-E6AAC007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27A3D6-E157-43D1-BB48-92C1A7B2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4A3734-0C75-420F-B6CA-17DF1E43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BD5C-FAB5-4B50-A9A3-8AF8E927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F6A6-3C21-48F4-8913-CC166CFC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8507BE-7ED7-4271-A2FB-6C2C0A9C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EBCFEC-59A7-4268-A3C1-4416C7AB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99F76C-5036-4C08-802A-C5750DDD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26E88F-31B2-4461-AA93-3C2A8D84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6F9F56-DF81-48B6-806C-2852A20D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31758F-1C32-4BEC-B8CA-49C5EDF6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B038AC-0F51-4CEB-9ACD-5F92936A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B79987-AD27-453E-A924-19BA08CA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9A35B4-EF7B-45F7-AC4A-F1E19255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1EDFCD-840A-4D9A-8735-F5705962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F7BD-314C-48C1-AEA0-6CD18465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1F61B2-A6DD-44B3-A183-969D93FC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DE2BF7-6B75-4541-961E-BEDDD9FD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163E27-D6DA-482C-AB84-2C5D0D3D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C60580-7002-4295-913C-BF86EAD8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8DC996-6A4E-4D7E-BF52-C8EAAEF7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9AB2D1-50F0-4CBA-A802-6C396098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A32C08-8EA8-46C4-B8A0-60184133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BDC98D-24E1-412A-AC84-C4276286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FD0985-B196-46D5-A9F7-749C0D34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7CAEAC-191C-4940-A6FF-5E9FC7F5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6148-70AC-4F93-BB8A-F480AA5C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0BF9B9-EAEA-4162-A5F2-BCCD1903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631107-31D2-4F75-B137-D3AC2B54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98ECDB-BA95-427F-9D39-42D8972C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BE8293-9C54-4F15-B846-AF1520C3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E3DA1A-B519-4521-A376-690DB1F0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333BB5-99B5-46DC-B06F-820F7368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624DB2-62FF-44F0-9A9B-317FA058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194E66-0586-47EA-AB03-EFA8BB94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712B7F-D6F5-4A6E-8BEE-F3559C52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8DE9D0-B424-4F68-989B-6D1D568E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5E53-937D-4C83-B00C-ACE62D93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EF4C21-85F5-4641-AB01-06E0EF18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628757-5387-4CA2-8A55-A0B0B39A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98498C-7ABF-46A3-B142-A83E113E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02C764-4205-4CA3-8937-C3CF0327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FCF7A0-D058-4D49-A2F3-4BA622D3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E3418F-8AE5-4745-A1C4-415C2256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637CDE-E147-49C3-97D3-4B79D3CD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2FA5B3-9A48-4425-B07F-BFFC123C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5B71E6-8057-40F6-A2FA-F32CF95A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7D023D-A266-4CFE-9075-65F1534B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1095-0855-4B66-95D4-18B0D183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96C5DA-3E95-45C7-B54E-249890A3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2177BB-C334-48E1-8377-3AD4057A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217B61-CDBD-48E5-860A-CD755FE5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1F5544-9D44-471F-BBC9-F2F22CB7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3AED16-2231-4E97-834F-047B457F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C7A913-63BB-4FCF-ABC4-1E7CA1AB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374D01-3F3B-4D56-820C-127D52F2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28DD22-ED84-4882-AA95-DD70A245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2C96D6-28F3-46BF-B30C-3ECFA2BA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2BDCE9-CD99-4D22-B057-D335EBEB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4E912-92C8-4FB5-A169-5C671139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8D026E-F291-4E1E-9FD2-FA26C4AC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E6C54A-82C4-4BAB-8999-EE435985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7EFD38-B507-42C4-97AA-553C6B34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9FDE59-24E3-4CD7-8E62-9E491DDE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0D98E4-8F77-4A23-BE24-4AF57109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A45A7D-7076-4E38-B6E1-91F6AA69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2BA642-803E-4157-BF8C-2CF9E559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C66D6F-7769-447C-8B0D-5D426B81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F20B39-A7D8-4A73-B210-87C1106F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B520F2-6000-4E6D-81D7-E881950A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2140C-6898-4143-81E8-7E3B0C82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5D0B34-693A-4320-92CD-D5D59C31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5F91BC-63EE-49E4-9029-79B459FB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42C37A-A6E0-4F4E-916C-CCDAD741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69E578-FD33-4CE8-9FD5-D9D7AE4E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8F2B51-9EF4-4891-BBA7-A0C18675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D93B7F-75E8-48C7-876F-4FD6DA6F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616058-A086-449F-B827-0C579F6A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DCE640-58BE-4908-924A-9AB46454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DF297B-51D8-47C7-8008-EE4E9049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3673DC-6DF9-45DA-B6F7-459FFDC1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AED7F-26B6-436C-9CCA-3F8B49FF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62EF6A-6BEE-4691-AD86-BA595F5B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91D7EC-993C-4A0C-AE8B-074D4317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3314AD-36B5-46D1-9E5A-D607DE80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A528E6-802C-4F4A-80C1-A41CEB3E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7D63A0-EBAE-4CDC-896A-2FA4D57A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829F16-3EED-424F-939E-C9B4A3E2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9DCE80-206A-4879-932E-E97663F4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4C67B8-36E9-426F-ADEC-7B33F642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4A0F9A-D1FA-4462-801B-1A8AAA5B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EF179E-5CC9-4AB0-A6F3-B5F890A0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AC276-A409-47FC-A0CB-FD3FE6B3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1F627D-D769-4598-BE39-AB7ABCAE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44FF03-C23B-4D20-98F1-966C2548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589B98-23C0-44C8-B666-AB89ED52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BE065E-4150-4BCE-81AE-CC48DF93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C61BB5-0A00-4633-8215-6FA803BD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89CE9A-C2F9-4700-AEEB-6C6D2FF9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D03FD9-6D39-4791-8FCE-BDBA3048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44B8D0-E229-42C3-BC2A-EFD4850B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8E558E-6671-447A-BD32-05426C93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38B914-C40C-4F9F-83C0-AA437E38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091DC-78E8-4C96-9E92-AA56BCCD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EA0DC3-CDC7-42C4-9B3F-C8D861D1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DAE0D0-1A1D-4DF2-8F97-7B1E0368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B315FA-B886-43BC-8475-3A51DC01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AFE62E-A395-4643-8650-7C5183EB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D0E4B6-5048-47BA-B707-57475ED4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70EC79-9446-4E4A-A0B3-8D922398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CA4CF9-FD75-438E-AA01-A24D5FFA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E7341F-1FBA-4649-BF54-A196E286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01CC10-033F-40D4-859D-33982A5D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121C9A-BD1B-4920-94F3-B0A320E5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EFE5-5868-46EE-9832-2D336D46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C5CBC-3452-4F56-98BD-DAFD2872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1FADF1-2647-4E34-BED5-105D4395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1EF06B-39F1-4315-80F3-D6A373B0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8D9A6C-5D3C-4C5D-B4A6-46DF6F25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229FA8-5B68-4BC5-B67E-F26F93C2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AB705E-BBAD-4E34-8EA0-1FDA3E84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3395DC-DB01-4344-A200-91DDDAC6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68C617-FFB5-45EE-A66B-1E865245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DD41AC-4EF6-4DDE-AF64-4C4FC158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E5446C-7072-48C1-BD63-EF7094EC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66E1F0-F220-48C4-9B51-19D666E6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BCA0C-0AB6-464E-86AA-D1FD58BE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F39506-3A6A-4CA7-A12E-3E08F166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10C068-934A-483D-8198-99081893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7ED3A7-CD05-4CE0-A769-20DAB79F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ED1BB0-D783-4BE9-A894-90E007B0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8DFE94-7E0B-4F8A-8B22-F8E57E66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8CB337-997E-4A57-9F64-4785E2DD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E44334-F96F-4556-BD5D-BA200C76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205754-9DEE-4498-8710-309B8606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16612A-EC21-4127-81C5-BCDA6AEE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1FAF64-334A-4DC3-9C19-49F9DCA8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36D94-3553-4832-9440-8B72BF7E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388746-BE34-40CB-9FB5-AE02B8A9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8AB472-CB92-4F64-9759-6150E7AD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DD2A60-DB09-4566-9B56-48FC9ACB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2F8DF6-F743-435A-B8D1-1E6F1308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359143-5D68-49CA-BB21-988AFC4E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9A85E9-000E-457B-9DB9-3927ECF6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D0C3B3-F23D-451C-BB67-E4148A29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B8462B-82DC-4929-A8B2-754A74A1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18E592-631D-400D-B612-4C2CA5ED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64028E-63A2-4118-92E8-EEFE8830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79F26-C038-43F9-AEC8-2DB20F0A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72D95D-F58F-4FA4-8A1B-FB0BD8ED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66F37F-BE86-45D0-8892-96224FE1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CB6F73-B2A1-4144-8659-E7843B9E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EB4C6C-FA41-4D92-88E1-6B85A7B5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1B049F-0307-4856-BDBE-2131BA32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7C3015-1616-4DB2-BB42-2C72B7CB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8B9E0F-141C-48BB-9FB2-07DEDA84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97B3D0-A95C-49AE-B54D-194F6989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E720A8-72C3-40EE-8A58-459BCA56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6A64D4-082A-4868-A2A0-43BBAA56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FBDA2-8565-4B7A-BB37-FE6A5C99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262501-313F-474F-9947-7A990C72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CFDFDC-5D17-49F7-9A76-11F8D3BB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606138-4B0D-4528-990D-32D9CEEF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B932CF-9CB4-4EF1-B8DD-4BC89C13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08DF82-ABAB-465F-9CE8-1DE7E5D5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0475AE-C2BE-434B-B477-48F02DE4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7E0A47-DB82-4C76-97DC-CD0E9E16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9C3AB8-FBB5-40F8-8341-38A38D3F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35F34A-0446-44B9-8EDA-7D0AB744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DCDFC0-F404-4036-A31D-1F3771BD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3FA81-A7E6-452E-865C-697B2890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758117-98EB-4FAB-895D-0336E690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FF46B0-7723-4FE1-99F7-78CB9637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D607DC-5268-4DD7-ACC5-97D8C690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E11845-3C88-4736-8C47-49EF96AC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2751F6-8B65-49CA-958B-350BC410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B84CCA-B31F-4B1A-9767-276BB60C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FBD0E0-6593-4519-A8F9-6A2B504E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D40AC4-B889-48E2-8C16-F17236E6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850511-CFCF-452B-88C8-092F6256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C5D3BF-A73E-4B0C-87F8-2CD8461F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393D5-C78F-4FC4-BFEC-545096B6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BA100D-1B50-4A11-AAF3-7A04D21A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83B684-9167-4BE3-951A-BF791AC8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8BECEF-6B58-4431-8007-C82D60D7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D837CE-C8D5-4D52-97E8-174E5975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B029F3-E490-4E3E-9132-E1ECBA78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0A3C0A-4793-49CC-9D55-46EDD7BA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784789-130D-4B84-B0AE-6E7AC2BD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7EF2F2-016C-4DEC-B7F3-D0967B68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6382E4-D55A-417B-8C21-CCF9679F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6702B8-8D00-4865-9B87-B9D2550C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71F3A-18A9-44EE-B991-F2CA6523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73B936-86BD-44C7-9A6E-3B2D851E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145F44-D079-442F-93E9-22D7AD9B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44DC2E3-C675-4FDB-BCFE-4680A860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4D7249-6504-40E5-9BB2-B4C594CE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7629AE-6D7F-4B61-86E3-69802C14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E389627-4AF7-439E-845E-67F02B79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1010F01-A4AA-44C7-91B7-15895F21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4C23BC1-CB42-4D5F-B39A-7D840FDF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6F9837E-23B2-40A1-8AE5-5C190034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3777B1-CB4F-440F-B11E-87324460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CC513-B1E0-491B-BE92-3814B2DB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6932EC-7886-4512-8EA2-AF9B1B91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5460FE6-B93B-442D-A4A2-5E76CC3B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D8F666-FA6F-4E85-AE20-75BA1BE3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923B868-EC73-4643-A8AE-A66B0B9B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1CC6965-3A0F-4597-839B-53090CEB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C0D5CA-3752-44E4-B560-49A45E59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E9A4E4-49CE-4193-9721-413D21B9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C79C2B-3468-4142-B653-4C80824C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9B4DCB7-7FD8-45BB-9382-49BBB9E7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FF2C83E-2963-42C7-BAA9-31FEE115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CEE63-19F5-4612-BFA2-EEFA2A5A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704E6FF-EDB5-4FB1-816F-379C3E15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E249BB5-A3F6-45CB-BEE7-9F887FE0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1947FF1-713C-435D-84A8-D92222F2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EBAB2A-8AD0-477C-8243-EEAEDA45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E6817E-4676-4AA6-8FB0-C9D044AF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204DBF9-0E15-4E0B-B22D-5F0E10EF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FE060A-26BF-4FAB-B025-01A0C666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A7B569-B983-4C07-99E2-8CB011AD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63A3DD3-A82E-41D3-8D95-3CF295A7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C573B95-0F72-4741-95EC-5A6E931F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06A6-F1D0-4051-A85E-058F03A9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37449-8F08-45EF-B691-9E45BE87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EA19A1-7F5C-482B-A61D-ECCDAF4E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7E4A36C-3D4B-461C-9D3F-230906A2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242B548-F838-471B-BBC2-44F7419F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2732626-B9C7-42A4-89DF-2A8DE078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81D2A9C-57CD-4CB3-BAE1-6A0C3F11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A49ED07-C3A4-4890-9024-1BDF3AF4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B94F485-2602-4339-82F5-B1B105B0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AF29F31-6A08-4DCA-BC99-02CBC4AE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DE0742A-DA10-4311-A8F2-2C94BAF7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AF188E3-EA05-452B-9EB6-95FAF3F9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4B4D0-2717-497B-9AE1-DFE8AC7D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72039B-11B2-475F-BEAA-5C98191A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A3203F4-E1D1-4D8D-8DCC-10223849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7B0BB70-199C-460F-963F-CAE65CC2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747FCF9-E9EC-4E68-A384-E7F86548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E49453F-9E47-4FE5-8B52-499E33DE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2A9CFED-0E67-470C-8A3A-ED9163D9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492F6A5-0B9F-4FD2-BA1C-16FF3B2C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6752CD5-1C06-42F3-A276-C8345220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274BDA8-9BFC-4E67-85B8-C7FCF3A1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DC7E6E7-BF7B-40CE-88D9-DA2C4AB0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CF467-B311-44F0-B0C8-58F55BFE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A1EA0EC-2131-461B-BC6E-A9DE1CF1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7FEA813-54CF-4029-A2F5-6ED90700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53AA230-663E-4F61-8BD0-571330BC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464DD72-E6E3-4254-A552-8A090759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F8760F-195E-450D-9659-C3F48858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4CC40E9-BB35-4A81-93A4-B291A6DA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E44E0D8-D0AF-4A48-A549-DDC7DEF6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C4417B-3B4E-4EAD-9EAD-3914C137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53E2982-D6AB-4C0D-ADD4-DB673522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F9CDE80-7321-4A26-BF47-C0AD62D9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9A165-03DE-4688-AAFA-ED5CC647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23725C5-4813-43C1-80A0-F97D6B9E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C4CB827-6315-4F5B-8AB6-EDE09ABF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DB9531E-C48A-41C8-BB30-DD59E65E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DCE7E06-767A-468A-9148-C7927E92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73D717A-9D39-4F63-82B4-A87AEDB9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0E08E2E-4CDD-4DC7-B55F-92771308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A8C0B2B-27DC-4B5F-848A-F5F7241B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8DB67B2-246E-429A-9491-D172BFB5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EC57E47-DCDE-4973-89C8-9883D373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0E044E0-8FFB-4C7A-A356-DC1CF60D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CC62B-177C-4963-A8E3-428F50DE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DDDD01C-AC60-43DE-A28E-00BBCBAF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0EB9EFD-A0AD-49C6-A6F2-32B5182D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E9BF351-C454-40C9-A559-8C41D5CA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76EE690-8223-4FB8-9B8B-C58B7810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6007264-8A6B-41D4-AB2D-68F36730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71ABA38-2BFE-410A-9B45-606BE0B2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9C89396-4119-4202-8555-8768B424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A9BEFBE-4F28-4185-9992-5F35B620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6945A11-7598-4D0C-8587-D27B9D3D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3B18567-C0C6-4A42-9926-DAE5615A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83BB2-E60F-42AF-B3E3-13180EA7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FB33E16-F420-4C50-B050-29B38DFC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29BBF80-A3C5-44F6-850C-3FD0328C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17E868F-4D63-4FBB-9665-86AD0C09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DF0D7FA-ABA4-4649-B3EA-AE642AC9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61E14CB-C2EF-4E30-BBE0-D31915D3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23F0341-45FC-4EFC-8D48-A4E2A152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DCB6452-F6DA-4D04-9E47-B49561F7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C1D921F-43FA-4D88-B1D7-506EFE52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3B54A29-A78F-455C-9101-765475BE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2204825-E82A-4B85-BDB6-3F067831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0309D-C296-44AB-BDC9-7B9ABC0E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4CB47BB-B6D5-4E19-B0DE-DB8AD83C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C53E65C-4332-47A0-9DF4-5800587D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7CB4BFC-EAD7-4A9D-A4EC-653107E9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2026687-E1B9-46B5-884C-2B7DE6B4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33A6704-290D-42C6-A8B0-FFA07D3F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30FCC3B-D954-4563-A301-8386BCFB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4F8277B-7070-4D28-91AA-B90BC442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DDADE08-EBC7-4036-8197-E2B46EEC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D46BB80-853B-454D-AF93-AA92880D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87D3DE3-4EDA-420E-A35A-08700567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F273C-C347-455A-97BB-BBE27ABE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8EF2D63-E3D3-4FF6-B4A5-9A9E6997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0BE7D7D-2AE4-4CD6-AC5D-307FED27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EDE22F1-DBEB-4455-A682-7D061922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3B69A25-8423-4587-88A9-F728DA59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28F53F0-9108-4010-9974-31F08AD3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B19BA66-2E80-4962-AA10-A082D73D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7FC0845-BDDC-4F09-A5B6-99EBFDDB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5694054-C334-4F54-9FC8-1A6A0259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0BC9325-04A9-48EE-9261-3077D630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2A3A218-E48C-411A-B5E8-F44EF289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7503A-C483-4C64-986E-06090FF9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A000508-7D7B-4A26-8F51-BDC54531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1105113-9A16-44C5-8278-E0B09577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236BEA1-6552-4AEF-B6A5-9E324CE7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255D380-ED18-4259-80E2-B406E883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7354B34-9C68-4D25-9723-71654F93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FF783A9-6522-4CC8-950F-33B8CB7E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208A1D3-1F30-46C0-81A5-E6DC83C5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3A058F8-AD8E-4B8A-A3DD-177D4434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DED7B49-173A-4E2A-A573-571C3128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B81B5A5-1AE3-43B2-89A8-9EFFE574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58096-5A3B-407C-8301-E00F98B8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6D13920-4F76-43A7-8F0E-4E135B89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05E8A89-F54A-42D1-93C3-852742BC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9FB5997-1568-45A5-A07E-65FE304B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94B1835-101A-4B96-B0D6-2C7E58AC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E5C8E5A-49DE-4D11-AD60-F7F30068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3305A91-D3B6-4E00-85F2-5D50FEFA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7026C4D-8BD1-4DB3-A962-0C93FA50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FFB0EE8-F8CB-4734-AFB0-78680148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F8D848A-64A5-4FFA-95CC-875B5139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AD275D2-8009-4965-869D-6A9F38AF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50FA-D7DF-4969-96D0-22FC372F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C1A48-4D70-442C-8FB1-04598C5B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4BA92D6-0A2E-402C-AB38-AB702DE5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028492B-372C-49A3-A1F5-75D3B478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69BFAC5-A4E2-4FB1-96A7-17AEC326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C8CE2A6-4626-41BA-B366-AC1709FD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2500C9F-36CD-4103-923C-017DC91C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55A6F-003E-4E6D-B0DF-AA538909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5B731-0DB4-48B6-ADCB-30BF190D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598AE-F028-45D6-A728-E4BADA1A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0D5EB-D931-47D0-BD58-9BA6676B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D2D87-032C-4B6C-B69B-C67686E2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1575D-1F6E-4882-9B0F-0AFACF4B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0B4BE-1E95-41AB-8E26-47B2EC65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6016F-B578-41B4-AAB3-B62217CA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5ACC1-A996-4022-82CA-75C7CD9D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EE9B-6100-47C0-9006-04C92936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94066-6A77-4A84-A249-C3C59C4F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1C85E-00DC-4DAE-A528-7F473807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FF9BB-E649-4C6B-8104-386069B9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4748F-30DD-4EDB-8AF9-79778C49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8E178-89DE-4FD5-8B55-BB16269E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F7C56-9F00-427B-82C8-C38952F4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DAB4A-33C1-4F19-9484-BDA13FFB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A450A-EEB2-430C-BA69-9A438797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3492F-097D-4B78-BFFA-B56A53BE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74833-5239-4CAE-AD5D-486C604B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E5E-C7C7-4F05-8204-B9B17C48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99C85-4A6A-4398-A1D2-F342E479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F07F0-0E6A-4B86-BB50-0225CC26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9324E-5FF9-4356-863F-11D7CDBB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3CDC9-8454-435D-9ED6-C82E9DE9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6EACA-0B54-4291-84E9-EC4E6D79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91933-ED71-45DF-8BAD-41F4D833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E3C46-6D95-4E8E-A463-1F904D58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1C04E-38DA-4685-BE8F-A67EB918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D60AE-3D48-46EB-9279-6B54BD6C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F3AB2-6080-414A-93F2-8C0DC694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DBD1-B682-4FDC-8F8E-B0A2B7D8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0DCC3-E000-4200-A706-ED0759A2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6A17C-1071-46C4-9E6F-7B359822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E78A6-27ED-4780-B7B5-194133AB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6866D-23B9-48B8-B97B-90D53E27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B334A-E97D-4750-9302-3C1DF767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02560-5730-42D4-87D0-5D43CF3F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5D397-4F3C-4F8A-8CAA-26161673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2AB4D-A685-40A0-AE7E-E57079C1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B2D44-20DC-4450-8B21-C2DA8B01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2BE0E-0560-407C-856B-257B735C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C80-EAC1-4ACD-B3F2-3BB988B0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3983E-CFFB-4747-9A4C-391925A9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95DFF-AB4F-4987-A291-D54BE349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9878B-FAF0-41F7-BFBF-7B406AF9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7BAD0-354E-48BB-9CA6-798A458A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F00C8-F1C9-438C-849B-6106B798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DC2FA-F27A-435F-BDE0-06850CAF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D6B11-BE98-42C9-98A8-AF9D73CB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21FB3-96C2-4882-84FC-5ECADD48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CB22A-C128-4551-AE0B-3387CE96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4B948-9CB7-4E28-B22D-AB4257CA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154C-0303-4FA3-808B-F2F5B8A3DA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64CE-6975-4CB5-98A6-D7715A67AE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39BB-2FE5-4BF1-9671-A2FE1B080B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8070-8C39-44B0-8AAD-1B447FB601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2B43-D627-4EBC-B2D7-8B57E1C508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B431-4F22-4BB9-AF05-8A5D4C4AC9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2334-C7B9-4065-AA55-D14C3AE764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4795-39C8-42D7-AEB0-C5B9561D6D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8E1F-341D-4ADB-AA69-7B37341427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BF27-E424-4250-8729-A2B6B88DE5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2298-6887-49E6-ACC5-578B2B6CF15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71EE-C032-4A30-9EAF-6262D96F4C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94FE-47D1-456B-8F55-8817DD7120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EF96-260E-4A53-8592-E95DE39AE88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EEB7-DF75-459F-A95A-250F8916F5D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5307-DC37-4F50-AF6A-BCAD90CB33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46C1-DE57-489E-BA77-7A8E299DCD5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F3A0-3447-4D10-BF46-D365F154B54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7B13-788C-4A8E-90F0-019168DBC5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5389-EA99-40AF-A35D-89B3AF7AE99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1514-5029-43D6-9F94-11E31AEC79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162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4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165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67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BD99-E635-4B76-BB2A-1E1C2742502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2652-4409-49F5-9BA5-D0E0101BEE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1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1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D929-3691-47E8-BF04-FD2E5DE840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6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F999-A9EE-4890-9064-03069B51DB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EAA6-6F50-4488-A75C-53EECC646E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4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C7D9-B7C5-4DC5-A07A-F7DA1963A5D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E45C-80D7-4B7B-8260-3FFC900904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37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9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440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FF4C-BF28-49FB-AD07-106BE7D8688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485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7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488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90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 type="dt" idx="10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 type="ftr" idx="10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 type="sldNum" idx="10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B185-8C6B-48CC-BC8D-67899A83C69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3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3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 type="dt" idx="10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 type="ftr" idx="1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 type="sldNum" idx="1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7ADD-3689-452F-88AB-17212EA5AA2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1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22EC-A3C0-4457-BFDF-56DF5ED6F4E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1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1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1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634E-D72A-4621-92F6-6AD5ABEE67D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54D5-F1BD-4D55-91AB-2FB97FF440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7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dt" idx="1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 type="ftr" idx="11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 type="sldNum" idx="1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CA59-33AF-444F-8D16-BDF7E7F3926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dt" idx="1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ftr" idx="12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 type="sldNum" idx="1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AE9E-F2E8-4C48-981B-54450EAFE89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0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2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76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dt" idx="1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 type="ftr" idx="12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5"/>
          <p:cNvSpPr>
            <a:spLocks noGrp="1"/>
          </p:cNvSpPr>
          <p:nvPr>
            <p:ph type="sldNum" idx="1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94D3-32ED-45E1-A0CA-6615F6E038E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CB3F-AB66-4EEE-8F62-C045A6EF2C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B0F1-E59B-4BDD-925E-223DAD8952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8198-C19F-4C12-B209-9C1FE21CFE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58E2-1116-4716-BA9C-EF9BBB1DD0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A7C0-B118-4FF9-9F2D-584E6D1D3B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Культура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- это часть общей культуры личности, включающая систему знаний о здоровье, методах самодиагностики психофизического состояния, компонентах здорового образа жизни; осознание личностной значимости ценности здоровья и здорового образа жизни как необходимости личностного саморазвития; способность сознательной выработки индивидуальной стратегии сбережения и развития здоровь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кольный спортивный клуб (ШСК)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 – это форма внеурочной деятельности общеобразовательной школы, ориентированная на формирование физической культуры личности, характеризующаяся физкультурно-спортивной и общественно значимой направленностью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СК может создаваться образовательными организациями в качестве их структурных подразделений или в виде общественных объединений, не являющихся юридическими лицами. Деятельность ШСК регламентируется Положением о ШСК, которое самостоятельно разрабатывает и утверждает образовательная организаци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Скругленный прямоугольник 1"/>
          <p:cNvSpPr/>
          <p:nvPr/>
        </p:nvSpPr>
        <p:spPr>
          <a:xfrm>
            <a:off x="611280" y="404640"/>
            <a:ext cx="8137440" cy="16560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едагогические условия формирования культуры здоровья обучающихся в рамках функционирования школьного спортивного клуб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Скругленный прямоугольник 2"/>
          <p:cNvSpPr/>
          <p:nvPr/>
        </p:nvSpPr>
        <p:spPr>
          <a:xfrm>
            <a:off x="638280" y="2276640"/>
            <a:ext cx="8136000" cy="979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1" name="Прямая со стрелкой 4"/>
          <p:cNvCxnSpPr>
            <a:stCxn id="1809" idx="1"/>
            <a:endCxn id="1809" idx="1"/>
          </p:cNvCxnSpPr>
          <p:nvPr/>
        </p:nvCxnSpPr>
        <p:spPr>
          <a:xfrm>
            <a:off x="610920" y="123300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2" name="Стрелка углом вверх 8"/>
          <p:cNvSpPr/>
          <p:nvPr/>
        </p:nvSpPr>
        <p:spPr>
          <a:xfrm>
            <a:off x="611280" y="1233360"/>
            <a:ext cx="46080" cy="44640"/>
          </a:xfrm>
          <a:custGeom>
            <a:avLst/>
            <a:gdLst/>
            <a:ahLst/>
            <a:rect l="l" t="t" r="r" b="b"/>
            <a:pathLst>
              <a:path w="46037" h="44450">
                <a:moveTo>
                  <a:pt x="0" y="-32198"/>
                </a:moveTo>
                <a:lnTo>
                  <a:pt x="29368" y="-32198"/>
                </a:lnTo>
                <a:lnTo>
                  <a:pt x="29368" y="11113"/>
                </a:lnTo>
                <a:lnTo>
                  <a:pt x="23812" y="11113"/>
                </a:lnTo>
                <a:lnTo>
                  <a:pt x="-30611" y="0"/>
                </a:lnTo>
                <a:lnTo>
                  <a:pt x="-19499" y="11113"/>
                </a:lnTo>
                <a:lnTo>
                  <a:pt x="-25055" y="11113"/>
                </a:lnTo>
                <a:lnTo>
                  <a:pt x="-25055" y="-21086"/>
                </a:lnTo>
                <a:lnTo>
                  <a:pt x="0" y="-21086"/>
                </a:lnTo>
                <a:lnTo>
                  <a:pt x="0" y="-3219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3" name="Соединительная линия уступом 11"/>
          <p:cNvCxnSpPr/>
          <p:nvPr/>
        </p:nvCxnSpPr>
        <p:spPr>
          <a:xfrm flipH="1" flipV="1" rot="10800000">
            <a:off x="599040" y="525240"/>
            <a:ext cx="27720" cy="4907520"/>
          </a:xfrm>
          <a:prstGeom prst="bentConnector3">
            <a:avLst>
              <a:gd name="adj1" fmla="val -87763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4" name="Прямая со стрелкой 15"/>
          <p:cNvCxnSpPr/>
          <p:nvPr/>
        </p:nvCxnSpPr>
        <p:spPr>
          <a:xfrm>
            <a:off x="371520" y="417636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5" name="Прямоугольник 28"/>
          <p:cNvSpPr/>
          <p:nvPr/>
        </p:nvSpPr>
        <p:spPr>
          <a:xfrm>
            <a:off x="644400" y="4834080"/>
            <a:ext cx="811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вышение профессиоальной компетентности педагогов в вопросах формирования культуры здоровья л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Прямоугольник 29"/>
          <p:cNvSpPr/>
          <p:nvPr/>
        </p:nvSpPr>
        <p:spPr>
          <a:xfrm>
            <a:off x="611280" y="5722920"/>
            <a:ext cx="811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азработка и реализация индивидуальных программ сбережения и развит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Скругленный прямоугольник 24"/>
          <p:cNvSpPr/>
          <p:nvPr/>
        </p:nvSpPr>
        <p:spPr>
          <a:xfrm>
            <a:off x="657360" y="3686040"/>
            <a:ext cx="813564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роектирование индивидуальных программ сбережения и укреплен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Скругленный прямоугольник 27"/>
          <p:cNvSpPr/>
          <p:nvPr/>
        </p:nvSpPr>
        <p:spPr>
          <a:xfrm>
            <a:off x="635040" y="4941720"/>
            <a:ext cx="813600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беспечение взаимодействия всех субъектов учебно-воспитательной деятельности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9" name="Прямая со стрелкой 31"/>
          <p:cNvCxnSpPr/>
          <p:nvPr/>
        </p:nvCxnSpPr>
        <p:spPr>
          <a:xfrm>
            <a:off x="371520" y="278424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смотр мультфильмов, тематических видеоматериалов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Обсуждение примеров известных людей прошлого и современности, обладающих высоким уровнем культуры здоровь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ведение рефлексии с целью выявления мотивов поведения рассматриваемых персон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Проектирование индивидуальных программ сбережения и укрепления здоровья обучающихс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Индивидуальная программа сбережения и развития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– это составная часть индивидуальной образовательной программы, комплексно описывающая деятельность по сбережению и развитию здоровья, содержащая индивидуальные цели, этапы и способы их достижения, результаты, анализ и оценку результат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95280" y="83664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 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1. Анализ индивидуального опыта здорового образа жиз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2. Индивидуальная карта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3. Цель и задачи деятельности по сбережению и укреплению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 txBox="1"/>
          <p:nvPr/>
        </p:nvSpPr>
        <p:spPr>
          <a:xfrm>
            <a:off x="395280" y="188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4. Индивидуальный план деятельности по сбережению и укреплениюздоровь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индивидуальный план двигательной актив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закаливания, дыхательной гимнастики, отказа от вредных привычек и др.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рефлексивных ситуаций (мероприятий), в том числе представление индивидуальной программы сбережения и развития здоровья, достигнут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5. Оценка эффективности реализации индивидуальной программы сбережения и укрепления здоров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Рисунок 19" descr=""/>
          <p:cNvPicPr/>
          <p:nvPr/>
        </p:nvPicPr>
        <p:blipFill>
          <a:blip r:embed="rId1"/>
          <a:srcRect l="24215" t="30963" r="18744" b="14575"/>
          <a:stretch/>
        </p:blipFill>
        <p:spPr>
          <a:xfrm>
            <a:off x="1547640" y="1484280"/>
            <a:ext cx="6048720" cy="3889440"/>
          </a:xfrm>
          <a:prstGeom prst="rect">
            <a:avLst/>
          </a:prstGeom>
          <a:ln w="0">
            <a:noFill/>
          </a:ln>
        </p:spPr>
      </p:pic>
      <p:sp>
        <p:nvSpPr>
          <p:cNvPr id="1825" name="Прямоугольник 18"/>
          <p:cNvSpPr/>
          <p:nvPr/>
        </p:nvSpPr>
        <p:spPr>
          <a:xfrm>
            <a:off x="755640" y="47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беспечение взаимодействия всех субъектов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учебно-воспитательной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деятельности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08:55:57Z</dcterms:created>
  <dc:creator>Venera</dc:creator>
  <dc:description/>
  <dc:language>en-US</dc:language>
  <cp:lastModifiedBy>Пользователь Windows</cp:lastModifiedBy>
  <dcterms:modified xsi:type="dcterms:W3CDTF">2019-11-16T07:53:27Z</dcterms:modified>
  <cp:revision>178</cp:revision>
  <dc:subject/>
  <dc:title>Слайд 1</dc:title>
</cp:coreProperties>
</file>