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DF9F-D899-4B49-809D-7B08E7306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3953-E059-44F6-9580-E31F0A46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75E4-8DEB-4A1D-BC93-2EB8E472A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81CE-FF75-4EB2-B6BD-F2E1CAB70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2449-4BD0-4D0E-8F4B-E35D205B1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7E8E-2AD5-4F1D-BC2B-0D4B1BB1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0DE1-4821-4E70-9DCD-CC311029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8E44-83FD-4054-B507-D8700055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62C8-C56E-4B5F-BE7C-7D4E8995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900E-4B4D-4803-8ADB-4253E3AF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1C4E-963E-4C4E-B8C9-863BC67B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F261-4B7D-4E74-AE22-96E24FA6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D642D-F8EE-4E10-88F1-FC36A37A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6FF0-8026-4772-AED7-8DFFB682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9228C-67F3-4225-B16B-C4CD33F5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A4C91-4A83-49D6-BE45-62F8EFC05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03675-78EF-4787-A34C-DAE4389C3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7A64F-CECF-4E79-81F0-B8493CD24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8EDEF-6DBF-4F66-9EE8-8C134BAC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80265-C5EF-4FAC-B08F-7BB3FD96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EE0D8-B658-45C7-B161-F7AA34F4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2A0B8-32FB-4F83-9BDB-734361C1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6F75-3CC7-47CF-8F5E-D6B7765B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CE95F-D09F-4A8F-8470-2B8ECA8A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6367D-E64C-4C49-B60B-CDA70AD0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C4384-A46C-4B86-9054-05420974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EACB9-59AC-410D-9A3B-0F0C495B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782C2-9CB3-4BB5-8AAE-82752D59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40E6F-562C-4BE3-B625-9726E3AED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82679-09CF-4217-8EA3-CDCC1F6FC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57BB-FC2D-47D8-A198-F51D4F48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26DC-1C32-4D47-B5F0-7206BD3D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595C-037B-43C5-BE0C-B42DC736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5000-A8AF-477D-8A99-5F70BFF9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6A7D-9F59-41F1-8889-C0B5BA09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7ABF-3CC7-424B-95C1-8C41B8BF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6021-0551-40EE-A5C4-3AE9949D50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2F9A-6FAC-4670-935D-D17B4000C8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83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5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9"/>
            <p:cNvGrpSpPr/>
            <p:nvPr/>
          </p:nvGrpSpPr>
          <p:grpSpPr>
            <a:xfrm>
              <a:off x="-1080" y="2601000"/>
              <a:ext cx="2687040" cy="3117600"/>
              <a:chOff x="-1080" y="2601000"/>
              <a:chExt cx="2687040" cy="3117600"/>
            </a:xfrm>
          </p:grpSpPr>
          <p:sp>
            <p:nvSpPr>
              <p:cNvPr id="90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" name="Group 15"/>
              <p:cNvGrpSpPr/>
              <p:nvPr/>
            </p:nvGrpSpPr>
            <p:grpSpPr>
              <a:xfrm>
                <a:off x="852480" y="4053960"/>
                <a:ext cx="1833480" cy="1664640"/>
                <a:chOff x="852480" y="4053960"/>
                <a:chExt cx="1833480" cy="1664640"/>
              </a:xfrm>
            </p:grpSpPr>
            <p:sp>
              <p:nvSpPr>
                <p:cNvPr id="96" name="Freeform 16"/>
                <p:cNvSpPr/>
                <p:nvPr/>
              </p:nvSpPr>
              <p:spPr>
                <a:xfrm flipH="1" rot="7102800">
                  <a:off x="1266840" y="3941280"/>
                  <a:ext cx="476640" cy="122688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17"/>
                <p:cNvSpPr/>
                <p:nvPr/>
              </p:nvSpPr>
              <p:spPr>
                <a:xfrm flipH="1" rot="7102800">
                  <a:off x="2336760" y="4975920"/>
                  <a:ext cx="109440" cy="50364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18"/>
                <p:cNvSpPr/>
                <p:nvPr/>
              </p:nvSpPr>
              <p:spPr>
                <a:xfrm flipH="1" rot="7102800">
                  <a:off x="2501280" y="5568480"/>
                  <a:ext cx="19980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00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4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08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C341-E134-4AC2-BD23-4028586428D0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ro.perm.ru/" TargetMode="External"/><Relationship Id="rId2" Type="http://schemas.openxmlformats.org/officeDocument/2006/relationships/hyperlink" Target="http://iro.perm.ru/" TargetMode="External"/><Relationship Id="rId3" Type="http://schemas.openxmlformats.org/officeDocument/2006/relationships/hyperlink" Target="http://iro.perm.ru/" TargetMode="External"/><Relationship Id="rId4" Type="http://schemas.openxmlformats.org/officeDocument/2006/relationships/hyperlink" Target="http://iro.perm.ru/catalog.html?cid=9" TargetMode="External"/><Relationship Id="rId5" Type="http://schemas.openxmlformats.org/officeDocument/2006/relationships/hyperlink" Target="http://iro.perm.ru/catalog.html?cid=9" TargetMode="External"/><Relationship Id="rId6" Type="http://schemas.openxmlformats.org/officeDocument/2006/relationships/hyperlink" Target="http://iro.perm.ru/catalog.html?cid=9" TargetMode="External"/><Relationship Id="rId7" Type="http://schemas.openxmlformats.org/officeDocument/2006/relationships/hyperlink" Target="http://iro.perm.ru/catalog.html?cid=9" TargetMode="External"/><Relationship Id="rId8" Type="http://schemas.openxmlformats.org/officeDocument/2006/relationships/hyperlink" Target="http://www.educomm.iro.perm.ru/" TargetMode="External"/><Relationship Id="rId9" Type="http://schemas.openxmlformats.org/officeDocument/2006/relationships/hyperlink" Target="mailto:ozdip@list.ru" TargetMode="External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ducomm.iro.perm.ru/" TargetMode="External"/><Relationship Id="rId2" Type="http://schemas.openxmlformats.org/officeDocument/2006/relationships/hyperlink" Target="http://educomm.iro.perm.ru/" TargetMode="External"/><Relationship Id="rId3" Type="http://schemas.openxmlformats.org/officeDocument/2006/relationships/hyperlink" Target="http://educomm.iro.perm.ru/" TargetMode="External"/><Relationship Id="rId4" Type="http://schemas.openxmlformats.org/officeDocument/2006/relationships/hyperlink" Target="http://educomm.iro.perm.ru/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280" y="764640"/>
            <a:ext cx="8425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Модель использования комплексных мер для сохранения и укрепления здоровья обучающихся и педагогов </a:t>
            </a:r>
            <a:br>
              <a:rPr sz="28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в условиях подготовки </a:t>
            </a:r>
            <a:br>
              <a:rPr sz="28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к итоговой аттестации</a:t>
            </a: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250920" y="3141360"/>
            <a:ext cx="8640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Лядова Наталья Владимиров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руководитель сетевого сообщ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учителей ФК Пермского кр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в рамках выполнения краевого проек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«Образовательный лифт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к.м.н., вед.научн.сотрудник ГАУ ДПО «ИРО П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2019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0"/>
          <a:ext cx="9144000" cy="6959520"/>
        </p:xfrm>
        <a:graphic>
          <a:graphicData uri="http://schemas.openxmlformats.org/drawingml/2006/table">
            <a:tbl>
              <a:tblPr/>
              <a:tblGrid>
                <a:gridCol w="2732040"/>
                <a:gridCol w="6411960"/>
              </a:tblGrid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Управленчес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(рациональная организация учебной и внеучебной деятельности обучающихся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проблемной группы по разработке и реализации программы содействия здоровью выпускников и педагогов, готовящих учеников к сдаче ГИ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анкетирования учеников и учителей ФК (Анкеты 1, 2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, обеспечение и контрол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остроения уроков физкультуры на основе системно-деятельностного и здоровьесберегающих подходов, обеспечения субъектности ученик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ационального построения расписания относительно уроков физической культуры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тбора содержания обучения, соответствующего интересам обучающихся выпускных классов, традициям школы, а также новым популярным среди подростков, молодежи видов двигательной активности, игр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облюдения требований СанПиН к физической нагрузке, моторной плотности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оздания и поддержания благоприятного психологического климата на уроках физкультуры, во внеурочных занятиях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ценивания учебных достижений на основе системы  формирующего критериального оценив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925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организации мониторинговых исследований состояния здоровья школьников 9-х, 11-х классов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0" y="44280"/>
          <a:ext cx="9144000" cy="6624720"/>
        </p:xfrm>
        <a:graphic>
          <a:graphicData uri="http://schemas.openxmlformats.org/drawingml/2006/table">
            <a:tbl>
              <a:tblPr/>
              <a:tblGrid>
                <a:gridCol w="2054160"/>
                <a:gridCol w="7089840"/>
              </a:tblGrid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изкультурно-оздоровительно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эффективная орган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изкультурно-оздоровительной работы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оптимальной двигательной активности обучающихся  выпускных классов в режиме учебного дня, на уроках физкультуры, во внеурочной и досуговой деятельности за счет физкультминуток на уроках, двигательной организации перемен, занятий в спортивных секциях/кружках, самостоятельных занятиях физическими упражнениями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ощь учителям-предметникам в разработке и организации проведения физкультминуток для старшеклассников.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занятий физкультурой с обучающимися, отнесенными к специальной медицинской группе (СМГ)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договоренности со специалистами школы (медработником, психологом, социальным педагогом, приглашенным специалистом) по осуществлению оздоровительно-профилактических мероприятий (организация закаливания, работа фитобара, витамино- и аромопрофилактика, ионизация воздуха (люстра Чижевского), точечный самомассаж, дыхательная гимнастика, релаксационные упражнения  и др., предоставление физиотерапевтических услуг при наличии оборудования и специалиста)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оставление возможности выпускникам и педагогам выпускных классов посещать спортивный зал в вечернее время для самостоятельных или организованных занятий физическими упражнениями, для подготовки к выполнению нормативов (испытаний) комплекса ГТО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476280"/>
          <a:ext cx="8229600" cy="4003560"/>
        </p:xfrm>
        <a:graphic>
          <a:graphicData uri="http://schemas.openxmlformats.org/drawingml/2006/table">
            <a:tbl>
              <a:tblPr/>
              <a:tblGrid>
                <a:gridCol w="1090440"/>
                <a:gridCol w="7139160"/>
              </a:tblGrid>
              <a:tr h="40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оставление возможности посещать бассейн, тир, тренажерный зал для подготовки к выполнению нормативов (испытаний) комплекса ГТО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работы школьного спортивного клуба, спортивных секций, кружков, групп здоровья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и проведение спортивных праздников, Дней здоровья, соревнований, в т.ч. по выполнению нормативов (испытаний) комплекса ГТО, олимпиад, походов и т.п. в соответствии с планом работы учител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влечение выпускников 9-х, 11-х классов в физкультурно-оздоровительные занятия и объединения по тематике ЗОЖ в рамках дополнительных образовательных программ и во внеурочной деятельности, в волонтерское движение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оздоровления выпускников 9-х, 11-х классов в каникулярное время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0"/>
          <a:ext cx="9144000" cy="6442200"/>
        </p:xfrm>
        <a:graphic>
          <a:graphicData uri="http://schemas.openxmlformats.org/drawingml/2006/table">
            <a:tbl>
              <a:tblPr/>
              <a:tblGrid>
                <a:gridCol w="2124000"/>
                <a:gridCol w="7020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Образова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(в т.ч. реал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дополни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образова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программ для обучающихся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тематического планирования по включению здоровьесберегающего содержания в содержание учебного предмета «Физическая культура»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уроков ФК на основе системно-деятельностного подхода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уществление в ходе уроков ФК и внеурочной деятельности формирования знаний, умений, компетенций в сфере ведения здорового образа жизн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азание помощи классным руководителям старших классов в разработке сценариев и проведении классных часов по тематике здорового и безопасного, спортивного образа жизни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разработке сценариев Дней здоровья, составление Положений о спортивных праздниках, проведение их 2-4 раза в год с учениками выпускных классов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и реализация программы внеурочной деятельности по спортивно-оздоровительному направлению.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разработке планов и проведении родительских собраний по теме здорового и безопасного образа жизни, подготовки к сдаче ОГЭ, ЕГЭ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0" y="0"/>
          <a:ext cx="9144000" cy="7161120"/>
        </p:xfrm>
        <a:graphic>
          <a:graphicData uri="http://schemas.openxmlformats.org/drawingml/2006/table">
            <a:tbl>
              <a:tblPr/>
              <a:tblGrid>
                <a:gridCol w="2268360"/>
                <a:gridCol w="6875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Образова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(просветительская и организацио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с родителями, педагогам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разработке планов и проведении родительских собраний по теме здорового и безопасного образа жизни, подготовки к сдаче ОГЭ, ЕГЭ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местная с родителями (законными представителями) разработка программы постоянно действующего семинара для родителей «Здоровье наших детей – условие успешного обучения» ил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местная с родителями разработка и реализация программы «Родительские инициативы в сохранении здоровья учеников выпускных классов, в т.ч. во время подготовки к сдаче экзаменов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влечение родителей к совместной работе по проведению оздоровительных мероприятий и спортивных соревнован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эффективного взаимодействия школы (учителя) с родителями для совместного обсуждения и решения вопросов сохранения и укрепления здоровья детей, участия семьи в физкультурно-оздоровительных мероприятиях, психолого-педагогических тренингах, практико-ориентированных проектах здорового образа жизн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перечня рекомендаций, памяток по организации образа жизни, адекватного здоровому, для обучающихся-выпускников и педагогов-предметников, работающих в выпускных класса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библиотечки подросткового здоровья, доступной для родителей и педагогов и т.п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0"/>
          <a:ext cx="9144000" cy="6442200"/>
        </p:xfrm>
        <a:graphic>
          <a:graphicData uri="http://schemas.openxmlformats.org/drawingml/2006/table">
            <a:tbl>
              <a:tblPr/>
              <a:tblGrid>
                <a:gridCol w="2362320"/>
                <a:gridCol w="6781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Диагностиче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сследователь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критериев оценки качества воспитательного процесса в части формирования ЗОЖ у выпускников 9-х, 11-х класс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анкет, отбор диагностических методи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бор, разработка тестов, анкет для оценки сформированности знаний и ответственного отношения к здоровью у выпускник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схемы проведения мониторинга соблюдения обучающимися режимных моментов, правил здорового образа жизн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лиз эффективности реализации программы (модели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проектов по решению проблем обучения, преподавания, воспит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0"/>
          <a:ext cx="9144000" cy="6442200"/>
        </p:xfrm>
        <a:graphic>
          <a:graphicData uri="http://schemas.openxmlformats.org/drawingml/2006/table">
            <a:tbl>
              <a:tblPr/>
              <a:tblGrid>
                <a:gridCol w="2268360"/>
                <a:gridCol w="6875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Консультацион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консультирования учеников, родителей, педагогов по вопросам, связанным с сохранением здоровья средствами физкультуры, организацией режима дня в период подготовки и сдачи экзамен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азание психолого-педагогической помощи родителям, чьи дети оказались в сложных жизненных ситуациях (в пределах своей компетенции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йствие в организации социально-психологической, медико-профилактической помощи семье, детям, нуждающимся в поддержк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План проведения мероприятий по разработке и апробации программы (модели) в школе на 2019-2020 уч.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50920" y="1600200"/>
          <a:ext cx="8785080" cy="4525920"/>
        </p:xfrm>
        <a:graphic>
          <a:graphicData uri="http://schemas.openxmlformats.org/drawingml/2006/table">
            <a:tbl>
              <a:tblPr/>
              <a:tblGrid>
                <a:gridCol w="1008000"/>
                <a:gridCol w="2737080"/>
                <a:gridCol w="1584000"/>
                <a:gridCol w="1584360"/>
                <a:gridCol w="187164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оки провед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ветстве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1052640"/>
            <a:ext cx="91440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 рамках дальнейшей реализации проекта «Образовательный лифт»  планируется </a:t>
            </a:r>
            <a:r>
              <a:rPr b="1" lang="ru-RU" sz="3200" spc="-1" strike="noStrike">
                <a:solidFill>
                  <a:srgbClr val="008080"/>
                </a:solidFill>
                <a:latin typeface="Arial"/>
              </a:rPr>
              <a:t>проведение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ебина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емина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консультирование участников проек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заимодействие через «Сетевое сообщество педагогов ПК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При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images (6)"/>
          <p:cNvPicPr/>
          <p:nvPr/>
        </p:nvPicPr>
        <p:blipFill>
          <a:blip r:embed="rId1"/>
          <a:stretch/>
        </p:blipFill>
        <p:spPr>
          <a:xfrm>
            <a:off x="3276720" y="2981160"/>
            <a:ext cx="259056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ши контак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1483920"/>
            <a:ext cx="9036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У ДПО «Институт развития образования Пермского края»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ro.perm.ru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ел сопровождения ФГОС ИРО ПК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://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ro.perm.ru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catalog.html?cid=9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. 8(342)212 21 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тевое сообщество педагогов Пермского края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educomm.iro.perm.ru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бразовательный лифт», «Учитель здоровь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ядо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аталья Владимировна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ozdip@list.r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 922 64 79 3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logo2"/>
          <p:cNvPicPr/>
          <p:nvPr/>
        </p:nvPicPr>
        <p:blipFill>
          <a:blip r:embed="rId10"/>
          <a:stretch/>
        </p:blipFill>
        <p:spPr>
          <a:xfrm>
            <a:off x="826920" y="189000"/>
            <a:ext cx="182880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-366840"/>
            <a:ext cx="82440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0" y="-360"/>
            <a:ext cx="9036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Каждый человек должен уметь относиться к любым изменениям в жизни как к новым возможностям, вызову судьбы или уроку, но не как к угрозе сложившемуся порядку.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Verdana"/>
              </a:rPr>
              <a:t>Способы преодоления стресс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Анализ ситуации и выработка плана действий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Эффективные копинг-стратеги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Физическая активность, двигательная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разрядк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Дыхательные практик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Методы релаксации (расслабления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роигрывание стрессовых ситуаций заранее в голов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Управление эмоциями 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http://www.psychologos.ru/articles/view/kak_upravlyat_svoimi_emociyami_vop_zn_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твлекающая деятельность, переключение на другой вид деятельности, хобб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0" name="Picture 4" descr="F:\USERS\МАМА\Мои рисунки\Стресс\i (8).jpg"/>
          <p:cNvPicPr/>
          <p:nvPr/>
        </p:nvPicPr>
        <p:blipFill>
          <a:blip r:embed="rId1"/>
          <a:stretch/>
        </p:blipFill>
        <p:spPr>
          <a:xfrm>
            <a:off x="6732720" y="2421000"/>
            <a:ext cx="164448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7632720" cy="73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Verdana"/>
              </a:rPr>
              <a:t>Некоторые рекомендации педагогам: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90792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Здоровый образ жизни: режим дня, питания, физических упражнений и сна. Полезная пища и отказ от интоксикантов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Излечение болезней или хотя бы некоторое продвижение на этом пути.</a:t>
            </a:r>
            <a:br>
              <a:rPr sz="1600"/>
            </a:b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актика релаксационной медитации для снятия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мышечных зажимов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Verdana"/>
              </a:rPr>
              <a:t> </a:t>
            </a:r>
            <a:br>
              <a:rPr sz="12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актика восточных дисциплин: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йога, тай-цзи цюань, цигун и т.д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Осознавание дыхания и мягкие попытки направить его в правильное русло: дыхание носом, а не ртом, выдох длиннее вдоха и т.д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Жизнь в гармонии с природой и частое пребывание на свежем воздухе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еодоление склонности к негативным эмоциям. Для этого можно использовать различные психологические и духовные практик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Эмоциональная открытость и позитивное взаимодействие с людьм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екращение общения с негативными людьм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Развитие в себе любви ко всему сущему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Остановка ненужных и негативных мыслей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онимание, что каждая мысль тянет за собой последствия.</a:t>
            </a:r>
            <a:br>
              <a:rPr sz="1600"/>
            </a:br>
            <a:br>
              <a:rPr sz="1200"/>
            </a:b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3" name="Picture 5" descr="UT0Uc5ArTuQ"/>
          <p:cNvPicPr/>
          <p:nvPr/>
        </p:nvPicPr>
        <p:blipFill>
          <a:blip r:embed="rId1"/>
          <a:stretch/>
        </p:blipFill>
        <p:spPr>
          <a:xfrm>
            <a:off x="6084720" y="1844640"/>
            <a:ext cx="2260800" cy="1500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F:\USERS\МАМА\Мои рисунки\Стресс\Njz-fdhC8Ts.jpg"/>
          <p:cNvPicPr/>
          <p:nvPr/>
        </p:nvPicPr>
        <p:blipFill>
          <a:blip r:embed="rId2"/>
          <a:stretch/>
        </p:blipFill>
        <p:spPr>
          <a:xfrm>
            <a:off x="7020000" y="5157720"/>
            <a:ext cx="2124000" cy="1584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F:\USERS\МАМА\Мои рисунки\Стресс\i (2).jpg"/>
          <p:cNvPicPr/>
          <p:nvPr/>
        </p:nvPicPr>
        <p:blipFill>
          <a:blip r:embed="rId3"/>
          <a:stretch/>
        </p:blipFill>
        <p:spPr>
          <a:xfrm>
            <a:off x="6948360" y="-100080"/>
            <a:ext cx="16970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68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Некоторые рекомендации родителям: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232920" y="1029960"/>
            <a:ext cx="8659800" cy="56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. Не поддавайться панике других родителей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. Помнить, что успех на экзамене ещё не означает успех в жизн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3. Больше разговаривать с ребёнком на отвлечённые темы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4. Помнить, что оценка за экзамен — это ещё не оценка личност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5. Тормозить фантазии на тему «а как оно будет…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30000" y="456840"/>
            <a:ext cx="2949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19360" y="1143000"/>
            <a:ext cx="478152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Arial"/>
              </a:rPr>
              <a:t>Благодарю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Замещающее содержимое 1" descr="1443658720_14"/>
          <p:cNvPicPr/>
          <p:nvPr/>
        </p:nvPicPr>
        <p:blipFill>
          <a:blip r:embed="rId1"/>
          <a:stretch/>
        </p:blipFill>
        <p:spPr>
          <a:xfrm>
            <a:off x="2457360" y="2932200"/>
            <a:ext cx="462924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Calibri"/>
              </a:rPr>
              <a:t>В целях выполнения п. 2.2. ФЦПРО РФ на 2016-2020 г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79280" y="1125360"/>
            <a:ext cx="896472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в 2017–2019 году в Пермском крае реализуется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раевой проект «Образовательный лифт»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 - комплекс мероприятий по повышению качества образования в школах с низкими результатами обучения (НРО), функционирующих в неблагоприятных социальных условиях (НСУ) </a:t>
            </a: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(руководитель проекта Новикова О.Н., начальник отдела развития образовательных систем, к.филос.н.,)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, в том числ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   утверждение перечня школ – апробационных площадок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проведение аналитических, проектных, обучающих и других мероприятий для учителей школ данной категории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создание постоянно действующих проблемных групп-педагогов-предметников в режиме сетевого взаимодействия с педагогами школ, показывающих хорошие образовательные результаты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обобщение и трансляция лучших методик и практи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образовательный лиф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включены предметы, по которым выпускники 9-11-х классов проходят ГИА, а также –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редмет «Физическая культур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85672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Цели сетевого сообщества</a:t>
            </a: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br>
              <a:rPr sz="2800"/>
            </a:b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учителей ФК- участников проекта 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«Образовательный лифт»</a:t>
            </a:r>
            <a:r>
              <a:rPr b="1" lang="ru-RU" sz="2800" spc="-1" strike="noStrike">
                <a:solidFill>
                  <a:srgbClr val="009999"/>
                </a:solidFill>
                <a:latin typeface="Calibri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оказать физическое, психологическое и моральное содействие обучающимся выпускных классов и учителям, готовящих обучающихся к сдаче ОГЭ и ЕГЭ, в том числе, за счет повышения качества преподавания уроков физкультуры, особенно в выпускных классах, и создания условий, позволяющих приобщить учеников и учителей к рациональной организации своего распорядка дня, здоровому образу жизни, особенно в период подготовки и сдачи экзаме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4581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Изображение 324611" descr="urok-po-tiemie-zdorovyi-obraz-zhizni_3"/>
          <p:cNvPicPr/>
          <p:nvPr/>
        </p:nvPicPr>
        <p:blipFill>
          <a:blip r:embed="rId1"/>
          <a:stretch/>
        </p:blipFill>
        <p:spPr>
          <a:xfrm>
            <a:off x="3808440" y="4689360"/>
            <a:ext cx="21985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дачи участников проекта «Образовательный лифт» (техническое задание - ТЗ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овести анализ качества преподавания уроков физкультуры, затруднений учеников и учителей в выпускных классах (9-х и 11-х) путем проведения анкетирования обучающихся и педагогов с последующим анализом его результат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работать модель (программу) содействия здоровью обучающихся и/или учителей-предметников в условиях подготовки к государственной итоговой аттестации (ГИА) средствами  физического воспитания и физической культуры в выпускных классах (9-х и 11-х), включающей планирование проведения физкультурно-оздоровительных урочных и внеурочных мероприятий с обучающимися 9-х и 11-х классов и мероприятий для учителей-предметников, готовящих выпускников к сдаче ОГЭ, ЕГЭ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работать перечень рекомендаций в форме памятки, стенда, страницы в соц. сетях, др. по организации в период подготовки и сдачи экзаменов образа жизни, адекватного здоровому, для обучающихся выпускных классов и/или педагогов-предметников, работающих в выпускных классах и готовящих детей к сдаче ОГЭ, ЕГЭ, и/или для родителей выпуск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работать систему эффективного взаимодействия с родителями обучающихся выпускных клас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Calibri"/>
              </a:rPr>
              <a:t>Модель школы, способствующей улучшению результатов сдачи ОГЭ, ЕГЭ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6666"/>
                </a:solidFill>
                <a:latin typeface="Calibri"/>
              </a:rPr>
              <a:t>предполага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08000" y="1341360"/>
            <a:ext cx="9036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разработку системы поддержки учителей (например: повышение квалификации, сильный помогает слабому, создание условий для оздоровления педагогов, др.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ерестройку системы освоения учениками ООП, методической и социально-психологической подготовки ребят к экзамена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 разработку системы эффективного взаимодействия с родителями, особенно выпускных классов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новые управленческие решения, инновационные технологии управления образовательным процессо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запрос помощи извне и использование возможностей внешних фактор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особы выполнения задач (ТЗ)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78920" y="1125000"/>
            <a:ext cx="8713800" cy="55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тслеживание информации, поступающей на сайт «Сетевое сообщество педагогов Пермского края»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ducomm.iro.perm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в рубрике «Образовательный лифт (Сальникова Ю.Н.) и «Учитель здоровья» (Лядова Н.В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работка подходов как универсальных, так и индивидуализированных к преподаванию физической культуры в соответствии с требованиями ФГОС основного и среднего общего образования и в условиях внедрения ВФСК ГТО, а также – с целью обсуждения  программ (моделей) содействия здоровью обучающихся и учителей-предметников в условиях подготовки к государственной итоговой аттестации (ГИА) средствами  физического воспитания и физической культуры в выпускных классах (9-х и 11-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бращение  за консультацией/помощью к коллегам, специалистам, руководителю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01600" y="115920"/>
            <a:ext cx="8623440" cy="16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Модель школы (структура деятельности) по содействию здоровью обучающихся-выпускников и учителей-предметников, готовящих детей к ГИА, </a:t>
            </a:r>
            <a:r>
              <a:rPr b="1" lang="ru-RU" sz="2000" spc="-1" strike="noStrike">
                <a:solidFill>
                  <a:srgbClr val="008080"/>
                </a:solidFill>
                <a:latin typeface="Arial"/>
              </a:rPr>
              <a:t>средствами  физической культуры и физического воспитания  </a:t>
            </a:r>
            <a:br>
              <a:rPr sz="2000"/>
            </a:br>
            <a:r>
              <a:rPr b="1" lang="ru-RU" sz="2000" spc="-1" strike="noStrike">
                <a:solidFill>
                  <a:srgbClr val="008080"/>
                </a:solidFill>
                <a:latin typeface="Arial"/>
              </a:rPr>
              <a:t>(как один из вариантов). 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Составитель - Н.В.Лядова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87480" y="1916280"/>
          <a:ext cx="8950320" cy="3531960"/>
        </p:xfrm>
        <a:graphic>
          <a:graphicData uri="http://schemas.openxmlformats.org/drawingml/2006/table">
            <a:tbl>
              <a:tblPr/>
              <a:tblGrid>
                <a:gridCol w="1785600"/>
                <a:gridCol w="1567080"/>
                <a:gridCol w="1693800"/>
                <a:gridCol w="2062080"/>
                <a:gridCol w="1841760"/>
              </a:tblGrid>
              <a:tr h="3814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672c"/>
                          </a:solidFill>
                          <a:latin typeface="Arial"/>
                          <a:ea typeface="Arial Unicode MS"/>
                        </a:rPr>
                        <a:t>1. Создание и поддержание экологически безопасной,  здоров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672c"/>
                          </a:solidFill>
                          <a:latin typeface="Arial"/>
                          <a:ea typeface="Arial Unicode MS"/>
                        </a:rPr>
                        <a:t>сберегающ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672c"/>
                          </a:solidFill>
                          <a:latin typeface="Arial"/>
                          <a:ea typeface="Arial Unicode MS"/>
                        </a:rPr>
                        <a:t>инфраструктуры 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2. Рацион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ная орга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зация уче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ной и в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учеб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обуча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3. Эффекти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ная ор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низ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физкультурно-оздоров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ной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4. Реал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дополни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образовательных программ по ЗО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профилактика употребления ПАВ, социально значимых заболеваний, травматизма, нерац.поведения в ЧС и в обычной жизн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Организация системы просветительской работы и по обучению ЗОЖ с участниками образовательных отнош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Скругленный прямоугольник 5"/>
          <p:cNvSpPr/>
          <p:nvPr/>
        </p:nvSpPr>
        <p:spPr>
          <a:xfrm>
            <a:off x="2411280" y="5589720"/>
            <a:ext cx="4535640" cy="110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45"/>
                </a:solidFill>
                <a:latin typeface="Arial"/>
              </a:rPr>
              <a:t>6. Мониторинг здоровьесберегающ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45"/>
                </a:solidFill>
                <a:latin typeface="Arial"/>
              </a:rPr>
              <a:t>деятельности и здоровья обучающихся/уч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Примерное содержание деятельности учителя физической культуры по каждому направ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7200" y="1600200"/>
          <a:ext cx="8229600" cy="4950000"/>
        </p:xfrm>
        <a:graphic>
          <a:graphicData uri="http://schemas.openxmlformats.org/drawingml/2006/table">
            <a:tbl>
              <a:tblPr/>
              <a:tblGrid>
                <a:gridCol w="3610080"/>
                <a:gridCol w="4619520"/>
              </a:tblGrid>
              <a:tr h="85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Организацион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(поддержание на хорошем уровне здоровьесберегающ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инфраструктуры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спортивного зала/залов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спортивной площадки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оянное соблюдение требований СанПиН к спортивному залу, спортивной площадк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воздушно-тепловому и световому режимам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установке спортивного оборудования, инвентаря и его безопасност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чистоте раздевалок, туалетов, душевых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соблюдению техники безопасности на уроках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обеспечению питьевого режима, соблюденнию личной гигиены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28T07:17:48Z</dcterms:created>
  <dc:creator>Ljadova-NV</dc:creator>
  <dc:description/>
  <dc:language>en-US</dc:language>
  <cp:lastModifiedBy>Ljadova-NV</cp:lastModifiedBy>
  <dcterms:modified xsi:type="dcterms:W3CDTF">2019-11-15T12:49:17Z</dcterms:modified>
  <cp:revision>13</cp:revision>
  <dc:subject/>
  <dc:title>Проект программы (модели)  физической, психологической поддержки обучающихся выпускных классов и учителей-предметников, готовящих выпускников 9-х и 11-х классов своей школы к сдаче ОГЭ, ЕГЭ, посредством  оздоровительно-профилактических физкультурных мероприятий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646</vt:lpwstr>
  </property>
  <property fmtid="{D5CDD505-2E9C-101B-9397-08002B2CF9AE}" pid="3" name="Version">
    <vt:r8>4</vt:r8>
  </property>
</Properties>
</file>