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8.png" ContentType="image/png"/>
  <Override PartName="/ppt/media/image12.png" ContentType="image/png"/>
  <Override PartName="/ppt/media/image11.wmf" ContentType="image/x-wmf"/>
  <Override PartName="/ppt/media/image3.png" ContentType="image/png"/>
  <Override PartName="/ppt/media/image7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13.jpeg" ContentType="image/jpeg"/>
  <Override PartName="/ppt/media/image23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13DBC-6DCA-4FFD-A191-BC881ED21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83922-6C43-41A1-8BE8-5F3B16281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7AE42-885A-4B20-9F17-59ADCB626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CB48B-51CC-495D-8D4B-4680BA6A4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D1F38-E9F0-4A7F-9FF9-07D858492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9A81D-06E4-4C96-A80F-9E400E0AA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3F93E-7F40-43A2-8D25-90DF80D67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3CDF9-3D84-4FCD-BFA4-60FC69C8A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7E409-AF3A-4DBA-A280-928647CF5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D6BF1-7FC1-49D2-9D19-205C6AA07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774F6-9DFE-47A9-BE17-81BBCBDE7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DF3A6-11ED-412B-A134-C4F701004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7BDCB-B72B-40D2-AD6B-06DD4005A6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consultant.ru/law/hotdocs/57359.html" TargetMode="External"/><Relationship Id="rId2" Type="http://schemas.openxmlformats.org/officeDocument/2006/relationships/hyperlink" Target="http://www.consultant.ru/law/hotdocs/57359.html" TargetMode="External"/><Relationship Id="rId3" Type="http://schemas.openxmlformats.org/officeDocument/2006/relationships/hyperlink" Target="http://www.consultant.ru/law/hotdocs/57359.html" TargetMode="External"/><Relationship Id="rId4" Type="http://schemas.openxmlformats.org/officeDocument/2006/relationships/hyperlink" Target="http://www.consultant.ru/law/hotdocs/57359.html" TargetMode="External"/><Relationship Id="rId5" Type="http://schemas.openxmlformats.org/officeDocument/2006/relationships/hyperlink" Target="http://www.consultant.ru/law/hotdocs/57359.html" TargetMode="External"/><Relationship Id="rId6" Type="http://schemas.openxmlformats.org/officeDocument/2006/relationships/hyperlink" Target="http://www.consultant.ru/law/hotdocs/57359.html" TargetMode="External"/><Relationship Id="rId7" Type="http://schemas.openxmlformats.org/officeDocument/2006/relationships/hyperlink" Target="http://www.consultant.ru/law/hotdocs/57359.html" TargetMode="External"/><Relationship Id="rId8" Type="http://schemas.openxmlformats.org/officeDocument/2006/relationships/hyperlink" Target="http://www.consultant.ru/law/hotdocs/57359.html" TargetMode="External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74c81"/>
                </a:solidFill>
                <a:latin typeface="Arial Narrow"/>
              </a:rPr>
              <a:t>10 сентября 2020 г.</a:t>
            </a:r>
            <a:br>
              <a:rPr sz="2000"/>
            </a:br>
            <a:r>
              <a:rPr b="1" lang="ru-RU" sz="2000" spc="-1" strike="noStrike">
                <a:solidFill>
                  <a:srgbClr val="374c81"/>
                </a:solidFill>
                <a:latin typeface="Arial Narrow"/>
              </a:rPr>
              <a:t>КРАЕВОЙ ВЕБИНАР – СОВЕЩАНИЕ</a:t>
            </a:r>
            <a:br>
              <a:rPr sz="2000"/>
            </a:b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2009520"/>
            <a:ext cx="6400800" cy="48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«Обновление содержания образования в контексте новых нормативных требований». </a:t>
            </a:r>
            <a:br>
              <a:rPr sz="3200"/>
            </a:b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Предметная область </a:t>
            </a:r>
            <a:r>
              <a:rPr b="0" lang="ru-RU" sz="3200" spc="-1" strike="noStrike">
                <a:solidFill>
                  <a:srgbClr val="99cc00"/>
                </a:solidFill>
                <a:latin typeface="Arial"/>
              </a:rPr>
              <a:t>«География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74c81"/>
                </a:solidFill>
                <a:latin typeface="Arial Narrow"/>
              </a:rPr>
              <a:t>Зотова Д.А., с.н.с отдела СФГОС ГАУ ДПО ИРО ПК </a:t>
            </a:r>
            <a:r>
              <a:rPr b="1" lang="en-US" sz="1400" spc="-1" strike="noStrike">
                <a:solidFill>
                  <a:srgbClr val="374c81"/>
                </a:solidFill>
                <a:latin typeface="Arial Narrow"/>
              </a:rPr>
              <a:t>e-mail</a:t>
            </a:r>
            <a:r>
              <a:rPr b="1" lang="ru-RU" sz="1400" spc="-1" strike="noStrike">
                <a:solidFill>
                  <a:srgbClr val="374c81"/>
                </a:solidFill>
                <a:latin typeface="Arial Narrow"/>
              </a:rPr>
              <a:t>:</a:t>
            </a:r>
            <a:r>
              <a:rPr b="1" lang="en-US" sz="1400" spc="-1" strike="noStrike">
                <a:solidFill>
                  <a:srgbClr val="374c81"/>
                </a:solidFill>
                <a:latin typeface="Arial Narrow"/>
              </a:rPr>
              <a:t> </a:t>
            </a:r>
            <a:r>
              <a:rPr b="1" lang="ru-RU" sz="1400" spc="-1" strike="noStrike">
                <a:solidFill>
                  <a:srgbClr val="374c81"/>
                </a:solidFill>
                <a:latin typeface="Arial Narrow"/>
              </a:rPr>
              <a:t>z</a:t>
            </a:r>
            <a:r>
              <a:rPr b="1" lang="en-US" sz="1400" spc="-1" strike="noStrike">
                <a:solidFill>
                  <a:srgbClr val="374c81"/>
                </a:solidFill>
                <a:latin typeface="Arial Narrow"/>
              </a:rPr>
              <a:t>otovad@mail.ru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  <a:ea typeface="Times New Roman"/>
              </a:rPr>
              <a:t>Проект сетевой группы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  <a:ea typeface="Times New Roman"/>
              </a:rPr>
              <a:t>«Общее образование»</a:t>
            </a:r>
            <a:br>
              <a:rPr sz="2400"/>
            </a:br>
            <a:r>
              <a:rPr b="1" lang="ru-RU" sz="2400" spc="-1" strike="noStrike">
                <a:solidFill>
                  <a:srgbClr val="ff3300"/>
                </a:solidFill>
                <a:latin typeface="Arial"/>
                <a:ea typeface="Times New Roman"/>
              </a:rPr>
              <a:t>на 2020 год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25198"/>
                </a:solidFill>
                <a:latin typeface="Arial"/>
                <a:ea typeface="Times New Roman"/>
              </a:rPr>
              <a:t>Основные задач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Создать условия для осознанного участия педагогических работников в работе тематических/проблемных групп и объединений на сайте «Педагогическое сообщество учителей Пермского края»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algn="just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формировать состав сетевых проблемных групп и организовать их регистрацию на портале во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олугодии 2020 года в рамках реализации приоритетных направлений ЦНППМПР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algn="just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уществлять научно-методическую поддержку  педагогам сетевых тематических групп в рамках предметных, методических, психолого-педагогических компетенци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Выявлять лучшие методики и практики и транслировать их через «Методическую копилку» для осуществления диссеминации опыта среди учительского сообщества Пермского кра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5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000" spc="-1" strike="noStrike">
                <a:solidFill>
                  <a:srgbClr val="025198"/>
                </a:solidFill>
                <a:latin typeface="Arial"/>
                <a:ea typeface="Calibri"/>
              </a:rPr>
              <a:t>Сетевая тематическая группа </a:t>
            </a:r>
            <a:r>
              <a:rPr b="1" lang="ru-RU" sz="2000" spc="-1" strike="noStrike">
                <a:solidFill>
                  <a:srgbClr val="970362"/>
                </a:solidFill>
                <a:latin typeface="Arial"/>
                <a:ea typeface="Calibri"/>
              </a:rPr>
              <a:t>учителей географии</a:t>
            </a:r>
            <a:r>
              <a:rPr b="1" lang="ru-RU" sz="2000" spc="-1" strike="noStrike">
                <a:solidFill>
                  <a:srgbClr val="025198"/>
                </a:solidFill>
                <a:latin typeface="Arial"/>
                <a:ea typeface="Calibri"/>
              </a:rPr>
              <a:t> (</a:t>
            </a:r>
            <a:r>
              <a:rPr b="1" lang="ru-RU" sz="2000" spc="-1" strike="noStrike">
                <a:solidFill>
                  <a:srgbClr val="025198"/>
                </a:solidFill>
                <a:latin typeface="Arial"/>
                <a:ea typeface="Times New Roman"/>
              </a:rPr>
              <a:t>начала организовываться весной, </a:t>
            </a:r>
            <a:r>
              <a:rPr b="1" lang="ru-RU" sz="2000" spc="-1" strike="noStrike">
                <a:solidFill>
                  <a:srgbClr val="ff3300"/>
                </a:solidFill>
                <a:latin typeface="Arial"/>
                <a:ea typeface="Times New Roman"/>
              </a:rPr>
              <a:t>прошу присоединиться желающим!!</a:t>
            </a:r>
            <a:r>
              <a:rPr b="1" lang="ru-RU" sz="2000" spc="-1" strike="noStrike">
                <a:solidFill>
                  <a:srgbClr val="025198"/>
                </a:solidFill>
                <a:latin typeface="Arial"/>
              </a:rPr>
              <a:t>)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68360" y="270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cc00"/>
                </a:solidFill>
                <a:latin typeface="Arial"/>
                <a:ea typeface="Calibri"/>
              </a:rPr>
              <a:t>Тема: «Естественнонаучная грамотность педагога как необходимое условие реализации Национального проекта «Образование».</a:t>
            </a:r>
            <a:br>
              <a:rPr sz="2000"/>
            </a:br>
            <a:r>
              <a:rPr b="0" lang="ru-RU" sz="2000" spc="-1" strike="noStrike">
                <a:solidFill>
                  <a:srgbClr val="99cc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Цель: Повышение профессиональной компетенции учителей географии  по  формированию естественнонаучной грамотности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3300"/>
                </a:solidFill>
                <a:latin typeface="Times New Roman"/>
              </a:rPr>
              <a:t>Научно-методическое сопровождение</a:t>
            </a:r>
            <a:br>
              <a:rPr sz="1400"/>
            </a:br>
            <a:r>
              <a:rPr b="0" i="1" lang="ru-RU" sz="1400" spc="-1" strike="noStrike">
                <a:solidFill>
                  <a:srgbClr val="ff3300"/>
                </a:solidFill>
                <a:latin typeface="Times New Roman"/>
              </a:rPr>
              <a:t>сетевых проблемных</a:t>
            </a:r>
            <a:r>
              <a:rPr b="0" i="1" lang="en-US" sz="1400" spc="-1" strike="noStrike">
                <a:solidFill>
                  <a:srgbClr val="ff3300"/>
                </a:solidFill>
                <a:latin typeface="Times New Roman"/>
              </a:rPr>
              <a:t>/</a:t>
            </a:r>
            <a:r>
              <a:rPr b="0" i="1" lang="ru-RU" sz="1400" spc="-1" strike="noStrike">
                <a:solidFill>
                  <a:srgbClr val="ff3300"/>
                </a:solidFill>
                <a:latin typeface="Times New Roman"/>
              </a:rPr>
              <a:t>тематических групп географов в свете новых вызовов образования                   </a:t>
            </a:r>
            <a:r>
              <a:rPr b="1" i="1" lang="ru-RU" sz="1400" spc="-1" strike="noStrike">
                <a:solidFill>
                  <a:srgbClr val="ff3300"/>
                </a:solidFill>
                <a:latin typeface="Times New Roman"/>
              </a:rPr>
              <a:t>2020 го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040" y="1219320"/>
            <a:ext cx="8077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700" spc="-1" strike="noStrike" u="sng">
                <a:solidFill>
                  <a:srgbClr val="000000"/>
                </a:solidFill>
                <a:uFillTx/>
                <a:latin typeface="Times New Roman"/>
              </a:rPr>
              <a:t>Для учителей географии всех типов ОУ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Краевой семинар-практикум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700" spc="-1" strike="noStrike" u="sng">
                <a:solidFill>
                  <a:srgbClr val="ff3300"/>
                </a:solidFill>
                <a:uFillTx/>
                <a:latin typeface="Times New Roman"/>
              </a:rPr>
              <a:t>Для сетевой проблемной группы учителей географии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ru-RU" sz="1700" spc="-1" strike="noStrike" u="sng">
                <a:solidFill>
                  <a:srgbClr val="000000"/>
                </a:solidFill>
                <a:uFillTx/>
                <a:latin typeface="Times New Roman"/>
              </a:rPr>
              <a:t>сентябрь 2020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Установочный семинар «Естественнонаучная грамотность педагога как необходимое условие реализации Национального проекта  «Образование»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ru-RU" sz="1700" spc="-1" strike="noStrike" u="sng">
                <a:solidFill>
                  <a:srgbClr val="000000"/>
                </a:solidFill>
                <a:uFillTx/>
                <a:latin typeface="Times New Roman"/>
              </a:rPr>
              <a:t>октябрь 2020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Промежуточный семинар «Естественнонаучная грамотность учащихся основной и старшей школы: ее роль в подготовке выпускников к ГИА по географии»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ru-RU" sz="1700" spc="-1" strike="noStrike" u="sng">
                <a:solidFill>
                  <a:srgbClr val="000000"/>
                </a:solidFill>
                <a:uFillTx/>
                <a:latin typeface="Times New Roman"/>
              </a:rPr>
              <a:t>декабря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ь2020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Итоговый семинар  «Презентация результатов работы СТГ учителей географии по формированию и оценке естественнонаучной грамотности школьников (в аспекте международного исследования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PISA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)»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99cc00"/>
                </a:solidFill>
                <a:latin typeface="Times New Roman"/>
              </a:rPr>
              <a:t>Серия семинаров, круглых столов и совещаний (по договоренности с ОУ, методическими объединениями учителей географии)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(с привлечением опытных педагогов Пермского края, владеющих методами и приемами повышения естественнонаучной грамотности)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-1238400" y="-339840"/>
            <a:ext cx="11620800" cy="754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-1214280" y="-420840"/>
            <a:ext cx="11572560" cy="770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От предметной оценки к оценке функциональной грамот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cc00"/>
                </a:solidFill>
                <a:latin typeface="Arial"/>
              </a:rPr>
              <a:t>Функциональная грамотность учащихся-</a:t>
            </a:r>
            <a:r>
              <a:rPr b="1" lang="ru-RU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25198"/>
                </a:solidFill>
                <a:latin typeface="Arial"/>
              </a:rPr>
              <a:t>способность обучающихся применять знания и умения для решения повседневных задач в ситуациях, которые отличаются от учебны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00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25198"/>
                </a:solidFill>
                <a:latin typeface="Arial"/>
              </a:rPr>
              <a:t>6 компонентов функциональной грамотности,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25198"/>
                </a:solidFill>
                <a:latin typeface="Arial"/>
              </a:rPr>
              <a:t>которые оцениваются в 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PI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25198"/>
                </a:solidFill>
                <a:uFillTx/>
                <a:latin typeface="Arial"/>
              </a:rPr>
              <a:t>Основные направления оценивания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400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25198"/>
                </a:solidFill>
                <a:latin typeface="Arial"/>
              </a:rPr>
              <a:t>Читательская грамотность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400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25198"/>
                </a:solidFill>
                <a:latin typeface="Arial"/>
              </a:rPr>
              <a:t>Математическая грамотно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400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25198"/>
                </a:solidFill>
                <a:latin typeface="Arial"/>
              </a:rPr>
              <a:t>Естественно- научная грамотно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400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25198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25198"/>
                </a:solidFill>
                <a:uFillTx/>
                <a:latin typeface="Arial"/>
              </a:rPr>
              <a:t>Обобщенная характеристика  грамотности обучающихся</a:t>
            </a:r>
            <a:r>
              <a:rPr b="0" lang="ru-RU" sz="1600" spc="-1" strike="noStrike">
                <a:solidFill>
                  <a:srgbClr val="025198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400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25198"/>
                </a:solidFill>
                <a:latin typeface="Arial"/>
              </a:rPr>
              <a:t>Креативное мышл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400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25198"/>
                </a:solidFill>
                <a:latin typeface="Arial"/>
              </a:rPr>
              <a:t>Финансовая грамотно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400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25198"/>
                </a:solidFill>
                <a:latin typeface="Arial"/>
              </a:rPr>
              <a:t>Глобальные компетенции(умения, ценности, отношения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25198"/>
                </a:solidFill>
                <a:latin typeface="Arial"/>
              </a:rPr>
              <a:t>     </a:t>
            </a:r>
            <a:r>
              <a:rPr b="0" lang="ru-RU" sz="1600" spc="-1" strike="noStrike" u="sng">
                <a:solidFill>
                  <a:srgbClr val="025198"/>
                </a:solidFill>
                <a:uFillTx/>
                <a:latin typeface="Arial"/>
              </a:rPr>
              <a:t>Особенности исследования </a:t>
            </a:r>
            <a:r>
              <a:rPr b="0" lang="en-US" sz="1600" spc="-1" strike="noStrike" u="sng">
                <a:solidFill>
                  <a:srgbClr val="025198"/>
                </a:solidFill>
                <a:uFillTx/>
                <a:latin typeface="Arial"/>
              </a:rPr>
              <a:t>PISA-2021</a:t>
            </a:r>
            <a:r>
              <a:rPr b="0" lang="ru-RU" sz="1600" spc="-1" strike="noStrike" u="sng">
                <a:solidFill>
                  <a:srgbClr val="025198"/>
                </a:solidFill>
                <a:uFillTx/>
                <a:latin typeface="Arial"/>
              </a:rPr>
              <a:t>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00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25198"/>
                </a:solidFill>
                <a:latin typeface="Arial"/>
              </a:rPr>
              <a:t>Работа с большими многостраничными текстами в электронном вид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00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25198"/>
                </a:solidFill>
                <a:latin typeface="Arial"/>
              </a:rPr>
              <a:t>Интерактивные виды задан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00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25198"/>
                </a:solidFill>
                <a:latin typeface="Arial"/>
              </a:rPr>
              <a:t>Компьютерная форма проведения исследован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00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-1128600" y="-277920"/>
            <a:ext cx="11401200" cy="741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-1166760" y="-282600"/>
            <a:ext cx="11477520" cy="742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-1114560" y="-158760"/>
            <a:ext cx="11373120" cy="718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"/>
              </a:rPr>
              <a:t>Уважаемые коллеги!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Помня тот год, когда мы все объединились при обсуждении </a:t>
            </a:r>
            <a:r>
              <a:rPr b="0" lang="en-US" sz="1600" spc="-1" strike="noStrike">
                <a:solidFill>
                  <a:srgbClr val="ff3399"/>
                </a:solidFill>
                <a:latin typeface="Arial"/>
              </a:rPr>
              <a:t>«Концепции географического образования»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 и вместе мы сделали много от Пермского края!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Прошу и сейчас объединиться </a:t>
            </a:r>
            <a:r>
              <a:rPr b="0" lang="ru-RU" sz="2400" spc="-1" strike="noStrike">
                <a:solidFill>
                  <a:srgbClr val="009999"/>
                </a:solidFill>
                <a:latin typeface="Arial"/>
              </a:rPr>
              <a:t>для наполнения контента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Эпос. Школа. (Библиотека)»,</a:t>
            </a:r>
            <a:r>
              <a:rPr b="0" lang="ru-RU" sz="2400" spc="-1" strike="noStrike">
                <a:solidFill>
                  <a:srgbClr val="009999"/>
                </a:solidFill>
                <a:latin typeface="Arial"/>
              </a:rPr>
              <a:t> чтобы каждый из нас мог пользоваться материалами не только многочисленных платформ, но и нашим собственным банком дистанционных уроков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Нужны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электронные сценарии уроков, ссылки на ресурсы тех тем, которые значатся в календарно-тематическом плане 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на 2 четвер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истант нами пройден в 4 четверти и мы уже накопили определённый опыт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>
            <a:off x="0" y="192240"/>
            <a:ext cx="9144000" cy="65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-108000" y="316080"/>
            <a:ext cx="9252000" cy="62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0" y="620640"/>
            <a:ext cx="9828360" cy="523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-1176480" y="-68400"/>
            <a:ext cx="11496960" cy="700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30000" y="277560"/>
            <a:ext cx="7373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Уровни функциональной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грамотности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ISA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(Математика, Чтение, Естествознание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366"/>
          <p:cNvSpPr/>
          <p:nvPr/>
        </p:nvSpPr>
        <p:spPr>
          <a:xfrm>
            <a:off x="4356000" y="2205000"/>
            <a:ext cx="43308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Самостоятельно мыслящие и способные функционировать 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в сложных условия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367"/>
          <p:cNvSpPr/>
          <p:nvPr/>
        </p:nvSpPr>
        <p:spPr>
          <a:xfrm>
            <a:off x="4356000" y="3357720"/>
            <a:ext cx="4788000" cy="86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4 уровень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– проявляется способность использовать имеющиеся знания и умения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для получения новой информ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368"/>
          <p:cNvSpPr/>
          <p:nvPr/>
        </p:nvSpPr>
        <p:spPr>
          <a:xfrm>
            <a:off x="4356000" y="4797360"/>
            <a:ext cx="478800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2 уровень – пороговый, базовый, при достижении которого учащиеся начинают демонстрировать применение знаний и умений 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в простейших не учебных ситуация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Правая фигурная скобка 368"/>
          <p:cNvSpPr/>
          <p:nvPr/>
        </p:nvSpPr>
        <p:spPr>
          <a:xfrm>
            <a:off x="4140360" y="1989000"/>
            <a:ext cx="215640" cy="1368720"/>
          </a:xfrm>
          <a:custGeom>
            <a:avLst/>
            <a:gdLst>
              <a:gd name="textAreaLeft" fmla="*/ 0 w 215640"/>
              <a:gd name="textAreaRight" fmla="*/ 77760 w 215640"/>
              <a:gd name="textAreaTop" fmla="*/ 46080 h 1368720"/>
              <a:gd name="textAreaBottom" fmla="*/ 1322640 h 136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165"/>
                  <a:pt x="10800" y="2329"/>
                </a:cubicBezTo>
                <a:lnTo>
                  <a:pt x="10800" y="8471"/>
                </a:lnTo>
                <a:cubicBezTo>
                  <a:pt x="10800" y="9636"/>
                  <a:pt x="16200" y="10800"/>
                  <a:pt x="21600" y="10800"/>
                </a:cubicBezTo>
                <a:cubicBezTo>
                  <a:pt x="16200" y="10800"/>
                  <a:pt x="10800" y="11965"/>
                  <a:pt x="10800" y="13129"/>
                </a:cubicBezTo>
                <a:lnTo>
                  <a:pt x="10800" y="19271"/>
                </a:lnTo>
                <a:cubicBezTo>
                  <a:pt x="10800" y="20436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369" descr=""/>
          <p:cNvPicPr/>
          <p:nvPr/>
        </p:nvPicPr>
        <p:blipFill>
          <a:blip r:embed="rId1"/>
          <a:stretch/>
        </p:blipFill>
        <p:spPr>
          <a:xfrm>
            <a:off x="1332000" y="1268280"/>
            <a:ext cx="2808360" cy="49723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3" descr=""/>
          <p:cNvPicPr/>
          <p:nvPr/>
        </p:nvPicPr>
        <p:blipFill>
          <a:blip r:embed="rId2"/>
          <a:stretch/>
        </p:blipFill>
        <p:spPr>
          <a:xfrm>
            <a:off x="0" y="214200"/>
            <a:ext cx="1409760" cy="433440"/>
          </a:xfrm>
          <a:prstGeom prst="rect">
            <a:avLst/>
          </a:prstGeom>
          <a:ln w="0">
            <a:noFill/>
          </a:ln>
        </p:spPr>
      </p:pic>
      <p:pic>
        <p:nvPicPr>
          <p:cNvPr id="83" name="Рисунок 8" descr="PISA_WebBanner6-01.jpg"/>
          <p:cNvPicPr/>
          <p:nvPr/>
        </p:nvPicPr>
        <p:blipFill>
          <a:blip r:embed="rId3"/>
          <a:stretch/>
        </p:blipFill>
        <p:spPr>
          <a:xfrm>
            <a:off x="7596360" y="0"/>
            <a:ext cx="1547640" cy="5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3300"/>
                </a:solidFill>
                <a:latin typeface="Times New Roman"/>
              </a:rPr>
              <a:t>Концептуальная рамка оценки функциональной грамотности в исследовании </a:t>
            </a:r>
            <a:r>
              <a:rPr b="0" lang="en-US" sz="1600" spc="-1" strike="noStrike">
                <a:solidFill>
                  <a:srgbClr val="ff3300"/>
                </a:solidFill>
                <a:latin typeface="Times New Roman"/>
              </a:rPr>
              <a:t>PISA</a:t>
            </a:r>
            <a:r>
              <a:rPr b="0" lang="ru-RU" sz="1600" spc="-1" strike="noStrike">
                <a:solidFill>
                  <a:srgbClr val="ff3300"/>
                </a:solidFill>
                <a:latin typeface="Times New Roman"/>
              </a:rPr>
              <a:t> (блок заданий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762120" y="1523880"/>
          <a:ext cx="8229600" cy="5253120"/>
        </p:xfrm>
        <a:graphic>
          <a:graphicData uri="http://schemas.openxmlformats.org/drawingml/2006/table">
            <a:tbl>
              <a:tblPr/>
              <a:tblGrid>
                <a:gridCol w="2133360"/>
                <a:gridCol w="3351240"/>
                <a:gridCol w="2745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держательная моде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мпетентностная моде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нтексты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/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итуа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ипы текс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сплошные, несплошные, виртуальные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ботать с информацией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находить и извлека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осмысливать и оценива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интерпретирова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Цели чт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делы математи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рмулировать, применять, интерпретировать и оценивать результаты с позиций математики и реальной проблем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ир индивидуума, социума, образования и нау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Естественнонаучные предме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Методолог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авать научные объяснения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менять естественнонаучные методы исследования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терпретировать данные, делать вывод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доровье, ресурсы, окружающая среда, связь науки и технолог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3300"/>
                </a:solidFill>
                <a:latin typeface="Times New Roman"/>
              </a:rPr>
              <a:t>Алгоритм действий по достижению данной цел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8077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се рабочие программы должны предусматривать деятельность по формированию ФГ (в особенности это касается Русского языка, Литературного чтения, Иностранного языка, Математики, и Окружающего мира в начальной школе; Русского языка, Литературы, Иностранного языка, Математики, </a:t>
            </a:r>
            <a:r>
              <a:rPr b="1" lang="ru-RU" sz="1600" spc="-1" strike="noStrike">
                <a:solidFill>
                  <a:srgbClr val="ff3300"/>
                </a:solidFill>
                <a:latin typeface="Times New Roman"/>
              </a:rPr>
              <a:t>Географии,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Биологии, Физики, Химии, Обществознания с основной школ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ассмотреть возможность введения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курса внеурочной деятельности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«Читательская грамотность» для обучающихся 5 – 9 классов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азработать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рабочую программу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«Читательская грамотность»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нести изменения в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Программу воспитания и социализации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, обозначив формирование ФГ как приоритетную задачу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нести изменения в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Положение о внутришкольной системе оценки качества образования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(ВСОКО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истемно использовать на уроках и во внеурочное время всеми педагогами школы форм и методов обучения, способствующих формированию ФГ: ролевые игры, деловые игры, работа в группах, парах, метод проектов и др. коммуникация, сотрудничество, критическое мышление, креативность –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вот главные качества, которыми должны овладеть обучающиеся 21 век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______________________________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Апробировать  систему диагностики и  оценки учебных достижений (2020 год – 8 кл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ивлечение родителей к совместной деятельности по  формированию ФГ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бучиться на КПК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2120" y="1557360"/>
            <a:ext cx="8130960" cy="438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000000"/>
                </a:solidFill>
                <a:latin typeface="Arial"/>
              </a:rPr>
              <a:t>Самые трудные задания для российских школьников по результатам теста </a:t>
            </a:r>
            <a:r>
              <a:rPr b="0" lang="en-US" sz="3900" spc="-1" strike="noStrike">
                <a:solidFill>
                  <a:srgbClr val="000000"/>
                </a:solidFill>
                <a:latin typeface="Gill Sans MT"/>
              </a:rPr>
              <a:t>PISA</a:t>
            </a:r>
            <a:br>
              <a:rPr sz="3900"/>
            </a:br>
            <a:r>
              <a:rPr b="0" lang="ru-RU" sz="3900" spc="-1" strike="noStrike">
                <a:solidFill>
                  <a:srgbClr val="000000"/>
                </a:solidFill>
                <a:latin typeface="Arial"/>
              </a:rPr>
              <a:t>__________________________________</a:t>
            </a:r>
            <a:br>
              <a:rPr sz="3900"/>
            </a:b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Найти и извлечь информацию из текста (1)</a:t>
            </a:r>
            <a:br>
              <a:rPr sz="3600"/>
            </a:b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Интегрировать и интерпретировать сообщения текста (2)</a:t>
            </a:r>
            <a:br>
              <a:rPr sz="3600"/>
            </a:b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 Осмыслить и оценить сообщения текста(3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Рисунок 2" descr="PISA_WebBanner6-01.jpg"/>
          <p:cNvPicPr/>
          <p:nvPr/>
        </p:nvPicPr>
        <p:blipFill>
          <a:blip r:embed="rId1"/>
          <a:stretch/>
        </p:blipFill>
        <p:spPr>
          <a:xfrm>
            <a:off x="7667640" y="0"/>
            <a:ext cx="1476360" cy="5176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1355760" cy="5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  <a:ea typeface="Calibri"/>
              </a:rPr>
              <a:t>Специфика тестовых заданий PISA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ормат заданий PISA постоянно меняется, что исключает стратегию «натаскивания» на тест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веряются не только умение работать с предъявленной информацией, но и способность использовать общий кругозор, анализ, синтез и логику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ащимся предлагаются множественные источники информации в форме текста, графики и видеофрагмент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ндидаты оценивают и игнорируют избыточные сведения, а также учитывают ограничения и запреты по условиям задач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школьники сами разрабатывают алгоритм поиска решения и план своего ответ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правильного ответа, бывает необходимо увидеть в информации глубокие смыслы и далёкие связи, построив умозаключение на подтекст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пособ ответа варьируется от множественного выбора до развёрнутого комментария и построения компьютерной модели (графика и др.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  <a:ea typeface="Calibri"/>
              </a:rPr>
              <a:t>Интеллектуальные умения функционального чтения-</a:t>
            </a:r>
            <a:br>
              <a:rPr sz="2000"/>
            </a:br>
            <a:r>
              <a:rPr b="1" lang="ru-RU" sz="2000" spc="-1" strike="noStrike">
                <a:solidFill>
                  <a:srgbClr val="ff3300"/>
                </a:solidFill>
                <a:latin typeface="Arial"/>
                <a:ea typeface="Calibri"/>
              </a:rPr>
              <a:t> умение обрабатывать, дополнять и применять прочитанную информацию для решения возникшей задач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34100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Задания на функциональное чтение градуированы по трудност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Уровень №1 -  учащиеся могут использовать нужные для ответа фрагменты информации, доступные «на поверхности текста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Уровень №2 - учащиеся интерпретируют для ответа фрагменты информации, извлекая из них скрытый смыс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Уровень №3 - учащиеся  умеют найти в тексте несколько значимых идей, соединяя их общим смысло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Уровень №4 - учащиеся извлекают на поверхность  информацию «между строк» и применяют для ответ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Уровень №5 -  учащиеся  извлекают знания из текстов и графики, из которых требуется извлечь нужные для ответа знания, обращая внимание на общий смысл и детал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Уровень №6 - построен на текстах и графике, где содержится нужная для ответа информация в эксплицитной и имплицитной форм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Вместе с повышением уровня сложности заданий, возрастает роль эвристики – способности «замыкать» нужные связи для решения задачи, логики – умения соединять идеи для неслучайных выводов и продуктивности – готовности создавать собственную информацию средствами эвристики, логики и творческого мышле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25198"/>
                </a:solidFill>
                <a:latin typeface="Arial Narrow"/>
              </a:rPr>
              <a:t>Основные итоги организации дистанционного обучения в 2019-2020 учебном году по географии в Пермском кра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19664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cc00"/>
                </a:solidFill>
                <a:latin typeface="Arial"/>
              </a:rPr>
              <a:t>Разработаны и размещены на сайте </a:t>
            </a:r>
            <a:r>
              <a:rPr b="0" lang="ru-RU" sz="2400" spc="-1" strike="noStrike">
                <a:solidFill>
                  <a:srgbClr val="ff3399"/>
                </a:solidFill>
                <a:latin typeface="Arial"/>
              </a:rPr>
              <a:t>«Сетевое сообщество педагогов Пермского края»</a:t>
            </a:r>
            <a:r>
              <a:rPr b="0" lang="ru-RU" sz="2400" spc="-1" strike="noStrike">
                <a:solidFill>
                  <a:srgbClr val="99cc00"/>
                </a:solidFill>
                <a:latin typeface="Arial"/>
              </a:rPr>
              <a:t> в разделе общее образование следующие материалы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тодические рекомендации по организации дистанционного обучения географи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6633"/>
                </a:solidFill>
                <a:latin typeface="Arial"/>
              </a:rPr>
              <a:t>Представлен опыт работы учителей по проектированию уроков географии: «Лучший дистанционный урок»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готовлен авторский сборник   из опыта учителей географии Пермского края. Публикация в «Вестнике Образования Пермского края» запланирова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400" spc="-1" strike="noStrike">
                <a:solidFill>
                  <a:srgbClr val="ff3300"/>
                </a:solidFill>
                <a:latin typeface="Arial"/>
                <a:ea typeface="Calibri"/>
              </a:rPr>
              <a:t>Интеллектуальные умения на уроке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уроках английского языка, можно эффективно формировать полезные интеллектуальные умен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поминать, узнавать и различать (memory skills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образовывать информацию в другие формы (information transf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терпретировать отношения и связи между идеям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нять информацию и опыт для решения проблемы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нализировать явление, выделяя его составные части и стороны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интезировать новое понимание и знание в результате творчеств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казательно оценивать факты, явления, иде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-1081080" y="-139680"/>
            <a:ext cx="11306160" cy="714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-1190520" y="-39600"/>
            <a:ext cx="11525040" cy="69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"/>
          <p:cNvPicPr/>
          <p:nvPr/>
        </p:nvPicPr>
        <p:blipFill>
          <a:blip r:embed="rId1"/>
          <a:stretch/>
        </p:blipFill>
        <p:spPr>
          <a:xfrm>
            <a:off x="-1209600" y="-396720"/>
            <a:ext cx="11563200" cy="76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-1190520" y="-135000"/>
            <a:ext cx="11525040" cy="71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"/>
          <p:cNvPicPr/>
          <p:nvPr/>
        </p:nvPicPr>
        <p:blipFill>
          <a:blip r:embed="rId1"/>
          <a:stretch/>
        </p:blipFill>
        <p:spPr>
          <a:xfrm>
            <a:off x="-1271520" y="39600"/>
            <a:ext cx="11687040" cy="678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"/>
          <p:cNvPicPr/>
          <p:nvPr/>
        </p:nvPicPr>
        <p:blipFill>
          <a:blip r:embed="rId1"/>
          <a:stretch/>
        </p:blipFill>
        <p:spPr>
          <a:xfrm>
            <a:off x="-1200240" y="-235080"/>
            <a:ext cx="11544480" cy="733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"/>
          <p:cNvPicPr/>
          <p:nvPr/>
        </p:nvPicPr>
        <p:blipFill>
          <a:blip r:embed="rId1"/>
          <a:stretch/>
        </p:blipFill>
        <p:spPr>
          <a:xfrm>
            <a:off x="-1143000" y="54000"/>
            <a:ext cx="11430000" cy="67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"/>
          <p:cNvPicPr/>
          <p:nvPr/>
        </p:nvPicPr>
        <p:blipFill>
          <a:blip r:embed="rId1"/>
          <a:stretch/>
        </p:blipFill>
        <p:spPr>
          <a:xfrm>
            <a:off x="-1152360" y="-6480"/>
            <a:ext cx="11448720" cy="68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"/>
          <p:cNvPicPr/>
          <p:nvPr/>
        </p:nvPicPr>
        <p:blipFill>
          <a:blip r:embed="rId1"/>
          <a:stretch/>
        </p:blipFill>
        <p:spPr>
          <a:xfrm>
            <a:off x="-1166760" y="-291960"/>
            <a:ext cx="11477520" cy="74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25198"/>
                </a:solidFill>
                <a:latin typeface="Arial Narrow"/>
              </a:rPr>
              <a:t>Результаты ЕГЭ-2020 по географии</a:t>
            </a:r>
            <a:br>
              <a:rPr sz="24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Количество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– 457 человек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Средний балл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– 70,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100-бальники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– 18 человек </a:t>
            </a: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(самое большое количество, в нашем предмете!! кроме русского языка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1"/>
          <p:cNvSpPr/>
          <p:nvPr/>
        </p:nvSpPr>
        <p:spPr>
          <a:xfrm>
            <a:off x="179280" y="260280"/>
            <a:ext cx="8785440" cy="56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Calibri"/>
              </a:rPr>
              <a:t>В 2021 г. Россия примет участие в Международной программе оценки качества обучения PISA;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оссийские школьники 7-8 классов пройдут тестирование на функциональные компетен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Физикон – одно из трех российских официальных издательств цифрового контента предлагает новый продукт – цифровой тренажер по развитию функциональных компетенций учащихся для подготовки к международному исследованию PISA-2021. Тренажер включает 400 межпредметных компетентностных заданий на основе интерактивных моделей, видео, инфографики и текста. Школа может встроить использование тренажера в обычные школьные предметы или организовать подготовку в виде факультативного курс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оступ к цифровым тренажерам осуществляется на платформе «Облако знаний». Школа и учитель получат не только цифровые тренажеры, но и набор сервисов для планирования процесса обучения, автоматизации выдачи и проверки заданий, проведения вступительного и итогового тестирования по материалам PISA-202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Лицензия на школу сопровождается методическими материалами, возможна организация обучающих вебинаров. Поставка цифровых тренажеров для подготовки к международному тестированию PISA-2021 может осуществляться в рамках реализации региональных мероприятий федерального проекта «Цифровая образовательная среда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3628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Что ещё ожидает школу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360" y="1523880"/>
            <a:ext cx="7924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.Усиление воспитательной работы (Программа воспитания; 2020 г.-разработка; 2021 год – реализация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2.ВПР: выявление уровня подготовки после дистанционного обучения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4 сентября – 12 октября 2020 год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3.Проект «500+»:творческие лаборатории по школьным предметам с целью повышения педагогического мастерств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4. Апробация отечественного аналога видеосервиса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ZOOM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, предназначенного для проведения урок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5.Тесная связь дополнительного образования и общего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6.Новые критерии аттестации педагогов: полный анализ программ, единые оценочные процедуры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овые должности – учитель-наставник, учитель-методист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7. Государственная информационная система «Цифровая образовательная среда»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электронное проверенное содержание по четвертям, по полугодию, темам с целью создания целостности образовательного пространств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8. Специальное расписание, кабинетная система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минимизация контактов обучающих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33"/>
                </a:solidFill>
                <a:latin typeface="Arial"/>
              </a:rPr>
              <a:t>Приглашение  к участию в эксперименте!!!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Матвеев Алексей Владимирович,</a:t>
            </a: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кандидат педагогических наук, автор методических пособий по методике преподавания географии в общеобразовательной школе, практикующий учитель географии (имеет высшую квалификационную категорию по должности «учитель»).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едлагает рассмотреть вопрос участия в </a:t>
            </a:r>
            <a:r>
              <a:rPr b="0" lang="ru-RU" sz="2000" spc="-1" strike="noStrike">
                <a:solidFill>
                  <a:srgbClr val="99cc00"/>
                </a:solidFill>
                <a:latin typeface="Arial"/>
              </a:rPr>
              <a:t>опытно-экспериментальной работе </a:t>
            </a:r>
            <a:r>
              <a:rPr b="0" lang="ru-RU" sz="2000" spc="-1" strike="noStrike">
                <a:solidFill>
                  <a:srgbClr val="996633"/>
                </a:solidFill>
                <a:latin typeface="Arial"/>
              </a:rPr>
              <a:t>по изучению эффективности применения в обучении географии разнообразных геоизображени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текущем учебном году планируется задействовать обучающихся 5, 7, 8 и 10 классов. Существенных изменений в организации образовательного процесса не произойдет. При обучении школьников географии </a:t>
            </a: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бóльше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нимание необходимо будет обращать </a:t>
            </a: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использованию геоизображе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сли вы заинтересованы принять участие в предлагаемой опытно-экспериментальной работе, напишите об это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ам будет выслан план участия и в течение учебного года будет осуществляться педагогическое и методическое сопровождение деятель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7720" y="1827360"/>
            <a:ext cx="7845480" cy="464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9999"/>
                </a:solidFill>
                <a:latin typeface="Times New Roman"/>
              </a:rPr>
              <a:t>Спасибо за внимание!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9999"/>
                </a:solidFill>
                <a:latin typeface="Times New Roman"/>
              </a:rPr>
              <a:t>Приглашаем к сотрудничеству!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Рисунок 3" descr=""/>
          <p:cNvPicPr/>
          <p:nvPr/>
        </p:nvPicPr>
        <p:blipFill>
          <a:blip r:embed="rId1"/>
          <a:stretch/>
        </p:blipFill>
        <p:spPr>
          <a:xfrm>
            <a:off x="2773440" y="430200"/>
            <a:ext cx="188748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25198"/>
                </a:solidFill>
                <a:latin typeface="Arial Narrow"/>
              </a:rPr>
              <a:t>Качество выполнения ЕГ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600200"/>
          <a:ext cx="8229600" cy="31082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 преодолели порог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чел (доля – 0, 44%)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 порога до 6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1 чел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 61-до 80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0 чел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 81 - 1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7 чел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Прямоугольник 1"/>
          <p:cNvSpPr/>
          <p:nvPr/>
        </p:nvSpPr>
        <p:spPr>
          <a:xfrm>
            <a:off x="250920" y="189000"/>
            <a:ext cx="8642160" cy="64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cc00"/>
                </a:solidFill>
                <a:latin typeface="Calibri"/>
              </a:rPr>
              <a:t>Проект нового стандарта основного общего образова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cc00"/>
                </a:solidFill>
                <a:latin typeface="Calibri"/>
              </a:rPr>
              <a:t>(5 - 9 классы) подготовлен Министерством просвещения и размещён на портале preobra.ru для общественного обсуждения в 2019 г.</a:t>
            </a:r>
            <a:r>
              <a:rPr b="0" lang="ru-RU" sz="2400" spc="-1" strike="noStrike">
                <a:solidFill>
                  <a:srgbClr val="99cc00"/>
                </a:solidFill>
                <a:latin typeface="Calibri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обновленном стандарте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конкретизированы и распределены по годам обучения требования к предметным результатам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 11 предметам, определены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вязи воспитательного и учебного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оцессов, приведены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в соответствие предметные области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чального, основного и среднего общего образов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Формулировки предметных результатов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вязаны с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риоритетами и перспективами научно-технологического развития Росс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требованиях к структуре образовательной программы унифицированы и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конкретизированы требования к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целевому, содержательному и организационному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разделам основной образовательной программ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*Проект Приказа Минпросвещения России "Об утверждении федерального государственного образовательного стандарта основного общего образования (ФГОС ООО)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Calibri"/>
                <a:hlinkClick r:id="rId1"/>
              </a:rPr>
              <a:t>http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Calibri"/>
                <a:hlinkClick r:id="rId2"/>
              </a:rPr>
              <a:t>://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Calibri"/>
                <a:hlinkClick r:id="rId3"/>
              </a:rPr>
              <a:t>www.consultant.ru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Calibri"/>
                <a:hlinkClick r:id="rId4"/>
              </a:rPr>
              <a:t>/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Calibri"/>
                <a:hlinkClick r:id="rId5"/>
              </a:rPr>
              <a:t>law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Calibri"/>
                <a:hlinkClick r:id="rId6"/>
              </a:rPr>
              <a:t>/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Calibri"/>
                <a:hlinkClick r:id="rId7"/>
              </a:rPr>
              <a:t>hotdocs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Calibri"/>
                <a:hlinkClick r:id="rId8"/>
              </a:rPr>
              <a:t>/57359.html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ff3300"/>
                </a:solidFill>
                <a:latin typeface="Arial"/>
              </a:rPr>
              <a:t>Проект приказа «О внесении изменения в федеральный государственный образовательный стандарт среднего общего образования, утвержденный приказом Министерства образования и науки Российской Федерации </a:t>
            </a:r>
            <a:br>
              <a:rPr sz="1400"/>
            </a:br>
            <a:r>
              <a:rPr b="1" lang="ru-RU" sz="1400" spc="-1" strike="noStrike">
                <a:solidFill>
                  <a:srgbClr val="ff3300"/>
                </a:solidFill>
                <a:latin typeface="Arial"/>
              </a:rPr>
              <a:t>от 17 мая 2012 г. № 413»</a:t>
            </a:r>
            <a:br>
              <a:rPr sz="2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нести в федеральный государственный образовательный стандарт среднего общего образования, утвержденный приказом Министерства образования и науки Российской Федерации от 17 мая 2012 г. № 413 (зарегистрирован Министерством юстиции Российской Федерации 7 июня 2012 г., регистрационный № 24480), с изменениями, внесенными приказами Министерства образования и науки Российской Федерации от 29 декабря 2014 г. № 1645 (зарегистрирован Министерством юстиции Российской Федерации 9 февраля 2015 г., регистрационный № 35953), от 31 декабря 2015 г. № 1578 (зарегистрирован Министерством юстиции Российской Федерации 9 февраля 2016 регистрационный № 41020) и от 29 июня 2017 г. № 613 (зарегистрирован Министерством юстиции Российской Федерации 26 июля 2017 г., регистрационный № 47532), изменение, изложив пункт 12 в следующей редакци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12. Требования Стандарта к результатам освоения основной образовательной программы определяют содержательно-критериальную и нормативную основу оценки результатов освоения обучающимися основной образовательной программы, деятельности педагогических работников, организаций, осуществляющих образовательную деятельнос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воение обучающимися основной образовательной программы завершается государственной итоговой аттестацией выпускников. Государственная итоговая аттестация обучающихся проводится по всем изучавшимся учебным предметам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25198"/>
                </a:solidFill>
                <a:latin typeface="Arial"/>
              </a:rPr>
              <a:t>Государственная итоговая аттестация обучающихся, освоивших основную образовательную программу, проводится в обязательном порядке по учебным предметам: «Русский язык» и «Математика»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учающийся самостоятельно выбирает уровень (базовый или профильный), в соответствии с которым будет проводиться государственная итоговая аттестация по учебному предмету «Математика»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пускается прохождение обучающимися государственной итоговой аттестации по завершению изучения отдельных учебных предметов на базовом уровне после 10 класса.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нистр                                                                                                          С.С. Кравц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Box 1"/>
          <p:cNvSpPr/>
          <p:nvPr/>
        </p:nvSpPr>
        <p:spPr>
          <a:xfrm>
            <a:off x="108000" y="333360"/>
            <a:ext cx="892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25198"/>
                </a:solidFill>
                <a:latin typeface="Arial"/>
                <a:ea typeface="Arial"/>
              </a:rPr>
              <a:t> </a:t>
            </a:r>
            <a:r>
              <a:rPr b="1" lang="ru-RU" sz="2000" spc="-1" strike="noStrike">
                <a:solidFill>
                  <a:srgbClr val="025198"/>
                </a:solidFill>
                <a:latin typeface="Arial"/>
                <a:ea typeface="Arial"/>
              </a:rPr>
              <a:t>Обновление в структуре ГАУ ДПО ИРО П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1"/>
          <p:cNvSpPr/>
          <p:nvPr/>
        </p:nvSpPr>
        <p:spPr>
          <a:xfrm>
            <a:off x="539640" y="981000"/>
            <a:ext cx="820908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25198"/>
                </a:solidFill>
                <a:latin typeface="Arial"/>
                <a:ea typeface="Arial"/>
              </a:rPr>
              <a:t> </a:t>
            </a:r>
            <a:r>
              <a:rPr b="1" lang="ru-RU" sz="2000" spc="-1" strike="noStrike">
                <a:solidFill>
                  <a:srgbClr val="99cc00"/>
                </a:solidFill>
                <a:latin typeface="Arial"/>
                <a:ea typeface="Arial"/>
              </a:rPr>
              <a:t>Создание  центра непрерывного повышения профессионального мастерства педагогических работников (ЦНППМПР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6633"/>
                </a:solidFill>
                <a:latin typeface="Arial"/>
                <a:ea typeface="Arial"/>
              </a:rPr>
              <a:t>ул. Бородинская, 35 А </a:t>
            </a:r>
            <a:r>
              <a:rPr b="1" lang="ru-RU" sz="2000" spc="-1" strike="noStrike">
                <a:solidFill>
                  <a:srgbClr val="ff3399"/>
                </a:solidFill>
                <a:latin typeface="Arial"/>
                <a:ea typeface="Arial"/>
              </a:rPr>
              <a:t>(Остановка «Муромская» или «Восток-Сервис»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25198"/>
                </a:solidFill>
                <a:latin typeface="Arial"/>
                <a:ea typeface="Arial"/>
              </a:rPr>
              <a:t>Структура центра</a:t>
            </a:r>
            <a:r>
              <a:rPr b="1" i="1" lang="ru-RU" sz="2000" spc="-1" strike="noStrike">
                <a:solidFill>
                  <a:srgbClr val="025198"/>
                </a:solidFill>
                <a:latin typeface="Arial"/>
                <a:ea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1. Отдел сопровождения аттестационных процеду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2.Организационно-методический отде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3. </a:t>
            </a:r>
            <a:r>
              <a:rPr b="1" lang="ru-RU" sz="2000" spc="-1" strike="noStrike">
                <a:solidFill>
                  <a:srgbClr val="ff3300"/>
                </a:solidFill>
                <a:latin typeface="Arial"/>
                <a:ea typeface="Arial"/>
              </a:rPr>
              <a:t>Отдел научно-методического сопровождения общего образо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4. Кафедра профессионального мастер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25198"/>
                </a:solidFill>
                <a:latin typeface="Arial"/>
                <a:ea typeface="Arial"/>
              </a:rPr>
              <a:t>Цель деятельности</a:t>
            </a:r>
            <a:r>
              <a:rPr b="0" lang="ru-RU" sz="2000" spc="-1" strike="noStrike">
                <a:solidFill>
                  <a:srgbClr val="025198"/>
                </a:solidFill>
                <a:latin typeface="Arial"/>
                <a:ea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Создание условий для  непрерывного дополнительного  профессионального образования учителей на основе диагностики профессиональных компетенций, учета запросов в овладении новыми профессиональными компетенциями и учета  результатов оценочных процедур, проводимых в рамках добровольной независимой оценки профессиональной квалификации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Новые подходы к организации курсовой подготовки педагог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268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нцип  горизонтального обучения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стема P2P (анг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er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er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«равный равному»), обучение внутри профессиональных сообществ педагогов; взаимообучени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пользование ресурсов одновременно нескольких организаций в реализации процесса непрерывного образов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страивание индивидуального образовательного маршрута педагога в повышении профессионального мастер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9-07T07:04:39Z</dcterms:created>
  <dc:creator>Админ</dc:creator>
  <dc:description/>
  <dc:language>en-US</dc:language>
  <cp:lastModifiedBy>Админ</cp:lastModifiedBy>
  <dcterms:modified xsi:type="dcterms:W3CDTF">2020-09-10T10:23:32Z</dcterms:modified>
  <cp:revision>17</cp:revision>
  <dc:subject/>
  <dc:title>«Обновление содержания образования в контексте новых нормативных требований».  Предметная область «География» </dc:title>
</cp:coreProperties>
</file>