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5396-4C05-4896-BDEC-E9B59CA822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FB0912-D689-4D97-8AD3-8BEF7B99DA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C13D-C278-4DA7-B20B-9F7C1052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E57-EB62-499C-9E9B-B07787B3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5DC-5D33-4A11-AF43-FE39E95F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E022-1F51-4BA3-948A-FBCB8F92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505-7E72-4DFE-AAB0-DE535D4D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A88-AA16-4EDA-89A9-BE094107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EE54-DF5F-495C-A4E8-6EC3A328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5DC1-FB4F-4FE8-9BFE-17D5919B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972-3AE8-4DB7-B6B0-F6738BC6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0F5-C4E0-4F6C-8EE5-F5CD5F16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7BB-F2B0-47DA-8FCD-36DDAE05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C8C-9AA9-4602-A9D2-4DC68590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3E83-BC99-4A53-B7A5-08FB97AF711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8F86-D8FF-451B-9862-AF73FB0026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fayazova@yandex.ru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евая  сетевая модель горизонтального обуч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как системообразующий элемент персонифицированной системы повышения квалификации работников образования Пермского кр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42960" y="5429160"/>
            <a:ext cx="8501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вгуст 2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643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еализации ПСП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5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3153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  работы над индивидуальным образовательным маршру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гностика профессионального мастерства, самоопределение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ие на основе полученных результатов индивидуального образовательного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я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вный анализ эффективности индивидуального образовательного маршру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РОПРИЯТИЯ 2020-2021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143000"/>
          <a:ext cx="9144000" cy="5500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явить и обобщить новые образовательные активности в педагогической среде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Методический аукцион на площадке Сетевого сообщества  в феврале 2021г. Публикации опыта в СМИ «Вестник образования Пермского кра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вовать в апробации диагностического контента по выявлению проф дефицитов работников образ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Апробация – ноябрь 2020г –апрель 2021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ать механизм отбора и аккумулирования содержательного контента для реализации ИОМов работников образования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бочая группа (по плану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то желает направляет свою кандидатуру на эл. почту: </a:t>
                      </a: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fayazova@yandex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труктурно-функциональная мод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-55440" y="993600"/>
            <a:ext cx="927864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P2P (англ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«равный равному»), обучение внутри профес. сообществ педагогов и руководителей О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аимообу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ое решение, обеспечивающее использование ресурсов одновременно несколь-ких организаций в реализации процесса непре-рывного образования, осуществляемого в течение всей жизни взрослым индивидом в целях профессионального роста и личностного совершенств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спределенная система обучения на основе сотрудниче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обучения, который строится на сотрудничестве группы обучающих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опутное обучение» в процессе групповой деятельности и общения (Л. Аберкромби (Лондон), Кеннет Браффи (Нью-Йорк)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дель непрерывного профессионального развития педагогических 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-42840" y="1206360"/>
            <a:ext cx="920592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етевое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тевое (взаимное) обучение (англ. networked learning, peer-to-peer learning) — относительно новая парадигма учебной деятельности, базирующаяся на идее массового сотрудничества, идеологии открытых образовательных ресурсов, в сочетании с сетевой организацией взаимодействия участ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Цель горизонтальног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480" y="1571400"/>
            <a:ext cx="8429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ение реализации индивидуальных образовательных маршрутов работников образования Пермского края эффективным содержательным контентом для  взаимообучения в  профессиональных сообществах в условиях персонифицированной системы повышения квалифик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- системообразующий элемент ПСПК работников образования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-19080" y="993600"/>
            <a:ext cx="9182160" cy="5870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786040" y="5643720"/>
            <a:ext cx="6357960" cy="1008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яет личностно значимые потреб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раняет профессиональные дефици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енствует проф. компетен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реализации модели горизонтального обу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2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18684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643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ерсонифицированная система  повышения квалификации (ПСПК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6" descr=""/>
          <p:cNvPicPr/>
          <p:nvPr/>
        </p:nvPicPr>
        <p:blipFill>
          <a:blip r:embed="rId1"/>
          <a:stretch/>
        </p:blipFill>
        <p:spPr>
          <a:xfrm>
            <a:off x="-19080" y="1206360"/>
            <a:ext cx="91868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fayaz</cp:lastModifiedBy>
  <cp:lastPrinted>2020-03-11T11:23:47Z</cp:lastPrinted>
  <dcterms:modified xsi:type="dcterms:W3CDTF">2020-08-20T19:26:36Z</dcterms:modified>
  <cp:revision>474</cp:revision>
  <dc:subject/>
  <dc:title>Презентация PowerPoint</dc:title>
</cp:coreProperties>
</file>