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98A3-2256-40BE-879D-AC809B0C5D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504677-C3EC-4CBC-A126-06BF2E510C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A0B-2E90-468E-8D53-B17B65FB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B33-D190-4D4F-95BF-D47967E0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62F-C724-4D48-897B-F8322A2E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7F6-6A50-477C-9448-B987E3CC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450-2638-412D-846B-73708B9D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D1A3-5500-4934-B7E7-D3A4FD30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2AC-4743-4A13-9E67-F5005808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8F4-8421-4F5E-82BA-A0AAAD7F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F6B-187A-4022-A47C-CD3ADDC8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9D8-CB1D-4911-9710-5B4BC9CD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711-6559-4C18-9188-C60E6B98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8140-E30C-46D9-98D6-612D56BB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365E-FCA3-400F-BF8D-C899E7B13E7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0EFF-AF56-443D-9BEB-A7F42F5C80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fayazova@yandex.ru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евая  сетевая модель горизонтального обуч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как системообразующий элемент персонифицированной системы повышения квалификации работников образования Пермского кр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2960" y="5429160"/>
            <a:ext cx="8501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густ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ализации ПСП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3153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  работы над индивидуальным образовательным маршру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 профессионального мастерства, самоопределение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на основе полученных результатов индивидуального образовательного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й анализ эффективности индивидуального образовательного маршру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РОПРИЯТИЯ 2020-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143000"/>
          <a:ext cx="9144000" cy="5500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ить и обобщить новые образовательные активности в педагогической среде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етодический аукцион на площадке Сетевого сообщества  в феврале 2021г. Публикации опыта в СМИ «Вестник образования Пермского кр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вовать в апробации диагностического контента по выявлению проф дефицитов работников образ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пробация – ноябрь 2020г –апрель 2021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ть механизм отбора и аккумулирования содержательного контента для реализации ИОМов работников образования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бочая группа (по плану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то желает направляет свою кандидатуру на эл. почту: </a:t>
                      </a: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fayazova@yandex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руктурно-функциональная мод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-55440" y="993600"/>
            <a:ext cx="927864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P2P (англ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«равный равному»), обучение внутри профес. сообществ педагогов и руководителей О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е решение, обеспечивающее использование ресурсов одновременно несколь-ких организаций в реализации процесса непре-рывного образования, осуществляемого в течение всей жизни взрослым индивидом в целях профессионального роста и личностного совершенс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пределенная система обучения на основе сотрудни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бучения, который строится на сотрудничестве группы обучаю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путное обучение» в процессе групповой деятельности и общения (Л. Аберкромби (Лондон), Кеннет Браффи (Нью-Йорк)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дель непрерывного профессионального развития 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-42840" y="1206360"/>
            <a:ext cx="920592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тев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ое (взаимное) обучение (англ. networked learning, peer-to-peer learning) — относительно новая парадигма учебной деятельности, базирующаяся на идее массового сотрудничества, идеологии открытых образовательных ресурсов, в сочетании с сетевой организацией взаимодействия участ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ль горизонталь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571400"/>
            <a:ext cx="8429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е реализации индивидуальных образовательных маршрутов работников образования Пермского края эффективным содержательным контентом для  взаимообучения в  профессиональных сообществах в условиях персонифицированной системы повышения квалифик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- системообразующий элемент ПСПК работников образования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-19080" y="993600"/>
            <a:ext cx="9182160" cy="5870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786040" y="5643720"/>
            <a:ext cx="635796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яет личностно значимые потреб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яет профессиональные дефици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ует проф. компетен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реализации модели горизонтального обу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2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684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сонифицированная система  повышения квалификации (ПСП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"/>
          <p:cNvPicPr/>
          <p:nvPr/>
        </p:nvPicPr>
        <p:blipFill>
          <a:blip r:embed="rId1"/>
          <a:stretch/>
        </p:blipFill>
        <p:spPr>
          <a:xfrm>
            <a:off x="-19080" y="1206360"/>
            <a:ext cx="9186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fayaz</cp:lastModifiedBy>
  <cp:lastPrinted>2020-03-11T11:23:47Z</cp:lastPrinted>
  <dcterms:modified xsi:type="dcterms:W3CDTF">2020-08-20T19:26:36Z</dcterms:modified>
  <cp:revision>474</cp:revision>
  <dc:subject/>
  <dc:title>Презентация PowerPoint</dc:title>
</cp:coreProperties>
</file>