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5765-2A50-4CA7-B965-0108AB0C7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0847-5F95-4396-9FD0-2917BB8EC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F380-70DC-4D8B-B294-1E6C8E07C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F544-AAEC-4FA8-8791-96F737939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1DA7-00A1-49B3-BAAA-05B4279B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6AF6-AF62-4B44-914E-F3455A97C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658D-C10C-48E4-A0E0-B47D12E99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9922-9C0D-4B31-B10B-FB70C2226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BA5A-9832-44FA-804F-094B561E4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56D7-0251-4F4D-8F80-94E187F8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49AD-8202-44AD-9F13-DD70482D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C057-2D47-42AB-A2DA-F6A049ED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8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CBFF5-E42E-4063-B9CD-3F79B6F76B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оектирование программы по обществознанию в 8 классе с включением заданий по финансовой грамотности в формате 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PISA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372440" y="4309920"/>
            <a:ext cx="427968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кулова Елена Андреев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итель истории и обществозн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АОУ «Ергачинская СОШ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унгурский М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 Light"/>
              </a:rPr>
              <a:t>Конструктор рабочих программ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Объект 3" descr=""/>
          <p:cNvPicPr/>
          <p:nvPr/>
        </p:nvPicPr>
        <p:blipFill>
          <a:blip r:embed="rId1"/>
          <a:srcRect l="3521" t="9906" r="9140" b="4006"/>
          <a:stretch/>
        </p:blipFill>
        <p:spPr>
          <a:xfrm>
            <a:off x="3962520" y="1754280"/>
            <a:ext cx="7940520" cy="4235400"/>
          </a:xfrm>
          <a:prstGeom prst="rect">
            <a:avLst/>
          </a:prstGeom>
          <a:ln w="0">
            <a:noFill/>
          </a:ln>
        </p:spPr>
      </p:pic>
      <p:sp>
        <p:nvSpPr>
          <p:cNvPr id="45" name="TextBox 4"/>
          <p:cNvSpPr/>
          <p:nvPr/>
        </p:nvSpPr>
        <p:spPr>
          <a:xfrm>
            <a:off x="716040" y="2073240"/>
            <a:ext cx="2728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есплатн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ыстр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добно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 Light"/>
              </a:rPr>
              <a:t>Конструктор рабочих программ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7" name="Рисунок 3" descr=""/>
          <p:cNvPicPr/>
          <p:nvPr/>
        </p:nvPicPr>
        <p:blipFill>
          <a:blip r:embed="rId1"/>
          <a:srcRect l="10002" t="12119" r="6250" b="2881"/>
          <a:stretch/>
        </p:blipFill>
        <p:spPr>
          <a:xfrm>
            <a:off x="1486080" y="1504800"/>
            <a:ext cx="921996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 Light"/>
              </a:rPr>
              <a:t>Конструктор рабочих программ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9" name="Рисунок 3" descr=""/>
          <p:cNvPicPr/>
          <p:nvPr/>
        </p:nvPicPr>
        <p:blipFill>
          <a:blip r:embed="rId1"/>
          <a:stretch/>
        </p:blipFill>
        <p:spPr>
          <a:xfrm>
            <a:off x="684360" y="1690560"/>
            <a:ext cx="1048680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76560" y="365040"/>
            <a:ext cx="71722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 Light"/>
              </a:rPr>
              <a:t>Задания по финансовой грамотности (</a:t>
            </a:r>
            <a:r>
              <a:rPr b="0" lang="en-US" sz="4800" spc="-1" strike="noStrike">
                <a:solidFill>
                  <a:srgbClr val="000000"/>
                </a:solidFill>
                <a:latin typeface="Calibri Light"/>
              </a:rPr>
              <a:t>PISA)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1" name="Объект 3" descr=""/>
          <p:cNvPicPr/>
          <p:nvPr/>
        </p:nvPicPr>
        <p:blipFill>
          <a:blip r:embed="rId1"/>
          <a:stretch/>
        </p:blipFill>
        <p:spPr>
          <a:xfrm>
            <a:off x="455760" y="733320"/>
            <a:ext cx="4213080" cy="24814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4" descr=""/>
          <p:cNvPicPr/>
          <p:nvPr/>
        </p:nvPicPr>
        <p:blipFill>
          <a:blip r:embed="rId2"/>
          <a:stretch/>
        </p:blipFill>
        <p:spPr>
          <a:xfrm>
            <a:off x="5486400" y="1690560"/>
            <a:ext cx="5197320" cy="20066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7" descr=""/>
          <p:cNvPicPr/>
          <p:nvPr/>
        </p:nvPicPr>
        <p:blipFill>
          <a:blip r:embed="rId3"/>
          <a:stretch/>
        </p:blipFill>
        <p:spPr>
          <a:xfrm>
            <a:off x="808200" y="3475080"/>
            <a:ext cx="1003140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98360" y="182520"/>
          <a:ext cx="11781000" cy="6492960"/>
        </p:xfrm>
        <a:graphic>
          <a:graphicData uri="http://schemas.openxmlformats.org/drawingml/2006/table">
            <a:tbl>
              <a:tblPr/>
              <a:tblGrid>
                <a:gridCol w="5891400"/>
                <a:gridCol w="5889600"/>
              </a:tblGrid>
              <a:tr h="96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ема в рабочей программ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анк заданий «Финансовая грамотность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1666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ономика — основа жизнедеятельности челове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6. «Планшет или ноутбук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</a:tr>
              <a:tr h="965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ыночные отношения в экономик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. Как защититься от интернет-мошенников в интерне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</a:tr>
              <a:tr h="96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нансовые отношения в экономик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. «Нужен ли кредит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. «Карта Юность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</a:tr>
              <a:tr h="96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машнее хозяй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. «Дачные проблемы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</a:tr>
              <a:tr h="96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ономические цели и  функции государ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4. «Налог на новую квартиру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1560" y="12240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 Light"/>
              </a:rPr>
              <a:t>Задание «Дачные проблемы»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6" name="Объект 3" descr=""/>
          <p:cNvPicPr/>
          <p:nvPr/>
        </p:nvPicPr>
        <p:blipFill>
          <a:blip r:embed="rId1"/>
          <a:stretch/>
        </p:blipFill>
        <p:spPr>
          <a:xfrm>
            <a:off x="441360" y="1193760"/>
            <a:ext cx="1111104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 Light"/>
              </a:rPr>
              <a:t>Задание «Нужен ли кредит»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8" name="Объект 3" descr=""/>
          <p:cNvPicPr/>
          <p:nvPr/>
        </p:nvPicPr>
        <p:blipFill>
          <a:blip r:embed="rId1"/>
          <a:stretch/>
        </p:blipFill>
        <p:spPr>
          <a:xfrm>
            <a:off x="655560" y="1825560"/>
            <a:ext cx="1069812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 Light"/>
              </a:rPr>
              <a:t>Задание «Налог на новую квартиру»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0" name="Объект 3" descr=""/>
          <p:cNvPicPr/>
          <p:nvPr/>
        </p:nvPicPr>
        <p:blipFill>
          <a:blip r:embed="rId1"/>
          <a:stretch/>
        </p:blipFill>
        <p:spPr>
          <a:xfrm>
            <a:off x="1127160" y="1444680"/>
            <a:ext cx="10004400" cy="53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24T10:15:26Z</dcterms:created>
  <dc:creator>User</dc:creator>
  <dc:description/>
  <dc:language>en-US</dc:language>
  <cp:lastModifiedBy>User</cp:lastModifiedBy>
  <dcterms:modified xsi:type="dcterms:W3CDTF">2022-11-28T04:43:17Z</dcterms:modified>
  <cp:revision>10</cp:revision>
  <dc:subject/>
  <dc:title>Презентация PowerPoint</dc:title>
</cp:coreProperties>
</file>