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1E21B-1CEE-444F-BCFA-44170BB3B8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3B0A1-0AE8-4BE9-9546-F0AEB014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D9557-A0F5-4991-8028-8F216C79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53DAB-251D-4F80-93B9-43D44FD786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A7946-F200-40AF-9658-2BF5465C00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519D4-87B1-4DF9-85D6-8838B700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C5914-14E9-4246-9759-1E482696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95916-9381-4DD3-8FBE-A5A1B073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C9AC7-FAF2-49E3-A668-BDE4ED202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C90ED-0800-41CB-BF4D-2AB721ED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E3DF2-6176-45EC-9A94-BC78A9C3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65C04-964C-4BFD-AE8C-B5B89AA9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03562-0939-4455-A931-93C4A7C0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FE534-6DE2-4A89-8A58-547C19EC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9FB0A-2B8C-4907-9867-42AE4D46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F29E7-CDD6-4575-9128-E79A971C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4B049-DF37-4B9D-A2F4-D2E9175CF6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5F05-DCF5-45D9-AA8D-C6B8DCC7E1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B5F1-7B1D-46D6-8215-46C664C5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5747-95B5-4F53-9866-E857039B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F6D1-6AD9-4D25-B85F-B9B4F65D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C984-F9B9-48CC-AE94-E1E00E4BE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0A806-DF20-4B28-84DC-DBCAA6E4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1B00-D9CC-4CC0-8A06-9D66E8A30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0CE6-E20D-4341-87F6-12899352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A346-44F8-4D07-BB8E-17F1A46A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A8D2-EEE7-4DC1-A6AD-93D62FEF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7F6A-AF19-454D-AA27-27BEBE94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9647-48E6-4EF6-B195-010D857B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F35C-2946-47F1-BA75-66F7C5FB6D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8517F5-420E-4FEB-8107-FA151EB500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04219D-2FA9-462C-AF39-D8205C7E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C7F2D2-DAAA-4704-ABD5-70B45072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476E9-2D2B-4BB4-8BDE-851C5D52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4C74BE-67CE-42A4-8425-B5BECE9D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CA8BC0-13DE-4391-98B9-52D80FE1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F161D9-15DF-4697-86E4-7AF8289E6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5878CF-DBEC-47F8-A00E-F1DA3372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6C6A71-509B-4CC9-91CA-F7F8A5BD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9D7E48-0B21-48FE-9B86-4E5D418F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C5058C-2BF3-4084-BA74-8A0E6114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A987E1-125B-46FF-BD8F-9F6460BF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BDAB53-A8F0-45E4-861F-87AB5FA56D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D0EE3D-E04A-42F0-8EFD-0A5F294829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D9018-342F-4894-9239-6E5009347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6DF7C0-53D4-4D1E-A53B-35117721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F10C60-4445-45C7-8834-08582C23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9BC855-6F2C-4689-9557-C028261C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7FAF95-9747-439A-86D0-18D36EE1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229A64-D87E-471F-9117-9D0B1316E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F0F07D-AB5F-4DFE-B11C-FC926D28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9EE920-5A70-4C30-BE72-7F2DAE67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B48BB1-C5F4-4D1E-BE2A-3ECAF073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0AB236-3DDC-450B-A9C4-BF12ADF9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5F6995-E551-4040-AF80-B866E368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AA62A-6FE5-4110-A6FA-452E92D7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9EA274-213B-415B-AFB2-3C8CF18A5E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E1601-DAE5-4243-845D-C4C1FF7CE9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F961C-DD13-4964-A5CE-7484827F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6BCE5-1F20-47D1-AE14-2EE22BB5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8E3ED-1FD4-4A1B-93E9-3615B196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A17FB-2E33-495F-8D43-9FF2C3FB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BCD5B-D267-44FB-9FA9-A03D0D69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5B377-DEB3-4C2A-903F-E8C16833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901EB-60C1-4726-B0C0-EEECBF5C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17CCA-7583-434D-80A8-3A2D0750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FBAED-72FA-4DCA-983E-7AAA4D84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B60EF-219E-4062-9411-7C323B39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E60AF-FA8C-4C62-93EB-9AC84FA7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B1DB2-D049-402F-BFFE-7799A740B4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6A16CC-0589-4594-8247-F51DE2DDF0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770F84-25A8-4264-8999-B0851B20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AE1E07-F101-4BD6-8C18-99A73E0B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78C8A7-8FE1-480D-A142-723064B5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E06D8F-9541-4D58-83FA-909170C6C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67F03C-5DBE-4ED6-9BF3-66C440BF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1FF067-99B9-4492-8A1F-898A10B4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AA85F-FBA0-441B-9032-26B57F2B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B9362E-D530-465C-B043-99D3C928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9F3F87-6111-420E-A9A1-60E7C469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FC3921-FF76-4677-BBD8-C93ABBA5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0EC0E1-402A-42AA-86D9-33F730E5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2F9913-3885-425F-9606-9DA4415D32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4A586-2A58-4EE2-AC40-95C76F68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3CDFA7-3689-4285-BC3D-56C79F4B092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1407960"/>
            <a:ext cx="230040" cy="223920"/>
            <a:chOff x="914400" y="1407960"/>
            <a:chExt cx="230040" cy="22392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00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76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469332-541A-40EC-8DEB-BBE3A6C899C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63600" y="2809800"/>
            <a:ext cx="230400" cy="223920"/>
            <a:chOff x="2163600" y="2809800"/>
            <a:chExt cx="230400" cy="22392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040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5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8382DF-D4BE-4C6B-BB1D-2E76A9216A4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17BBE0-A773-4B10-83A4-B65C246474B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14B7DF-F7E0-4C8B-B428-744DF376BAE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72093A-63A3-46F6-AEAB-6B380E313D7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46200" y="969840"/>
            <a:ext cx="4802040" cy="4800600"/>
            <a:chOff x="646200" y="969840"/>
            <a:chExt cx="4802040" cy="480060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20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020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9440000">
            <a:off x="3985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rot="2100000">
            <a:off x="5003640" y="93672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7BB02F-CDE6-4C9E-9C3B-E336B474CAE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85716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Из опыта работы</a:t>
            </a:r>
            <a:br>
              <a:rPr sz="4300"/>
            </a:b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 «Неделя финансовой грамотности в 5-11 классах»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71600" y="3886200"/>
            <a:ext cx="7272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азанцева Лена Фаато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Учитель истории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обществозн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МБОУ «Большеусинская СОШ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уединский М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714240" y="3000240"/>
            <a:ext cx="357192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285840"/>
            <a:ext cx="8229600" cy="58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Неделя финансовой грамотности в школе проводится второй го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Содействие повышению уровня информированности детей и молодежи по вопросам личных финансов , способствовать повышению навыков грамотного решения финансовых вопро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Главной мотивацией участия 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тей в мероприятиях Недели   становятся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ньги,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изданные организатором Недели. Все заработанные в течение недели деньги, можно было потратить на аукционе, предложив свою большую цену за това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лан недели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конкурс методических разработок Казанцева Л.Ф.МБОУ Большеусинская СОШ\Разработка Казанцевой Л.Ф.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214280" y="3286080"/>
            <a:ext cx="421488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0070c0"/>
                </a:solidFill>
                <a:latin typeface="Corbel"/>
                <a:ea typeface="Microsoft YaHei"/>
              </a:rPr>
              <a:t>Деловая игра «Юный бизнесмен»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</a:t>
            </a: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 Развитие финансовой грамотности обучаю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Суть игры: детям 5-11 классов предлагается продать за деньги, или обменять  изделия, выполненные своими руками: мыло, кольца и браслеты из бисера, изделия из бумаги, вышитые , связанные изделия и т.д. Наибольшей популярностью стали изделия из песочного теста, блины, пироги с яблоками и т.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 актовом зале были поставлены столы, на которых расположились юные предприниматели. Цены были оговорены заранее, реклама изделий выполнена учащимися и помещена на этажах шко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о время больших перемен ребята продавали свои изделия  школьникам, работникам школы. Наибольшую прибыль получила девочка 6 класса, изготавливающая мыло ручной рабо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428760" y="192240"/>
            <a:ext cx="2643120" cy="35128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929200" y="312840"/>
            <a:ext cx="2857680" cy="37972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2500200" y="1476360"/>
            <a:ext cx="378648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Мозгобатл «Деньги вчера , сегодня, завтра»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Интеллектуальная игра для учащихся 7-11 клас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1 Игра «Что?Где?Когда?», 2 игра «Отгадай рекламу», 3 игра – отгадай имя певца или название группы «Кто поет о деньгах», 4 игра «Отгадай кадр из фильма , где находятся деньг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Победители и призеры, а также участники в качестве призов  получают деньги, выпущенные организатором неде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285920" y="237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4071960" y="642960"/>
            <a:ext cx="4214880" cy="56196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1857240" y="3738600"/>
            <a:ext cx="2340000" cy="31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Школьный тур олимпиады по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Функциональную грамотнрсть\фг 7-9 класс.pdf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Функциональную грамотность\задания по ЧГ 5-6 классы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одведение итогов Недели. Аукцион.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000680" y="642960"/>
            <a:ext cx="3357360" cy="4476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1071720" y="1173240"/>
            <a:ext cx="2928960" cy="39052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6143760" y="3429000"/>
            <a:ext cx="2463840" cy="3286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52:50Z</dcterms:created>
  <dc:creator>Acer-Kab-10</dc:creator>
  <dc:description/>
  <dc:language>en-US</dc:language>
  <cp:lastModifiedBy>Пользователь Windows</cp:lastModifiedBy>
  <dcterms:modified xsi:type="dcterms:W3CDTF">2022-11-24T16:56:17Z</dcterms:modified>
  <cp:revision>8</cp:revision>
  <dc:subject/>
  <dc:title>Из опыта работы  «Неделя финансовой грамотности в 5-11 классах»</dc:title>
</cp:coreProperties>
</file>