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5177-157C-4791-80A3-BD284E32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567C-7CE6-43DA-B27F-A612D7E2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FA61-E546-41AC-91BA-36B19EE5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FD30-7B9F-46CB-BCBC-D9F39D1C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CB0-A09D-4CBA-A486-BE581906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F69C-10D7-4302-9D61-2396E59B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8E63-3AF6-4078-A09E-21AEEA12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D12F-92E3-4477-88CC-68CC6326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291D-9188-4BAD-A8DE-82449FB2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C091-136E-427E-A657-E28A90F7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7B7F-4140-4FDE-BAD7-EBE04E95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80CD-7473-4ECE-B327-E80987C1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4A34-C170-412B-8C50-12C7B2FB12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ектирование программы по обществознанию в 8 классе с включением заданий по финансовой грамотности в формате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IS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372440" y="4309920"/>
            <a:ext cx="42796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улова Елена Андре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ОУ «Ергачинская СОШ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нгурский М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rcRect l="3521" t="9906" r="9140" b="4006"/>
          <a:stretch/>
        </p:blipFill>
        <p:spPr>
          <a:xfrm>
            <a:off x="3962520" y="1754280"/>
            <a:ext cx="7940520" cy="4235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716040" y="2073240"/>
            <a:ext cx="27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сплат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ст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добн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10002" t="12119" r="6250" b="2881"/>
          <a:stretch/>
        </p:blipFill>
        <p:spPr>
          <a:xfrm>
            <a:off x="1486080" y="1504800"/>
            <a:ext cx="92199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684360" y="1690560"/>
            <a:ext cx="10486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76560" y="365040"/>
            <a:ext cx="7172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я по финансовой грамотности (</a:t>
            </a: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PISA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455760" y="733320"/>
            <a:ext cx="4213080" cy="2481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5486400" y="1690560"/>
            <a:ext cx="519732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"/>
          <p:cNvPicPr/>
          <p:nvPr/>
        </p:nvPicPr>
        <p:blipFill>
          <a:blip r:embed="rId3"/>
          <a:stretch/>
        </p:blipFill>
        <p:spPr>
          <a:xfrm>
            <a:off x="808200" y="3475080"/>
            <a:ext cx="100314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98360" y="182520"/>
          <a:ext cx="11781000" cy="6492960"/>
        </p:xfrm>
        <a:graphic>
          <a:graphicData uri="http://schemas.openxmlformats.org/drawingml/2006/table">
            <a:tbl>
              <a:tblPr/>
              <a:tblGrid>
                <a:gridCol w="5891400"/>
                <a:gridCol w="5889600"/>
              </a:tblGrid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в рабочей програм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нк заданий «Финансовая грамот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166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ка — основа жизнедеятельности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. «Планшет или ноутбу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ночн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. Как защититься от интернет-мошенников в интерн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ов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. «Нужен ли кредит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. «Карта Ю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ашнее хозя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 «Дачные проблем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ческие цели и  функции госуда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. «Налог на новую квартиру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560" y="122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Дачные проблемы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441360" y="1193760"/>
            <a:ext cx="111110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ужен ли кредит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55560" y="1825560"/>
            <a:ext cx="106981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алог на новую квартиру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1127160" y="1444680"/>
            <a:ext cx="100044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15:26Z</dcterms:created>
  <dc:creator>User</dc:creator>
  <dc:description/>
  <dc:language>en-US</dc:language>
  <cp:lastModifiedBy>User</cp:lastModifiedBy>
  <dcterms:modified xsi:type="dcterms:W3CDTF">2022-11-28T04:43:17Z</dcterms:modified>
  <cp:revision>10</cp:revision>
  <dc:subject/>
  <dc:title>Презентация PowerPoint</dc:title>
</cp:coreProperties>
</file>