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71F96-BA39-46AA-B06D-82C0064614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418AE-70BD-403E-B7E0-C3FA61F5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00057-8429-4FDB-87A3-FA57AD3D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3C980-678F-4DA4-8A88-3B625C282D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7AA3C-FEFA-4D73-ACB4-7044F4614C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30564-6A72-488D-AD84-CA1A54B3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F47EC-FDC3-4A38-8E60-FFD17AB7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479A9-740C-428E-B702-3CC416AD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A8B0A-4000-4747-BBCD-844B4D9A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55F5D-38B1-41DC-8C38-FEFC0D45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CBCC1-B8C5-4EF5-A723-2E24CB28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F14D5-8F13-4522-BBA3-F11849E5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320C5-8921-4175-AB9D-083A64C2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41B61-91C4-440B-8F8B-72369F2A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CF112-94EF-42AE-98B9-3BD9452C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273DA-1CE4-42E7-9D15-2AC6D134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1E4A6-F1E8-4A32-A6BB-479FE6F1FE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2FD7-7361-441C-AE46-75DF4155A6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3D92-F838-4755-9A0A-1876B1F9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7A73-70F0-4161-9547-D71C3A88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445A-3890-493D-B07B-585DA8C3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6339-D8CD-402B-B641-8D6D9715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CE988-80CB-4E76-AE61-684684B5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5DC0-96A6-4D88-8593-E80D1D3B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FC88-7714-4AF9-866A-41F753B9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787E-E272-478A-9AA3-F259CC75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4404-F8EC-4764-850D-0C107CDE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828A-79FC-4B66-AA9C-F57F01C6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341F-97A5-493D-9007-926D0B53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49E6-31B4-4F3F-9205-63ED4B3236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AAE95-9C15-4124-B346-8180DE7896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7D7C5-EF44-4998-835B-D1E55654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E7188-7D96-40D1-8725-C2771509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8BD34-B87D-4AC2-9509-5511CB09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9B8CE-A3C5-4172-BE6E-CC897AA3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7537B-F19C-4C57-B7A6-0DD88DD7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C1819-DE3E-42A7-9C87-496B89BD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40DF2-6E9A-48C4-822F-D704D16A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C1057-7609-40A7-955A-E216F0D9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17A2C-25AE-4603-A212-311EB1ED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A2B2D-D761-4004-BC68-F57864FD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6BADD-D1EA-4C66-BC30-16FE5956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ED4CE-EE3C-4865-A3C8-2BC22CE83B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E685EE-0F77-47E0-ADE4-13D34F6C58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5E8C6-A3C1-452D-8124-A94F0312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1CB9C8-205D-4840-BDCA-259258E0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9CF0A1-47FF-4EF7-B860-58829382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B214FD-2373-4CB1-B62D-5B3B288B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DDB2AA-56DE-43F6-A4C0-E2DA8BBA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7BA885-A7B7-49FE-B21A-02C80C61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A01209-E284-4226-ABE1-0C02FB1A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DF357C-0CC1-4ED9-B9BC-847A319C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F78B06-7DC4-45B8-90D0-45CBFC33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33C75C-8B33-486B-8C31-1C1E5FB8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0C2A36-A96E-4D18-A2AD-F0193907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3A4CB-D19D-4E11-99AC-0AA3C0CF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A69D68-DAAB-4749-8F22-F75C0A7888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DD25E-FFE9-44B2-B867-D96D8B2E73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0FF3D-EBEA-4D2D-A87F-592A36D3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56380-2F6C-4C92-8B83-F0E4B961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AE6ED-D439-4B9B-AB46-4CD24F62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AE1FE-F59B-4CBD-B63C-DFB83649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64D83-FCA7-4E53-930E-941A0719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3C6DE-0DD1-433F-B2D1-CE303877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E6C9B-09EB-4E72-85EF-EC7C097E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47098-DB29-4451-824A-2970F13D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D1779-652F-4382-8821-1276452F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2C829-9542-4423-8A5E-EE9BB436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98357-D496-4E45-9618-C10EC1EB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7D555-E001-4097-A8CD-41B915E4B7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AAABD6-E0A8-4790-8F05-553D697BDC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4E241B-9C77-4B53-8CF2-96677F62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50FE5-4588-4BED-A2B6-6BF1094F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0AAF90-EF84-43E5-AD1F-CA071037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7A73B6-DCF7-4FE8-BA22-CDCEBCC1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E0D3DF-6350-4036-B10B-E81FFA03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49B5E-500B-41E3-B6BF-99C342EC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AE38E-A3D4-48EA-879B-E5E107BF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D60B13-E6BC-4164-99C4-4399D21B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33E17-0DE0-45E2-BF4D-6282A3D8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6DD96C-0572-45C6-9FCA-C529F4EE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47910-5DBF-4249-AF77-6507F3F4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DE3AF9-51AA-43F6-A271-1358F42128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F1CDE-5E36-4B8E-9E95-EDF24A13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17B0C8-97ED-4713-869C-9D2B8852C5D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238087-F8CD-4781-95FF-6B582A778C1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1A5CD1-9F6D-4C60-BF16-102E0DEBCCC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310271-564E-4C26-9B72-5C5A907384A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AC759D-D67F-4B31-ACBE-D95A4731D60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1930F1-35A7-47BF-8E7E-540A2F46586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7710BE-1CBB-42FA-8B83-D97D0B5D764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Из опыта работы</a:t>
            </a: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 «Неделя финансовой грамотности в 5-11 классах»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азанцева Лена Фаат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Учитель истори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обществозн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МБОУ «Большеусин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уединский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Неделя финансовой грамотности в школе проводится второй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Содействие повышению уровня информированности детей и молодежи по вопросам личных финансов , способствовать повышению навыков грамотного решения финансовых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Главной мотивацией участия 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тей в мероприятиях Недели   становятся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ньги,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изданные организатором Недели. Все заработанные в течение недели деньги, можно было потратить на аукционе, предложив свою большую цену за това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лан недели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конкурс методических разработок Казанцева Л.Ф.МБОУ Большеусинская СОШ\Разработка Казанцевой Л.Ф.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14280" y="3286080"/>
            <a:ext cx="42148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  <a:ea typeface="Microsoft YaHei"/>
              </a:rPr>
              <a:t>Деловая игра «Юный бизнесмен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</a:t>
            </a: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 Развитие финансовой грамотност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уть игры: детям 5-11 классов предлагается продать за деньги, или обменять  изделия, выполненные своими руками: мыло, кольца и браслеты из бисера, изделия из бумаги, вышитые , связанные изделия и т.д. Наибольшей популярностью стали изделия из песочного теста, блины, пироги с яблокам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 актовом зале были поставлены столы, на которых расположились юные предприниматели. Цены были оговорены заранее, реклама изделий выполнена учащимися и помещена на этажах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о время больших перемен ребята продавали свои изделия  школьникам, работникам школы. Наибольшую прибыль получила девочка 6 класса, изготавливающая мыло ручн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8760" y="192240"/>
            <a:ext cx="2643120" cy="3512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29200" y="312840"/>
            <a:ext cx="2857680" cy="379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00200" y="1476360"/>
            <a:ext cx="37864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Мозгобатл «Деньги вчера , сегодня, завтра»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Интеллектуальная игра для учащихся 7-11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1 Игра «Что?Где?Когда?», 2 игра «Отгадай рекламу», 3 игра – отгадай имя певца или название группы «Кто поет о деньгах», 4 игра «Отгадай кадр из фильма , где находятся деньг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бедители и призеры, а также участники в качестве призов  получают деньги, выпущенные организатором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85920" y="237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071960" y="642960"/>
            <a:ext cx="4214880" cy="5619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1857240" y="3738600"/>
            <a:ext cx="23400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Школьный тур олимпиады по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Функциональную грамотнрсть\фг 7-9 класс.pdf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Функциональную грамотность\задания по ЧГ 5-6 классы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одведение итогов Недели. Аукцион.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71720" y="11732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43760" y="342900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52:50Z</dcterms:created>
  <dc:creator>Acer-Kab-10</dc:creator>
  <dc:description/>
  <dc:language>en-US</dc:language>
  <cp:lastModifiedBy>Пользователь Windows</cp:lastModifiedBy>
  <dcterms:modified xsi:type="dcterms:W3CDTF">2022-11-24T16:56:17Z</dcterms:modified>
  <cp:revision>8</cp:revision>
  <dc:subject/>
  <dc:title>Из опыта работы  «Неделя финансовой грамотности в 5-11 классах»</dc:title>
</cp:coreProperties>
</file>