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D9FF-08CC-4A4C-9B95-DF939981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4B7-1EB9-4EE8-9944-2F58D8EF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4EC-624B-4714-A385-91FEFE0B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60A-92FF-42CD-A8EB-4FAEA064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9400-3EE6-4A1F-99C3-57D3EA2C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B1F-3771-48CD-9A4C-D30374F4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889-57B8-4B76-B8AB-04F8543F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4C6D-CBDF-47FD-821B-C81C93BD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123-75E3-4B80-B65A-BE9CBAC3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3FA3-0C14-45A6-854E-B843DE4E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A5A-E51C-4CAC-AC2F-B3E6F264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1F99-C884-4909-81BF-7D4774FD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05EA-5254-41EA-AA9C-E805D6CF01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993080" cy="603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августа 2021г.                                   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Региональный вебинар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учителей английского языка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образовательных учреждений г. Перми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и Пермского края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овышение  профессионально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мотности учителя иностранного языка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блемы и решения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Тихомирова О.А., снс  отдела научно-методического сопровождения общего образования ЦНППМПР ГАУ ДПО ИРО ПК   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oat_poipkro@mail.ru</a:t>
            </a:r>
            <a:br>
              <a:rPr sz="1800"/>
            </a:br>
            <a:br>
              <a:rPr sz="2400"/>
            </a:b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444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ладеть 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фонетическими навыками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различать на слух и адекватно,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без ошибок, ведущих к сбою коммуникации,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оизноси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лова с правильным ударением и фразы с соблюдением их ритмико-интонационных особенностей, в том числе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именять правила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тсутствия фразового ударения на служебных слов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ыразительно читать вслух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небольшие адаптированные аутентичные тексты объёмом до 90 слов, построенные на изученном языковом материале, с соблюдением правил чтения и соответствующей интонацией, демонстрируя понимание содержания текста; читать новые слова согласно основным правилам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Times New Roman"/>
              <a:buChar char="•"/>
              <a:tabLst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задачи учителя в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.Развитие функциональной грамотности школьников, повышение читательской активности учащихс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Ориентация на компетентностный подход в  содерж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В основе обучения- коммуникативно-когнитивный метод, направленный на развитие ведущих компетенций: навык критического мышления, сотрудничество в обучении, цифровая грамотность, рефлексия, автономия в обучении, умение проявлять личную инициативу</a:t>
            </a:r>
            <a:r>
              <a:rPr b="0" lang="ru-RU" sz="2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Основные результаты ЕГ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341360"/>
          <a:ext cx="8229600" cy="2378160"/>
        </p:xfrm>
        <a:graphic>
          <a:graphicData uri="http://schemas.openxmlformats.org/drawingml/2006/table">
            <a:tbl>
              <a:tblPr/>
              <a:tblGrid>
                <a:gridCol w="1176480"/>
                <a:gridCol w="993600"/>
                <a:gridCol w="1224000"/>
                <a:gridCol w="1308240"/>
                <a:gridCol w="1176120"/>
                <a:gridCol w="1174680"/>
                <a:gridCol w="11764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стобал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не сда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глий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"/>
              </a:rPr>
              <a:t>Из выступления Президента России В. В. Путина  на президиуме Госсовета РФ по вопросам образования 25.08.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611280" y="1550880"/>
            <a:ext cx="76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400" spc="-1" strike="noStrike">
                <a:solidFill>
                  <a:srgbClr val="555555"/>
                </a:solidFill>
                <a:latin typeface="roboto_ltregular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ая, ключевая тема – это качество образования. Наша цель – обеспечить его высокий уровень во всех школах. Не только потому, что мы стремимся войти в число каких-то там ведущих стран мира по качеству общего образования, какие-то там «десятки», «пятёрки» и так далее. Дело совершенно не в эт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лавное – дать нашим детям фундаментальные знания по ключевым предметам и научить применять их в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раскрытия их способностей, чтобы они как можно раньше определились с будущей професс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тем детям, которые по разным причинам испытывают трудности с обучением: это могут быть проблемы психологического характера, большой учебной нагрузки, сложной жизненной ситуации в семь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План вебин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Ключевые  события  и итоги 2020-2021 учебного года. Новые направления работы в  поддержке профессионального развития педагогов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хомирова О.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нс ГАУ ДПО ИР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собенности новой модели ЕГЭ по английскому язы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елина Н.Н., учитель английского языка высшей категории МАОУ «СОШ №50 с углубленным изучением английского языка» г. Перми, руководитель методического объединения учителей английского языка г. Перми, эксперт ЕГЭ, член конфликтной комисси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765000"/>
            <a:ext cx="8075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юле 2020г. создан и начал функционирование краевой Центр непрерывного повышения профессионального мастерства педагогических работ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 - обеспечение условий для непрерывного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ерсонифицированног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я профессионального мастерства педагогов и руководящего состава образовательных учреждений Пермского края. ( адрес: ул. Бородинская,35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ущее направл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опровождение школ с низкими образовательными результа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 2021 году Пермский край включился в реализаци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федерального проек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500+», цель которого – повышение качества образования в образовательных организациях с низкими образовательными результатами обучающихся путем реализации для каждой такой образовательной организации комплекса мер поддержки, разработанного с учетом результатов предварительной комплексной диагностики по этой образовательной организации. 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61 О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гиональном уро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зуется проект «Образовательный лифт:ШН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Цель проекта: организация процесса научно-методического, организационно-методического, информационного сопровождения сетевых предметных групп учителей из школ с низкими образовательными результатами в аспекте освоения ими эффективных форм и методов организаци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предметного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обучения, направленного на повышение уровня образовательных результатов школьников, наполнение и представление педагогическому сообществу Пермского края виртуального банка учебно-методических разработок в рамках Мероприятия.  В группу учителей английского языка вошл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42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педагога из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18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муниципалит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54936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 муниципальном уро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рганизация   повышения квалификации учителей  через предметно-методическую диагностику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ов, в том числе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Пермского кр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Участие педагогов г. Перми и края в пополнении дидактическими материалами библиотеки краевой платформы ЭПОС.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края и города Перми представили около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зличных дидактических материалов на все уровни образования. Особенно следует отметить за активное  участие в этой работе учителей английского языка из  г. Соликамск, г. Кунгур, г. Пермь (школы 25,7,133,122,гимназия 10, школа 50 и многие друг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303030"/>
                </a:solidFill>
                <a:latin typeface="Arial"/>
                <a:ea typeface="Calibri"/>
              </a:rPr>
              <a:t>Реформирование системы образования РФ продолжается, и в 2021 году учителей ждет совершенно новая форма аттестации и повышения квалификации в рамках проекта НСУР (Национальная система учительского рос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тверждены приказами Министерства Просвещения РФ №№ 286,287 от 31 мая 2021 г.  ФГОС начального и основного общего образовани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2021-2022 учебного года важно изучить содержание данных документов, обсудить необходимые изменения в профессиональной деятельности на школьных МО, региональных РУМО. Для освоения содержания новых ФГОС будут предложены курсы повышения квалификации, методические вебинары/семинары и другие образовательные меропри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е стандарты будут обязательны к реализации в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22–2023 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бном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980640"/>
            <a:ext cx="7859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Разработаны и вышли в свет  для общественного обсуждения ( пока в статусе проекта) примерные рабочие программы для начальной и основной школы по предметам учебного плана. В содержание программы  входят следующие разде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900000" y="2060640"/>
            <a:ext cx="6624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5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говорение: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ести разные виды диалогов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диалог этикетного характера, диалог — побуждение к действию, диалог-расспрос) в рамках тематического содержания речи в стандартных ситуациях неофициального общения, с вербальными и/или зрительными опорами, с соблюдением норм речевого этикета, принятого в стране/странах изучаемого языка (до 5 реплик со стороны каждого собесед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оздавать разные виды монологических высказываний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описание, в том числе характеристика; повествование/сообщение) с вербальными и/или зрительными опорами в рамках тематического содержания речи (объём монологического высказывания — 5—6 фраз);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сновное содержание прочитанного текста с вербальными и/или зрительными опорами (объём — 5—6 фраз);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тко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 выполненной проектной работы (объём — до 6 фра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аудирование: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воспринимать на слух и понимать несложные адаптированные аутентичные текс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ты, содержащие отдельные незнакомые слова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 зрительными опорами или без опоры с раз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время звучания текста/текстов для аудирования —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1 минуты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смысловое чтение</a:t>
            </a:r>
            <a:r>
              <a:rPr b="1" lang="ru-RU" sz="24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и понимать несложные адаптированные аутентичные тексты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держащие отдельные незнакомые слова, с различ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объём текста/текстов для чтения — 180—200 слов);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несплошные тексты (таблицы) и понимать представленную в них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письменная речь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исать короткие поздравления с праздниками; заполнять анкеты и формуляры,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ообщая о себе основные сведения, в соответствии с нормами, принятыми в стране/странах изучаемого языка; писать электронное сообщение личного характера, соблюдая речевой этикет, принятый в стране/странах изучаемого языка (объём сообщения — до 60 с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1T10:22:06Z</dcterms:modified>
  <cp:revision>979</cp:revision>
  <dc:subject/>
  <dc:title>Diapositiva 1</dc:title>
</cp:coreProperties>
</file>