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B9C2-CA1E-4F1A-B5C7-DD0CD7C0D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D7CF-75DF-4BBB-B232-24461565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5876-04CA-4C01-8260-D5446049A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0E2A-BC76-41D8-AF54-445599C1C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702A-BF84-4ECD-AF7D-A303B125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E4F5-7BB1-4D6B-A255-DBB2456C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CA78-ECDA-4F18-850D-1BD983DA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BA29-034B-4C01-8A9F-DEF3BAD7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B2F7-B055-48E2-B178-5CF4D2BB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9CB0-AD04-45C8-81D7-71887E1F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4036-3527-4CF0-9867-43B188C6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3FAA-62B9-4069-8B23-561C0AD2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C7C2-74CD-47D3-8F6C-0CBF5DEECA4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7993080" cy="603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7 августа 2021г.                                    </a:t>
            </a:r>
            <a:br>
              <a:rPr sz="2400"/>
            </a:br>
            <a:r>
              <a:rPr b="1" i="1" lang="ru-RU" sz="2400" spc="-1" strike="noStrike">
                <a:solidFill>
                  <a:srgbClr val="374c81"/>
                </a:solidFill>
                <a:latin typeface="Arial"/>
                <a:ea typeface="바탕"/>
              </a:rPr>
              <a:t>Региональный вебинар </a:t>
            </a:r>
            <a:br>
              <a:rPr sz="2400"/>
            </a:br>
            <a:r>
              <a:rPr b="1" i="1" lang="ru-RU" sz="2400" spc="-1" strike="noStrike">
                <a:solidFill>
                  <a:srgbClr val="374c81"/>
                </a:solidFill>
                <a:latin typeface="Arial"/>
                <a:ea typeface="바탕"/>
              </a:rPr>
              <a:t>учителей английского языка </a:t>
            </a:r>
            <a:br>
              <a:rPr sz="2400"/>
            </a:br>
            <a:r>
              <a:rPr b="1" i="1" lang="ru-RU" sz="2400" spc="-1" strike="noStrike">
                <a:solidFill>
                  <a:srgbClr val="374c81"/>
                </a:solidFill>
                <a:latin typeface="Arial"/>
                <a:ea typeface="바탕"/>
              </a:rPr>
              <a:t>образовательных учреждений г. Перми </a:t>
            </a:r>
            <a:br>
              <a:rPr sz="2400"/>
            </a:br>
            <a:r>
              <a:rPr b="1" i="1" lang="ru-RU" sz="2400" spc="-1" strike="noStrike">
                <a:solidFill>
                  <a:srgbClr val="374c81"/>
                </a:solidFill>
                <a:latin typeface="Arial"/>
                <a:ea typeface="바탕"/>
              </a:rPr>
              <a:t>и Пермского края</a:t>
            </a: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Повышение  профессиональной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грамотности учителя иностранного языка: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проблемы и решения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1400" spc="-1" strike="noStrike">
                <a:solidFill>
                  <a:srgbClr val="374c81"/>
                </a:solidFill>
                <a:latin typeface="Arial"/>
              </a:rPr>
              <a:t>Тихомирова О.А., снс  отдела научно-методического сопровождения общего образования ЦНППМПР ГАУ ДПО ИРО ПК   </a:t>
            </a:r>
            <a:r>
              <a:rPr b="1" lang="en-US" sz="1400" spc="-1" strike="noStrike">
                <a:solidFill>
                  <a:srgbClr val="374c81"/>
                </a:solidFill>
                <a:latin typeface="Arial"/>
              </a:rPr>
              <a:t>e-mail</a:t>
            </a:r>
            <a:r>
              <a:rPr b="1" lang="ru-RU" sz="1400" spc="-1" strike="noStrike">
                <a:solidFill>
                  <a:srgbClr val="374c81"/>
                </a:solidFill>
                <a:latin typeface="Arial"/>
              </a:rPr>
              <a:t>:</a:t>
            </a:r>
            <a:r>
              <a:rPr b="1" lang="en-US" sz="1400" spc="-1" strike="noStrike">
                <a:solidFill>
                  <a:srgbClr val="374c81"/>
                </a:solidFill>
                <a:latin typeface="Arial"/>
              </a:rPr>
              <a:t>oat_poipkro@mail.ru</a:t>
            </a:r>
            <a:br>
              <a:rPr sz="1800"/>
            </a:br>
            <a:br>
              <a:rPr sz="2400"/>
            </a:br>
            <a:br>
              <a:rPr sz="2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2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144468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Предметные результаты обучения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413000"/>
            <a:ext cx="800244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63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	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владеть </a:t>
            </a:r>
            <a:r>
              <a:rPr b="1" lang="ru-RU" sz="2000" spc="-1" strike="noStrike">
                <a:solidFill>
                  <a:srgbClr val="ff0000"/>
                </a:solidFill>
                <a:latin typeface="Cambria"/>
                <a:ea typeface="Times New Roman"/>
              </a:rPr>
              <a:t>фонетическими навыками</a:t>
            </a:r>
            <a:r>
              <a:rPr b="1" lang="ru-RU" sz="2000" spc="-1" strike="noStrike">
                <a:solidFill>
                  <a:srgbClr val="231f20"/>
                </a:solidFill>
                <a:latin typeface="Cambria"/>
                <a:ea typeface="Times New Roman"/>
              </a:rPr>
              <a:t>: 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различать на слух и адекватно,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без ошибок, ведущих к сбою коммуникации, 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произносить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слова с правильным ударением и фразы с соблюдением их ритмико-интонационных особенностей, в том числе 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применять правила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отсутствия фразового ударения на служебных слова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63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выразительно читать вслух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небольшие адаптированные аутентичные тексты объёмом до 90 слов, построенные на изученном языковом материале, с соблюдением правил чтения и соответствующей интонацией, демонстрируя понимание содержания текста; читать новые слова согласно основным правилам чт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31f20"/>
              </a:buClr>
              <a:buFont typeface="Times New Roman"/>
              <a:buChar char="•"/>
              <a:tabLst>
                <a:tab algn="l" pos="63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Ключевые задачи учителя в 20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1.Развитие функциональной грамотности школьников, повышение читательской активности учащихся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2.Ориентация на компетентностный подход в  содержа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3.В основе обучения- коммуникативно-когнитивный метод, направленный на развитие ведущих компетенций: навык критического мышления, сотрудничество в обучении, цифровая грамотность, рефлексия, автономия в обучении, умение проявлять личную инициативу</a:t>
            </a:r>
            <a:r>
              <a:rPr b="0" lang="ru-RU" sz="28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Основные результаты ЕГЭ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341360"/>
          <a:ext cx="8229600" cy="2378160"/>
        </p:xfrm>
        <a:graphic>
          <a:graphicData uri="http://schemas.openxmlformats.org/drawingml/2006/table">
            <a:tbl>
              <a:tblPr/>
              <a:tblGrid>
                <a:gridCol w="1176480"/>
                <a:gridCol w="993600"/>
                <a:gridCol w="1224000"/>
                <a:gridCol w="1308240"/>
                <a:gridCol w="1176120"/>
                <a:gridCol w="1174680"/>
                <a:gridCol w="117648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м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ий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стобалль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не сдавш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глий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6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4c81"/>
                </a:solidFill>
                <a:latin typeface="Arial"/>
              </a:rPr>
              <a:t>Из выступления Президента России В. В. Путина  на президиуме Госсовета РФ по вопросам образования 25.08.202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"/>
          <p:cNvSpPr/>
          <p:nvPr/>
        </p:nvSpPr>
        <p:spPr>
          <a:xfrm>
            <a:off x="611280" y="1550880"/>
            <a:ext cx="7632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1400" spc="-1" strike="noStrike">
                <a:solidFill>
                  <a:srgbClr val="555555"/>
                </a:solidFill>
                <a:latin typeface="roboto_ltregular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ейшая, ключевая тема – это качество образования. Наша цель – обеспечить его высокий уровень во всех школах. Не только потому, что мы стремимся войти в число каких-то там ведущих стран мира по качеству общего образования, какие-то там «десятки», «пятёрки» и так далее. Дело совершенно не в это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Главное – дать нашим детям фундаментальные знания по ключевым предметам и научить применять их в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вать условия для раскрытия их способностей, чтобы они как можно раньше определились с будущей професси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чь тем детям, которые по разным причинам испытывают трудности с обучением: это могут быть проблемы психологического характера, большой учебной нагрузки, сложной жизненной ситуации в семь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"/>
              </a:rPr>
              <a:t>План вебин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Ключевые  события  и итоги 2020-2021 учебного года. Новые направления работы в  поддержке профессионального развития педагогов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ихомирова О.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нс ГАУ ДПО ИРО 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Особенности новой модели ЕГЭ по английскому языку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релина Н.Н., учитель английского языка высшей категории МАОУ «СОШ №50 с углубленным изучением английского языка» г. Перми, руководитель методического объединения учителей английского языка г. Перми, эксперт ЕГЭ, член конфликтной комиссии ЕГ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Ключевые  события  2020-2021 учебного год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765000"/>
            <a:ext cx="80755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июле 2020г. создан и начал функционирование краевой Центр непрерывного повышения профессионального мастерства педагогических работни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ль - обеспечение условий для непрерывного </a:t>
            </a: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персонифицированного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ения профессионального мастерства педагогов и руководящего состава образовательных учреждений Пермского края. ( адрес: ул. Бородинская,35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дущее направление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Сопровождение школ с низкими образовательными результат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В 2021 году Пермский край включился в реализацию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федерального проект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500+», цель которого – повышение качества образования в образовательных организациях с низкими образовательными результатами обучающихся путем реализации для каждой такой образовательной организации комплекса мер поддержки, разработанного с учетом результатов предварительной комплексной диагностики по этой образовательной организации. (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61 О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На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региональном уро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н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ализуется проект «Образовательный лифт:ШНОР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irce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irce"/>
              </a:rPr>
              <a:t>Цель проекта: организация процесса научно-методического, организационно-методического, информационного сопровождения сетевых предметных групп учителей из школ с низкими образовательными результатами в аспекте освоения ими эффективных форм и методов организации </a:t>
            </a:r>
            <a:r>
              <a:rPr b="0" lang="ru-RU" sz="1600" spc="-1" strike="noStrike">
                <a:solidFill>
                  <a:srgbClr val="ff0000"/>
                </a:solidFill>
                <a:latin typeface="Circe"/>
              </a:rPr>
              <a:t>предметного</a:t>
            </a:r>
            <a:r>
              <a:rPr b="0" lang="ru-RU" sz="1600" spc="-1" strike="noStrike">
                <a:solidFill>
                  <a:srgbClr val="000000"/>
                </a:solidFill>
                <a:latin typeface="Circe"/>
              </a:rPr>
              <a:t> обучения, направленного на повышение уровня образовательных результатов школьников, наполнение и представление педагогическому сообществу Пермского края виртуального банка учебно-методических разработок в рамках Мероприятия.  В группу учителей английского языка вошли </a:t>
            </a:r>
            <a:r>
              <a:rPr b="0" lang="ru-RU" sz="1600" spc="-1" strike="noStrike">
                <a:solidFill>
                  <a:srgbClr val="ff0000"/>
                </a:solidFill>
                <a:latin typeface="Circe"/>
              </a:rPr>
              <a:t>42 </a:t>
            </a:r>
            <a:r>
              <a:rPr b="0" lang="ru-RU" sz="1600" spc="-1" strike="noStrike">
                <a:solidFill>
                  <a:srgbClr val="000000"/>
                </a:solidFill>
                <a:latin typeface="Circe"/>
              </a:rPr>
              <a:t>педагога из </a:t>
            </a:r>
            <a:r>
              <a:rPr b="0" lang="ru-RU" sz="1600" spc="-1" strike="noStrike">
                <a:solidFill>
                  <a:srgbClr val="ff0000"/>
                </a:solidFill>
                <a:latin typeface="Circe"/>
              </a:rPr>
              <a:t>18 </a:t>
            </a:r>
            <a:r>
              <a:rPr b="0" lang="ru-RU" sz="1600" spc="-1" strike="noStrike">
                <a:solidFill>
                  <a:srgbClr val="000000"/>
                </a:solidFill>
                <a:latin typeface="Circe"/>
              </a:rPr>
              <a:t>муниципалите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Ключевые  события  2020-2021 учебного год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4000" y="549360"/>
            <a:ext cx="8362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а муниципальном уровн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организация   повышения квалификации учителей  через предметно-методическую диагностику(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750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дагогов, в том числе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40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ей английского языка из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15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ниципалитетов Пермского кра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Участие педагогов г. Перми и края в пополнении дидактическими материалами библиотеки краевой платформы ЭПОС.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7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чителей английского языка из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17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ниципалитетов края и города Перми представили около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2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азличных дидактических материалов на все уровни образования. Особенно следует отметить за активное  участие в этой работе учителей английского языка из  г. Соликамск, г. Кунгур, г. Пермь (школы 25,7,133,122,гимназия 10, школа 50 и многие други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303030"/>
                </a:solidFill>
                <a:latin typeface="Arial"/>
                <a:ea typeface="Calibri"/>
              </a:rPr>
              <a:t>Реформирование системы образования РФ продолжается, и в 2021 году учителей ждет совершенно новая форма аттестации и повышения квалификации в рамках проекта НСУР (Национальная система учительского рост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Утверждены приказами Министерства Просвещения РФ №№ 286,287 от 31 мая 2021 г.  ФГОС начального и основного общего образования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течение 2021-2022 учебного года важно изучить содержание данных документов, обсудить необходимые изменения в профессиональной деятельности на школьных МО, региональных РУМО. Для освоения содержания новых ФГОС будут предложены курсы повышения квалификации, методические вебинары/семинары и другие образовательные меропри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вые стандарты будут обязательны к реализации в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2022–2023 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бном год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Ключевые  события  2020-2021 учебного 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980640"/>
            <a:ext cx="7859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Разработаны и вышли в свет  для общественного обсуждения ( пока в статусе проекта) примерные рабочие программы для начальной и основной школы по предметам учебного плана. В содержание программы  входят следующие раздел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D:\РабочийСтол\Screenshot_1.png"/>
          <p:cNvPicPr/>
          <p:nvPr/>
        </p:nvPicPr>
        <p:blipFill>
          <a:blip r:embed="rId1"/>
          <a:stretch/>
        </p:blipFill>
        <p:spPr>
          <a:xfrm>
            <a:off x="900000" y="2060640"/>
            <a:ext cx="6624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Предметные результаты обучения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42920" algn="just">
              <a:lnSpc>
                <a:spcPct val="105000"/>
              </a:lnSpc>
              <a:spcBef>
                <a:spcPts val="51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  <a:ea typeface="Times New Roman"/>
              </a:rPr>
              <a:t>говорение:</a:t>
            </a:r>
            <a:r>
              <a:rPr b="1" lang="ru-RU" sz="2000" spc="-1" strike="noStrike">
                <a:solidFill>
                  <a:srgbClr val="231f20"/>
                </a:solidFill>
                <a:latin typeface="Cambria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вести разные виды диалогов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(диалог этикетного характера, диалог — побуждение к действию, диалог-расспрос) в рамках тематического содержания речи в стандартных ситуациях неофициального общения, с вербальными и/или зрительными опорами, с соблюдением норм речевого этикета, принятого в стране/странах изучаемого языка (до 5 реплик со стороны каждого собеседник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280" indent="142920" algn="just">
              <a:lnSpc>
                <a:spcPct val="105000"/>
              </a:lnSpc>
              <a:spcBef>
                <a:spcPts val="26"/>
              </a:spcBef>
              <a:buClr>
                <a:srgbClr val="231f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создавать разные виды монологических высказываний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(описание, в том числе характеристика; повествование/сообщение) с вербальными и/или зрительными опорами в рамках тематического содержания речи (объём монологического высказывания — 5—6 фраз); 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излагать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основное содержание прочитанного текста с вербальными и/или зрительными опорами (объём — 5—6 фраз);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тко 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лагать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 выполненной проектной работы (объём — до 6 фраз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280" indent="1429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Предметные результаты обучения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42920" algn="just">
              <a:lnSpc>
                <a:spcPct val="105000"/>
              </a:lnSpc>
              <a:spcBef>
                <a:spcPts val="26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  <a:ea typeface="Times New Roman"/>
              </a:rPr>
              <a:t>аудирование:</a:t>
            </a:r>
            <a:r>
              <a:rPr b="0" i="1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 воспринимать на слух и понимать несложные адаптированные аутентичные текс</a:t>
            </a:r>
            <a:r>
              <a:rPr b="0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ты, содержащие отдельные незнакомые слова</a:t>
            </a:r>
            <a:r>
              <a:rPr b="0" i="1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,</a:t>
            </a:r>
            <a:r>
              <a:rPr b="0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 со зрительными опорами или без опоры с разной глубиной проникновения в их содержание в зависимости от поставленной коммуникативной задачи: с пониманием основного содержания, с пониманием запрашиваемой информации (время звучания текста/текстов для аудирования —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 1 минуты</a:t>
            </a:r>
            <a:r>
              <a:rPr b="0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280" indent="142920" algn="just">
              <a:lnSpc>
                <a:spcPct val="105000"/>
              </a:lnSpc>
              <a:spcBef>
                <a:spcPts val="601"/>
              </a:spcBef>
              <a:buClr>
                <a:srgbClr val="231f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Предметные результаты обучения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42920" algn="just">
              <a:lnSpc>
                <a:spcPct val="105000"/>
              </a:lnSpc>
              <a:spcBef>
                <a:spcPts val="11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  <a:ea typeface="Times New Roman"/>
              </a:rPr>
              <a:t>смысловое чтение</a:t>
            </a:r>
            <a:r>
              <a:rPr b="1" lang="ru-RU" sz="2400" spc="-1" strike="noStrike">
                <a:solidFill>
                  <a:srgbClr val="231f20"/>
                </a:solidFill>
                <a:latin typeface="Cambria"/>
                <a:ea typeface="Times New Roman"/>
              </a:rPr>
              <a:t>: </a:t>
            </a:r>
            <a:r>
              <a:rPr b="0" i="1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читать про себя и понимать несложные адаптированные аутентичные тексты,</a:t>
            </a:r>
            <a:r>
              <a:rPr b="0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 содержащие отдельные незнакомые слова, с различной глубиной проникновения в их содержание в зависимости от поставленной коммуникативной задачи: с пониманием основного содержания, с пониманием запрашиваемой информации (объём текста/текстов для чтения — 180—200 слов); </a:t>
            </a:r>
            <a:r>
              <a:rPr b="0" i="1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читать про себя несплошные тексты (таблицы) и понимать представленную в них информац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280" indent="142920">
              <a:lnSpc>
                <a:spcPct val="100000"/>
              </a:lnSpc>
              <a:spcBef>
                <a:spcPts val="601"/>
              </a:spcBef>
              <a:buClr>
                <a:srgbClr val="231f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Предметные результаты обучения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42920" algn="just">
              <a:lnSpc>
                <a:spcPct val="105000"/>
              </a:lnSpc>
              <a:spcBef>
                <a:spcPts val="11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  <a:ea typeface="Times New Roman"/>
              </a:rPr>
              <a:t>письменная речь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: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писать короткие поздравления с праздниками; заполнять анкеты и формуляры,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сообщая о себе основные сведения, в соответствии с нормами, принятыми в стране/странах изучаемого языка; писать электронное сообщение личного характера, соблюдая речевой этикет, принятый в стране/странах изучаемого языка (объём сообщения — до 60 сло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280" indent="142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Tihomirova-OA</cp:lastModifiedBy>
  <dcterms:modified xsi:type="dcterms:W3CDTF">2021-09-01T10:22:06Z</dcterms:modified>
  <cp:revision>979</cp:revision>
  <dc:subject/>
  <dc:title>Diapositiva 1</dc:title>
</cp:coreProperties>
</file>