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9233-D568-4EAF-970D-2D09047B7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31D6-173E-4C84-A045-7EB67190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78EB-3E40-446A-A625-652093C5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6001-D4A6-46E3-AB85-CFA9804F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3ED7-3E60-4796-BD24-2CA13D0B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B097-6559-474B-AE70-EFB94184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899B-6515-4B1B-9B30-18E61646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ACD2-2558-46C2-ACFE-F10D4783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1B86-7097-40D6-975D-683336BB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7D76-58D8-4F57-9C8D-EFA14F55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41A-27D2-415D-9604-D6ACD2E0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4E63-9D1E-4531-BC98-624DDD2E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AEEB-2DE0-44D6-8FAA-D8E2DED5E7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57644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 Light"/>
              </a:rPr>
              <a:t>Система поддержки школ,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ющие статус ШНОР 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обрянском городском округе</a:t>
            </a:r>
            <a:r>
              <a:rPr b="1" lang="ru-RU" sz="40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520" y="4452480"/>
            <a:ext cx="1036332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Муниципальный куратор  проекта 500+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Зорина Искра Викторовна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, и.о.начальника управления образования администрации Добрянского городского округ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Куратор шк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Калашникова Елена Анатольевна,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директор МБУ ДПО «Информационно-методический центр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82600" y="55440"/>
            <a:ext cx="1241280" cy="18828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" descr=""/>
          <p:cNvPicPr/>
          <p:nvPr/>
        </p:nvPicPr>
        <p:blipFill>
          <a:blip r:embed="rId2"/>
          <a:stretch/>
        </p:blipFill>
        <p:spPr>
          <a:xfrm>
            <a:off x="9199440" y="177840"/>
            <a:ext cx="29368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3"/>
          <p:cNvSpPr/>
          <p:nvPr/>
        </p:nvSpPr>
        <p:spPr>
          <a:xfrm>
            <a:off x="1900080" y="85680"/>
            <a:ext cx="87854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С ЧЕГО ВСЁ НАЧИНАЛО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47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0"/>
          <p:cNvSpPr/>
          <p:nvPr/>
        </p:nvSpPr>
        <p:spPr>
          <a:xfrm>
            <a:off x="166680" y="2457360"/>
            <a:ext cx="3208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Член группы - ответственный за реализацию подпрограммы в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Адаптация  показателей подпрограммы для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Разработка и внесение изменений в дорожную карту подпрограммы «Поддержка школ со ШНОР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Прохождение  муниципального мониторин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Участие в собеседовании по итогам мониторинга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3781440" y="644400"/>
            <a:ext cx="8292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ыстраивание взаимодействия со школами, имеющими статус ШН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198360" y="112860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августа 2021г. Творческая группа по реализации подпрограммы ШН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 создание ВСУКО в 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трелка вправо 13"/>
          <p:cNvSpPr/>
          <p:nvPr/>
        </p:nvSpPr>
        <p:spPr>
          <a:xfrm>
            <a:off x="2906640" y="3848040"/>
            <a:ext cx="40500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бъект 2"/>
          <p:cNvSpPr/>
          <p:nvPr/>
        </p:nvSpPr>
        <p:spPr>
          <a:xfrm>
            <a:off x="3914640" y="1309680"/>
            <a:ext cx="7874280" cy="708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ahnschrift SemiLight"/>
              </a:rPr>
              <a:t>По результатам оценочных процедур качества образования 2021 года </a:t>
            </a:r>
            <a:r>
              <a:rPr b="0" lang="ru-RU" sz="1800" spc="-1" strike="noStrike">
                <a:solidFill>
                  <a:srgbClr val="ff0000"/>
                </a:solidFill>
                <a:latin typeface="Bahnschrift SemiLight"/>
              </a:rPr>
              <a:t>ШНОР 7 школ ДГО (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«+» динамика 5 ОО (50 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бъект 2"/>
          <p:cNvSpPr/>
          <p:nvPr/>
        </p:nvSpPr>
        <p:spPr>
          <a:xfrm>
            <a:off x="3514680" y="2116080"/>
            <a:ext cx="8290080" cy="12193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Комплексная разноуровневая модель системы поддержки школ с низкими образовательными результа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Ответственный за организацию работы со ШНО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ahnschrift SemiLight"/>
              </a:rPr>
              <a:t>Калашникова Е.А. – директор МБУ ДПО «ИМЦ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бъект 2"/>
          <p:cNvSpPr/>
          <p:nvPr/>
        </p:nvSpPr>
        <p:spPr>
          <a:xfrm>
            <a:off x="3492360" y="3524400"/>
            <a:ext cx="287676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tserrat bol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Федеральный уровень </a:t>
            </a:r>
            <a:r>
              <a:rPr b="1" lang="ru-RU" sz="1800" spc="-1" strike="noStrike">
                <a:solidFill>
                  <a:srgbClr val="ff0000"/>
                </a:solidFill>
                <a:latin typeface="Calibri Light"/>
              </a:rPr>
              <a:t>проект «500+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униципальный куратор: Зорина И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Куратор: Калашникова Е.А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ивьинская СОШ», МБОУ «Вильвенская СОШ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бъект 2"/>
          <p:cNvSpPr/>
          <p:nvPr/>
        </p:nvSpPr>
        <p:spPr>
          <a:xfrm>
            <a:off x="6369120" y="3524400"/>
            <a:ext cx="265752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Краевой уровен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«Образовательный лиф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ПСОШ № 1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3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922960" y="3524400"/>
            <a:ext cx="3151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Муниципальный уровень</a:t>
            </a: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муниципальная методическая служба МБУ ДПО «ИМЦ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2», 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ООШ № 1 «КШ»,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 МБОУ «ДСОШ № 5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Сенькинская </a:t>
            </a:r>
            <a:r>
              <a:rPr b="1" i="1" lang="ru-RU" sz="1800" spc="-1" strike="noStrike">
                <a:solidFill>
                  <a:srgbClr val="548235"/>
                </a:solidFill>
                <a:latin typeface="Bahnschrift SemiLight"/>
              </a:rPr>
              <a:t>СОШ» + </a:t>
            </a: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Перемская ООШ</a:t>
            </a: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»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МБОУ «ПСОШ № 3»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3"/>
          <p:cNvSpPr/>
          <p:nvPr/>
        </p:nvSpPr>
        <p:spPr>
          <a:xfrm>
            <a:off x="1900080" y="85680"/>
            <a:ext cx="939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2022год                           ПРОЕКТ «500+» - ЧТО СДЕЛ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63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0"/>
          <p:cNvSpPr/>
          <p:nvPr/>
        </p:nvSpPr>
        <p:spPr>
          <a:xfrm>
            <a:off x="0" y="1963800"/>
            <a:ext cx="4711680" cy="62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Информационное и методическое  сопровождение Прое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Формирование концептуальных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Командообразов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Формирование горизонталь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связей в образовательной организ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Calibri Light"/>
                <a:ea typeface="Calibri"/>
              </a:rPr>
              <a:t>Результат: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-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концептуальные документы размещены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ИС МЭД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работают 3 рабочие группы по внедрению педагогических технологий: «Формирующее оценивание»,  «Проектная деятельность», «Школьный клима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 получена внешняя оценка концептуальным документам</a:t>
            </a: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4786200" y="644400"/>
            <a:ext cx="727884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1. Сотрудничество с административной командо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1.встреча с административными командами по изучению методических материалов и верификация рисковых профи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3.просмотр и обсуждение вебинаров ФИОКО и ИРО П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4.обучение  руководителей проекта на КПК «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Управление профессиональным ростом педагогов школ как условие повышения качества образовательных результатов обучающихся»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2. Встречи с педагогическим коллективом школ: 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 20 очных встре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- обсуждение выявленных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групповая работа по отбору мер для минимизации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рабочей группы по разработке концептуальных документов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предварительное  изучение концепции и среднесрочной программы развития каждым педагог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ассмотрение и принятие концептуальных документов   на педагогическом совете (групповая работа по детальному рассмотрению структурных компонентов антирисковых программ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3-х рабочих групп для участия в методическом марафоне (ФИОК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- создание рабочей группы по проведению взаимоэкспертизы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398520" y="923760"/>
            <a:ext cx="406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равления работ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каз управления образования № 66 от 22.03.202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трелка вправо 13"/>
          <p:cNvSpPr/>
          <p:nvPr/>
        </p:nvSpPr>
        <p:spPr>
          <a:xfrm>
            <a:off x="4255920" y="1949400"/>
            <a:ext cx="46368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трелка вправо 12"/>
          <p:cNvSpPr/>
          <p:nvPr/>
        </p:nvSpPr>
        <p:spPr>
          <a:xfrm rot="10800000">
            <a:off x="4579560" y="4211640"/>
            <a:ext cx="27612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4"/>
          <p:cNvSpPr/>
          <p:nvPr/>
        </p:nvSpPr>
        <p:spPr>
          <a:xfrm>
            <a:off x="1339920" y="73080"/>
            <a:ext cx="10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Достижения и проблемы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75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81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4"/>
          <p:cNvSpPr/>
          <p:nvPr/>
        </p:nvSpPr>
        <p:spPr>
          <a:xfrm>
            <a:off x="3362400" y="174780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ринятие проблем школы и желание их решать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15"/>
          <p:cNvSpPr/>
          <p:nvPr/>
        </p:nvSpPr>
        <p:spPr>
          <a:xfrm>
            <a:off x="3556080" y="3216240"/>
            <a:ext cx="376704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ерестройка методической служб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16"/>
          <p:cNvSpPr/>
          <p:nvPr/>
        </p:nvSpPr>
        <p:spPr>
          <a:xfrm>
            <a:off x="3473280" y="4151160"/>
            <a:ext cx="38498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Участие всех педагогов в диагностике проф. дефици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17"/>
          <p:cNvSpPr/>
          <p:nvPr/>
        </p:nvSpPr>
        <p:spPr>
          <a:xfrm>
            <a:off x="3362400" y="503064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Реализация И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18"/>
          <p:cNvSpPr/>
          <p:nvPr/>
        </p:nvSpPr>
        <p:spPr>
          <a:xfrm>
            <a:off x="3473280" y="2490840"/>
            <a:ext cx="384984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ктивное участие в педагогическом марафон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0"/>
          <p:cNvSpPr/>
          <p:nvPr/>
        </p:nvSpPr>
        <p:spPr>
          <a:xfrm>
            <a:off x="7815240" y="1598760"/>
            <a:ext cx="42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2"/>
          <p:cNvSpPr/>
          <p:nvPr/>
        </p:nvSpPr>
        <p:spPr>
          <a:xfrm>
            <a:off x="7815240" y="3225960"/>
            <a:ext cx="39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естабильное настроение коллекти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4"/>
          <p:cNvSpPr/>
          <p:nvPr/>
        </p:nvSpPr>
        <p:spPr>
          <a:xfrm>
            <a:off x="7815240" y="503064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Дефицит педагогических кад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29"/>
          <p:cNvSpPr/>
          <p:nvPr/>
        </p:nvSpPr>
        <p:spPr>
          <a:xfrm>
            <a:off x="7908840" y="1663560"/>
            <a:ext cx="38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административной коман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0"/>
          <p:cNvSpPr/>
          <p:nvPr/>
        </p:nvSpPr>
        <p:spPr>
          <a:xfrm>
            <a:off x="7956720" y="2322360"/>
            <a:ext cx="37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руководителя проекта 500+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1"/>
          <p:cNvSpPr/>
          <p:nvPr/>
        </p:nvSpPr>
        <p:spPr>
          <a:xfrm>
            <a:off x="7969320" y="421488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груженность педаго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4"/>
          <p:cNvSpPr/>
          <p:nvPr/>
        </p:nvSpPr>
        <p:spPr>
          <a:xfrm>
            <a:off x="1339920" y="73080"/>
            <a:ext cx="105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раевой проект «Образовательный лифт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0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0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3403440" y="1862280"/>
            <a:ext cx="3961080" cy="16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едставители школ - участники региональных  сетевых групп педагогов-предметников  («русский язык», «математика», «обществознание», «биология», «физика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17"/>
          <p:cNvSpPr/>
          <p:nvPr/>
        </p:nvSpPr>
        <p:spPr>
          <a:xfrm>
            <a:off x="3444840" y="4222800"/>
            <a:ext cx="396072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уководители школьных предметных методических объедин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Овал 26"/>
          <p:cNvSpPr/>
          <p:nvPr/>
        </p:nvSpPr>
        <p:spPr>
          <a:xfrm>
            <a:off x="7550280" y="3665520"/>
            <a:ext cx="187200" cy="2113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Овал 27"/>
          <p:cNvSpPr/>
          <p:nvPr/>
        </p:nvSpPr>
        <p:spPr>
          <a:xfrm>
            <a:off x="7534440" y="47451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0"/>
          <p:cNvSpPr/>
          <p:nvPr/>
        </p:nvSpPr>
        <p:spPr>
          <a:xfrm>
            <a:off x="7758000" y="230652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1"/>
          <p:cNvSpPr/>
          <p:nvPr/>
        </p:nvSpPr>
        <p:spPr>
          <a:xfrm>
            <a:off x="7815240" y="2340000"/>
            <a:ext cx="41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2"/>
          <p:cNvSpPr/>
          <p:nvPr/>
        </p:nvSpPr>
        <p:spPr>
          <a:xfrm>
            <a:off x="7815240" y="3225960"/>
            <a:ext cx="38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эксперты (создание характеристики заданий и системы оцениван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3"/>
          <p:cNvSpPr/>
          <p:nvPr/>
        </p:nvSpPr>
        <p:spPr>
          <a:xfrm>
            <a:off x="7877160" y="4387680"/>
            <a:ext cx="37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создатели контента (Создание комплексных заданий в формате PISA)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трелка вправо 29"/>
          <p:cNvSpPr/>
          <p:nvPr/>
        </p:nvSpPr>
        <p:spPr>
          <a:xfrm rot="5400000">
            <a:off x="5102640" y="2937600"/>
            <a:ext cx="47772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0"/>
          <p:cNvSpPr/>
          <p:nvPr/>
        </p:nvSpPr>
        <p:spPr>
          <a:xfrm>
            <a:off x="7843680" y="158580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д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1"/>
          <p:cNvSpPr/>
          <p:nvPr/>
        </p:nvSpPr>
        <p:spPr>
          <a:xfrm>
            <a:off x="7824960" y="2403360"/>
            <a:ext cx="38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апробаторы (апробация заданий банка РЭШ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4"/>
          <p:cNvSpPr/>
          <p:nvPr/>
        </p:nvSpPr>
        <p:spPr>
          <a:xfrm>
            <a:off x="1339920" y="73080"/>
            <a:ext cx="10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етодическая служба Добрянского городского округа в действ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23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14"/>
          <p:cNvSpPr/>
          <p:nvPr/>
        </p:nvSpPr>
        <p:spPr>
          <a:xfrm>
            <a:off x="600120" y="5586480"/>
            <a:ext cx="3163680" cy="10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Создание на сайте МБУ ДПО «ИМЦ» кнопки «Горячая линия» для формирования заявок на методическую помощь» </a:t>
            </a:r>
            <a:r>
              <a:rPr b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https://imc.dobryanka-edu.r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15"/>
          <p:cNvSpPr/>
          <p:nvPr/>
        </p:nvSpPr>
        <p:spPr>
          <a:xfrm>
            <a:off x="3014640" y="2154240"/>
            <a:ext cx="4341960" cy="79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остоянно действующий семинар для  заместителей руководителей  по методической и воспитательной рабо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16"/>
          <p:cNvSpPr/>
          <p:nvPr/>
        </p:nvSpPr>
        <p:spPr>
          <a:xfrm>
            <a:off x="3056040" y="3081240"/>
            <a:ext cx="4282920" cy="7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рганизация процедуры аттестации педагогов  на территории Добрянского городского окру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17"/>
          <p:cNvSpPr/>
          <p:nvPr/>
        </p:nvSpPr>
        <p:spPr>
          <a:xfrm>
            <a:off x="3040200" y="3913200"/>
            <a:ext cx="4316400" cy="72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педагогических и руководящих кадр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18"/>
          <p:cNvSpPr/>
          <p:nvPr/>
        </p:nvSpPr>
        <p:spPr>
          <a:xfrm>
            <a:off x="3014640" y="1351080"/>
            <a:ext cx="4349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Организация деятельности и сопровождение профессионально-педагогических объединений (ПП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30"/>
          <p:cNvSpPr/>
          <p:nvPr/>
        </p:nvSpPr>
        <p:spPr>
          <a:xfrm>
            <a:off x="3040200" y="4740120"/>
            <a:ext cx="430848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33"/>
          <p:cNvSpPr/>
          <p:nvPr/>
        </p:nvSpPr>
        <p:spPr>
          <a:xfrm>
            <a:off x="7797960" y="1366920"/>
            <a:ext cx="4089240" cy="66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Деятельность муниципальной лаборатории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лаборатории «Наставниче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4"/>
          <p:cNvSpPr/>
          <p:nvPr/>
        </p:nvSpPr>
        <p:spPr>
          <a:xfrm>
            <a:off x="7826400" y="2128680"/>
            <a:ext cx="408636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молодых педагог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35"/>
          <p:cNvSpPr/>
          <p:nvPr/>
        </p:nvSpPr>
        <p:spPr>
          <a:xfrm>
            <a:off x="7839000" y="2973240"/>
            <a:ext cx="404820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бмен педагогическим опытом, в т.ч. методические конференции, форум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36"/>
          <p:cNvSpPr/>
          <p:nvPr/>
        </p:nvSpPr>
        <p:spPr>
          <a:xfrm>
            <a:off x="7870680" y="3863880"/>
            <a:ext cx="407052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Конкурсы профессионального мастерства для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мощь 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7"/>
          <p:cNvSpPr/>
          <p:nvPr/>
        </p:nvSpPr>
        <p:spPr>
          <a:xfrm>
            <a:off x="7883640" y="4703760"/>
            <a:ext cx="4052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ониторинг и экспертная деятель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8" descr=""/>
          <p:cNvPicPr/>
          <p:nvPr/>
        </p:nvPicPr>
        <p:blipFill>
          <a:blip r:embed="rId3"/>
          <a:stretch/>
        </p:blipFill>
        <p:spPr>
          <a:xfrm>
            <a:off x="0" y="4551480"/>
            <a:ext cx="2479680" cy="101124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9"/>
          <p:cNvSpPr/>
          <p:nvPr/>
        </p:nvSpPr>
        <p:spPr>
          <a:xfrm>
            <a:off x="3887640" y="62769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ttps://imc.dobryanka-edu.ru/upload/versions/20660/22256/Godovoj_plan_IMC.pdf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4"/>
          <p:cNvSpPr/>
          <p:nvPr/>
        </p:nvSpPr>
        <p:spPr>
          <a:xfrm>
            <a:off x="930240" y="73080"/>
            <a:ext cx="111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ЛАН 2023 г. Комплексный план по обеспечению пед.кадрами ОО Д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5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Овал 8"/>
          <p:cNvSpPr/>
          <p:nvPr/>
        </p:nvSpPr>
        <p:spPr>
          <a:xfrm>
            <a:off x="469800" y="338040"/>
            <a:ext cx="89244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9" descr=""/>
          <p:cNvPicPr/>
          <p:nvPr/>
        </p:nvPicPr>
        <p:blipFill>
          <a:blip r:embed="rId1"/>
          <a:stretch/>
        </p:blipFill>
        <p:spPr>
          <a:xfrm>
            <a:off x="469800" y="539640"/>
            <a:ext cx="665280" cy="4669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14"/>
          <p:cNvSpPr/>
          <p:nvPr/>
        </p:nvSpPr>
        <p:spPr>
          <a:xfrm>
            <a:off x="3164040" y="1747800"/>
            <a:ext cx="415908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ыделено всего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15"/>
          <p:cNvSpPr/>
          <p:nvPr/>
        </p:nvSpPr>
        <p:spPr>
          <a:xfrm>
            <a:off x="3130560" y="3216240"/>
            <a:ext cx="419256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конкурсов для молодых педагог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16"/>
          <p:cNvSpPr/>
          <p:nvPr/>
        </p:nvSpPr>
        <p:spPr>
          <a:xfrm>
            <a:off x="3097080" y="3995640"/>
            <a:ext cx="4251600" cy="75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ривлечение преподавателей для устранения профессиональных дефицитов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3114720" y="5030640"/>
            <a:ext cx="420840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ереподготовка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3146400" y="2306520"/>
            <a:ext cx="4192560" cy="77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рганизация подвоза педагогов и учащихся на образовательные мероприя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ая соединительная линия 20"/>
          <p:cNvSpPr/>
          <p:nvPr/>
        </p:nvSpPr>
        <p:spPr>
          <a:xfrm>
            <a:off x="7628040" y="1741320"/>
            <a:ext cx="0" cy="484848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0"/>
          <p:cNvSpPr/>
          <p:nvPr/>
        </p:nvSpPr>
        <p:spPr>
          <a:xfrm>
            <a:off x="7815240" y="180504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 142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1"/>
          <p:cNvSpPr/>
          <p:nvPr/>
        </p:nvSpPr>
        <p:spPr>
          <a:xfrm>
            <a:off x="7815240" y="254808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6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32"/>
          <p:cNvSpPr/>
          <p:nvPr/>
        </p:nvSpPr>
        <p:spPr>
          <a:xfrm>
            <a:off x="7815240" y="3225960"/>
            <a:ext cx="37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3"/>
          <p:cNvSpPr/>
          <p:nvPr/>
        </p:nvSpPr>
        <p:spPr>
          <a:xfrm>
            <a:off x="7967520" y="322596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75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4"/>
          <p:cNvSpPr/>
          <p:nvPr/>
        </p:nvSpPr>
        <p:spPr>
          <a:xfrm>
            <a:off x="7940520" y="4997520"/>
            <a:ext cx="35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8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3"/>
          <p:cNvSpPr/>
          <p:nvPr/>
        </p:nvSpPr>
        <p:spPr>
          <a:xfrm>
            <a:off x="7978680" y="407052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21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34"/>
          <p:cNvSpPr/>
          <p:nvPr/>
        </p:nvSpPr>
        <p:spPr>
          <a:xfrm>
            <a:off x="3097080" y="5635800"/>
            <a:ext cx="42307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 системы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Овал 36"/>
          <p:cNvSpPr/>
          <p:nvPr/>
        </p:nvSpPr>
        <p:spPr>
          <a:xfrm>
            <a:off x="7547040" y="570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34"/>
          <p:cNvSpPr/>
          <p:nvPr/>
        </p:nvSpPr>
        <p:spPr>
          <a:xfrm>
            <a:off x="7986600" y="5668920"/>
            <a:ext cx="35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21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38"/>
          <p:cNvSpPr/>
          <p:nvPr/>
        </p:nvSpPr>
        <p:spPr>
          <a:xfrm>
            <a:off x="3060720" y="6183360"/>
            <a:ext cx="42289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тажировка лучших команд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39"/>
          <p:cNvSpPr/>
          <p:nvPr/>
        </p:nvSpPr>
        <p:spPr>
          <a:xfrm>
            <a:off x="7997040" y="622476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500 тыс. ру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Овал 41"/>
          <p:cNvSpPr/>
          <p:nvPr/>
        </p:nvSpPr>
        <p:spPr>
          <a:xfrm>
            <a:off x="7534440" y="62895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4908600" y="1212840"/>
            <a:ext cx="45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irce Bold"/>
              </a:rPr>
              <a:t>СПАСИБО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4884840" y="2705040"/>
            <a:ext cx="458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Зорина Искра Викторовн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uao@dobryanka.permkrai.ru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Калашникова Елена Анатольевна,  </a:t>
            </a:r>
            <a:r>
              <a:rPr b="1" lang="en-US" sz="1800" spc="-1" strike="noStrike">
                <a:solidFill>
                  <a:srgbClr val="002060"/>
                </a:solidFill>
                <a:latin typeface="Circe Bold"/>
              </a:rPr>
              <a:t>lenak200835@mail.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6" descr="C:\Users\саша\Desktop\image_1617787612.jpg"/>
          <p:cNvPicPr/>
          <p:nvPr/>
        </p:nvPicPr>
        <p:blipFill>
          <a:blip r:embed="rId1"/>
          <a:stretch/>
        </p:blipFill>
        <p:spPr>
          <a:xfrm>
            <a:off x="9726480" y="3386160"/>
            <a:ext cx="2044800" cy="289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4" name="Рисунок 2" descr=""/>
          <p:cNvPicPr/>
          <p:nvPr/>
        </p:nvPicPr>
        <p:blipFill>
          <a:blip r:embed="rId2"/>
          <a:stretch/>
        </p:blipFill>
        <p:spPr>
          <a:xfrm>
            <a:off x="438120" y="1179360"/>
            <a:ext cx="4008600" cy="215424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" descr=""/>
          <p:cNvPicPr/>
          <p:nvPr/>
        </p:nvPicPr>
        <p:blipFill>
          <a:blip r:embed="rId3"/>
          <a:stretch/>
        </p:blipFill>
        <p:spPr>
          <a:xfrm>
            <a:off x="468360" y="3592440"/>
            <a:ext cx="3989520" cy="224640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10" descr=""/>
          <p:cNvPicPr/>
          <p:nvPr/>
        </p:nvPicPr>
        <p:blipFill>
          <a:blip r:embed="rId4"/>
          <a:stretch/>
        </p:blipFill>
        <p:spPr>
          <a:xfrm>
            <a:off x="5102280" y="1762200"/>
            <a:ext cx="2878200" cy="58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G:\краевая конференция 29.11.2022\IMG_20221116_092706.jpg"/>
          <p:cNvPicPr/>
          <p:nvPr/>
        </p:nvPicPr>
        <p:blipFill>
          <a:blip r:embed="rId5"/>
          <a:stretch/>
        </p:blipFill>
        <p:spPr>
          <a:xfrm>
            <a:off x="9715680" y="279360"/>
            <a:ext cx="19396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4T18:42:32Z</dcterms:created>
  <dc:creator>maltv70</dc:creator>
  <dc:description/>
  <dc:language>en-US</dc:language>
  <cp:lastModifiedBy>саша</cp:lastModifiedBy>
  <cp:lastPrinted>2022-04-14T04:05:19Z</cp:lastPrinted>
  <dcterms:modified xsi:type="dcterms:W3CDTF">2022-11-28T19:24:02Z</dcterms:modified>
  <cp:revision>81</cp:revision>
  <dc:subject/>
  <dc:title>Школы, которым можно доверять</dc:title>
</cp:coreProperties>
</file>