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B847-9783-437E-B288-CF7423832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ED52-0A5F-4894-B969-B1EC99B5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5A5D-2E7A-4695-9CC4-77EBB574D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29BB-F4CF-4F3A-8F0A-8C8D1C44E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6B33-3AB1-45B6-9DAF-3B03DFDA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2CF4-CD75-404D-939C-86F57CE6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EB10-39BC-436E-99CA-3D79C89A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53F9-A835-49A3-8534-5D55E1F4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BE56-72DB-4B54-AC6E-C406F4AD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370E-FE29-48AB-82CE-A821C326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B9D4-47C6-4CD9-9139-5E86FCB0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C6BF-7800-4058-AEB0-28D5BAC2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F4A8-3E86-4F8A-B1A7-5B60DDA457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57644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 Light"/>
              </a:rPr>
              <a:t>Система поддержки школ,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меющие статус ШНОР 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Добрянском городском округе</a:t>
            </a:r>
            <a:r>
              <a:rPr b="1" lang="ru-RU" sz="4000" spc="-1" strike="noStrike">
                <a:solidFill>
                  <a:srgbClr val="002060"/>
                </a:solidFill>
                <a:latin typeface="Calibri Light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520" y="4452480"/>
            <a:ext cx="10363320" cy="20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Муниципальный куратор  проекта 500+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Зорина Искра Викторовна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, и.о.начальника управления образования администрации Добрянского городского округ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Куратор шко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Калашникова Елена Анатольевна, 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директор МБУ ДПО «Информационно-методический центр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82600" y="55440"/>
            <a:ext cx="1241280" cy="18828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3" descr=""/>
          <p:cNvPicPr/>
          <p:nvPr/>
        </p:nvPicPr>
        <p:blipFill>
          <a:blip r:embed="rId2"/>
          <a:stretch/>
        </p:blipFill>
        <p:spPr>
          <a:xfrm>
            <a:off x="9199440" y="177840"/>
            <a:ext cx="29368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3"/>
          <p:cNvSpPr/>
          <p:nvPr/>
        </p:nvSpPr>
        <p:spPr>
          <a:xfrm>
            <a:off x="1900080" y="85680"/>
            <a:ext cx="87854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С ЧЕГО ВСЁ НАЧИНАЛОС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Группа 4"/>
          <p:cNvGrpSpPr/>
          <p:nvPr/>
        </p:nvGrpSpPr>
        <p:grpSpPr>
          <a:xfrm>
            <a:off x="0" y="44280"/>
            <a:ext cx="12192120" cy="1105200"/>
            <a:chOff x="0" y="44280"/>
            <a:chExt cx="12192120" cy="1105200"/>
          </a:xfrm>
        </p:grpSpPr>
        <p:sp>
          <p:nvSpPr>
            <p:cNvPr id="47" name="Дуга 5"/>
            <p:cNvSpPr/>
            <p:nvPr/>
          </p:nvSpPr>
          <p:spPr>
            <a:xfrm rot="5400000">
              <a:off x="397440" y="44280"/>
              <a:ext cx="110520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Прямая соединительная линия 6"/>
            <p:cNvSpPr/>
            <p:nvPr/>
          </p:nvSpPr>
          <p:spPr>
            <a:xfrm>
              <a:off x="1503360" y="596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Прямая соединительная линия 7"/>
            <p:cNvSpPr/>
            <p:nvPr/>
          </p:nvSpPr>
          <p:spPr>
            <a:xfrm flipH="1">
              <a:off x="0" y="592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Овал 8"/>
          <p:cNvSpPr/>
          <p:nvPr/>
        </p:nvSpPr>
        <p:spPr>
          <a:xfrm>
            <a:off x="482760" y="165240"/>
            <a:ext cx="892080" cy="86976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9" descr=""/>
          <p:cNvPicPr/>
          <p:nvPr/>
        </p:nvPicPr>
        <p:blipFill>
          <a:blip r:embed="rId1"/>
          <a:stretch/>
        </p:blipFill>
        <p:spPr>
          <a:xfrm>
            <a:off x="646200" y="285840"/>
            <a:ext cx="576000" cy="6332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0"/>
          <p:cNvSpPr/>
          <p:nvPr/>
        </p:nvSpPr>
        <p:spPr>
          <a:xfrm>
            <a:off x="166680" y="2457360"/>
            <a:ext cx="3208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Член группы - ответственный за реализацию подпрограммы в О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Адаптация  показателей подпрограммы для О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Разработка и внесение изменений в дорожную карту подпрограммы «Поддержка школ со ШНОР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Прохождение  муниципального мониторин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Участие в собеседовании по итогам мониторинга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11"/>
          <p:cNvSpPr/>
          <p:nvPr/>
        </p:nvSpPr>
        <p:spPr>
          <a:xfrm>
            <a:off x="3781440" y="644400"/>
            <a:ext cx="8292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Выстраивание взаимодействия со школами, имеющими статус ШН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198360" y="1128600"/>
            <a:ext cx="373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августа 2021г. Творческая группа по реализации подпрограммы ШН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: создание ВСУКО в О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Стрелка вправо 13"/>
          <p:cNvSpPr/>
          <p:nvPr/>
        </p:nvSpPr>
        <p:spPr>
          <a:xfrm>
            <a:off x="2906640" y="3848040"/>
            <a:ext cx="405000" cy="1901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Объект 2"/>
          <p:cNvSpPr/>
          <p:nvPr/>
        </p:nvSpPr>
        <p:spPr>
          <a:xfrm>
            <a:off x="3914640" y="1309680"/>
            <a:ext cx="7874280" cy="708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ahnschrift SemiLight"/>
              </a:rPr>
              <a:t>По результатам оценочных процедур качества образования 2021 года </a:t>
            </a:r>
            <a:r>
              <a:rPr b="0" lang="ru-RU" sz="1800" spc="-1" strike="noStrike">
                <a:solidFill>
                  <a:srgbClr val="ff0000"/>
                </a:solidFill>
                <a:latin typeface="Bahnschrift SemiLight"/>
              </a:rPr>
              <a:t>ШНОР 7 школ ДГО (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«+» динамика 5 ОО (50 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Объект 2"/>
          <p:cNvSpPr/>
          <p:nvPr/>
        </p:nvSpPr>
        <p:spPr>
          <a:xfrm>
            <a:off x="3514680" y="2116080"/>
            <a:ext cx="8290080" cy="121932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ahnschrift SemiLight"/>
              </a:rPr>
              <a:t>Комплексная разноуровневая модель системы поддержки школ с низкими образовательными результат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ahnschrift SemiLight"/>
              </a:rPr>
              <a:t>Ответственный за организацию работы со ШНОР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Bahnschrift SemiLight"/>
              </a:rPr>
              <a:t>Калашникова Е.А. – директор МБУ ДПО «ИМЦ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бъект 2"/>
          <p:cNvSpPr/>
          <p:nvPr/>
        </p:nvSpPr>
        <p:spPr>
          <a:xfrm>
            <a:off x="3492360" y="3524400"/>
            <a:ext cx="287676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tserrat bold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Федеральный уровень </a:t>
            </a:r>
            <a:r>
              <a:rPr b="1" lang="ru-RU" sz="1800" spc="-1" strike="noStrike">
                <a:solidFill>
                  <a:srgbClr val="ff0000"/>
                </a:solidFill>
                <a:latin typeface="Calibri Light"/>
              </a:rPr>
              <a:t>проект «500+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униципальный куратор: Зорина И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Куратор: Калашникова Е.А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Участник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ивьинская СОШ», МБОУ «Вильвенская СОШ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Bahnschrift SemiLigh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Объект 2"/>
          <p:cNvSpPr/>
          <p:nvPr/>
        </p:nvSpPr>
        <p:spPr>
          <a:xfrm>
            <a:off x="6369120" y="3524400"/>
            <a:ext cx="2657520" cy="27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Краевой уровен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 Light"/>
              </a:rPr>
              <a:t>«Образовательный лиф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Участник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ПСОШ № 1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СОШ № 3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922960" y="3524400"/>
            <a:ext cx="3151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Муниципальный уровень</a:t>
            </a:r>
            <a:r>
              <a:rPr b="1" lang="ru-RU" sz="1800" spc="-1" strike="noStrike">
                <a:solidFill>
                  <a:srgbClr val="c00000"/>
                </a:solidFill>
                <a:latin typeface="Calibri Ligh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 Light"/>
              </a:rPr>
              <a:t>муниципальная методическая служба МБУ ДПО «ИМЦ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 Light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Участник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СОШ № 2», </a:t>
            </a:r>
            <a:r>
              <a:rPr b="1" i="1" lang="ru-RU" sz="1800" spc="-1" strike="noStrike">
                <a:solidFill>
                  <a:srgbClr val="ff0000"/>
                </a:solidFill>
                <a:latin typeface="Calibri Light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ООШ № 1 «КШ»,</a:t>
            </a:r>
            <a:r>
              <a:rPr b="1" i="1" lang="ru-RU" sz="1800" spc="-1" strike="noStrike">
                <a:solidFill>
                  <a:srgbClr val="ff0000"/>
                </a:solidFill>
                <a:latin typeface="Calibri Light"/>
              </a:rPr>
              <a:t>+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 МБОУ «ДСОШ № 5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48235"/>
                </a:solidFill>
                <a:latin typeface="Calibri Light"/>
              </a:rPr>
              <a:t>МБОУ «Сенькинская </a:t>
            </a:r>
            <a:r>
              <a:rPr b="1" i="1" lang="ru-RU" sz="1800" spc="-1" strike="noStrike">
                <a:solidFill>
                  <a:srgbClr val="548235"/>
                </a:solidFill>
                <a:latin typeface="Bahnschrift SemiLight"/>
              </a:rPr>
              <a:t>СОШ» + </a:t>
            </a:r>
            <a:r>
              <a:rPr b="1" i="1" lang="ru-RU" sz="1800" spc="-1" strike="noStrike">
                <a:solidFill>
                  <a:srgbClr val="548235"/>
                </a:solidFill>
                <a:latin typeface="Calibri Light"/>
              </a:rPr>
              <a:t>МБОУ «Перемская ООШ</a:t>
            </a:r>
            <a:r>
              <a:rPr b="1" lang="ru-RU" sz="1800" spc="-1" strike="noStrike">
                <a:solidFill>
                  <a:srgbClr val="548235"/>
                </a:solidFill>
                <a:latin typeface="Calibri Light"/>
              </a:rPr>
              <a:t>»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48235"/>
                </a:solidFill>
                <a:latin typeface="Calibri Light"/>
              </a:rPr>
              <a:t>МБОУ «ПСОШ № 3» 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ahnschrift SemiLigh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Заголовок 3"/>
          <p:cNvSpPr/>
          <p:nvPr/>
        </p:nvSpPr>
        <p:spPr>
          <a:xfrm>
            <a:off x="1900080" y="85680"/>
            <a:ext cx="939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2022год                           ПРОЕКТ «500+» - ЧТО СДЕЛА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Группа 4"/>
          <p:cNvGrpSpPr/>
          <p:nvPr/>
        </p:nvGrpSpPr>
        <p:grpSpPr>
          <a:xfrm>
            <a:off x="0" y="44280"/>
            <a:ext cx="12192120" cy="1105200"/>
            <a:chOff x="0" y="44280"/>
            <a:chExt cx="12192120" cy="1105200"/>
          </a:xfrm>
        </p:grpSpPr>
        <p:sp>
          <p:nvSpPr>
            <p:cNvPr id="63" name="Дуга 5"/>
            <p:cNvSpPr/>
            <p:nvPr/>
          </p:nvSpPr>
          <p:spPr>
            <a:xfrm rot="5400000">
              <a:off x="397440" y="44280"/>
              <a:ext cx="110520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Прямая соединительная линия 6"/>
            <p:cNvSpPr/>
            <p:nvPr/>
          </p:nvSpPr>
          <p:spPr>
            <a:xfrm>
              <a:off x="1503360" y="596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Прямая соединительная линия 7"/>
            <p:cNvSpPr/>
            <p:nvPr/>
          </p:nvSpPr>
          <p:spPr>
            <a:xfrm flipH="1">
              <a:off x="0" y="592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Овал 8"/>
          <p:cNvSpPr/>
          <p:nvPr/>
        </p:nvSpPr>
        <p:spPr>
          <a:xfrm>
            <a:off x="482760" y="165240"/>
            <a:ext cx="892080" cy="86976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9" descr=""/>
          <p:cNvPicPr/>
          <p:nvPr/>
        </p:nvPicPr>
        <p:blipFill>
          <a:blip r:embed="rId1"/>
          <a:stretch/>
        </p:blipFill>
        <p:spPr>
          <a:xfrm>
            <a:off x="646200" y="285840"/>
            <a:ext cx="576000" cy="6332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0"/>
          <p:cNvSpPr/>
          <p:nvPr/>
        </p:nvSpPr>
        <p:spPr>
          <a:xfrm>
            <a:off x="0" y="1963800"/>
            <a:ext cx="4711680" cy="62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</a:rPr>
              <a:t>Информационное и методическое  сопровождение Проек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</a:rPr>
              <a:t>Формирование концептуальных докумен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Командообразован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Формирование горизонтальн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связей в образовательной организ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Calibri Light"/>
                <a:ea typeface="Calibri"/>
              </a:rPr>
              <a:t>Результат: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Calibri"/>
              </a:rPr>
              <a:t>-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концептуальные документы размещены 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ИС МЭДК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-работают 3 рабочие группы по внедрению педагогических технологий: «Формирующее оценивание»,  «Проектная деятельность», «Школьный клима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- получена внешняя оценка концептуальным документам</a:t>
            </a: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11"/>
          <p:cNvSpPr/>
          <p:nvPr/>
        </p:nvSpPr>
        <p:spPr>
          <a:xfrm>
            <a:off x="4786200" y="644400"/>
            <a:ext cx="7278840" cy="62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  <a:ea typeface="Times New Roman"/>
              </a:rPr>
              <a:t>1. Сотрудничество с административной командо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1.1.встреча с административными командами по изучению методических материалов и верификация рисковых профи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1.3.просмотр и обсуждение вебинаров ФИОКО и ИРО ПК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1.4.обучение  руководителей проекта на КПК «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Управление профессиональным ростом педагогов школ как условие повышения качества образовательных результатов обучающихся»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  <a:ea typeface="Times New Roman"/>
              </a:rPr>
              <a:t>2. Встречи с педагогическим коллективом школ:  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Calibri"/>
                <a:ea typeface="Times New Roman"/>
              </a:rPr>
              <a:t> 20 очных встре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- обсуждение выявленных риск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групповая работа по отбору мер для минимизации риск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создание рабочей группы по разработке концептуальных документов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предварительное  изучение концепции и среднесрочной программы развития каждым педагог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рассмотрение и принятие концептуальных документов   на педагогическом совете (групповая работа по детальному рассмотрению структурных компонентов антирисковых программ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создание 3-х рабочих групп для участия в методическом марафоне (ФИОКО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- создание рабочей группы по проведению взаимоэкспертизы докумен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398520" y="923760"/>
            <a:ext cx="406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правления работы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иказ управления образования № 66 от 22.03.202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трелка вправо 13"/>
          <p:cNvSpPr/>
          <p:nvPr/>
        </p:nvSpPr>
        <p:spPr>
          <a:xfrm>
            <a:off x="4255920" y="1949400"/>
            <a:ext cx="463680" cy="2292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трелка вправо 12"/>
          <p:cNvSpPr/>
          <p:nvPr/>
        </p:nvSpPr>
        <p:spPr>
          <a:xfrm rot="10800000">
            <a:off x="4579560" y="4211640"/>
            <a:ext cx="276120" cy="2292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4"/>
          <p:cNvSpPr/>
          <p:nvPr/>
        </p:nvSpPr>
        <p:spPr>
          <a:xfrm>
            <a:off x="1339920" y="73080"/>
            <a:ext cx="105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Достижения и проблемы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75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" name="Овал 8"/>
          <p:cNvSpPr/>
          <p:nvPr/>
        </p:nvSpPr>
        <p:spPr>
          <a:xfrm>
            <a:off x="482760" y="271440"/>
            <a:ext cx="89208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9" descr=""/>
          <p:cNvPicPr/>
          <p:nvPr/>
        </p:nvPicPr>
        <p:blipFill>
          <a:blip r:embed="rId1"/>
          <a:stretch/>
        </p:blipFill>
        <p:spPr>
          <a:xfrm>
            <a:off x="525600" y="473040"/>
            <a:ext cx="664920" cy="4669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81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14"/>
          <p:cNvSpPr/>
          <p:nvPr/>
        </p:nvSpPr>
        <p:spPr>
          <a:xfrm>
            <a:off x="3362400" y="1747800"/>
            <a:ext cx="396072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ринятие проблем школы и желание их решать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15"/>
          <p:cNvSpPr/>
          <p:nvPr/>
        </p:nvSpPr>
        <p:spPr>
          <a:xfrm>
            <a:off x="3556080" y="3216240"/>
            <a:ext cx="3767040" cy="54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ерестройка методической служб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16"/>
          <p:cNvSpPr/>
          <p:nvPr/>
        </p:nvSpPr>
        <p:spPr>
          <a:xfrm>
            <a:off x="3473280" y="4151160"/>
            <a:ext cx="384984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Участие всех педагогов в диагностике проф. дефици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17"/>
          <p:cNvSpPr/>
          <p:nvPr/>
        </p:nvSpPr>
        <p:spPr>
          <a:xfrm>
            <a:off x="3362400" y="5030640"/>
            <a:ext cx="396072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Реализация И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18"/>
          <p:cNvSpPr/>
          <p:nvPr/>
        </p:nvSpPr>
        <p:spPr>
          <a:xfrm>
            <a:off x="3473280" y="2490840"/>
            <a:ext cx="384984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Активное участие в педагогическом марафон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ая соединительная линия 20"/>
          <p:cNvSpPr/>
          <p:nvPr/>
        </p:nvSpPr>
        <p:spPr>
          <a:xfrm>
            <a:off x="7628040" y="1741320"/>
            <a:ext cx="0" cy="372924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Овал 24"/>
          <p:cNvSpPr/>
          <p:nvPr/>
        </p:nvSpPr>
        <p:spPr>
          <a:xfrm>
            <a:off x="7534440" y="185436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Овал 26"/>
          <p:cNvSpPr/>
          <p:nvPr/>
        </p:nvSpPr>
        <p:spPr>
          <a:xfrm>
            <a:off x="7534440" y="339408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Овал 27"/>
          <p:cNvSpPr/>
          <p:nvPr/>
        </p:nvSpPr>
        <p:spPr>
          <a:xfrm>
            <a:off x="7534440" y="424188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Овал 28"/>
          <p:cNvSpPr/>
          <p:nvPr/>
        </p:nvSpPr>
        <p:spPr>
          <a:xfrm>
            <a:off x="7534440" y="507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0"/>
          <p:cNvSpPr/>
          <p:nvPr/>
        </p:nvSpPr>
        <p:spPr>
          <a:xfrm>
            <a:off x="7815240" y="1598760"/>
            <a:ext cx="421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2"/>
          <p:cNvSpPr/>
          <p:nvPr/>
        </p:nvSpPr>
        <p:spPr>
          <a:xfrm>
            <a:off x="7815240" y="3225960"/>
            <a:ext cx="39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Нестабильное настроение коллекти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34"/>
          <p:cNvSpPr/>
          <p:nvPr/>
        </p:nvSpPr>
        <p:spPr>
          <a:xfrm>
            <a:off x="7815240" y="503064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Дефицит педагогических кадр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29"/>
          <p:cNvSpPr/>
          <p:nvPr/>
        </p:nvSpPr>
        <p:spPr>
          <a:xfrm>
            <a:off x="7908840" y="1663560"/>
            <a:ext cx="38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мена административной коман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30"/>
          <p:cNvSpPr/>
          <p:nvPr/>
        </p:nvSpPr>
        <p:spPr>
          <a:xfrm>
            <a:off x="7956720" y="2322360"/>
            <a:ext cx="37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мена руководителя проекта 500+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31"/>
          <p:cNvSpPr/>
          <p:nvPr/>
        </p:nvSpPr>
        <p:spPr>
          <a:xfrm>
            <a:off x="7969320" y="4214880"/>
            <a:ext cx="32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Загруженность педагог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4"/>
          <p:cNvSpPr/>
          <p:nvPr/>
        </p:nvSpPr>
        <p:spPr>
          <a:xfrm>
            <a:off x="1339920" y="73080"/>
            <a:ext cx="105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Краевой проект «Образовательный лифт»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101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Овал 8"/>
          <p:cNvSpPr/>
          <p:nvPr/>
        </p:nvSpPr>
        <p:spPr>
          <a:xfrm>
            <a:off x="482760" y="271440"/>
            <a:ext cx="89208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9" descr=""/>
          <p:cNvPicPr/>
          <p:nvPr/>
        </p:nvPicPr>
        <p:blipFill>
          <a:blip r:embed="rId1"/>
          <a:stretch/>
        </p:blipFill>
        <p:spPr>
          <a:xfrm>
            <a:off x="525600" y="473040"/>
            <a:ext cx="664920" cy="4669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107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14"/>
          <p:cNvSpPr/>
          <p:nvPr/>
        </p:nvSpPr>
        <p:spPr>
          <a:xfrm>
            <a:off x="3403440" y="1862280"/>
            <a:ext cx="3961080" cy="166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редставители школ - участники региональных  сетевых групп педагогов-предметников  («русский язык», «математика», «обществознание», «биология», «физика»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17"/>
          <p:cNvSpPr/>
          <p:nvPr/>
        </p:nvSpPr>
        <p:spPr>
          <a:xfrm>
            <a:off x="3444840" y="4222800"/>
            <a:ext cx="3960720" cy="752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Руководители школьных предметных методических объедин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ая соединительная линия 20"/>
          <p:cNvSpPr/>
          <p:nvPr/>
        </p:nvSpPr>
        <p:spPr>
          <a:xfrm>
            <a:off x="7628040" y="1741320"/>
            <a:ext cx="0" cy="372924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Овал 26"/>
          <p:cNvSpPr/>
          <p:nvPr/>
        </p:nvSpPr>
        <p:spPr>
          <a:xfrm>
            <a:off x="7550280" y="3665520"/>
            <a:ext cx="187200" cy="2113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Овал 27"/>
          <p:cNvSpPr/>
          <p:nvPr/>
        </p:nvSpPr>
        <p:spPr>
          <a:xfrm>
            <a:off x="7534440" y="474516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30"/>
          <p:cNvSpPr/>
          <p:nvPr/>
        </p:nvSpPr>
        <p:spPr>
          <a:xfrm>
            <a:off x="7758000" y="2306520"/>
            <a:ext cx="3775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1"/>
          <p:cNvSpPr/>
          <p:nvPr/>
        </p:nvSpPr>
        <p:spPr>
          <a:xfrm>
            <a:off x="7815240" y="2340000"/>
            <a:ext cx="41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32"/>
          <p:cNvSpPr/>
          <p:nvPr/>
        </p:nvSpPr>
        <p:spPr>
          <a:xfrm>
            <a:off x="7815240" y="3225960"/>
            <a:ext cx="38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эксперты (создание характеристики заданий и системы оценивани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33"/>
          <p:cNvSpPr/>
          <p:nvPr/>
        </p:nvSpPr>
        <p:spPr>
          <a:xfrm>
            <a:off x="7877160" y="4387680"/>
            <a:ext cx="374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создатели контента (Создание комплексных заданий в формате PISA)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Стрелка вправо 29"/>
          <p:cNvSpPr/>
          <p:nvPr/>
        </p:nvSpPr>
        <p:spPr>
          <a:xfrm rot="5400000">
            <a:off x="5102640" y="2937600"/>
            <a:ext cx="477720" cy="1901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30"/>
          <p:cNvSpPr/>
          <p:nvPr/>
        </p:nvSpPr>
        <p:spPr>
          <a:xfrm>
            <a:off x="7843680" y="1585800"/>
            <a:ext cx="3775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Зада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31"/>
          <p:cNvSpPr/>
          <p:nvPr/>
        </p:nvSpPr>
        <p:spPr>
          <a:xfrm>
            <a:off x="7824960" y="2403360"/>
            <a:ext cx="38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апробаторы (апробация заданий банка РЭШ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4"/>
          <p:cNvSpPr/>
          <p:nvPr/>
        </p:nvSpPr>
        <p:spPr>
          <a:xfrm>
            <a:off x="1339920" y="73080"/>
            <a:ext cx="105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Методическая служба Добрянского городского округа в действ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123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Овал 8"/>
          <p:cNvSpPr/>
          <p:nvPr/>
        </p:nvSpPr>
        <p:spPr>
          <a:xfrm>
            <a:off x="482760" y="271440"/>
            <a:ext cx="89208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9" descr=""/>
          <p:cNvPicPr/>
          <p:nvPr/>
        </p:nvPicPr>
        <p:blipFill>
          <a:blip r:embed="rId1"/>
          <a:stretch/>
        </p:blipFill>
        <p:spPr>
          <a:xfrm>
            <a:off x="525600" y="473040"/>
            <a:ext cx="664920" cy="4669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129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14"/>
          <p:cNvSpPr/>
          <p:nvPr/>
        </p:nvSpPr>
        <p:spPr>
          <a:xfrm>
            <a:off x="600120" y="5586480"/>
            <a:ext cx="3163680" cy="10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Создание на сайте МБУ ДПО «ИМЦ» кнопки «Горячая линия» для формирования заявок на методическую помощь» </a:t>
            </a:r>
            <a:r>
              <a:rPr b="1" lang="ru-RU" sz="1400" spc="-1" strike="noStrike" u="sng">
                <a:solidFill>
                  <a:srgbClr val="002060"/>
                </a:solidFill>
                <a:uFillTx/>
                <a:latin typeface="Calibri"/>
              </a:rPr>
              <a:t>https://imc.dobryanka-edu.ru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15"/>
          <p:cNvSpPr/>
          <p:nvPr/>
        </p:nvSpPr>
        <p:spPr>
          <a:xfrm>
            <a:off x="3014640" y="2154240"/>
            <a:ext cx="4341960" cy="795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остоянно действующий семинар для  заместителей руководителей  по методической и воспитательной рабо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16"/>
          <p:cNvSpPr/>
          <p:nvPr/>
        </p:nvSpPr>
        <p:spPr>
          <a:xfrm>
            <a:off x="3056040" y="3081240"/>
            <a:ext cx="4282920" cy="70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Организация процедуры аттестации педагогов  на территории Добрянского городского окру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17"/>
          <p:cNvSpPr/>
          <p:nvPr/>
        </p:nvSpPr>
        <p:spPr>
          <a:xfrm>
            <a:off x="3040200" y="3913200"/>
            <a:ext cx="4316400" cy="72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Методическое сопровождение профессиональной деятельности педагогических и руководящих кадр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18"/>
          <p:cNvSpPr/>
          <p:nvPr/>
        </p:nvSpPr>
        <p:spPr>
          <a:xfrm>
            <a:off x="3014640" y="1351080"/>
            <a:ext cx="434988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Организация деятельности и сопровождение профессионально-педагогических объединений (ППО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ая соединительная линия 20"/>
          <p:cNvSpPr/>
          <p:nvPr/>
        </p:nvSpPr>
        <p:spPr>
          <a:xfrm>
            <a:off x="7628040" y="1741320"/>
            <a:ext cx="0" cy="372924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Овал 24"/>
          <p:cNvSpPr/>
          <p:nvPr/>
        </p:nvSpPr>
        <p:spPr>
          <a:xfrm>
            <a:off x="7534440" y="185436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Овал 26"/>
          <p:cNvSpPr/>
          <p:nvPr/>
        </p:nvSpPr>
        <p:spPr>
          <a:xfrm>
            <a:off x="7534440" y="339408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Овал 27"/>
          <p:cNvSpPr/>
          <p:nvPr/>
        </p:nvSpPr>
        <p:spPr>
          <a:xfrm>
            <a:off x="7534440" y="424188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Овал 28"/>
          <p:cNvSpPr/>
          <p:nvPr/>
        </p:nvSpPr>
        <p:spPr>
          <a:xfrm>
            <a:off x="7534440" y="507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30"/>
          <p:cNvSpPr/>
          <p:nvPr/>
        </p:nvSpPr>
        <p:spPr>
          <a:xfrm>
            <a:off x="3040200" y="4740120"/>
            <a:ext cx="4308480" cy="6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Адресная помощь  сельским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ресная помощь  сельским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33"/>
          <p:cNvSpPr/>
          <p:nvPr/>
        </p:nvSpPr>
        <p:spPr>
          <a:xfrm>
            <a:off x="7797960" y="1366920"/>
            <a:ext cx="4089240" cy="66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Деятельность муниципальной лаборатории «Наставничество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лаборатории «Наставничеств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34"/>
          <p:cNvSpPr/>
          <p:nvPr/>
        </p:nvSpPr>
        <p:spPr>
          <a:xfrm>
            <a:off x="7826400" y="2128680"/>
            <a:ext cx="4086360" cy="6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Методическое сопровождение профессиональной деятельности молодых педагогов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35"/>
          <p:cNvSpPr/>
          <p:nvPr/>
        </p:nvSpPr>
        <p:spPr>
          <a:xfrm>
            <a:off x="7839000" y="2973240"/>
            <a:ext cx="4048200" cy="6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Обмен педагогическим опытом, в т.ч. методические конференции, форум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36"/>
          <p:cNvSpPr/>
          <p:nvPr/>
        </p:nvSpPr>
        <p:spPr>
          <a:xfrm>
            <a:off x="7870680" y="3863880"/>
            <a:ext cx="407052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Конкурсы профессионального мастерства для педаг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омощь 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37"/>
          <p:cNvSpPr/>
          <p:nvPr/>
        </p:nvSpPr>
        <p:spPr>
          <a:xfrm>
            <a:off x="7883640" y="4703760"/>
            <a:ext cx="405288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Мониторинг и экспертная деятельн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8" descr=""/>
          <p:cNvPicPr/>
          <p:nvPr/>
        </p:nvPicPr>
        <p:blipFill>
          <a:blip r:embed="rId3"/>
          <a:stretch/>
        </p:blipFill>
        <p:spPr>
          <a:xfrm>
            <a:off x="0" y="4551480"/>
            <a:ext cx="2479680" cy="101124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29"/>
          <p:cNvSpPr/>
          <p:nvPr/>
        </p:nvSpPr>
        <p:spPr>
          <a:xfrm>
            <a:off x="3887640" y="62769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ttps://imc.dobryanka-edu.ru/upload/versions/20660/22256/Godovoj_plan_IMC.pdf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4"/>
          <p:cNvSpPr/>
          <p:nvPr/>
        </p:nvSpPr>
        <p:spPr>
          <a:xfrm>
            <a:off x="930240" y="73080"/>
            <a:ext cx="111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ЛАН 2023 г. Комплексный план по обеспечению пед.кадрами ОО Д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151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Овал 8"/>
          <p:cNvSpPr/>
          <p:nvPr/>
        </p:nvSpPr>
        <p:spPr>
          <a:xfrm>
            <a:off x="469800" y="338040"/>
            <a:ext cx="89244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Рисунок 9" descr=""/>
          <p:cNvPicPr/>
          <p:nvPr/>
        </p:nvPicPr>
        <p:blipFill>
          <a:blip r:embed="rId1"/>
          <a:stretch/>
        </p:blipFill>
        <p:spPr>
          <a:xfrm>
            <a:off x="469800" y="539640"/>
            <a:ext cx="665280" cy="4669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157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14"/>
          <p:cNvSpPr/>
          <p:nvPr/>
        </p:nvSpPr>
        <p:spPr>
          <a:xfrm>
            <a:off x="3164040" y="1747800"/>
            <a:ext cx="415908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                                   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Выделено всего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15"/>
          <p:cNvSpPr/>
          <p:nvPr/>
        </p:nvSpPr>
        <p:spPr>
          <a:xfrm>
            <a:off x="3130560" y="3216240"/>
            <a:ext cx="4192560" cy="54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ганизация конкурсов для молодых педагог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16"/>
          <p:cNvSpPr/>
          <p:nvPr/>
        </p:nvSpPr>
        <p:spPr>
          <a:xfrm>
            <a:off x="3097080" y="3995640"/>
            <a:ext cx="4251600" cy="757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ривлечение преподавателей для устранения профессиональных дефицитов педаг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17"/>
          <p:cNvSpPr/>
          <p:nvPr/>
        </p:nvSpPr>
        <p:spPr>
          <a:xfrm>
            <a:off x="3114720" y="5030640"/>
            <a:ext cx="420840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ереподготовка педаг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18"/>
          <p:cNvSpPr/>
          <p:nvPr/>
        </p:nvSpPr>
        <p:spPr>
          <a:xfrm>
            <a:off x="3146400" y="2306520"/>
            <a:ext cx="4192560" cy="77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Организация подвоза педагогов и учащихся на образовательные мероприят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ая соединительная линия 20"/>
          <p:cNvSpPr/>
          <p:nvPr/>
        </p:nvSpPr>
        <p:spPr>
          <a:xfrm>
            <a:off x="7628040" y="1741320"/>
            <a:ext cx="0" cy="484848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Овал 24"/>
          <p:cNvSpPr/>
          <p:nvPr/>
        </p:nvSpPr>
        <p:spPr>
          <a:xfrm>
            <a:off x="7534440" y="185436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Овал 26"/>
          <p:cNvSpPr/>
          <p:nvPr/>
        </p:nvSpPr>
        <p:spPr>
          <a:xfrm>
            <a:off x="7534440" y="339408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Овал 27"/>
          <p:cNvSpPr/>
          <p:nvPr/>
        </p:nvSpPr>
        <p:spPr>
          <a:xfrm>
            <a:off x="7534440" y="424188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Овал 28"/>
          <p:cNvSpPr/>
          <p:nvPr/>
        </p:nvSpPr>
        <p:spPr>
          <a:xfrm>
            <a:off x="7534440" y="507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0"/>
          <p:cNvSpPr/>
          <p:nvPr/>
        </p:nvSpPr>
        <p:spPr>
          <a:xfrm>
            <a:off x="7815240" y="180504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 142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31"/>
          <p:cNvSpPr/>
          <p:nvPr/>
        </p:nvSpPr>
        <p:spPr>
          <a:xfrm>
            <a:off x="7815240" y="254808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60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32"/>
          <p:cNvSpPr/>
          <p:nvPr/>
        </p:nvSpPr>
        <p:spPr>
          <a:xfrm>
            <a:off x="7815240" y="3225960"/>
            <a:ext cx="374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33"/>
          <p:cNvSpPr/>
          <p:nvPr/>
        </p:nvSpPr>
        <p:spPr>
          <a:xfrm>
            <a:off x="7967520" y="322596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75 тыс.ру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34"/>
          <p:cNvSpPr/>
          <p:nvPr/>
        </p:nvSpPr>
        <p:spPr>
          <a:xfrm>
            <a:off x="7940520" y="4997520"/>
            <a:ext cx="35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80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33"/>
          <p:cNvSpPr/>
          <p:nvPr/>
        </p:nvSpPr>
        <p:spPr>
          <a:xfrm>
            <a:off x="7978680" y="407052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21 тыс.ру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оугольник 34"/>
          <p:cNvSpPr/>
          <p:nvPr/>
        </p:nvSpPr>
        <p:spPr>
          <a:xfrm>
            <a:off x="3097080" y="5635800"/>
            <a:ext cx="4230720" cy="42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оддержка системы «Наставничество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Овал 36"/>
          <p:cNvSpPr/>
          <p:nvPr/>
        </p:nvSpPr>
        <p:spPr>
          <a:xfrm>
            <a:off x="7547040" y="570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34"/>
          <p:cNvSpPr/>
          <p:nvPr/>
        </p:nvSpPr>
        <p:spPr>
          <a:xfrm>
            <a:off x="7986600" y="5668920"/>
            <a:ext cx="35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210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38"/>
          <p:cNvSpPr/>
          <p:nvPr/>
        </p:nvSpPr>
        <p:spPr>
          <a:xfrm>
            <a:off x="3060720" y="6183360"/>
            <a:ext cx="4228920" cy="42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Стажировка лучших команд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Прямоугольник 39"/>
          <p:cNvSpPr/>
          <p:nvPr/>
        </p:nvSpPr>
        <p:spPr>
          <a:xfrm>
            <a:off x="7997040" y="6224760"/>
            <a:ext cx="143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500 тыс. ру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Овал 41"/>
          <p:cNvSpPr/>
          <p:nvPr/>
        </p:nvSpPr>
        <p:spPr>
          <a:xfrm>
            <a:off x="7534440" y="628956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3"/>
          <p:cNvSpPr/>
          <p:nvPr/>
        </p:nvSpPr>
        <p:spPr>
          <a:xfrm>
            <a:off x="4908600" y="1212840"/>
            <a:ext cx="45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irce Bold"/>
              </a:rPr>
              <a:t>СПАСИБО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угольник 6"/>
          <p:cNvSpPr/>
          <p:nvPr/>
        </p:nvSpPr>
        <p:spPr>
          <a:xfrm>
            <a:off x="4884840" y="2705040"/>
            <a:ext cx="4584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irce Bold"/>
              </a:rPr>
              <a:t>Зорина Искра Викторовн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uao@dobryanka.permkrai.ru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irce Bold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irce Bold"/>
              </a:rPr>
              <a:t>Калашникова Елена Анатольевна,  </a:t>
            </a:r>
            <a:r>
              <a:rPr b="1" lang="en-US" sz="1800" spc="-1" strike="noStrike">
                <a:solidFill>
                  <a:srgbClr val="002060"/>
                </a:solidFill>
                <a:latin typeface="Circe Bold"/>
              </a:rPr>
              <a:t>lenak200835@mail.r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6" descr="C:\Users\саша\Desktop\image_1617787612.jpg"/>
          <p:cNvPicPr/>
          <p:nvPr/>
        </p:nvPicPr>
        <p:blipFill>
          <a:blip r:embed="rId1"/>
          <a:stretch/>
        </p:blipFill>
        <p:spPr>
          <a:xfrm>
            <a:off x="9726480" y="3386160"/>
            <a:ext cx="2044800" cy="289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4" name="Рисунок 2" descr=""/>
          <p:cNvPicPr/>
          <p:nvPr/>
        </p:nvPicPr>
        <p:blipFill>
          <a:blip r:embed="rId2"/>
          <a:stretch/>
        </p:blipFill>
        <p:spPr>
          <a:xfrm>
            <a:off x="438120" y="1179360"/>
            <a:ext cx="4008600" cy="215424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1" descr=""/>
          <p:cNvPicPr/>
          <p:nvPr/>
        </p:nvPicPr>
        <p:blipFill>
          <a:blip r:embed="rId3"/>
          <a:stretch/>
        </p:blipFill>
        <p:spPr>
          <a:xfrm>
            <a:off x="468360" y="3592440"/>
            <a:ext cx="3989520" cy="2246400"/>
          </a:xfrm>
          <a:prstGeom prst="rect">
            <a:avLst/>
          </a:prstGeom>
          <a:ln w="0">
            <a:noFill/>
          </a:ln>
        </p:spPr>
      </p:pic>
      <p:pic>
        <p:nvPicPr>
          <p:cNvPr id="186" name="Прямоугольник 10" descr=""/>
          <p:cNvPicPr/>
          <p:nvPr/>
        </p:nvPicPr>
        <p:blipFill>
          <a:blip r:embed="rId4"/>
          <a:stretch/>
        </p:blipFill>
        <p:spPr>
          <a:xfrm>
            <a:off x="5102280" y="1762200"/>
            <a:ext cx="2878200" cy="584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G:\краевая конференция 29.11.2022\IMG_20221116_092706.jpg"/>
          <p:cNvPicPr/>
          <p:nvPr/>
        </p:nvPicPr>
        <p:blipFill>
          <a:blip r:embed="rId5"/>
          <a:stretch/>
        </p:blipFill>
        <p:spPr>
          <a:xfrm>
            <a:off x="9715680" y="279360"/>
            <a:ext cx="193968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14T18:42:32Z</dcterms:created>
  <dc:creator>maltv70</dc:creator>
  <dc:description/>
  <dc:language>en-US</dc:language>
  <cp:lastModifiedBy>саша</cp:lastModifiedBy>
  <cp:lastPrinted>2022-04-14T04:05:19Z</cp:lastPrinted>
  <dcterms:modified xsi:type="dcterms:W3CDTF">2022-11-28T19:24:02Z</dcterms:modified>
  <cp:revision>81</cp:revision>
  <dc:subject/>
  <dc:title>Школы, которым можно доверять</dc:title>
</cp:coreProperties>
</file>