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3BD5-2714-46B4-B4F2-8A1A941E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56E7-1E6D-449B-B766-EB2C3189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4ECF8-8F96-4A7C-899C-1F8A4E76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F7DE0-C60F-4F7C-9B86-30A65AB8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6F621-7E84-454D-82B3-2BBF71D8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90ECA-A481-47BA-BE33-B994BE08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7BE81-3C48-4D70-B6CE-BA8CDE84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961AE-BF7A-4E5E-8EF0-13975541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356A1-0055-4290-A9DA-3AF7F134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8C004-E51A-4C9B-B92F-DB48D33E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83C2F-80DB-4C06-AFCB-A4382299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0FD9C-FA14-4ACE-A3ED-52BEA6E6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EBEB-DA0B-49C4-AD7E-CF105383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AFFAB-6384-4255-8D57-91C3DBC4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4AF0C-7E6F-44B4-86CA-F0D5A3F7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43C83-FD10-471A-A9F3-9C606C2B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2B59C-DEF5-4D96-A099-5A090FC0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1D929-E7A7-4557-90F6-CAE71DB9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88097-6969-4195-834C-8D15B21A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61657-8F4F-4F0F-9217-B1861AE7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73079-670B-4E76-9BEB-059A3354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23F0C-961A-4ED9-88AB-E2C30381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961C7-E722-4823-9F26-552BF7AB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8B64-1001-4B80-8507-096A3520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A2F41-427A-48FB-81AD-2E2FC24D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5BE28-C922-46BC-A0CB-1057CEDF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42E6D-D785-4F80-9F68-B3A68816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F041C-178E-472A-81D7-DCA9A56E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FEBA6-9987-4F2B-9646-00A06F71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91917-1A85-493D-88ED-4143F325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C725B-A86F-4D29-90BE-1CD10DA8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C0E75-D079-4DB2-9657-E7E7FB60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2FBF0-47A4-49F1-8783-B5FBFF25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EFFD7-0361-40AB-87C3-5AFE0617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71BE-B592-4D5A-8CC3-25ED3DBD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3E8E8-3E92-48D9-93CD-B1614054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3660E-C6D8-4F67-965D-632F28D1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451E4-4D91-42AF-8EB8-963484E0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01CA6-2E5B-4738-9D74-9095CEA1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CBD0F-E62D-4787-BEE0-320C57FD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EE5EB-D83B-4EAC-A6F6-F62491D0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EB4C3-3CBB-40C0-BB63-E13F90B3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43DA9-76F8-4D7A-8CB6-9181AAFE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FB167B-1F84-48C1-BDF5-223C952C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C8571-56BE-46C1-9404-26733AAB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1AF8-17FD-4BE6-A367-127A5B8D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FE2D9-4DF3-4919-B00A-E68DA1E3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74B4F-9EE8-460F-B9C3-14874ABC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22D59-526E-4A3B-A3BC-8545BE5A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B4599-3B78-4276-93D9-DAF6024F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1A185-EBD5-4BAA-9FE4-E9CB3EDE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7F686-F4C0-4A6D-A2B5-3C1C01AE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0A9188-40DB-4F9B-BEAF-157F5F32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148475-974C-47D6-9A9F-FED201F8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A557C8-1486-44F6-94D3-7DFDAE5E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122531-4653-4A2F-8FAE-73F3F6CD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AE9E-EEC2-46F9-81C6-8C09BDE4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A5447-798E-4BED-920D-3569BF05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17D66-665E-48B9-AD74-6D1BA836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B78749-BB9D-4F7E-8855-A7CFE999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D0F05-C5DD-488D-B827-5D53CD4A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23D829-031E-4A0B-82D9-EAC29B9B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53A08F-BF33-4A78-9FE6-D7771728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3D21D1-28F9-4993-B63A-306FA2B6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F212AA-E207-44E7-BC92-3A0740D7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6C3BD0-324A-4A83-BCB0-ECB27019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6B5F99-10DA-487C-884C-CDB6D9CC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23BC-6E46-460E-BA77-559E1C1B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06DFE6-46DA-4C9A-9BF1-EA9446EA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A59FD5-3808-4285-8936-2594C20D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B985B9-4720-439E-A034-10F5105B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F57E5F-A51A-4B98-BFE1-E0227EF7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8629ED-074C-4A41-ADB5-7FC48860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69FEFE-FFC0-42D6-B2CF-DA1C5669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C9D613-812B-4CE8-8CCA-6D1AF58B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09A2A0-8AD3-430E-8D56-A352E047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8FFCBC-0080-44EC-9225-A14F88F8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BCAA-A954-4B85-9477-86D6BF9F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37DC-1C33-4CB1-837F-CBB21789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CEF3-5B58-4CC7-B006-36EB9C93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2EDC-4B48-4D0A-A52B-F2B47CF4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2E79-83BA-4E67-820C-D324CBD4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32C4-CCFB-4194-9702-F055F914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655B-4865-4E5D-B733-C867477D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599C-87DC-40E3-9432-8CCA8F99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0A7B-F264-4B8B-89E7-EB480B44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6F84C-3C12-43C4-947E-F1A9ECC4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C8869-DA8A-4EEB-B18B-5101928E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6345D-52A7-48E0-BE13-CB6AAA8D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9A3E5-3A95-4992-B3F3-2B7FB2EF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9C989-4A8C-4793-9BCD-29C0294C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71B9-38B5-4F61-9C86-2BE125BE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F1EC3-662D-48D5-BF1C-2F7D5699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3C0C4-E8C1-477A-A12A-3DC51CBB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72BA8-F304-4ADF-8153-E39C1B4B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D46FC-C47F-48FE-8E25-BA52C8F0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FB159-F512-4FA4-AE03-6FF2EADF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3C0E7-C89D-4747-8E76-35C5F1C4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2914B-DEAB-4896-8EEE-999119A3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E394E-44D6-4F02-AE3D-99FCFFD5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FA195-0CFC-4BD2-8BDA-CDA7F9FA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E8066-0909-4C4E-A1C4-0DBD2576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3DAB-6BB7-47EE-8393-42C9BC12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0EA4C-6BD8-452C-866E-C9BB550F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87900-431A-4FAE-A444-3A5BD9AF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86ED8-5206-45FA-B0C5-D2504C73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D498B-99B6-4D4B-B765-455F5A23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136B0-B5BD-4419-AEDF-D94D8403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287C2-1212-44FD-84B8-F50764A5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AB6B6-D567-4165-901E-ADB47A64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BFF8A-C9DE-477E-8205-01367963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BD28B-AFED-47FE-89DD-9668B034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D1B5C-A3B1-4147-95B0-F3B94585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3734-D8A6-4EE4-B0A4-F46AA598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0D17D-759B-414C-921C-63A1F31B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D4B54-A9F0-4136-B2D4-3418903D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CF869-5F34-493B-94E4-36288EF3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9A976-F5D2-42EC-BEC7-F49F71C5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330E1-8569-4AF2-AB19-ACCAB616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74298-DCDE-4A28-93FB-7A8ED699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BEDAA-D52D-40AC-9280-68560B86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6414D-07EE-41BD-B107-EBD75673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18E64-89FD-4561-807D-41A7DE6F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8D3AE-8641-4F72-9B1F-A25AE4C4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21FA-E11D-43D5-81F9-B40307D1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09CF2-6A8F-48FB-AFCB-536BCF88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DFB13-C510-4EF5-BB0D-B2316770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8426A-BD81-4CC6-A1D8-252AE992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4DD11-235E-49EA-8A4F-1F3004EA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DF717-2CD6-4096-9BD7-E806F673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CC641-329A-442A-B188-6C6EDFC2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82373-2024-454B-847F-455C602C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78FEC-2093-4A89-869D-6D816499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C8A4B-2429-405E-B70D-7754BECE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5485D-ECBE-45A8-8E50-22270D7A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7E8A-F70B-46C8-A7CE-E59083DC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8F123-1724-4663-BA72-D3578238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35455-7D81-4AAD-BCDD-EFD3B96D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1D28C-0533-4A49-862C-253F4511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38A8D-364C-4B52-9208-8DDCC325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175CE-8E8A-49EA-BDD5-DDB4284D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33D93-9E20-41B1-9CCA-D6F031CB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4FD0C-EF9D-497B-8E8C-40854220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97689-275B-4C2B-B311-2A107BE4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62614-9058-44F0-AB46-E1A4F1DF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E5099-73DC-4735-A721-6B872B2F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AA5B-A7D1-43D5-BD55-57AF5BAE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8A3F1-6EC2-4A81-A674-00869BBE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EABC4-6414-4392-8692-FBEF0F90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BD9DA-67BE-4B50-AED3-E69DE777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AC90F-4BF3-4E8A-AE3C-63C81606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5B5A5-5916-411E-ACAA-8AB2177A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876CD-D122-4DD5-B609-346E3BD4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43F49-DE8D-45AE-9D58-86F0C0B9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40626-2F6A-4DDA-AF8F-DA8FBE72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00DC8-A8A2-49DA-92DC-32A5F126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3B0E2-91AB-451C-952B-03E7EE7C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22F9-840C-4870-95B7-37C54B46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2048A-803A-4BBF-A987-50C98E41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9B0FF-25D1-41F0-9CDD-2C96B1A7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AFF2C-706C-45B7-8F9A-676251A2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F78C6-DEDB-4236-AD8F-D43B9121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C513E-74C8-4590-AB74-F246AF50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C097C-EE77-4D17-8906-6E95F3AA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8A0F9-89A7-4001-A268-1F7E9500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491E3-9867-4FE8-BB09-22919AC9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3359E-431E-437D-AEC5-C941BBBB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6AAF2-756F-4FAA-A804-5503E3C7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2E90-E4C6-4CA9-B80B-A97E268F47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CA73-3A91-4BFD-93A9-95B036D11BE3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A6DA-EF7D-43B5-83D1-43CB25D4AD17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5338-3A14-43D3-9AD5-F4FBE4202E42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8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7744-1305-4EC8-96F7-66F5CE643668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3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3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3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D364-D38D-4729-97CB-3FC425CA1946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688E-BEC3-447E-B76B-A5B0E7E49D9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27CF-A380-480A-8C59-91A455B06C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6C76-FEDB-4952-8A3C-9C1F78C3EDFC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CE35-22D4-43C0-9DAD-030C5D1A8635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8291-C236-461B-BAEA-88D001B598A3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2922-0E55-4E82-8573-0EF6B42945D1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F5BA-9AE8-4852-81DD-EB72A1573870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CE45-5A49-4A2B-9906-A31F3498E5EB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54200" y="234900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a50021"/>
                </a:solidFill>
                <a:latin typeface="Calibri"/>
              </a:rPr>
              <a:t>Организационно-педагогические условия повышения эффективности деятельности школьных спортивных клубов в направлении формирования культуры здоровья обучающихс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Прямоугольник 2"/>
          <p:cNvSpPr/>
          <p:nvPr/>
        </p:nvSpPr>
        <p:spPr>
          <a:xfrm>
            <a:off x="449280" y="472428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Ведущий научный сотрудни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отдела научно-методического сопровождения общего образов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ГАУ ДПО «Институт развития образования Пермского края», кандидат педагогических наук, доцент Чедов Константин Васильеви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5" descr="logo2"/>
          <p:cNvPicPr/>
          <p:nvPr/>
        </p:nvPicPr>
        <p:blipFill>
          <a:blip r:embed="rId1"/>
          <a:stretch/>
        </p:blipFill>
        <p:spPr>
          <a:xfrm>
            <a:off x="395280" y="189000"/>
            <a:ext cx="1874880" cy="1243080"/>
          </a:xfrm>
          <a:prstGeom prst="rect">
            <a:avLst/>
          </a:prstGeom>
          <a:ln w="0">
            <a:noFill/>
          </a:ln>
        </p:spPr>
      </p:pic>
      <p:sp>
        <p:nvSpPr>
          <p:cNvPr id="683" name="Прямоугольник 7"/>
          <p:cNvSpPr/>
          <p:nvPr/>
        </p:nvSpPr>
        <p:spPr>
          <a:xfrm>
            <a:off x="2799000" y="404640"/>
            <a:ext cx="510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раевой вебинар для учителе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физической культ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Прямоугольник 5"/>
          <p:cNvSpPr/>
          <p:nvPr/>
        </p:nvSpPr>
        <p:spPr>
          <a:xfrm>
            <a:off x="1332000" y="3697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вое организационно-п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дагогическ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услов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Прямоугольник 6"/>
          <p:cNvSpPr/>
          <p:nvPr/>
        </p:nvSpPr>
        <p:spPr>
          <a:xfrm>
            <a:off x="539640" y="83664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ализац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комплекса мероприятий, направленных на формирование 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кольник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представлений об эталонном здоровьеориентированном поведен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смотр обучающимися тематических видеоматериалов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зъяснение важности соблюдения двигательного режим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беждение в значимости для здоровья физической культуры, подтверждающегося примерами выдающихся людей и общественно значимых деятелей прошлого и современности, которых отличает высокий уровень личностной физической культ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Прямоугольник 5"/>
          <p:cNvSpPr/>
          <p:nvPr/>
        </p:nvSpPr>
        <p:spPr>
          <a:xfrm>
            <a:off x="1187280" y="40464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торое 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539640" y="1052640"/>
            <a:ext cx="806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тренером-преподавателем из числа занимающихся в учебно-тренировочных группах актива спортсменов, проявляющих склонность к организатор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сновной функциональной обязанностью членов актива является организация коллективной творческой деятельности участников спортивного клуба на основе принципа формирования личности через коллектив, который регулирует все виды коллективной деятельности участников клуба: процесс разработки положений о проведении физкультурно-спортивных мероприятий, и распределение ролей, и организацию репетиций перед подготовкой к соревнованиям и показательным выступлениям, а также подготовку и проведение различных других клубных мероприятий. В результате у обучающихся нарабатывается опыт социально-ориентированного поведения, развивается инициативность, личная активность, чувство долга перед товарищами и ответственность за успех коллективного дел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Прямоугольник 5"/>
          <p:cNvSpPr/>
          <p:nvPr/>
        </p:nvSpPr>
        <p:spPr>
          <a:xfrm>
            <a:off x="971640" y="40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еть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Прямоугольник 6"/>
          <p:cNvSpPr/>
          <p:nvPr/>
        </p:nvSpPr>
        <p:spPr>
          <a:xfrm>
            <a:off x="539640" y="1052640"/>
            <a:ext cx="806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аимодействие всех субъектов образовательной деятельности: «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обучающийс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школьный учител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тренер-преподавател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детский спортивный коллекти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родител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ы работы для обеспечения необходимой и достаточной осведомленности учителей физической культуры, тренеров-преподавателей, родителей и классных руководителей в вопросах формирования культуры здоровья обучающихс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 информирование о целях и задачах каждого этапа процесса формирования культуры здоровья обучающих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 взаимодействие учителей физической культуры и тренеров-преподавателей с родителями и классными руководителями для отслеживания динамики становления здоровья обучающихся и развития у них культуры здоровь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 групповое и индивидуальное консультирование родителей по вопросам воспитания у обучающихся навыков здорового образа жизни и корректировки при необходимости индивидуального стиля жиз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ительным здоровьесберегающим потенциалом обладает организация различных совместных мероприятий с участием детского спортивного коллектива, школьных учителей, род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Прямоугольник 5"/>
          <p:cNvSpPr/>
          <p:nvPr/>
        </p:nvSpPr>
        <p:spPr>
          <a:xfrm>
            <a:off x="1042920" y="404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тверто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Прямоугольник 6"/>
          <p:cNvSpPr/>
          <p:nvPr/>
        </p:nvSpPr>
        <p:spPr>
          <a:xfrm>
            <a:off x="539640" y="105264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 индивидуальных особенностей здоровья обучающихся – участников школьного спортивного клуб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ультаты диагностики позволяют педагогу посредством педагогического сопровождения выстраивать индивидуальную траекторию здоровья каждого обучающегося и осуществлять выбор форм и методов формирования тех компонентов культуры здоровья, которые менее развиты у данного школьни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323640" y="2565000"/>
            <a:ext cx="81723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Чедов Константин Васильевич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ведущий научный сотрудник отдела научно-методического сопровождения общего образовани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ГАУ ДПО «Институт развития образования Пермского края», кандидат педагогических наук, доцен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Constantia"/>
              </a:rPr>
              <a:t>г. Пермь, ул. Бородинская, 35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Тел. 8922649817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Адрес электронной почты: </a:t>
            </a:r>
            <a:r>
              <a:rPr b="0" i="1" lang="en-US" sz="2400" spc="-1" strike="noStrike">
                <a:solidFill>
                  <a:srgbClr val="0076a3"/>
                </a:solidFill>
                <a:latin typeface="Constantia"/>
              </a:rPr>
              <a:t>chedovkv@yandex.r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916000" y="620280"/>
            <a:ext cx="52419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Контактная информация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43" name="Picture 5" descr="logo2"/>
          <p:cNvPicPr/>
          <p:nvPr/>
        </p:nvPicPr>
        <p:blipFill>
          <a:blip r:embed="rId1"/>
          <a:stretch/>
        </p:blipFill>
        <p:spPr>
          <a:xfrm>
            <a:off x="303120" y="836640"/>
            <a:ext cx="19814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Rectangle 8"/>
          <p:cNvSpPr/>
          <p:nvPr/>
        </p:nvSpPr>
        <p:spPr>
          <a:xfrm>
            <a:off x="905040" y="857160"/>
            <a:ext cx="770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alibri"/>
                <a:ea typeface="Calibri"/>
              </a:rPr>
              <a:t>Клуб </a:t>
            </a:r>
            <a:r>
              <a:rPr b="0" lang="ru-RU" sz="3600" spc="-1" strike="noStrike">
                <a:solidFill>
                  <a:srgbClr val="a50021"/>
                </a:solidFill>
                <a:latin typeface="Calibri"/>
                <a:ea typeface="Calibri"/>
              </a:rPr>
              <a:t>– это объединение людей на основе общих интересов и потребностей; форма взаимодействия в среде их жизнедеятельности, обеспечивающая им условия для личностного самовыражения, самоутверждения и личностной самореализ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Рисунок 6" descr=""/>
          <p:cNvPicPr/>
          <p:nvPr/>
        </p:nvPicPr>
        <p:blipFill>
          <a:blip r:embed="rId1"/>
          <a:srcRect l="28053" t="14352" r="10500" b="7482"/>
          <a:stretch/>
        </p:blipFill>
        <p:spPr>
          <a:xfrm>
            <a:off x="395280" y="476280"/>
            <a:ext cx="8353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Рисунок 5" descr=""/>
          <p:cNvPicPr/>
          <p:nvPr/>
        </p:nvPicPr>
        <p:blipFill>
          <a:blip r:embed="rId1"/>
          <a:srcRect l="28236" t="20304" r="10844" b="13893"/>
          <a:stretch/>
        </p:blipFill>
        <p:spPr>
          <a:xfrm>
            <a:off x="826920" y="620640"/>
            <a:ext cx="7561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Рисунок 7" descr=""/>
          <p:cNvPicPr/>
          <p:nvPr/>
        </p:nvPicPr>
        <p:blipFill>
          <a:blip r:embed="rId1"/>
          <a:srcRect l="33189" t="26719" r="15398" b="18320"/>
          <a:stretch/>
        </p:blipFill>
        <p:spPr>
          <a:xfrm>
            <a:off x="1258920" y="404640"/>
            <a:ext cx="6769080" cy="3961080"/>
          </a:xfrm>
          <a:prstGeom prst="rect">
            <a:avLst/>
          </a:prstGeom>
          <a:ln w="0">
            <a:noFill/>
          </a:ln>
        </p:spPr>
      </p:pic>
      <p:sp>
        <p:nvSpPr>
          <p:cNvPr id="700" name="Прямоугольник 8"/>
          <p:cNvSpPr/>
          <p:nvPr/>
        </p:nvSpPr>
        <p:spPr>
          <a:xfrm>
            <a:off x="611280" y="458136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грамма соответствует целям и задача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ого проекта «Спорт-норма жизни» национального проекта «Демография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ого проекта «Успех каждого ребенка» национального проекта «Образование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атегии развития физической культуры и спорта в РФ до 2030 года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Прямоугольник 8"/>
          <p:cNvSpPr/>
          <p:nvPr/>
        </p:nvSpPr>
        <p:spPr>
          <a:xfrm>
            <a:off x="684360" y="4221000"/>
            <a:ext cx="792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В характеристике современного состояния развития школьного спорта отмечено, ч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общее количество школ в стране 40,4 тыс., из них 23 тыс. находятся в сельской местности;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 в 14 тыс. школ нуждаются в ремонте спортивного зал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633 – в перепрофилировании помещений для уроков физкультур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в 22534 школах отсутствует ШСК (</a:t>
            </a: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школьный спортивный клуб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5" name="Picture 2" descr="dop.pskovedu.ru"/>
          <p:cNvPicPr/>
          <p:nvPr/>
        </p:nvPicPr>
        <p:blipFill>
          <a:blip r:embed="rId1"/>
          <a:stretch/>
        </p:blipFill>
        <p:spPr>
          <a:xfrm>
            <a:off x="1403280" y="260280"/>
            <a:ext cx="5832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Рисунок 6" descr=""/>
          <p:cNvPicPr/>
          <p:nvPr/>
        </p:nvPicPr>
        <p:blipFill>
          <a:blip r:embed="rId1"/>
          <a:srcRect l="19811" t="15115" r="7835" b="10688"/>
          <a:stretch/>
        </p:blipFill>
        <p:spPr>
          <a:xfrm>
            <a:off x="108000" y="620640"/>
            <a:ext cx="88916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3" name="Picture 2" descr="В России к 2024 году планируют создать спортклубы в каждой школе"/>
          <p:cNvPicPr/>
          <p:nvPr/>
        </p:nvPicPr>
        <p:blipFill>
          <a:blip r:embed="rId1"/>
          <a:stretch/>
        </p:blipFill>
        <p:spPr>
          <a:xfrm>
            <a:off x="1547640" y="115920"/>
            <a:ext cx="6480360" cy="42894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4" descr="https://avatars.mds.yandex.net/get-zen_doc/4368340/pub_60394c99732f3c7f624342d7_60394cf2732f3c7f6243dd3f/scale_1200"/>
          <p:cNvPicPr/>
          <p:nvPr/>
        </p:nvPicPr>
        <p:blipFill>
          <a:blip r:embed="rId2"/>
          <a:stretch/>
        </p:blipFill>
        <p:spPr>
          <a:xfrm>
            <a:off x="2916360" y="4941720"/>
            <a:ext cx="5095800" cy="1810080"/>
          </a:xfrm>
          <a:prstGeom prst="rect">
            <a:avLst/>
          </a:prstGeom>
          <a:ln w="0">
            <a:noFill/>
          </a:ln>
        </p:spPr>
      </p:pic>
      <p:sp>
        <p:nvSpPr>
          <p:cNvPr id="715" name="Прямоугольник 7"/>
          <p:cNvSpPr/>
          <p:nvPr/>
        </p:nvSpPr>
        <p:spPr>
          <a:xfrm>
            <a:off x="468360" y="43657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спорте программы в перечне ожидаемых результатов указан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Прямоугольник 5"/>
          <p:cNvSpPr/>
          <p:nvPr/>
        </p:nvSpPr>
        <p:spPr>
          <a:xfrm>
            <a:off x="324000" y="1890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дагогическ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услов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вокупность объективных возможностей содержания, форм, методов и материально-пространственной среды, обеспечивающих решение поставленных образовательных задач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Picture 3" descr="https://avatars.mds.yandex.net/get-zen_doc/3957194/pub_5fb62222541585566c40d623_5fb62540d60cd1779220f51c/scale_1200"/>
          <p:cNvPicPr/>
          <p:nvPr/>
        </p:nvPicPr>
        <p:blipFill>
          <a:blip r:embed="rId1"/>
          <a:stretch/>
        </p:blipFill>
        <p:spPr>
          <a:xfrm>
            <a:off x="971640" y="1844640"/>
            <a:ext cx="738972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4T16:27:00Z</dcterms:created>
  <dc:creator>Лядова</dc:creator>
  <dc:description/>
  <dc:language>en-US</dc:language>
  <cp:lastModifiedBy>Администратор</cp:lastModifiedBy>
  <dcterms:modified xsi:type="dcterms:W3CDTF">2021-05-27T06:38:16Z</dcterms:modified>
  <cp:revision>126</cp:revision>
  <dc:subject/>
  <dc:title>Достижение и оценка результатов воспитания и обучения здоровому образу жизни  младших школьников  в контексте требований ФГОС НО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6020</vt:lpwstr>
  </property>
</Properties>
</file>